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3.wmf" ContentType="image/x-wmf"/>
  <Override PartName="/ppt/media/image39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AEFA10-83E0-413E-A9CF-BE5D665AB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e-s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izontal flag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2A2-7867-4245-831A-BD6FE5A4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658-2AC8-49B8-8B7C-08AAD878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050-A25B-443E-85B6-64A9BD30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8C2-5F65-4EA1-81DE-9629FC9A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38A-5DE4-4EC7-AB61-9332E71E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A00-79EC-45CE-B93C-AEA9899E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108-F20F-4C25-9C95-56731D6E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606-79B8-4E68-9322-CDECCD04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576-1D76-49A6-BBDA-CBA8772C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26E-78E5-4040-ACE8-601D281F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3D6-84CA-4133-B222-CC4A4B1F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6F9-D4FC-408C-A6BC-F6E6029B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24ED-DC8F-4B5B-BABA-B8FAB3EA7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0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9: Rotational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7124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&amp; Rotational Kinetic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rque is applied to an object and a rotation is produced, the torque does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net t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tational kinetic energy 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an object is def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is the Work-Energy Theorem (for rotation)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071880" y="2011320"/>
          <a:ext cx="140004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2011320"/>
                    <a:ext cx="14000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813040" y="3268800"/>
          <a:ext cx="337356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3040" y="3268800"/>
                    <a:ext cx="337356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585800" y="4049640"/>
          <a:ext cx="598968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5800" y="4049640"/>
                    <a:ext cx="59896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12640" y="5510160"/>
          <a:ext cx="818208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2640" y="5510160"/>
                    <a:ext cx="8182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711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olling objects &amp; Inclined Plan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965160"/>
            <a:ext cx="9144000" cy="54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olid disc &amp; a hoop rolling down a hill (inclined plan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ach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rqu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ach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cceleration of each object as they roll down the hi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 reaches the bottom fir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19320" y="1609560"/>
            <a:ext cx="2666880" cy="1601280"/>
            <a:chOff x="1219320" y="1609560"/>
            <a:chExt cx="2666880" cy="1601280"/>
          </a:xfrm>
        </p:grpSpPr>
        <p:sp>
          <p:nvSpPr>
            <p:cNvPr id="213" name=""/>
            <p:cNvSpPr/>
            <p:nvPr/>
          </p:nvSpPr>
          <p:spPr>
            <a:xfrm>
              <a:off x="1219320" y="1838160"/>
              <a:ext cx="26668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3880" y="16095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57400" y="199080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3200" y="275256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752120" y="320976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191200" y="1609560"/>
            <a:ext cx="2666880" cy="1601280"/>
            <a:chOff x="5191200" y="1609560"/>
            <a:chExt cx="2666880" cy="1601280"/>
          </a:xfrm>
        </p:grpSpPr>
        <p:sp>
          <p:nvSpPr>
            <p:cNvPr id="219" name=""/>
            <p:cNvSpPr/>
            <p:nvPr/>
          </p:nvSpPr>
          <p:spPr>
            <a:xfrm>
              <a:off x="5191200" y="1838160"/>
              <a:ext cx="26668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95760" y="1609560"/>
              <a:ext cx="53352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29280" y="199080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15080" y="275256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724000" y="320976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155680" y="1393920"/>
            <a:ext cx="88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Solid d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68960" y="1494000"/>
            <a:ext cx="8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H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ngular Momentu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800" y="838080"/>
            <a:ext cx="876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 momentum is the rotational analog of linear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presents the “quantity of rotational motion” for an object (or its inertia in ro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 Momentum (a vector we will treat as a scalar) is def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 =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I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lar Momentum is related to Linear Moment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 = 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 sin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is distance from the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linear momen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ngle between r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units of angular momentum are k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249960" y="2937960"/>
            <a:ext cx="2796840" cy="3153240"/>
            <a:chOff x="6249960" y="2937960"/>
            <a:chExt cx="2796840" cy="3153240"/>
          </a:xfrm>
        </p:grpSpPr>
        <p:sp>
          <p:nvSpPr>
            <p:cNvPr id="229" name=""/>
            <p:cNvSpPr/>
            <p:nvPr/>
          </p:nvSpPr>
          <p:spPr>
            <a:xfrm>
              <a:off x="6249960" y="3629160"/>
              <a:ext cx="2590920" cy="246204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7752960" y="2937960"/>
              <a:ext cx="725400" cy="1041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7597800" y="4238280"/>
              <a:ext cx="855720" cy="62244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15480" y="4387680"/>
              <a:ext cx="414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7040" y="3943440"/>
              <a:ext cx="414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0280000">
              <a:off x="7936560" y="3740040"/>
              <a:ext cx="91512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4"/>
                  </a:moveTo>
                  <a:arcTo wR="10800" hR="10800" stAng="-10782095" swAng="6088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4"/>
                  </a:moveTo>
                  <a:arcTo wR="10800" hR="10800" stAng="-10782095" swAng="6088607"/>
                </a:path>
              </a:pathLst>
            </a:custGeom>
            <a:noFill/>
            <a:ln cap="rnd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69120" y="3166920"/>
              <a:ext cx="414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440560" y="3979800"/>
              <a:ext cx="311400" cy="28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313920"/>
            <a:ext cx="86868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on of Angular Momentu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no net torque acting on an obj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no net torque acts on a syste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s angular momentum (L) will remain constant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… = a constan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inciple explains why planets move faster the closer the get to the sun and slower the they move when they are farther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is is a re-statement of Newton’s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017800" y="4181400"/>
            <a:ext cx="5807160" cy="1514520"/>
            <a:chOff x="2017800" y="4181400"/>
            <a:chExt cx="5807160" cy="1514520"/>
          </a:xfrm>
        </p:grpSpPr>
        <p:sp>
          <p:nvSpPr>
            <p:cNvPr id="240" name=""/>
            <p:cNvSpPr/>
            <p:nvPr/>
          </p:nvSpPr>
          <p:spPr>
            <a:xfrm>
              <a:off x="2766960" y="4248000"/>
              <a:ext cx="4079880" cy="13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62480" y="4700520"/>
              <a:ext cx="433080" cy="4525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86640" y="4700520"/>
              <a:ext cx="347760" cy="3618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4160" y="4790880"/>
              <a:ext cx="347400" cy="3621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91240" y="4181400"/>
              <a:ext cx="1233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</a:rPr>
                <a:t>slow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513120" y="4338360"/>
              <a:ext cx="260280" cy="36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17800" y="5153040"/>
              <a:ext cx="1057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</a:rPr>
                <a:t>fast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54440" y="5153040"/>
              <a:ext cx="69372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3840" y="375840"/>
            <a:ext cx="88441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on of Angular Momentum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Examples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gure sk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gh d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flowing down a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64636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13000" y="391680"/>
            <a:ext cx="624816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rchimedes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287-212 BC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6172200" cy="50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the greatest mathematician i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an early form of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Principle of Buoyanc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w called Archimedes’ Princ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he Principle of Lever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rqu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uilt several machines based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335640" y="1366920"/>
            <a:ext cx="2808360" cy="3124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576840" y="4807080"/>
            <a:ext cx="215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ive me a point of support and I will move the Eart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igid Objects &amp; Torqu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9000" y="923760"/>
            <a:ext cx="8748720" cy="593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 is a vector quantity that represents the application of force to a body resulting in rot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change in rotation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for torque are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 to be confused with jou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er arm (leverag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nent of force perpendicular to lever ar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63960" y="5180040"/>
          <a:ext cx="26028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3960" y="5180040"/>
                    <a:ext cx="2602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316240" y="3781440"/>
          <a:ext cx="443052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6240" y="3781440"/>
                    <a:ext cx="44305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796080" y="5521320"/>
          <a:ext cx="199548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96080" y="5521320"/>
                    <a:ext cx="19954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540160" y="2044800"/>
          <a:ext cx="914400" cy="19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4016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" name=""/>
          <p:cNvGrpSpPr/>
          <p:nvPr/>
        </p:nvGrpSpPr>
        <p:grpSpPr>
          <a:xfrm>
            <a:off x="165960" y="1709640"/>
            <a:ext cx="3707640" cy="2592000"/>
            <a:chOff x="165960" y="1709640"/>
            <a:chExt cx="3707640" cy="2592000"/>
          </a:xfrm>
        </p:grpSpPr>
        <p:sp>
          <p:nvSpPr>
            <p:cNvPr id="63" name=""/>
            <p:cNvSpPr/>
            <p:nvPr/>
          </p:nvSpPr>
          <p:spPr>
            <a:xfrm rot="19653600">
              <a:off x="1044720" y="2674800"/>
              <a:ext cx="2712960" cy="350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36880" y="3554640"/>
              <a:ext cx="117360" cy="13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2741400" y="1915920"/>
              <a:ext cx="4680" cy="69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 rot="9225600">
              <a:off x="485640" y="2198880"/>
              <a:ext cx="165312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270080" y="2614320"/>
              <a:ext cx="1487520" cy="947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8" name=""/>
            <p:cNvGraphicFramePr/>
            <p:nvPr/>
          </p:nvGraphicFramePr>
          <p:xfrm>
            <a:off x="2274840" y="1995480"/>
            <a:ext cx="324000" cy="501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74840" y="1995480"/>
                      <a:ext cx="32400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2187720" y="3183120"/>
            <a:ext cx="290520" cy="438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187720" y="3183120"/>
                      <a:ext cx="2905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 flipV="1">
              <a:off x="2757600" y="1924200"/>
              <a:ext cx="1116000" cy="6746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 rot="10501800">
              <a:off x="2338920" y="2223360"/>
              <a:ext cx="1015560" cy="162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54" y="6"/>
                  </a:moveTo>
                  <a:arcTo wR="10800" hR="10800" stAng="-5287357" swAng="2276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54" y="6"/>
                  </a:moveTo>
                  <a:arcTo wR="10800" hR="10800" stAng="-5287357" swAng="2276960"/>
                </a:path>
              </a:pathLst>
            </a:custGeom>
            <a:noFill/>
            <a:ln w="2844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" name=""/>
            <p:cNvGraphicFramePr/>
            <p:nvPr/>
          </p:nvGraphicFramePr>
          <p:xfrm>
            <a:off x="2949840" y="1709640"/>
            <a:ext cx="360360" cy="561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49840" y="1709640"/>
                      <a:ext cx="3603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" name=""/>
          <p:cNvGrpSpPr/>
          <p:nvPr/>
        </p:nvGrpSpPr>
        <p:grpSpPr>
          <a:xfrm>
            <a:off x="5692680" y="1690560"/>
            <a:ext cx="2737080" cy="2177280"/>
            <a:chOff x="5692680" y="1690560"/>
            <a:chExt cx="2737080" cy="2177280"/>
          </a:xfrm>
        </p:grpSpPr>
        <p:sp>
          <p:nvSpPr>
            <p:cNvPr id="77" name=""/>
            <p:cNvSpPr/>
            <p:nvPr/>
          </p:nvSpPr>
          <p:spPr>
            <a:xfrm>
              <a:off x="5692680" y="3535200"/>
              <a:ext cx="117720" cy="13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7297560" y="1896840"/>
              <a:ext cx="5040" cy="69372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826240" y="2595240"/>
              <a:ext cx="1487520" cy="947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6718320" y="2998800"/>
            <a:ext cx="290520" cy="438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718320" y="2998800"/>
                      <a:ext cx="2905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 flipV="1">
              <a:off x="7313760" y="1905120"/>
              <a:ext cx="1116000" cy="6746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 rot="10501800">
              <a:off x="6895080" y="2204280"/>
              <a:ext cx="1015560" cy="162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54" y="6"/>
                  </a:moveTo>
                  <a:arcTo wR="10800" hR="10800" stAng="-5287357" swAng="2276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54" y="6"/>
                  </a:moveTo>
                  <a:arcTo wR="10800" hR="10800" stAng="-5287357" swAng="2276960"/>
                </a:path>
              </a:pathLst>
            </a:custGeom>
            <a:noFill/>
            <a:ln w="2844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7505640" y="1690560"/>
            <a:ext cx="360360" cy="561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505640" y="1690560"/>
                      <a:ext cx="3603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 flipH="1" flipV="1">
              <a:off x="6986160" y="1998360"/>
              <a:ext cx="297000" cy="579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6553080" y="1962000"/>
            <a:ext cx="463680" cy="662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553080" y="1962000"/>
                      <a:ext cx="46368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74840"/>
            <a:ext cx="7772400" cy="67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2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br>
              <a:rPr sz="32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for Rotational Motion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440" y="1219320"/>
            <a:ext cx="834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a net torque exerted on a rigid body its state of rotation (    ) will change depending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640" indent="-351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net torq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640" indent="-35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ional inertia of object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net torque me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nstan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the net torque exerted on a body is equal to the product of the rotational inertia and the angular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is is Newton’s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Law (for rotation)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193840" y="5407200"/>
          <a:ext cx="551016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3840" y="5407200"/>
                    <a:ext cx="55101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155680" y="2781360"/>
          <a:ext cx="4878360" cy="8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55680" y="2781360"/>
                    <a:ext cx="48783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847880" y="1581120"/>
          <a:ext cx="355680" cy="32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7880" y="1581120"/>
                    <a:ext cx="35568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255840" y="1836720"/>
          <a:ext cx="655920" cy="5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5840" y="1836720"/>
                    <a:ext cx="6559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igid Objects in Equilibriu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8600" y="105552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id body is in equilibrium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t for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change in state of mo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v =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t torq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change in state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of the above conditions must be met for an object to be in mechanical equilibri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 object can be bo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t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till be in mechanical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85800" y="2220840"/>
          <a:ext cx="37386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2220840"/>
                    <a:ext cx="37386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601640" y="3684600"/>
          <a:ext cx="152748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1640" y="3684600"/>
                    <a:ext cx="15274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enter of Gravity (COG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036800"/>
            <a:ext cx="614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G is the location where all of an object’s weight can be considered to act when calculating t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G may or may not actually be on the object (i.e. consider a hollow sphere or a 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’s weight produces a torque on itself, it acts at its center of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alculate center of gra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04000" y="1271520"/>
            <a:ext cx="3225600" cy="474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590400" y="4356000"/>
          <a:ext cx="487044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0400" y="4356000"/>
                    <a:ext cx="48704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49440" y="5554800"/>
          <a:ext cx="4860720" cy="11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9440" y="5554800"/>
                    <a:ext cx="48607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ment of Inertia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960" y="958320"/>
            <a:ext cx="88390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of a rigid body to changes in its state of rotational motion (    ) is calle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ment of inert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rotational inert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ment of Inertia (I)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 of the object,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(position) of mass about the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For a discrete distribution of mas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the mass of a small segment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the distance of the mass mi from the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fo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k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For a continuous distribution of mass there are more sophisticated techniques for calculating the moment of iner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87600" y="3762360"/>
          <a:ext cx="501480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3762360"/>
                    <a:ext cx="50148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690640" y="1335240"/>
          <a:ext cx="292320" cy="26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0640" y="1335240"/>
                    <a:ext cx="292320" cy="26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ment of Inertia (common example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pendul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in 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id cyli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703840" y="1380960"/>
          <a:ext cx="217800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03840" y="1380960"/>
                    <a:ext cx="21780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3418920" y="10440"/>
            <a:ext cx="2814120" cy="2835360"/>
            <a:chOff x="3418920" y="10440"/>
            <a:chExt cx="2814120" cy="2835360"/>
          </a:xfrm>
        </p:grpSpPr>
        <p:sp>
          <p:nvSpPr>
            <p:cNvPr id="123" name=""/>
            <p:cNvSpPr/>
            <p:nvPr/>
          </p:nvSpPr>
          <p:spPr>
            <a:xfrm>
              <a:off x="3808800" y="1966320"/>
              <a:ext cx="329760" cy="33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86360" y="1179720"/>
              <a:ext cx="687960" cy="83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03680" y="1972440"/>
              <a:ext cx="5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39800" y="1046160"/>
              <a:ext cx="866520" cy="133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" name=""/>
            <p:cNvGraphicFramePr/>
            <p:nvPr/>
          </p:nvGraphicFramePr>
          <p:xfrm>
            <a:off x="4106880" y="1453680"/>
            <a:ext cx="228600" cy="260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06880" y="1453680"/>
                      <a:ext cx="22860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"/>
            <p:cNvSpPr/>
            <p:nvPr/>
          </p:nvSpPr>
          <p:spPr>
            <a:xfrm rot="7896000">
              <a:off x="3762720" y="489960"/>
              <a:ext cx="2125800" cy="18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1" y="507"/>
                  </a:moveTo>
                  <a:arcTo wR="10800" hR="10800" stAng="-4342039" swAng="4342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1" y="507"/>
                  </a:moveTo>
                  <a:arcTo wR="10800" hR="10800" stAng="-4342039" swAng="4342039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0" name=""/>
          <p:cNvGraphicFramePr/>
          <p:nvPr/>
        </p:nvGraphicFramePr>
        <p:xfrm>
          <a:off x="4411800" y="3206880"/>
          <a:ext cx="1447560" cy="477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11800" y="3206880"/>
                    <a:ext cx="14475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2138040" y="2122560"/>
            <a:ext cx="2675880" cy="2697480"/>
            <a:chOff x="2138040" y="2122560"/>
            <a:chExt cx="2675880" cy="2697480"/>
          </a:xfrm>
        </p:grpSpPr>
        <p:sp>
          <p:nvSpPr>
            <p:cNvPr id="133" name=""/>
            <p:cNvSpPr/>
            <p:nvPr/>
          </p:nvSpPr>
          <p:spPr>
            <a:xfrm>
              <a:off x="2592360" y="2778120"/>
              <a:ext cx="1482840" cy="1403280"/>
            </a:xfrm>
            <a:prstGeom prst="donut">
              <a:avLst>
                <a:gd name="adj" fmla="val 555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873520" y="3502080"/>
              <a:ext cx="425520" cy="423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436600">
              <a:off x="2803320" y="3918960"/>
              <a:ext cx="76320" cy="79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06600" y="3919320"/>
              <a:ext cx="80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2853000" y="3340080"/>
            <a:ext cx="304560" cy="334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53000" y="3340080"/>
                      <a:ext cx="30456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 rot="7896000">
              <a:off x="2459880" y="2583720"/>
              <a:ext cx="2031480" cy="177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1" y="507"/>
                  </a:moveTo>
                  <a:arcTo wR="10800" hR="10800" stAng="-4342039" swAng="4342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1" y="507"/>
                  </a:moveTo>
                  <a:arcTo wR="10800" hR="10800" stAng="-4342039" swAng="4342039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0" name=""/>
          <p:cNvGraphicFramePr/>
          <p:nvPr/>
        </p:nvGraphicFramePr>
        <p:xfrm>
          <a:off x="4978440" y="4943520"/>
          <a:ext cx="1954080" cy="815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78440" y="4943520"/>
                    <a:ext cx="19540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2387160" y="5008680"/>
            <a:ext cx="2093040" cy="1774440"/>
            <a:chOff x="2387160" y="5008680"/>
            <a:chExt cx="2093040" cy="1774440"/>
          </a:xfrm>
        </p:grpSpPr>
        <p:grpSp>
          <p:nvGrpSpPr>
            <p:cNvPr id="143" name=""/>
            <p:cNvGrpSpPr/>
            <p:nvPr/>
          </p:nvGrpSpPr>
          <p:grpSpPr>
            <a:xfrm>
              <a:off x="2387160" y="5038920"/>
              <a:ext cx="2093040" cy="1496880"/>
              <a:chOff x="2387160" y="5038920"/>
              <a:chExt cx="2093040" cy="1496880"/>
            </a:xfrm>
          </p:grpSpPr>
          <p:sp>
            <p:nvSpPr>
              <p:cNvPr id="144" name=""/>
              <p:cNvSpPr/>
              <p:nvPr/>
            </p:nvSpPr>
            <p:spPr>
              <a:xfrm rot="3745200">
                <a:off x="2811240" y="5235120"/>
                <a:ext cx="1112040" cy="11037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3767760" y="5247000"/>
                <a:ext cx="712440" cy="37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2387160" y="6065280"/>
                <a:ext cx="501480" cy="26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556080" y="6414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56000" y="55926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1600" y="6122880"/>
              <a:ext cx="114480" cy="18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45040" y="6516720"/>
              <a:ext cx="114120" cy="18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333600" y="6243480"/>
              <a:ext cx="692280" cy="36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9930800">
              <a:off x="3652920" y="5173560"/>
              <a:ext cx="177840" cy="826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59480" y="5621040"/>
              <a:ext cx="25200" cy="311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21240" y="50086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080" y="375840"/>
            <a:ext cx="86868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ment of Inertia (common examples, 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ollow sp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id sp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in r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7896000">
            <a:off x="4106160" y="4607640"/>
            <a:ext cx="1983960" cy="174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71" y="507"/>
                </a:moveTo>
                <a:arcTo wR="10800" hR="10800" stAng="-4342039" swAng="4342039"/>
                <a:lnTo>
                  <a:pt x="10800" y="10800"/>
                </a:lnTo>
                <a:close/>
              </a:path>
              <a:path fill="none" w="21600" h="21600">
                <a:moveTo>
                  <a:pt x="14071" y="507"/>
                </a:moveTo>
                <a:arcTo wR="10800" hR="10800" stAng="-4342039" swAng="4342039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3962600">
            <a:off x="4949640" y="4332240"/>
            <a:ext cx="173160" cy="2395440"/>
          </a:xfrm>
          <a:prstGeom prst="can">
            <a:avLst>
              <a:gd name="adj" fmla="val 2634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35520" y="5070600"/>
            <a:ext cx="4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97280" y="4251240"/>
            <a:ext cx="2421000" cy="2448000"/>
          </a:xfrm>
          <a:prstGeom prst="ellipse">
            <a:avLst/>
          </a:prstGeom>
          <a:noFill/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880" y="5070600"/>
            <a:ext cx="4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983040" y="4619520"/>
            <a:ext cx="1843200" cy="143208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559560" y="4989600"/>
          <a:ext cx="127008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9560" y="4989600"/>
                    <a:ext cx="12700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3982680" y="1155600"/>
            <a:ext cx="2430000" cy="1457280"/>
            <a:chOff x="3982680" y="1155600"/>
            <a:chExt cx="2430000" cy="1457280"/>
          </a:xfrm>
        </p:grpSpPr>
        <p:sp>
          <p:nvSpPr>
            <p:cNvPr id="166" name=""/>
            <p:cNvSpPr/>
            <p:nvPr/>
          </p:nvSpPr>
          <p:spPr>
            <a:xfrm>
              <a:off x="4520880" y="1155600"/>
              <a:ext cx="1333080" cy="128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140000" y="2006280"/>
              <a:ext cx="634680" cy="3304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778000" y="1155600"/>
              <a:ext cx="634680" cy="33012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9418400">
              <a:off x="4098240" y="1968840"/>
              <a:ext cx="491400" cy="55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23130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2313059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60840" y="1625400"/>
              <a:ext cx="40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4762080" y="1358640"/>
              <a:ext cx="405720" cy="419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1346040"/>
              <a:ext cx="40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623680" y="2921040"/>
            <a:ext cx="2431080" cy="1457280"/>
            <a:chOff x="2623680" y="2921040"/>
            <a:chExt cx="2431080" cy="1457280"/>
          </a:xfrm>
        </p:grpSpPr>
        <p:sp>
          <p:nvSpPr>
            <p:cNvPr id="174" name=""/>
            <p:cNvSpPr/>
            <p:nvPr/>
          </p:nvSpPr>
          <p:spPr>
            <a:xfrm>
              <a:off x="3162240" y="2921040"/>
              <a:ext cx="1333440" cy="12826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781360" y="3771720"/>
              <a:ext cx="635040" cy="3304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419720" y="2921040"/>
              <a:ext cx="635040" cy="33012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9418400">
              <a:off x="2739240" y="3733920"/>
              <a:ext cx="491760" cy="55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23130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2313059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02200" y="33908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3403800" y="3124080"/>
              <a:ext cx="406080" cy="419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4240" y="311148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1" name=""/>
          <p:cNvGraphicFramePr/>
          <p:nvPr/>
        </p:nvGraphicFramePr>
        <p:xfrm>
          <a:off x="6289560" y="1440000"/>
          <a:ext cx="2370240" cy="72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9560" y="1440000"/>
                    <a:ext cx="23702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168880" y="3179880"/>
          <a:ext cx="2260800" cy="73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68880" y="3179880"/>
                    <a:ext cx="22608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343400" y="514368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arallel Axis Theor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allel Axis Theorem is used to determine the moment of inertia for a body rotated about an axis a distance, l, from the center of m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0.2 kg cylinder (r=0.1 m) rotated about an axis located 0.5 m from its cen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814480" y="2583000"/>
          <a:ext cx="2435400" cy="55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4480" y="2583000"/>
                    <a:ext cx="243540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"/>
          <p:cNvGrpSpPr/>
          <p:nvPr/>
        </p:nvGrpSpPr>
        <p:grpSpPr>
          <a:xfrm>
            <a:off x="495360" y="4711680"/>
            <a:ext cx="3251160" cy="1752480"/>
            <a:chOff x="495360" y="4711680"/>
            <a:chExt cx="3251160" cy="1752480"/>
          </a:xfrm>
        </p:grpSpPr>
        <p:sp>
          <p:nvSpPr>
            <p:cNvPr id="191" name=""/>
            <p:cNvSpPr/>
            <p:nvPr/>
          </p:nvSpPr>
          <p:spPr>
            <a:xfrm>
              <a:off x="2184480" y="471168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3960" y="4902120"/>
              <a:ext cx="3022560" cy="1206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5360" y="4889520"/>
              <a:ext cx="546120" cy="8636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851040" y="5384880"/>
              <a:ext cx="1333440" cy="38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09760" y="504180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346400" y="5523840"/>
              <a:ext cx="210816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9608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960847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976680" y="4762440"/>
              <a:ext cx="210924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9608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960847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8" name=""/>
          <p:cNvGraphicFramePr/>
          <p:nvPr/>
        </p:nvGraphicFramePr>
        <p:xfrm>
          <a:off x="4199040" y="4359240"/>
          <a:ext cx="4330440" cy="238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9040" y="4359240"/>
                    <a:ext cx="433044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27T06:09:48Z</dcterms:modified>
  <cp:revision>67</cp:revision>
  <dc:subject/>
  <dc:title>Phy 201: General Physics I</dc:title>
</cp:coreProperties>
</file>