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9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481986-4806-4C3E-9755-0E9E0B44E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e-s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flag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2B3-96DF-4A0D-BEFE-91E0BE48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63C-A48E-4AD1-90E7-1CDD9E72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7C6-9B24-4E45-B15A-65068B5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7856-2824-46E4-8D47-F59D060D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7B7-6DB2-4ED3-A5B4-6C1B1747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324-F255-4842-B077-83811A8D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884-CCC7-46FF-9AF2-64FFB10B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6D1-3C21-4FF2-AB32-061889CC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6E9-6E3B-488F-9332-3B32BD77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1DF-2355-4AF3-9A0F-AFFF0FD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229-DA46-4E57-8D7D-B527340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59D-984A-4287-A9E3-99AB2767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EDF6-DB41-450F-8EB7-592C43FDD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: Rotational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7124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Rotational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rque is applied to an object and a rotation is produced, the torque doe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et t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al kinetic energy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n object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is the Work-Energy Theorem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71880" y="2011320"/>
          <a:ext cx="140004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2011320"/>
                    <a:ext cx="140004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813040" y="3268800"/>
          <a:ext cx="3373560" cy="54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3040" y="3268800"/>
                    <a:ext cx="33735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585800" y="4049640"/>
          <a:ext cx="598968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049640"/>
                    <a:ext cx="59896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2640" y="5510160"/>
          <a:ext cx="8182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510160"/>
                    <a:ext cx="8182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lling objects &amp; Inclined Pla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65160"/>
            <a:ext cx="9144000" cy="54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olid disc &amp; a hoop rolling down a hill (inclined pl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ach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cceleration of each object as they roll down the hi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 reaches the bottom fir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9320" y="1609560"/>
            <a:ext cx="2666880" cy="1601280"/>
            <a:chOff x="1219320" y="1609560"/>
            <a:chExt cx="2666880" cy="1601280"/>
          </a:xfrm>
        </p:grpSpPr>
        <p:sp>
          <p:nvSpPr>
            <p:cNvPr id="213" name=""/>
            <p:cNvSpPr/>
            <p:nvPr/>
          </p:nvSpPr>
          <p:spPr>
            <a:xfrm>
              <a:off x="1219320" y="1838160"/>
              <a:ext cx="2666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23880" y="1609560"/>
              <a:ext cx="533520" cy="4572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199080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27525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752120" y="32097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191200" y="1609560"/>
            <a:ext cx="2666880" cy="1601280"/>
            <a:chOff x="5191200" y="1609560"/>
            <a:chExt cx="2666880" cy="1601280"/>
          </a:xfrm>
        </p:grpSpPr>
        <p:sp>
          <p:nvSpPr>
            <p:cNvPr id="219" name=""/>
            <p:cNvSpPr/>
            <p:nvPr/>
          </p:nvSpPr>
          <p:spPr>
            <a:xfrm>
              <a:off x="5191200" y="1838160"/>
              <a:ext cx="266688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95760" y="1609560"/>
              <a:ext cx="533520" cy="457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9280" y="1990800"/>
              <a:ext cx="4572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15080" y="27525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724000" y="3209760"/>
              <a:ext cx="213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155680" y="1393920"/>
            <a:ext cx="8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Solid di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68960" y="149400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H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ngular Moment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800" y="838080"/>
            <a:ext cx="876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momentum is the rotational analog of linear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presents the “quantity of rotational motion” for an object (or its inertia in ro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Momentum (a vector we will treat as a scalar)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=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ar Momentum is related to Linear Moment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si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s distance from 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linear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ngle between r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its of angular momentum are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249960" y="2937960"/>
            <a:ext cx="2796840" cy="3153240"/>
            <a:chOff x="6249960" y="2937960"/>
            <a:chExt cx="2796840" cy="3153240"/>
          </a:xfrm>
        </p:grpSpPr>
        <p:sp>
          <p:nvSpPr>
            <p:cNvPr id="229" name=""/>
            <p:cNvSpPr/>
            <p:nvPr/>
          </p:nvSpPr>
          <p:spPr>
            <a:xfrm>
              <a:off x="6249960" y="3629160"/>
              <a:ext cx="2590920" cy="24620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7752960" y="2937960"/>
              <a:ext cx="725400" cy="1041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597800" y="4238280"/>
              <a:ext cx="855720" cy="62244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115480" y="4387680"/>
              <a:ext cx="414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7040" y="3943440"/>
              <a:ext cx="41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20280000">
              <a:off x="7936560" y="3740040"/>
              <a:ext cx="9151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4"/>
                  </a:moveTo>
                  <a:arcTo wR="10800" hR="10800" stAng="-10782095" swAng="60886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4"/>
                  </a:moveTo>
                  <a:arcTo wR="10800" hR="10800" stAng="-10782095" swAng="6088607"/>
                </a:path>
              </a:pathLst>
            </a:custGeom>
            <a:noFill/>
            <a:ln cap="rnd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69120" y="3166920"/>
              <a:ext cx="414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440560" y="3979800"/>
              <a:ext cx="311400" cy="28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313920"/>
            <a:ext cx="86868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Angular Moment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net torque acting on an obj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 net torque acts on a system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s angular momentum (L) will remain constant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L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… = a consta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I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ciple explains why planets move faster the closer the get to the sun and slower the they move when they are farther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is is a re-statement of Newton’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017800" y="4181400"/>
            <a:ext cx="5807160" cy="1514520"/>
            <a:chOff x="2017800" y="4181400"/>
            <a:chExt cx="5807160" cy="1514520"/>
          </a:xfrm>
        </p:grpSpPr>
        <p:sp>
          <p:nvSpPr>
            <p:cNvPr id="240" name=""/>
            <p:cNvSpPr/>
            <p:nvPr/>
          </p:nvSpPr>
          <p:spPr>
            <a:xfrm>
              <a:off x="2766960" y="4248000"/>
              <a:ext cx="4079880" cy="13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2480" y="4700520"/>
              <a:ext cx="433080" cy="45252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86640" y="4700520"/>
              <a:ext cx="347760" cy="3618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4160" y="4790880"/>
              <a:ext cx="347400" cy="362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91240" y="4181400"/>
              <a:ext cx="1233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slow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513120" y="4338360"/>
              <a:ext cx="260280" cy="36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17800" y="5153040"/>
              <a:ext cx="1057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Arial"/>
                </a:rPr>
                <a:t>faste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4440" y="5153040"/>
              <a:ext cx="6937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840" y="375840"/>
            <a:ext cx="88441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Angular Momentum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gure sk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gh d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flowing down a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64636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13000" y="391680"/>
            <a:ext cx="62481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rchimedes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287-212 BC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617220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the greatest mathematician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n early form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Buoya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called Archimedes’ Princ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he Principle of Le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uilt several machines based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35640" y="1366920"/>
            <a:ext cx="2808360" cy="3124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576840" y="4807080"/>
            <a:ext cx="21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Give me a point of support and I will move the Ear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&amp; Torqu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00" y="923760"/>
            <a:ext cx="8748720" cy="59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is a vector quantity that represents the application of force to a body resulting in ro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change in rotation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torqu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o be confused with jo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r arm (levera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force perpendicular to lever 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63960" y="5180040"/>
          <a:ext cx="2602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3960" y="5180040"/>
                    <a:ext cx="260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316240" y="3781440"/>
          <a:ext cx="4430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6240" y="3781440"/>
                    <a:ext cx="4430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796080" y="5521320"/>
          <a:ext cx="1995480" cy="5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96080" y="5521320"/>
                    <a:ext cx="199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165960" y="1709640"/>
            <a:ext cx="3707640" cy="2592000"/>
            <a:chOff x="165960" y="1709640"/>
            <a:chExt cx="3707640" cy="2592000"/>
          </a:xfrm>
        </p:grpSpPr>
        <p:sp>
          <p:nvSpPr>
            <p:cNvPr id="63" name=""/>
            <p:cNvSpPr/>
            <p:nvPr/>
          </p:nvSpPr>
          <p:spPr>
            <a:xfrm rot="19653600">
              <a:off x="1044720" y="2674800"/>
              <a:ext cx="2712960" cy="35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6880" y="3554640"/>
              <a:ext cx="11736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2741400" y="1915920"/>
              <a:ext cx="4680" cy="69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 rot="9225600">
              <a:off x="485640" y="2198880"/>
              <a:ext cx="16531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270080" y="261432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2274840" y="1995480"/>
            <a:ext cx="324000" cy="501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74840" y="1995480"/>
                      <a:ext cx="3240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2187720" y="3183120"/>
            <a:ext cx="290520" cy="438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87720" y="318312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 flipV="1">
              <a:off x="2757600" y="192420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 rot="10501800">
              <a:off x="2338920" y="222336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" name=""/>
            <p:cNvGraphicFramePr/>
            <p:nvPr/>
          </p:nvGraphicFramePr>
          <p:xfrm>
            <a:off x="2949840" y="1709640"/>
            <a:ext cx="360360" cy="561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49840" y="170964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" name=""/>
          <p:cNvGrpSpPr/>
          <p:nvPr/>
        </p:nvGrpSpPr>
        <p:grpSpPr>
          <a:xfrm>
            <a:off x="5692680" y="1690560"/>
            <a:ext cx="2737080" cy="2177280"/>
            <a:chOff x="5692680" y="1690560"/>
            <a:chExt cx="2737080" cy="2177280"/>
          </a:xfrm>
        </p:grpSpPr>
        <p:sp>
          <p:nvSpPr>
            <p:cNvPr id="77" name=""/>
            <p:cNvSpPr/>
            <p:nvPr/>
          </p:nvSpPr>
          <p:spPr>
            <a:xfrm>
              <a:off x="5692680" y="3535200"/>
              <a:ext cx="11772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7297560" y="1896840"/>
              <a:ext cx="5040" cy="6937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826240" y="259524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6718320" y="2998800"/>
            <a:ext cx="290520" cy="438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718320" y="299880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 flipV="1">
              <a:off x="7313760" y="190512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 rot="10501800">
              <a:off x="6895080" y="220428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7505640" y="1690560"/>
            <a:ext cx="360360" cy="561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05640" y="169056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 flipH="1" flipV="1">
              <a:off x="6986160" y="1998360"/>
              <a:ext cx="297000" cy="57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6553080" y="1962000"/>
            <a:ext cx="463680" cy="662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553080" y="1962000"/>
                      <a:ext cx="4636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74840"/>
            <a:ext cx="7772400" cy="67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for Rotational Mo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net torque exerted on a rigid body its state of rotation (    ) will change depend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et t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inertia of object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net torque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the net torque exerted on a body is equal to the product of the rotational inertia and the angular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Newton’s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aw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93840" y="5407200"/>
          <a:ext cx="55101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5407200"/>
                    <a:ext cx="55101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155680" y="2781360"/>
          <a:ext cx="487836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5680" y="2781360"/>
                    <a:ext cx="48783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847880" y="1581120"/>
          <a:ext cx="355680" cy="3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7880" y="1581120"/>
                    <a:ext cx="35568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3255840" y="1836720"/>
          <a:ext cx="655920" cy="54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5840" y="1836720"/>
                    <a:ext cx="6559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igid Objects in Equilibri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8600" y="105552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id body is in equilibrium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for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 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 above conditions must be met for an object to be in mechanical equilibri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bject can be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till be in mechanical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85800" y="2220840"/>
          <a:ext cx="373860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2220840"/>
                    <a:ext cx="37386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01640" y="3684600"/>
          <a:ext cx="152748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1640" y="3684600"/>
                    <a:ext cx="152748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er of Gravity (COG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036800"/>
            <a:ext cx="6140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G is the location where all of an object’s weight can be considered to act when calculating to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G may or may not actually be on the object (i.e. consider a hollow sphere or a 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’s weight produces a torque on itself, it acts at its center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center of gra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04000" y="1271520"/>
            <a:ext cx="3225600" cy="474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90400" y="4356000"/>
          <a:ext cx="487044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4356000"/>
                    <a:ext cx="4870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49440" y="5554800"/>
          <a:ext cx="4860720" cy="119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9440" y="5554800"/>
                    <a:ext cx="48607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960" y="9583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of a rigid body to changes in its state of rotational motion (    ) is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ment of inert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otational inert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ment of Inertia (I)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of the object,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(position) of mass about 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or a discrete distribution of mas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 mass of a small segment of th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the distance of the mass mi from th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k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For a continuous distribution of mass there are more sophisticated techniques for calculating the moment of iner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87600" y="3762360"/>
          <a:ext cx="501480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3762360"/>
                    <a:ext cx="501480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690640" y="1335240"/>
          <a:ext cx="292320" cy="26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0640" y="1335240"/>
                    <a:ext cx="29232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cyl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03840" y="1380960"/>
          <a:ext cx="217800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03840" y="1380960"/>
                    <a:ext cx="21780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2" name=""/>
          <p:cNvGrpSpPr/>
          <p:nvPr/>
        </p:nvGrpSpPr>
        <p:grpSpPr>
          <a:xfrm>
            <a:off x="3418920" y="10440"/>
            <a:ext cx="2814120" cy="2835360"/>
            <a:chOff x="3418920" y="10440"/>
            <a:chExt cx="2814120" cy="2835360"/>
          </a:xfrm>
        </p:grpSpPr>
        <p:sp>
          <p:nvSpPr>
            <p:cNvPr id="123" name=""/>
            <p:cNvSpPr/>
            <p:nvPr/>
          </p:nvSpPr>
          <p:spPr>
            <a:xfrm>
              <a:off x="3808800" y="1966320"/>
              <a:ext cx="329760" cy="33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86360" y="1179720"/>
              <a:ext cx="68796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3680" y="197244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39800" y="1046160"/>
              <a:ext cx="866520" cy="133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4106880" y="1453680"/>
            <a:ext cx="228600" cy="260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06880" y="1453680"/>
                      <a:ext cx="22860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 rot="7896000">
              <a:off x="3762720" y="489960"/>
              <a:ext cx="21258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"/>
          <p:cNvGraphicFramePr/>
          <p:nvPr/>
        </p:nvGraphicFramePr>
        <p:xfrm>
          <a:off x="4411800" y="3206880"/>
          <a:ext cx="1447560" cy="47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1800" y="3206880"/>
                    <a:ext cx="1447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138040" y="2122560"/>
            <a:ext cx="2675880" cy="2697480"/>
            <a:chOff x="2138040" y="2122560"/>
            <a:chExt cx="2675880" cy="2697480"/>
          </a:xfrm>
        </p:grpSpPr>
        <p:sp>
          <p:nvSpPr>
            <p:cNvPr id="133" name=""/>
            <p:cNvSpPr/>
            <p:nvPr/>
          </p:nvSpPr>
          <p:spPr>
            <a:xfrm>
              <a:off x="2592360" y="2778120"/>
              <a:ext cx="1482840" cy="1403280"/>
            </a:xfrm>
            <a:prstGeom prst="donut">
              <a:avLst>
                <a:gd name="adj" fmla="val 55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73520" y="3502080"/>
              <a:ext cx="425520" cy="42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436600">
              <a:off x="2803320" y="3918960"/>
              <a:ext cx="76320" cy="79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06600" y="391932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2853000" y="3340080"/>
            <a:ext cx="304560" cy="334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53000" y="3340080"/>
                      <a:ext cx="30456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rot="7896000">
              <a:off x="2459880" y="2583720"/>
              <a:ext cx="2031480" cy="177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4978440" y="4943520"/>
          <a:ext cx="1954080" cy="81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78440" y="4943520"/>
                    <a:ext cx="19540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2387160" y="5008680"/>
            <a:ext cx="2093040" cy="1774440"/>
            <a:chOff x="2387160" y="5008680"/>
            <a:chExt cx="2093040" cy="1774440"/>
          </a:xfrm>
        </p:grpSpPr>
        <p:grpSp>
          <p:nvGrpSpPr>
            <p:cNvPr id="143" name=""/>
            <p:cNvGrpSpPr/>
            <p:nvPr/>
          </p:nvGrpSpPr>
          <p:grpSpPr>
            <a:xfrm>
              <a:off x="2387160" y="5038920"/>
              <a:ext cx="2093040" cy="1496880"/>
              <a:chOff x="2387160" y="5038920"/>
              <a:chExt cx="2093040" cy="1496880"/>
            </a:xfrm>
          </p:grpSpPr>
          <p:sp>
            <p:nvSpPr>
              <p:cNvPr id="144" name=""/>
              <p:cNvSpPr/>
              <p:nvPr/>
            </p:nvSpPr>
            <p:spPr>
              <a:xfrm rot="3745200">
                <a:off x="2811240" y="5235120"/>
                <a:ext cx="1112040" cy="11037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767760" y="5247000"/>
                <a:ext cx="712440" cy="37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2387160" y="6065280"/>
                <a:ext cx="5014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556080" y="6414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56000" y="5592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1600" y="6122880"/>
              <a:ext cx="11448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5040" y="6516720"/>
              <a:ext cx="11412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333600" y="6243480"/>
              <a:ext cx="692280" cy="36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9930800">
              <a:off x="3652920" y="5173560"/>
              <a:ext cx="177840" cy="826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9480" y="5621040"/>
              <a:ext cx="25200" cy="311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21240" y="5008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5080" y="375840"/>
            <a:ext cx="86868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, 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llow sp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sp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7896000">
            <a:off x="4106160" y="4607640"/>
            <a:ext cx="1983960" cy="174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71" y="507"/>
                </a:moveTo>
                <a:arcTo wR="10800" hR="10800" stAng="-4342039" swAng="4342039"/>
                <a:lnTo>
                  <a:pt x="10800" y="10800"/>
                </a:lnTo>
                <a:close/>
              </a:path>
              <a:path fill="none" w="21600" h="21600">
                <a:moveTo>
                  <a:pt x="14071" y="507"/>
                </a:moveTo>
                <a:arcTo wR="10800" hR="10800" stAng="-4342039" swAng="4342039"/>
              </a:path>
            </a:pathLst>
          </a:custGeom>
          <a:noFill/>
          <a:ln w="2844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3962600">
            <a:off x="4949640" y="4332240"/>
            <a:ext cx="173160" cy="2395440"/>
          </a:xfrm>
          <a:prstGeom prst="can">
            <a:avLst>
              <a:gd name="adj" fmla="val 2634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35520" y="507060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97280" y="4251240"/>
            <a:ext cx="2421000" cy="2448000"/>
          </a:xfrm>
          <a:prstGeom prst="ellipse">
            <a:avLst/>
          </a:prstGeom>
          <a:noFill/>
          <a:ln w="1260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880" y="507060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83040" y="4619520"/>
            <a:ext cx="1843200" cy="1432080"/>
          </a:xfrm>
          <a:prstGeom prst="line">
            <a:avLst/>
          </a:prstGeom>
          <a:ln w="2844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59560" y="4989600"/>
          <a:ext cx="12700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9560" y="4989600"/>
                    <a:ext cx="12700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3982680" y="1155600"/>
            <a:ext cx="2430000" cy="1457280"/>
            <a:chOff x="3982680" y="1155600"/>
            <a:chExt cx="2430000" cy="1457280"/>
          </a:xfrm>
        </p:grpSpPr>
        <p:sp>
          <p:nvSpPr>
            <p:cNvPr id="166" name=""/>
            <p:cNvSpPr/>
            <p:nvPr/>
          </p:nvSpPr>
          <p:spPr>
            <a:xfrm>
              <a:off x="4520880" y="1155600"/>
              <a:ext cx="1333080" cy="128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140000" y="2006280"/>
              <a:ext cx="634680" cy="3304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778000" y="1155600"/>
              <a:ext cx="634680" cy="33012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9418400">
              <a:off x="4098240" y="1968840"/>
              <a:ext cx="49140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3130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31305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0840" y="162540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4762080" y="1358640"/>
              <a:ext cx="405720" cy="41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134604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23680" y="2921040"/>
            <a:ext cx="2431080" cy="1457280"/>
            <a:chOff x="2623680" y="2921040"/>
            <a:chExt cx="2431080" cy="1457280"/>
          </a:xfrm>
        </p:grpSpPr>
        <p:sp>
          <p:nvSpPr>
            <p:cNvPr id="174" name=""/>
            <p:cNvSpPr/>
            <p:nvPr/>
          </p:nvSpPr>
          <p:spPr>
            <a:xfrm>
              <a:off x="3162240" y="2921040"/>
              <a:ext cx="1333440" cy="1282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781360" y="3771720"/>
              <a:ext cx="635040" cy="33048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419720" y="2921040"/>
              <a:ext cx="635040" cy="330120"/>
            </a:xfrm>
            <a:prstGeom prst="line">
              <a:avLst/>
            </a:prstGeom>
            <a:ln w="28440">
              <a:solidFill>
                <a:srgbClr val="99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9418400">
              <a:off x="2739240" y="3733920"/>
              <a:ext cx="491760" cy="55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3130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31305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02200" y="33908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3403800" y="3124080"/>
              <a:ext cx="406080" cy="419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4240" y="311148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1" name=""/>
          <p:cNvGraphicFramePr/>
          <p:nvPr/>
        </p:nvGraphicFramePr>
        <p:xfrm>
          <a:off x="6289560" y="1440000"/>
          <a:ext cx="23702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9560" y="1440000"/>
                    <a:ext cx="23702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168880" y="3179880"/>
          <a:ext cx="226080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68880" y="3179880"/>
                    <a:ext cx="22608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343400" y="514368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allel Axis Theor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llel Axis Theorem is used to determine the moment of inertia for a body rotated about an axis a distance, l, from the center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0.2 kg cylinder (r=0.1 m) rotated about an axis located 0.5 m from it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814480" y="2583000"/>
          <a:ext cx="2435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83000"/>
                    <a:ext cx="2435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495360" y="4711680"/>
            <a:ext cx="3251160" cy="1752480"/>
            <a:chOff x="495360" y="4711680"/>
            <a:chExt cx="3251160" cy="1752480"/>
          </a:xfrm>
        </p:grpSpPr>
        <p:sp>
          <p:nvSpPr>
            <p:cNvPr id="191" name=""/>
            <p:cNvSpPr/>
            <p:nvPr/>
          </p:nvSpPr>
          <p:spPr>
            <a:xfrm>
              <a:off x="2184480" y="47116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960" y="4902120"/>
              <a:ext cx="3022560" cy="1206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360" y="4889520"/>
              <a:ext cx="546120" cy="8636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851040" y="5384880"/>
              <a:ext cx="1333440" cy="3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09760" y="50418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346400" y="5523840"/>
              <a:ext cx="21081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976680" y="4762440"/>
              <a:ext cx="210924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8" name=""/>
          <p:cNvGraphicFramePr/>
          <p:nvPr/>
        </p:nvGraphicFramePr>
        <p:xfrm>
          <a:off x="4199040" y="4359240"/>
          <a:ext cx="4330440" cy="23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359240"/>
                    <a:ext cx="43304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7T06:09:48Z</dcterms:modified>
  <cp:revision>67</cp:revision>
  <dc:subject/>
  <dc:title>Phy 201: General Physics I</dc:title>
</cp:coreProperties>
</file>