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3808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8: Rotational 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tational Motion &amp; Angular Dis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moves in a circular path (or rotat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mains a fixed distance from the center of the circular path (or axis of r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radial distance is fixed, position can be described by its angular posit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ular position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describes the position of an object along a circula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d in radians (or degr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ular displacement: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q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gular Velocity &amp;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ate at which angular position changes is the object’s angular velo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 Dq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ate at which angular velocity changes is the object’s angular accel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a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 Dq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3808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ationship between rotational and linear variables for an object in circular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: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3200" spc="-1" strike="noStrike" baseline="30000">
                <a:solidFill>
                  <a:srgbClr val="66ff33"/>
                </a:solidFill>
                <a:latin typeface="Symbol"/>
                <a:ea typeface="Symbol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sin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cos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cement (arc length):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q</a:t>
            </a:r>
            <a:r>
              <a:rPr b="0" lang="en-US" sz="3200" spc="-1" strike="noStrike" baseline="30000">
                <a:solidFill>
                  <a:srgbClr val="66ff33"/>
                </a:solidFill>
                <a:latin typeface="Symbol"/>
                <a:ea typeface="Symbol"/>
              </a:rPr>
              <a:t>.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ar (tangential) speed: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ar Acceleration: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781680" y="3276720"/>
            <a:ext cx="1905120" cy="1828800"/>
            <a:chOff x="6781680" y="3276720"/>
            <a:chExt cx="1905120" cy="1828800"/>
          </a:xfrm>
        </p:grpSpPr>
        <p:sp>
          <p:nvSpPr>
            <p:cNvPr id="48" name=""/>
            <p:cNvSpPr/>
            <p:nvPr/>
          </p:nvSpPr>
          <p:spPr>
            <a:xfrm flipV="1">
              <a:off x="6781680" y="4343400"/>
              <a:ext cx="1676520" cy="76212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640" y="4648320"/>
              <a:ext cx="228600" cy="228960"/>
            </a:xfrm>
            <a:custGeom>
              <a:avLst/>
              <a:gdLst/>
              <a:ahLst/>
              <a:rect l="0" t="0" r="r" b="b"/>
              <a:pathLst>
                <a:path fill="none" w="635" h="636">
                  <a:moveTo>
                    <a:pt x="635" y="636"/>
                  </a:moveTo>
                  <a:lnTo>
                    <a:pt x="635" y="636"/>
                  </a:lnTo>
                  <a:lnTo>
                    <a:pt x="635" y="636"/>
                  </a:lnTo>
                  <a:cubicBezTo>
                    <a:pt x="635" y="524"/>
                    <a:pt x="606" y="415"/>
                    <a:pt x="550" y="318"/>
                  </a:cubicBezTo>
                  <a:cubicBezTo>
                    <a:pt x="494" y="221"/>
                    <a:pt x="414" y="141"/>
                    <a:pt x="317" y="85"/>
                  </a:cubicBezTo>
                  <a:cubicBezTo>
                    <a:pt x="221" y="30"/>
                    <a:pt x="11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7086600" y="42670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D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824520" y="3309840"/>
              <a:ext cx="524160" cy="176220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16640" y="3352680"/>
              <a:ext cx="1141920" cy="991080"/>
            </a:xfrm>
            <a:custGeom>
              <a:avLst/>
              <a:gdLst/>
              <a:ahLst/>
              <a:rect l="0" t="0" r="r" b="b"/>
              <a:pathLst>
                <a:path fill="none" w="3172" h="2753">
                  <a:moveTo>
                    <a:pt x="3172" y="2753"/>
                  </a:moveTo>
                  <a:lnTo>
                    <a:pt x="3172" y="2753"/>
                  </a:lnTo>
                  <a:lnTo>
                    <a:pt x="3172" y="2753"/>
                  </a:lnTo>
                  <a:cubicBezTo>
                    <a:pt x="3172" y="2270"/>
                    <a:pt x="3025" y="1795"/>
                    <a:pt x="2746" y="1376"/>
                  </a:cubicBezTo>
                  <a:cubicBezTo>
                    <a:pt x="2468" y="958"/>
                    <a:pt x="2067" y="610"/>
                    <a:pt x="1584" y="369"/>
                  </a:cubicBezTo>
                  <a:cubicBezTo>
                    <a:pt x="1102" y="128"/>
                    <a:pt x="556" y="1"/>
                    <a:pt x="0" y="0"/>
                  </a:cubicBezTo>
                </a:path>
              </a:pathLst>
            </a:custGeom>
            <a:ln w="25560">
              <a:solidFill>
                <a:srgbClr val="ffcc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153280" y="327672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ccff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477120" y="1600200"/>
            <a:ext cx="2209680" cy="1143000"/>
            <a:chOff x="6477120" y="1600200"/>
            <a:chExt cx="2209680" cy="1143000"/>
          </a:xfrm>
        </p:grpSpPr>
        <p:sp>
          <p:nvSpPr>
            <p:cNvPr id="55" name=""/>
            <p:cNvSpPr/>
            <p:nvPr/>
          </p:nvSpPr>
          <p:spPr>
            <a:xfrm flipV="1">
              <a:off x="6477120" y="1905120"/>
              <a:ext cx="1676160" cy="76176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0640" y="2438280"/>
              <a:ext cx="228600" cy="228960"/>
            </a:xfrm>
            <a:custGeom>
              <a:avLst/>
              <a:gdLst/>
              <a:ahLst/>
              <a:rect l="0" t="0" r="r" b="b"/>
              <a:pathLst>
                <a:path fill="none" w="635" h="636">
                  <a:moveTo>
                    <a:pt x="635" y="636"/>
                  </a:moveTo>
                  <a:lnTo>
                    <a:pt x="635" y="636"/>
                  </a:lnTo>
                  <a:cubicBezTo>
                    <a:pt x="635" y="525"/>
                    <a:pt x="605" y="415"/>
                    <a:pt x="550" y="319"/>
                  </a:cubicBezTo>
                  <a:cubicBezTo>
                    <a:pt x="494" y="222"/>
                    <a:pt x="414" y="141"/>
                    <a:pt x="317" y="85"/>
                  </a:cubicBezTo>
                  <a:cubicBezTo>
                    <a:pt x="221" y="30"/>
                    <a:pt x="11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238880" y="22860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7086600" y="19051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8153280" y="16002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77120" y="266688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077320" y="1905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tions of Rotational Kin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an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ons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½(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q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½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2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aD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-304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ripetal &amp; Tangential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533520"/>
            <a:ext cx="85345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object moving in uniform circular motion, the magnitude of its centripetal acceler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)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not constant, the effect of angular acceleration must also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 +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, an object’s circular motion can be generalized in terms of both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2 components of acceleration are perpendicular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the magnitude &amp; direction of a, they must be treated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