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58B-A72F-47A8-954B-76DF7A66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3D7-81CB-47F2-937B-BB1480D5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5D3-9FE7-451B-9DCE-44BB1D86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38E-5664-41B5-8080-61CAE990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970-769D-4635-863F-515ADA5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1BB-788E-4D22-B552-80EC4E5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00D-359E-49A5-9768-EE168CD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3F1-05C1-4FBF-B523-7E11322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371-770A-476D-B0B5-5AA656BF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808-FF5E-4E59-9DF7-2F542E5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9F9-9A95-4AD8-A2A3-B3C4347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F20-F3BE-460D-BABF-77E0C25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38D-9432-4F49-8676-6D55C3E9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972720"/>
            <a:ext cx="8839440" cy="54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60520" y="4554360"/>
          <a:ext cx="1449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4554360"/>
                    <a:ext cx="1449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57280" y="3699000"/>
          <a:ext cx="5115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3699000"/>
                    <a:ext cx="5115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379600" y="5916600"/>
          <a:ext cx="14526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9600" y="5916600"/>
                    <a:ext cx="1452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160" y="368280"/>
            <a:ext cx="7404120" cy="9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&amp; linear variables for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88200" y="1333440"/>
            <a:ext cx="2565360" cy="1540080"/>
            <a:chOff x="6388200" y="1333440"/>
            <a:chExt cx="2565360" cy="1540080"/>
          </a:xfrm>
        </p:grpSpPr>
        <p:sp>
          <p:nvSpPr>
            <p:cNvPr id="56" name=""/>
            <p:cNvSpPr/>
            <p:nvPr/>
          </p:nvSpPr>
          <p:spPr>
            <a:xfrm flipV="1">
              <a:off x="6388200" y="1695600"/>
              <a:ext cx="1946160" cy="90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42800" y="2330280"/>
              <a:ext cx="529200" cy="5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72360" y="2149560"/>
              <a:ext cx="79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6320" y="1695600"/>
              <a:ext cx="79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34360" y="1333440"/>
              <a:ext cx="61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88200" y="2602080"/>
              <a:ext cx="194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320320" y="1695600"/>
              <a:ext cx="0" cy="90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84280" y="4338720"/>
            <a:ext cx="469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805200"/>
            <a:ext cx="593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1080" y="1324080"/>
          <a:ext cx="14734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324080"/>
                    <a:ext cx="1473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987560" y="1795320"/>
          <a:ext cx="46720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7560" y="1795320"/>
                    <a:ext cx="4672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6083280" y="3238560"/>
            <a:ext cx="2882520" cy="2374560"/>
            <a:chOff x="6083280" y="3238560"/>
            <a:chExt cx="2882520" cy="2374560"/>
          </a:xfrm>
        </p:grpSpPr>
        <p:sp>
          <p:nvSpPr>
            <p:cNvPr id="70" name=""/>
            <p:cNvSpPr/>
            <p:nvPr/>
          </p:nvSpPr>
          <p:spPr>
            <a:xfrm flipV="1">
              <a:off x="6692760" y="4622400"/>
              <a:ext cx="167616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940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3960" y="459756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697440" y="361440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83280" y="363204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4360" y="355608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600" y="4470480"/>
              <a:ext cx="619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71960" y="3238560"/>
              <a:ext cx="619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120" y="876240"/>
            <a:ext cx="886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4920" y="3403440"/>
          <a:ext cx="344484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3403440"/>
                    <a:ext cx="344484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469880" y="4284720"/>
          <a:ext cx="37339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9880" y="4284720"/>
                    <a:ext cx="3733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994200" y="1262160"/>
          <a:ext cx="102708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4200" y="1262160"/>
                    <a:ext cx="10270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6292800" y="1085760"/>
            <a:ext cx="1685880" cy="1892160"/>
            <a:chOff x="6292800" y="1085760"/>
            <a:chExt cx="1685880" cy="1892160"/>
          </a:xfrm>
        </p:grpSpPr>
        <p:sp>
          <p:nvSpPr>
            <p:cNvPr id="87" name=""/>
            <p:cNvSpPr/>
            <p:nvPr/>
          </p:nvSpPr>
          <p:spPr>
            <a:xfrm>
              <a:off x="6292800" y="1428480"/>
              <a:ext cx="1663560" cy="1549440"/>
            </a:xfrm>
            <a:prstGeom prst="ellipse">
              <a:avLst/>
            </a:prstGeom>
            <a:noFill/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75480" y="1517400"/>
              <a:ext cx="203040" cy="19044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7067160" y="1212120"/>
              <a:ext cx="46980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321320" y="1707840"/>
              <a:ext cx="279360" cy="31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3320" y="1733400"/>
              <a:ext cx="49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0560" y="1085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6400" y="1800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130520" y="1707840"/>
              <a:ext cx="482760" cy="507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99280" y="3238560"/>
            <a:ext cx="1663560" cy="1892160"/>
            <a:chOff x="6299280" y="3238560"/>
            <a:chExt cx="1663560" cy="1892160"/>
          </a:xfrm>
        </p:grpSpPr>
        <p:sp>
          <p:nvSpPr>
            <p:cNvPr id="96" name=""/>
            <p:cNvSpPr/>
            <p:nvPr/>
          </p:nvSpPr>
          <p:spPr>
            <a:xfrm>
              <a:off x="6299280" y="3581280"/>
              <a:ext cx="1663560" cy="1549440"/>
            </a:xfrm>
            <a:prstGeom prst="ellipse">
              <a:avLst/>
            </a:prstGeom>
            <a:noFill/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81600" y="3670200"/>
              <a:ext cx="203040" cy="19044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7121160" y="3374640"/>
              <a:ext cx="46008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327800" y="3860640"/>
              <a:ext cx="279000" cy="31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70720" y="3867120"/>
              <a:ext cx="475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77040" y="3238560"/>
              <a:ext cx="5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13520" y="396216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37000" y="3860640"/>
              <a:ext cx="482040" cy="507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7T05:43:35Z</dcterms:modified>
  <cp:revision>57</cp:revision>
  <dc:subject/>
  <dc:title>Phy 201: General Physics I</dc:title>
</cp:coreProperties>
</file>