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9CA3-4971-47C7-B7E4-8C19766EC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044F-2307-4CBD-B801-B38803BE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8DA9-4BE0-4939-8414-A95E80EAE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5E53-75BE-4765-BE88-38420723D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0886-1E0D-4C7B-BDD3-49723419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ED66-53C5-41DA-9BD9-169C1D9A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F7C6-4A2F-4AA1-BA53-E4E73708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FDC8-D5F5-4788-BD8F-3B08A45A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5590-EA8D-4A11-AF01-5582E7F5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B449-42F4-4DE2-9AFE-FC4A5D50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7FF4-D217-46EA-8619-9B3E6ACB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5BBF-383A-4BE6-AA47-F8B10E02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4766-9030-4225-95DE-1B962FE04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01: General Physics 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8: Rotational Kine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Rotational Motion &amp; Angular Displacemen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972720"/>
            <a:ext cx="8839440" cy="542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object moves in a circular path (or rotat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remains a fixed distance (r) from the center of the circular path (or axis of ro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radial distance is fixed, position can be described by its angular position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ular position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describes the position of an object along a circular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d in radians (or degre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ular displac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ular veloc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rate at which angular position chan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ular acceler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rate at which angular velocity chan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360520" y="4554360"/>
          <a:ext cx="1449360" cy="8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0520" y="4554360"/>
                    <a:ext cx="144936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357280" y="3699000"/>
          <a:ext cx="511524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57280" y="3699000"/>
                    <a:ext cx="51152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2379600" y="5916600"/>
          <a:ext cx="1452600" cy="86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79600" y="5916600"/>
                    <a:ext cx="14526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1160" y="368280"/>
            <a:ext cx="7404120" cy="97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elationship between rotational &amp; linear variables for circular motion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397160"/>
            <a:ext cx="7772400" cy="270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cement (arc length)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</a:t>
            </a:r>
            <a:r>
              <a:rPr b="0" lang="en-US" sz="24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 (tangential) speed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 Acceleration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=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388200" y="1333440"/>
            <a:ext cx="2565360" cy="1540080"/>
            <a:chOff x="6388200" y="1333440"/>
            <a:chExt cx="2565360" cy="1540080"/>
          </a:xfrm>
        </p:grpSpPr>
        <p:sp>
          <p:nvSpPr>
            <p:cNvPr id="56" name=""/>
            <p:cNvSpPr/>
            <p:nvPr/>
          </p:nvSpPr>
          <p:spPr>
            <a:xfrm flipV="1">
              <a:off x="6388200" y="1695600"/>
              <a:ext cx="1946160" cy="906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742800" y="2330280"/>
              <a:ext cx="529200" cy="5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272360" y="2149560"/>
              <a:ext cx="797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33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96320" y="1695600"/>
              <a:ext cx="795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334360" y="1333440"/>
              <a:ext cx="619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388200" y="2602080"/>
              <a:ext cx="1946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8320320" y="1695600"/>
              <a:ext cx="0" cy="9064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584280" y="4338720"/>
            <a:ext cx="469908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597240" indent="-59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an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onst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½(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+ ½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2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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805200"/>
            <a:ext cx="5931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Equations of Rotational Kine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981080" y="1324080"/>
          <a:ext cx="1473480" cy="5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324080"/>
                    <a:ext cx="14734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1987560" y="1795320"/>
          <a:ext cx="4672080" cy="47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7560" y="1795320"/>
                    <a:ext cx="467208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" name=""/>
          <p:cNvGrpSpPr/>
          <p:nvPr/>
        </p:nvGrpSpPr>
        <p:grpSpPr>
          <a:xfrm>
            <a:off x="6083280" y="3238560"/>
            <a:ext cx="2882520" cy="2374560"/>
            <a:chOff x="6083280" y="3238560"/>
            <a:chExt cx="2882520" cy="2374560"/>
          </a:xfrm>
        </p:grpSpPr>
        <p:sp>
          <p:nvSpPr>
            <p:cNvPr id="70" name=""/>
            <p:cNvSpPr/>
            <p:nvPr/>
          </p:nvSpPr>
          <p:spPr>
            <a:xfrm flipV="1">
              <a:off x="6692760" y="4622400"/>
              <a:ext cx="1676160" cy="7621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29400" y="4940280"/>
              <a:ext cx="456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933960" y="4597560"/>
              <a:ext cx="68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33"/>
                  </a:solidFill>
                  <a:latin typeface="Symbol"/>
                  <a:ea typeface="Symbol"/>
                </a:rPr>
                <a:t>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6697440" y="3614400"/>
              <a:ext cx="523800" cy="1762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083280" y="3632040"/>
              <a:ext cx="2285280" cy="198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64360" y="3556080"/>
              <a:ext cx="533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346600" y="4470480"/>
              <a:ext cx="6192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771960" y="3238560"/>
              <a:ext cx="6192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1048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entripetal &amp; Tangential Accelera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120" y="876240"/>
            <a:ext cx="8864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n object moving in uniform circular motion, the magnitude of its centripetal acceleration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v =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= (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)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refo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not constant, the effect of angular acceleration must also includ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an object’s circular motion can be generalized in terms of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2 components of acceleration are perpendicular to eac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termine the magnitude &amp; direction of a, they must be treated as v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474920" y="3403440"/>
          <a:ext cx="3444840" cy="5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3403440"/>
                    <a:ext cx="3444840" cy="5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1469880" y="4284720"/>
          <a:ext cx="373392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69880" y="4284720"/>
                    <a:ext cx="37339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3994200" y="1262160"/>
          <a:ext cx="1027080" cy="86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94200" y="1262160"/>
                    <a:ext cx="102708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6" name=""/>
          <p:cNvGrpSpPr/>
          <p:nvPr/>
        </p:nvGrpSpPr>
        <p:grpSpPr>
          <a:xfrm>
            <a:off x="6292800" y="1085760"/>
            <a:ext cx="1685880" cy="1892160"/>
            <a:chOff x="6292800" y="1085760"/>
            <a:chExt cx="1685880" cy="1892160"/>
          </a:xfrm>
        </p:grpSpPr>
        <p:sp>
          <p:nvSpPr>
            <p:cNvPr id="87" name=""/>
            <p:cNvSpPr/>
            <p:nvPr/>
          </p:nvSpPr>
          <p:spPr>
            <a:xfrm>
              <a:off x="6292800" y="1428480"/>
              <a:ext cx="1663560" cy="1549440"/>
            </a:xfrm>
            <a:prstGeom prst="ellipse">
              <a:avLst/>
            </a:prstGeom>
            <a:noFill/>
            <a:ln cap="rnd" w="28440">
              <a:solidFill>
                <a:srgbClr val="9900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75480" y="1517400"/>
              <a:ext cx="203040" cy="19044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7067160" y="1212120"/>
              <a:ext cx="46980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7321320" y="1707840"/>
              <a:ext cx="279360" cy="317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83320" y="1733400"/>
              <a:ext cx="495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270560" y="10857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16400" y="18000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7130520" y="1707840"/>
              <a:ext cx="482760" cy="50796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299280" y="3238560"/>
            <a:ext cx="1663560" cy="1892160"/>
            <a:chOff x="6299280" y="3238560"/>
            <a:chExt cx="1663560" cy="1892160"/>
          </a:xfrm>
        </p:grpSpPr>
        <p:sp>
          <p:nvSpPr>
            <p:cNvPr id="96" name=""/>
            <p:cNvSpPr/>
            <p:nvPr/>
          </p:nvSpPr>
          <p:spPr>
            <a:xfrm>
              <a:off x="6299280" y="3581280"/>
              <a:ext cx="1663560" cy="1549440"/>
            </a:xfrm>
            <a:prstGeom prst="ellipse">
              <a:avLst/>
            </a:prstGeom>
            <a:noFill/>
            <a:ln cap="rnd" w="28440">
              <a:solidFill>
                <a:srgbClr val="9900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81600" y="3670200"/>
              <a:ext cx="203040" cy="19044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7121160" y="3374640"/>
              <a:ext cx="460080" cy="314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7327800" y="3860640"/>
              <a:ext cx="279000" cy="317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70720" y="3867120"/>
              <a:ext cx="475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77040" y="3238560"/>
              <a:ext cx="54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013520" y="3962160"/>
              <a:ext cx="38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7137000" y="3860640"/>
              <a:ext cx="482040" cy="50796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Tony Zable</cp:lastModifiedBy>
  <dcterms:modified xsi:type="dcterms:W3CDTF">2007-06-27T05:43:35Z</dcterms:modified>
  <cp:revision>57</cp:revision>
  <dc:subject/>
  <dc:title>Phy 201: General Physics I</dc:title>
</cp:coreProperties>
</file>