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7A2038-F0A1-48DD-8B23-C1816B1D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7: Impulse &amp;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 of 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allistic pend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isions in 2-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body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ly in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l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of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838080"/>
            <a:ext cx="8610480" cy="51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verage location of the total mass of a system is called center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the center of mass, take the sum of each mass multiplied by its position vector and divide by the total mass of the system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/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y</a:t>
            </a:r>
            <a:r>
              <a:rPr b="1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= (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…)/(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+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, if the objects in the system are in motion, the velocity of the system (center of mass) is: {in 1-D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/(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syste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.e.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x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then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tion of all bodies even if they are changing will always have values such that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m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ne Descart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596-16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523880"/>
            <a:ext cx="5410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inent French mathematician &amp; philos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toward end of Galileo’s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d the nature of collisions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introduced the concept of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defined momentum as the product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igh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ed the Law of Conservation of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06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06668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pecific type of interaction between 2 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ction is short lived compared to the time of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latively large force acts on each colliding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tion of one or both objects changes abruptly following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clean separation between state of objec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sion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classifications for coll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fectly elasti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ding objects bounce off each other and no energy is lost due to heat formation or deformation (KE is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fectly inelasti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lliding objects stick together (KE is not conser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mewhat inelas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asically all other type of collisions): KE is not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ulse-Momentum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990720"/>
            <a:ext cx="8686800" cy="49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ton’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,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an be rewritten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ying both sides of the equality by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f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®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called Impuls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mpulse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=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t of mass times velocity is referred to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inear momen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force is exerted on an objec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ul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duct of the force times the time: </a:t>
            </a:r>
            <a:r>
              <a:rPr b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ange in linear momentum of the object: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f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I units for impulse are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es on Collisions &amp;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685800"/>
            <a:ext cx="85345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collisions, the forces gene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short in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ulsive forc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impact forces or collision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vary in intensity/magnitude during th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described by an average collision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®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vg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{impulse/tim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golf club collides with a 0.1 kg golf ball (initially at rest) for a time interval of 0.01s.  The velocity of the ball following the impact is 25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mpulse exerted on the ball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0.1 kg)(25 m/s – 0 m/s) = 2.5 N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verage impulsive force exerted on the ball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 = 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(2.5 N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s)/(0.01 s) = 250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the average force exerted on the golf club is –250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Superman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99072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What is the impulse exerted on Superman’s chest by a single bull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What is the average force exerted by the stream of bullets on Superman’s ch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176640" y="2637000"/>
            <a:ext cx="2791080" cy="1584360"/>
            <a:chOff x="3176640" y="2637000"/>
            <a:chExt cx="2791080" cy="1584360"/>
          </a:xfrm>
        </p:grpSpPr>
        <p:sp>
          <p:nvSpPr>
            <p:cNvPr id="60" name=""/>
            <p:cNvSpPr txBox="1"/>
            <p:nvPr/>
          </p:nvSpPr>
          <p:spPr>
            <a:xfrm>
              <a:off x="3268800" y="2637000"/>
              <a:ext cx="269892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7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176640" y="3048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9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es on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990720"/>
            <a:ext cx="861048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es always occur as action-reaction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rc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relationship is observed in many “real world”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obile safe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hbo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b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umple z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yrofoam spa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nis: racket string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ball: “juiced” baseballs &amp; baseball bats (corked &amp; aluminum vs. w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lf: the “spring-like” effect of golf club 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xing gloves: (lower impulsive forces in the h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ear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1371600"/>
            <a:ext cx="853452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inertia in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scribed by Newton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or instanc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effort required to bring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defined as mass times velocity: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m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um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units are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wton’s 1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763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ervation of Linear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219320"/>
            <a:ext cx="8534520" cy="46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tal linear momentum of a system will remain constant when n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tern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 force acts upon the system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before collisi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(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…)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fter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momentum values may change due to collisions, etc but the momentum of the system as a whole will sta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olving collisio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all information is not known/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impl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ervation of Momentum is even more fundamental than Newton’s Law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