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DC4A912-8F45-47DF-A31E-CDE5380F1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be thought of as a single object consisting of a collection of atoms/molecules that are grouped to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4F0-CD5D-4D44-80C9-60C9D924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33C-AD71-499A-A4F0-A21F4D52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ED9-16F8-4D56-94AC-5CA3A280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E9C-F704-4931-ACC3-24E25DAA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3A2E-9E67-4AB1-A1ED-9E972FAD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3C5-B643-4DFE-AB97-C3696AAE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463-CB50-4064-9EA3-C4DB50F2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0CA-F184-4D68-A1B9-07E8DAB7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BF9-69DF-42DE-8879-710A7D98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8D7-9BFF-4915-A672-93035C09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C82-D2D4-4BED-9E5B-6C750409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B54-A6EC-40F4-AA51-8952282F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4133-82A0-4F36-A7A3-BD6C611D7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0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95440" y="3886200"/>
            <a:ext cx="8021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7: Momentum &amp; Impu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enter of Mas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nter of M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   ) refers to the average location of mass for a defined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the center of mass, take the sum of each mass multiplied by its position vector and divide by the total mass of the system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, if the objects in the system are in motion, the velocity of the system (center of mass)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e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n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c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on of all bodies even if they are changing individually will always have values such that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=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29080" y="870120"/>
          <a:ext cx="37764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9080" y="870120"/>
                    <a:ext cx="3776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90560" y="2379600"/>
          <a:ext cx="6478560" cy="120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2379600"/>
                    <a:ext cx="647856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206360" y="4186080"/>
          <a:ext cx="5605560" cy="117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6360" y="4186080"/>
                    <a:ext cx="560556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ne Descartes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333080"/>
            <a:ext cx="6154560" cy="39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nent French mathematician &amp; philoso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oward end of Galileo’s car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d the nature of collisions betwee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introduced the concept of momentum (called it “vis-à-vis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efined “vis-à-vis” as the product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ei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e Law of Conservation of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65720" y="1447920"/>
            <a:ext cx="2708280" cy="2625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400800" y="4051440"/>
            <a:ext cx="21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ach problem that I solved became a rule which served afterwards to solve other problems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Linear Momentu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5240" y="1131840"/>
            <a:ext cx="8723160" cy="54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momentum (    ) represents inertia in mo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wton described momentum as the “quantity of motio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ceptuall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reflects the effort required to bring a moving object to rest depends not only on its mass (inertia) but also on how fast it is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um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ity with the same direction as the object’s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units are k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ton’s 1</a:t>
            </a:r>
            <a:r>
              <a:rPr b="1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Law revisi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momentum of an object will remain constant unless it is acted upon by a net force (or impul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60440" y="2911320"/>
          <a:ext cx="1535400" cy="5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0440" y="2911320"/>
                    <a:ext cx="153540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506760" y="1117440"/>
          <a:ext cx="30492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6760" y="1117440"/>
                    <a:ext cx="3049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Impulse-Momentum Theore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, can be rewritten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rranging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the Net (or average) Impuls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Impulse associated with an applied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for impulse are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 represents simultaneous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duct of the force times the ti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nge in linear momentum of the objec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60280" y="1281240"/>
          <a:ext cx="8729640" cy="77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1281240"/>
                    <a:ext cx="87296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853920" y="2459160"/>
          <a:ext cx="7137720" cy="47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3920" y="2459160"/>
                    <a:ext cx="71377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673280" y="3867120"/>
          <a:ext cx="219528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3280" y="3867120"/>
                    <a:ext cx="219528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734080" y="5410080"/>
          <a:ext cx="129384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34080" y="5410080"/>
                    <a:ext cx="12938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408720" y="5992920"/>
          <a:ext cx="2489040" cy="45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8720" y="5992920"/>
                    <a:ext cx="248904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otes on Impuls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s always occur as action-reaction pairs (according to Newton’s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relationship is observed in many “real world”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bile safe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h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mple z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rofoam spa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nis: racket string 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ball: “juiced” baseballs &amp; baseball bats (corked &amp; aluminum vs. w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f: the “spring-like” effect of golf club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ing gloves: (lower impulsive forces in the h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A Superman Proble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well known that bullets and missiles bounce off Superman’s chest.  Suppose a bad guy sprays Superman’s chest with 0.003 kg bullets traveling at a speed of 300 m/s (fired from a machine gun at a rate of 100 rounds/min).  Each bullet bounces straight back with no loss in spe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What is the impulse exerted on Superman’s chest by a single bull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 is the average force exerted by the stream of bullets on Superman’s ch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176640" y="2637000"/>
            <a:ext cx="2790720" cy="1951920"/>
            <a:chOff x="3176640" y="2637000"/>
            <a:chExt cx="2790720" cy="1951920"/>
          </a:xfrm>
        </p:grpSpPr>
        <p:sp>
          <p:nvSpPr>
            <p:cNvPr id="75" name=""/>
            <p:cNvSpPr/>
            <p:nvPr/>
          </p:nvSpPr>
          <p:spPr>
            <a:xfrm>
              <a:off x="3268800" y="2637000"/>
              <a:ext cx="2698560" cy="19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7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76640" y="3048120"/>
              <a:ext cx="18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80520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520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3144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llision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61720" y="849240"/>
            <a:ext cx="8645400" cy="59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fic type of interaction between 2 objects.  The basic assumptions of a coll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is short lived compared to the time of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latively large force acts on each colliding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on of one or both objects changes abruptly following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lean separation between the state of the object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sion vs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classifications for colli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ectly elasti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ding objects bounce off each other and no energy is lost due to heat formation or deformation 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er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ectly inelasti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ding objects stick together 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conser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6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what inela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asically all other type of collisions): KE is not con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692440" y="4192560"/>
            <a:ext cx="6243480" cy="774360"/>
            <a:chOff x="2692440" y="4192560"/>
            <a:chExt cx="6243480" cy="774360"/>
          </a:xfrm>
        </p:grpSpPr>
        <p:grpSp>
          <p:nvGrpSpPr>
            <p:cNvPr id="83" name=""/>
            <p:cNvGrpSpPr/>
            <p:nvPr/>
          </p:nvGrpSpPr>
          <p:grpSpPr>
            <a:xfrm>
              <a:off x="2692440" y="4205520"/>
              <a:ext cx="2674800" cy="761400"/>
              <a:chOff x="2692440" y="4205520"/>
              <a:chExt cx="2674800" cy="761400"/>
            </a:xfrm>
          </p:grpSpPr>
          <p:sp>
            <p:nvSpPr>
              <p:cNvPr id="84" name=""/>
              <p:cNvSpPr/>
              <p:nvPr/>
            </p:nvSpPr>
            <p:spPr>
              <a:xfrm>
                <a:off x="2692440" y="4205520"/>
                <a:ext cx="653760" cy="36828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373640" y="4206960"/>
                <a:ext cx="653760" cy="368280"/>
              </a:xfrm>
              <a:prstGeom prst="rect">
                <a:avLst/>
              </a:prstGeom>
              <a:solidFill>
                <a:srgbClr val="cc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448080" y="439092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035160" y="4753080"/>
                <a:ext cx="496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8" name=""/>
              <p:cNvGraphicFramePr/>
              <p:nvPr/>
            </p:nvGraphicFramePr>
            <p:xfrm>
              <a:off x="2755800" y="4589640"/>
              <a:ext cx="330120" cy="370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55800" y="4589640"/>
                        <a:ext cx="330120" cy="370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 flipV="1">
                <a:off x="4647960" y="4746600"/>
                <a:ext cx="268560" cy="12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1" name=""/>
              <p:cNvGraphicFramePr/>
              <p:nvPr/>
            </p:nvGraphicFramePr>
            <p:xfrm>
              <a:off x="4368600" y="4595760"/>
              <a:ext cx="330480" cy="371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368600" y="4595760"/>
                        <a:ext cx="330480" cy="37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" name=""/>
              <p:cNvSpPr/>
              <p:nvPr/>
            </p:nvSpPr>
            <p:spPr>
              <a:xfrm>
                <a:off x="5111640" y="4378320"/>
                <a:ext cx="255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6261120" y="4192560"/>
              <a:ext cx="654120" cy="368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37400" y="4194360"/>
              <a:ext cx="654120" cy="3682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950240" y="4740480"/>
              <a:ext cx="496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6315120" y="4577040"/>
            <a:ext cx="350640" cy="371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15120" y="4577040"/>
                      <a:ext cx="350640" cy="37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 flipV="1">
              <a:off x="6642000" y="4746600"/>
              <a:ext cx="268200" cy="12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7612200" y="4583160"/>
            <a:ext cx="371160" cy="371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12200" y="4583160"/>
                      <a:ext cx="37116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6978600" y="4391280"/>
              <a:ext cx="25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24560" y="4368960"/>
              <a:ext cx="507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75760" y="4378320"/>
              <a:ext cx="560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730600" y="5425920"/>
            <a:ext cx="5570280" cy="772920"/>
            <a:chOff x="2730600" y="5425920"/>
            <a:chExt cx="5570280" cy="772920"/>
          </a:xfrm>
        </p:grpSpPr>
        <p:sp>
          <p:nvSpPr>
            <p:cNvPr id="106" name=""/>
            <p:cNvSpPr/>
            <p:nvPr/>
          </p:nvSpPr>
          <p:spPr>
            <a:xfrm>
              <a:off x="6548400" y="5425920"/>
              <a:ext cx="654120" cy="3682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07200" y="5427360"/>
              <a:ext cx="654120" cy="36828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43760" y="560988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11960" y="5600520"/>
              <a:ext cx="507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730600" y="5437080"/>
              <a:ext cx="2674800" cy="761400"/>
              <a:chOff x="2730600" y="5437080"/>
              <a:chExt cx="2674800" cy="761400"/>
            </a:xfrm>
          </p:grpSpPr>
          <p:sp>
            <p:nvSpPr>
              <p:cNvPr id="111" name=""/>
              <p:cNvSpPr/>
              <p:nvPr/>
            </p:nvSpPr>
            <p:spPr>
              <a:xfrm>
                <a:off x="2730600" y="5437080"/>
                <a:ext cx="653760" cy="36828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411800" y="5438520"/>
                <a:ext cx="653760" cy="368280"/>
              </a:xfrm>
              <a:prstGeom prst="rect">
                <a:avLst/>
              </a:prstGeom>
              <a:solidFill>
                <a:srgbClr val="cc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86240" y="56224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073320" y="5984640"/>
                <a:ext cx="496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15" name=""/>
              <p:cNvGraphicFramePr/>
              <p:nvPr/>
            </p:nvGraphicFramePr>
            <p:xfrm>
              <a:off x="2793960" y="5821200"/>
              <a:ext cx="330120" cy="370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16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2793960" y="5821200"/>
                        <a:ext cx="330120" cy="370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7" name=""/>
              <p:cNvSpPr/>
              <p:nvPr/>
            </p:nvSpPr>
            <p:spPr>
              <a:xfrm flipV="1">
                <a:off x="4686120" y="5978160"/>
                <a:ext cx="268560" cy="122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18" name=""/>
              <p:cNvGraphicFramePr/>
              <p:nvPr/>
            </p:nvGraphicFramePr>
            <p:xfrm>
              <a:off x="4406760" y="5827320"/>
              <a:ext cx="330480" cy="3711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19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406760" y="5827320"/>
                        <a:ext cx="330480" cy="37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0" name=""/>
              <p:cNvSpPr/>
              <p:nvPr/>
            </p:nvSpPr>
            <p:spPr>
              <a:xfrm>
                <a:off x="5149800" y="5609880"/>
                <a:ext cx="255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112160" y="5984640"/>
              <a:ext cx="801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6649920" y="5827680"/>
            <a:ext cx="619200" cy="371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649920" y="5827680"/>
                      <a:ext cx="619200" cy="37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nservation of Linear Momentu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5240" y="1397160"/>
            <a:ext cx="8723160" cy="39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total linear momentum of a system will remain constant when n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t force acts upon the system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momentum vectors may change due to collisions, etc. but the linear momentum for the system remain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solving collision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all information is not known/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implify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Momentum is even more fundamental than Newton’s Law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16120" y="2116080"/>
          <a:ext cx="728172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2116080"/>
                    <a:ext cx="72817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nservation of Momentum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(Example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llistic pend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body collis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 can’t solve 3-body systems…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ly inelastic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re-collis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≠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ost-coll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ly elastic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re-collis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ost-coll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s in 2-D or 3-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momentum is conserved by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46280" y="4950000"/>
          <a:ext cx="696132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4950000"/>
                    <a:ext cx="69613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963720" y="3914640"/>
          <a:ext cx="60912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3720" y="3914640"/>
                    <a:ext cx="60912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276720" y="2044800"/>
          <a:ext cx="91440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620720" y="5769000"/>
          <a:ext cx="6896160" cy="5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0720" y="5769000"/>
                    <a:ext cx="68961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276720" y="2044800"/>
          <a:ext cx="914400" cy="19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otes on Collisions &amp; Forc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944640"/>
            <a:ext cx="853416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collisions, the forces gener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 in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call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ulsive forc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impact forces or collision fo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vary in intensity/magnitude during the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escribed by an average collision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lf club collides with a 0.1 kg golf ball (initially at rest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0.01s.  The velocity of the ball following the impact is 25 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mpulse exerted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ll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impulsive force exerted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impulsive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rted o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12920" y="2736720"/>
          <a:ext cx="384984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2920" y="2736720"/>
                    <a:ext cx="38498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474920" y="4432320"/>
          <a:ext cx="63388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4920" y="4432320"/>
                    <a:ext cx="6338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2205000" y="5246640"/>
          <a:ext cx="421812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5000" y="5246640"/>
                    <a:ext cx="42181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178000" y="6118200"/>
          <a:ext cx="439740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78000" y="6118200"/>
                    <a:ext cx="43974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26T17:54:09Z</dcterms:modified>
  <cp:revision>45</cp:revision>
  <dc:subject/>
  <dc:title>Phy 211: General Physics I</dc:title>
</cp:coreProperties>
</file>