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238E50-E1A8-47AB-B427-C616F19AD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be thought of as a single object consisting of a collection of atoms/molecules that are grouped to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237-D079-4762-9E05-40552021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586-287C-46A2-8AB5-910B8D10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103-BE84-43CE-B7DB-C0D8C645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774-AFD1-4B35-BA9F-05FC624C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A78-F9F3-4BAC-94E2-0030863B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2CE-D801-4252-ACE5-BB1321DE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BED-9B9C-42CA-B071-03B47766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853-BFA5-4BCE-8EE2-2BB4DAF9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5D4-8E24-485B-BF0D-FE37CBCB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DE2-8D04-4D25-BBF3-7B23841B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6CE-9D1E-4559-9148-B221F126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FAF-6AD5-48D9-AEF3-920AC469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1EF4-F1CC-4FF6-B374-BDC688768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5440" y="3886200"/>
            <a:ext cx="802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: Momentum &amp; Impu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enter of Mas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nter of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) refers to the average location of mass for a defined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center of mass, take the sum of each mass multiplied by its position vector and divide by the total mass of the system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if the objects in the system are in motion, the velocity of the system (center of mass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e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all bodies even if they are changing individually will always have values such tha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29080" y="870120"/>
          <a:ext cx="37764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9080" y="870120"/>
                    <a:ext cx="3776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90560" y="2379600"/>
          <a:ext cx="6478560" cy="12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2379600"/>
                    <a:ext cx="647856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06360" y="4186080"/>
          <a:ext cx="5605560" cy="117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6360" y="4186080"/>
                    <a:ext cx="56055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ne Descart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333080"/>
            <a:ext cx="6154560" cy="39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French mathematician &amp; philoso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oward end of Galileo’s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the nature of collisions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troduced the concept of momentum (called it “vis-à-vis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fined “vis-à-vis” as the produc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e Law of Conservation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65720" y="1447920"/>
            <a:ext cx="2708280" cy="2625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400800" y="405144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ach problem that I solved became a rule which served afterwards to solve other problem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5240" y="1131840"/>
            <a:ext cx="872316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momentum (    ) represents inertia in mo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ton described momentum as the “quantity of mo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ptuall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flects the effort required to bring a moving object to rest depends not only on its mass (inertia) but also on how fast it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ity with the same direction as the object’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s are k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ton’s 1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Law revis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omentum of an object will remain constant unless it is acted upon by a net force (or impu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60440" y="2911320"/>
          <a:ext cx="1535400" cy="5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2911320"/>
                    <a:ext cx="153540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506760" y="1117440"/>
          <a:ext cx="30492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6760" y="1117440"/>
                    <a:ext cx="304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Impulse-Momentum Theor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, can be rewritten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rranging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the Net (or average) Impuls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Impulse associated with an applied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impulse ar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presents simultaneous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duct of the force times the 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linear momentum of the obj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60280" y="1281240"/>
          <a:ext cx="8729640" cy="77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281240"/>
                    <a:ext cx="87296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853920" y="2459160"/>
          <a:ext cx="713772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920" y="2459160"/>
                    <a:ext cx="7137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673280" y="3867120"/>
          <a:ext cx="219528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3867120"/>
                    <a:ext cx="219528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734080" y="5410080"/>
          <a:ext cx="129384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4080" y="5410080"/>
                    <a:ext cx="1293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408720" y="5992920"/>
          <a:ext cx="2489040" cy="45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8720" y="5992920"/>
                    <a:ext cx="24890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Impuls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s always occur as action-reaction pairs (according to Newton’s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lationship is observed in many “real world”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bile safe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h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mple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sp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: racket string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: “juiced” baseballs &amp; baseball bats (corked &amp; aluminum vs. w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f: the “spring-like” effect of golf club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ing gloves: (lower impulsive forces in the h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 Superman Probl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ell known that bullets and missiles bounce off Superman’s chest.  Suppose a bad guy sprays Superman’s chest with 0.003 kg bullets traveling at a speed of 300 m/s (fired from a machine gun at a rate of 100 rounds/min).  Each bullet bounces straight back with no loss in spe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 is the impulse exerted on Superman’s chest by a single bull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average force exerted by the stream of bullets on Superman’s ch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176640" y="2637000"/>
            <a:ext cx="2790720" cy="1951920"/>
            <a:chOff x="3176640" y="2637000"/>
            <a:chExt cx="2790720" cy="1951920"/>
          </a:xfrm>
        </p:grpSpPr>
        <p:sp>
          <p:nvSpPr>
            <p:cNvPr id="75" name=""/>
            <p:cNvSpPr/>
            <p:nvPr/>
          </p:nvSpPr>
          <p:spPr>
            <a:xfrm>
              <a:off x="3268800" y="2637000"/>
              <a:ext cx="2698560" cy="19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76640" y="3048120"/>
              <a:ext cx="18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144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llis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1720" y="849240"/>
            <a:ext cx="8645400" cy="59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fic type of interaction between 2 objects.  The basic assumptions of a coll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is short lived compared to the time of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latively large force acts on each collid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one or both objects changes abruptly following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lean separation between the state of the objec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 v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lassifications for coll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bounce off each other and no energy is lost due to heat formation or deformation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in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stick together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what ine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sically all other type of collisions): KE is not con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692440" y="4192560"/>
            <a:ext cx="6243480" cy="774360"/>
            <a:chOff x="2692440" y="4192560"/>
            <a:chExt cx="6243480" cy="774360"/>
          </a:xfrm>
        </p:grpSpPr>
        <p:grpSp>
          <p:nvGrpSpPr>
            <p:cNvPr id="83" name=""/>
            <p:cNvGrpSpPr/>
            <p:nvPr/>
          </p:nvGrpSpPr>
          <p:grpSpPr>
            <a:xfrm>
              <a:off x="2692440" y="4205520"/>
              <a:ext cx="2674800" cy="761400"/>
              <a:chOff x="2692440" y="4205520"/>
              <a:chExt cx="2674800" cy="761400"/>
            </a:xfrm>
          </p:grpSpPr>
          <p:sp>
            <p:nvSpPr>
              <p:cNvPr id="84" name=""/>
              <p:cNvSpPr/>
              <p:nvPr/>
            </p:nvSpPr>
            <p:spPr>
              <a:xfrm>
                <a:off x="2692440" y="4205520"/>
                <a:ext cx="653760" cy="3682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73640" y="4206960"/>
                <a:ext cx="653760" cy="36828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448080" y="439092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035160" y="4753080"/>
                <a:ext cx="496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8" name=""/>
              <p:cNvGraphicFramePr/>
              <p:nvPr/>
            </p:nvGraphicFramePr>
            <p:xfrm>
              <a:off x="2755800" y="4589640"/>
              <a:ext cx="330120" cy="370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55800" y="4589640"/>
                        <a:ext cx="330120" cy="37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 flipV="1">
                <a:off x="4647960" y="4746600"/>
                <a:ext cx="268560" cy="12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1" name=""/>
              <p:cNvGraphicFramePr/>
              <p:nvPr/>
            </p:nvGraphicFramePr>
            <p:xfrm>
              <a:off x="4368600" y="4595760"/>
              <a:ext cx="330480" cy="371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68600" y="4595760"/>
                        <a:ext cx="330480" cy="37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" name=""/>
              <p:cNvSpPr/>
              <p:nvPr/>
            </p:nvSpPr>
            <p:spPr>
              <a:xfrm>
                <a:off x="5111640" y="4378320"/>
                <a:ext cx="25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261120" y="4192560"/>
              <a:ext cx="654120" cy="368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7400" y="4194360"/>
              <a:ext cx="65412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50240" y="4740480"/>
              <a:ext cx="496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315120" y="4577040"/>
            <a:ext cx="350640" cy="371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15120" y="4577040"/>
                      <a:ext cx="350640" cy="37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 flipV="1">
              <a:off x="6642000" y="4746600"/>
              <a:ext cx="268200" cy="12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7612200" y="4583160"/>
            <a:ext cx="371160" cy="371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12200" y="4583160"/>
                      <a:ext cx="37116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6978600" y="4391280"/>
              <a:ext cx="25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4560" y="4368960"/>
              <a:ext cx="507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75760" y="4378320"/>
              <a:ext cx="56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30600" y="5425920"/>
            <a:ext cx="5570280" cy="772920"/>
            <a:chOff x="2730600" y="5425920"/>
            <a:chExt cx="5570280" cy="772920"/>
          </a:xfrm>
        </p:grpSpPr>
        <p:sp>
          <p:nvSpPr>
            <p:cNvPr id="106" name=""/>
            <p:cNvSpPr/>
            <p:nvPr/>
          </p:nvSpPr>
          <p:spPr>
            <a:xfrm>
              <a:off x="6548400" y="5425920"/>
              <a:ext cx="654120" cy="368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07200" y="5427360"/>
              <a:ext cx="65412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43760" y="56098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11960" y="5600520"/>
              <a:ext cx="507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730600" y="5437080"/>
              <a:ext cx="2674800" cy="761400"/>
              <a:chOff x="2730600" y="5437080"/>
              <a:chExt cx="2674800" cy="76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2730600" y="5437080"/>
                <a:ext cx="653760" cy="3682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411800" y="5438520"/>
                <a:ext cx="653760" cy="36828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86240" y="562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73320" y="5984640"/>
                <a:ext cx="496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5" name=""/>
              <p:cNvGraphicFramePr/>
              <p:nvPr/>
            </p:nvGraphicFramePr>
            <p:xfrm>
              <a:off x="2793960" y="5821200"/>
              <a:ext cx="330120" cy="370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793960" y="5821200"/>
                        <a:ext cx="330120" cy="37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" name=""/>
              <p:cNvSpPr/>
              <p:nvPr/>
            </p:nvSpPr>
            <p:spPr>
              <a:xfrm flipV="1">
                <a:off x="4686120" y="5978160"/>
                <a:ext cx="268560" cy="12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8" name=""/>
              <p:cNvGraphicFramePr/>
              <p:nvPr/>
            </p:nvGraphicFramePr>
            <p:xfrm>
              <a:off x="4406760" y="5827320"/>
              <a:ext cx="330480" cy="3711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406760" y="5827320"/>
                        <a:ext cx="330480" cy="37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0" name=""/>
              <p:cNvSpPr/>
              <p:nvPr/>
            </p:nvSpPr>
            <p:spPr>
              <a:xfrm>
                <a:off x="5149800" y="5609880"/>
                <a:ext cx="25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12160" y="5984640"/>
              <a:ext cx="801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6649920" y="5827680"/>
            <a:ext cx="619200" cy="37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49920" y="5827680"/>
                      <a:ext cx="619200" cy="37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5240" y="1397160"/>
            <a:ext cx="8723160" cy="39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total linear momentum of a system will remain constant when n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t force acts upon the system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omentum vectors may change due to collisions, etc. but the linear momentum for the system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olving collisio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ll information is not known/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implify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omentum is even more fundamental than Newton’s Law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16120" y="2116080"/>
          <a:ext cx="72817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116080"/>
                    <a:ext cx="72817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Momentum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listic pend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body collis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can’t solve 3-body systems…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in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s in 2-D or 3-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mentum is conserved b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46280" y="4950000"/>
          <a:ext cx="696132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50000"/>
                    <a:ext cx="6961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63720" y="3914640"/>
          <a:ext cx="60912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3914640"/>
                    <a:ext cx="6091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620720" y="5769000"/>
          <a:ext cx="689616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0720" y="5769000"/>
                    <a:ext cx="689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Collisions &amp;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944640"/>
            <a:ext cx="853416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collisions, the forces gen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 in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ive for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impact forces or collision fo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vary in intensity/magnitude during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escribed by an average collision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lf club collides with a 0.1 kg golf ball (initially at rest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0.01s.  The velocity of the ball following the impact is 2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ulse exerte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l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 exerted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rted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12920" y="2736720"/>
          <a:ext cx="38498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2736720"/>
                    <a:ext cx="38498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474920" y="4432320"/>
          <a:ext cx="6338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4432320"/>
                    <a:ext cx="6338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205000" y="5246640"/>
          <a:ext cx="42181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5000" y="5246640"/>
                    <a:ext cx="4218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178000" y="6118200"/>
          <a:ext cx="4397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8000" y="6118200"/>
                    <a:ext cx="4397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6T17:54:09Z</dcterms:modified>
  <cp:revision>45</cp:revision>
  <dc:subject/>
  <dc:title>Phy 211: General Physics I</dc:title>
</cp:coreProperties>
</file>