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jpeg" ContentType="image/jpeg"/>
  <Override PartName="/ppt/media/image2.wmf" ContentType="image/x-wmf"/>
  <Override PartName="/ppt/media/image32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5.wmf" ContentType="image/x-wmf"/>
  <Override PartName="/ppt/media/image26.wmf" ContentType="image/x-wmf"/>
  <Override PartName="/ppt/media/image3.wmf" ContentType="image/x-wmf"/>
  <Override PartName="/ppt/media/image29.jpeg" ContentType="image/jpeg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41.wmf" ContentType="image/x-wmf"/>
  <Override PartName="/ppt/media/image30.wmf" ContentType="image/x-wmf"/>
  <Override PartName="/ppt/media/image42.wmf" ContentType="image/x-wmf"/>
  <Override PartName="/ppt/media/image31.wmf" ContentType="image/x-wmf"/>
  <Override PartName="/ppt/media/image40.wmf" ContentType="image/x-wmf"/>
  <Override PartName="/ppt/media/image43.wmf" ContentType="image/x-wmf"/>
  <Override PartName="/ppt/media/image53.jpeg" ContentType="image/jpeg"/>
  <Override PartName="/ppt/media/image44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39.wmf" ContentType="image/x-wmf"/>
  <Override PartName="/ppt/media/image9.wmf" ContentType="image/x-wmf"/>
  <Override PartName="/ppt/media/image13.wmf" ContentType="image/x-wmf"/>
  <Override PartName="/ppt/media/image52.png" ContentType="image/png"/>
  <Override PartName="/ppt/media/image5.wmf" ContentType="image/x-wmf"/>
  <Override PartName="/ppt/media/image35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6.wmf" ContentType="image/x-wmf"/>
  <Override PartName="/ppt/media/image3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24B88-4E0A-4727-9D4F-B7EDA12250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o be 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this exam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even for a variable force, the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verag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ce exerted over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is used to determine 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AC83-03ED-4F52-8C0C-4E8E7A1CE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56FE-7A12-40E0-9E17-E32C127F0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5E55-7DAC-4495-9F9A-063F1FED6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4100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300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22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4100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300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7DD1-BD85-45BB-9A99-F7E6FCD47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C184-C6C6-431B-B924-DDE2390B8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510E-CCCE-4F3A-9E88-89F6FC421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6489-83F3-4E64-BE1A-CA3DC6A51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201C-29AE-47B9-AACA-71B294573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375840"/>
            <a:ext cx="8229600" cy="27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7E72-1DE2-4B0D-81D0-BA0757CB5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8F23-F95B-49F0-B6D5-0527A9915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C427-ADCD-4831-9787-34035C3B7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9987-4F93-4318-893A-9469F5FA1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16592-B526-4E99-93FD-12FCD71111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14560" cy="3715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114560" y="0"/>
            <a:ext cx="8029440" cy="3636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image" Target="../media/image29.jpe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2.wmf"/><Relationship Id="rId10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6.wmf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2.wmf"/><Relationship Id="rId1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6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1.wmf"/><Relationship Id="rId1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scienceworld.wolfram.com/biography/photo-credits.html" TargetMode="External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7.wmf"/><Relationship Id="rId1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wmf"/><Relationship Id="rId1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6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7.wmf"/><Relationship Id="rId1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Phy 201: General Physics I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6: Work &amp;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57320" y="4765680"/>
            <a:ext cx="8156520" cy="17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I unit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Watt (1 W = 1 J/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is also related to Force &amp; 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Power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51847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is a measure of work effectiv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is the time rate of energy transfer (work) due to an exerted for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Pow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Net Pow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305400" y="2027160"/>
          <a:ext cx="102888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5400" y="2027160"/>
                    <a:ext cx="102888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568840" y="942840"/>
            <a:ext cx="3346560" cy="259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5" name=""/>
          <p:cNvGraphicFramePr/>
          <p:nvPr/>
        </p:nvGraphicFramePr>
        <p:xfrm>
          <a:off x="2540160" y="2817720"/>
          <a:ext cx="1353960" cy="743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40160" y="2817720"/>
                    <a:ext cx="135396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1936800" y="5697360"/>
          <a:ext cx="3979800" cy="827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36800" y="5697360"/>
                    <a:ext cx="3979800" cy="8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2846520" y="3805200"/>
          <a:ext cx="2668320" cy="7952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846520" y="3805200"/>
                    <a:ext cx="2668320" cy="7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Power (cont.)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ame work output can be performed at various power rat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1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sider 100 J of work output accomplished over 2 different time interv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100 J over 1 s: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9966"/>
                </a:solidFill>
                <a:latin typeface="Arial"/>
              </a:rPr>
              <a:t>100 J over 100 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2a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 900 kg automobile accelerates from 0 to 30 m/s in 5.8 s.  What is the average net pow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2b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the 30 m/s, how much force does the road exert on this vehicle? Use the same power as 2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2138400" y="2511360"/>
          <a:ext cx="2295360" cy="69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8400" y="2511360"/>
                    <a:ext cx="2295360" cy="6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6983280" y="2489040"/>
          <a:ext cx="2160720" cy="754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83280" y="2489040"/>
                    <a:ext cx="2160720" cy="7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345960" y="4113360"/>
          <a:ext cx="8445600" cy="898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5960" y="4113360"/>
                    <a:ext cx="8445600" cy="89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512640" y="5861160"/>
          <a:ext cx="7437600" cy="844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2640" y="5861160"/>
                    <a:ext cx="7437600" cy="84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onservative vs. Nonconservative Force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onservative For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4000" indent="-5382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he configuration of a system is altered, a force performs work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W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 Reversing the configuration of the system results in the force performing work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W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 The force is conservative if: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W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= -W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4000" indent="-5382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orce that performs work independent of the path taken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4000" indent="-538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orce in which the net work it performs around a closed path is always zero 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40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W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net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= 0 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for closed path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vitational force (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ff0066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Elastic force (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ff0066"/>
                </a:solidFill>
                <a:latin typeface="Arial"/>
              </a:rPr>
              <a:t>spr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and Electric force (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Nonconservative For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4000" indent="-5382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work performed by the force depends on the path ta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4000" indent="-5382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he configuration of a system is altered then reversed, the net work performed by the force is not zero: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W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net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≠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0 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for closed path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4000" indent="-538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performed results in energy transformed to thermal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r Drag (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ff0066"/>
                </a:solidFill>
                <a:latin typeface="Arial"/>
              </a:rPr>
              <a:t>Dra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and Kinetic friction (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ff0066"/>
                </a:solidFill>
                <a:latin typeface="Arial"/>
              </a:rPr>
              <a:t>kinet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89000" y="3747960"/>
            <a:ext cx="8897760" cy="28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Example: 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With Kinetic Friction (nonconservative for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1 kg object (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5 m/s) travels up a 3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cline and back down against a 1.7 N kinetic friction force.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ote:  Block will not travel up as far as previous exa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rformed by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up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ow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rformed by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own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otal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rform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Sliding on an Incline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51920" y="1036440"/>
            <a:ext cx="7999560" cy="27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xample: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No friction (conservative for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1 kg object (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5 m/s) travels up a 3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cline and back dow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 The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rformed by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up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The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rformed by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own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The total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rform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1157400" y="2041560"/>
          <a:ext cx="3843360" cy="5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7400" y="2041560"/>
                    <a:ext cx="384336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8" name=""/>
          <p:cNvGrpSpPr/>
          <p:nvPr/>
        </p:nvGrpSpPr>
        <p:grpSpPr>
          <a:xfrm>
            <a:off x="6122160" y="1635120"/>
            <a:ext cx="2817000" cy="1487520"/>
            <a:chOff x="6122160" y="1635120"/>
            <a:chExt cx="2817000" cy="1487520"/>
          </a:xfrm>
        </p:grpSpPr>
        <p:sp>
          <p:nvSpPr>
            <p:cNvPr id="209" name=""/>
            <p:cNvSpPr/>
            <p:nvPr/>
          </p:nvSpPr>
          <p:spPr>
            <a:xfrm flipH="1">
              <a:off x="6319800" y="1635120"/>
              <a:ext cx="2619360" cy="1487520"/>
            </a:xfrm>
            <a:prstGeom prst="rtTriangl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9739400">
              <a:off x="6181560" y="2610000"/>
              <a:ext cx="511200" cy="372960"/>
            </a:xfrm>
            <a:prstGeom prst="rect">
              <a:avLst/>
            </a:prstGeom>
            <a:solidFill>
              <a:srgbClr val="ff00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6753240" y="1836720"/>
              <a:ext cx="1519200" cy="83664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6707160" y="1697040"/>
              <a:ext cx="1471680" cy="80640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3" name=""/>
            <p:cNvCxnSpPr>
              <a:stCxn id="211" idx="0"/>
              <a:endCxn id="212" idx="0"/>
            </p:cNvCxnSpPr>
            <p:nvPr/>
          </p:nvCxnSpPr>
          <p:spPr>
            <a:xfrm flipV="1" rot="16200000">
              <a:off x="8155440" y="1720800"/>
              <a:ext cx="141840" cy="92880"/>
            </a:xfrm>
            <a:prstGeom prst="curvedConnector5">
              <a:avLst>
                <a:gd name="adj1" fmla="val 96437"/>
                <a:gd name="adj2" fmla="val 49805"/>
                <a:gd name="adj3" fmla="val 96437"/>
              </a:avLst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</p:cxnSp>
      </p:grpSp>
      <p:graphicFrame>
        <p:nvGraphicFramePr>
          <p:cNvPr id="214" name=""/>
          <p:cNvGraphicFramePr/>
          <p:nvPr/>
        </p:nvGraphicFramePr>
        <p:xfrm>
          <a:off x="1181160" y="2787480"/>
          <a:ext cx="4309920" cy="53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1160" y="2787480"/>
                    <a:ext cx="430992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3468600" y="3279600"/>
          <a:ext cx="4376880" cy="459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68600" y="3279600"/>
                    <a:ext cx="4376880" cy="4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1254240" y="5116680"/>
          <a:ext cx="5438520" cy="399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54240" y="5116680"/>
                    <a:ext cx="543852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1241280" y="5805360"/>
          <a:ext cx="5407200" cy="390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241280" y="5805360"/>
                    <a:ext cx="540720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1192320" y="6454800"/>
          <a:ext cx="6953040" cy="407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192320" y="6454800"/>
                    <a:ext cx="695304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Defining or Identifying a System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2280" y="936720"/>
            <a:ext cx="883944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1680" indent="-3016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ystem is a defined object (or group of objects) that are considered distinct from the rest of its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 defined syst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30636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forces associated strictly with objects within the defined system are deemed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internal fo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08160" indent="-27936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Internal forces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do not transfer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energy into/out of the system when performing work within th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Arial"/>
              </a:rPr>
              <a:t>Example:</a:t>
            </a:r>
            <a:r>
              <a:rPr b="0" lang="en-US" sz="1600" spc="-1" strike="noStrike">
                <a:solidFill>
                  <a:srgbClr val="990033"/>
                </a:solidFill>
                <a:latin typeface="Arial"/>
              </a:rPr>
              <a:t>  The attractive forces that hold the atoms of a ball together.  These forces are ignored when applying Newton’s 2</a:t>
            </a:r>
            <a:r>
              <a:rPr b="0" lang="en-US" sz="1600" spc="-1" strike="noStrike" baseline="30000">
                <a:solidFill>
                  <a:srgbClr val="990033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990033"/>
                </a:solidFill>
                <a:latin typeface="Arial"/>
              </a:rPr>
              <a:t> Law to the ba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30636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forces exerted from outside the defined system are deemed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external fo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08160" indent="-27936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External forces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transfer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energy into/out of the system when performing work on a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Arial"/>
              </a:rPr>
              <a:t>Example:</a:t>
            </a:r>
            <a:r>
              <a:rPr b="0" lang="en-US" sz="1600" spc="-1" strike="noStrike">
                <a:solidFill>
                  <a:srgbClr val="990033"/>
                </a:solidFill>
                <a:latin typeface="Arial"/>
              </a:rPr>
              <a:t>  The gravitational force that performs work on a falling object (the system) increases the ball system’s (kinetic) energ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33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990033"/>
                </a:solidFill>
                <a:latin typeface="Arial"/>
              </a:rPr>
              <a:t>Note: </a:t>
            </a:r>
            <a:r>
              <a:rPr b="0" lang="en-US" sz="1600" spc="-1" strike="noStrike">
                <a:solidFill>
                  <a:srgbClr val="990033"/>
                </a:solidFill>
                <a:latin typeface="Arial"/>
              </a:rPr>
              <a:t> When the ball </a:t>
            </a:r>
            <a:r>
              <a:rPr b="1" lang="en-US" sz="1600" spc="-1" strike="noStrike" u="sng">
                <a:solidFill>
                  <a:srgbClr val="990033"/>
                </a:solidFill>
                <a:uFillTx/>
                <a:latin typeface="Arial"/>
              </a:rPr>
              <a:t>and</a:t>
            </a:r>
            <a:r>
              <a:rPr b="0" lang="en-US" sz="1600" spc="-1" strike="noStrike">
                <a:solidFill>
                  <a:srgbClr val="990033"/>
                </a:solidFill>
                <a:latin typeface="Arial"/>
              </a:rPr>
              <a:t> the earth are together defined as the system, the work performed by the gravitational force on the ball does NOT transfer energy into the syst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ppropriate of a system determines when a force is considered internal or external &amp; can go a long way toward simplifying the analysis of a physics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otal energy associated with a defined syst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1728720" y="6213600"/>
          <a:ext cx="5438880" cy="48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28720" y="6213600"/>
                    <a:ext cx="5438880" cy="48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Work Done on a System by External Force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defined system,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external for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forces that are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not defin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in the system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yet perform work up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rnal forces transfer energy into or out of a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servati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xternal forces alter the U and K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.k.a. the mechanical energy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a syste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onconservati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xternal forces may alter the mechanical energ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U, K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s well as the non-mechanical energ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ff0066"/>
                </a:solidFill>
                <a:latin typeface="Arial"/>
              </a:rPr>
              <a:t>intern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/or 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ff0066"/>
                </a:solidFill>
                <a:latin typeface="Arial"/>
              </a:rPr>
              <a:t>thermal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a syste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2041560" y="2298600"/>
          <a:ext cx="5432400" cy="91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41560" y="2298600"/>
                    <a:ext cx="5432400" cy="9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2027160" y="3978360"/>
          <a:ext cx="4137120" cy="5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27160" y="3978360"/>
                    <a:ext cx="413712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2050920" y="5772240"/>
          <a:ext cx="6510600" cy="490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50920" y="5772240"/>
                    <a:ext cx="6510600" cy="49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onservation of Energy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55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general, the total energy associated with a system of objects represents the complete state of the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represents the transfer of energy into/out of a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n isolated system, the total energy within a system remains a constant val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, for any 2 mo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ing only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echanical energ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996920" y="1819440"/>
          <a:ext cx="4876920" cy="46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96920" y="1819440"/>
                    <a:ext cx="487692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1387440" y="2736720"/>
          <a:ext cx="6694560" cy="47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87440" y="2736720"/>
                    <a:ext cx="669456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1576440" y="3971880"/>
          <a:ext cx="6021360" cy="430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6440" y="3971880"/>
                    <a:ext cx="602136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460440" y="4910040"/>
          <a:ext cx="8459640" cy="424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0440" y="4910040"/>
                    <a:ext cx="8459640" cy="4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720720" y="5846760"/>
          <a:ext cx="7143840" cy="476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20720" y="5846760"/>
                    <a:ext cx="714384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"/>
          <p:cNvSpPr/>
          <p:nvPr/>
        </p:nvSpPr>
        <p:spPr>
          <a:xfrm>
            <a:off x="5700600" y="6216480"/>
            <a:ext cx="286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Conservation of Mechanical Energ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Deeper Thoughts on Cons. of Energy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55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8920" indent="-358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ists have identified by experiment 3 fundamental conservation laws associated with isolated syste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9480" indent="-406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nservation of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9480" indent="-406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nservation of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9480" indent="-406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nservation of Electric Cha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ed as accepted “facts”, these laws have allowed for experimental predictions that would not have been foreseen otherwi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9480" indent="-4064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onservation of Energ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ed to the discovery of the neutrino during neutron decay within the atomic nucle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9480" indent="-4064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onservation of Ma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fundamental in the prediction of new substance formed during chemical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9480" indent="-4064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onservation of Electric Char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edicts the formation of neutrons do to the collision of protons with electrons, a process called Electron Captu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ed as accepted “facts”, these laws have allowed for experimental predictions that would not have been foreseen otherwi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Feynman on Energy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2720" y="1496520"/>
            <a:ext cx="7010280" cy="27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There is a fac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 or if you wish, a law,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governing natural phenomena that are known to date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There is no known exception to this law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t is exact so far we know.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The law is called conservation of energ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[it states that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there is a certain quantity, which we call energy that does not change in manifold changes which nature undergoe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]. That is a most abstract ide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Photograph"/>
          <p:cNvPicPr/>
          <p:nvPr/>
        </p:nvPicPr>
        <p:blipFill>
          <a:blip r:embed="rId1"/>
          <a:stretch/>
        </p:blipFill>
        <p:spPr>
          <a:xfrm>
            <a:off x="7242120" y="1182600"/>
            <a:ext cx="1571760" cy="222876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68400" y="4100400"/>
            <a:ext cx="8281800" cy="22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1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ecause it is a mathematical principle; it says that there is a numerical quantity, which does not change when something happens.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It is not a description of a mechanism, or anything concrete;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it is just a strange fact that we can calculate some number, and when we finish watching nature go through her tricks and calculate the number again, it is the same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918480" y="3484440"/>
            <a:ext cx="217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ichard Feynman (1918-198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James Prescott Joule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(1818-1889)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51920" y="1036800"/>
            <a:ext cx="6502680" cy="498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glish inventor &amp; scient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ested in the efficiency of electric mo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d the heat dissipated across a resistor in electrical circuit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ow known as Joules’ La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d that heat is produced by the motion of atoms and/or 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dited with establishing the mechanical energy equivalent of h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ipated in establishing the “Law of Energy Conserv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61240" y="1011240"/>
            <a:ext cx="2057400" cy="266688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6748560" y="3846600"/>
            <a:ext cx="23954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"It is evident that an acquaintance with natural laws means no less than </a:t>
            </a:r>
            <a:br>
              <a:rPr sz="1600"/>
            </a:b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an acquaintance with the mind of God therein expressed."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What is Energy?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280" y="1036440"/>
            <a:ext cx="8839440" cy="55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y is a scalar quantity associated with the state of an object (or system of objec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nergy is a calculated value that appears in nature and whose total quantity in a system always remains constant and accounted f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nergy is said to be “Conserved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sely speaking, energy represents the “fuel” necessary for changes to occur in the universe and is often referred to as the capacity to perform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think of energy as the “currency” associated with the “transactions” (forces!) that occur in na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n mechanical systems, energy is “spent” as force transactions are conduc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lternatively, the exertion of force requires an “expenditure” of ener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 units for energy are called Joules (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n honor of James Prescott Jo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Work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56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8920" indent="-358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describes the energy transferred to/from an object by the exertion of a fo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is essentially a measure of useful physical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efini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ndard for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ponent for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4222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Units for Work:  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4222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compari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575160" y="4876920"/>
          <a:ext cx="3627360" cy="47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5160" y="4876920"/>
                    <a:ext cx="362736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254400" y="3927600"/>
          <a:ext cx="4332240" cy="630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54400" y="3927600"/>
                    <a:ext cx="4332240" cy="63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0" name=""/>
          <p:cNvGrpSpPr/>
          <p:nvPr/>
        </p:nvGrpSpPr>
        <p:grpSpPr>
          <a:xfrm>
            <a:off x="430200" y="2349360"/>
            <a:ext cx="5194440" cy="725760"/>
            <a:chOff x="430200" y="2349360"/>
            <a:chExt cx="5194440" cy="725760"/>
          </a:xfrm>
        </p:grpSpPr>
        <p:sp>
          <p:nvSpPr>
            <p:cNvPr id="61" name=""/>
            <p:cNvSpPr/>
            <p:nvPr/>
          </p:nvSpPr>
          <p:spPr>
            <a:xfrm>
              <a:off x="1684440" y="2422440"/>
              <a:ext cx="1288800" cy="6318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430200" y="2673360"/>
              <a:ext cx="1181160" cy="2808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009960" y="2714760"/>
              <a:ext cx="261468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718920" y="2422440"/>
            <a:ext cx="349560" cy="3682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18920" y="2422440"/>
                      <a:ext cx="349560" cy="36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6" name=""/>
            <p:cNvGraphicFramePr/>
            <p:nvPr/>
          </p:nvGraphicFramePr>
          <p:xfrm>
            <a:off x="3755880" y="2349360"/>
            <a:ext cx="506520" cy="3495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55880" y="2349360"/>
                      <a:ext cx="506520" cy="34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8" name=""/>
            <p:cNvSpPr/>
            <p:nvPr/>
          </p:nvSpPr>
          <p:spPr>
            <a:xfrm>
              <a:off x="4322880" y="2443320"/>
              <a:ext cx="1288800" cy="631800"/>
            </a:xfrm>
            <a:prstGeom prst="rect">
              <a:avLst/>
            </a:prstGeom>
            <a:noFill/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5913360" y="2795760"/>
            <a:ext cx="2755800" cy="1037520"/>
            <a:chOff x="5913360" y="2795760"/>
            <a:chExt cx="2755800" cy="1037520"/>
          </a:xfrm>
        </p:grpSpPr>
        <p:sp>
          <p:nvSpPr>
            <p:cNvPr id="70" name=""/>
            <p:cNvSpPr/>
            <p:nvPr/>
          </p:nvSpPr>
          <p:spPr>
            <a:xfrm flipV="1">
              <a:off x="5938560" y="3063240"/>
              <a:ext cx="1244880" cy="3553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913360" y="3431880"/>
              <a:ext cx="275580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2" name=""/>
            <p:cNvGraphicFramePr/>
            <p:nvPr/>
          </p:nvGraphicFramePr>
          <p:xfrm>
            <a:off x="6167160" y="2795760"/>
            <a:ext cx="368280" cy="4662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167160" y="2795760"/>
                      <a:ext cx="368280" cy="46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7083360" y="3389040"/>
            <a:ext cx="504720" cy="4442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083360" y="3389040"/>
                      <a:ext cx="504720" cy="44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6" name=""/>
            <p:cNvSpPr/>
            <p:nvPr/>
          </p:nvSpPr>
          <p:spPr>
            <a:xfrm>
              <a:off x="6370560" y="3355560"/>
              <a:ext cx="5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637320" y="3203280"/>
              <a:ext cx="156960" cy="201240"/>
            </a:xfrm>
            <a:custGeom>
              <a:avLst/>
              <a:gdLst/>
              <a:ahLst/>
              <a:rect l="l" t="t" r="r" b="b"/>
              <a:pathLst>
                <a:path w="99" h="127">
                  <a:moveTo>
                    <a:pt x="0" y="0"/>
                  </a:moveTo>
                  <a:cubicBezTo>
                    <a:pt x="26" y="18"/>
                    <a:pt x="52" y="36"/>
                    <a:pt x="64" y="56"/>
                  </a:cubicBezTo>
                  <a:cubicBezTo>
                    <a:pt x="76" y="76"/>
                    <a:pt x="99" y="127"/>
                    <a:pt x="72" y="12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78" name=""/>
          <p:cNvGraphicFramePr/>
          <p:nvPr/>
        </p:nvGraphicFramePr>
        <p:xfrm>
          <a:off x="3575160" y="6242040"/>
          <a:ext cx="1628640" cy="304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575160" y="6242040"/>
                    <a:ext cx="162864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5632560" y="5964120"/>
            <a:ext cx="31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66"/>
                </a:solidFill>
                <a:latin typeface="Arial"/>
              </a:rPr>
              <a:t>Work = Effort x Out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67840" y="1189080"/>
            <a:ext cx="8077320" cy="509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forces (a constant force and a non-constant force) move an object 1.5 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rea under the left graph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constan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= 5N x 1.5m = 7.5 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= W (wor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rea under the right graph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verag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= 5N x 1.5m = 7.5 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= W (wor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36144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Examples of Work</a:t>
            </a:r>
            <a:br>
              <a:rPr sz="3200"/>
            </a:b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(constant vs. variable force)</a:t>
            </a:r>
            <a:endParaRPr b="0" lang="en-US" sz="2400" spc="-1" strike="noStrike">
              <a:solidFill>
                <a:srgbClr val="a50021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247680" y="2077920"/>
            <a:ext cx="4267080" cy="2498040"/>
            <a:chOff x="247680" y="2077920"/>
            <a:chExt cx="4267080" cy="2498040"/>
          </a:xfrm>
        </p:grpSpPr>
        <p:sp>
          <p:nvSpPr>
            <p:cNvPr id="84" name=""/>
            <p:cNvSpPr/>
            <p:nvPr/>
          </p:nvSpPr>
          <p:spPr>
            <a:xfrm>
              <a:off x="882720" y="2754000"/>
              <a:ext cx="3268440" cy="13636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882720" y="2266920"/>
              <a:ext cx="0" cy="1846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82720" y="4117680"/>
              <a:ext cx="3541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28760" y="2111400"/>
              <a:ext cx="6350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879720" y="4117680"/>
              <a:ext cx="6350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82720" y="2754000"/>
              <a:ext cx="3268440" cy="0"/>
            </a:xfrm>
            <a:prstGeom prst="line">
              <a:avLst/>
            </a:prstGeom>
            <a:ln w="2844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71720" y="3219480"/>
              <a:ext cx="10904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RE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80" y="2512800"/>
              <a:ext cx="7272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 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700280" y="4133880"/>
              <a:ext cx="1635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 = 1.5 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27200" y="2077920"/>
              <a:ext cx="16416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Constant for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4495680" y="2075040"/>
            <a:ext cx="4286520" cy="2501280"/>
            <a:chOff x="4495680" y="2075040"/>
            <a:chExt cx="4286520" cy="2501280"/>
          </a:xfrm>
        </p:grpSpPr>
        <p:sp>
          <p:nvSpPr>
            <p:cNvPr id="95" name=""/>
            <p:cNvSpPr/>
            <p:nvPr/>
          </p:nvSpPr>
          <p:spPr>
            <a:xfrm>
              <a:off x="5143680" y="2379960"/>
              <a:ext cx="3282840" cy="1727280"/>
            </a:xfrm>
            <a:custGeom>
              <a:avLst/>
              <a:gdLst/>
              <a:ahLst/>
              <a:rect l="l" t="t" r="r" b="b"/>
              <a:pathLst>
                <a:path w="2068" h="1088">
                  <a:moveTo>
                    <a:pt x="0" y="272"/>
                  </a:moveTo>
                  <a:lnTo>
                    <a:pt x="304" y="362"/>
                  </a:lnTo>
                  <a:lnTo>
                    <a:pt x="912" y="272"/>
                  </a:lnTo>
                  <a:lnTo>
                    <a:pt x="1033" y="136"/>
                  </a:lnTo>
                  <a:lnTo>
                    <a:pt x="1277" y="0"/>
                  </a:lnTo>
                  <a:lnTo>
                    <a:pt x="1337" y="226"/>
                  </a:lnTo>
                  <a:lnTo>
                    <a:pt x="2006" y="317"/>
                  </a:lnTo>
                  <a:lnTo>
                    <a:pt x="2067" y="498"/>
                  </a:lnTo>
                  <a:lnTo>
                    <a:pt x="2067" y="1087"/>
                  </a:lnTo>
                  <a:lnTo>
                    <a:pt x="0" y="1087"/>
                  </a:lnTo>
                  <a:lnTo>
                    <a:pt x="0" y="272"/>
                  </a:lnTo>
                </a:path>
              </a:pathLst>
            </a:custGeom>
            <a:solidFill>
              <a:srgbClr val="bbe0e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5149800" y="2267280"/>
              <a:ext cx="0" cy="1846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49800" y="4118040"/>
              <a:ext cx="3541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95840" y="2111760"/>
              <a:ext cx="6350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147160" y="4118040"/>
              <a:ext cx="6350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181560" y="3187800"/>
              <a:ext cx="10908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RE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67360" y="4134240"/>
              <a:ext cx="1635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 = 1.5 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148360" y="2756160"/>
              <a:ext cx="3286080" cy="1440"/>
            </a:xfrm>
            <a:prstGeom prst="line">
              <a:avLst/>
            </a:prstGeom>
            <a:ln w="2844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495680" y="2495880"/>
              <a:ext cx="7272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 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610240" y="2075040"/>
              <a:ext cx="21636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Non-Constant for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Kinetic Energy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1920" y="1036800"/>
            <a:ext cx="861372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nergy associated with an object’s state of 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inetic energy is a scalar quantity that is never negative in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efini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ey No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kinetic energy for the x, y, and z components are add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inetic energy is relative to the motion of observer’s reference frame, since speed and velocity are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n object’s kinetic energy depends more on its speed than its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ny change in an object’s speed will affect a change in its kinetic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nit compari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704960" y="2251080"/>
          <a:ext cx="3740040" cy="85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04960" y="2251080"/>
                    <a:ext cx="374004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1703520" y="1854360"/>
          <a:ext cx="1508040" cy="414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03520" y="1854360"/>
                    <a:ext cx="1508040" cy="41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3230640" y="5934240"/>
          <a:ext cx="1904760" cy="749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30640" y="5934240"/>
                    <a:ext cx="190476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5877000" y="2065320"/>
          <a:ext cx="2394000" cy="824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877000" y="2065320"/>
                    <a:ext cx="2394000" cy="8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Work &amp; Kinetic Energy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2280" y="82224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et work performed on an object is related to the net for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            , a change in state of motion &amp; kinetic energy is impli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eriv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517760" y="2070000"/>
          <a:ext cx="985680" cy="48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7760" y="2070000"/>
                    <a:ext cx="98568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2001960" y="1330200"/>
          <a:ext cx="5395680" cy="52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01960" y="1330200"/>
                    <a:ext cx="539568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2019240" y="3336840"/>
          <a:ext cx="5864400" cy="542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19240" y="3336840"/>
                    <a:ext cx="58644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2001960" y="2625840"/>
          <a:ext cx="4583160" cy="58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01960" y="2625840"/>
                    <a:ext cx="458316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4322880" y="6283440"/>
            <a:ext cx="321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The Work-Energy Theorem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022480" y="3855960"/>
          <a:ext cx="5181480" cy="750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022480" y="3855960"/>
                    <a:ext cx="5181480" cy="7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2011320" y="4676760"/>
          <a:ext cx="4560840" cy="2038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011320" y="4676760"/>
                    <a:ext cx="4560840" cy="20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Work Performed by Gravitational Force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2280" y="1036440"/>
            <a:ext cx="534672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 falling body (no air drag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9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9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9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vitational force only performs work in the vertical dir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9196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+ whe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is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9196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- whe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is 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What about gravitational force on an incli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330800" y="927000"/>
            <a:ext cx="3872880" cy="4642560"/>
            <a:chOff x="4330800" y="927000"/>
            <a:chExt cx="3872880" cy="4642560"/>
          </a:xfrm>
        </p:grpSpPr>
        <p:sp>
          <p:nvSpPr>
            <p:cNvPr id="133" name=""/>
            <p:cNvSpPr/>
            <p:nvPr/>
          </p:nvSpPr>
          <p:spPr>
            <a:xfrm>
              <a:off x="5499000" y="1545840"/>
              <a:ext cx="739440" cy="68724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892480" y="927000"/>
              <a:ext cx="0" cy="5904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864040" y="2261880"/>
              <a:ext cx="0" cy="14490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330800" y="1871280"/>
              <a:ext cx="3872880" cy="369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8440">
              <a:solidFill>
                <a:srgbClr val="000000"/>
              </a:solidFill>
              <a:custDash>
                <a:ds d="100000" sp="1000"/>
              </a:custDash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37" name=""/>
            <p:cNvGraphicFramePr/>
            <p:nvPr/>
          </p:nvGraphicFramePr>
          <p:xfrm>
            <a:off x="5992560" y="964800"/>
            <a:ext cx="730080" cy="391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992560" y="964800"/>
                      <a:ext cx="730080" cy="391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9" name=""/>
            <p:cNvGraphicFramePr/>
            <p:nvPr/>
          </p:nvGraphicFramePr>
          <p:xfrm>
            <a:off x="5937120" y="2607840"/>
            <a:ext cx="444240" cy="437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937120" y="2607840"/>
                      <a:ext cx="444240" cy="43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41" name=""/>
          <p:cNvGraphicFramePr/>
          <p:nvPr/>
        </p:nvGraphicFramePr>
        <p:xfrm>
          <a:off x="252360" y="1600200"/>
          <a:ext cx="5041800" cy="1346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2360" y="1600200"/>
                    <a:ext cx="5041800" cy="13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3" name=""/>
          <p:cNvGrpSpPr/>
          <p:nvPr/>
        </p:nvGrpSpPr>
        <p:grpSpPr>
          <a:xfrm>
            <a:off x="5117760" y="3962520"/>
            <a:ext cx="4022280" cy="4228200"/>
            <a:chOff x="5117760" y="3962520"/>
            <a:chExt cx="4022280" cy="4228200"/>
          </a:xfrm>
        </p:grpSpPr>
        <p:sp>
          <p:nvSpPr>
            <p:cNvPr id="144" name=""/>
            <p:cNvSpPr/>
            <p:nvPr/>
          </p:nvSpPr>
          <p:spPr>
            <a:xfrm>
              <a:off x="7170840" y="4524480"/>
              <a:ext cx="677880" cy="62388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515360" y="3962520"/>
              <a:ext cx="0" cy="5364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497720" y="5172120"/>
              <a:ext cx="0" cy="13158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5117400" y="4838760"/>
              <a:ext cx="4022280" cy="335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8440">
              <a:solidFill>
                <a:srgbClr val="000000"/>
              </a:solidFill>
              <a:custDash>
                <a:ds d="100000" sp="1000"/>
              </a:custDash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48" name=""/>
            <p:cNvGraphicFramePr/>
            <p:nvPr/>
          </p:nvGraphicFramePr>
          <p:xfrm>
            <a:off x="7578720" y="3989520"/>
            <a:ext cx="857160" cy="3981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4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578720" y="3989520"/>
                      <a:ext cx="857160" cy="398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0" name=""/>
            <p:cNvGraphicFramePr/>
            <p:nvPr/>
          </p:nvGraphicFramePr>
          <p:xfrm>
            <a:off x="7562880" y="5486400"/>
            <a:ext cx="453960" cy="3938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51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562880" y="5486400"/>
                      <a:ext cx="45396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Work Performed during Lifting &amp; Lowering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Joey “blasting” his pecs with a bench press workout (assume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lif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constan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iv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pplying Newton’s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La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Work perform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4059360" y="1935000"/>
            <a:ext cx="4944960" cy="4216320"/>
            <a:chOff x="4059360" y="1935000"/>
            <a:chExt cx="4944960" cy="4216320"/>
          </a:xfrm>
        </p:grpSpPr>
        <p:pic>
          <p:nvPicPr>
            <p:cNvPr id="155" name="" descr=""/>
            <p:cNvPicPr/>
            <p:nvPr/>
          </p:nvPicPr>
          <p:blipFill>
            <a:blip r:embed="rId1"/>
            <a:srcRect l="0" t="15068" r="0" b="0"/>
            <a:stretch/>
          </p:blipFill>
          <p:spPr>
            <a:xfrm>
              <a:off x="4559400" y="3228840"/>
              <a:ext cx="4444920" cy="2922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6" name=""/>
            <p:cNvGrpSpPr/>
            <p:nvPr/>
          </p:nvGrpSpPr>
          <p:grpSpPr>
            <a:xfrm>
              <a:off x="4800600" y="2063520"/>
              <a:ext cx="4140360" cy="952560"/>
              <a:chOff x="4800600" y="2063520"/>
              <a:chExt cx="4140360" cy="95256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4977720" y="2425320"/>
                <a:ext cx="952560" cy="228600"/>
              </a:xfrm>
              <a:prstGeom prst="can">
                <a:avLst>
                  <a:gd name="adj" fmla="val 25000"/>
                </a:avLst>
              </a:prstGeom>
              <a:solidFill>
                <a:srgbClr val="bbe0e3"/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7860600" y="2425320"/>
                <a:ext cx="952560" cy="228600"/>
              </a:xfrm>
              <a:prstGeom prst="can">
                <a:avLst>
                  <a:gd name="adj" fmla="val 25000"/>
                </a:avLst>
              </a:prstGeom>
              <a:solidFill>
                <a:srgbClr val="bbe0e3"/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537160" y="2501640"/>
                <a:ext cx="2679840" cy="63720"/>
              </a:xfrm>
              <a:prstGeom prst="rect">
                <a:avLst/>
              </a:prstGeom>
              <a:solidFill>
                <a:srgbClr val="bbe0e3"/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800600" y="2489040"/>
                <a:ext cx="520560" cy="63360"/>
              </a:xfrm>
              <a:prstGeom prst="rect">
                <a:avLst/>
              </a:prstGeom>
              <a:solidFill>
                <a:srgbClr val="bbe0e3"/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420040" y="2501640"/>
                <a:ext cx="520920" cy="63720"/>
              </a:xfrm>
              <a:prstGeom prst="rect">
                <a:avLst/>
              </a:prstGeom>
              <a:solidFill>
                <a:srgbClr val="bbe0e3"/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 flipV="1">
              <a:off x="4737240" y="2552400"/>
              <a:ext cx="0" cy="116856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6845040" y="1993680"/>
              <a:ext cx="12600" cy="520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 flipV="1">
              <a:off x="6857640" y="2590200"/>
              <a:ext cx="12600" cy="52092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65" name=""/>
            <p:cNvGraphicFramePr/>
            <p:nvPr/>
          </p:nvGraphicFramePr>
          <p:xfrm>
            <a:off x="6997680" y="1935000"/>
            <a:ext cx="576360" cy="444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6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997680" y="1935000"/>
                      <a:ext cx="576360" cy="44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7" name=""/>
            <p:cNvGraphicFramePr/>
            <p:nvPr/>
          </p:nvGraphicFramePr>
          <p:xfrm>
            <a:off x="4059360" y="2747880"/>
            <a:ext cx="538200" cy="5079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6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059360" y="2747880"/>
                      <a:ext cx="538200" cy="507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9" name=""/>
            <p:cNvGraphicFramePr/>
            <p:nvPr/>
          </p:nvGraphicFramePr>
          <p:xfrm>
            <a:off x="7010280" y="2601720"/>
            <a:ext cx="559080" cy="5587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70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010280" y="2601720"/>
                      <a:ext cx="559080" cy="55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71" name=""/>
          <p:cNvGraphicFramePr/>
          <p:nvPr/>
        </p:nvGraphicFramePr>
        <p:xfrm>
          <a:off x="1266840" y="2104920"/>
          <a:ext cx="2030400" cy="1155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266840" y="2104920"/>
                    <a:ext cx="2030400" cy="11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322200" y="3819600"/>
          <a:ext cx="4222800" cy="8636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22200" y="3819600"/>
                    <a:ext cx="422280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58640" y="5202360"/>
          <a:ext cx="3878280" cy="11998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58640" y="5202360"/>
                    <a:ext cx="3878280" cy="119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02760"/>
            <a:ext cx="7772400" cy="77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Energy &amp; the Body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98440" y="991800"/>
            <a:ext cx="86709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bodies utilize energy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stain cellular processes &amp; maintain body temper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come joint fri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e mo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nutrition, energy is typically described in terms of Calorie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i.e. the “calories” labeled on a cereal box)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“nutritional” calories are actually kilocalor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Calorie = 1 kcal = 1000 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cientific calorie is related to the SI unit of energy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cal = 4.186 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(s)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The “average” person requires ~2000 kcal per day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any joules are in 2000 kca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high could you climb with this amount of energ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turns out the body uses only ~10% of its consumed energy for physical activity.  How high could you actually climb after consuming 2000 kca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09:15Z</dcterms:created>
  <dc:creator>Tony Zable</dc:creator>
  <dc:description/>
  <dc:language>en-US</dc:language>
  <cp:lastModifiedBy>Tony Zable</cp:lastModifiedBy>
  <dcterms:modified xsi:type="dcterms:W3CDTF">2007-06-24T08:20:46Z</dcterms:modified>
  <cp:revision>96</cp:revision>
  <dc:subject/>
  <dc:title>Phy 211: General Physics I</dc:title>
</cp:coreProperties>
</file>