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0.wmf" ContentType="image/x-wmf"/>
  <Override PartName="/ppt/media/image43.wmf" ContentType="image/x-wmf"/>
  <Override PartName="/ppt/media/image53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DE27-BB14-4CAF-9256-D182FB11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be 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thi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even for a variable force,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ce exerted over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used to determin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80B-A6F4-4046-9C1D-A7FCB28C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C14-2280-4015-80CD-CCC30138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41C-9301-4FBF-B3AF-C060EAB9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793-9320-4875-A564-71C8F7FA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170-DAFC-4915-B8E4-5F90EDB7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C03-1CCA-4214-8EAD-F8591DBC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617-52C4-48FA-860B-05C92683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E96-9749-4DC2-9380-9072F4FA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95C-F884-448E-BD16-2C644248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235-F83A-451E-B592-44302FCD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F3B-E2BC-40AE-96B7-46C382E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254-A47F-47EB-9E42-9411A2F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45A9-1289-42B6-A7CD-61B8C3E45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.wm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: Work &amp;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7320" y="4765680"/>
            <a:ext cx="81565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uni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t (1 W = 1 J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lso related to Force &amp;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184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 measure of work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the time rate of energy transfer (work) due to an exert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et P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305400" y="2027160"/>
          <a:ext cx="10288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2027160"/>
                    <a:ext cx="10288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568840" y="942840"/>
            <a:ext cx="334656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2540160" y="2817720"/>
          <a:ext cx="135396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40160" y="2817720"/>
                    <a:ext cx="13539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36800" y="5697360"/>
          <a:ext cx="3979800" cy="82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36800" y="5697360"/>
                    <a:ext cx="39798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846520" y="3805200"/>
          <a:ext cx="2668320" cy="79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46520" y="3805200"/>
                    <a:ext cx="2668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work output can be performed at various power 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der 100 J of work output accomplished over 2 different time interv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00 J over 1 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00 J over 100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900 kg automobile accelerates from 0 to 30 m/s in 5.8 s.  What is the average net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30 m/s, how much force does the road exert on this vehicle? Use the same power as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138400" y="2511360"/>
          <a:ext cx="229536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511360"/>
                    <a:ext cx="2295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983280" y="2489040"/>
          <a:ext cx="21607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3280" y="2489040"/>
                    <a:ext cx="21607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45960" y="4113360"/>
          <a:ext cx="84456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4113360"/>
                    <a:ext cx="84456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12640" y="5861160"/>
          <a:ext cx="743760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861160"/>
                    <a:ext cx="7437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ve vs. Nonconservative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, a force performs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versing the configuration of the system results in the force performing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The force is conservative if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-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that performs work independent of the path tak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in which the net work it performs around a closed path is always zero 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last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sp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Electr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n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by the force depends on the pat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 then reversed, the net work performed by the force is not zero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results in energy transformed to 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Drag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Kinetic friction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kine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9000" y="3747960"/>
            <a:ext cx="88977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th Kinetic Friction (non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 against a 1.7 N kinetic friction forc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Block will not travel up as far as previou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liding on an Incl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036440"/>
            <a:ext cx="7999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 friction (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57400" y="2041560"/>
          <a:ext cx="3843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041560"/>
                    <a:ext cx="3843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8" name=""/>
          <p:cNvGrpSpPr/>
          <p:nvPr/>
        </p:nvGrpSpPr>
        <p:grpSpPr>
          <a:xfrm>
            <a:off x="6122160" y="1635120"/>
            <a:ext cx="2817000" cy="1487520"/>
            <a:chOff x="6122160" y="1635120"/>
            <a:chExt cx="2817000" cy="1487520"/>
          </a:xfrm>
        </p:grpSpPr>
        <p:sp>
          <p:nvSpPr>
            <p:cNvPr id="209" name=""/>
            <p:cNvSpPr/>
            <p:nvPr/>
          </p:nvSpPr>
          <p:spPr>
            <a:xfrm flipH="1">
              <a:off x="6319800" y="1635120"/>
              <a:ext cx="2619360" cy="1487520"/>
            </a:xfrm>
            <a:prstGeom prst="rtTriangl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739400">
              <a:off x="6181560" y="2610000"/>
              <a:ext cx="511200" cy="37296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753240" y="1836720"/>
              <a:ext cx="1519200" cy="836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707160" y="1697040"/>
              <a:ext cx="1471680" cy="806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"/>
            <p:cNvCxnSpPr>
              <a:stCxn id="211" idx="0"/>
              <a:endCxn id="212" idx="0"/>
            </p:cNvCxnSpPr>
            <p:nvPr/>
          </p:nvCxnSpPr>
          <p:spPr>
            <a:xfrm flipV="1" rot="16200000">
              <a:off x="8155440" y="1720800"/>
              <a:ext cx="141840" cy="92880"/>
            </a:xfrm>
            <a:prstGeom prst="curvedConnector5">
              <a:avLst>
                <a:gd name="adj1" fmla="val 96437"/>
                <a:gd name="adj2" fmla="val 49805"/>
                <a:gd name="adj3" fmla="val 96437"/>
              </a:avLst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graphicFrame>
        <p:nvGraphicFramePr>
          <p:cNvPr id="214" name=""/>
          <p:cNvGraphicFramePr/>
          <p:nvPr/>
        </p:nvGraphicFramePr>
        <p:xfrm>
          <a:off x="1181160" y="2787480"/>
          <a:ext cx="430992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787480"/>
                    <a:ext cx="43099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468600" y="3279600"/>
          <a:ext cx="437688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279600"/>
                    <a:ext cx="4376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254240" y="5116680"/>
          <a:ext cx="543852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4240" y="5116680"/>
                    <a:ext cx="5438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241280" y="5805360"/>
          <a:ext cx="540720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41280" y="5805360"/>
                    <a:ext cx="5407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92320" y="6454800"/>
          <a:ext cx="695304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6454800"/>
                    <a:ext cx="6953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fining or Identifying a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is a defined object (or group of objects) that are considered distinct from the rest of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associated strictly with objects within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o not transf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nergy into/out of the system when performing work with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attractive forces that hold the atoms of a ball together.  These forces are ignored when applying Newton’s 2</a:t>
            </a:r>
            <a:r>
              <a:rPr b="0" lang="en-US" sz="1600" spc="-1" strike="noStrike" baseline="30000">
                <a:solidFill>
                  <a:srgbClr val="990033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Law to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exerted from outside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ransf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ergy into/out of the system when performing work o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gravitational force that performs work on a falling object (the system) increases the ball system’s (kinetic)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When the ball </a:t>
            </a:r>
            <a:r>
              <a:rPr b="1" lang="en-US" sz="1600" spc="-1" strike="noStrike" u="sng">
                <a:solidFill>
                  <a:srgbClr val="990033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the earth are together defined as the system, the work performed by the gravitational force on the ball does NOT transfer energy into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ropriate of a system determines when a force is considered internal or external &amp; can go a long way toward simplifying the analysis of a physic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ergy associated with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28720" y="6213600"/>
          <a:ext cx="543888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6213600"/>
                    <a:ext cx="543888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Done on a System by Exter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efined system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xternal fo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ces that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 def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the system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t perform work up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orces transfer energy into or out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rnal forces alter the U and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.k.a. the mechanical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conserv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rnal forces may alter the mechanical ener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, 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well as the non-mechanical ener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thermal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041560" y="2298600"/>
          <a:ext cx="54324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2298600"/>
                    <a:ext cx="54324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027160" y="3978360"/>
          <a:ext cx="41371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27160" y="3978360"/>
                    <a:ext cx="41371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050920" y="5772240"/>
          <a:ext cx="651060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772240"/>
                    <a:ext cx="65106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total energy associated with a system of objects represents the complete state of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represents the transfer of energy into/out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isolated system, the total energy within a system remains a constant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for any 2 mo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onl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chan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96920" y="1819440"/>
          <a:ext cx="487692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1819440"/>
                    <a:ext cx="487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387440" y="2736720"/>
          <a:ext cx="669456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7440" y="2736720"/>
                    <a:ext cx="66945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576440" y="3971880"/>
          <a:ext cx="602136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6440" y="3971880"/>
                    <a:ext cx="6021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60440" y="4910040"/>
          <a:ext cx="8459640" cy="4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0440" y="4910040"/>
                    <a:ext cx="845964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720720" y="5846760"/>
          <a:ext cx="7143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0720" y="5846760"/>
                    <a:ext cx="7143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5700600" y="6216480"/>
            <a:ext cx="28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nservation of Mechanical Energ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eper Thoughts on Cons.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s have identified by experiment 3 fundamental conservation laws associated with isolated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lectric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as accepted “facts”, these laws have allowed for experimental predictions that would not have been foreseen otherw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the discovery of the neutrino during neutron decay within the atomic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M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ndamental in the prediction of new substance formed during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lectric 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s the formation of neutrons do to the collision of protons with electrons, a process called Electron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s accepted “facts”, these laws have allowed for experimental predictions that would not have been foreseen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eynman on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720" y="1496520"/>
            <a:ext cx="701028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if you wish, a law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overning natural phenomena that are known to d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no known exception to this la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exact so far we know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law is called conservation of 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[it states tha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certain quantity, which we call energy that does not change in manifold changes which nature undergo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. That is a most abstract id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Photograph"/>
          <p:cNvPicPr/>
          <p:nvPr/>
        </p:nvPicPr>
        <p:blipFill>
          <a:blip r:embed="rId1"/>
          <a:stretch/>
        </p:blipFill>
        <p:spPr>
          <a:xfrm>
            <a:off x="7242120" y="1182600"/>
            <a:ext cx="1571760" cy="2228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8400" y="4100400"/>
            <a:ext cx="8281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it is a mathematical principle; it says that there is a numerical quantity, which does not change when something happens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t is not a description of a mechanism, or anything concrete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t is just a strange fact that we can calculate some number, and when we finish watching nature go through her tricks and calculate the number again, it is the sam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18480" y="348444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ichard Feynman (1918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James Prescott Joul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818-1889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502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inventor &amp;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the efficiency of electric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the heat dissipated across a resistor in electrical circu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known as Joules’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heat is produced by the motion of atoms and/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ed with establishing the mechanical energy equivalent of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d in establishing the “Law of Energy Conserv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1240" y="101124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748560" y="3846600"/>
            <a:ext cx="239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"It is evident that an acquaintance with natural laws means no less than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 acquaintance with the mind of God therein expressed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 scalar quantity associated with the state of an object (or system of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a calculated value that appears in nature and whose total quantity in a system always remains constant and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said to be “Conserv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energy represents the “fuel” necessary for changes to occur in the universe and is often referred to as the capacity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ink of energy as the “currency” associated with the “transactions” (forces!) that occur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mechanical systems, energy is “spent” as force transactions are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ternatively, the exertion of force requires an “expenditure” of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energy are called Joules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honor of James Prescott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6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describes the energy transferred to/from an object by the exertion of a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essentially a measure of useful physica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ard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22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its for Work: 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22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75160" y="4876920"/>
          <a:ext cx="36273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4876920"/>
                    <a:ext cx="3627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54400" y="3927600"/>
          <a:ext cx="4332240" cy="63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0" y="3927600"/>
                    <a:ext cx="43322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430200" y="2349360"/>
            <a:ext cx="5194440" cy="725760"/>
            <a:chOff x="430200" y="2349360"/>
            <a:chExt cx="5194440" cy="725760"/>
          </a:xfrm>
        </p:grpSpPr>
        <p:sp>
          <p:nvSpPr>
            <p:cNvPr id="61" name=""/>
            <p:cNvSpPr/>
            <p:nvPr/>
          </p:nvSpPr>
          <p:spPr>
            <a:xfrm>
              <a:off x="1684440" y="2422440"/>
              <a:ext cx="1288800" cy="631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30200" y="2673360"/>
              <a:ext cx="1181160" cy="280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09960" y="2714760"/>
              <a:ext cx="26146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718920" y="2422440"/>
            <a:ext cx="3495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8920" y="2422440"/>
                      <a:ext cx="3495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755880" y="2349360"/>
            <a:ext cx="50652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55880" y="2349360"/>
                      <a:ext cx="506520" cy="3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4322880" y="2443320"/>
              <a:ext cx="1288800" cy="631800"/>
            </a:xfrm>
            <a:prstGeom prst="rect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913360" y="2795760"/>
            <a:ext cx="2755800" cy="1037520"/>
            <a:chOff x="5913360" y="2795760"/>
            <a:chExt cx="2755800" cy="1037520"/>
          </a:xfrm>
        </p:grpSpPr>
        <p:sp>
          <p:nvSpPr>
            <p:cNvPr id="70" name=""/>
            <p:cNvSpPr/>
            <p:nvPr/>
          </p:nvSpPr>
          <p:spPr>
            <a:xfrm flipV="1">
              <a:off x="5938560" y="3063240"/>
              <a:ext cx="1244880" cy="35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13360" y="3431880"/>
              <a:ext cx="2755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6167160" y="2795760"/>
            <a:ext cx="368280" cy="46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67160" y="2795760"/>
                      <a:ext cx="368280" cy="46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083360" y="3389040"/>
            <a:ext cx="504720" cy="444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83360" y="3389040"/>
                      <a:ext cx="5047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370560" y="3355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7320" y="3203280"/>
              <a:ext cx="156960" cy="2012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0"/>
                  </a:moveTo>
                  <a:cubicBezTo>
                    <a:pt x="26" y="18"/>
                    <a:pt x="52" y="36"/>
                    <a:pt x="64" y="56"/>
                  </a:cubicBezTo>
                  <a:cubicBezTo>
                    <a:pt x="76" y="76"/>
                    <a:pt x="99" y="127"/>
                    <a:pt x="7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3575160" y="6242040"/>
          <a:ext cx="16286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5160" y="6242040"/>
                    <a:ext cx="1628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632560" y="596412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Work = Effort x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67840" y="1189080"/>
            <a:ext cx="8077320" cy="509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orces (a constant force and a non-constant force) move an object 1.5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under the left graph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5N x 1.5m = 7.5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W (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under the right graph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5N x 1.5m = 7.5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W (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Work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constant vs. variable force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7680" y="2077920"/>
            <a:ext cx="4267080" cy="2498040"/>
            <a:chOff x="247680" y="2077920"/>
            <a:chExt cx="4267080" cy="2498040"/>
          </a:xfrm>
        </p:grpSpPr>
        <p:sp>
          <p:nvSpPr>
            <p:cNvPr id="84" name=""/>
            <p:cNvSpPr/>
            <p:nvPr/>
          </p:nvSpPr>
          <p:spPr>
            <a:xfrm>
              <a:off x="882720" y="2754000"/>
              <a:ext cx="3268440" cy="1363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82720" y="2266920"/>
              <a:ext cx="0" cy="18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2720" y="4117680"/>
              <a:ext cx="354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8760" y="211140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79720" y="411768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82720" y="2754000"/>
              <a:ext cx="32684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71720" y="3219480"/>
              <a:ext cx="109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80" y="2512800"/>
              <a:ext cx="72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0280" y="4133880"/>
              <a:ext cx="163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1.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7200" y="2077920"/>
              <a:ext cx="164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stant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495680" y="2075040"/>
            <a:ext cx="4286520" cy="2501280"/>
            <a:chOff x="4495680" y="2075040"/>
            <a:chExt cx="4286520" cy="2501280"/>
          </a:xfrm>
        </p:grpSpPr>
        <p:sp>
          <p:nvSpPr>
            <p:cNvPr id="95" name=""/>
            <p:cNvSpPr/>
            <p:nvPr/>
          </p:nvSpPr>
          <p:spPr>
            <a:xfrm>
              <a:off x="5143680" y="2379960"/>
              <a:ext cx="3282840" cy="1727280"/>
            </a:xfrm>
            <a:custGeom>
              <a:avLst/>
              <a:gdLst/>
              <a:ahLst/>
              <a:rect l="l" t="t" r="r" b="b"/>
              <a:pathLst>
                <a:path w="2068" h="1088">
                  <a:moveTo>
                    <a:pt x="0" y="272"/>
                  </a:moveTo>
                  <a:lnTo>
                    <a:pt x="304" y="362"/>
                  </a:lnTo>
                  <a:lnTo>
                    <a:pt x="912" y="272"/>
                  </a:lnTo>
                  <a:lnTo>
                    <a:pt x="1033" y="136"/>
                  </a:lnTo>
                  <a:lnTo>
                    <a:pt x="1277" y="0"/>
                  </a:lnTo>
                  <a:lnTo>
                    <a:pt x="1337" y="226"/>
                  </a:lnTo>
                  <a:lnTo>
                    <a:pt x="2006" y="317"/>
                  </a:lnTo>
                  <a:lnTo>
                    <a:pt x="2067" y="498"/>
                  </a:lnTo>
                  <a:lnTo>
                    <a:pt x="2067" y="1087"/>
                  </a:lnTo>
                  <a:lnTo>
                    <a:pt x="0" y="1087"/>
                  </a:lnTo>
                  <a:lnTo>
                    <a:pt x="0" y="272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149800" y="2267280"/>
              <a:ext cx="0" cy="18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9800" y="4118040"/>
              <a:ext cx="354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95840" y="211176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47160" y="411804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1560" y="3187800"/>
              <a:ext cx="109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67360" y="4134240"/>
              <a:ext cx="163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1.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48360" y="2756160"/>
              <a:ext cx="3286080" cy="1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2495880"/>
              <a:ext cx="72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0240" y="2075040"/>
              <a:ext cx="2163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on-Constant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37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associated with an object’s state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 is a scalar quantity that is never negativ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kinetic energy for the x, y, and z components ar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netic energy is relative to the motion of observer’s reference frame, since speed and velocity ar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object’s kinetic energy depends more on its speed than it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change in an object’s speed will affect a change in its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04960" y="2251080"/>
          <a:ext cx="374004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251080"/>
                    <a:ext cx="37400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03520" y="1854360"/>
          <a:ext cx="1508040" cy="41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1854360"/>
                    <a:ext cx="15080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30640" y="5934240"/>
          <a:ext cx="19047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0640" y="5934240"/>
                    <a:ext cx="190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877000" y="2065320"/>
          <a:ext cx="2394000" cy="82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7000" y="2065320"/>
                    <a:ext cx="23940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82224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work performed on an object is related to the net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         , a change in state of motion &amp; kinetic energy is impl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17760" y="2070000"/>
          <a:ext cx="98568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2070000"/>
                    <a:ext cx="985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001960" y="1330200"/>
          <a:ext cx="53956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1330200"/>
                    <a:ext cx="53956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19240" y="3336840"/>
          <a:ext cx="58644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9240" y="3336840"/>
                    <a:ext cx="586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001960" y="2625840"/>
          <a:ext cx="45831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1960" y="2625840"/>
                    <a:ext cx="45831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322880" y="6283440"/>
            <a:ext cx="32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Work-Energy Theo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22480" y="3855960"/>
          <a:ext cx="5181480" cy="75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2480" y="3855960"/>
                    <a:ext cx="51814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011320" y="4676760"/>
          <a:ext cx="4560840" cy="203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11320" y="4676760"/>
                    <a:ext cx="45608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Gravitation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5346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lling body (no air dra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 force only performs work in the vertical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+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-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at about gravitational force on an in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30800" y="927000"/>
            <a:ext cx="3872880" cy="4642560"/>
            <a:chOff x="4330800" y="927000"/>
            <a:chExt cx="3872880" cy="4642560"/>
          </a:xfrm>
        </p:grpSpPr>
        <p:sp>
          <p:nvSpPr>
            <p:cNvPr id="133" name=""/>
            <p:cNvSpPr/>
            <p:nvPr/>
          </p:nvSpPr>
          <p:spPr>
            <a:xfrm>
              <a:off x="5499000" y="1545840"/>
              <a:ext cx="739440" cy="6872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2480" y="927000"/>
              <a:ext cx="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4040" y="2261880"/>
              <a:ext cx="0" cy="1449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0800" y="1871280"/>
              <a:ext cx="3872880" cy="36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5992560" y="964800"/>
            <a:ext cx="730080" cy="3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2560" y="964800"/>
                      <a:ext cx="73008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5937120" y="2607840"/>
            <a:ext cx="444240" cy="43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7120" y="2607840"/>
                      <a:ext cx="4442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1" name=""/>
          <p:cNvGraphicFramePr/>
          <p:nvPr/>
        </p:nvGraphicFramePr>
        <p:xfrm>
          <a:off x="252360" y="1600200"/>
          <a:ext cx="5041800" cy="13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1600200"/>
                    <a:ext cx="50418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5117760" y="3962520"/>
            <a:ext cx="4022280" cy="4228200"/>
            <a:chOff x="5117760" y="3962520"/>
            <a:chExt cx="4022280" cy="4228200"/>
          </a:xfrm>
        </p:grpSpPr>
        <p:sp>
          <p:nvSpPr>
            <p:cNvPr id="144" name=""/>
            <p:cNvSpPr/>
            <p:nvPr/>
          </p:nvSpPr>
          <p:spPr>
            <a:xfrm>
              <a:off x="7170840" y="4524480"/>
              <a:ext cx="677880" cy="6238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15360" y="3962520"/>
              <a:ext cx="0" cy="53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7720" y="5172120"/>
              <a:ext cx="0" cy="13158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17400" y="4838760"/>
              <a:ext cx="4022280" cy="33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7578720" y="3989520"/>
            <a:ext cx="857160" cy="39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8720" y="3989520"/>
                      <a:ext cx="85716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562880" y="5486400"/>
            <a:ext cx="4539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62880" y="5486400"/>
                      <a:ext cx="453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during Lifting &amp; Lowe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Joey “blasting” his pecs with a bench press workout (ass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ork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059360" y="1935000"/>
            <a:ext cx="4944960" cy="4216320"/>
            <a:chOff x="4059360" y="1935000"/>
            <a:chExt cx="4944960" cy="42163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0" t="15068" r="0" b="0"/>
            <a:stretch/>
          </p:blipFill>
          <p:spPr>
            <a:xfrm>
              <a:off x="4559400" y="3228840"/>
              <a:ext cx="4444920" cy="292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4800600" y="2063520"/>
              <a:ext cx="4140360" cy="952560"/>
              <a:chOff x="4800600" y="2063520"/>
              <a:chExt cx="4140360" cy="95256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497772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786060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37160" y="2501640"/>
                <a:ext cx="267984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0600" y="2489040"/>
                <a:ext cx="520560" cy="6336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20040" y="2501640"/>
                <a:ext cx="52092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4737240" y="2552400"/>
              <a:ext cx="0" cy="116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845040" y="1993680"/>
              <a:ext cx="12600" cy="52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857640" y="2590200"/>
              <a:ext cx="12600" cy="520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6997680" y="1935000"/>
            <a:ext cx="5763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97680" y="1935000"/>
                      <a:ext cx="576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4059360" y="2747880"/>
            <a:ext cx="53820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59360" y="2747880"/>
                      <a:ext cx="538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7010280" y="2601720"/>
            <a:ext cx="5590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601720"/>
                      <a:ext cx="5590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1" name=""/>
          <p:cNvGraphicFramePr/>
          <p:nvPr/>
        </p:nvGraphicFramePr>
        <p:xfrm>
          <a:off x="1266840" y="2104920"/>
          <a:ext cx="2030400" cy="1155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66840" y="2104920"/>
                    <a:ext cx="20304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2200" y="3819600"/>
          <a:ext cx="42228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2200" y="3819600"/>
                    <a:ext cx="4222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58640" y="5202360"/>
          <a:ext cx="3878280" cy="119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640" y="5202360"/>
                    <a:ext cx="387828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&amp; the Bod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8440" y="991800"/>
            <a:ext cx="8670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bodies utilize energ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cellular processes &amp; maintain body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come joint 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utrition, energy is typically described in terms of Calor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.e. the “calories” labeled on a cereal box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“nutritional” calories are actually kilocal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alorie = 1 kcal = 1000 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ientific calorie is related to the SI unit of energ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al = 4.186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(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“average” person requires ~2000 kcal per da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joules are in 2000 k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igh could you climb with this amount of ener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urns out the body uses only ~10% of its consumed energy for physical activity.  How high could you actually climb after consuming 2000 k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4T08:20:46Z</dcterms:modified>
  <cp:revision>96</cp:revision>
  <dc:subject/>
  <dc:title>Phy 211: General Physics I</dc:title>
</cp:coreProperties>
</file>