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7A4A0F-E96F-4A27-B698-7DFDB7CDB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 how fast must the motorcycle be traveling in order to completely perform the loop-to-lo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Phy 201: General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rebuchet MS"/>
              </a:rPr>
              <a:t>Chapter 5: Uniform Circular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Uniform 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ravels in a circular p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us of motion (r) is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ed (v) is cons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ocity changes as object continually changes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572000"/>
            <a:ext cx="1905120" cy="1905120"/>
          </a:xfrm>
          <a:prstGeom prst="ellipse">
            <a:avLst/>
          </a:prstGeom>
          <a:noFill/>
          <a:ln w="12600">
            <a:solidFill>
              <a:srgbClr val="66ff33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54100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15200" y="4952880"/>
            <a:ext cx="0" cy="457200"/>
          </a:xfrm>
          <a:prstGeom prst="line">
            <a:avLst/>
          </a:prstGeom>
          <a:ln w="12600">
            <a:solidFill>
              <a:srgbClr val="00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467480" y="50292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91320" y="4572000"/>
            <a:ext cx="533160" cy="0"/>
          </a:xfrm>
          <a:prstGeom prst="line">
            <a:avLst/>
          </a:prstGeom>
          <a:ln w="12600">
            <a:solidFill>
              <a:srgbClr val="00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400800" y="6477120"/>
            <a:ext cx="533520" cy="0"/>
          </a:xfrm>
          <a:prstGeom prst="line">
            <a:avLst/>
          </a:prstGeom>
          <a:ln w="12600">
            <a:solidFill>
              <a:srgbClr val="00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410080" y="5562720"/>
            <a:ext cx="0" cy="457200"/>
          </a:xfrm>
          <a:prstGeom prst="line">
            <a:avLst/>
          </a:prstGeom>
          <a:ln w="12600">
            <a:solidFill>
              <a:srgbClr val="00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00800" y="4952880"/>
            <a:ext cx="685800" cy="609840"/>
          </a:xfrm>
          <a:prstGeom prst="line">
            <a:avLst/>
          </a:prstGeom>
          <a:ln w="1260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477120" y="48769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Centripetal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changing (v is not but direction is), the object must be acceler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/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rection of the acceleration vector is always toward the center of the circular motion is referred to a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entripetal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gnitude of centripetal accel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 = v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4280" y="9360"/>
            <a:ext cx="8601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Trebuchet MS"/>
              </a:rPr>
              <a:t>Derivation of Centrifugal Accel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9880" y="923760"/>
            <a:ext cx="8572680" cy="5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the position &amp; velocity vectors for an object in uniform circular at 2 different time points (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amp;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ing the position &amp; velocity vectors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they are similar triangles, the magnitudes if which are related by the ratio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/r =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leads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= v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/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 = a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v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43000" y="1779480"/>
            <a:ext cx="1774800" cy="1357560"/>
            <a:chOff x="2043000" y="1779480"/>
            <a:chExt cx="1774800" cy="1357560"/>
          </a:xfrm>
        </p:grpSpPr>
        <p:sp>
          <p:nvSpPr>
            <p:cNvPr id="102" name=""/>
            <p:cNvSpPr/>
            <p:nvPr/>
          </p:nvSpPr>
          <p:spPr>
            <a:xfrm>
              <a:off x="2043000" y="2665440"/>
              <a:ext cx="592200" cy="4716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35200" y="2901960"/>
              <a:ext cx="1182600" cy="0"/>
            </a:xfrm>
            <a:prstGeom prst="line">
              <a:avLst/>
            </a:prstGeom>
            <a:ln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38560" y="1838160"/>
              <a:ext cx="0" cy="82728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2436840" y="1779480"/>
              <a:ext cx="849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2917800" y="2446200"/>
              <a:ext cx="847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ffcc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ffc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176720" y="1654200"/>
            <a:ext cx="2038320" cy="1170000"/>
            <a:chOff x="4176720" y="1654200"/>
            <a:chExt cx="2038320" cy="1170000"/>
          </a:xfrm>
        </p:grpSpPr>
        <p:sp>
          <p:nvSpPr>
            <p:cNvPr id="108" name=""/>
            <p:cNvSpPr/>
            <p:nvPr/>
          </p:nvSpPr>
          <p:spPr>
            <a:xfrm>
              <a:off x="4714920" y="2313000"/>
              <a:ext cx="555480" cy="511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159520" y="1654200"/>
              <a:ext cx="666720" cy="765000"/>
            </a:xfrm>
            <a:prstGeom prst="line">
              <a:avLst/>
            </a:prstGeom>
            <a:ln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6720" y="1760400"/>
              <a:ext cx="555480" cy="63828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4457880" y="1655640"/>
              <a:ext cx="797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418000" y="1930320"/>
              <a:ext cx="797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ffcc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ffc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44720" y="3389400"/>
            <a:ext cx="1233360" cy="1530360"/>
            <a:chOff x="1944720" y="3389400"/>
            <a:chExt cx="1233360" cy="1530360"/>
          </a:xfrm>
        </p:grpSpPr>
        <p:sp>
          <p:nvSpPr>
            <p:cNvPr id="114" name=""/>
            <p:cNvSpPr/>
            <p:nvPr/>
          </p:nvSpPr>
          <p:spPr>
            <a:xfrm>
              <a:off x="2371680" y="3597120"/>
              <a:ext cx="3240" cy="102888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1944720" y="3559320"/>
              <a:ext cx="546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84280" y="3602160"/>
              <a:ext cx="711360" cy="74916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2627280" y="3389400"/>
              <a:ext cx="546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374920" y="4334040"/>
              <a:ext cx="747720" cy="284040"/>
            </a:xfrm>
            <a:prstGeom prst="line">
              <a:avLst/>
            </a:prstGeom>
            <a:ln w="12600">
              <a:solidFill>
                <a:srgbClr val="ff66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631960" y="4462560"/>
              <a:ext cx="546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6633"/>
                  </a:solidFill>
                  <a:latin typeface="Symbol"/>
                  <a:ea typeface="Symbol"/>
                </a:rPr>
                <a:t>D</a:t>
              </a:r>
              <a:r>
                <a:rPr b="1" lang="en-US" sz="2400" spc="-1" strike="noStrike">
                  <a:solidFill>
                    <a:srgbClr val="ff6633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132440" y="3616200"/>
            <a:ext cx="2068200" cy="1312920"/>
            <a:chOff x="4132440" y="3616200"/>
            <a:chExt cx="2068200" cy="1312920"/>
          </a:xfrm>
        </p:grpSpPr>
        <p:sp>
          <p:nvSpPr>
            <p:cNvPr id="121" name=""/>
            <p:cNvSpPr/>
            <p:nvPr/>
          </p:nvSpPr>
          <p:spPr>
            <a:xfrm>
              <a:off x="4300560" y="4506840"/>
              <a:ext cx="1235160" cy="4680"/>
            </a:xfrm>
            <a:prstGeom prst="line">
              <a:avLst/>
            </a:prstGeom>
            <a:ln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656240" y="4471920"/>
              <a:ext cx="546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ffcc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ffc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311720" y="3616200"/>
              <a:ext cx="874800" cy="876600"/>
            </a:xfrm>
            <a:prstGeom prst="line">
              <a:avLst/>
            </a:prstGeom>
            <a:ln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132440" y="3711600"/>
              <a:ext cx="546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ffcc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ffc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160960" y="3632040"/>
              <a:ext cx="374760" cy="882720"/>
            </a:xfrm>
            <a:prstGeom prst="line">
              <a:avLst/>
            </a:prstGeom>
            <a:ln w="12600">
              <a:solidFill>
                <a:srgbClr val="ff66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5413320" y="3759120"/>
              <a:ext cx="787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66cc"/>
                  </a:solidFill>
                  <a:latin typeface="Symbol"/>
                  <a:ea typeface="Symbol"/>
                </a:rPr>
                <a:t>D</a:t>
              </a:r>
              <a:r>
                <a:rPr b="1" lang="en-US" sz="2400" spc="-1" strike="noStrike">
                  <a:solidFill>
                    <a:srgbClr val="ff66cc"/>
                  </a:solidFill>
                  <a:latin typeface="Times New Roman"/>
                  <a:ea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 flipV="1">
            <a:off x="8043840" y="3511440"/>
            <a:ext cx="374760" cy="882720"/>
          </a:xfrm>
          <a:prstGeom prst="line">
            <a:avLst/>
          </a:prstGeom>
          <a:ln w="12600">
            <a:solidFill>
              <a:srgbClr val="ff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Centripetal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45260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-seeking net force that pulls object into circular mo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bject is not in equilibrium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36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a</a:t>
            </a:r>
            <a:r>
              <a:rPr b="0" lang="en-US" sz="36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v</a:t>
            </a:r>
            <a:r>
              <a:rPr b="0" lang="en-US" sz="36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ster the speed the greater th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reater the radius of motion the smaller th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190520" y="668160"/>
            <a:ext cx="69372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  <a:ea typeface="Trebuchet MS"/>
              </a:rPr>
              <a:t>Centripetal Force vs. Centrifugal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in uniform circular motion observes an outward force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ifugal force 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fictitious force (it is not really a force it is only perceived as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due to the body’s inertia acting against its circular mo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&amp; its rotating enviro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a magnitude equal to the centripetal force acting on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27040" y="-2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Artificial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9120" y="879480"/>
            <a:ext cx="4842000" cy="37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in a rotating environment “feel” an outward centripetal force (similar to gra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he object really experiences is the normal force of the support surface that provides centripetal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effective” gravitational acceleration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g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(artificial)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v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 complete rotation occurs in a time, 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 is called the period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the  rotational (or angular) speed is g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w = 2p/T {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Dq/D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86440" y="1011240"/>
            <a:ext cx="3338640" cy="3381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33520" y="4933800"/>
            <a:ext cx="787572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ere are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adians (36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n a complete rotation/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</a:t>
            </a:r>
            <a:r>
              <a:rPr b="0" lang="en-U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 = </a:t>
            </a:r>
            <a:r>
              <a:rPr b="0" lang="en-US" sz="20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tational speed x radiu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(artificial)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 = 4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p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/T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s, gravity strength is related to size of the structure(r), rotational rate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nd square of the period of rotation(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8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Banked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459080"/>
            <a:ext cx="555624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ers design banked curves to increase the speed certain corners can be nav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ing corners decreases the dependence of static friction (between tires &amp; road) necessary for turning the vehicle into a cor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ed corners can improve safety particularly in inclement weather (icy or wet roads) where static friction can be comprom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es banking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ormal force 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of the bank on the car assists it around the corn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56080" y="1627200"/>
            <a:ext cx="30430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30360" y="-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Vertical 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06640" y="2009880"/>
            <a:ext cx="6943680" cy="3892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38040" y="1054080"/>
            <a:ext cx="841212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the forces acting on a motorcycle performing a loop-to-lo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03200" y="5848200"/>
            <a:ext cx="841212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you think of other objects that undergo similar mo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201: General Physics I</dc:title>
</cp:coreProperties>
</file>