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534B-E7AF-4E60-A5AC-35B814CFE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e how fast must the motorcycle be traveling in order to completely perform the loop-to-loo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D82D-8494-434A-AA77-A7CB8C74E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5900-B6B6-4099-B2AF-162E275F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436B-14C4-447F-9493-0D457C2B8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A01A-E67B-4F9A-B83D-0A0CE54A2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CF7D-E721-4C0F-B791-27C22B7A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D60A-A300-4816-AEB9-58E2A27D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9D86-2BA1-4768-BD08-9A06B490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4D8F-DD95-4CAE-B76E-7F4DF033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82D1-CDA0-48E5-BE6B-CAF679BB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AD7D-A8AF-43C5-83E8-87975E53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55EE-A058-4A87-A785-E3561EA6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604C-9C2E-4C5D-AC32-C97BD49D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2148-56E0-47E1-A90B-4E837B373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01: General Physics 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5: Uniform Circular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Uniform Circular Mo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0200" y="1142640"/>
            <a:ext cx="8771040" cy="585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C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 special case of 2-D motion w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adius of motion (r) is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eed (v) is cons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elocity changes as object continually changes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    is changing (v is not but direction is), the object must be acceler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rection of the acceleration vector is always toward the center of the circular motion and is referred to a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entripetal 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itude of centripetal accel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755880" y="3649680"/>
          <a:ext cx="3392640" cy="75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55880" y="3649680"/>
                    <a:ext cx="339264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" name=""/>
          <p:cNvGrpSpPr/>
          <p:nvPr/>
        </p:nvGrpSpPr>
        <p:grpSpPr>
          <a:xfrm>
            <a:off x="6705720" y="620640"/>
            <a:ext cx="2361600" cy="1905120"/>
            <a:chOff x="6705720" y="620640"/>
            <a:chExt cx="2361600" cy="1905120"/>
          </a:xfrm>
        </p:grpSpPr>
        <p:sp>
          <p:nvSpPr>
            <p:cNvPr id="57" name=""/>
            <p:cNvSpPr/>
            <p:nvPr/>
          </p:nvSpPr>
          <p:spPr>
            <a:xfrm>
              <a:off x="6711840" y="627120"/>
              <a:ext cx="1891800" cy="18921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464320" y="1465200"/>
              <a:ext cx="291600" cy="29232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8610480" y="1001520"/>
              <a:ext cx="0" cy="45720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762760" y="1077840"/>
              <a:ext cx="304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7085880" y="620640"/>
              <a:ext cx="53316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7696080" y="252576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6705720" y="1611360"/>
              <a:ext cx="0" cy="45720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7696080" y="1001520"/>
              <a:ext cx="685440" cy="60984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772040" y="925560"/>
              <a:ext cx="685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6" name=""/>
          <p:cNvGraphicFramePr/>
          <p:nvPr/>
        </p:nvGraphicFramePr>
        <p:xfrm>
          <a:off x="6599160" y="5424480"/>
          <a:ext cx="1847880" cy="93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99160" y="5424480"/>
                    <a:ext cx="1847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522440" y="3249720"/>
          <a:ext cx="306360" cy="38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440" y="3249720"/>
                    <a:ext cx="30636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Derivation of Centrifugal Acceleration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360" y="941040"/>
            <a:ext cx="6694560" cy="369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an object in uniform circular motion, 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r = constant {radius of travel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v = constant {speed of objec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gnitude of the centripetal acceleration can be obtained by comparing the similar triangles for position and veloc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792840" y="698400"/>
            <a:ext cx="2224080" cy="2338200"/>
            <a:chOff x="6792840" y="698400"/>
            <a:chExt cx="2224080" cy="2338200"/>
          </a:xfrm>
        </p:grpSpPr>
        <p:sp>
          <p:nvSpPr>
            <p:cNvPr id="73" name=""/>
            <p:cNvSpPr/>
            <p:nvPr/>
          </p:nvSpPr>
          <p:spPr>
            <a:xfrm>
              <a:off x="8704080" y="2087280"/>
              <a:ext cx="312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792840" y="1298160"/>
              <a:ext cx="1631880" cy="1738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124480" y="1507680"/>
              <a:ext cx="252720" cy="26856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7945200" y="1248840"/>
              <a:ext cx="223920" cy="26964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146800" y="1104480"/>
              <a:ext cx="59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7641720" y="1642680"/>
              <a:ext cx="592200" cy="55908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707240" y="1571400"/>
              <a:ext cx="591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7635600" y="812520"/>
              <a:ext cx="11160" cy="1379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35600" y="2192040"/>
              <a:ext cx="13510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43640" y="698400"/>
              <a:ext cx="592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707600" y="2064960"/>
              <a:ext cx="154800" cy="16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57923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579236"/>
                </a:path>
              </a:pathLst>
            </a:cu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33960" y="1901520"/>
              <a:ext cx="590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7621560" y="2187000"/>
              <a:ext cx="596880" cy="61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8224560" y="1650240"/>
              <a:ext cx="0" cy="5367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818120" y="2096640"/>
              <a:ext cx="425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189640" y="1782360"/>
              <a:ext cx="426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419040" y="5095800"/>
            <a:ext cx="7291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rection of position and velocity vectors both shift by the same angle, resulting in the following re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84280" y="5626080"/>
          <a:ext cx="6303960" cy="81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4280" y="5626080"/>
                    <a:ext cx="630396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2" name=""/>
          <p:cNvGrpSpPr/>
          <p:nvPr/>
        </p:nvGrpSpPr>
        <p:grpSpPr>
          <a:xfrm>
            <a:off x="4000680" y="3149640"/>
            <a:ext cx="1616040" cy="1556280"/>
            <a:chOff x="4000680" y="3149640"/>
            <a:chExt cx="1616040" cy="1556280"/>
          </a:xfrm>
        </p:grpSpPr>
        <p:grpSp>
          <p:nvGrpSpPr>
            <p:cNvPr id="93" name=""/>
            <p:cNvGrpSpPr/>
            <p:nvPr/>
          </p:nvGrpSpPr>
          <p:grpSpPr>
            <a:xfrm>
              <a:off x="4192560" y="3149640"/>
              <a:ext cx="1424160" cy="1283040"/>
              <a:chOff x="4192560" y="3149640"/>
              <a:chExt cx="1424160" cy="1283040"/>
            </a:xfrm>
          </p:grpSpPr>
          <p:sp>
            <p:nvSpPr>
              <p:cNvPr id="94" name=""/>
              <p:cNvSpPr/>
              <p:nvPr/>
            </p:nvSpPr>
            <p:spPr>
              <a:xfrm flipH="1">
                <a:off x="4192560" y="3743280"/>
                <a:ext cx="1152720" cy="58644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4192560" y="3278520"/>
                <a:ext cx="723960" cy="103392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900320" y="3282480"/>
                <a:ext cx="412200" cy="44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197600" y="3348000"/>
                <a:ext cx="65700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564080" y="3924000"/>
                <a:ext cx="71928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054760" y="3149640"/>
                <a:ext cx="5619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381920" y="3987720"/>
                <a:ext cx="208800" cy="266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8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391280" y="3825720"/>
                <a:ext cx="51408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4000680" y="4368600"/>
              <a:ext cx="153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ff"/>
                  </a:solidFill>
                  <a:latin typeface="Arial"/>
                </a:rPr>
                <a:t>Position on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045120" y="3147840"/>
            <a:ext cx="1536840" cy="1596240"/>
            <a:chOff x="6045120" y="3147840"/>
            <a:chExt cx="1536840" cy="1596240"/>
          </a:xfrm>
        </p:grpSpPr>
        <p:grpSp>
          <p:nvGrpSpPr>
            <p:cNvPr id="104" name=""/>
            <p:cNvGrpSpPr/>
            <p:nvPr/>
          </p:nvGrpSpPr>
          <p:grpSpPr>
            <a:xfrm>
              <a:off x="6108480" y="3147840"/>
              <a:ext cx="1425600" cy="1244160"/>
              <a:chOff x="6108480" y="3147840"/>
              <a:chExt cx="1425600" cy="1244160"/>
            </a:xfrm>
          </p:grpSpPr>
          <p:sp>
            <p:nvSpPr>
              <p:cNvPr id="105" name=""/>
              <p:cNvSpPr/>
              <p:nvPr/>
            </p:nvSpPr>
            <p:spPr>
              <a:xfrm flipH="1" flipV="1">
                <a:off x="6812280" y="3300120"/>
                <a:ext cx="438120" cy="109188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94080" y="3506760"/>
                <a:ext cx="54000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</a:rPr>
                  <a:t>v</a:t>
                </a:r>
                <a:r>
                  <a:rPr b="1" lang="en-US" sz="2400" spc="-1" strike="noStrike" baseline="-25000">
                    <a:solidFill>
                      <a:srgbClr val="333399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 flipV="1">
                <a:off x="6278760" y="3747960"/>
                <a:ext cx="945360" cy="6177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427440" y="3835440"/>
                <a:ext cx="56988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</a:rPr>
                  <a:t>v</a:t>
                </a:r>
                <a:r>
                  <a:rPr b="1" lang="en-US" sz="2400" spc="-1" strike="noStrike" baseline="-25000">
                    <a:solidFill>
                      <a:srgbClr val="333399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6282720" y="3327840"/>
                <a:ext cx="506880" cy="40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108480" y="3147840"/>
                <a:ext cx="7635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6200000">
                <a:off x="6976800" y="3973320"/>
                <a:ext cx="208800" cy="266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8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629040" y="3806640"/>
                <a:ext cx="51444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6045120" y="4406760"/>
              <a:ext cx="153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3333ff"/>
                  </a:solidFill>
                  <a:latin typeface="Arial"/>
                </a:rPr>
                <a:t>Velocity on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004120" y="2819520"/>
            <a:ext cx="1180080" cy="2258280"/>
            <a:chOff x="2004120" y="2819520"/>
            <a:chExt cx="1180080" cy="2258280"/>
          </a:xfrm>
        </p:grpSpPr>
        <p:grpSp>
          <p:nvGrpSpPr>
            <p:cNvPr id="115" name=""/>
            <p:cNvGrpSpPr/>
            <p:nvPr/>
          </p:nvGrpSpPr>
          <p:grpSpPr>
            <a:xfrm>
              <a:off x="2004120" y="3186000"/>
              <a:ext cx="1180080" cy="1891800"/>
              <a:chOff x="2004120" y="3186000"/>
              <a:chExt cx="1180080" cy="1891800"/>
            </a:xfrm>
          </p:grpSpPr>
          <p:sp>
            <p:nvSpPr>
              <p:cNvPr id="116" name=""/>
              <p:cNvSpPr/>
              <p:nvPr/>
            </p:nvSpPr>
            <p:spPr>
              <a:xfrm>
                <a:off x="2655720" y="4203360"/>
                <a:ext cx="391680" cy="87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flipV="1">
                <a:off x="2004120" y="3257280"/>
                <a:ext cx="733680" cy="56700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16876800">
                <a:off x="2712960" y="3712320"/>
                <a:ext cx="433080" cy="433080"/>
              </a:xfrm>
              <a:prstGeom prst="ellipse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2343600" y="4106160"/>
                <a:ext cx="449280" cy="4860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342880" y="3186000"/>
                <a:ext cx="68724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</a:rPr>
                  <a:t>v</a:t>
                </a:r>
                <a:r>
                  <a:rPr b="1" lang="en-US" sz="2400" spc="-1" strike="noStrike" baseline="-25000">
                    <a:solidFill>
                      <a:srgbClr val="333399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2006640" y="2819520"/>
              <a:ext cx="1117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ff"/>
                  </a:solidFill>
                  <a:latin typeface="Arial"/>
                </a:rPr>
                <a:t>time, t</a:t>
              </a:r>
              <a:r>
                <a:rPr b="0" i="1" lang="en-US" sz="2000" spc="-1" strike="noStrike" baseline="-25000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80440" y="2806560"/>
            <a:ext cx="1395720" cy="2113560"/>
            <a:chOff x="280440" y="2806560"/>
            <a:chExt cx="1395720" cy="2113560"/>
          </a:xfrm>
        </p:grpSpPr>
        <p:grpSp>
          <p:nvGrpSpPr>
            <p:cNvPr id="123" name=""/>
            <p:cNvGrpSpPr/>
            <p:nvPr/>
          </p:nvGrpSpPr>
          <p:grpSpPr>
            <a:xfrm>
              <a:off x="280440" y="3114000"/>
              <a:ext cx="1204920" cy="1806120"/>
              <a:chOff x="280440" y="3114000"/>
              <a:chExt cx="1204920" cy="1806120"/>
            </a:xfrm>
          </p:grpSpPr>
          <p:sp>
            <p:nvSpPr>
              <p:cNvPr id="124" name=""/>
              <p:cNvSpPr/>
              <p:nvPr/>
            </p:nvSpPr>
            <p:spPr>
              <a:xfrm rot="14295600">
                <a:off x="878760" y="4037760"/>
                <a:ext cx="395640" cy="375840"/>
              </a:xfrm>
              <a:prstGeom prst="ellipse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 flipV="1">
                <a:off x="633600" y="3114000"/>
                <a:ext cx="363240" cy="91548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280440" y="4323960"/>
                <a:ext cx="603720" cy="2970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80760" y="4411440"/>
                <a:ext cx="4615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2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89840" y="3333960"/>
                <a:ext cx="6955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</a:rPr>
                  <a:t>v</a:t>
                </a:r>
                <a:r>
                  <a:rPr b="1" lang="en-US" sz="2400" spc="-1" strike="noStrike" baseline="-25000">
                    <a:solidFill>
                      <a:srgbClr val="333399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558720" y="2806560"/>
              <a:ext cx="1117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ff"/>
                  </a:solidFill>
                  <a:latin typeface="Arial"/>
                </a:rPr>
                <a:t>time, t</a:t>
              </a:r>
              <a:r>
                <a:rPr b="0" i="1" lang="en-US" sz="2000" spc="-1" strike="noStrike" baseline="-25000">
                  <a:solidFill>
                    <a:srgbClr val="3333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entripetal Forc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61552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ipetal force is the center-seeking force that pulls an object into circular mo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bject is not in equilibrium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rection of the centripetal force is the same as the centripetal 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itude of centripetal force is given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iform circu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tion, the centripetal force is the net for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aster the speed the greater the centripetal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reater the radius of motion the smaller the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613320" y="1787400"/>
          <a:ext cx="1333440" cy="5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3320" y="1787400"/>
                    <a:ext cx="133344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986120" y="4770360"/>
          <a:ext cx="6195960" cy="81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6120" y="4770360"/>
                    <a:ext cx="619596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3122640" y="3544920"/>
          <a:ext cx="3716280" cy="895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2640" y="3544920"/>
                    <a:ext cx="371628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entripetal Force &amp; Gravita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5840" y="987120"/>
            <a:ext cx="8958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the Earth travels about the Sun in UC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force is responsible for maintain the Earth’s circular orb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 a Free-Body Diagram for the Earth in orb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gravitational force exerted on the Earth due to the S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centripetal acceleration of the Eart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Earth’s tangential velocity in its orbit around the Su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776680" y="1460520"/>
            <a:ext cx="4835520" cy="3397320"/>
            <a:chOff x="2776680" y="1460520"/>
            <a:chExt cx="4835520" cy="3397320"/>
          </a:xfrm>
        </p:grpSpPr>
        <p:sp>
          <p:nvSpPr>
            <p:cNvPr id="141" name=""/>
            <p:cNvSpPr/>
            <p:nvPr/>
          </p:nvSpPr>
          <p:spPr>
            <a:xfrm>
              <a:off x="4397400" y="2927520"/>
              <a:ext cx="542880" cy="50796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94320" y="3052800"/>
              <a:ext cx="228600" cy="233280"/>
            </a:xfrm>
            <a:prstGeom prst="ellipse">
              <a:avLst/>
            </a:prstGeom>
            <a:solidFill>
              <a:srgbClr val="0099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76680" y="1460520"/>
              <a:ext cx="3717720" cy="339732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97320" y="2486160"/>
              <a:ext cx="93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u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39040" y="3206880"/>
              <a:ext cx="107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ar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12560" y="431640"/>
            <a:ext cx="7715160" cy="6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entripetal Force vs. Centrifugal Forc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bject moving in uniform circular motion experiences an outward “force”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entrifugal 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due to the object’s inert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o refer to this as a force is technically incorrect. More accurately, centrifugal force 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consequence of the observer located in an accelerated (revolving) reference frame and is therefore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ictitious for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i.e. it is not really a force it is only perceived as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perceived response of the object’s inertia resisting the circular mo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&amp; its rotating environ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a magnitude equal to the centripetal force acting on the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95280" y="5359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</a:rPr>
              <a:t>Centripetal force &amp; centrifugal force are NOT action-reaction pair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27040" y="1792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Artificial Gravity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2040" y="879120"/>
            <a:ext cx="4803480" cy="27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19872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s in a rotating environment “feel” an outward centripetal force (similar to grav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the object really experiences is the normal force of the support surface that provides centripetal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gnitude of “effective” gravitational acceleration is given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complete rotation occurs in a time, T, then the rotational (or angular) speed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75360" y="1011240"/>
            <a:ext cx="3338280" cy="3381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52280" y="5038560"/>
            <a:ext cx="84362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re are 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adians (36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n a complete rotation/re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 = </a:t>
            </a:r>
            <a:r>
              <a:rPr b="0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rotational speed x radiu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artificial gravity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the (artificial) gravitational strength is related to size of the structure (r), rotational rate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nd square of the period of rotation (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730520" y="2644920"/>
          <a:ext cx="2361960" cy="74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30520" y="2644920"/>
                    <a:ext cx="2361960" cy="74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814320" y="4173480"/>
          <a:ext cx="6562800" cy="70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14320" y="4173480"/>
                    <a:ext cx="656280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6229440" y="5164200"/>
          <a:ext cx="2584440" cy="682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229440" y="5164200"/>
                    <a:ext cx="258444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7908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Banked Curves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8840" y="1158480"/>
            <a:ext cx="5556240" cy="48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ineers design banked curves to increase the speed certain corners can be navig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ing corners decreases the dependence of static friction (between tires &amp; road) necessary for turning the vehicle into a corn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ed corners can improve safety particularly in inclement weather (icy or wet roads) where static friction can be compromi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does banking wor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ormal force (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f the bank on the car assists it around the corn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929200" y="1217520"/>
            <a:ext cx="304344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30360" y="229680"/>
            <a:ext cx="7772400" cy="8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Vertical Circular Motion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106640" y="2009880"/>
            <a:ext cx="6943680" cy="38923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37680" y="1053720"/>
            <a:ext cx="8412120" cy="100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the forces acting on a motorcycle performing a loop-to-lo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5640" y="5549760"/>
            <a:ext cx="841212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think of other objects that undergo similar mo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Tony Zable</cp:lastModifiedBy>
  <dcterms:modified xsi:type="dcterms:W3CDTF">2007-06-24T06:41:32Z</dcterms:modified>
  <cp:revision>53</cp:revision>
  <dc:subject/>
  <dc:title>Phy 211: General Physics I</dc:title>
</cp:coreProperties>
</file>