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201: General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3808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4: Forces and Newton’s Laws of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990720"/>
            <a:ext cx="8610480" cy="505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“weight” of an object is the gravitational force exerted on it by the earth the magnitude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 = G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arth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bjec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an object’s weight is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W =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objec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object on the surface of the earth, r =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ing the 2 abov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 = G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arth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earth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9.8 m/s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1320" y="1981080"/>
            <a:ext cx="32688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447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ce between 2 surfaces i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is always perpend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normal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the plane of the area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the force of floor that supports you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standing on a scale on the floor of an elevator.  The reading of the scale is equal to the normal force it exerts on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ruct free body diagrams for the sc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ng up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lerating down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amples of Norm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ictio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9144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moves or tends to move along a surface, there is an interaction between the microscopic contact points on the 2 surfaces. This interaction results in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ctional force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o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to the direction of th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2 types of surface fri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(stic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etic (sli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3987720"/>
            <a:ext cx="2722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c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371600"/>
            <a:ext cx="7772400" cy="476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 (or sticking) fri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frictional force exerted when the object tends to move, but the external force is not yet strong enough to actually move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the applied force, the static frictional force increases as well (so the net force is zero) . The force just before breakaway is th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static frictional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static</a:t>
            </a:r>
            <a:r>
              <a:rPr b="0" i="1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max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m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static</a:t>
            </a:r>
            <a:r>
              <a:rPr b="0" i="1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m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tatic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fficient of static fr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norm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netic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8380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etic frictional force is the frictional force exerted by the surface on an object that is moving along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etic frictional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oppose the direction of th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ion is along the surface (parallel to the su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gnitude of the kinetic frictional force depends only on the normal force and the properties of the 2 surfaces i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kinetic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 </a:t>
            </a:r>
            <a:r>
              <a:rPr b="0" i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m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kinetic</a:t>
            </a:r>
            <a:r>
              <a:rPr b="0" i="1" lang="en-US" sz="32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i="1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m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kinet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coefficient of kinetic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normal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nsion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8600" y="106668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rope or cable is massles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52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10280" y="392436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nsio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06668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Pulley (flat surfac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ined Pla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wood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915160" y="934920"/>
            <a:ext cx="2716200" cy="1752840"/>
            <a:chOff x="5915160" y="934920"/>
            <a:chExt cx="2716200" cy="1752840"/>
          </a:xfrm>
        </p:grpSpPr>
        <p:sp>
          <p:nvSpPr>
            <p:cNvPr id="83" name=""/>
            <p:cNvSpPr/>
            <p:nvPr/>
          </p:nvSpPr>
          <p:spPr>
            <a:xfrm>
              <a:off x="6253200" y="1119240"/>
              <a:ext cx="274680" cy="276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57880" y="1274760"/>
              <a:ext cx="0" cy="10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02240" y="1123920"/>
              <a:ext cx="104796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915160" y="2320920"/>
              <a:ext cx="696960" cy="3668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445520" y="934920"/>
              <a:ext cx="696960" cy="3668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702480" y="1297080"/>
              <a:ext cx="1928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02480" y="1297080"/>
              <a:ext cx="0" cy="623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166920" y="2510640"/>
            <a:ext cx="2914920" cy="2156760"/>
            <a:chOff x="3166920" y="2510640"/>
            <a:chExt cx="2914920" cy="2156760"/>
          </a:xfrm>
        </p:grpSpPr>
        <p:sp>
          <p:nvSpPr>
            <p:cNvPr id="91" name=""/>
            <p:cNvSpPr/>
            <p:nvPr/>
          </p:nvSpPr>
          <p:spPr>
            <a:xfrm>
              <a:off x="4056120" y="2948040"/>
              <a:ext cx="0" cy="98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89560" y="2510640"/>
              <a:ext cx="342000" cy="349560"/>
            </a:xfrm>
            <a:custGeom>
              <a:avLst/>
              <a:gdLst/>
              <a:ahLst/>
              <a:rect l="0" t="0" r="r" b="b"/>
              <a:pathLst>
                <a:path w="950" h="971">
                  <a:moveTo>
                    <a:pt x="89" y="225"/>
                  </a:moveTo>
                  <a:lnTo>
                    <a:pt x="89" y="225"/>
                  </a:lnTo>
                  <a:cubicBezTo>
                    <a:pt x="88" y="227"/>
                    <a:pt x="88" y="228"/>
                    <a:pt x="87" y="229"/>
                  </a:cubicBezTo>
                  <a:cubicBezTo>
                    <a:pt x="39" y="300"/>
                    <a:pt x="9" y="382"/>
                    <a:pt x="2" y="467"/>
                  </a:cubicBezTo>
                  <a:cubicBezTo>
                    <a:pt x="-6" y="551"/>
                    <a:pt x="8" y="636"/>
                    <a:pt x="43" y="711"/>
                  </a:cubicBezTo>
                  <a:cubicBezTo>
                    <a:pt x="77" y="786"/>
                    <a:pt x="131" y="850"/>
                    <a:pt x="199" y="896"/>
                  </a:cubicBezTo>
                  <a:cubicBezTo>
                    <a:pt x="267" y="941"/>
                    <a:pt x="346" y="967"/>
                    <a:pt x="429" y="971"/>
                  </a:cubicBezTo>
                  <a:cubicBezTo>
                    <a:pt x="511" y="975"/>
                    <a:pt x="595" y="957"/>
                    <a:pt x="670" y="918"/>
                  </a:cubicBezTo>
                  <a:cubicBezTo>
                    <a:pt x="746" y="879"/>
                    <a:pt x="811" y="821"/>
                    <a:pt x="859" y="750"/>
                  </a:cubicBezTo>
                  <a:cubicBezTo>
                    <a:pt x="859" y="749"/>
                    <a:pt x="860" y="748"/>
                    <a:pt x="861" y="747"/>
                  </a:cubicBezTo>
                  <a:lnTo>
                    <a:pt x="861" y="747"/>
                  </a:lnTo>
                  <a:cubicBezTo>
                    <a:pt x="862" y="745"/>
                    <a:pt x="862" y="744"/>
                    <a:pt x="863" y="743"/>
                  </a:cubicBezTo>
                  <a:cubicBezTo>
                    <a:pt x="911" y="672"/>
                    <a:pt x="941" y="590"/>
                    <a:pt x="948" y="505"/>
                  </a:cubicBezTo>
                  <a:cubicBezTo>
                    <a:pt x="956" y="421"/>
                    <a:pt x="942" y="336"/>
                    <a:pt x="907" y="261"/>
                  </a:cubicBezTo>
                  <a:cubicBezTo>
                    <a:pt x="873" y="186"/>
                    <a:pt x="819" y="122"/>
                    <a:pt x="751" y="76"/>
                  </a:cubicBezTo>
                  <a:cubicBezTo>
                    <a:pt x="683" y="31"/>
                    <a:pt x="604" y="5"/>
                    <a:pt x="521" y="1"/>
                  </a:cubicBezTo>
                  <a:cubicBezTo>
                    <a:pt x="439" y="-3"/>
                    <a:pt x="355" y="15"/>
                    <a:pt x="280" y="54"/>
                  </a:cubicBezTo>
                  <a:cubicBezTo>
                    <a:pt x="204" y="93"/>
                    <a:pt x="139" y="151"/>
                    <a:pt x="91" y="222"/>
                  </a:cubicBezTo>
                  <a:cubicBezTo>
                    <a:pt x="91" y="223"/>
                    <a:pt x="90" y="224"/>
                    <a:pt x="89" y="225"/>
                  </a:cubicBezTo>
                  <a:close/>
                </a:path>
              </a:pathLst>
            </a:cu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3320" y="2768760"/>
              <a:ext cx="15840" cy="1498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63880" y="2558880"/>
              <a:ext cx="1063800" cy="717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166920" y="4195800"/>
              <a:ext cx="851040" cy="471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851360" y="3279600"/>
              <a:ext cx="851040" cy="47160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043520" y="2959200"/>
              <a:ext cx="1955520" cy="1317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5373720" y="39607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95800" y="4321080"/>
              <a:ext cx="911160" cy="0"/>
            </a:xfrm>
            <a:prstGeom prst="line">
              <a:avLst/>
            </a:prstGeom>
            <a:ln w="12600">
              <a:solidFill>
                <a:srgbClr val="ffffff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756480" y="4489560"/>
            <a:ext cx="1252440" cy="1925640"/>
            <a:chOff x="6756480" y="4489560"/>
            <a:chExt cx="1252440" cy="1925640"/>
          </a:xfrm>
        </p:grpSpPr>
        <p:sp>
          <p:nvSpPr>
            <p:cNvPr id="101" name=""/>
            <p:cNvSpPr/>
            <p:nvPr/>
          </p:nvSpPr>
          <p:spPr>
            <a:xfrm>
              <a:off x="7061040" y="4489560"/>
              <a:ext cx="639720" cy="600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66080" y="4778280"/>
              <a:ext cx="0" cy="1051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756480" y="5824440"/>
              <a:ext cx="458640" cy="3668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7378560" y="5819760"/>
              <a:ext cx="630360" cy="59544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94640" y="4768920"/>
              <a:ext cx="0" cy="1050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r Isaac Newton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642-17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invented the “calculus”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long with Gottfried Wilhelm Leibni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his accomplishments included theorie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&amp;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&amp; C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3 Laws of Motion &amp; Law of Universal Gra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ss &amp;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 is a measure of an object’s inertia (measured in 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of object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ght is the effect of an object’s mass due to gravity (measured in 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d by the local gravitational acceleration surrounding th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ton’s 1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net force is exerted on an object its velocity wil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ime rate of change of motion (acceleration) is rela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tional to the size of the net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rsely proportional to the mass of the object (i.e. its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 between them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/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=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rection of force acting on an object determines how its motion is al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tor Nature of 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ton’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is vectorial and can be applied independently in coordinate direction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=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en-US" sz="40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ton’s 3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r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When an object exerts a force on a second object, the second object exerts an equal but oppositely directed force on the firs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always occur in action-reaction pairs (never by themselv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force in an action-reaction pair acts on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mporta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ccecff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dentifies the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for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duced by interactions but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ccff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es the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acceler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each object under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4038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n-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t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40384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762120"/>
            <a:ext cx="853452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an be described as being of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Contact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 is exerted over a distance of space with out direc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s is exerted due to direc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still applies to the force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ravitational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609480"/>
            <a:ext cx="8534520" cy="56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rce of attraction between two massive objects separated by a distance,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ton’s Law of Universal Gravi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G 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6.67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1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k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{the Universal Gravitation constan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the masses of the two object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= distance between the centers of masses, 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2 objects are considered small relative to the distance r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F is the force exerted by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 is the force exerted by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m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F and -F are equal and opposite (action-re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01328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