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D7AA-7613-425E-8283-9A4ACF5B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F40B-10D9-41C7-B3D5-C1148FF0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C59-3DD1-4EF5-AF90-98A104B2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C1EB-7458-421F-BF47-6DA4A94E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EAD-E4B3-4E08-8FBF-F3984F6C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5E21-28B5-493D-97B8-3862FF32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B72E-DAA1-4C58-AF49-EC497962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E12-DE43-4288-A6A6-F738402A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2269-86D1-4A51-A004-9E95B906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AD3-B108-4859-8208-8B965D60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F5F6-2B31-4BFD-88C5-C66F4CBA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0818-88FD-4E97-BD39-C4F68FA8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F3C6-0B0C-4A20-8A9A-F447A231C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0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: Forces &amp; Newton’s Laws of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6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urface Frictional For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moves or tends to move along a surface, there is an interaction between the microscopic contact points on the 2 surfaces. This interaction results in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ictional forc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to the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site to the direction of the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2 types of surface fri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(sti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 (sli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867280" y="3073320"/>
            <a:ext cx="2722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tatic Fric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6680" y="990720"/>
            <a:ext cx="8393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ic (or sticking) fri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    ) is the frictional force exerted when the object tends to move, but the external force is not yet strong enough to actually move the obj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the applied force, the static frictional force increases as well (so the net force is zero) . The force just before breakaway 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imum static frictional fo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the static friction force is always in opposition to the external forces(s) acting on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the maximum static friction forc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fficient (maximum) of static f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normal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9720" y="4230720"/>
          <a:ext cx="19555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9720" y="4230720"/>
                    <a:ext cx="19555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359240" y="954000"/>
          <a:ext cx="28260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9240" y="954000"/>
                    <a:ext cx="2826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071720" y="5014800"/>
          <a:ext cx="720720" cy="54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71720" y="5014800"/>
                    <a:ext cx="72072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Kinetic Fric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991720" cy="55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 frictional force (   ) is the frictional force exerted by the surface on an object that is moving along the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 frictional fo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opposes the direction of the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rection is along the surface (parallel to the surf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the kinetic frictional force depends only on the normal force and the properties of the 2 surfaces i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coefficient of kinetic f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normal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 friction is independent to the rate of travel of the sliding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 friction is independent to the surface area of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162240" y="3762360"/>
          <a:ext cx="139860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2240" y="3762360"/>
                    <a:ext cx="139860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679920" y="961920"/>
          <a:ext cx="303120" cy="5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9920" y="961920"/>
                    <a:ext cx="3031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ension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080" y="1166760"/>
            <a:ext cx="7151760" cy="48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applied through a rope or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rope or cable is mass-le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egligible compared to the bodies it is attached to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can be treated as a connection between 2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ss means no force needed to accelerate 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 of pull transfers unchanged along the 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force at one end is the same as the Reaction force at the other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ttached to a pulley the tension force can be used to change the direction of force acting on a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a tension force is usually an intermediate step to connecting the free-body diagrams between 2 attache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010280" y="762120"/>
            <a:ext cx="2171880" cy="2781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095960" y="3805200"/>
            <a:ext cx="17542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2400" cy="5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ension Applic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281240"/>
            <a:ext cx="480060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Pulley (flat surfac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ined Pla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wood Mach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921280" y="1155600"/>
            <a:ext cx="2710080" cy="1739880"/>
            <a:chOff x="5921280" y="1155600"/>
            <a:chExt cx="2710080" cy="1739880"/>
          </a:xfrm>
        </p:grpSpPr>
        <p:sp>
          <p:nvSpPr>
            <p:cNvPr id="145" name=""/>
            <p:cNvSpPr/>
            <p:nvPr/>
          </p:nvSpPr>
          <p:spPr>
            <a:xfrm>
              <a:off x="6259680" y="1339560"/>
              <a:ext cx="261720" cy="263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57880" y="1488960"/>
              <a:ext cx="0" cy="10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02240" y="1338120"/>
              <a:ext cx="1047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21280" y="2541600"/>
              <a:ext cx="684360" cy="353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51640" y="1155600"/>
              <a:ext cx="684360" cy="353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6702480" y="1511280"/>
              <a:ext cx="192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02480" y="1511280"/>
              <a:ext cx="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173400" y="2667960"/>
            <a:ext cx="2908440" cy="2207160"/>
            <a:chOff x="3173400" y="2667960"/>
            <a:chExt cx="2908440" cy="2207160"/>
          </a:xfrm>
        </p:grpSpPr>
        <p:sp>
          <p:nvSpPr>
            <p:cNvPr id="153" name=""/>
            <p:cNvSpPr/>
            <p:nvPr/>
          </p:nvSpPr>
          <p:spPr>
            <a:xfrm>
              <a:off x="4056120" y="3162240"/>
              <a:ext cx="0" cy="98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40000">
              <a:off x="3598560" y="2728800"/>
              <a:ext cx="322200" cy="339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13320" y="2982960"/>
              <a:ext cx="15840" cy="149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63880" y="2773080"/>
              <a:ext cx="1063800" cy="71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73400" y="4416480"/>
              <a:ext cx="838080" cy="458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40000">
              <a:off x="4857480" y="3499920"/>
              <a:ext cx="838080" cy="459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4043520" y="3173400"/>
              <a:ext cx="1955520" cy="13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73720" y="4174920"/>
              <a:ext cx="70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95800" y="4535280"/>
              <a:ext cx="9111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762600" y="4710240"/>
            <a:ext cx="1239840" cy="1912320"/>
            <a:chOff x="6762600" y="4710240"/>
            <a:chExt cx="1239840" cy="1912320"/>
          </a:xfrm>
        </p:grpSpPr>
        <p:sp>
          <p:nvSpPr>
            <p:cNvPr id="163" name=""/>
            <p:cNvSpPr/>
            <p:nvPr/>
          </p:nvSpPr>
          <p:spPr>
            <a:xfrm>
              <a:off x="7067520" y="4710240"/>
              <a:ext cx="627120" cy="587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66080" y="4992480"/>
              <a:ext cx="0" cy="10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62600" y="6045120"/>
              <a:ext cx="446400" cy="353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85040" y="6040440"/>
              <a:ext cx="617400" cy="58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94640" y="4983120"/>
              <a:ext cx="0" cy="105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ir Isaac Newton (1642-1727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6685200" cy="56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65240" indent="-165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st scientific mind of the late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ed the “calculus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dependently but simultaneously with Gottfried Wilhelm Leibnit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his accomplishments inclu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ticle Theory Light &amp; Op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heory of Heat &amp; Co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3 Law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the Law of Universal Gravit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o settle a parlor bet proposed by Christopher Wren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etition was actually between Edward Haley &amp; Robert Hoo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heory successfully explained planetary motion and elliptical or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746760" y="1158840"/>
            <a:ext cx="2057400" cy="2610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772320" y="3911760"/>
            <a:ext cx="2046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f I have seen further it is by standing on the shoulders of giants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ewton’s 1</a:t>
            </a:r>
            <a:r>
              <a:rPr b="0" lang="en-US" sz="3200" spc="-1" strike="noStrike" baseline="30000">
                <a:solidFill>
                  <a:srgbClr val="a50021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79360" y="1803240"/>
            <a:ext cx="8639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nown as the “Law of Inerti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object is moving in uniform linear motion it has no net force acting on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re is no net force acting on an object, it will stay at rest or maintain its constant speed in a straigh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of matter to maintain uniform motion is called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iner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d a simpler w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ure is laz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{i.e. matter resists changes in motio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658880" y="4635360"/>
          <a:ext cx="554832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8880" y="4635360"/>
                    <a:ext cx="55483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09560" y="996840"/>
            <a:ext cx="77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Every object continues in its state of rest, or of motion unless compelled to change that state by forces impressed upon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ewton’s 2</a:t>
            </a:r>
            <a:r>
              <a:rPr b="0" lang="en-US" sz="3200" spc="-1" strike="noStrike" baseline="30000">
                <a:solidFill>
                  <a:srgbClr val="a50021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805960" cy="55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net force is exerted on an object its velocity will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me rate of change of motion (acceleration) is relat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rtional to the size of the net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ly proportional to the mass of the object (i.e. its inert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 between them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     will always correspond to the direc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3840" y="4202280"/>
          <a:ext cx="3984480" cy="87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4202280"/>
                    <a:ext cx="39844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994280" y="4389480"/>
          <a:ext cx="3935520" cy="5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94280" y="4389480"/>
                    <a:ext cx="39355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513160" y="1522440"/>
          <a:ext cx="3360600" cy="79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3160" y="1522440"/>
                    <a:ext cx="336060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070080" y="5297400"/>
          <a:ext cx="262080" cy="3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70080" y="5297400"/>
                    <a:ext cx="262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171440" y="5703840"/>
          <a:ext cx="600120" cy="52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71440" y="5703840"/>
                    <a:ext cx="60012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ewton’s 3</a:t>
            </a:r>
            <a:r>
              <a:rPr b="0" lang="en-US" sz="3200" spc="-1" strike="noStrike" baseline="30000">
                <a:solidFill>
                  <a:srgbClr val="a50021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464680" cy="58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When an object exerts a force on a second object, the second object exerts an equal but oppositely directed force on the first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que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s always occur in action-reaction pairs (never by themsel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force in an action-reaction pair acts o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orta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ton’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3</a:t>
            </a:r>
            <a:r>
              <a:rPr b="0" lang="en-US" sz="2000" spc="-1" strike="noStrike" baseline="30000">
                <a:solidFill>
                  <a:srgbClr val="0033cc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identifies the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r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by interactions between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ton’s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f00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la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fines the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accele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each object underg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390920" y="2332080"/>
          <a:ext cx="77940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0920" y="2332080"/>
                    <a:ext cx="779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643040" y="2106720"/>
            <a:ext cx="9604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692440" y="2309760"/>
            <a:ext cx="8683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2133720"/>
            <a:ext cx="9604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276800" y="2305080"/>
            <a:ext cx="86832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879640" y="2351160"/>
          <a:ext cx="73044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9640" y="2351160"/>
                    <a:ext cx="7304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233360" y="2889360"/>
          <a:ext cx="1905120" cy="56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3360" y="2889360"/>
                    <a:ext cx="190512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ree-Body Diagram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46612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drawing of a body with only the forces acting on i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s are drawn as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-Body diagrams facilitate the application of Newton’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96880" y="3825720"/>
            <a:ext cx="2044800" cy="2489040"/>
            <a:chOff x="596880" y="3825720"/>
            <a:chExt cx="2044800" cy="2489040"/>
          </a:xfrm>
        </p:grpSpPr>
        <p:sp>
          <p:nvSpPr>
            <p:cNvPr id="77" name=""/>
            <p:cNvSpPr/>
            <p:nvPr/>
          </p:nvSpPr>
          <p:spPr>
            <a:xfrm>
              <a:off x="871560" y="4335120"/>
              <a:ext cx="1146240" cy="1202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28840" y="5632200"/>
              <a:ext cx="0" cy="6825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1508400" y="5663880"/>
            <a:ext cx="438120" cy="466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08400" y="5663880"/>
                      <a:ext cx="438120" cy="46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" name=""/>
            <p:cNvSpPr/>
            <p:nvPr/>
          </p:nvSpPr>
          <p:spPr>
            <a:xfrm>
              <a:off x="596880" y="382572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 in “Free Fall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814480" y="3179880"/>
            <a:ext cx="2649600" cy="3273480"/>
            <a:chOff x="2814480" y="3179880"/>
            <a:chExt cx="2649600" cy="3273480"/>
          </a:xfrm>
        </p:grpSpPr>
        <p:sp>
          <p:nvSpPr>
            <p:cNvPr id="83" name=""/>
            <p:cNvSpPr/>
            <p:nvPr/>
          </p:nvSpPr>
          <p:spPr>
            <a:xfrm>
              <a:off x="3340080" y="4473720"/>
              <a:ext cx="1146240" cy="1202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97360" y="5770440"/>
              <a:ext cx="0" cy="682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3976560" y="5802480"/>
            <a:ext cx="438120" cy="466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76560" y="5802480"/>
                      <a:ext cx="43812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"/>
            <p:cNvGraphicFramePr/>
            <p:nvPr/>
          </p:nvGraphicFramePr>
          <p:xfrm>
            <a:off x="4033800" y="3801960"/>
            <a:ext cx="733320" cy="58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33800" y="3801960"/>
                      <a:ext cx="733320" cy="58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"/>
            <p:cNvSpPr/>
            <p:nvPr/>
          </p:nvSpPr>
          <p:spPr>
            <a:xfrm>
              <a:off x="3925800" y="3721320"/>
              <a:ext cx="0" cy="6825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14480" y="317988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 standing on a flo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977080" y="3176640"/>
            <a:ext cx="2690280" cy="3463920"/>
            <a:chOff x="5977080" y="3176640"/>
            <a:chExt cx="2690280" cy="3463920"/>
          </a:xfrm>
        </p:grpSpPr>
        <p:sp>
          <p:nvSpPr>
            <p:cNvPr id="92" name=""/>
            <p:cNvSpPr/>
            <p:nvPr/>
          </p:nvSpPr>
          <p:spPr>
            <a:xfrm>
              <a:off x="6502320" y="4660920"/>
              <a:ext cx="1145880" cy="1202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59600" y="5958000"/>
              <a:ext cx="0" cy="6825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7138800" y="5989680"/>
            <a:ext cx="437760" cy="466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38800" y="5989680"/>
                      <a:ext cx="43776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" name=""/>
            <p:cNvGraphicFramePr/>
            <p:nvPr/>
          </p:nvGraphicFramePr>
          <p:xfrm>
            <a:off x="7196040" y="3989520"/>
            <a:ext cx="732960" cy="587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196040" y="3989520"/>
                      <a:ext cx="73296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7088040" y="3908520"/>
              <a:ext cx="0" cy="6825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77080" y="3176640"/>
              <a:ext cx="26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 getting slapped while standing on a flo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21280" y="5068800"/>
              <a:ext cx="387000" cy="1555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1" name=""/>
            <p:cNvGraphicFramePr/>
            <p:nvPr/>
          </p:nvGraphicFramePr>
          <p:xfrm>
            <a:off x="7992720" y="4692600"/>
            <a:ext cx="67464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92720" y="4692600"/>
                      <a:ext cx="67464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67840"/>
            <a:ext cx="7772400" cy="7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ypes of For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4971600"/>
            <a:ext cx="3809880" cy="18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-Cont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it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4971600"/>
            <a:ext cx="3809880" cy="18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9051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766800"/>
            <a:ext cx="853416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ur world, forces can be categorized as one of 2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Contac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ce is exerted over a distance of space with out direct contac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a.k.a. “action-at-a-distance” for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c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ces is exerted due to direct cont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(Note: at the microscopic level, ALL forces are non-cont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ither case, Newton’s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w still applies to the force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s of each type of for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ss vs. Weigh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993600"/>
            <a:ext cx="5705640" cy="42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weight” of an object is the gravitational force exerted on it by the gravitational attraction between the object and its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urface of the Earth, the gravitational force is referred to as weig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is a measure of an object’s inertia (measured in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object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i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gravit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 object’s mass (measured in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d by the local gravitational acceleration surrounding th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54680" y="1806480"/>
            <a:ext cx="3268800" cy="309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490680" y="1693800"/>
          <a:ext cx="6495840" cy="62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0680" y="1693800"/>
                    <a:ext cx="64958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68360" y="2751120"/>
          <a:ext cx="5299200" cy="49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2751120"/>
                    <a:ext cx="52992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96920" y="5146560"/>
            <a:ext cx="85424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is a measure of an object’s inertia (measured in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object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i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gravit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 object’s mass (measured in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d by the local gravitational acceleration surrounding th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ormal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04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83320" indent="-28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support” force between 2 surfaces i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is always perpendicul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norm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plane of the area of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3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the force of floor that supports your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3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standing on a scale on the floor of an elevator.  The reading of the scale is equal to the normal force it exerts on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3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free body diagrams for the sc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824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824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824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ing up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824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ing down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s of Normal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4470480" cy="3684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67280" y="1752480"/>
            <a:ext cx="27939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23T22:42:01Z</dcterms:modified>
  <cp:revision>51</cp:revision>
  <dc:subject/>
  <dc:title>Phy 211: General Physics I</dc:title>
</cp:coreProperties>
</file>