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27.png" ContentType="image/png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6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2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E98C-9C57-418A-95A5-43AD06B2A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52280" y="36396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C6B8-A507-48C3-BFF5-D2EF95C46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180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1390-693A-4376-BB54-841537125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4100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3008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5228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4100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3008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451F-B20E-4D46-B8B6-DD00A25CC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01B9-40B3-41A7-8918-D89154F3C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05CB-2B1B-44E5-8167-6AA41F796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7046-2DE9-4906-9620-328E6CDAA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AB29-2EF9-408F-B0EA-30A36D7EE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375840"/>
            <a:ext cx="8229600" cy="270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E88D-2290-4CC4-B4A8-1D1837355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011F-0E28-4FE8-A03A-784AA33C0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180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6203-3E26-44BF-B609-E75E3DA73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36EF-9717-4C21-97E1-9E1A66E0A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FD5D3-D60F-4C33-B354-E755EF81D7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14560" cy="37152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114560" y="0"/>
            <a:ext cx="8029440" cy="36360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3.wmf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6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Phy 201: General Physics I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37720" y="3886200"/>
            <a:ext cx="7543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4: Forces &amp; Newton’s Laws of Mo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cture No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12480"/>
            <a:ext cx="7772400" cy="67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Surface Frictional Force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an object moves or tends to move along a surface, there is an interaction between the microscopic contact points on the 2 surfaces. This interaction results in 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rictional force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t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llel to the su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posite to the direction of the mo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2 types of surface fri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ic (stick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inetic (slid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867280" y="3073320"/>
            <a:ext cx="2722680" cy="26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Static Friction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56680" y="990720"/>
            <a:ext cx="839340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atic (or sticking) fri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     ) is the frictional force exerted when the object tends to move, but the external force is not yet strong enough to actually move the objec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ing the applied force, the static frictional force increases as well (so the net force is zero) . The force just before breakaway is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aximum static frictional for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irection of the static friction force is always in opposition to the external forces(s) acting on the bo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agnitude of the maximum static friction force 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he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efficient (maximum) of static fri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normal fo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3249720" y="4230720"/>
          <a:ext cx="1955520" cy="64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9720" y="4230720"/>
                    <a:ext cx="195552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4359240" y="954000"/>
          <a:ext cx="282600" cy="541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59240" y="954000"/>
                    <a:ext cx="282600" cy="5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071720" y="5014800"/>
          <a:ext cx="720720" cy="547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71720" y="5014800"/>
                    <a:ext cx="720720" cy="5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Kinetic Friction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1920" y="1036800"/>
            <a:ext cx="8991720" cy="55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inetic frictional force (   ) is the frictional force exerted by the surface on an object that is moving along the su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inetic frictional for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ways opposes the direction of the mo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irection is along the surface (parallel to the surfa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agnitude of the kinetic frictional force depends only on the normal force and the properties of the 2 surfaces in cont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the coefficient of kinetic fri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the normal fo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inetic friction is independent to the rate of travel of the sliding 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inetic friction is independent to the surface area of cont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3162240" y="3762360"/>
          <a:ext cx="1398600" cy="66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62240" y="3762360"/>
                    <a:ext cx="1398600" cy="66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3679920" y="961920"/>
          <a:ext cx="303120" cy="530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79920" y="961920"/>
                    <a:ext cx="30312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Tension Force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0080" y="1166760"/>
            <a:ext cx="7151760" cy="485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ce applied through a rope or c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the rope or cable is mass-les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negligible compared to the bodies it is attached to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t can be treated as a connection between 2 bod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mass means no force needed to accelerate 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ce of pull transfers unchanged along the rop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on force at one end is the same as the Reaction force at the other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attached to a pulley the tension force can be used to change the direction of force acting on a bo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culation of a tension force is usually an intermediate step to connecting the free-body diagrams between 2 attached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7010280" y="762120"/>
            <a:ext cx="2171880" cy="27813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7095960" y="3805200"/>
            <a:ext cx="1754280" cy="29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464760"/>
            <a:ext cx="7772400" cy="5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Tension Application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440" y="1281240"/>
            <a:ext cx="4800600" cy="513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Pulley (flat surface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ined Plan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wood Machin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5921280" y="1155600"/>
            <a:ext cx="2710080" cy="1739880"/>
            <a:chOff x="5921280" y="1155600"/>
            <a:chExt cx="2710080" cy="1739880"/>
          </a:xfrm>
        </p:grpSpPr>
        <p:sp>
          <p:nvSpPr>
            <p:cNvPr id="145" name=""/>
            <p:cNvSpPr/>
            <p:nvPr/>
          </p:nvSpPr>
          <p:spPr>
            <a:xfrm>
              <a:off x="6259680" y="1339560"/>
              <a:ext cx="261720" cy="2638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257880" y="1488960"/>
              <a:ext cx="0" cy="1050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402240" y="1338120"/>
              <a:ext cx="1047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921280" y="2541600"/>
              <a:ext cx="684360" cy="3538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451640" y="1155600"/>
              <a:ext cx="684360" cy="3538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6702480" y="1511280"/>
              <a:ext cx="1928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702480" y="1511280"/>
              <a:ext cx="0" cy="623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3173400" y="2667960"/>
            <a:ext cx="2908440" cy="2207160"/>
            <a:chOff x="3173400" y="2667960"/>
            <a:chExt cx="2908440" cy="2207160"/>
          </a:xfrm>
        </p:grpSpPr>
        <p:sp>
          <p:nvSpPr>
            <p:cNvPr id="153" name=""/>
            <p:cNvSpPr/>
            <p:nvPr/>
          </p:nvSpPr>
          <p:spPr>
            <a:xfrm>
              <a:off x="4056120" y="3162240"/>
              <a:ext cx="0" cy="984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rot="2040000">
              <a:off x="3598560" y="2728800"/>
              <a:ext cx="322200" cy="3398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613320" y="2982960"/>
              <a:ext cx="15840" cy="1498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863880" y="2773080"/>
              <a:ext cx="1063800" cy="717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173400" y="4416480"/>
              <a:ext cx="838080" cy="4586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rot="2040000">
              <a:off x="4857480" y="3499920"/>
              <a:ext cx="838080" cy="4590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 flipV="1">
              <a:off x="4043520" y="3173400"/>
              <a:ext cx="1955520" cy="1317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373720" y="4174920"/>
              <a:ext cx="7081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095800" y="4535280"/>
              <a:ext cx="91116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6762600" y="4710240"/>
            <a:ext cx="1239840" cy="1912320"/>
            <a:chOff x="6762600" y="4710240"/>
            <a:chExt cx="1239840" cy="1912320"/>
          </a:xfrm>
        </p:grpSpPr>
        <p:sp>
          <p:nvSpPr>
            <p:cNvPr id="163" name=""/>
            <p:cNvSpPr/>
            <p:nvPr/>
          </p:nvSpPr>
          <p:spPr>
            <a:xfrm>
              <a:off x="7067520" y="4710240"/>
              <a:ext cx="627120" cy="5871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66080" y="4992480"/>
              <a:ext cx="0" cy="1050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762600" y="6045120"/>
              <a:ext cx="446400" cy="3535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385040" y="6040440"/>
              <a:ext cx="617400" cy="5821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694640" y="4983120"/>
              <a:ext cx="0" cy="1050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Sir Isaac Newton (1642-1727)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6685200" cy="563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65240" indent="-165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eatest scientific mind of the late 1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entu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5240" indent="-1652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nted the “calculus”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ndependently but simultaneously with Gottfried Wilhelm Leibnit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5240" indent="-165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ong his accomplishments includ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520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Particle Theory Light &amp; Op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520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Theory of Heat &amp; Coo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5240" indent="-165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ablished 3 Laws of Mo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5240" indent="-165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osed the Law of Universal Gravitatio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to settle a parlor bet proposed by Christopher Wren!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520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ompetition was actually between Edward Haley &amp; Robert Hoo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520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theory successfully explained planetary motion and elliptical orb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746760" y="1158840"/>
            <a:ext cx="2057400" cy="26100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6772320" y="3911760"/>
            <a:ext cx="2046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If I have seen further it is by standing on the shoulders of giants.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Newton’s 1</a:t>
            </a:r>
            <a:r>
              <a:rPr b="0" lang="en-US" sz="3200" spc="-1" strike="noStrike" baseline="30000">
                <a:solidFill>
                  <a:srgbClr val="a50021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 Law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79360" y="1803240"/>
            <a:ext cx="8639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known as the “Law of Inertia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y Poi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an object is moving in uniform linear motion it has no net force acting on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there is no net force acting on an object, it will stay at rest or maintain its constant speed in a straight 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property of matter to maintain uniform motion is called 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inert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d a simpler wa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ture is lazy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cc"/>
                </a:solidFill>
                <a:latin typeface="Arial"/>
              </a:rPr>
              <a:t>{i.e. matter resists changes in motion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1658880" y="4635360"/>
          <a:ext cx="5548320" cy="55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58880" y="4635360"/>
                    <a:ext cx="5548320" cy="5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>
            <a:off x="709560" y="996840"/>
            <a:ext cx="771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Every object continues in its state of rest, or of motion unless compelled to change that state by forces impressed upon 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Newton’s 2</a:t>
            </a:r>
            <a:r>
              <a:rPr b="0" lang="en-US" sz="3200" spc="-1" strike="noStrike" baseline="30000">
                <a:solidFill>
                  <a:srgbClr val="a50021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 Law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1920" y="1036800"/>
            <a:ext cx="8805960" cy="554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a net force is exerted on an object its velocity will chan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ime rate of change of motion (acceleration) is relat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2667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ortional to the size of the net fo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2667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ersely proportional to the mass of the object (i.e. its inerti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lationship between them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r</a:t>
            </a:r>
            <a:r>
              <a:rPr b="1" lang="en-US" sz="32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66ff33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irection of      will always correspond to the direction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393840" y="4202280"/>
          <a:ext cx="3984480" cy="87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3840" y="4202280"/>
                    <a:ext cx="3984480" cy="87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4994280" y="4389480"/>
          <a:ext cx="3935520" cy="563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94280" y="4389480"/>
                    <a:ext cx="3935520" cy="56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2513160" y="1522440"/>
          <a:ext cx="3360600" cy="797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13160" y="1522440"/>
                    <a:ext cx="3360600" cy="79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070080" y="5297400"/>
          <a:ext cx="262080" cy="393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70080" y="5297400"/>
                    <a:ext cx="262080" cy="3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1171440" y="5703840"/>
          <a:ext cx="600120" cy="525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171440" y="5703840"/>
                    <a:ext cx="600120" cy="52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Newton’s 3</a:t>
            </a:r>
            <a:r>
              <a:rPr b="0" lang="en-US" sz="3200" spc="-1" strike="noStrike" baseline="30000">
                <a:solidFill>
                  <a:srgbClr val="a50021"/>
                </a:solidFill>
                <a:latin typeface="Arial"/>
              </a:rPr>
              <a:t>rd</a:t>
            </a: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 Law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1920" y="1036800"/>
            <a:ext cx="8464680" cy="582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60336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When an object exerts a force on a second object, the second object exerts an equal but oppositely directed force on the first 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sequenc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ces always occur in action-reaction pairs (never by themselv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force in an action-reaction pair acts on a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iffe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mportant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ton’s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 3</a:t>
            </a:r>
            <a:r>
              <a:rPr b="0" lang="en-US" sz="2000" spc="-1" strike="noStrike" baseline="30000">
                <a:solidFill>
                  <a:srgbClr val="0033cc"/>
                </a:solidFill>
                <a:latin typeface="Arial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law identifies the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orc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roduced by interactions between bod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ton’s </a:t>
            </a: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ff0066"/>
                </a:solidFill>
                <a:latin typeface="Arial"/>
              </a:rPr>
              <a:t>nd</a:t>
            </a: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 la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fines the </a:t>
            </a: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accelerat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at each object undergo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4390920" y="2332080"/>
          <a:ext cx="779400" cy="50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90920" y="2332080"/>
                    <a:ext cx="77940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/>
          <p:nvPr/>
        </p:nvSpPr>
        <p:spPr>
          <a:xfrm>
            <a:off x="1643040" y="2106720"/>
            <a:ext cx="960480" cy="368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d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692440" y="2309760"/>
            <a:ext cx="868320" cy="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257800" y="2133720"/>
            <a:ext cx="960480" cy="368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d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4276800" y="2305080"/>
            <a:ext cx="868320" cy="0"/>
          </a:xfrm>
          <a:prstGeom prst="line">
            <a:avLst/>
          </a:prstGeom>
          <a:ln w="38160">
            <a:solidFill>
              <a:srgbClr val="ff0066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2879640" y="2351160"/>
          <a:ext cx="730440" cy="469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79640" y="2351160"/>
                    <a:ext cx="730440" cy="46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1233360" y="2889360"/>
          <a:ext cx="1905120" cy="568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33360" y="2889360"/>
                    <a:ext cx="1905120" cy="56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Free-Body Diagram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1920" y="1036800"/>
            <a:ext cx="8466120" cy="36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drawing of a body with only the forces acting on it spec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orces are drawn as ve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e-Body diagrams facilitate the application of Newton’s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596880" y="3825720"/>
            <a:ext cx="2044800" cy="2489040"/>
            <a:chOff x="596880" y="3825720"/>
            <a:chExt cx="2044800" cy="2489040"/>
          </a:xfrm>
        </p:grpSpPr>
        <p:sp>
          <p:nvSpPr>
            <p:cNvPr id="77" name=""/>
            <p:cNvSpPr/>
            <p:nvPr/>
          </p:nvSpPr>
          <p:spPr>
            <a:xfrm>
              <a:off x="871560" y="4335120"/>
              <a:ext cx="1146240" cy="12027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Joe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428840" y="5632200"/>
              <a:ext cx="0" cy="68256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1508400" y="5663880"/>
            <a:ext cx="438120" cy="466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508400" y="5663880"/>
                      <a:ext cx="438120" cy="466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1" name=""/>
            <p:cNvSpPr/>
            <p:nvPr/>
          </p:nvSpPr>
          <p:spPr>
            <a:xfrm>
              <a:off x="596880" y="382572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Joey in “Free Fall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2814480" y="3179880"/>
            <a:ext cx="2649600" cy="3273480"/>
            <a:chOff x="2814480" y="3179880"/>
            <a:chExt cx="2649600" cy="3273480"/>
          </a:xfrm>
        </p:grpSpPr>
        <p:sp>
          <p:nvSpPr>
            <p:cNvPr id="83" name=""/>
            <p:cNvSpPr/>
            <p:nvPr/>
          </p:nvSpPr>
          <p:spPr>
            <a:xfrm>
              <a:off x="3340080" y="4473720"/>
              <a:ext cx="1146240" cy="12027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Joe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897360" y="5770440"/>
              <a:ext cx="0" cy="68292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85" name=""/>
            <p:cNvGraphicFramePr/>
            <p:nvPr/>
          </p:nvGraphicFramePr>
          <p:xfrm>
            <a:off x="3976560" y="5802480"/>
            <a:ext cx="438120" cy="4665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976560" y="5802480"/>
                      <a:ext cx="438120" cy="466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7" name=""/>
            <p:cNvGraphicFramePr/>
            <p:nvPr/>
          </p:nvGraphicFramePr>
          <p:xfrm>
            <a:off x="4033800" y="3801960"/>
            <a:ext cx="733320" cy="5875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88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033800" y="3801960"/>
                      <a:ext cx="733320" cy="587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9" name=""/>
            <p:cNvSpPr/>
            <p:nvPr/>
          </p:nvSpPr>
          <p:spPr>
            <a:xfrm>
              <a:off x="3925800" y="3721320"/>
              <a:ext cx="0" cy="68256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814480" y="3179880"/>
              <a:ext cx="264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Joey standing on a flo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5977080" y="3176640"/>
            <a:ext cx="2690280" cy="3463920"/>
            <a:chOff x="5977080" y="3176640"/>
            <a:chExt cx="2690280" cy="3463920"/>
          </a:xfrm>
        </p:grpSpPr>
        <p:sp>
          <p:nvSpPr>
            <p:cNvPr id="92" name=""/>
            <p:cNvSpPr/>
            <p:nvPr/>
          </p:nvSpPr>
          <p:spPr>
            <a:xfrm>
              <a:off x="6502320" y="4660920"/>
              <a:ext cx="1145880" cy="12027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Joe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059600" y="5958000"/>
              <a:ext cx="0" cy="68256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94" name=""/>
            <p:cNvGraphicFramePr/>
            <p:nvPr/>
          </p:nvGraphicFramePr>
          <p:xfrm>
            <a:off x="7138800" y="5989680"/>
            <a:ext cx="437760" cy="4665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9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7138800" y="5989680"/>
                      <a:ext cx="437760" cy="466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6" name=""/>
            <p:cNvGraphicFramePr/>
            <p:nvPr/>
          </p:nvGraphicFramePr>
          <p:xfrm>
            <a:off x="7196040" y="3989520"/>
            <a:ext cx="732960" cy="5871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9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7196040" y="3989520"/>
                      <a:ext cx="732960" cy="587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8" name=""/>
            <p:cNvSpPr/>
            <p:nvPr/>
          </p:nvSpPr>
          <p:spPr>
            <a:xfrm>
              <a:off x="7088040" y="3908520"/>
              <a:ext cx="0" cy="68256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77080" y="3176640"/>
              <a:ext cx="2649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Joey getting slapped while standing on a flo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721280" y="5068800"/>
              <a:ext cx="387000" cy="15552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01" name=""/>
            <p:cNvGraphicFramePr/>
            <p:nvPr/>
          </p:nvGraphicFramePr>
          <p:xfrm>
            <a:off x="7992720" y="4692600"/>
            <a:ext cx="674640" cy="6159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2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7992720" y="4692600"/>
                      <a:ext cx="674640" cy="615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67840"/>
            <a:ext cx="7772400" cy="76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Types of Force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4971600"/>
            <a:ext cx="3809880" cy="188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on-Contac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vita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gne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47960" y="4971600"/>
            <a:ext cx="3809880" cy="188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ontac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ic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85800" y="1905120"/>
            <a:ext cx="7772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04920" y="766800"/>
            <a:ext cx="8534160" cy="42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1280" indent="-3412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our world, forces can be categorized as one of 2 typ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2536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n-Contact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rce is exerted over a distance of space with out direct contac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a.k.a. “action-at-a-distance” forc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2536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tact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rces is exerted due to direct conta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253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66"/>
                </a:solidFill>
                <a:latin typeface="Times New Roman"/>
              </a:rPr>
              <a:t>(Note: at the microscopic level, ALL forces are non-conta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either case, Newton’s 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aw still applies to the forces pres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xamples of each type of for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Mass vs. Weight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1920" y="993600"/>
            <a:ext cx="5705640" cy="429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“weight” of an object is the gravitational force exerted on it by the gravitational attraction between the object and its environme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33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the surface of the Earth, the gravitational force is referred to as weigh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s is a measure of an object’s inertia (measured in k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object lo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ght is th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ffe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gravity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 object’s mass (measured in 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termined by the local gravitational acceleration surrounding the obj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854680" y="1806480"/>
            <a:ext cx="3268800" cy="3098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1" name=""/>
          <p:cNvGraphicFramePr/>
          <p:nvPr/>
        </p:nvGraphicFramePr>
        <p:xfrm>
          <a:off x="490680" y="1693800"/>
          <a:ext cx="6495840" cy="628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90680" y="1693800"/>
                    <a:ext cx="6495840" cy="62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468360" y="2751120"/>
          <a:ext cx="5299200" cy="498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68360" y="2751120"/>
                    <a:ext cx="5299200" cy="49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>
            <a:off x="196920" y="5146560"/>
            <a:ext cx="8542440" cy="15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s is a measure of an object’s inertia (measured in k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object lo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ght is th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ffe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gravity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 object’s mass (measured in 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termined by the local gravitational acceleration surrounding the obj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Normal Force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20492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283320" indent="-283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“support” force between 2 surfaces in cont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3320" indent="-283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ion is always perpendicula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or normal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the plane of the area of cont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3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Example: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 the force of floor that supports your we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3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 standing on a scale on the floor of an elevator.  The reading of the scale is equal to the normal force it exerts on y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3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sk: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ruct free body diagrams for the sca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38240" indent="-42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r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38240" indent="-42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tant velo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38240" indent="-42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elerating upw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38240" indent="-42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elerating downw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Examples of Normal Force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4470480" cy="36846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5867280" y="1752480"/>
            <a:ext cx="2793960" cy="477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1:09:15Z</dcterms:created>
  <dc:creator>Tony Zable</dc:creator>
  <dc:description/>
  <dc:language>en-US</dc:language>
  <cp:lastModifiedBy>Tony Zable</cp:lastModifiedBy>
  <dcterms:modified xsi:type="dcterms:W3CDTF">2007-06-23T22:42:01Z</dcterms:modified>
  <cp:revision>51</cp:revision>
  <dc:subject/>
  <dc:title>Phy 211: General Physics I</dc:title>
</cp:coreProperties>
</file>