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E1E-D067-4509-8AC0-89E010D6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C4A-D322-4B12-AD40-65F6A67D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1F2-9723-4468-93C3-0F3B5FEC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FE1-ABD7-4AEB-BCCB-E1A17DE8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921-0CF4-46D6-B8F0-8FF7398E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256-ABC4-4A4B-AB7E-F2D28F4E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6B4-B35F-4623-B63E-5194A503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7B1-8B79-462B-8DCE-35113BB1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63600"/>
            <a:ext cx="82296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DAA-BE0F-4129-B1DF-C40FA614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C8E-9070-40A2-8A53-B8BD00DF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A9C-413C-44F9-96B0-44B269A5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E71-69F2-45AB-BAEA-0FD9DFF4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03B1-2AF0-47CD-85DA-A7A9660B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Motion in 2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2-Dimensional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tion that is not along a straight line is a two-dimensional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ition, displacement, velocity and acceleration vectors are necessarily not on the same directions; the rules for vector addition and subtraction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velocity vector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tangent to the trajecto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velocity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in the direction of </a:t>
            </a: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acceleration vector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tangent to the slope of the velocity at each instant in ti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acceleration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in the direction of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09080" y="2997360"/>
            <a:ext cx="973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997680" y="1765440"/>
            <a:ext cx="1874880" cy="1980720"/>
            <a:chOff x="6997680" y="1765440"/>
            <a:chExt cx="1874880" cy="1980720"/>
          </a:xfrm>
        </p:grpSpPr>
        <p:sp>
          <p:nvSpPr>
            <p:cNvPr id="49" name=""/>
            <p:cNvSpPr/>
            <p:nvPr/>
          </p:nvSpPr>
          <p:spPr>
            <a:xfrm>
              <a:off x="6997680" y="3421080"/>
              <a:ext cx="177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6997680" y="1904760"/>
              <a:ext cx="0" cy="184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13480" y="2230560"/>
              <a:ext cx="1043280" cy="868320"/>
            </a:xfrm>
            <a:custGeom>
              <a:avLst/>
              <a:gdLst/>
              <a:ahLst/>
              <a:rect l="l" t="t" r="r" b="b"/>
              <a:pathLst>
                <a:path w="657" h="547">
                  <a:moveTo>
                    <a:pt x="0" y="0"/>
                  </a:moveTo>
                  <a:lnTo>
                    <a:pt x="58" y="4"/>
                  </a:lnTo>
                  <a:lnTo>
                    <a:pt x="114" y="9"/>
                  </a:lnTo>
                  <a:lnTo>
                    <a:pt x="169" y="15"/>
                  </a:lnTo>
                  <a:lnTo>
                    <a:pt x="222" y="21"/>
                  </a:lnTo>
                  <a:lnTo>
                    <a:pt x="271" y="30"/>
                  </a:lnTo>
                  <a:lnTo>
                    <a:pt x="294" y="35"/>
                  </a:lnTo>
                  <a:lnTo>
                    <a:pt x="317" y="40"/>
                  </a:lnTo>
                  <a:lnTo>
                    <a:pt x="338" y="46"/>
                  </a:lnTo>
                  <a:lnTo>
                    <a:pt x="358" y="53"/>
                  </a:lnTo>
                  <a:lnTo>
                    <a:pt x="377" y="60"/>
                  </a:lnTo>
                  <a:lnTo>
                    <a:pt x="394" y="68"/>
                  </a:lnTo>
                  <a:lnTo>
                    <a:pt x="410" y="77"/>
                  </a:lnTo>
                  <a:lnTo>
                    <a:pt x="424" y="87"/>
                  </a:lnTo>
                  <a:lnTo>
                    <a:pt x="435" y="97"/>
                  </a:lnTo>
                  <a:lnTo>
                    <a:pt x="446" y="109"/>
                  </a:lnTo>
                  <a:lnTo>
                    <a:pt x="454" y="120"/>
                  </a:lnTo>
                  <a:lnTo>
                    <a:pt x="463" y="132"/>
                  </a:lnTo>
                  <a:lnTo>
                    <a:pt x="476" y="158"/>
                  </a:lnTo>
                  <a:lnTo>
                    <a:pt x="488" y="186"/>
                  </a:lnTo>
                  <a:lnTo>
                    <a:pt x="498" y="214"/>
                  </a:lnTo>
                  <a:lnTo>
                    <a:pt x="510" y="243"/>
                  </a:lnTo>
                  <a:lnTo>
                    <a:pt x="525" y="273"/>
                  </a:lnTo>
                  <a:lnTo>
                    <a:pt x="533" y="289"/>
                  </a:lnTo>
                  <a:lnTo>
                    <a:pt x="541" y="306"/>
                  </a:lnTo>
                  <a:lnTo>
                    <a:pt x="551" y="325"/>
                  </a:lnTo>
                  <a:lnTo>
                    <a:pt x="559" y="345"/>
                  </a:lnTo>
                  <a:lnTo>
                    <a:pt x="577" y="385"/>
                  </a:lnTo>
                  <a:lnTo>
                    <a:pt x="595" y="427"/>
                  </a:lnTo>
                  <a:lnTo>
                    <a:pt x="603" y="446"/>
                  </a:lnTo>
                  <a:lnTo>
                    <a:pt x="612" y="466"/>
                  </a:lnTo>
                  <a:lnTo>
                    <a:pt x="620" y="484"/>
                  </a:lnTo>
                  <a:lnTo>
                    <a:pt x="628" y="501"/>
                  </a:lnTo>
                  <a:lnTo>
                    <a:pt x="636" y="515"/>
                  </a:lnTo>
                  <a:lnTo>
                    <a:pt x="642" y="528"/>
                  </a:lnTo>
                  <a:lnTo>
                    <a:pt x="650" y="538"/>
                  </a:lnTo>
                  <a:lnTo>
                    <a:pt x="656" y="54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997680" y="2230200"/>
              <a:ext cx="415800" cy="11905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016760" y="3060720"/>
              <a:ext cx="1352520" cy="324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13480" y="2230560"/>
              <a:ext cx="1041480" cy="866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34400" y="2230560"/>
              <a:ext cx="417240" cy="325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26280" y="1765440"/>
              <a:ext cx="13539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(t</a:t>
              </a:r>
              <a:r>
                <a:rPr b="0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1981440"/>
              <a:ext cx="64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xample of 2-D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40240" cy="4673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6082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Displacement, Velocity &amp; Accelerat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08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nsidering motion problems in 2-D, the definitions for the motion vectors described in Chapter 2 still a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useful to break problems into two 1-D problems, us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c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asic trigonometry relations to obtain vertical &amp; horizontal components for all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3398760"/>
          <a:ext cx="23176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98760"/>
                    <a:ext cx="2317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362320" y="4241880"/>
          <a:ext cx="2361960" cy="6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241880"/>
                    <a:ext cx="23619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19280" y="2695680"/>
          <a:ext cx="335304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9280" y="2695680"/>
                    <a:ext cx="33530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1200" y="826920"/>
            <a:ext cx="861084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replace t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in the above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quations of Kinematics in 2-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3120"/>
            <a:ext cx="380988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rizon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203120"/>
            <a:ext cx="3809880" cy="21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t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2120" y="4043520"/>
            <a:ext cx="85122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lassic 2-D mo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motion is treated the same as free-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9.8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downwar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 motion is independent of vertical motion but connected by time but no acceleration vector in horizontal di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ith Free Fall Motion, air resistance is neg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4902120" cy="2390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4521240" cy="31129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4991040" y="851040"/>
            <a:ext cx="3924360" cy="5816520"/>
            <a:chOff x="4991040" y="851040"/>
            <a:chExt cx="3924360" cy="5816520"/>
          </a:xfrm>
        </p:grpSpPr>
        <p:sp>
          <p:nvSpPr>
            <p:cNvPr id="78" name=""/>
            <p:cNvSpPr/>
            <p:nvPr/>
          </p:nvSpPr>
          <p:spPr>
            <a:xfrm>
              <a:off x="5403960" y="5349960"/>
              <a:ext cx="9360" cy="13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49960" y="5349960"/>
              <a:ext cx="9720" cy="13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40240" y="920880"/>
              <a:ext cx="11160" cy="13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346720" y="1787400"/>
              <a:ext cx="14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27680" y="1689120"/>
              <a:ext cx="3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91040" y="85104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2560" y="2405160"/>
              <a:ext cx="11160" cy="13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369040" y="3271680"/>
              <a:ext cx="14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50000" y="317340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3360" y="233532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32680" y="920880"/>
              <a:ext cx="11160" cy="13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7138800" y="1787400"/>
              <a:ext cx="140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20120" y="168912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83480" y="851040"/>
              <a:ext cx="62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55000" y="2405160"/>
              <a:ext cx="10800" cy="13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7161120" y="3271680"/>
              <a:ext cx="14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542440" y="317340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05440" y="2335320"/>
              <a:ext cx="551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96040" y="3878280"/>
              <a:ext cx="9360" cy="13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400360" y="4738680"/>
              <a:ext cx="13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48560" y="4640400"/>
              <a:ext cx="3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54760" y="3809880"/>
              <a:ext cx="3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420880" y="6210360"/>
              <a:ext cx="13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69080" y="6111720"/>
              <a:ext cx="3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5280" y="5281560"/>
              <a:ext cx="3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42040" y="3878280"/>
              <a:ext cx="9720" cy="13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147080" y="4738680"/>
              <a:ext cx="13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94560" y="46404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00760" y="3809880"/>
              <a:ext cx="590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167240" y="6210360"/>
              <a:ext cx="13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15440" y="6111720"/>
              <a:ext cx="3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21640" y="5281560"/>
              <a:ext cx="55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 (cont.)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121440" cy="2379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612144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3T22:58:13Z</dcterms:modified>
  <cp:revision>32</cp:revision>
  <dc:subject/>
  <dc:title>Phy 211: General Physics I</dc:title>
</cp:coreProperties>
</file>