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B7D-A2C1-45D4-8435-E84FF589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847-4581-40FF-97A1-9666F9C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61D-2C5A-4E2A-97CB-A916C594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51D-B3A8-46D0-B798-6D71C840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BAB-14B4-4EF0-8620-7BFB816F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E87-66C9-4121-945A-85C234B6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8E3-F799-402A-8EA1-C7C60377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52C-2739-461B-B212-0A0C1A3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2C5-2E1D-48CA-87FF-60995C5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FC5-2C0B-409E-AC0F-CB25433A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76F-0C9B-4140-8464-C37D9EA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5F8-773F-4B14-847C-17FBE6B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5044-5D49-4B24-A75E-67F4F6B75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Motion in 2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ecessarily not on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97680" y="1765440"/>
            <a:ext cx="1874880" cy="1980720"/>
            <a:chOff x="6997680" y="1765440"/>
            <a:chExt cx="1874880" cy="1980720"/>
          </a:xfrm>
        </p:grpSpPr>
        <p:sp>
          <p:nvSpPr>
            <p:cNvPr id="49" name=""/>
            <p:cNvSpPr/>
            <p:nvPr/>
          </p:nvSpPr>
          <p:spPr>
            <a:xfrm>
              <a:off x="6997680" y="3421080"/>
              <a:ext cx="177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997680" y="1904760"/>
              <a:ext cx="0" cy="18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13480" y="2230560"/>
              <a:ext cx="1043280" cy="8683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97680" y="2230200"/>
              <a:ext cx="415800" cy="11905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016760" y="3060720"/>
              <a:ext cx="1352520" cy="324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13480" y="2230560"/>
              <a:ext cx="1041480" cy="866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34400" y="2230560"/>
              <a:ext cx="417240" cy="325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26280" y="1765440"/>
              <a:ext cx="1353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1981440"/>
              <a:ext cx="64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1200" y="826920"/>
            <a:ext cx="861084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ember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 replace t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in the abov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3120"/>
            <a:ext cx="380988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1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2120" y="4043520"/>
            <a:ext cx="85122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991040" y="851040"/>
            <a:ext cx="3924360" cy="5816520"/>
            <a:chOff x="4991040" y="851040"/>
            <a:chExt cx="3924360" cy="5816520"/>
          </a:xfrm>
        </p:grpSpPr>
        <p:sp>
          <p:nvSpPr>
            <p:cNvPr id="78" name=""/>
            <p:cNvSpPr/>
            <p:nvPr/>
          </p:nvSpPr>
          <p:spPr>
            <a:xfrm>
              <a:off x="5403960" y="5349960"/>
              <a:ext cx="936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49960" y="5349960"/>
              <a:ext cx="972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40240" y="92088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346720" y="178740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27680" y="1689120"/>
              <a:ext cx="37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91040" y="85104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2560" y="240516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369040" y="327168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50000" y="317340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13360" y="233532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32680" y="920880"/>
              <a:ext cx="1116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7138800" y="1787400"/>
              <a:ext cx="140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520120" y="168912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83480" y="851040"/>
              <a:ext cx="62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55000" y="2405160"/>
              <a:ext cx="10800" cy="132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7161120" y="3271680"/>
              <a:ext cx="140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542440" y="317340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05440" y="2335320"/>
              <a:ext cx="551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96040" y="3878280"/>
              <a:ext cx="936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400360" y="473868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48560" y="464040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54760" y="380988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420880" y="621036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69080" y="611172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75280" y="528156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42040" y="3878280"/>
              <a:ext cx="9720" cy="131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147080" y="4738680"/>
              <a:ext cx="13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494560" y="46404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00760" y="3809880"/>
              <a:ext cx="5907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167240" y="6210360"/>
              <a:ext cx="13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15440" y="6111720"/>
              <a:ext cx="36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1640" y="5281560"/>
              <a:ext cx="55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3T22:58:13Z</dcterms:modified>
  <cp:revision>32</cp:revision>
  <dc:subject/>
  <dc:title>Phy 211: General Physics I</dc:title>
</cp:coreProperties>
</file>