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 201: General Physic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2 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alileo Galilei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564-164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2193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dited with establishing the “scientific metho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hypotheses on observation and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to use telescope for astronomical ob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served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aters and features on the M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ons of Jupiter &amp; the rings of Sa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 sp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his observations supported Copernican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vely refuted Aristotelian ideolog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nd contradicted Church doctr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d under “house arrest” as pun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ion: An object is in motion if it changes its position relative to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point (Origin). Motion is rel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on vect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s the origin to the object. As the object moves, the position vector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c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vector connecting the initial and the final position of the moving object; its magnitude is measured in meters (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14600" y="4724280"/>
            <a:ext cx="4800600" cy="1752840"/>
            <a:chOff x="2514600" y="4724280"/>
            <a:chExt cx="4800600" cy="1752840"/>
          </a:xfrm>
        </p:grpSpPr>
        <p:sp>
          <p:nvSpPr>
            <p:cNvPr id="46" name=""/>
            <p:cNvSpPr/>
            <p:nvPr/>
          </p:nvSpPr>
          <p:spPr>
            <a:xfrm flipV="1">
              <a:off x="3352680" y="5791320"/>
              <a:ext cx="205740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352680" y="4724280"/>
              <a:ext cx="2438640" cy="144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410080" y="4724280"/>
              <a:ext cx="381240" cy="1067040"/>
            </a:xfrm>
            <a:prstGeom prst="line">
              <a:avLst/>
            </a:prstGeom>
            <a:ln w="12600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2514600" y="6140520"/>
              <a:ext cx="16765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gin (0,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4191120" y="6019920"/>
              <a:ext cx="2057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position vector at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505320" y="4800600"/>
              <a:ext cx="1905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position vector at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5638680" y="5181480"/>
              <a:ext cx="16765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66ff33"/>
                  </a:solidFill>
                  <a:latin typeface="Symbol"/>
                  <a:ea typeface="Symbol"/>
                </a:rPr>
                <a:t>D</a:t>
              </a:r>
              <a:r>
                <a:rPr b="1" lang="en-US" sz="16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R </a:t>
              </a:r>
              <a:r>
                <a:rPr b="1" lang="en-US" sz="12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(Displac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eed &amp;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loc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vector with the same direction as the displacement vector. Its magnitude is call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t is measured in m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3683160" cy="10033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720" y="4267080"/>
            <a:ext cx="4952880" cy="1752840"/>
            <a:chOff x="2133720" y="4267080"/>
            <a:chExt cx="4952880" cy="1752840"/>
          </a:xfrm>
        </p:grpSpPr>
        <p:sp>
          <p:nvSpPr>
            <p:cNvPr id="57" name=""/>
            <p:cNvSpPr/>
            <p:nvPr/>
          </p:nvSpPr>
          <p:spPr>
            <a:xfrm flipV="1">
              <a:off x="2971800" y="5334120"/>
              <a:ext cx="2057400" cy="38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971800" y="4267080"/>
              <a:ext cx="2438280" cy="144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5029200" y="4267080"/>
              <a:ext cx="380880" cy="1067040"/>
            </a:xfrm>
            <a:prstGeom prst="line">
              <a:avLst/>
            </a:prstGeom>
            <a:ln w="12600">
              <a:solidFill>
                <a:srgbClr val="66ff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2133720" y="5683320"/>
              <a:ext cx="16765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gin (0,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3809880" y="5562720"/>
              <a:ext cx="20574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position vector at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3124080" y="4343400"/>
              <a:ext cx="1905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position vector at t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5410080" y="4343400"/>
              <a:ext cx="16765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66ff33"/>
                  </a:solidFill>
                  <a:latin typeface="Symbol"/>
                  <a:ea typeface="Symbol"/>
                </a:rPr>
                <a:t>D</a:t>
              </a:r>
              <a:r>
                <a:rPr b="1" lang="en-US" sz="16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R </a:t>
              </a:r>
              <a:r>
                <a:rPr b="1" lang="en-US" sz="1200" spc="-1" strike="noStrike">
                  <a:solidFill>
                    <a:srgbClr val="66ff33"/>
                  </a:solidFill>
                  <a:latin typeface="Times New Roman"/>
                  <a:ea typeface="Times New Roman"/>
                </a:rPr>
                <a:t>(Displac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5029200" y="4952880"/>
              <a:ext cx="152280" cy="381240"/>
            </a:xfrm>
            <a:prstGeom prst="line">
              <a:avLst/>
            </a:prstGeom>
            <a:ln w="1260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5257800" y="5029200"/>
              <a:ext cx="16765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v </a:t>
              </a:r>
              <a:r>
                <a:rPr b="1" lang="en-US" sz="1200" spc="-1" strike="noStrike">
                  <a:solidFill>
                    <a:srgbClr val="ff9900"/>
                  </a:solidFill>
                  <a:latin typeface="Times New Roman"/>
                  <a:ea typeface="Times New Roman"/>
                </a:rPr>
                <a:t>(Veloci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e velocity vector is changing in time,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ler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ector describes the time rate of change of the velocity v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ler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s a vector with the same direction as the displacement vector. It is measured in m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0" y="4724280"/>
            <a:ext cx="487980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tions of motion in 1-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ll motion is along the same line of action (call it x), we can re-state the following 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r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x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0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{displacemen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(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x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/(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  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{velocity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(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v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/(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  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{acceleration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tions of Kin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523880"/>
            <a:ext cx="7848720" cy="46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 a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cons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- v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a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                {Velocity Equation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- x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½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(v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v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{Average Velocity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- x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v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+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½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a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   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{Displacement Equation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- v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x      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{Galileo’s Equation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No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=initial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=initial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equations will allow us to completely describe the motion of a moving object and represent our “toolbox” for studying kinematic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ee Falling Bo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1-D motion of objects subject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nly motion considered is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no air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leration of falling object is cons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g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9.8 m/s</a:t>
            </a:r>
            <a:r>
              <a:rPr b="0" lang="en-US" sz="32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{directed downward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w="12600">
            <a:solidFill>
              <a:srgbClr val="cc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00600" y="5486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= 9.8 m/s</a:t>
            </a:r>
            <a:r>
              <a:rPr b="0" lang="en-US" sz="2400" spc="-1" strike="noStrike" baseline="30000">
                <a:solidFill>
                  <a:srgbClr val="ffcc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raphical Analysis of Velocity &amp;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lope of the position vs. time graph is the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lope of the velocity vs. time graph is the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Phy 101: Fundamentals of Physics I</dc:title>
</cp:coreProperties>
</file>