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862-28C2-4617-94FA-BA64132A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8E8-8B86-46D2-A3AC-C78F6DDF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7706-12AD-46D2-AE95-2BFA19AFA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406-9C91-4DF8-9655-AA33A0C5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8B1-7EA6-4796-BA26-91345001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1B6-94EA-4426-ABD2-CEF3C5AA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F1E-E92D-43C9-B75C-B6E77E15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670-27C9-4330-B838-5D696ACD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4C5-C08E-466E-9728-E70B8832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1DB-E1F1-4E1A-8499-4F0183AF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CC6-E729-46C3-AC4B-8A6B3CEE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DF5B-4EA7-41DC-922B-CA7D1EF4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CE10-D763-4EEB-9A4A-0B659B4B4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: Motion along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alileo Galilei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1564-1642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5867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ed with establishing the “scientific metho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his scientific hypotheses on observation and experi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o use telescope for astronomical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raters and features on the M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ons of Jupiter &amp; the rings of Sa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is observations supported Copernican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vely refuted Aristotelian ideolog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d contradicted Church doctr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d under “house arrest” as 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d accelerated motion and established the first equations of kin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the Law of Inertia, which later became known as Newton’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of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2527200" cy="3381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77120" y="439092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All truths are easy to understand once they are discovered; the point is to discover th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place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object is in motion if it changes its position relative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ference point (Origin). Motion is rel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(R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that connects an object’s location to a reference point (origin). As an object moves, the its position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difference between the final position and the initial position of a moving object; its magnitude is measured in meters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5608800"/>
            <a:ext cx="3036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419720"/>
            <a:ext cx="215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 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84320" y="5172120"/>
            <a:ext cx="2644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9960" y="4464000"/>
            <a:ext cx="24494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52840" y="5608800"/>
            <a:ext cx="21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R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(Displac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17840" y="4941720"/>
            <a:ext cx="96840" cy="1098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4776840"/>
            <a:ext cx="44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5218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6388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0084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27320" y="499752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75440" y="4998960"/>
            <a:ext cx="39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724280"/>
            <a:ext cx="60948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eed &amp; Veloc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3080" y="837720"/>
            <a:ext cx="84708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vector with the same direction as the displacement vecto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). Its magnitude is call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t is measured in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Velo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 Velo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 Sp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95480" y="3048120"/>
          <a:ext cx="30085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048120"/>
                    <a:ext cx="30085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567240" y="5029200"/>
          <a:ext cx="19954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7240" y="5029200"/>
                    <a:ext cx="1995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486400" y="2712960"/>
            <a:ext cx="3036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1523880"/>
            <a:ext cx="215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 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4520" y="2314440"/>
            <a:ext cx="752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16440" y="1555920"/>
            <a:ext cx="709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77080" y="2712960"/>
            <a:ext cx="21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isplac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41720" y="2046240"/>
            <a:ext cx="96840" cy="10944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1881360"/>
            <a:ext cx="4408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32236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88120" y="1990800"/>
            <a:ext cx="19656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24720" y="199080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51560" y="2101680"/>
            <a:ext cx="39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599320" y="210348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1828800"/>
            <a:ext cx="60984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2103480"/>
            <a:ext cx="851040" cy="4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5960" y="2077920"/>
            <a:ext cx="154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v (velo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352680" y="6172200"/>
          <a:ext cx="49532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6172200"/>
                    <a:ext cx="4953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666880" y="4038480"/>
          <a:ext cx="382140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038480"/>
                    <a:ext cx="3821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3800" y="837720"/>
            <a:ext cx="8661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velocity vector is changing in time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ctor describes the time rate of change of the velocity v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 vector with the same direction as the change in velocity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vector. It is measured in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taneous 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1: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A car accelerates from 0 to 30 m/s in 6 s.  Find the average accel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ince 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30 m/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495680" y="3505320"/>
          <a:ext cx="21193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505320"/>
                    <a:ext cx="21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743280" y="2462040"/>
          <a:ext cx="357192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3280" y="2462040"/>
                    <a:ext cx="3571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048120" y="4952880"/>
          <a:ext cx="304776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952880"/>
                    <a:ext cx="3047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quations of Kinematic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(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tant), the most relevant equations of motion can be written in scalar form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Bef>
                <a:spcPts val="49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= at                 {Velocity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Bef>
                <a:spcPts val="49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t + ½ at</a:t>
            </a:r>
            <a:r>
              <a:rPr b="0" lang="en-US" sz="2000" spc="-1" strike="noStrike" baseline="30000">
                <a:solidFill>
                  <a:srgbClr val="3333ff"/>
                </a:solidFill>
                <a:latin typeface="Arial"/>
              </a:rPr>
              <a:t>2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{Displacement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Bef>
                <a:spcPts val="49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= ½(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+ 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)t    {Average Velocit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-389880">
              <a:spcBef>
                <a:spcPts val="499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= 2a(r - r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)     {Galileo’s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equations will allow us to completely describe the motion of a moving object and represent our “toolbox” for studying kinemat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9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A ball rolls along a flat surface with an acceleration of +1.0 m/s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. The initial position and velocity of the ball are x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=1m &amp; 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= -2 m/s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39480">
              <a:spcBef>
                <a:spcPts val="451"/>
              </a:spcBef>
              <a:spcAft>
                <a:spcPts val="1125"/>
              </a:spcAft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How fast is the ball traveling after 2 s have elap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39480">
              <a:spcBef>
                <a:spcPts val="451"/>
              </a:spcBef>
              <a:spcAft>
                <a:spcPts val="1125"/>
              </a:spcAft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What is the displacement &amp; final position of the ball after 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39480">
              <a:spcBef>
                <a:spcPts val="451"/>
              </a:spcBef>
              <a:spcAft>
                <a:spcPts val="1125"/>
              </a:spcAft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How fast is the ball traveling when it travels a displacement of 5 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39480">
              <a:spcBef>
                <a:spcPts val="451"/>
              </a:spcBef>
              <a:spcAft>
                <a:spcPts val="1125"/>
              </a:spcAft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How long does it take the ball to travel a displacement of 5 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ree Falling Bodi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-D motion of objects subject to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motion considered is vertic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or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air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of falling object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-9.8 m/s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Consider a rock dropped from 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velocity after the rock has fallen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r does the rock travel during this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st is the rock moving after it has fallen 10 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2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Consider a rock tossed into the air with an initial upward velocity of 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long would it take for the rock to return to the thrower (initial height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highest position the rock reaches during its asc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2209680"/>
            <a:ext cx="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2286000"/>
            <a:ext cx="1828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9.8 m/s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18288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aphical Analysis of Velocity &amp; 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761000" cy="51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vs. tim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vs. tim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ea under the curve is th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23:47:29Z</dcterms:created>
  <dc:creator>Tony Zable</dc:creator>
  <dc:description/>
  <dc:language>en-US</dc:language>
  <cp:lastModifiedBy>Tony Zable</cp:lastModifiedBy>
  <dcterms:modified xsi:type="dcterms:W3CDTF">2007-06-23T18:28:47Z</dcterms:modified>
  <cp:revision>24</cp:revision>
  <dc:subject/>
  <dc:title>Phy 211: General Physics I</dc:title>
</cp:coreProperties>
</file>