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155-567F-41D1-8C53-0BCA1C92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436-04C9-4BBD-B869-D0567E5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503-8277-46CD-9782-E17C2043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7C1-4D5D-431B-971F-E40D8745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896-E441-4369-BA1B-D6E0621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220-00AD-4953-BF1B-BB0D3FF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FB8-B396-4C99-AD64-6BAA672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472-F4A4-4417-AB48-C7363C5D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938-C92C-4036-A105-92D6DB5A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F51-4395-41DE-9417-03BAC9F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999-EE08-4DBE-9417-F02ABB89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0DF-680E-4933-8213-53A7D5E5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25A-0EF4-4CDC-A88A-EBE5EF333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otion along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lileo Galilei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1564-1642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ed with establishing the “scientific meth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his scientific hypotheses on observation and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elescope for astronomical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aters and features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ons of Jupiter &amp; the rings of Sa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s observations supported Copernica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vely refuted Aristotelian ide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contradicted Church doctr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under “house arrest” as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d accelerated motion and established the first equations of kin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e Law of Inertia, which later became known as Newton’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of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527200" cy="3381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439092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ll truths are easy to understand once they are discovered; the point is to discove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object is in motion if it changes its position relative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point (Origin). Motion is re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(R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that connects an object’s location to a reference point (origin). As an object moves, the its posi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difference between the final position and the initial position of a moving object; its magnitude is measured in meters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5608800"/>
            <a:ext cx="3036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21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84320" y="5172120"/>
            <a:ext cx="264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9960" y="4464000"/>
            <a:ext cx="2449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52840" y="560880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7840" y="4941720"/>
            <a:ext cx="96840" cy="109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776840"/>
            <a:ext cx="44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5218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388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0084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27320" y="49975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75440" y="499896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724280"/>
            <a:ext cx="60948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ed &amp; Veloc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3080" y="837720"/>
            <a:ext cx="8470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ector with the same direction as the displacement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). Its magnitude is call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t is measured in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95480" y="3048120"/>
          <a:ext cx="30085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8120"/>
                    <a:ext cx="3008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567240" y="5029200"/>
          <a:ext cx="19954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7240" y="5029200"/>
                    <a:ext cx="19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86400" y="2712960"/>
            <a:ext cx="3036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523880"/>
            <a:ext cx="215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4520" y="2314440"/>
            <a:ext cx="752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6440" y="1555920"/>
            <a:ext cx="70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7080" y="271296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41720" y="2046240"/>
            <a:ext cx="96840" cy="10944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881360"/>
            <a:ext cx="4408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32236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88120" y="1990800"/>
            <a:ext cx="19656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24720" y="199080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51560" y="210168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99320" y="210348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1828800"/>
            <a:ext cx="60984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2103480"/>
            <a:ext cx="851040" cy="4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5960" y="2077920"/>
            <a:ext cx="15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6172200"/>
          <a:ext cx="4953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6172200"/>
                    <a:ext cx="4953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666880" y="4038480"/>
          <a:ext cx="38214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038480"/>
                    <a:ext cx="3821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3800" y="83772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velocity vector is changing in tim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ctor describes the time rate of change of the velocity 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with the same direction as the change in velo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ector. It is measured in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aneous 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A car accelerates from 0 to 30 m/s in 6 s.  Find the average accel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30 m/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95680" y="3505320"/>
          <a:ext cx="21193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05320"/>
                    <a:ext cx="21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743280" y="2462040"/>
          <a:ext cx="35719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2462040"/>
                    <a:ext cx="357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48120" y="4952880"/>
          <a:ext cx="3047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952880"/>
                    <a:ext cx="3047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(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), the most relevant equations of motion can be written in scalar form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at                 {Velocity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 + ½ at</a:t>
            </a:r>
            <a:r>
              <a:rPr b="0" lang="en-US" sz="2000" spc="-1" strike="noStrike" baseline="30000">
                <a:solidFill>
                  <a:srgbClr val="3333ff"/>
                </a:solidFill>
                <a:latin typeface="Arial"/>
              </a:rPr>
              <a:t>2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{Displacement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½(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)t    {Average Velocit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2a(r - 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)     {Galileo’s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equations will allow us to completely describe the motion of a moving object and represent our “toolbox” for studying kinema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A ball rolls along a flat surface with an acceleration of +1.0 m/s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. The initial position and velocity of the ball are x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=1m &amp;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= -2 m/s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ow fast is the ball traveling after 2 s have elap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hat is the displacement &amp; final position of the ball after 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ow fast is the ball traveling when it travels a displacement of 5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ow long does it take the ball to travel a displacement of 5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 Falling Bod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-D motion of objects subject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motion considered is vertic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or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of falling object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Consider a rock dropped from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2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onsider a rock tossed into the air with an initial upward velocity of 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long would it take for the rock to return to the thrower (initial he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highest position the rock reaches during its asc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209680"/>
            <a:ext cx="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286000"/>
            <a:ext cx="1828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18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phical Analysis of Velocity &amp;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61000" cy="51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vs. tim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vs. tim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under the curve is th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23:47:29Z</dcterms:created>
  <dc:creator>Tony Zable</dc:creator>
  <dc:description/>
  <dc:language>en-US</dc:language>
  <cp:lastModifiedBy>Tony Zable</cp:lastModifiedBy>
  <dcterms:modified xsi:type="dcterms:W3CDTF">2007-06-23T18:28:47Z</dcterms:modified>
  <cp:revision>24</cp:revision>
  <dc:subject/>
  <dc:title>Phy 211: General Physics I</dc:title>
</cp:coreProperties>
</file>