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 201: General Physic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1 Lectur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ctor Addi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914400"/>
            <a:ext cx="7772400" cy="41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s vector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the sum of 2 vectors having the directions Ax (horizontal) and Ay (vertical), respectively. These vectors are the horizontal and vertical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vector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ch that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raphic meth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Pythagorean Theor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alculate the components, we need to know the magnitude A of the vector and the angle a it makes with the horizontal direc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cos </a:t>
            </a: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q</a:t>
            </a:r>
            <a:r>
              <a:rPr b="1" lang="en-US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A</a:t>
            </a:r>
            <a:r>
              <a:rPr b="1" lang="en-US" sz="1800" spc="-1" strike="noStrike" baseline="-6000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A,    A</a:t>
            </a:r>
            <a:r>
              <a:rPr b="1" lang="en-US" sz="1800" spc="-1" strike="noStrike" baseline="-6000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Acos </a:t>
            </a: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sin </a:t>
            </a: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q</a:t>
            </a:r>
            <a:r>
              <a:rPr b="1" lang="en-US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A</a:t>
            </a:r>
            <a:r>
              <a:rPr b="1" lang="en-US" sz="1800" spc="-1" strike="noStrike" baseline="6000">
                <a:solidFill>
                  <a:srgbClr val="66ff33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A,      A</a:t>
            </a:r>
            <a:r>
              <a:rPr b="1" lang="en-US" sz="1800" spc="-1" strike="noStrike" baseline="-3000">
                <a:solidFill>
                  <a:srgbClr val="66ff33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Asin </a:t>
            </a: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4216320"/>
            <a:ext cx="115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191120" y="4267080"/>
            <a:ext cx="3657600" cy="1844640"/>
            <a:chOff x="4191120" y="4267080"/>
            <a:chExt cx="3657600" cy="1844640"/>
          </a:xfrm>
        </p:grpSpPr>
        <p:sp>
          <p:nvSpPr>
            <p:cNvPr id="115" name=""/>
            <p:cNvSpPr/>
            <p:nvPr/>
          </p:nvSpPr>
          <p:spPr>
            <a:xfrm flipV="1">
              <a:off x="7086600" y="4648320"/>
              <a:ext cx="0" cy="1066680"/>
            </a:xfrm>
            <a:prstGeom prst="line">
              <a:avLst/>
            </a:prstGeom>
            <a:ln w="25560">
              <a:solidFill>
                <a:srgbClr val="ffcc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5715000" y="5715000"/>
              <a:ext cx="762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5410080" y="5334120"/>
              <a:ext cx="457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00600" y="5715000"/>
              <a:ext cx="2286000" cy="0"/>
            </a:xfrm>
            <a:prstGeom prst="line">
              <a:avLst/>
            </a:prstGeom>
            <a:ln w="255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800600" y="4648320"/>
              <a:ext cx="0" cy="1066680"/>
            </a:xfrm>
            <a:prstGeom prst="line">
              <a:avLst/>
            </a:prstGeom>
            <a:ln w="255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00600" y="4648320"/>
              <a:ext cx="2286000" cy="0"/>
            </a:xfrm>
            <a:prstGeom prst="line">
              <a:avLst/>
            </a:prstGeom>
            <a:ln w="25560">
              <a:solidFill>
                <a:srgbClr val="ffcc00"/>
              </a:solidFill>
              <a:custDash>
                <a:ds d="198592" sp="198592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800600" y="4648320"/>
              <a:ext cx="2286000" cy="10666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5867280" y="4724280"/>
              <a:ext cx="762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4191120" y="4876920"/>
              <a:ext cx="762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7086600" y="5699160"/>
              <a:ext cx="762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4495680" y="4267080"/>
              <a:ext cx="762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4572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. Willard Gibb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839-190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18288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ed one of the greatest scientists of th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contributions in the field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modynamics &amp; Statistical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ted a concept of thermodynamic equilibrium of a system in terms of energy   and ent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mical equilibrium, and equilibria between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d the foundation of vector math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867040" y="1494000"/>
            <a:ext cx="3409920" cy="3870360"/>
            <a:chOff x="2867040" y="1494000"/>
            <a:chExt cx="3409920" cy="3870360"/>
          </a:xfrm>
        </p:grpSpPr>
        <p:sp>
          <p:nvSpPr>
            <p:cNvPr id="44" name=""/>
            <p:cNvSpPr/>
            <p:nvPr/>
          </p:nvSpPr>
          <p:spPr>
            <a:xfrm>
              <a:off x="2867040" y="1494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2867040" y="1494000"/>
              <a:ext cx="3409920" cy="387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29480" y="152280"/>
            <a:ext cx="224172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ience is ultimately based on observations of the natural (&amp; unnatural)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2 types of observ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jective, touchy-fe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Example: the outside temperature is hot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ive, based on a number and a reference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itative observations are referred to 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Example: the outside temperature is 80</a:t>
            </a:r>
            <a:r>
              <a:rPr b="1" lang="en-US" sz="24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stems of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838080"/>
            <a:ext cx="777240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several units systems for measurement of physical qua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common unit systems are the metric and the USC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nsistency, the l’ Systeme Internationale (SI)was ado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I system is a special set of 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System (SI) base un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s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logram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er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ond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mperat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lvi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pe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uminous Intensit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el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unt of substanc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lomo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m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e other SI units are derived from the base un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Example: m/s (or meters per seco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igon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295280"/>
            <a:ext cx="8229600" cy="44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lationships between sides and angles of right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the following right triang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primary “trig” rel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sin(angle) = opposite/hypotenuse = A/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in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cos(angle) = adjacent/hypotenuse = B/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ent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an(angle) = opposite/adjacent = A/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800600" y="2666880"/>
            <a:ext cx="3048120" cy="2210040"/>
            <a:chOff x="4800600" y="2666880"/>
            <a:chExt cx="3048120" cy="2210040"/>
          </a:xfrm>
        </p:grpSpPr>
        <p:sp>
          <p:nvSpPr>
            <p:cNvPr id="54" name=""/>
            <p:cNvSpPr/>
            <p:nvPr/>
          </p:nvSpPr>
          <p:spPr>
            <a:xfrm>
              <a:off x="5181480" y="2666880"/>
              <a:ext cx="0" cy="175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4419720"/>
              <a:ext cx="2667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181480" y="2666880"/>
              <a:ext cx="2667240" cy="175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7010280" y="396252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6172200" y="441972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4800600" y="335268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6477120" y="304812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ctors &amp; Sca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1066680"/>
            <a:ext cx="8610480" cy="4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2 types of physical quant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d by a single number &amp; a unit(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the length of the driveway is 3.5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d by a value (magnitude) &amp;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the wind is blowing 20 m/s due north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ctors are represented by an arr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ength of the arrow is proportional to the magnitude of the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rection of the arrow represents the direction of the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vectors of the same kind can be added togethe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.e. you can’t add apples and orange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or more vectors can be added together to obtain a “resultant”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“resultant” vector represents the combined effects of multiple vectors acting on the same object/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on as well as magnitude must be taken into account when adding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vectors are colinear they can be added like sca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erties of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371600" y="5181480"/>
            <a:ext cx="6400800" cy="609840"/>
            <a:chOff x="1371600" y="5181480"/>
            <a:chExt cx="6400800" cy="609840"/>
          </a:xfrm>
        </p:grpSpPr>
        <p:sp>
          <p:nvSpPr>
            <p:cNvPr id="66" name=""/>
            <p:cNvSpPr/>
            <p:nvPr/>
          </p:nvSpPr>
          <p:spPr>
            <a:xfrm>
              <a:off x="1371600" y="5410080"/>
              <a:ext cx="1066680" cy="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29000" y="5410080"/>
              <a:ext cx="1066680" cy="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38680" y="5410080"/>
              <a:ext cx="2133720" cy="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1676520" y="533412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3733920" y="533412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6553080" y="533412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2743200" y="518148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4876920" y="518148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371600" y="6019920"/>
            <a:ext cx="4800600" cy="609480"/>
            <a:chOff x="1371600" y="6019920"/>
            <a:chExt cx="4800600" cy="609480"/>
          </a:xfrm>
        </p:grpSpPr>
        <p:sp>
          <p:nvSpPr>
            <p:cNvPr id="75" name=""/>
            <p:cNvSpPr/>
            <p:nvPr/>
          </p:nvSpPr>
          <p:spPr>
            <a:xfrm>
              <a:off x="1371600" y="6248520"/>
              <a:ext cx="1066680" cy="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29000" y="6248520"/>
              <a:ext cx="762120" cy="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38680" y="6248520"/>
              <a:ext cx="533520" cy="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1676520" y="617220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3733920" y="617220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5638680" y="617220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2743200" y="601992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4876920" y="601992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erties of Vector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single vector can be treated as a “resultant” vector and represented as 2 or more “component v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dd vectors of this type requires sophisticated mathematics or use of graphical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4495680"/>
            <a:ext cx="1066680" cy="1800"/>
          </a:xfrm>
          <a:prstGeom prst="line">
            <a:avLst/>
          </a:prstGeom>
          <a:ln w="126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792680" y="3657600"/>
            <a:ext cx="1440" cy="838080"/>
          </a:xfrm>
          <a:prstGeom prst="line">
            <a:avLst/>
          </a:prstGeom>
          <a:ln w="126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066680" y="3657600"/>
            <a:ext cx="1067040" cy="838080"/>
          </a:xfrm>
          <a:prstGeom prst="line">
            <a:avLst/>
          </a:prstGeom>
          <a:ln w="126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19520" y="441972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800600" y="380988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95280" y="365760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86200" y="396252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09680" y="388620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4495680"/>
            <a:ext cx="1066680" cy="1800"/>
          </a:xfrm>
          <a:prstGeom prst="line">
            <a:avLst/>
          </a:prstGeom>
          <a:ln w="126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935680" y="3657600"/>
            <a:ext cx="1440" cy="838080"/>
          </a:xfrm>
          <a:prstGeom prst="line">
            <a:avLst/>
          </a:prstGeom>
          <a:ln w="126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48520" y="44197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864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257800" y="388620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943600" y="3657600"/>
            <a:ext cx="1066680" cy="838080"/>
          </a:xfrm>
          <a:prstGeom prst="line">
            <a:avLst/>
          </a:prstGeom>
          <a:ln w="12600">
            <a:solidFill>
              <a:srgbClr val="ffff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ctor Ad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Graphic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dd 2 vectors, place them tail-to-head, without changing their direction; the sum (resultant) is the vector obtained by connecting the tail of the first vector with the head of the second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n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the vecto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su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vector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¹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+B  : the magnitude of the vector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equal to the sum of the magnitudes of vector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4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A</a:t>
            </a:r>
            <a:r>
              <a:rPr b="1" i="1" lang="en-US" sz="24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B</a:t>
            </a:r>
            <a:r>
              <a:rPr b="1" i="1" lang="en-US" sz="24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+ 2AB cos </a:t>
            </a:r>
            <a:r>
              <a:rPr b="1" i="1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linear vectors pointing in the same direction, R=A+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linear vectors pointing in opposite directions, R=A-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105520" y="3809880"/>
            <a:ext cx="2514600" cy="1239840"/>
            <a:chOff x="5105520" y="3809880"/>
            <a:chExt cx="2514600" cy="1239840"/>
          </a:xfrm>
        </p:grpSpPr>
        <p:grpSp>
          <p:nvGrpSpPr>
            <p:cNvPr id="102" name=""/>
            <p:cNvGrpSpPr/>
            <p:nvPr/>
          </p:nvGrpSpPr>
          <p:grpSpPr>
            <a:xfrm>
              <a:off x="5105520" y="3809880"/>
              <a:ext cx="2514600" cy="1239840"/>
              <a:chOff x="5105520" y="3809880"/>
              <a:chExt cx="2514600" cy="1239840"/>
            </a:xfrm>
          </p:grpSpPr>
          <p:sp>
            <p:nvSpPr>
              <p:cNvPr id="103" name=""/>
              <p:cNvSpPr/>
              <p:nvPr/>
            </p:nvSpPr>
            <p:spPr>
              <a:xfrm>
                <a:off x="5105520" y="4705200"/>
                <a:ext cx="1523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6629400" y="3921120"/>
                <a:ext cx="990720" cy="784080"/>
              </a:xfrm>
              <a:prstGeom prst="line">
                <a:avLst/>
              </a:prstGeom>
              <a:ln w="1260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5105520" y="3921120"/>
                <a:ext cx="2514600" cy="784080"/>
              </a:xfrm>
              <a:prstGeom prst="line">
                <a:avLst/>
              </a:prstGeom>
              <a:ln w="12600">
                <a:solidFill>
                  <a:srgbClr val="66ff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>
                <a:off x="5562720" y="380988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5715000" y="459252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7162920" y="41450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 txBox="1"/>
            <p:nvPr/>
          </p:nvSpPr>
          <p:spPr>
            <a:xfrm>
              <a:off x="6781680" y="4419720"/>
              <a:ext cx="3808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9400" y="4724280"/>
              <a:ext cx="76212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PCC</cp:lastModifiedBy>
  <cp:revision>0</cp:revision>
  <dc:subject/>
  <dc:title>Phy 101: Fundamentals of Physics I</dc:title>
</cp:coreProperties>
</file>