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F9AE-0AD3-4F88-AB31-9FF19D395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it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ity at re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 forc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charges repel. Unlike charges attr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amental electrical property to which the mutual attractions or repulsions between electrons or protons is attribu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rvation of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 charge is neither created nor destroyed.  The total charge before an interaction equals the total charge aft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lomb’s law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 = k 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charge are alike in sign, the force is repulsive; If the charge are unlike, the force is attract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o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u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er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friction and contac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Electrons can be transferred from one material to another by simply touch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in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istribution of electric charges in and on objects caused by the electrical influence of a charged object close by but not in cont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 polariz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ly polariz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the charges are aligned so that one side is slightly more positive or negative than the opposite side in a molecule or an a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fie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force field that fills the space around every electric charge or group of char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= F/ 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tage = electrical potential energy/cha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 ener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the energy a charged object possesses by virtue of its location in an electric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acit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an electrical device, in its simplest form a pair of parallel conducting plates separated by a small distance, that stores electric charge and ener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ither B or A ch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s the change in magnetic field (B)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B= B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final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-B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change in area of the loop (A)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A= A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final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-A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D40E-4BAC-462C-AEC0-306EF5BE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E544-051E-4654-BBBC-32FBC015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53A0-FAE2-4AED-A1D4-1205CFB4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1C57-6C3A-432C-B51F-036CC2BE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98E9-9EF4-4C54-9128-43E3194B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A1C8-063C-4A72-98A0-8A71411C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A9D8-0801-4132-B99A-92F55F6A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7DFF-5A6B-49F0-83E4-53249D2C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F134-6B0F-4BC1-80C3-1CF762E5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A93C-2AF7-49F2-BF5F-8D9928CB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841C-A50A-45FE-AC75-532AF0ED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CBB5-467F-445E-BD36-B956AB6E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B92B-24A9-42F5-B918-C9F15C7A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CF59-B92B-4234-A40F-6132EA6A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D4BA-9090-424F-9741-7CF6E4C9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96B2-D073-4133-9B38-C120F8DE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4529-20C4-4A81-BEBD-627C2E92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EE7B-2C5B-4A17-A97C-50F1DF9B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C1ED-72F9-4E99-B2CD-766814BC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E5D0-E7F1-4150-9935-810334C5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09D88-5A81-44F4-8BE1-D7585ABC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65D38-8545-453C-A4D5-3AE180AF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75F7-EF26-47A4-B70F-9831E23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3F1E-E865-437B-B92B-0CC187AE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5A65-AE14-406B-8785-202DDDDBBD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9634-2A87-4FF4-8EA5-532F234526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hy 103:  Fundamentals of Physics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680" y="40381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7: 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lective Refrac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lective Transmiss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ixing Colored Ligh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lementary Colo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is the sky blue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is the sunset red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are clouds white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ichael Farada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791-1867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5334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lf-trained English physic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haps the greatest experimenter who ever l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nce he was self taught, he did not grasp mathematics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contributions to physic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6840" y="373356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d the concept of fields (electric and magnetic) or as he called them, “lines of force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the dynamo   (a device capable of converting electricity to motio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overed electromagnetic indu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ised the laws of chemical electrodeposition of metals from s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Faraday" descr=""/>
          <p:cNvPicPr/>
          <p:nvPr/>
        </p:nvPicPr>
        <p:blipFill>
          <a:blip r:embed="rId1"/>
          <a:stretch/>
        </p:blipFill>
        <p:spPr>
          <a:xfrm>
            <a:off x="6019920" y="838080"/>
            <a:ext cx="27432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3:26:56Z</dcterms:created>
  <dc:creator>Tony Zable</dc:creator>
  <dc:description/>
  <dc:language>en-US</dc:language>
  <cp:lastModifiedBy>PCC</cp:lastModifiedBy>
  <dcterms:modified xsi:type="dcterms:W3CDTF">2003-05-20T20:40:45Z</dcterms:modified>
  <cp:revision>125</cp:revision>
  <dc:subject/>
  <dc:title>Phy 103: Chapter 22</dc:title>
</cp:coreProperties>
</file>