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B938-6B7D-469A-A0EC-C68863536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it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ostati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ectricity at res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al force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ke charges repel. Unlike charges attrac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char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ndamental electrical property to which the mutual attractions or repulsions between electrons or protons is attribu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servation of char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ectric charge is neither created nor destroyed.  The total charge before an interaction equals the total charge aft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lomb’s law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 = k q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the charge are alike in sign, the force is repulsive; If the charge are unlike, the force is attract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ductor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ula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micond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ercond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ing by friction and contac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 Electrons can be transferred from one material to another by simply touch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ing by indu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istribution of electric charges in and on objects caused by the electrical influence of a charged object close by but not in contac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e polariza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ally polariz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the charges are aligned so that one side is slightly more positive or negative than the opposite side in a molecule or an ato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fie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force field that fills the space around every electric charge or group of charg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 = F/ 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potenti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ltage = electrical potential energy/cha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potential ener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: the energy a charged object possesses by virtue of its location in an electric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pacit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an electrical device, in its simplest form a pair of parallel conducting plates separated by a small distance, that stores electric charge and energ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ither B or A chan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is the change in magnetic field (B)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33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ccff33"/>
                </a:solidFill>
                <a:latin typeface="Arial"/>
              </a:rPr>
              <a:t>B= B</a:t>
            </a:r>
            <a:r>
              <a:rPr b="0" lang="en-US" sz="1200" spc="-1" strike="noStrike" baseline="-25000">
                <a:solidFill>
                  <a:srgbClr val="ccff33"/>
                </a:solidFill>
                <a:latin typeface="Arial"/>
              </a:rPr>
              <a:t>final</a:t>
            </a:r>
            <a:r>
              <a:rPr b="0" lang="en-US" sz="1200" spc="-1" strike="noStrike">
                <a:solidFill>
                  <a:srgbClr val="ccff33"/>
                </a:solidFill>
                <a:latin typeface="Arial"/>
              </a:rPr>
              <a:t>-B</a:t>
            </a:r>
            <a:r>
              <a:rPr b="0" lang="en-US" sz="1200" spc="-1" strike="noStrike" baseline="-25000">
                <a:solidFill>
                  <a:srgbClr val="ccff33"/>
                </a:solidFill>
                <a:latin typeface="Arial"/>
              </a:rPr>
              <a:t>init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the change in area of the loop (A)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33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ccff33"/>
                </a:solidFill>
                <a:latin typeface="Arial"/>
              </a:rPr>
              <a:t>A= A</a:t>
            </a:r>
            <a:r>
              <a:rPr b="0" lang="en-US" sz="1200" spc="-1" strike="noStrike" baseline="-25000">
                <a:solidFill>
                  <a:srgbClr val="ccff33"/>
                </a:solidFill>
                <a:latin typeface="Arial"/>
              </a:rPr>
              <a:t>final</a:t>
            </a:r>
            <a:r>
              <a:rPr b="0" lang="en-US" sz="1200" spc="-1" strike="noStrike">
                <a:solidFill>
                  <a:srgbClr val="ccff33"/>
                </a:solidFill>
                <a:latin typeface="Arial"/>
              </a:rPr>
              <a:t>-A</a:t>
            </a:r>
            <a:r>
              <a:rPr b="0" lang="en-US" sz="1200" spc="-1" strike="noStrike" baseline="-25000">
                <a:solidFill>
                  <a:srgbClr val="ccff33"/>
                </a:solidFill>
                <a:latin typeface="Arial"/>
              </a:rPr>
              <a:t>ini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5B380-1C84-4D44-88D3-45608FCB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DC6EF-F1A2-436F-8BCD-CDB7EF26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20B68-D007-4379-9929-CA8D9B0B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3E3E0-BAD4-4442-90D4-6EA06971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8992-DA90-4C2F-AE92-D8243648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DDEC-8703-4052-B782-4C766D7A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1AFE-573B-4C55-ACF3-33D6D9F8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9EEF-202C-45E1-89C5-7AB5A8F1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84B8-2FE3-4DBC-8026-C39066F6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-76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8DED-1D8C-400F-AB8A-8A2516D9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9CC6-28AC-45D3-8B20-A7319882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F3F93-7210-451E-8215-4A325199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F6EA-06F7-48DF-BEED-5BE89B68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CE2F-16E3-48FF-ADCD-B77D4AD3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654D-69B1-446B-A0D0-4B992510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4882-0CA5-4432-B610-8CCB9786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6F98-5A30-45E8-8054-1EF8C431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B55B3-9D67-4619-AF67-8DF89D0D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02B08-7155-4ECE-9CE0-959A7DD5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BCAFE-DDC6-4F61-A066-3A9DEE10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76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2EF75-08F2-410F-A7AC-788F24D5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427EC-3C60-441C-9124-7B81772F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61A7D-17A8-46DA-ACDF-CA253559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03D0D-A9C0-4313-B3D3-3E0FE1F1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1DD5-E4B8-4797-A277-C8FA0507D1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E29A-EA44-4873-8C19-6B2838B912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Phy 103:  Fundamentals of Physics</a:t>
            </a:r>
            <a:endParaRPr b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066680" y="403812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27: Col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lective Refractio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lective Transmissio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ixing Colored Ligh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mplementary Color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y is the sky blue?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y is the sunset red?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y are clouds white?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ichael Faraday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1791-1867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5334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elf-trained English physic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haps the greatest experimenter who ever li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ince he was self taught, he did not grasp mathematics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contributions to physic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6840" y="3733560"/>
            <a:ext cx="8381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d the concept of fields (electric and magnetic) or as he called them, “lines of force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nted the dynamo   (a device capable of converting electricity to motion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overed electromagnetic indu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ised the laws of chemical electrodeposition of metals from s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Faraday" descr=""/>
          <p:cNvPicPr/>
          <p:nvPr/>
        </p:nvPicPr>
        <p:blipFill>
          <a:blip r:embed="rId1"/>
          <a:stretch/>
        </p:blipFill>
        <p:spPr>
          <a:xfrm>
            <a:off x="6019920" y="838080"/>
            <a:ext cx="274320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03:26:56Z</dcterms:created>
  <dc:creator>Tony Zable</dc:creator>
  <dc:description/>
  <dc:language>en-US</dc:language>
  <cp:lastModifiedBy>PCC</cp:lastModifiedBy>
  <dcterms:modified xsi:type="dcterms:W3CDTF">2003-05-20T20:40:45Z</dcterms:modified>
  <cp:revision>125</cp:revision>
  <dc:subject/>
  <dc:title>Phy 103: Chapter 22</dc:title>
</cp:coreProperties>
</file>