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4EA6-5A58-4CBA-B1A6-8575B7F9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ither B or A ch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s the change in magnetic field (B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B= 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change in area of the loop (A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A= 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54E7-7B35-43C0-9186-8C3E7177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9A6C-21E0-49CC-B24B-B394B0B6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6D4E-5BEC-40C1-A0D3-C912FB44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D659-9E98-4BB2-8E4C-B8D1B8B2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625B-1F73-4D32-B5E9-5D9BA5AA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B84F-0FB3-4EE4-B4D3-73311C15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C6E2-0473-4CA7-B0C9-BEB5D514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F2FE-D909-41C9-BB92-706FED19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4998-B608-42A7-B918-68BC702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5535-A65D-4031-8DD5-1B082D6F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5A41-2B64-4FAC-B4A7-3E0341A4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8BE6-27F0-46A9-B1D6-16B3AB86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284E-20F4-42CE-B797-19D1D25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F7DD-6DB6-4707-B33A-9352A6D9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589-BCE2-4FFA-B5FE-55FE94FD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BDE9-E992-452F-973D-C2A245BD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046B-0AC8-48A9-9161-468D056C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5ABC-EAE7-4B8D-9DF1-A8C50842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34F3-88FC-4C13-993A-ABFD1313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1111-378B-4A8D-8393-B955D146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3BB4-5D46-459E-9A9A-B36E8922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830D4-2B63-4F9F-B769-ED10727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2DB0-48DF-4CA0-93D2-FF05037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439FF-9A03-4B25-A608-7BFB7C5C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A217-6BB5-419A-A3C5-F98FC969AC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170A-6E95-464F-9964-D9BA9E3DA8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680" y="40381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5: Electromagnetic In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omagnetic Induc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far we have observed that an electric current produces a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estion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 a magnetic field produce an electric curr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call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ectromagnetic indu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magnetic field is changed near a wire loop, a voltag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alled electromotive forc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nduced in the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ulting voltage generates an electric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ze of the voltage depends on how fast you change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ze of the current depends on the resistance in the wire as well as the induced voltage (remember Ohm’s Law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araday’s Law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duct of the area of a  loop of wire (coil) times the magnetic field inside the wire is called the magnetic flux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= B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magnetic flux changes, a voltage is induced in the coil.  The induced voltage (V) is relat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umber of loops (N) in the c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te at which the magnetic flux is changing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t) inside the loop(s),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the magnetic flux changes wh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ith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magnetic field (B) or the area (A) of the loop cha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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= A</a:t>
            </a:r>
            <a:r>
              <a:rPr b="0" lang="en-US" sz="24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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 = B</a:t>
            </a:r>
            <a:r>
              <a:rPr b="0" lang="en-US" sz="24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84480" y="4267080"/>
            <a:ext cx="5830920" cy="871200"/>
            <a:chOff x="3084480" y="4267080"/>
            <a:chExt cx="5830920" cy="87120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084480" y="4267080"/>
                  <a:ext cx="37735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BA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7086600" y="44956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{Faraday’s Law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nerators &amp; Alternating Curren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magnetic induction can be used to produced 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evice that does this is called an electrical gen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ors convert mechanical energy into electric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cal energy is utilized to eith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tate a magnet inside a wire co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tate a wire coil inside a magnet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both cases, the magnetic flux inside the coil changes producing an induced vol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the magnetic or coil rotates, it produces an alternating current (AC) {due to the changing orientation of the coil and the magnetic field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s of gener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urbine driven (turbo-) gener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gnetohydrodynamic generators (MH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ichael Farada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91-1867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5334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lf-trained English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haps the greatest experimenter who ever l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nce he was self taught, he did not grasp mathematic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contributions to phys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7335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d the concept of fields (electric and magnetic) or as he called them, “lines of forc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the dynamo   (a device capable of converting electricity to mot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overed electromagnetic indu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ised the laws of chemical electrodeposition of metals from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Faraday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7432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nsforme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ises that utilize electromagnetic induction to increase or decrease the maximum voltage of an AC power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featu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 co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input): connects to AC power source &amp; generates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ary co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utput): connects to the “load circuit” &amp; reacts to the magnetic field produced by primary c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 between primary coil and secondary co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 is the voltage of primary or secondary c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is the number of coils in primary or secondary c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124080" y="4572000"/>
                <a:ext cx="2425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imar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imar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dar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dar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nsformers (cont.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ers obey conservation of energy la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Power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primary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= Power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second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ower input at primary coil will always be greater or equal to the power output at the secondary c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transformer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21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wer Transmiss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ansport electric power over large distan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tages are stepped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s are stepped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Power = Voltage x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P = V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currents result in less power loss (due to hea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ers (at front end) are used to step up the voltage and lower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ers (at back end) are used to step down the voltage and increase current for consumer u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eld Induc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raday’s Law in terms of fiel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lectric field is induced in any region of space in which a magnetic field is changing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E ~ </a:t>
            </a:r>
            <a:r>
              <a:rPr b="0" lang="en-US" sz="3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B/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the electric field is at right angle to the changing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well’s counterpart to Faraday’s La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gnetic field is created in any region of space in which an electric field is changing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B ~ </a:t>
            </a:r>
            <a:r>
              <a:rPr b="0" lang="en-US" sz="3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E/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the magnetic field is at right angle to the changing electr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5-13T21:21:55Z</dcterms:modified>
  <cp:revision>120</cp:revision>
  <dc:subject/>
  <dc:title>Phy 103: Chapter 22</dc:title>
</cp:coreProperties>
</file>