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33CB-B98D-4B47-8EA0-C55ACDCC9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it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ostatic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ity at res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al force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ke charges repel. Unlike charges attrac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char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ndamental electrical property to which the mutual attractions or repulsions between electrons or protons is attribu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ervation of char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ectric charge is neither created nor destroyed.  The total charge before an interaction equals the total charge afte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ulomb’s law: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 = k q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the charge are alike in sign, the force is repulsive; If the charge are unlike, the force is attract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ductor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ula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i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ercondu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 by friction and contac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 Electrons can be transferred from one material to another by simply touch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ing by indu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istribution of electric charges in and on objects caused by the electrical influence of a charged object close by but not in contac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arge polariz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ally polariz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the charges are aligned so that one side is slightly more positive or negative than the opposite side in a molecule or an ato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fie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force field that fills the space around every electric charge or group of charg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 = F/ 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potent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ltage = electrical potential energy/cha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ectric potential ener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: the energy a charged object possesses by virtue of its location in an electric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pacit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 an electrical device, in its simplest form a pair of parallel conducting plates separated by a small distance, that stores electric charge and ener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ither B or A chan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is the change in magnetic field (B)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B= B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final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-B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init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change in area of the loop (A)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A= A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final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-A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ini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20478-DBBC-4C91-A66C-18E3DF40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B7F8D-8CBC-4540-B447-C8417C79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85587-665E-4E06-B5B1-B56A8DDC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3AD9F-3E1A-40D6-A005-03A42C3C1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C55D-197A-4D12-8B79-D14C92C1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FFB8-B82F-460A-BCF4-40A94DBF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73A4-C1C6-4453-A7BA-6FA85DD9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04F6-1CA0-44A6-BFBB-7D9D0DC3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270F-265C-4F75-9B5E-F2820961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76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8429-6E76-4B0C-845E-DAEFC9AD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B2E8-C483-4E54-93BB-23AB5365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D55ED-A41D-48FE-AAE9-EDB90A6E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75E9-4CE1-4A2B-BAC3-ECD2DC18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A5CE-6E61-438E-8AA1-601E328B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8BE3-B634-4034-BFED-BE2659AD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3514-24BE-41EF-B2A3-D2FDFB29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354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4D18-C9D9-495D-B04C-5B14B1D6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ED7D-E924-479E-B5BF-47EC08EE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DAB55-758D-4FAB-9274-DB78E4F2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02A5D-ECA5-4609-B405-9498F005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766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2E945-99A9-431C-93FB-0A13C666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BA682-59CB-4212-94CE-1D501AF3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354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83F55-297E-455C-9783-57E03CE6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354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CAE04-76F6-40FC-A618-E7EC0566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B535-B6FD-4958-8561-F4769772B6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41BE-2830-4733-8D0E-6DD65275BE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Phy 103:  Fundamentals of Physics</a:t>
            </a:r>
            <a:endParaRPr b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066680" y="40381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25: Electromagnetic In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omagnetic Induc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far we have observed that an electric current produces a magnetic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Question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an a magnetic field produce an electric curr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’s call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lectromagnetic indu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magnetic field is changed near a wire loop, a voltag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alled electromotive force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induced in the w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sulting voltage generates an electric cur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ize of the voltage depends on how fast you change the magnet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ize of the current depends on the resistance in the wire as well as the induced voltage (remember Ohm’s Law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araday’s Law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duct of the area of a  loop of wire (coil) times the magnetic field inside the wire is called the magnetic flux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= B</a:t>
            </a:r>
            <a:r>
              <a:rPr b="0" lang="en-US" sz="28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magnetic flux changes, a voltage is induced in the coil.  The induced voltage (V) is relat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umber of loops (N) in the c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ate at which the magnetic flux is changing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t) inside the loop(s),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: the magnetic flux changes wh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ith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magnetic field (B) or the area (A) of the loop chang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Symbol"/>
                <a:ea typeface="Symbol"/>
              </a:rPr>
              <a:t></a:t>
            </a:r>
            <a:r>
              <a:rPr b="0" lang="en-US" sz="24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33"/>
                </a:solidFill>
                <a:latin typeface="Times New Roman"/>
              </a:rPr>
              <a:t>= A</a:t>
            </a:r>
            <a:r>
              <a:rPr b="0" lang="en-US" sz="24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ccff33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ff33"/>
                </a:solidFill>
                <a:latin typeface="Symbol"/>
                <a:ea typeface="Symbol"/>
              </a:rPr>
              <a:t></a:t>
            </a:r>
            <a:r>
              <a:rPr b="0" lang="en-US" sz="2400" spc="-1" strike="noStrike">
                <a:solidFill>
                  <a:srgbClr val="ccff33"/>
                </a:solidFill>
                <a:latin typeface="Times New Roman"/>
              </a:rPr>
              <a:t> = B</a:t>
            </a:r>
            <a:r>
              <a:rPr b="0" lang="en-US" sz="24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ccff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084480" y="4267080"/>
            <a:ext cx="5830920" cy="871200"/>
            <a:chOff x="3084480" y="4267080"/>
            <a:chExt cx="5830920" cy="871200"/>
          </a:xfrm>
        </p:grpSpPr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3084480" y="4267080"/>
                  <a:ext cx="377352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×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Φ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×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BA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7086600" y="449568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{Faraday’s Law}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enerators &amp; Alternating Curren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magnetic induction can be used to produced 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evice that does this is called an electrical gener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tors convert mechanical energy into electrical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chanical energy is utilized to eith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tate a magnet inside a wire co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tate a wire coil inside a magnetic 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both cases, the magnetic flux inside the coil changes producing an induced vol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the magnetic or coil rotates, it produces an alternating current (AC) {due to the changing orientation of the coil and the magnetic field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s of generato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urbine driven (turbo-) genera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gnetohydrodynamic generators (MH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ichael Farada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1791-1867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5334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elf-trained English physic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haps the greatest experimenter who ever li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ince he was self taught, he did not grasp mathematics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contributions to physic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73356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d the concept of fields (electric and magnetic) or as he called them, “lines of force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ed the dynamo   (a device capable of converting electricity to motion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overed electromagnetic indu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ised the laws of chemical electrodeposition of metals from s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Faraday" descr=""/>
          <p:cNvPicPr/>
          <p:nvPr/>
        </p:nvPicPr>
        <p:blipFill>
          <a:blip r:embed="rId1"/>
          <a:stretch/>
        </p:blipFill>
        <p:spPr>
          <a:xfrm>
            <a:off x="6019920" y="838080"/>
            <a:ext cx="274320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nsformer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ises that utilize electromagnetic induction to increase or decrease the maximum voltage of an AC power 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featu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mary coi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input): connects to AC power source &amp; generates the magnet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ary coi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output): connects to the “load circuit” &amp; reacts to the magnetic field produced by primary c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onship between primary coil and secondary coi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 is the voltage of primary or secondary c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is the number of coils in primary or secondary co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124080" y="4572000"/>
                <a:ext cx="2425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imar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imar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dar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ndar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ansformers (cont.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4876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ers obey conservation of energy law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Power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primary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= Power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second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ower input at primary coil will always be greater or equal to the power output at the secondary c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transformer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7217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ower Transmiss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ansport electric power over large distanc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tages are stepped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s are stepped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Power = Voltage x Cur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P = V</a:t>
            </a:r>
            <a:r>
              <a:rPr b="0" lang="en-US" sz="28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currents result in less power loss (due to hea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ers (at front end) are used to step up the voltage and lower cur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ers (at back end) are used to step down the voltage and increase current for consumer u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eld Induc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raday’s Law in terms of fiel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electric field is induced in any region of space in which a magnetic field is changing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E ~ </a:t>
            </a:r>
            <a:r>
              <a:rPr b="0" lang="en-US" sz="32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B/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rection of the electric field is at right angle to the changing magnet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well’s counterpart to Faraday’s Law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gnetic field is created in any region of space in which an electric field is changing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B ~ </a:t>
            </a:r>
            <a:r>
              <a:rPr b="0" lang="en-US" sz="32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E/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rection of the magnetic field is at right angle to the changing electr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03:26:56Z</dcterms:created>
  <dc:creator>Tony Zable</dc:creator>
  <dc:description/>
  <dc:language>en-US</dc:language>
  <cp:lastModifiedBy>PCC</cp:lastModifiedBy>
  <dcterms:modified xsi:type="dcterms:W3CDTF">2003-05-13T21:21:55Z</dcterms:modified>
  <cp:revision>120</cp:revision>
  <dc:subject/>
  <dc:title>Phy 103: Chapter 22</dc:title>
</cp:coreProperties>
</file>