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420A-37B0-4396-99F3-3D8ADD954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it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stat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ctricity at res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al force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ke charges repel. Unlike charges attrac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char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ndamental electrical property to which the mutual attractions or repulsions between electrons or protons is attribu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servation of char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ctric charge is neither created nor destroyed.  The total charge before an interaction equals the total charge aft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lomb’s law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 = k q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the charge are alike in sign, the force is repulsive; If the charge are unlike, the force is attract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ductor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ula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mi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er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 by friction and contac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 Electrons can be transferred from one material to another by simply touch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 by indu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istribution of electric charges in and on objects caused by the electrical influence of a charged object close by but not in contac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e polariz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ally polariz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the charges are aligned so that one side is slightly more positive or negative than the opposite side in a molecule or an ato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fie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force field that fills the space around every electric charge or group of charg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 = F/ 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potenti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ltage = electrical potential energy/cha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potential ener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: the energy a charged object possesses by virtue of its location in an electric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pacit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an electrical device, in its simplest form a pair of parallel conducting plates separated by a small distance, that stores electric charge and ener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766BE-4DFE-4C38-869C-B9A0A358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B35A0-6C0E-4144-B3A9-96991822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A67C9-B75E-4AC2-A22B-2D6AE199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E3762-4310-424D-A99E-2E6044D6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E0D1-D8B7-4F35-A06B-F9BD37B3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0AE1-B0C2-42E1-B9D6-AED018F3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CEC3-4DB9-4E5B-BC67-E2D8F474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6946-CE25-4D8B-8839-C9DD3AF9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FDA5-060D-4E5A-B7C9-C3E88D19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76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0B1C-3B27-4CB0-810C-B73AAC9A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A5E6-F98F-4A91-AD39-30F5F12A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50EEF-BFC5-4964-8280-B894671B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9F0C-4318-462E-B039-6C9E8D28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A7B6-F55C-464C-A7A4-33246816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659A-A0DD-4A28-AEA3-E4BBE25A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731F-BEF0-43CA-AB45-2DF582E3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FCE7-FE32-4A2B-9B29-8DCBE4D4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D564B-26BC-44DF-99C4-6A0C980F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95D38-DE78-4141-AE92-19F76DFE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374B1-1A70-4411-9A97-D4C17799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76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A32D0-DEE8-4D12-8B00-EBDF0DFD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57992-62AB-48F5-99A9-99250533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D957E-3764-45AA-87A8-51B0C3EF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AB8EE-03D3-4349-BDD7-E72679E0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B8FA-3125-4076-9F0C-900FE2BD0F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FC9F-5232-43A7-BF93-26319490DB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Phy 103:  Fundamentals of Physics</a:t>
            </a:r>
            <a:endParaRPr b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24: Magne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agnetic Force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 current carrying wires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wo current carrying wires are aligned parallel to each other they exert a magnetic force on each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wire is in the magnetic field of the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irection of the force depends on the relative direction of the electric currents in te wi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4876920"/>
            <a:ext cx="236196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6248520"/>
            <a:ext cx="236196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46483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44197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64771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5715000"/>
            <a:ext cx="0" cy="457200"/>
          </a:xfrm>
          <a:prstGeom prst="line">
            <a:avLst/>
          </a:prstGeom>
          <a:ln w="93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62485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5638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76720" y="4952880"/>
            <a:ext cx="0" cy="457200"/>
          </a:xfrm>
          <a:prstGeom prst="line">
            <a:avLst/>
          </a:prstGeom>
          <a:ln w="9360">
            <a:solidFill>
              <a:srgbClr val="ff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526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4876920"/>
            <a:ext cx="236196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248520"/>
            <a:ext cx="236196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86600" y="46483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81680" y="44197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64771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162920" y="5715000"/>
            <a:ext cx="0" cy="457200"/>
          </a:xfrm>
          <a:prstGeom prst="line">
            <a:avLst/>
          </a:prstGeom>
          <a:ln w="9360">
            <a:solidFill>
              <a:srgbClr val="ff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62485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8880" y="5638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4952880"/>
            <a:ext cx="0" cy="457200"/>
          </a:xfrm>
          <a:prstGeom prst="line">
            <a:avLst/>
          </a:prstGeom>
          <a:ln w="936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388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53341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Repuls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53341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Attract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arth’s Magnetic Field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arth has a magnetic field and acts like a giant big mag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define the magnetic “north” direction as the direction the North end of a compass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eographic “North Pole” is really the South pole of the magnetic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eographic “South Pole” is really the North pole of the magnetic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hough its value varies depending on location, the magnitude of the Earth’s magnetic field (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ar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earth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 ~ 60 x 10</a:t>
            </a:r>
            <a:r>
              <a:rPr b="0" lang="en-US" sz="2800" spc="-1" strike="noStrike" baseline="30000">
                <a:solidFill>
                  <a:srgbClr val="ccff33"/>
                </a:solidFill>
                <a:latin typeface="Times New Roman"/>
              </a:rPr>
              <a:t>-6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-76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North is South &amp; South is North…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4" name="Earth" descr=""/>
          <p:cNvPicPr/>
          <p:nvPr/>
        </p:nvPicPr>
        <p:blipFill>
          <a:blip r:embed="rId1"/>
          <a:srcRect l="0" t="0" r="12151" b="0"/>
          <a:stretch/>
        </p:blipFill>
        <p:spPr>
          <a:xfrm>
            <a:off x="1816200" y="1219320"/>
            <a:ext cx="51181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agnetic Pol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magnetism is created by moving charge, there is no single source of magnetism (such as a single electr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magnets have bo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north po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outh p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etic poles are ne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 themsel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ide from the obvious geographic reference, the south and north poles are magnet equivalent to positive and negative cha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648320" y="1905120"/>
            <a:ext cx="4190760" cy="3405240"/>
            <a:chOff x="4648320" y="1905120"/>
            <a:chExt cx="4190760" cy="3405240"/>
          </a:xfrm>
        </p:grpSpPr>
        <p:pic>
          <p:nvPicPr>
            <p:cNvPr id="112" name="magnet" descr=""/>
            <p:cNvPicPr/>
            <p:nvPr/>
          </p:nvPicPr>
          <p:blipFill>
            <a:blip r:embed="rId1"/>
            <a:stretch/>
          </p:blipFill>
          <p:spPr>
            <a:xfrm>
              <a:off x="4648320" y="1905120"/>
              <a:ext cx="4190760" cy="34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867280" y="3581640"/>
              <a:ext cx="1676520" cy="70380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N</a:t>
              </a: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       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agnetism &amp; Magnetic Forc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9604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gnetic poles interact similarly to electric 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” poles re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like” poles at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657600" y="1707480"/>
            <a:ext cx="4952160" cy="2147760"/>
            <a:chOff x="3657600" y="1707480"/>
            <a:chExt cx="4952160" cy="2147760"/>
          </a:xfrm>
        </p:grpSpPr>
        <p:sp>
          <p:nvSpPr>
            <p:cNvPr id="117" name=""/>
            <p:cNvSpPr/>
            <p:nvPr/>
          </p:nvSpPr>
          <p:spPr>
            <a:xfrm rot="1095000">
              <a:off x="5239080" y="1752480"/>
              <a:ext cx="618840" cy="2057400"/>
            </a:xfrm>
            <a:prstGeom prst="cube">
              <a:avLst>
                <a:gd name="adj" fmla="val 250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095000">
              <a:off x="6339960" y="1752480"/>
              <a:ext cx="618840" cy="2057400"/>
            </a:xfrm>
            <a:prstGeom prst="cube">
              <a:avLst>
                <a:gd name="adj" fmla="val 250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01400" y="1823400"/>
              <a:ext cx="1238040" cy="567360"/>
            </a:xfrm>
            <a:prstGeom prst="leftArrow">
              <a:avLst>
                <a:gd name="adj1" fmla="val 50000"/>
                <a:gd name="adj2" fmla="val 54553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57600" y="3100320"/>
              <a:ext cx="1238040" cy="567360"/>
            </a:xfrm>
            <a:prstGeom prst="leftArrow">
              <a:avLst>
                <a:gd name="adj1" fmla="val 50000"/>
                <a:gd name="adj2" fmla="val 54553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371360" y="1894320"/>
              <a:ext cx="1238040" cy="567360"/>
            </a:xfrm>
            <a:prstGeom prst="leftArrow">
              <a:avLst>
                <a:gd name="adj1" fmla="val 50000"/>
                <a:gd name="adj2" fmla="val 54553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7027560" y="3171240"/>
              <a:ext cx="1238040" cy="567360"/>
            </a:xfrm>
            <a:prstGeom prst="leftArrow">
              <a:avLst>
                <a:gd name="adj1" fmla="val 50000"/>
                <a:gd name="adj2" fmla="val 54553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45720" y="1894320"/>
              <a:ext cx="68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546600" y="1894320"/>
              <a:ext cx="68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34040" y="3100320"/>
              <a:ext cx="68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33160" y="3100320"/>
              <a:ext cx="68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440520" y="4377240"/>
            <a:ext cx="5017320" cy="2000520"/>
            <a:chOff x="3440520" y="4377240"/>
            <a:chExt cx="5017320" cy="2000520"/>
          </a:xfrm>
        </p:grpSpPr>
        <p:sp>
          <p:nvSpPr>
            <p:cNvPr id="128" name=""/>
            <p:cNvSpPr/>
            <p:nvPr/>
          </p:nvSpPr>
          <p:spPr>
            <a:xfrm rot="1095000">
              <a:off x="3720600" y="4430520"/>
              <a:ext cx="645840" cy="1893600"/>
            </a:xfrm>
            <a:prstGeom prst="cube">
              <a:avLst>
                <a:gd name="adj" fmla="val 250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095000">
              <a:off x="7525080" y="4430520"/>
              <a:ext cx="645840" cy="1893600"/>
            </a:xfrm>
            <a:prstGeom prst="cube">
              <a:avLst>
                <a:gd name="adj" fmla="val 250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61040" y="4626720"/>
              <a:ext cx="1292040" cy="522360"/>
            </a:xfrm>
            <a:prstGeom prst="leftArrow">
              <a:avLst>
                <a:gd name="adj1" fmla="val 50000"/>
                <a:gd name="adj2" fmla="val 61837"/>
              </a:avLst>
            </a:prstGeom>
            <a:solidFill>
              <a:srgbClr val="a886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02480" y="5801760"/>
              <a:ext cx="1292040" cy="522360"/>
            </a:xfrm>
            <a:prstGeom prst="leftArrow">
              <a:avLst>
                <a:gd name="adj1" fmla="val 50000"/>
                <a:gd name="adj2" fmla="val 61837"/>
              </a:avLst>
            </a:prstGeom>
            <a:solidFill>
              <a:srgbClr val="a886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4653000" y="4626720"/>
              <a:ext cx="1292040" cy="522360"/>
            </a:xfrm>
            <a:prstGeom prst="leftArrow">
              <a:avLst>
                <a:gd name="adj1" fmla="val 50000"/>
                <a:gd name="adj2" fmla="val 61837"/>
              </a:avLst>
            </a:prstGeom>
            <a:solidFill>
              <a:srgbClr val="a886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4294080" y="5801760"/>
              <a:ext cx="1292040" cy="522360"/>
            </a:xfrm>
            <a:prstGeom prst="leftArrow">
              <a:avLst>
                <a:gd name="adj1" fmla="val 50000"/>
                <a:gd name="adj2" fmla="val 61837"/>
              </a:avLst>
            </a:prstGeom>
            <a:solidFill>
              <a:srgbClr val="a886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35880" y="4560120"/>
              <a:ext cx="71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40360" y="4560120"/>
              <a:ext cx="71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11240" y="5671440"/>
              <a:ext cx="71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05320" y="5671440"/>
              <a:ext cx="71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agnetic Field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ovement of electric charge produces a magnetic field (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ield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ets have magnetic fields associated with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etic fields are essentially the magnetic influence a magnet has on the space around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etic field lines always point from North to S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eld lines originate at the North p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eld lines terminate at the South p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its of magnetic field are called Tesla (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1 Tesla (T) = 1 N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s/C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0" y="3276720"/>
            <a:ext cx="1981080" cy="2059920"/>
            <a:chOff x="6858000" y="3276720"/>
            <a:chExt cx="1981080" cy="2059920"/>
          </a:xfrm>
        </p:grpSpPr>
        <p:grpSp>
          <p:nvGrpSpPr>
            <p:cNvPr id="141" name=""/>
            <p:cNvGrpSpPr/>
            <p:nvPr/>
          </p:nvGrpSpPr>
          <p:grpSpPr>
            <a:xfrm>
              <a:off x="7315200" y="3276720"/>
              <a:ext cx="1523880" cy="2059920"/>
              <a:chOff x="7315200" y="3276720"/>
              <a:chExt cx="1523880" cy="2059920"/>
            </a:xfrm>
          </p:grpSpPr>
          <p:sp>
            <p:nvSpPr>
              <p:cNvPr id="142" name=""/>
              <p:cNvSpPr/>
              <p:nvPr/>
            </p:nvSpPr>
            <p:spPr>
              <a:xfrm flipV="1">
                <a:off x="7315200" y="3810240"/>
                <a:ext cx="0" cy="914400"/>
              </a:xfrm>
              <a:prstGeom prst="line">
                <a:avLst/>
              </a:prstGeom>
              <a:ln w="9360">
                <a:solidFill>
                  <a:srgbClr val="66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7619760" y="3810240"/>
                <a:ext cx="0" cy="914400"/>
              </a:xfrm>
              <a:prstGeom prst="line">
                <a:avLst/>
              </a:prstGeom>
              <a:ln w="9360">
                <a:solidFill>
                  <a:srgbClr val="66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7924680" y="3810240"/>
                <a:ext cx="0" cy="914400"/>
              </a:xfrm>
              <a:prstGeom prst="line">
                <a:avLst/>
              </a:prstGeom>
              <a:ln w="9360">
                <a:solidFill>
                  <a:srgbClr val="66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8229600" y="3810240"/>
                <a:ext cx="0" cy="914400"/>
              </a:xfrm>
              <a:prstGeom prst="line">
                <a:avLst/>
              </a:prstGeom>
              <a:ln w="9360">
                <a:solidFill>
                  <a:srgbClr val="66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8534160" y="3810240"/>
                <a:ext cx="0" cy="914400"/>
              </a:xfrm>
              <a:prstGeom prst="line">
                <a:avLst/>
              </a:prstGeom>
              <a:ln w="9360">
                <a:solidFill>
                  <a:srgbClr val="66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8839080" y="3810240"/>
                <a:ext cx="0" cy="914400"/>
              </a:xfrm>
              <a:prstGeom prst="line">
                <a:avLst/>
              </a:prstGeom>
              <a:ln w="9360">
                <a:solidFill>
                  <a:srgbClr val="66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24680" y="32767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Times New Roman"/>
                    <a:ea typeface="Times New Roman"/>
                  </a:rPr>
                  <a:t>S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24680" y="4876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Times New Roman"/>
                    <a:ea typeface="Times New Roman"/>
                  </a:rPr>
                  <a:t>N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6858000" y="4038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ff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lectric Currents &amp; Magnetic Field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res carrying electric current produce magnetic fie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gnitude of the magnetic field is related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in wire (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tance from wire (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ff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ff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ff66"/>
                </a:solidFill>
                <a:latin typeface="Times New Roman"/>
              </a:rPr>
              <a:t>B ~ I/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alculate the B fie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gnetic field “curls” around the wire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wire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3286080" cy="3190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066680" y="4533840"/>
                <a:ext cx="33912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 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7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T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dre Marie Amper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1775-1836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48006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person to describe current as the flow of electricity along a w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shed his derivation of the electrodynamic (electric) force law in 18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Ampere" descr=""/>
          <p:cNvPicPr/>
          <p:nvPr/>
        </p:nvPicPr>
        <p:blipFill>
          <a:blip r:embed="rId1"/>
          <a:stretch/>
        </p:blipFill>
        <p:spPr>
          <a:xfrm>
            <a:off x="5797440" y="1066680"/>
            <a:ext cx="2978280" cy="3505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7200" y="1066680"/>
            <a:ext cx="5105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ed to be the “Newton of electricit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formally educate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ell did not attend schoo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uted to have mastered all known mathematics by the age of 12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bably untr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d on an electrical &amp; magnetic wave theory of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ectromagne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il of wire with current running through is an electromag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gnetic field inside the coil is constant and points long the length of the co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rength of the electromagnet depends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urrent (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umber of coils (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gth of the coil (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ccff33"/>
                </a:solidFill>
                <a:latin typeface="Times New Roman"/>
              </a:rPr>
              <a:t>coil</a:t>
            </a: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 ~ I</a:t>
            </a:r>
            <a:r>
              <a:rPr b="0" lang="en-US" sz="3200" spc="-1" strike="noStrike" baseline="30000">
                <a:solidFill>
                  <a:srgbClr val="ccff33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N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ectromagnets (cont.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2" name="solenoid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001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320" y="-1526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agnetic Force 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 charged particles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280" y="884160"/>
            <a:ext cx="518184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n electric charge (such as an electron) moves through an magnetic field, it experiences a magnetic 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gnitude of the magnetic force depends 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arge (q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elocity of the charge (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gnetic field (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ccff66"/>
                </a:solidFill>
                <a:latin typeface="Times New Roman"/>
              </a:rPr>
              <a:t>magnetic</a:t>
            </a:r>
            <a:r>
              <a:rPr b="0" lang="en-US" sz="2800" spc="-1" strike="noStrike">
                <a:solidFill>
                  <a:srgbClr val="ccff66"/>
                </a:solidFill>
                <a:latin typeface="Times New Roman"/>
              </a:rPr>
              <a:t> = q</a:t>
            </a:r>
            <a:r>
              <a:rPr b="0" lang="en-US" sz="2800" spc="-1" strike="noStrike" baseline="30000">
                <a:solidFill>
                  <a:srgbClr val="ccff66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ccff66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ccff66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ccff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MagneticForce" descr=""/>
          <p:cNvPicPr/>
          <p:nvPr/>
        </p:nvPicPr>
        <p:blipFill>
          <a:blip r:embed="rId1"/>
          <a:stretch/>
        </p:blipFill>
        <p:spPr>
          <a:xfrm>
            <a:off x="5200560" y="1143000"/>
            <a:ext cx="3714840" cy="3943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2280" y="5029200"/>
            <a:ext cx="8610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rection of the magnetic force is perpendicular to bot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rection of the f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rection of motion (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03:26:56Z</dcterms:created>
  <dc:creator>Tony Zable</dc:creator>
  <dc:description/>
  <dc:language>en-US</dc:language>
  <cp:lastModifiedBy>PCC</cp:lastModifiedBy>
  <dcterms:modified xsi:type="dcterms:W3CDTF">2003-05-07T02:24:52Z</dcterms:modified>
  <cp:revision>92</cp:revision>
  <dc:subject/>
  <dc:title>Phy 103: Chapter 22</dc:title>
</cp:coreProperties>
</file>