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A303-92F4-4FDD-B5D7-988A86AF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5C54-C419-4AD5-A721-2BBAAB2A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B1A4-3390-4715-B188-4AFD7566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8D55-C1AC-4A41-A5DA-F3F0D4D8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B359-B8E3-49C3-899B-8DAB99C2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70AC-AB1E-43F3-8225-D771D576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46E-FA86-4085-B8C9-4AA9476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D806-67F5-44D6-A1B5-1F46FC59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4F8E-082E-4544-973A-82C040E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0A9-5914-4171-BDC4-F3FEAA5D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B5C1-223A-41A2-81CC-76D5928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B1C-F862-4715-B113-7110147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422F-4994-4C9C-AFA2-630EE879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61D5-4B50-4E33-A16B-F7F5C2E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81F-9D22-42C4-9E27-5F64D7D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5C2-FC7C-4230-B647-0D17A60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D06E-E0E6-48B5-A64C-895D421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9516-A235-4BBE-A558-B9C06ED2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8F51-8CDD-4999-BC8A-EA0E321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01C4-22C2-4C4B-ACBD-45434319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871E-F1E6-491C-938C-988E23B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F421-C303-45CC-B5C8-6ACDD0EA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C39F-C0CC-448F-B0BF-D67B81F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8CA8-87A5-4A41-A479-FEEA2CF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B515-7CC9-4685-AD6A-A79C4E1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449-21DB-4F82-8AE4-A5C95B23C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FD8-2D6F-4841-8E07-DEC5C2E445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4: Magne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orc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current carrying wire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current carrying wires are aligned parallel to each other they exert a magnetic force on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ire is in the magnetic field of the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rection of the force depends on the relative direction of the electric currents in te w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8769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2485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6477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71500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62485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95288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8769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2485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477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71500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6248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495288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Repuls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ttra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’s Magnetic Fiel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arth has a magnetic field and acts like a giant big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efine the magnetic “north” direction as the direction the North end of a compass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North Pole” is really the Sou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South Pole” is really the Nor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its value varies depending on location, the magnitude of the Earth’s magnetic field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~ 60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orth is South &amp; South is North…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Earth" descr=""/>
          <p:cNvPicPr/>
          <p:nvPr/>
        </p:nvPicPr>
        <p:blipFill>
          <a:blip r:embed="rId1"/>
          <a:srcRect l="0" t="0" r="12151" b="0"/>
          <a:stretch/>
        </p:blipFill>
        <p:spPr>
          <a:xfrm>
            <a:off x="1816200" y="1219320"/>
            <a:ext cx="5118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Po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magnetism is created by moving charge, there is no single source of magnetism (such as a single electr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gnets have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rth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ou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poles are n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ide from the obvious geographic reference, the south and north poles are magnet equivalent to positive and negative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48320" y="1905120"/>
            <a:ext cx="4190760" cy="3405240"/>
            <a:chOff x="4648320" y="1905120"/>
            <a:chExt cx="4190760" cy="3405240"/>
          </a:xfrm>
        </p:grpSpPr>
        <p:pic>
          <p:nvPicPr>
            <p:cNvPr id="112" name="magnet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419076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867280" y="3581640"/>
              <a:ext cx="1676520" cy="7038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N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       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sm &amp; Magnetic For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poles interact similarly to electric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” poles re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ike” poles at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57600" y="1707480"/>
            <a:ext cx="4952160" cy="2147760"/>
            <a:chOff x="3657600" y="1707480"/>
            <a:chExt cx="4952160" cy="2147760"/>
          </a:xfrm>
        </p:grpSpPr>
        <p:sp>
          <p:nvSpPr>
            <p:cNvPr id="117" name=""/>
            <p:cNvSpPr/>
            <p:nvPr/>
          </p:nvSpPr>
          <p:spPr>
            <a:xfrm rot="1095000">
              <a:off x="5239080" y="1752480"/>
              <a:ext cx="618840" cy="20574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95000">
              <a:off x="6339960" y="1752480"/>
              <a:ext cx="618840" cy="20574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1400" y="182340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57600" y="310032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71360" y="189432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027560" y="317124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5720" y="1894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600" y="1894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4040" y="3100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33160" y="3100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40520" y="4377240"/>
            <a:ext cx="5017320" cy="2000520"/>
            <a:chOff x="3440520" y="4377240"/>
            <a:chExt cx="5017320" cy="2000520"/>
          </a:xfrm>
        </p:grpSpPr>
        <p:sp>
          <p:nvSpPr>
            <p:cNvPr id="128" name=""/>
            <p:cNvSpPr/>
            <p:nvPr/>
          </p:nvSpPr>
          <p:spPr>
            <a:xfrm rot="1095000">
              <a:off x="3720600" y="4430520"/>
              <a:ext cx="645840" cy="18936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95000">
              <a:off x="7525080" y="4430520"/>
              <a:ext cx="645840" cy="18936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1040" y="462672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2480" y="580176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653000" y="462672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294080" y="580176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35880" y="4560120"/>
              <a:ext cx="71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40360" y="4560120"/>
              <a:ext cx="7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1240" y="5671440"/>
              <a:ext cx="7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5671440"/>
              <a:ext cx="7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iel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vement of electric charge produces a magnetic field (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s have magnetic fields associated with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s are essentially the magnetic influence a magnet has on the space ar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 lines always point from North to S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eld lines originate at the Nor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eld lines terminate at the Sou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s of magnetic field are called Tesla (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Tesla (T) = 1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/C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0" y="3276720"/>
            <a:ext cx="1981080" cy="2059920"/>
            <a:chOff x="6858000" y="3276720"/>
            <a:chExt cx="1981080" cy="2059920"/>
          </a:xfrm>
        </p:grpSpPr>
        <p:grpSp>
          <p:nvGrpSpPr>
            <p:cNvPr id="141" name=""/>
            <p:cNvGrpSpPr/>
            <p:nvPr/>
          </p:nvGrpSpPr>
          <p:grpSpPr>
            <a:xfrm>
              <a:off x="7315200" y="3276720"/>
              <a:ext cx="1523880" cy="2059920"/>
              <a:chOff x="7315200" y="3276720"/>
              <a:chExt cx="1523880" cy="205992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731520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61976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92468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22960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53416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883908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24680" y="3276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85800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lectric Currents &amp; Magnetic Field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res carrying electric current produce magnetic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itude of the magnetic field is relat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in wire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ance from wire (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B ~ I/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alculate the B fie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ield “curls” around the wir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wire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286080" cy="319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66680" y="4533840"/>
                <a:ext cx="3391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re Marie Amp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75-1836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erson to describe current as the flow of electricity along a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his derivation of the electrodynamic (electric) force law in 18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mpere" descr=""/>
          <p:cNvPicPr/>
          <p:nvPr/>
        </p:nvPicPr>
        <p:blipFill>
          <a:blip r:embed="rId1"/>
          <a:stretch/>
        </p:blipFill>
        <p:spPr>
          <a:xfrm>
            <a:off x="5797440" y="1066680"/>
            <a:ext cx="297828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1066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ed to be the “Newton of electrici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mally educat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ell did not attend scho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ted to have mastered all known mathematics by the age of 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bably un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d on an electrical &amp; magnetic wave theory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il of wire with current running through is an electromag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ield inside the coil is constant and points long the length of the c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ength of the electromagnet depend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rrent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coils 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gth of the co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ccff33"/>
                </a:solidFill>
                <a:latin typeface="Times New Roman"/>
              </a:rPr>
              <a:t>coil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 ~ I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N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solenoid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orce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charged particle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884160"/>
            <a:ext cx="518184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electric charge (such as an electron) moves through an magnetic field, it experiences a magnetic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magnetic force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elocity of the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etic field 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Times New Roman"/>
              </a:rPr>
              <a:t>magnetic</a:t>
            </a: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 = q</a:t>
            </a:r>
            <a:r>
              <a:rPr b="0" lang="en-US" sz="2800" spc="-1" strike="noStrike" baseline="30000">
                <a:solidFill>
                  <a:srgbClr val="ccff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ccff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MagneticForce" descr=""/>
          <p:cNvPicPr/>
          <p:nvPr/>
        </p:nvPicPr>
        <p:blipFill>
          <a:blip r:embed="rId1"/>
          <a:stretch/>
        </p:blipFill>
        <p:spPr>
          <a:xfrm>
            <a:off x="5200560" y="1143000"/>
            <a:ext cx="3714840" cy="394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5029200"/>
            <a:ext cx="861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magnetic force is perpendicular to bo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motion (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07T02:24:52Z</dcterms:modified>
  <cp:revision>92</cp:revision>
  <dc:subject/>
  <dc:title>Phy 103: Chapter 22</dc:title>
</cp:coreProperties>
</file>