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A8D2-3FFE-4916-9E1D-228513DD5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it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ostatic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ectricity at res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al force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ke charges repel. Unlike charges attrac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 char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ndamental electrical property to which the mutual attractions or repulsions between electrons or protons is attribu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servation of char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ectric charge is neither created nor destroyed.  The total charge before an interaction equals the total charge afte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lomb’s law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 = k q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d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the charge are alike in sign, the force is repulsive; If the charge are unlike, the force is attract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ductor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d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ula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micond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ercond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g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ging by friction and contac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 Electrons can be transferred from one material to another by simply touch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ging by indu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distribution of electric charges in and on objects caused by the electrical influence of a charged object close by but not in contac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ge polariza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ally polariz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the charges are aligned so that one side is slightly more positive or negative than the opposite side in a molecule or an ato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 fie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force field that fills the space around every electric charge or group of charg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 = F/ 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 potentia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ltage = electrical potential energy/cha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 potential ener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: the energy a charged object possesses by virtue of its location in an electric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pacit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an electrical device, in its simplest form a pair of parallel conducting plates separated by a small distance, that stores electric charge and energ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F57A-BE64-485B-837C-88DB85284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battery gets old, its internal resistance(r) in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ies when its internal potential difference equals its electromotive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4297-7E22-41D9-BBB4-62AE79F3C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D89BB-D586-4B65-9D23-A1686D98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354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DC857-F2C4-46C4-9AFA-D3D05F30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182DD-CE67-4291-926A-4EEF8A2A4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C809D-3B4B-42D3-AA9D-DCFBBCF54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44A2-C7F1-4124-963F-ECD78C2F0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D13D-EC43-4AC6-8A84-E7250838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01B0-5AD5-459A-A5B9-9AD78BFE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037F-8679-4F72-9185-CF86E622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349D-7821-4624-A016-0CE37ECA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-76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BADD-7C75-4F1E-8A00-48ADC0AF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846F-0E0C-4249-B7A1-58C7B9CA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9BF03-7FD6-42CD-A54E-A00DCC5A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5D79-0732-4955-93FF-6B398929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B2A3-24EB-486D-B1FE-7F78B014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354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D45C-476D-4BB2-96C1-D3C50B70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B976-0074-4928-8655-DF06836C1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F2E7-BFFA-48F3-8C48-3BC712C5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2DA9A-A720-42E1-9E27-BD0ACB4B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DF723-13D6-4437-A00D-79717D93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5B24F-965A-4A87-9F86-3E725677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76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9D2EE-7986-4F9B-8258-FB50889C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F2BAF-4648-4C62-9419-D9C55B1C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143F6-26B5-4809-98EE-8D0ED768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F0109-4264-4721-97B8-41CD6E79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7783-7CBC-4B04-84ED-FCD0CCAA3F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F0D6-AEAC-47DB-94D6-E1C8C21869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Phy 103:  Fundamentals of Physics</a:t>
            </a:r>
            <a:endParaRPr b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23: Electric Cur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lectric Circuit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Power supply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rovides the electric potential difference between its termin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evice that transforms energy from one form of energy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such as chemical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to electric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racterized by its electromotive force (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potential difference or voltage between the termin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Connecting wires: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 a path for electric current to flow (their resistance is usually very small ~ 0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Consumer (or load)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any electrical device connected to the circui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characterized by its resistance, 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lectric Circuit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ypes of electrical connec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r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onents are connected head-to-t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ll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onents are connected head-to-head &amp; tail-to-t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3048120"/>
            <a:ext cx="68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14400" y="2590920"/>
            <a:ext cx="7543800" cy="761760"/>
            <a:chOff x="914400" y="2590920"/>
            <a:chExt cx="7543800" cy="761760"/>
          </a:xfrm>
        </p:grpSpPr>
        <p:sp>
          <p:nvSpPr>
            <p:cNvPr id="137" name=""/>
            <p:cNvSpPr/>
            <p:nvPr/>
          </p:nvSpPr>
          <p:spPr>
            <a:xfrm>
              <a:off x="1447920" y="3124080"/>
              <a:ext cx="6324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38280" y="2895480"/>
              <a:ext cx="1219320" cy="4572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81480" y="2895480"/>
              <a:ext cx="12193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14400" y="25909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Garamond"/>
                </a:rPr>
                <a:t>+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772400" y="25909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Garamond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676520" y="5029200"/>
            <a:ext cx="6172200" cy="1600200"/>
            <a:chOff x="1676520" y="5029200"/>
            <a:chExt cx="6172200" cy="1600200"/>
          </a:xfrm>
        </p:grpSpPr>
        <p:sp>
          <p:nvSpPr>
            <p:cNvPr id="143" name=""/>
            <p:cNvSpPr/>
            <p:nvPr/>
          </p:nvSpPr>
          <p:spPr>
            <a:xfrm>
              <a:off x="3048120" y="5257800"/>
              <a:ext cx="2971800" cy="11430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09680" y="5791320"/>
              <a:ext cx="838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19920" y="5791320"/>
              <a:ext cx="838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86200" y="5029200"/>
              <a:ext cx="1219320" cy="4572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86200" y="6172200"/>
              <a:ext cx="1219320" cy="4572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76520" y="5257800"/>
              <a:ext cx="99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Garamond"/>
                </a:rPr>
                <a:t>+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58000" y="5257800"/>
              <a:ext cx="99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Garamond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lectric Curren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9604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lectric potential difference causes electric charges to m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low of electric charge is called </a:t>
            </a:r>
            <a:r>
              <a:rPr b="0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electric cur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tive charge accelerates toward lower electric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gative charge accelerates toward higher electric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ate of flow of electric charge (I) through a conducting material is the amount of charge (Q) that flows divided by the time (t) it takes to flow, 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I = Q/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 units are coulombs per second (C/s), called amperes (A), where </a:t>
            </a:r>
            <a:r>
              <a:rPr b="0" i="1" lang="en-US" sz="2400" spc="-1" strike="noStrike">
                <a:solidFill>
                  <a:srgbClr val="ccff33"/>
                </a:solidFill>
                <a:latin typeface="Times New Roman"/>
              </a:rPr>
              <a:t>1 coulomb/sec = 1 Amp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convention, electric current is defined as the flow of positive charge flowing from high potential (+) to low potential (-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sistanc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hysical property of a material to “impede” the flow of electric charge is called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electrical res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object’s resistance (R) depends 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s inherent ability to conduct electricity, its resistivity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urface area (A): the wider the area the more room for current to 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ength (L) of the object: the longer the object the more material the current must be pushed thr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Times New Roman"/>
              </a:rPr>
              <a:t>R ~ L/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ductors (like metals) have low res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ulators (plastics &amp; non-metals) have high res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hm’s Law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a given potential difference (V), the magnitude of electric current (I) depends on the physical properties of the conductor (dimensions and materi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lectric current that will flow through a circuit 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rtional to the potential difference (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rsely proportional to the resistance of the circu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ff6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ff6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ff66"/>
                </a:solidFill>
                <a:latin typeface="Times New Roman"/>
              </a:rPr>
              <a:t>I = V/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{this is Ohm’s Law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many substances, R is consta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Times New Roman"/>
              </a:rPr>
              <a:t>R = V/I = a constant val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Georg Simon Ohm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1789-1854)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20600"/>
            <a:ext cx="521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rman physic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iginally a secondary school (gymnasium) teac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rsued research to obtain a university p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ied electricity and the physics of hea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famous work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on “Ohm’s Law”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as published in a book in 182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6840" y="518112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al studies were strongly influenced by Fourier’s work on heat con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Ohm" descr=""/>
          <p:cNvPicPr/>
          <p:nvPr/>
        </p:nvPicPr>
        <p:blipFill>
          <a:blip r:embed="rId1"/>
          <a:stretch/>
        </p:blipFill>
        <p:spPr>
          <a:xfrm>
            <a:off x="6019920" y="1523880"/>
            <a:ext cx="2849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lectric Power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takes effort and energy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work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drive electric charge through a circui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gainst its resistanc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ate of energy (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pow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required to drive electric current through a circuit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or part of a circuit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proport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the potential difference (V) acro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the electric current (I) that flows through a circu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Times New Roman"/>
              </a:rPr>
              <a:t>P=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I units of power are 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ts (V) times amperes (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ules per second (J/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ts (W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-766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irect Current (DC) &amp; Alternating Current (AC)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 power source running an electric circuit moves charge only one direction it is a direct current (DC) circu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 flows from the high potential terminal (+) to the low potential terminal (-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C circuits, the power source supplies the elec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tteries and photoelectric cells produce DC cur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 power source driving an electric circuit moves charge back-and-forth it is a an alternating current (AC) circu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AC circuits, you supply the elec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r wall sockets typically fluctuate between +170 V and –170 V at a rate of 60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luctuating voltage has a sinusoidal wavefor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lessandro Volta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1745-1827)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74600"/>
            <a:ext cx="6229440" cy="377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alian physicist &amp; inven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person to isolate meth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scinated with electricity at an early 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ioneered the field of electrochem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volta" descr=""/>
          <p:cNvPicPr/>
          <p:nvPr/>
        </p:nvPicPr>
        <p:blipFill>
          <a:blip r:embed="rId1"/>
          <a:stretch/>
        </p:blipFill>
        <p:spPr>
          <a:xfrm>
            <a:off x="6141960" y="1219320"/>
            <a:ext cx="2692440" cy="2971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7200" y="4419720"/>
            <a:ext cx="85345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ed the first battery to produce electricity (called a voltaic pi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Nikola Tesla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1856-1943)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5867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bian-American inventor &amp; engine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jor rival of Thomas Edi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oneered the use of AC current for commercial po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d many of his patents to Westinghouse Corpo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able inven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d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uorescent ligh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ireless commun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ternating current transmi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sla coil transform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 electric automobile (the Pierce Arro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ver 700 pat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334120" y="3733920"/>
            <a:ext cx="3657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ffcc00"/>
                </a:solidFill>
                <a:latin typeface="Times New Roman"/>
              </a:rPr>
              <a:t>Science is but a perversion of itself unless it has</a:t>
            </a:r>
            <a:br>
              <a:rPr sz="2400"/>
            </a:br>
            <a:r>
              <a:rPr b="0" i="1" lang="en-US" sz="2400" spc="-1" strike="noStrike">
                <a:solidFill>
                  <a:srgbClr val="ffcc00"/>
                </a:solidFill>
                <a:latin typeface="Times New Roman"/>
              </a:rPr>
              <a:t>    as its ultimate goal the betterment of humanity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tesla" descr=""/>
          <p:cNvPicPr/>
          <p:nvPr/>
        </p:nvPicPr>
        <p:blipFill>
          <a:blip r:embed="rId1"/>
          <a:stretch/>
        </p:blipFill>
        <p:spPr>
          <a:xfrm>
            <a:off x="6095880" y="990720"/>
            <a:ext cx="2411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0T03:26:56Z</dcterms:created>
  <dc:creator>Tony Zable</dc:creator>
  <dc:description/>
  <dc:language>en-US</dc:language>
  <cp:lastModifiedBy>PCC</cp:lastModifiedBy>
  <dcterms:modified xsi:type="dcterms:W3CDTF">2003-04-29T21:41:02Z</dcterms:modified>
  <cp:revision>62</cp:revision>
  <dc:subject/>
  <dc:title>Phy 103: Chapter 22</dc:title>
</cp:coreProperties>
</file>