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67CA-CE51-4CF7-B840-115BBF76D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it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stat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ity at res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 forc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ke charges repel. Unlike charges attr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damental electrical property to which the mutual attractions or repulsions between electrons or protons is attribu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ervation of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 charge is neither created nor destroyed.  The total charge before an interaction equals the total charge aft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lomb’s law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 = k 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charge are alike in sign, the force is repulsive; If the charge are unlike, the force is attract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ductor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ul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i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er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friction and contac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Electrons can be transferred from one material to another by simply touch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indu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istribution of electric charges in and on objects caused by the electrical influence of a charged object close by but not in cont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e polariz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ly polariz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the charges are aligned so that one side is slightly more positive or negative than the opposite side in a molecule or an at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fie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force field that fills the space around every electric charge or group of charg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 = F/ 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tage = electrical potential energy/cha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 ener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: the energy a charged object possesses by virtue of its location in an electric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pacit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an electrical device, in its simplest form a pair of parallel conducting plates separated by a small distance, that stores electric charge and ener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8EC7-875F-4A37-B8B5-8E61AFEBB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battery gets old, its internal resistance(r)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ies when its internal potential difference equals its electromotive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FDC5-E8FB-475F-9EED-9BAB30F19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B1E6-27A2-440D-9192-6A55C0D5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E3B36-D62D-47FC-BF0C-F8C3AD70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167EA-0082-477F-AA3C-AFF76D0B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34063-30A4-4502-BD08-694306D6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A31E-1B8C-456F-9D3A-42E83101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F962-9D8F-4031-8230-9F5FF0A9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6BE9-B71A-43D9-8B02-DE4D0603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0A4F-D086-4833-9741-2E8543DA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B5A6-EA7B-45CB-B882-418CA0E1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E784-4EB4-4DB1-BFEA-1A979FD9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F450-4A7F-4367-B44E-7231F049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16D39-ADC7-4558-85D6-B633817D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1D79-7D4B-493F-9EF9-BD132D37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E32E-2585-4B5F-95F1-C76F57FA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A0BE-EBD7-47BE-BE8D-F06293CB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39E6-461F-4558-9C61-6830AB26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89EE-0597-4FDD-B2FE-2E79F794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98127-0DE1-4D8E-B28D-52F0036C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946A8-0660-47AB-8E10-3B1BF84B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F75A-DC6E-4B47-A6E9-C79527DE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68BD-84EE-4044-A243-9AB2D9B0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E8F1A-EBE0-4579-A797-8782BC61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83CA-3931-491D-A7C0-AFEA514D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BB85-68A4-4839-9EB0-5E3598C2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33A0-529A-42EA-88B6-6F21EE8E62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168B-E53D-4D06-971D-C05CD3B221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hy 103:  Fundamentals of Physics</a:t>
            </a: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23: Electric Cur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ic Circui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Power supply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vides the electric potential difference between its termin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evice that transforms energy from one form of energ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uch as chemical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nto electric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acterized by its electromotive force (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otential difference or voltage between the termin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necting wires: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a path for electric current to flow (their resistance is usually very small ~ 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sumer (or load)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any electrical device connected to the circui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haracterized by its resistance, 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ic Circui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ypes of electrical connec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nents are connected head-to-t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nents are connected head-to-head &amp; tail-to-t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048120"/>
            <a:ext cx="68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2590920"/>
            <a:ext cx="7543800" cy="761760"/>
            <a:chOff x="914400" y="2590920"/>
            <a:chExt cx="7543800" cy="761760"/>
          </a:xfrm>
        </p:grpSpPr>
        <p:sp>
          <p:nvSpPr>
            <p:cNvPr id="137" name=""/>
            <p:cNvSpPr/>
            <p:nvPr/>
          </p:nvSpPr>
          <p:spPr>
            <a:xfrm>
              <a:off x="1447920" y="3124080"/>
              <a:ext cx="6324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38280" y="2895480"/>
              <a:ext cx="1219320" cy="4572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81480" y="2895480"/>
              <a:ext cx="12193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4400" y="25909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aramond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72400" y="25909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aramond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676520" y="5029200"/>
            <a:ext cx="6172200" cy="1600200"/>
            <a:chOff x="1676520" y="5029200"/>
            <a:chExt cx="6172200" cy="1600200"/>
          </a:xfrm>
        </p:grpSpPr>
        <p:sp>
          <p:nvSpPr>
            <p:cNvPr id="143" name=""/>
            <p:cNvSpPr/>
            <p:nvPr/>
          </p:nvSpPr>
          <p:spPr>
            <a:xfrm>
              <a:off x="3048120" y="5257800"/>
              <a:ext cx="2971800" cy="1143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09680" y="5791320"/>
              <a:ext cx="838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920" y="579132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86200" y="5029200"/>
              <a:ext cx="1219320" cy="4572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6200" y="6172200"/>
              <a:ext cx="1219320" cy="4572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76520" y="5257800"/>
              <a:ext cx="99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aramond"/>
                </a:rPr>
                <a:t>+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0" y="5257800"/>
              <a:ext cx="99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aramond"/>
                </a:rPr>
                <a:t>-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ic Curren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604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lectric potential difference causes electric charges to m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low of electric charge is called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electric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 charge accelerates toward lower electric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ative charge accelerates toward higher electric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te of flow of electric charge (I) through a conducting material is the amount of charge (Q) that flows divided by the time (t) it takes to flow,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I = Q/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units are coulombs per second (C/s), called amperes (A), where </a:t>
            </a:r>
            <a:r>
              <a:rPr b="0" i="1" lang="en-US" sz="2400" spc="-1" strike="noStrike">
                <a:solidFill>
                  <a:srgbClr val="ccff33"/>
                </a:solidFill>
                <a:latin typeface="Times New Roman"/>
              </a:rPr>
              <a:t>1 coulomb/sec = 1 Amp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convention, electric current is defined as the flow of positive charge flowing from high potential (+) to low potential 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istanc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hysical property of a material to “impede” the flow of electric charge is called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electrical re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bject’s resistance (R) depend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s inherent ability to conduct electricity, its resistivit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urface area (A): the wider the area the more room for current to 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ength (L) of the object: the longer the object the more material the current must be pushed thr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Times New Roman"/>
              </a:rPr>
              <a:t>R ~ L/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uctors (like metals) have low re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ulators (plastics &amp; non-metals) have high re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hm’s Law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 given potential difference (V), the magnitude of electric current (I) depends on the physical properties of the conductor (dimensions and mater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current that will flow through a circuit 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tional to the potential difference (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ely proportional to the resistance of the circu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I = V/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{this is Ohm’s Law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any substances, R is consta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Times New Roman"/>
              </a:rPr>
              <a:t>R = V/I = a constant va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eorg Simon Ohm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1789-1854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20600"/>
            <a:ext cx="521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an physic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ally a secondary school (gymnasium) teac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rsued research to obtain a university p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ed electricity and the physics of h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famous work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on “Ohm’s Law”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as published in a book in 182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6840" y="518112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al studies were strongly influenced by Fourier’s work on heat con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Ohm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849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ic Power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takes effort and energ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ork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drive electric charge through a circui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gainst its resistan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te of energy (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ow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required to drive electric current through a circuit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part of a circuit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propor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potential difference (V) acro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electric current (I) that flows through a circu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Times New Roman"/>
              </a:rPr>
              <a:t>P=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 units of power are 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ts (V) times amperes (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ules per second (J/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ts (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rect Current (DC) &amp; Alternating Current (AC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power source running an electric circuit moves charge only one direction it is a direct current (DC) circ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flows from the high potential terminal (+) to the low potential terminal (-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C circuits, the power source supplies the 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tteries and photoelectric cells produce DC 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power source driving an electric circuit moves charge back-and-forth it is a an alternating current (AC) circu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C circuits, you supply the 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wall sockets typically fluctuate between +170 V and –170 V at a rate of 6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luctuating voltage has a sinusoidal wave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lessandro Volt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1745-1827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74600"/>
            <a:ext cx="6229440" cy="37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ian physicist &amp; inven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person to isolate meth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cinated with electricity at an early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oneered the field of electrochem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volta" descr=""/>
          <p:cNvPicPr/>
          <p:nvPr/>
        </p:nvPicPr>
        <p:blipFill>
          <a:blip r:embed="rId1"/>
          <a:stretch/>
        </p:blipFill>
        <p:spPr>
          <a:xfrm>
            <a:off x="6141960" y="1219320"/>
            <a:ext cx="2692440" cy="2971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4419720"/>
            <a:ext cx="8534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ed the first battery to produce electricity (called a voltaic p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ikola Tesl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1856-1943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867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bian-American inventor &amp; engin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jor rival of Thomas Ed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oneered the use of AC current for commercial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d many of his patents to Westinghouse Corp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ble inven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uorescent ligh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reless commun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ternating current transmi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la coil transfor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electric automobile (the Pierce Arro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700 pa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34120" y="3733920"/>
            <a:ext cx="3657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Science is but a perversion of itself unless it has</a:t>
            </a:r>
            <a:br>
              <a:rPr sz="2400"/>
            </a:b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    as its ultimate goal the betterment of humanit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tesla" descr=""/>
          <p:cNvPicPr/>
          <p:nvPr/>
        </p:nvPicPr>
        <p:blipFill>
          <a:blip r:embed="rId1"/>
          <a:stretch/>
        </p:blipFill>
        <p:spPr>
          <a:xfrm>
            <a:off x="6095880" y="990720"/>
            <a:ext cx="2411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3:26:56Z</dcterms:created>
  <dc:creator>Tony Zable</dc:creator>
  <dc:description/>
  <dc:language>en-US</dc:language>
  <cp:lastModifiedBy>PCC</cp:lastModifiedBy>
  <dcterms:modified xsi:type="dcterms:W3CDTF">2003-04-29T21:41:02Z</dcterms:modified>
  <cp:revision>62</cp:revision>
  <dc:subject/>
  <dc:title>Phy 103: Chapter 22</dc:title>
</cp:coreProperties>
</file>