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FE01-37AB-4430-A8D8-B30BCF1A6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60E-FFDB-43D9-BB7F-7E3551F8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D093-3218-4EF7-8587-0E6D3536D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6612-F0F2-411B-A94C-B57E8805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F7F3-341A-4F04-8F92-8A474E65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CAA3-A016-44AD-B71D-467EC13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6191-C529-46ED-8911-CA586AC4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66A2-9ECF-417A-9286-734732AC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D41F-79CB-4A14-AA10-04084DF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D3B-8447-4D83-92E8-804DE9AE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D43-E0F2-4F9C-ABAE-1D81ADF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822A-6388-4B64-AEA3-17336A9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A8CB-87EB-41A7-8CFB-CB31D6A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D9C-E0F7-45DD-9AAD-75D7F478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12B8-1BD6-4EF2-9E2D-974C2F1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FBCF-5F08-468B-963C-4EECC0D5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82EF-A453-44B4-9186-03CF75C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A72-1A54-436A-BFB1-C9F0443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E0A-B6C2-4CD7-ACA3-BC256093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B18-01D5-478C-8C2F-E2E59449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1D93-0D28-473D-A052-CFFDD1BB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BBE2-C953-4201-A2BC-B07B3115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16B2-F1F5-485B-AD9D-01BB29D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21B8-1403-4114-89A8-C3B244D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C83B-00AE-475A-9D42-69D84F8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6014-7BF6-4D3B-BD8C-1298D25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130D-39F3-4D03-B79D-CC5865F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6EAB-2209-4BEE-9736-50EA80F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BE4-B7AF-44F1-9949-3C4779F3F1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B37D-F205-4164-A330-8191C37BE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2: Electrost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ductors &amp; Insulat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ance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ysical proper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ance describes the ability of a substance to conduct electricity (allow charge to flow through 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ly speaking, matter can be classified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electrons/charge to flow through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ls, dissolved salts in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sula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 not readily conduct electric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metals, most ceramics, plastic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u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emi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der certain conditions conduct eleetric charge but not under other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lloids, some cer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uper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electric charge to flow without any material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conduction occurs at very low temperatures (&lt;100 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tain ceramics and metal ox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arg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ing is the proces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ing excess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izing regions of charge within a sub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 types of Charg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ging by friction an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can be transferred from one material to another by simply tou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ging by i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istribution of electric charges in and on objects caused by the electrical influence of a charged object close by but not in cont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ork &amp; Energ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review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a measure of mechanical output (movement) due to some effort (a fo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ork = (Force Applied)*(Distance Trave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is the capacity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omes in many for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energy (energy of mo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(energy that flows from hot to c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nergy (energy due to pos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at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cl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work &amp; energy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units include calories &amp; kilowatt-hours (k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Potentia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86832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harge placed in an electric field has an associated electric potential energy (E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E is essentially the work required to place the charge at that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E is the energy a charged object possesses by virtue of its location in an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energy reflects the amount of work the electric field can perform on the charge if it is free to mov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potential is a charged object’s EPE divided by its charg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Electric potential = EPE/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V = EPE/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electric potential are J/C (or vol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6229440" cy="37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volta" descr=""/>
          <p:cNvPicPr/>
          <p:nvPr/>
        </p:nvPicPr>
        <p:blipFill>
          <a:blip r:embed="rId1"/>
          <a:stretch/>
        </p:blipFill>
        <p:spPr>
          <a:xfrm>
            <a:off x="6141960" y="152388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502920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pacit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ical device that stores electric charge and electric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its simplest form a pair of parallel conducting plates separated by a small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charge of opposite sign accumulates on face of each plate, establishing an electric field between the pl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between the plates has a constant value (magnitude &amp; dire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19520" y="2738520"/>
            <a:ext cx="3352680" cy="1640880"/>
            <a:chOff x="2819520" y="2738520"/>
            <a:chExt cx="3352680" cy="1640880"/>
          </a:xfrm>
        </p:grpSpPr>
        <p:grpSp>
          <p:nvGrpSpPr>
            <p:cNvPr id="169" name=""/>
            <p:cNvGrpSpPr/>
            <p:nvPr/>
          </p:nvGrpSpPr>
          <p:grpSpPr>
            <a:xfrm>
              <a:off x="3592440" y="2738520"/>
              <a:ext cx="1900440" cy="1640880"/>
              <a:chOff x="3592440" y="2738520"/>
              <a:chExt cx="1900440" cy="1640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592440" y="2819520"/>
                <a:ext cx="181080" cy="1439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11800" y="2819520"/>
                <a:ext cx="181080" cy="1439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72080" y="2738520"/>
                <a:ext cx="473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1280" y="2738520"/>
                <a:ext cx="47160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35320" y="307332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35320" y="349740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35320" y="391968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24240" y="3919680"/>
                <a:ext cx="63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819520" y="3427560"/>
              <a:ext cx="8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61000" y="351468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har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6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undamental electrical property to which the mutual attractions or repulsions between electrons or protons (in the atom) is attribu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charge are called coulombs 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 (called pola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(e.g. prot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(e.g. electr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charges re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-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site charges at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traction-repulsion between charges is calle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electric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harge Tidb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charge is “quantiz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has a smallest value that occurs in natu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single “packet” of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est quantity of electric charge is called a quantum of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s a quantum of negative electric charge (-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s a quantum of positive electric charge (+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quantum of electric charge, e, has a value of 1.6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 of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neither created nor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lectric charge before an interaction equals the total electric charge after the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is the movement (or flow) of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is due to the presence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electric for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ng on charges (causing them to mo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can be the movemen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(in me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s (in fluids such as water or a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flow of electric charge is called 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current are amperes (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A is the flow of 1 coulomb  of charge per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imes New Roman"/>
              </a:rPr>
              <a:t>How many electrons is this (per second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wton’s Law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quick review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For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shes or pulls on things that ca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of force are called newtons (or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s of for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act (involves direct touching/contac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contact (occurs without direct contact, across spa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1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 no net force acts on something, its state of motion will remain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2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net force acts on something, its state of motion will 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ne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3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rces always act in action-reaction pairs between 2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ulomb’s Law &amp; Electric For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s the magnitude of electric force between 2 “point”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electric force 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of the charges involved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charges, 1/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actually the distance squared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electric for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electric force depends on the polarity of the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posite charges (attract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charges (rep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57600" y="3505320"/>
                <a:ext cx="228600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Charles Augustin de Coulomb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1736-1806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 by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his work on the subject of 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using calculus of variations to solve engineer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7 important papers on electricity &amp; magnetism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1785-179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oulomb_2" descr=""/>
          <p:cNvPicPr/>
          <p:nvPr/>
        </p:nvPicPr>
        <p:blipFill>
          <a:blip r:embed="rId1"/>
          <a:stretch/>
        </p:blipFill>
        <p:spPr>
          <a:xfrm>
            <a:off x="5958000" y="1295280"/>
            <a:ext cx="2881080" cy="350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5029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w of attraction and repul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ectric point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tribution of electricity on the surface of charged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Electric Fiel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of a charge to influence other charges in its vicinity its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field are N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is a vector proper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 lines originate at + charges &amp; terminate at -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48320" y="4571640"/>
            <a:ext cx="2361960" cy="2210040"/>
            <a:chOff x="4648320" y="4571640"/>
            <a:chExt cx="2361960" cy="2210040"/>
          </a:xfrm>
        </p:grpSpPr>
        <p:grpSp>
          <p:nvGrpSpPr>
            <p:cNvPr id="127" name=""/>
            <p:cNvGrpSpPr/>
            <p:nvPr/>
          </p:nvGrpSpPr>
          <p:grpSpPr>
            <a:xfrm>
              <a:off x="4648320" y="4571640"/>
              <a:ext cx="2361960" cy="2210040"/>
              <a:chOff x="4648320" y="4571640"/>
              <a:chExt cx="2361960" cy="2210040"/>
            </a:xfrm>
          </p:grpSpPr>
          <p:sp>
            <p:nvSpPr>
              <p:cNvPr id="128" name=""/>
              <p:cNvSpPr/>
              <p:nvPr/>
            </p:nvSpPr>
            <p:spPr>
              <a:xfrm>
                <a:off x="5562720" y="5410080"/>
                <a:ext cx="533160" cy="53352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8672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485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8669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6483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38680" y="52578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62240" y="4813560"/>
              <a:ext cx="1806120" cy="1725480"/>
              <a:chOff x="4962240" y="4813560"/>
              <a:chExt cx="1806120" cy="1725480"/>
            </a:xfrm>
          </p:grpSpPr>
          <p:sp>
            <p:nvSpPr>
              <p:cNvPr id="135" name=""/>
              <p:cNvSpPr/>
              <p:nvPr/>
            </p:nvSpPr>
            <p:spPr>
              <a:xfrm flipH="1" flipV="1">
                <a:off x="5011200" y="481356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61855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54200" y="595620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9622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1447920" y="4571640"/>
            <a:ext cx="2361960" cy="2210040"/>
            <a:chOff x="1447920" y="4571640"/>
            <a:chExt cx="2361960" cy="2210040"/>
          </a:xfrm>
        </p:grpSpPr>
        <p:grpSp>
          <p:nvGrpSpPr>
            <p:cNvPr id="140" name=""/>
            <p:cNvGrpSpPr/>
            <p:nvPr/>
          </p:nvGrpSpPr>
          <p:grpSpPr>
            <a:xfrm>
              <a:off x="1447920" y="4571640"/>
              <a:ext cx="2361960" cy="2210040"/>
              <a:chOff x="1447920" y="4571640"/>
              <a:chExt cx="2361960" cy="2210040"/>
            </a:xfrm>
          </p:grpSpPr>
          <p:sp>
            <p:nvSpPr>
              <p:cNvPr id="141" name=""/>
              <p:cNvSpPr/>
              <p:nvPr/>
            </p:nvSpPr>
            <p:spPr>
              <a:xfrm>
                <a:off x="2362320" y="5410080"/>
                <a:ext cx="533160" cy="53352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6668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6665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4479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280" y="53640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761840" y="4813560"/>
              <a:ext cx="1806120" cy="1725480"/>
              <a:chOff x="1761840" y="4813560"/>
              <a:chExt cx="1806120" cy="1725480"/>
            </a:xfrm>
          </p:grpSpPr>
          <p:sp>
            <p:nvSpPr>
              <p:cNvPr id="148" name=""/>
              <p:cNvSpPr/>
              <p:nvPr/>
            </p:nvSpPr>
            <p:spPr>
              <a:xfrm flipH="1" flipV="1">
                <a:off x="1810800" y="481356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9851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4160" y="595620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618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Electric Fiel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exerted by an electric field on a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laced in the field (E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electric for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direction as the field (for posi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posite direction as the field (for 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definition of electric fie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orce per unit charge that acts on a test charge at a point in spa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4-15T21:55:23Z</dcterms:modified>
  <cp:revision>35</cp:revision>
  <dc:subject/>
  <dc:title>Phy 103: Chapter 22</dc:title>
</cp:coreProperties>
</file>