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886-7418-4CE9-8BB4-ACD0A7686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550B-31A1-4E0C-A78E-103527A5E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7CD9-AF03-490B-9599-09FF22F1D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4C45-3058-44A3-90AC-293D3E6BC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6555-3371-40C4-BDB4-05B7F887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39F4-2327-4705-8F51-28FE5CD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71AB-AFAE-4A44-B8E4-E7AF264F7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1492-71A3-4ABA-91C1-3AB8605D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1E1E-01E6-47D7-A3EF-2BFD231A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F559-FA25-424D-AA71-B3A6523F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FCE3-4DAA-4B0A-832F-836A28B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80D7-4174-4959-9DB1-98272E17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8169-43DB-4CE9-8183-2B06BAB9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9CC4-959F-4762-B0B1-33995D64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B8DD-6CCD-4876-B528-9799082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F1A4-A050-4E34-811C-B374466C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4C54-F25A-4751-8708-BC01454E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BC5F-33D6-442D-999C-5BFC4E7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4FA2-3F6E-4A25-AFEC-2B7078B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AF3B-DA5E-44EB-ACC5-12B64257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54F1-433A-425E-94B0-B7AFA0CF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EF8D-827B-4124-8BCE-390D62BD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D3B2-9C70-45B5-9021-EE556D64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8D85-547E-4DB0-AEDD-7AA11591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92A8-BACD-4658-94F6-44D249DD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A9CA-9FF7-4AF6-9A90-4568DBE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4871-9565-4B10-AEA3-D0DE32C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BFB2-7F02-4A3E-AAA3-11922AA2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F030-09C6-46F4-B13C-D015FED01D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B9E7-58AF-48F7-9307-56B05432EE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2: Electrost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nductors &amp; Insulat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ance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ysical proper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ance describes the ability of a substance to conduct electricity (allow charge to flow through 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ly speaking, matter can be classified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electrons/charge to flow through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ls, dissolved salts in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sula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o not readily conduct electric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metals, most ceramics, plastic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u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a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emi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nder certain conditions conduct eleetric charge but not under other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lloids, some cer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uperconductor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llow electric charge to flow without any material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conduction occurs at very low temperatures (&lt;100 K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rtain ceramics and metal ox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arg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ing is the process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ing excess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izing regions of charge within a sub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 types of Charg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ging by friction an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can be transferred from one material to another by simply tou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ging by i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distribution of electric charges in and on objects caused by the electrical influence of a charged object close by but not in cont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ork &amp; Energ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review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a measure of mechanical output (movement) due to some effort (a fo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ork = (Force Applied)*(Distance Trave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is the capacity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omes in many for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energy (energy of mo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(energy that flows from hot to c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nergy (energy due to pos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avitat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ucl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work &amp; energy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units include calories &amp; kilowatt-hours (k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Potential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868320"/>
            <a:ext cx="8229600" cy="56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harge placed in an electric field has an associated electric potential energy (E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E is essentially the work required to place the charge at that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PE is the energy a charged object possesses by virtue of its location in an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energy reflects the amount of work the electric field can perform on the charge if it is free to mov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potential is a charged object’s EPE divided by its charge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Electric potential = EPE/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V = EPE/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electric potential are J/C (or vol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6229440" cy="37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volta" descr=""/>
          <p:cNvPicPr/>
          <p:nvPr/>
        </p:nvPicPr>
        <p:blipFill>
          <a:blip r:embed="rId1"/>
          <a:stretch/>
        </p:blipFill>
        <p:spPr>
          <a:xfrm>
            <a:off x="6141960" y="152388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5029200"/>
            <a:ext cx="85345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pacit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ical device that stores electric charge and electrical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its simplest form a pair of parallel conducting plates separated by a small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charge of opposite sign accumulates on face of each plate, establishing an electric field between the pl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between the plates has a constant value (magnitude &amp; dire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19520" y="2738520"/>
            <a:ext cx="3352680" cy="1640880"/>
            <a:chOff x="2819520" y="2738520"/>
            <a:chExt cx="3352680" cy="1640880"/>
          </a:xfrm>
        </p:grpSpPr>
        <p:grpSp>
          <p:nvGrpSpPr>
            <p:cNvPr id="169" name=""/>
            <p:cNvGrpSpPr/>
            <p:nvPr/>
          </p:nvGrpSpPr>
          <p:grpSpPr>
            <a:xfrm>
              <a:off x="3592440" y="2738520"/>
              <a:ext cx="1900440" cy="1640880"/>
              <a:chOff x="3592440" y="2738520"/>
              <a:chExt cx="1900440" cy="1640880"/>
            </a:xfrm>
          </p:grpSpPr>
          <p:sp>
            <p:nvSpPr>
              <p:cNvPr id="170" name=""/>
              <p:cNvSpPr/>
              <p:nvPr/>
            </p:nvSpPr>
            <p:spPr>
              <a:xfrm>
                <a:off x="3592440" y="2819520"/>
                <a:ext cx="181080" cy="1439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11800" y="2819520"/>
                <a:ext cx="181080" cy="1439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72080" y="2738520"/>
                <a:ext cx="473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21280" y="2738520"/>
                <a:ext cx="47160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135320" y="307332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35320" y="349740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35320" y="3919680"/>
                <a:ext cx="9050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24240" y="3919680"/>
                <a:ext cx="63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819520" y="3427560"/>
              <a:ext cx="83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61000" y="3514680"/>
              <a:ext cx="51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-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har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6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undamental electrical property to which the mutual attractions or repulsions between electrons or protons (in the atom) is attribu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charge are called coulombs (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 (called polar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(e.g. prot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(e.g. electr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charges rep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-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site charges at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-neg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traction-repulsion between charges is calle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electric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harge Tidb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charge is “quantize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has a smallest value that occurs in natu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single “packet” of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est quantity of electric charge is called a quantum of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s a quantum of negative electric charge (-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s a quantum of positive electric charge (+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quantum of electric charge, e, has a value of 1.6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 of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neither created nor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lectric charge before an interaction equals the total electric charge after the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it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is the movement (or flow) of electric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is due to the presence of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imes New Roman"/>
              </a:rPr>
              <a:t>electric for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cting on charges (causing them to mo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 can be the movement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(in met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s (in fluids such as water or a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flow of electric charge is called 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current are amperes (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A is the flow of 1 coulomb  of charge per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imes New Roman"/>
              </a:rPr>
              <a:t>How many electrons is this (per second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wton’s Law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quick review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For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shes or pulls on things that cau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ng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of force are called newtons (or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s of for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act (involves direct touching/contac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contact (occurs without direct contact, across spa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1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hen no net force acts on something, its state of motion will remain un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2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net force acts on something, its state of motion will ch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ne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Newton’s 3</a:t>
            </a:r>
            <a:r>
              <a:rPr b="1" lang="en-US" sz="28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rces always act in action-reaction pairs between 2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ulomb’s Law &amp; Electric For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s the magnitude of electric force between 2 “point”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tude of electric force 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of the charges involved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between the charges, 1/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actually the distance squared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electric for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electric force depends on the polarity of the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posite charges (attract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charges (rep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657600" y="3505320"/>
                <a:ext cx="228600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Charles Augustin de Coulomb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1736-1806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 by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his work on the subject of 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using calculus of variations to solve engineer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7 important papers on electricity &amp; magnetism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1785-179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oulomb_2" descr=""/>
          <p:cNvPicPr/>
          <p:nvPr/>
        </p:nvPicPr>
        <p:blipFill>
          <a:blip r:embed="rId1"/>
          <a:stretch/>
        </p:blipFill>
        <p:spPr>
          <a:xfrm>
            <a:off x="5958000" y="1295280"/>
            <a:ext cx="2881080" cy="3505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0880" y="5029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w of attraction and repul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ectric point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p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tribution of electricity on the surface of charged bo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Electric Fiel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of a charge to influence other charges in its vicinity its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field are N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is a vector proper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 lines originate at + charges &amp; terminate at -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648320" y="4571640"/>
            <a:ext cx="2361960" cy="2210040"/>
            <a:chOff x="4648320" y="4571640"/>
            <a:chExt cx="2361960" cy="2210040"/>
          </a:xfrm>
        </p:grpSpPr>
        <p:grpSp>
          <p:nvGrpSpPr>
            <p:cNvPr id="127" name=""/>
            <p:cNvGrpSpPr/>
            <p:nvPr/>
          </p:nvGrpSpPr>
          <p:grpSpPr>
            <a:xfrm>
              <a:off x="4648320" y="4571640"/>
              <a:ext cx="2361960" cy="2210040"/>
              <a:chOff x="4648320" y="4571640"/>
              <a:chExt cx="2361960" cy="2210040"/>
            </a:xfrm>
          </p:grpSpPr>
          <p:sp>
            <p:nvSpPr>
              <p:cNvPr id="128" name=""/>
              <p:cNvSpPr/>
              <p:nvPr/>
            </p:nvSpPr>
            <p:spPr>
              <a:xfrm>
                <a:off x="5562720" y="5410080"/>
                <a:ext cx="533160" cy="53352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8672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485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8669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flipV="1">
                <a:off x="46483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638680" y="52578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62240" y="4813560"/>
              <a:ext cx="1806120" cy="1725480"/>
              <a:chOff x="4962240" y="4813560"/>
              <a:chExt cx="1806120" cy="1725480"/>
            </a:xfrm>
          </p:grpSpPr>
          <p:sp>
            <p:nvSpPr>
              <p:cNvPr id="135" name=""/>
              <p:cNvSpPr/>
              <p:nvPr/>
            </p:nvSpPr>
            <p:spPr>
              <a:xfrm flipH="1" flipV="1">
                <a:off x="5011200" y="481356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61855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54200" y="595620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9622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1447920" y="4571640"/>
            <a:ext cx="2361960" cy="2210040"/>
            <a:chOff x="1447920" y="4571640"/>
            <a:chExt cx="2361960" cy="2210040"/>
          </a:xfrm>
        </p:grpSpPr>
        <p:grpSp>
          <p:nvGrpSpPr>
            <p:cNvPr id="140" name=""/>
            <p:cNvGrpSpPr/>
            <p:nvPr/>
          </p:nvGrpSpPr>
          <p:grpSpPr>
            <a:xfrm>
              <a:off x="1447920" y="4571640"/>
              <a:ext cx="2361960" cy="2210040"/>
              <a:chOff x="1447920" y="4571640"/>
              <a:chExt cx="2361960" cy="2210040"/>
            </a:xfrm>
          </p:grpSpPr>
          <p:sp>
            <p:nvSpPr>
              <p:cNvPr id="141" name=""/>
              <p:cNvSpPr/>
              <p:nvPr/>
            </p:nvSpPr>
            <p:spPr>
              <a:xfrm>
                <a:off x="2362320" y="5410080"/>
                <a:ext cx="533160" cy="533520"/>
              </a:xfrm>
              <a:prstGeom prst="ellipse">
                <a:avLst/>
              </a:prstGeom>
              <a:solidFill>
                <a:srgbClr val="0099cc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6668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6665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14479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280" y="536400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761840" y="4813560"/>
              <a:ext cx="1806120" cy="1725480"/>
              <a:chOff x="1761840" y="4813560"/>
              <a:chExt cx="1806120" cy="1725480"/>
            </a:xfrm>
          </p:grpSpPr>
          <p:sp>
            <p:nvSpPr>
              <p:cNvPr id="148" name=""/>
              <p:cNvSpPr/>
              <p:nvPr/>
            </p:nvSpPr>
            <p:spPr>
              <a:xfrm flipH="1" flipV="1">
                <a:off x="1810800" y="481356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9851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4160" y="595620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7618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Electric Fiel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exerted by an electric field on a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laced in the field (E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electric for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direction as the field (for posi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posite direction as the field (for 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definition of electric fie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orce per unit charge that acts on a test charge at a point in spa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4-15T21:55:23Z</dcterms:modified>
  <cp:revision>35</cp:revision>
  <dc:subject/>
  <dc:title>Phy 103: Chapter 22</dc:title>
</cp:coreProperties>
</file>