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513-C4C9-4168-B124-CBEEA705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228-2DCD-4F51-86AF-4539B5F5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0FF-2161-4104-BFB4-0C1C3A30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667-CB96-435B-AD7F-4E9E5D8E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0E1-041E-4EE8-AA07-3695DF26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F56-A20F-4F01-BC7F-F0B9DB1C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9A3-A9C5-45CC-8C77-C987AA91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C74-E2F1-45D8-BAAA-A35C7233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602-A59A-4881-8A52-FDB34B84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813-B3B9-4EED-AE3F-2DF2E9C0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161-DAF1-484E-9776-382D362C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237-F46F-4ABF-8B0E-0FBBF937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8A37-FF35-4206-B5FF-48AC74069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103: Fundamentals of Physics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1: Musical S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i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nd Intensity &amp; Loud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urier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ct Dis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0:01:38Z</dcterms:created>
  <dc:creator>PCC</dc:creator>
  <dc:description/>
  <dc:language>en-US</dc:language>
  <cp:lastModifiedBy>PCC</cp:lastModifiedBy>
  <dcterms:modified xsi:type="dcterms:W3CDTF">2003-04-01T00:12:39Z</dcterms:modified>
  <cp:revision>5</cp:revision>
  <dc:subject/>
  <dc:title>Phy 103: Fundamentals of Physics III</dc:title>
</cp:coreProperties>
</file>