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E77-8299-4A6F-A32E-D9DA7EC3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B08A-BE95-4745-BCDC-AA4BAAAE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CE89-6490-4C51-98DB-EFB94743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5733-C178-402D-A2D5-B9B200E1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EEC-3E43-4D38-BAAE-C4A163F2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0A5-E79C-42E8-96EE-90C550B6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7A7-4A52-4D80-94DA-A36B4D6A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F87D-3280-45BE-8D66-6E28A523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1183-5804-4DA5-9355-6320D74F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809-3A2C-418E-928E-17CD0255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98F-2FB1-4866-BF9F-BE7E11B6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BF3A-9FDE-42D9-A7B6-6E527745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7326-D1DB-4AB0-AA3B-95BC2B74B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103: Fundamentals of Physics I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21: Musical So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it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nd Intensity &amp; Loudn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urier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ct Dis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00:01:38Z</dcterms:created>
  <dc:creator>PCC</dc:creator>
  <dc:description/>
  <dc:language>en-US</dc:language>
  <cp:lastModifiedBy>PCC</cp:lastModifiedBy>
  <dcterms:modified xsi:type="dcterms:W3CDTF">2003-04-01T00:12:39Z</dcterms:modified>
  <cp:revision>5</cp:revision>
  <dc:subject/>
  <dc:title>Phy 103: Fundamentals of Physics III</dc:title>
</cp:coreProperties>
</file>