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5E8-BFDF-49C8-9520-30D8FC2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68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EF7-F600-4E3A-8240-744B087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39B-E54D-4F76-B531-FC643F15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5B1-3A61-46D6-887E-2362F27D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87C-2214-43C1-B24E-1EC661EB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A2-7867-46C1-8003-B401E21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69C-D481-4656-B2CC-649AA1A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39A-B68D-4619-B8A3-6DD4426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2D8-9A02-4EA9-B162-3A5F338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A07-08AB-4FD9-8A09-27A8F57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83C-CBA2-4C11-982D-D33F425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CA6-F704-46EF-B824-9751D0C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CBCC-B95C-4002-8A2F-ADD011D1B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0: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a longitudinal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produced by the vibration of materi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range of sound we can hear is about 20 to 20,000 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waves below 20 Hz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ras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waves above 20,000 Hz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ltras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not hear infrasonic or ultrasonic sound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transmitted as a series of high pressure/low pressure vib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igh pressure region is call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w pressure region is call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ref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densations and rarefactions travel (through the air) along the direction of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a that Transmit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elastic material can transmit sound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ids (fast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iron/steel: the speed of sound is ~5000 m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water: the speed of sound is ~1400 m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es (slow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air: the speed of sound is ~ 340 m/s (at 2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iffer (more elastic) the substance the better it will transmit s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ed of Sound in 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sound in air depends on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der the air the slower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armer the air the faster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room temperature, the speed of sound is about 340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the speed of sound (in air) at a particular temperature (T in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(331 + 0.6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T)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the speed of sound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[331 + (0.60)(20)] m/s = 343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speed of sound at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ectio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flected sound wave is called an </a:t>
            </a:r>
            <a:r>
              <a:rPr b="0" i="1" lang="en-US" sz="2800" spc="-1" strike="noStrike">
                <a:solidFill>
                  <a:srgbClr val="ff66ff"/>
                </a:solidFill>
                <a:latin typeface="Times New Roman"/>
              </a:rPr>
              <a:t>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reflects from the surface of objects the same way light 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oother &amp; flatter the surface, the greater the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und reflects off a smooth surface, the angle of incidence is equal to the angle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called the law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presenting sound (for instance, during a concert), special care is made to control the reflective movement of sound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oust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study of sound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ractio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ound travels through air of uneven temperature (or in uneven winds) parts of the wavefront will travel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und waves will tend to b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bend away from warm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bend toward cold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nding of sound waves is called </a:t>
            </a:r>
            <a:r>
              <a:rPr b="0" i="1" lang="en-US" sz="3200" spc="-1" strike="noStrike">
                <a:solidFill>
                  <a:srgbClr val="ff66ff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&amp; Bea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exhibit interference like other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2 sound wav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ith different frequencie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bine, the resultant disturbanc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ave patter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hibits bo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tru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tru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rfer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effect of interference produces periodic rises and drops in loudnes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of the beats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e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equal to the difference between the 2 sound frequenc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beat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 = 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 - 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ians often tune their musical instruments by listening to beat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 in Sound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waves carry (transmi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ing is possible because energy from sound waves is transferred to the ear (in the form of vibr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carry a very small amount of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a 100 W stereo, 100 J of energy are transmitted per second from the speakers (50 J per sp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a distance of 2 meters from the speakers, this is only 2 J of energy per 1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a (your eardrum has an effective area of roughly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ergy at Ear = (2 J/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(3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0.00006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your ear on receives 0.00006 J (or 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) during 1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our ear is a very sensitive instrume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9T01:24:18Z</dcterms:modified>
  <cp:revision>17</cp:revision>
  <dc:subject/>
  <dc:title>Phy 103: Fundamentals of Physics III</dc:title>
</cp:coreProperties>
</file>