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4EF-A2CE-48DE-B005-A799A2D0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368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33F-E41E-4B97-B24F-4020E3E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368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368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364-447E-4038-A75F-087AAFAE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9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93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368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368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3688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0E8-5D90-4CBF-B1BE-BFB18847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628-413A-4C7B-9F1D-76C2432A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023-31AD-4924-BDA6-B3F65954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293-FD63-40AD-9C6C-27EC2AA9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2DB-23BD-4A63-8F1D-32527748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03F2-7BE0-41B3-B3A4-3665D39A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368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DA9-70F6-493B-B994-B1310882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3688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486-7C99-4101-BE8F-E28F567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93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3688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09F-2760-4330-B53C-A772DAF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C8BA-71E5-478E-88A0-B047C338B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3: Fundamentals of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20: 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is a longitudinal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is produced by the vibration of materi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equency range of sound we can hear is about 20 to 20,000 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 waves below 20 Hz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fraso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 waves above 20,000 Hz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ltraso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not hear infrasonic or ultrasonic sound w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is transmitted as a series of high pressure/low pressure vib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igh pressure region is call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ow pressure region is called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ref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densations and rarefactions travel (through the air) along the direction of the sound 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dia that Transmit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 elastic material can transmit sound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ids (fast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iron/steel: the speed of sound is ~5000 m/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water: the speed of sound is ~1400 m/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es (slow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air: the speed of sound is ~ 340 m/s (at 2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iffer (more elastic) the substance the better it will transmit s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eed of Sound in Ai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ed of sound in air depends on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lder the air the slower the sound 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armer the air the faster the sound 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room temperature, the speed of sound is about 340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the speed of sound (in air) at a particular temperature (T in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sound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(331 + 0.60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T)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, the speed of sound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soun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[331 + (0.60)(20)] m/s = 343 m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speed of sound at 3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lection of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flected sound wave is called an </a:t>
            </a:r>
            <a:r>
              <a:rPr b="0" i="1" lang="en-US" sz="2800" spc="-1" strike="noStrike">
                <a:solidFill>
                  <a:srgbClr val="ff66ff"/>
                </a:solidFill>
                <a:latin typeface="Times New Roman"/>
              </a:rPr>
              <a:t>ec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reflects from the surface of objects the same way light d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moother &amp; flatter the surface, the greater the ref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sound reflects off a smooth surface, the angle of incidence is equal to the angle of ref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s called the law of ref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presenting sound (for instance, during a concert), special care is made to control the reflective movement of sound w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oustic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study of sound prope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raction of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ound travels through air of uneven temperature (or in uneven winds) parts of the wavefront will travel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ound waves will tend to b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waves bend away from warm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waves bend toward cold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nding of sound waves is called </a:t>
            </a:r>
            <a:r>
              <a:rPr b="0" i="1" lang="en-US" sz="3200" spc="-1" strike="noStrike">
                <a:solidFill>
                  <a:srgbClr val="ff66ff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ference &amp; Bea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waves exhibit interference like other w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2 sound wav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with different frequencie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bine, the resultant disturbanc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wave pattern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hibits bo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tru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tru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erfere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bined effect of interference produces periodic rises and drops in loudnes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equency of the beats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bea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equal to the difference between the 2 sound frequenc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4000" spc="-1" strike="noStrike" baseline="-25000">
                <a:solidFill>
                  <a:srgbClr val="99ff33"/>
                </a:solidFill>
                <a:latin typeface="Times New Roman"/>
              </a:rPr>
              <a:t>beat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 = f</a:t>
            </a:r>
            <a:r>
              <a:rPr b="0" lang="en-US" sz="40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 - f</a:t>
            </a:r>
            <a:r>
              <a:rPr b="0" lang="en-US" sz="40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ians often tune their musical instruments by listening to beat frequ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 in Sound Wa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waves carry (transmit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ring is possible because energy from sound waves is transferred to the ear (in the form of vibr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nd waves carry a very small amount of ener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 a 100 W stereo, 100 J of energy are transmitted per second from the speakers (50 J per sp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a distance of 2 meters from the speakers, this is only 2 J of energy per 1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a (your eardrum has an effective area of roughly 3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ergy at Ear = (2 J/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(3x10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 = 0.00006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your ear on receives 0.00006 J (or 6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J) during 1 sec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our ear is a very sensitive instrumen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00:01:38Z</dcterms:created>
  <dc:creator>PCC</dc:creator>
  <dc:description/>
  <dc:language>en-US</dc:language>
  <cp:lastModifiedBy>PCC</cp:lastModifiedBy>
  <dcterms:modified xsi:type="dcterms:W3CDTF">2003-04-09T01:24:18Z</dcterms:modified>
  <cp:revision>17</cp:revision>
  <dc:subject/>
  <dc:title>Phy 103: Fundamentals of Physics III</dc:title>
</cp:coreProperties>
</file>