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BB4-5796-41A9-86A5-8B5E4248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440-52AF-4B5A-8743-1F650C3D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01D-83EB-4281-84BA-6D3045FF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7DB-B32F-4D1F-B13D-34CEBDFA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9FE-73FA-4E56-9A3D-9EE68AC8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A00-D3BB-4DFC-8E64-2A2BC482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2A5-E090-43F5-A197-6276ED27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23C-A76A-44DF-8AB7-8B7F1E27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898-6FDA-4D60-BB54-7FAD837D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BE9-60AC-48CA-83E6-5E958A04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51CA-92FF-4EAD-A316-F92EABD2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AE1-794F-4455-B526-28CAB061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5BA8-F761-4F2C-AE01-2CEA71B64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3: Fundamentals of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9: Vibrations &amp; W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bration of a Pendul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 Descrip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plit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Wa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ference &amp; Standing Wa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0:01:38Z</dcterms:created>
  <dc:creator>PCC</dc:creator>
  <dc:description/>
  <dc:language>en-US</dc:language>
  <cp:lastModifiedBy>PCC</cp:lastModifiedBy>
  <dcterms:modified xsi:type="dcterms:W3CDTF">2003-04-01T01:21:33Z</dcterms:modified>
  <cp:revision>5</cp:revision>
  <dc:subject/>
  <dc:title>Phy 103: Fundamentals of Physics III</dc:title>
</cp:coreProperties>
</file>