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81BD-240C-4BA1-B7C3-DF151C2D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DCF-0F09-4AB5-87DB-7C40D5CD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E76-B597-4DA1-A03E-9D12D36C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8C3-BB26-4424-97AF-75F2FEA6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1767-A3EA-4FD7-97FA-092CBAB9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1C7-91EC-4CF2-A47B-263B1D76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41E8-913C-4418-9080-EBBB9DB1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F90-418E-4A62-A263-9AEDE758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412-E81F-4B40-B369-6E5E6ADE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6F9-A24D-40F1-88F9-8A819776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4ABF-93E2-4101-81CF-8AD4E224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6418-3ED2-4162-86B2-F5CEDF91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C9A0-035A-4038-B5E4-D72797FB4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103: Fundamentals of Physics I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19: Vibrations &amp; Wa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bration of a Pendul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ve Descrip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plit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ve Mo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ve Spe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Wa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ference &amp; Standing Wa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ppler Effe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00:01:38Z</dcterms:created>
  <dc:creator>PCC</dc:creator>
  <dc:description/>
  <dc:language>en-US</dc:language>
  <cp:lastModifiedBy>PCC</cp:lastModifiedBy>
  <dcterms:modified xsi:type="dcterms:W3CDTF">2003-04-01T01:21:33Z</dcterms:modified>
  <cp:revision>5</cp:revision>
  <dc:subject/>
  <dc:title>Phy 103: Fundamentals of Physics III</dc:title>
</cp:coreProperties>
</file>