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91F-4FEB-487F-A386-0D0406AC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E09-6419-4CBA-88F4-207FF00D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63B-2C4D-4E0B-A697-36DCECC7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D8B-9136-4FEA-A9DB-C9F94DED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AA0-FD05-46C7-A158-D7F586CA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B735-82AF-45DA-8F82-9461CA10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C95-D3F1-4B1F-8958-1FF62D41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5E2-D3BD-4B83-9360-ADA8E14E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2E1-914E-40CE-8909-2D9E4A4F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64B-501C-4993-8E06-BA4B82B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F4C-382B-4F26-AED4-CCF2DE24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A18-3414-4EF4-8BD6-9FDC533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AA0A-AE96-438B-9A26-1327174254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3: The Atomic Nucleus &amp; Radio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arbon Dat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is produced in the upper atmosphere as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is bombarded by cosmic 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drops to the earth where it is absorbed by plants and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levels in an organism are constant throughout the organism’s lif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ince it continuously adds and removes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through nutrition &amp; respir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one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tom for every trillion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1 carbon-14 : 1 x 10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12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bon-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n organism dies it can no longer replenish its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levels &amp; th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begins to deca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remember,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is 5730 yea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activity levels of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are measured &amp; the level of decay from the original value is used to estimate the organism’s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ilhem Rontge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45-1923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 physic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ed x-rays &amp; studied ability of x-rays to penetrate solid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ed to file patents for his work on x-ray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ner of th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bel Prize in Phys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0" b="20720"/>
          <a:stretch/>
        </p:blipFill>
        <p:spPr>
          <a:xfrm>
            <a:off x="6019920" y="304920"/>
            <a:ext cx="2768400" cy="2798640"/>
          </a:xfrm>
          <a:prstGeom prst="rect">
            <a:avLst/>
          </a:prstGeom>
          <a:ln w="0">
            <a:noFill/>
          </a:ln>
        </p:spPr>
      </p:pic>
      <p:pic>
        <p:nvPicPr>
          <p:cNvPr id="46" name="img0008_small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625760" cy="243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8640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-ray micrograph of Mrs. Roentgen’s hand (189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woman to win the Nobel Pr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2 Nobel Pr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s (1903): the discovery of polonium and ra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stry (1911): the isolation of radium and the study of its chem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of her contribu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overed radium and polon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ed the properties of radio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WWI proposed the use of x-rays to locate bullets and facilitate sur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x-ray v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ed from leukemi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ought to be due to radiation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arie Curi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67-193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844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59040" y="1866960"/>
            <a:ext cx="3625920" cy="3125880"/>
            <a:chOff x="2759040" y="1866960"/>
            <a:chExt cx="3625920" cy="3125880"/>
          </a:xfrm>
        </p:grpSpPr>
        <p:sp>
          <p:nvSpPr>
            <p:cNvPr id="53" name=""/>
            <p:cNvSpPr/>
            <p:nvPr/>
          </p:nvSpPr>
          <p:spPr>
            <a:xfrm>
              <a:off x="2759040" y="1866960"/>
              <a:ext cx="3625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759040" y="1866960"/>
              <a:ext cx="3214800" cy="3125880"/>
              <a:chOff x="2759040" y="1866960"/>
              <a:chExt cx="3214800" cy="3125880"/>
            </a:xfrm>
          </p:grpSpPr>
          <p:sp>
            <p:nvSpPr>
              <p:cNvPr id="55" name=""/>
              <p:cNvSpPr/>
              <p:nvPr/>
            </p:nvSpPr>
            <p:spPr>
              <a:xfrm>
                <a:off x="2759040" y="1866960"/>
                <a:ext cx="3214800" cy="312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759040" y="1866960"/>
                <a:ext cx="3214800" cy="16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Verdana"/>
                  </a:rPr>
                  <a:t>  </a:t>
                </a:r>
                <a:r>
                  <a:rPr b="0" lang="en-US" sz="101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8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1876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ypes of Radiat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Alpha particle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ium nucl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e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s when the nucleus of an atom ejects 2 protons &amp; 2 neutr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chang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Beta particle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e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when a neutron transmutes to a prot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chang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Gamma rays (</a:t>
            </a:r>
            <a:r>
              <a:rPr b="1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)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frequency electromagneti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X ray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adiation (e.g. l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occurs when an “excited” nucleus “relaxes” to a lower sta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the identity of the atom does not change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sotopes &amp; Radioactiv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otopes are atoms of the same element that have different numbers of neutrons (&amp; different mas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kin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fundamental forces involved: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Electr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Stro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orce acts over longer distances than Strong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 repel each other (Electric fo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ns and neutrons attract each other (Strong for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re nucleons that are in the nucleus the greater the distance of separation between 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some point, the electric force repels the nucleons and the Strong force cannot balance it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ucleus is susceptible to nuclear dec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alf-Lif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clei of “radioactive” isotopes are unstable and inevitably decay to produce smaller nuclei (and some nuclear radi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lf life (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of an isotope is the time it will take an isotope sample to decay to ½ of its original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 is 12.43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is 704 m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is 573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066680"/>
          <a:ext cx="7924680" cy="540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92468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Nuclear Decay for Tritiu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114800"/>
            <a:ext cx="1295280" cy="1523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921200"/>
            <a:ext cx="1295640" cy="717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257800"/>
            <a:ext cx="1295280" cy="380880"/>
          </a:xfrm>
          <a:prstGeom prst="rect">
            <a:avLst/>
          </a:prstGeom>
          <a:solidFill>
            <a:srgbClr val="ccccff"/>
          </a:solidFill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6483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1 half-li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5073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2 half-l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5257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3 half-l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ransmutation of Elemen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adioactive isotopes decay they become different elements. This process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nsmut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ample 1:  Decay of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C to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this is a beta deca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Example 2:  Decay of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241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m to 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imes New Roman"/>
              </a:rPr>
              <a:t>237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N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4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3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p 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this is an alpha decay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rico Ferm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901-195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alian-American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ly work was theoret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ed the statistics of nuclear particles that obey the Pauli Exclusion Principle (now called Ferm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artificial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d by bombarding elements with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ed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uccessful transmutation experi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vered the “chain-reac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ject leader &amp; important contributor on the “Manhattan Projec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7687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3-06T21:45:37Z</dcterms:modified>
  <cp:revision>40</cp:revision>
  <dc:subject/>
  <dc:title>Atomic Nuclei &amp; Radioactivity</dc:title>
</cp:coreProperties>
</file>