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0AA-1D14-4F6C-B08B-83663552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A63-C111-4A9E-8883-BBD8CEDF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922-B4ED-40C7-8C85-1376B225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5E6-9383-45FA-A408-D38A7313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F70-C4B0-4CCC-8305-FF2B5AD9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E30-5777-4FB1-981E-4F70421F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9FC-550F-46A8-BC91-30199EC7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040-7B46-4ECD-BFC1-8E06EAB0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DB4-E6F1-44BA-A9E5-97CB4B66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107-E1F8-4060-B11D-22AF2CA1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298-0925-4FFD-BF41-8DDA5E20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DB4-F6AF-47A6-A02A-76227813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7B1E-8EA7-48BE-BC5E-C0BE362D3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 102: Fundamentals of Physics I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3: The Atomic Nucleus &amp; Radio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arbon Dating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is produced in the upper atmosphere as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is bombarded by cosmic 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drops to the earth where it is absorbed by plants and ani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levels in an organism are constant throughout the organism’s lif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ince it continuously adds and removes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through nutrition &amp; respir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one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atom for every trillion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a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1 carbon-14 : 1 x 10</a:t>
            </a:r>
            <a:r>
              <a:rPr b="1" lang="en-US" sz="3200" spc="-1" strike="noStrike" baseline="30000">
                <a:solidFill>
                  <a:srgbClr val="66ff33"/>
                </a:solidFill>
                <a:latin typeface="Times New Roman"/>
              </a:rPr>
              <a:t>12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 carbon-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n organism dies it can no longer replenish its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levels &amp; the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begins to deca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remember,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is 5730 yea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oactivity levels of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are measured &amp; the level of decay from the original value is used to estimate the organism’s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ilhem Rontgen</a:t>
            </a:r>
            <a:br>
              <a:rPr sz="4400"/>
            </a:b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845-1923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 physic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vered x-rays &amp; studied ability of x-rays to penetrate solid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used to file patents for his work on x-ray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ner of th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obel Prize in Physic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9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20720"/>
          <a:stretch/>
        </p:blipFill>
        <p:spPr>
          <a:xfrm>
            <a:off x="6019920" y="304920"/>
            <a:ext cx="2768400" cy="2798640"/>
          </a:xfrm>
          <a:prstGeom prst="rect">
            <a:avLst/>
          </a:prstGeom>
          <a:ln w="0">
            <a:noFill/>
          </a:ln>
        </p:spPr>
      </p:pic>
      <p:pic>
        <p:nvPicPr>
          <p:cNvPr id="46" name="img0008_small" descr=""/>
          <p:cNvPicPr/>
          <p:nvPr/>
        </p:nvPicPr>
        <p:blipFill>
          <a:blip r:embed="rId2"/>
          <a:stretch/>
        </p:blipFill>
        <p:spPr>
          <a:xfrm>
            <a:off x="6553080" y="3200400"/>
            <a:ext cx="1625760" cy="243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486400" y="5791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-ray micrograph of Mrs. Roentgen’s hand (189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1920" y="9907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woman to win the Nobel Pr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 2 Nobel Pr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s (1903): the discovery of polonium and ra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istry (1911): the isolation of radium and the study of its chemical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of her contribu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overed radium and polon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d the properties of radio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ing WWI proposed the use of x-rays to locate bullets and facilitate surg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x-ray v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ed from leukemi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hought to be due to radiation expos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arie Curie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867-1934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84480" y="15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59040" y="1866960"/>
            <a:ext cx="3625920" cy="3125880"/>
            <a:chOff x="2759040" y="1866960"/>
            <a:chExt cx="3625920" cy="3125880"/>
          </a:xfrm>
        </p:grpSpPr>
        <p:sp>
          <p:nvSpPr>
            <p:cNvPr id="53" name=""/>
            <p:cNvSpPr/>
            <p:nvPr/>
          </p:nvSpPr>
          <p:spPr>
            <a:xfrm>
              <a:off x="2759040" y="1866960"/>
              <a:ext cx="3625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759040" y="1866960"/>
              <a:ext cx="3214800" cy="3125880"/>
              <a:chOff x="2759040" y="1866960"/>
              <a:chExt cx="3214800" cy="3125880"/>
            </a:xfrm>
          </p:grpSpPr>
          <p:sp>
            <p:nvSpPr>
              <p:cNvPr id="55" name=""/>
              <p:cNvSpPr/>
              <p:nvPr/>
            </p:nvSpPr>
            <p:spPr>
              <a:xfrm>
                <a:off x="2759040" y="1866960"/>
                <a:ext cx="3214800" cy="312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759040" y="1866960"/>
                <a:ext cx="3214800" cy="16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Verdana"/>
                  </a:rPr>
                  <a:t>  </a:t>
                </a:r>
                <a:r>
                  <a:rPr b="0" lang="en-US" sz="101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       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1876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ypes of Radiat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Alpha particles (</a:t>
            </a:r>
            <a:r>
              <a:rPr b="1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ium nucl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urs when the nucleus of an atom ejects 2 protons &amp; 2 neutron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the identity of the atom changes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Beta particles (</a:t>
            </a:r>
            <a:r>
              <a:rPr b="1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)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ative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ually occurs when a neutron transmutes to a prot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the identity of the atom changes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Gamma rays (</a:t>
            </a:r>
            <a:r>
              <a:rPr b="1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):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frequency electromagneti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X ray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adiation (e.g. ligh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ually occurs when an “excited” nucleus “relaxes” to a lower sta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the identity of the atom does not change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sotopes &amp; Radioactivit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topes are atoms of the same element that have different numbers of neutrons (&amp; different mas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kin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fundamental forces involved: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Electr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Stro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 force acts over longer distances than Strong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 repel each other (Electric for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 and neutrons attract each other (Strong for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re nucleons that are in the nucleus the greater the distance of separation between 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some point, the electric force repels the nucleons and the Strong force cannot balance it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nucleus is susceptible to nuclear dec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alf-Lif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clei of “radioactive” isotopes are unstable and inevitably decay to produce smaller nuclei (and some nuclear radi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lf life (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of an isotope is the time it will take an isotope sample to decay to ½ of its original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 is 12.43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is 704 m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is 5730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62120" y="1066680"/>
          <a:ext cx="7924680" cy="540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92468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Nuclear Decay for Tritium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4114800"/>
            <a:ext cx="1295280" cy="15238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921200"/>
            <a:ext cx="1295640" cy="717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5257800"/>
            <a:ext cx="1295280" cy="380880"/>
          </a:xfrm>
          <a:prstGeom prst="rect">
            <a:avLst/>
          </a:prstGeom>
          <a:solidFill>
            <a:srgbClr val="ccccff"/>
          </a:solidFill>
          <a:ln cap="rnd" w="1260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6483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1 half-li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073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2 half-l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5257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3 half-l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ransmutation of Element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adioactive isotopes decay they become different elements. This process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ansmut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Example 1:  Decay of </a:t>
            </a:r>
            <a:r>
              <a:rPr b="0" lang="en-US" sz="3200" spc="-1" strike="noStrike" baseline="30000">
                <a:solidFill>
                  <a:srgbClr val="66ffff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C to </a:t>
            </a:r>
            <a:r>
              <a:rPr b="0" lang="en-US" sz="3200" spc="-1" strike="noStrike" baseline="30000">
                <a:solidFill>
                  <a:srgbClr val="66ffff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{this is a beta decay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Example 2:  Decay of </a:t>
            </a:r>
            <a:r>
              <a:rPr b="0" lang="en-US" sz="3200" spc="-1" strike="noStrike" baseline="30000">
                <a:solidFill>
                  <a:srgbClr val="66ffff"/>
                </a:solidFill>
                <a:latin typeface="Times New Roman"/>
              </a:rPr>
              <a:t>241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Am to </a:t>
            </a:r>
            <a:r>
              <a:rPr b="0" lang="en-US" sz="3200" spc="-1" strike="noStrike" baseline="30000">
                <a:solidFill>
                  <a:srgbClr val="66ffff"/>
                </a:solidFill>
                <a:latin typeface="Times New Roman"/>
              </a:rPr>
              <a:t>237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N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4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37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p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{this is an alpha decay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nrico Fermi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901-1954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alian-American physic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work was theore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ained the statistics of nuclear particles that obey the Pauli Exclusion Principle (now called Ferm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vered artificial radio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d by bombarding elements with 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ed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uccessful transmutation experi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vered the “chain-reac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ject leader &amp; important contributor on the “Manhattan Projec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7687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5:28:08Z</dcterms:created>
  <dc:creator>Tony Zable</dc:creator>
  <dc:description/>
  <dc:language>en-US</dc:language>
  <cp:lastModifiedBy>PCC</cp:lastModifiedBy>
  <dcterms:modified xsi:type="dcterms:W3CDTF">2003-03-06T21:45:37Z</dcterms:modified>
  <cp:revision>40</cp:revision>
  <dc:subject/>
  <dc:title>Atomic Nuclei &amp; Radioactivity</dc:title>
</cp:coreProperties>
</file>