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F5F-0032-485C-92D5-D90EBBB7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549-75F3-48FB-A2A2-0E458BA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27-27BF-4475-A2D6-DF511D3C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9D7-1521-4367-AE5D-3D21C8DE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67B-8586-424D-804B-1505B6E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505-3BFA-4463-B86D-2CC9FCAC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68A-7E09-435D-B39A-26CF266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163-C20E-4219-800B-7BE6018A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475-EE9D-409B-908B-26E12A3F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D7A-DD2D-4A2B-A540-ACAD93B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EC4-15AE-417F-B172-AB4B87A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575-F591-4D09-BDB9-FB5471C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BE19-4E99-4F67-9524-D57C5B449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2: The Atom &amp; the Qua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bel Prize winner and most prominent physicist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led to the development of whole sub-fields of physics inclu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istic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d-stat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-temperatur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um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paper describing the “photo-electric effect” in 19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ed that light interacts with matter as photons not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id the groundwork for the quantum theory of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ed critical guidance to de Broglie with his “wave theory of the electr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lbert Einstein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79-1955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844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2921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istory of Quantum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00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ck proposes that the energy of radiated light is proportional &amp; introduced the idea of the “quantu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0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instein publishes paper of photo-electric effect, supporting Planck’s quantum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11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herford proposes “nuclear” model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13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hr proposes “planetary” model of the hydroge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Broglie publishes doctoral thesis proposing wave-particle duality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6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chrodinger develops wave equation for hydroge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6 to prese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hysicists &amp; philosophers debate the meaning of Quantum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(just a reminder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important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most of the mass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protons (positive charge) and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the identity of the atom (el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 clo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s the volume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electrons (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the chemical properties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Bohr Mode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etary model of the hydrogen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 explains the spectra for hydr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orbits nucleus held in place by electrical attraction between electron and 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on is “excit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absorbs energy (exactly equal to the energy difference between the higher and lower states of the trans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mps” to a higher energy level (larger orb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on “relax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drops back to lower energy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eases energy in the form of a ph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nergy of the photon is exactly the amount equal to the energy difference between the the energy levels of the trans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high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-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y &amp; the Phot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oton is a quantum (or single packet) of electromagnetic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hotons travel at the same speed in a vacuum (through empty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a photon (in vacuum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 to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/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c = 3x1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 to the product of the wavelength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imes the frequency (f) of the phot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 = 3x1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ergy of a photon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he frequenc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~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the wavelength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~ 1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the energy of a phot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hf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hc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where h is planck’s constant, h = 6.6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ave Model of the ato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orbiting the nucleus of an atom exist as “standing wav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exist as “cloud” and are not actually “particl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oud is the “standing wave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ch just means that it is self reinforcing and thus stable in that 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 waves are described by Schrodinger’s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are described by a wave function,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quare of the wave function,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presents the “probability density function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, probability per unit volume of finding the electron at any particular position at a particular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Schrodinger’s equ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a certain number of allowed states the electron can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ganization and geometry of the allowed states ultimately defines the properties of an atom’s electrons &amp; the structure of the periodic 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3-06T21:48:21Z</dcterms:modified>
  <cp:revision>36</cp:revision>
  <dc:subject/>
  <dc:title>Aristotle</dc:title>
</cp:coreProperties>
</file>