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5FF5-7104-4AF1-A1DF-481ACFF10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E0A4-10BE-4AFD-B9C7-655C05D54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EAF0-DF84-4F19-A177-88297BDFD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14BB-F9F0-4A91-8F68-AAF690871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430B-86CD-4B94-978B-9881327E5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7918-9817-4D78-844A-70A6ECF6D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D271-BEC9-4A2A-948B-A54D23D86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F99A-263D-405C-AF92-6FC2E861B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5B48-6F25-42CC-AF3F-09A3D28FB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0BB5-7163-469D-ADF4-CDE198DA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FA2B-2455-4076-8C42-AE7CDC9D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AFE5-5B8A-45AE-9F85-E1A43C14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6E030-06FD-4755-A726-F9ABE738CA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Phy 102: Fundamentals of Physics II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pter 32: The Atom &amp; the Quant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cture No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51920" y="99072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bel Prize winner and most prominent physicist of the 2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entu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udies led to the development of whole sub-fields of physics inclu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lativistic physi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lid-state physi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w-temperature physi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Quantum physi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shed paper describing the “photo-electric effect” in 190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monstrated that light interacts with matter as photons not wav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id the groundwork for the quantum theory of ligh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fered critical guidance to de Broglie with his “wave theory of the electron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Albert Einstein 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(1879-1955)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54864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84480" y="152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477120" y="1143000"/>
            <a:ext cx="2292120" cy="32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History of Quantum Theory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1900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nck proposes that the energy of radiated light is proportional &amp; introduced the idea of the “quantum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1905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instein publishes paper of photo-electric effect, supporting Planck’s quantum hypothe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1911: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therford proposes “nuclear” model of the at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1913: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hr proposes “planetary” model of the hydrogen at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1924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e Broglie publishes doctoral thesis proposing wave-particle duality of mat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1926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chrodinger develops wave equation for hydrogen at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1926 to present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Physicists &amp; philosophers debate the meaning of Quantum The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The Atom </a:t>
            </a:r>
            <a:r>
              <a:rPr b="0" lang="en-US" sz="4000" spc="-1" strike="noStrike">
                <a:solidFill>
                  <a:srgbClr val="ffff66"/>
                </a:solidFill>
                <a:latin typeface="Times New Roman"/>
              </a:rPr>
              <a:t>(just a reminder)</a:t>
            </a:r>
            <a:endParaRPr b="0" lang="en-US" sz="4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wo important reg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nucle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present most of the mass of the at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ists of protons (positive charge) and neutr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termines the identity of the atom (elemen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lectron clou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presents the volume of the at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ists of electrons (negative charg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termines the chemical properties of the at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The Bohr Model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lanetary model of the hydrogen at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el explains the spectra for hydro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ectron orbits nucleus held in place by electrical attraction between electron and prot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electron is “excited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t absorbs energy (exactly equal to the energy difference between the higher and lower states of the transitio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jumps” to a higher energy level (larger orbi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electron “relaxe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t drops back to lower energy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leases energy in the form of a phot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energy of the photon is exactly the amount equal to the energy difference between the the energy levels of the transi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66ff33"/>
                </a:solidFill>
                <a:latin typeface="Times New Roman"/>
              </a:rPr>
              <a:t>photon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 = E</a:t>
            </a:r>
            <a:r>
              <a:rPr b="0" lang="en-US" sz="3200" spc="-1" strike="noStrike" baseline="-25000">
                <a:solidFill>
                  <a:srgbClr val="66ff33"/>
                </a:solidFill>
                <a:latin typeface="Times New Roman"/>
              </a:rPr>
              <a:t>high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 - E</a:t>
            </a:r>
            <a:r>
              <a:rPr b="0" lang="en-US" sz="3200" spc="-1" strike="noStrike" baseline="-25000">
                <a:solidFill>
                  <a:srgbClr val="66ff33"/>
                </a:solidFill>
                <a:latin typeface="Times New Roman"/>
              </a:rPr>
              <a:t>l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Energy &amp; the Photon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6094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hoton is a quantum (or single packet) of electromagnetic ener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photons travel at the same speed in a vacuum (through empty spac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peed of a photon (in vacuum)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27400" indent="-202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qual to 3x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/s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photon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 = c = 3x10</a:t>
            </a:r>
            <a:r>
              <a:rPr b="0" lang="en-US" sz="2800" spc="-1" strike="noStrike" baseline="30000">
                <a:solidFill>
                  <a:srgbClr val="66ff33"/>
                </a:solidFill>
                <a:latin typeface="Times New Roman"/>
              </a:rPr>
              <a:t>8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 m/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27400" indent="-202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qual to the product of the wavelength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times the frequency (f) of the photon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c = </a:t>
            </a:r>
            <a:r>
              <a:rPr b="0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30000">
                <a:solidFill>
                  <a:srgbClr val="66ff33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f = 3x10</a:t>
            </a:r>
            <a:r>
              <a:rPr b="0" lang="en-US" sz="2800" spc="-1" strike="noStrike" baseline="30000">
                <a:solidFill>
                  <a:srgbClr val="66ff33"/>
                </a:solidFill>
                <a:latin typeface="Times New Roman"/>
              </a:rPr>
              <a:t>8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 m/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nergy of a photon i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27400" indent="-202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portional to the frequency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photon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 ~ 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27400" indent="-202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versely proportional to the wavelength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photon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~ 1/</a:t>
            </a:r>
            <a:r>
              <a:rPr b="0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alculate the energy of a phot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66ff33"/>
                </a:solidFill>
                <a:latin typeface="Times New Roman"/>
              </a:rPr>
              <a:t>photon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 = hf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  E</a:t>
            </a:r>
            <a:r>
              <a:rPr b="0" lang="en-US" sz="3200" spc="-1" strike="noStrike" baseline="-25000">
                <a:solidFill>
                  <a:srgbClr val="66ff33"/>
                </a:solidFill>
                <a:latin typeface="Times New Roman"/>
              </a:rPr>
              <a:t>photon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 = hc/</a:t>
            </a:r>
            <a:r>
              <a:rPr b="0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{where h is planck’s constant, h = 6.63x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3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J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Wave Model of the atom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rons orbiting the nucleus of an atom exist as “standing wave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 exist as “cloud” and are not actually “particle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loud is the “standing wave”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which just means that it is self reinforcing and thus stable in that stat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lectron waves are described by Schrodinger’s equ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ectrons are described by a wave function, </a:t>
            </a:r>
            <a:r>
              <a:rPr b="0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quare of the wave function, </a:t>
            </a:r>
            <a:r>
              <a:rPr b="0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 baseline="30000">
                <a:solidFill>
                  <a:srgbClr val="66ff33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represents the “probability density function”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or, probability per unit volume of finding the electron at any particular position at a particular tim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cording to Schrodinger’s equ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e are a certain number of allowed states the electron can ha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organization and geometry of the allowed states ultimately defines the properties of an atom’s electrons &amp; the structure of the periodic t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5T15:28:08Z</dcterms:created>
  <dc:creator>Tony Zable</dc:creator>
  <dc:description/>
  <dc:language>en-US</dc:language>
  <cp:lastModifiedBy>PCC</cp:lastModifiedBy>
  <dcterms:modified xsi:type="dcterms:W3CDTF">2003-03-06T21:48:21Z</dcterms:modified>
  <cp:revision>36</cp:revision>
  <dc:subject/>
  <dc:title>Aristotle</dc:title>
</cp:coreProperties>
</file>