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975BC0-C327-422D-92FD-753B82D7A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dropping a pen, a book, a piece of chalk, an egg, an organized pile of pe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 102: Fundamentals of Physic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18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adi Carnot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796-183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9072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nch engineer &amp; pioneer of therm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ed only 1 work during his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d the details of an “ideal” engine (the “Carnot” eng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cinated with steam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nted the technology advancements made in rival En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ulk of his work focused on understanding heat and steam engine design/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based on the “caloric” theory (although he was moving away from it just before he d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57913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acted cholera and died the next day, at the age of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08640" y="1066680"/>
            <a:ext cx="3405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bsolute Z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west temperature a system can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to –273.15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(or 0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temperature is a theoretical limit in nature, it is unachie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west temperature achieved so far is 3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t the University of Color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mperature at which the particles of a system have the lowest possible kinetic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you explain why an object/system can never quite reach absolute ze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tern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193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otal energy (mechanical and other)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U = PE + KE + …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s internal energy can change when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(W) is performed on/by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(Q) is absorbed/released by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bsolute zero, the internal energy of a system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rder to approach absolute zero, a system must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 work 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heat 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irst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838080"/>
            <a:ext cx="8610480" cy="44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eneral statement of the Law of Conservation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crease of internal energy for a system is equal the heat energy absorbed minus the work the system per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lnSpc>
                <a:spcPct val="9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Change in </a:t>
            </a:r>
            <a:r>
              <a:rPr b="1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I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nternal Energy = Heat –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U = Q –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ll gain internal energy when 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(W) is performed on the system (work transfers mechanical energy to the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energy (Q) is absorbed by the system (thermal energy is transferred to the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diabatic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modynamic process where there is no exchange of heat energy with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ways to produce an adiabat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is thermally insulated from the outside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cess occurs too quickly for heat to flow into/out of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 bicycle tire 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agation of a sound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-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econd Law of Thermo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609480"/>
            <a:ext cx="8610480" cy="49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energy flows spontaneously from hot to cold never from cold to 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inciple that defines how efficient heat engin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eat engine can be 100%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?  Because heat energy will always be lost (discarded) in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scarded heat energy is therefore not available to perform work and represents energy lost (&amp; efficiency lost!) by th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automobi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heat produced by burning fossil fuel (gasoline) fo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 notice how warm the engine (even the engine hood) gets while the engine runs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®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Energy l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bout the warm engine exhaust?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nergy L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Heat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143000"/>
            <a:ext cx="8458200" cy="45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s designed to absorb heat energy (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from a high temperature 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h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ource and use it to perform work (W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ll of the input heat can be used for work, so the excess heat energy (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is discarded at a lower temperature (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o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fficiency of a heat engine is a measure of how much input heat gets used to perform actu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 = (work performed) / (heat input) = W/Q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 “ideal” heat engine, the efficiency depends on the hot and cold temper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 = 1 – 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ol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% e = (1 – 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col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/T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hot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336920" y="4338720"/>
            <a:ext cx="4585320" cy="2373480"/>
            <a:chOff x="4336920" y="4338720"/>
            <a:chExt cx="4585320" cy="2373480"/>
          </a:xfrm>
        </p:grpSpPr>
        <p:sp>
          <p:nvSpPr>
            <p:cNvPr id="64" name=""/>
            <p:cNvSpPr/>
            <p:nvPr/>
          </p:nvSpPr>
          <p:spPr>
            <a:xfrm>
              <a:off x="5738760" y="4338720"/>
              <a:ext cx="2001960" cy="1382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637160" y="4343400"/>
              <a:ext cx="738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6924600" y="5945040"/>
              <a:ext cx="738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04040" y="4643280"/>
              <a:ext cx="673200" cy="6951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ffff66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36920" y="4719600"/>
              <a:ext cx="1338480" cy="543240"/>
            </a:xfrm>
            <a:custGeom>
              <a:avLst/>
              <a:gdLst/>
              <a:ahLst/>
              <a:rect l="0" t="0" r="r" b="b"/>
              <a:pathLst>
                <a:path w="3718" h="1509">
                  <a:moveTo>
                    <a:pt x="0" y="502"/>
                  </a:moveTo>
                  <a:lnTo>
                    <a:pt x="0" y="1005"/>
                  </a:lnTo>
                  <a:lnTo>
                    <a:pt x="2603" y="1005"/>
                  </a:lnTo>
                  <a:lnTo>
                    <a:pt x="2603" y="1509"/>
                  </a:lnTo>
                  <a:lnTo>
                    <a:pt x="3718" y="755"/>
                  </a:lnTo>
                  <a:lnTo>
                    <a:pt x="2603" y="0"/>
                  </a:lnTo>
                  <a:lnTo>
                    <a:pt x="2603" y="502"/>
                  </a:lnTo>
                  <a:lnTo>
                    <a:pt x="0" y="502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7883640" y="4419720"/>
              <a:ext cx="738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05880" y="4795920"/>
              <a:ext cx="1116360" cy="466920"/>
            </a:xfrm>
            <a:custGeom>
              <a:avLst/>
              <a:gdLst/>
              <a:ahLst/>
              <a:rect l="0" t="0" r="r" b="b"/>
              <a:pathLst>
                <a:path w="3101" h="1297">
                  <a:moveTo>
                    <a:pt x="0" y="431"/>
                  </a:moveTo>
                  <a:lnTo>
                    <a:pt x="0" y="864"/>
                  </a:lnTo>
                  <a:lnTo>
                    <a:pt x="2171" y="864"/>
                  </a:lnTo>
                  <a:lnTo>
                    <a:pt x="2171" y="1297"/>
                  </a:lnTo>
                  <a:lnTo>
                    <a:pt x="3101" y="649"/>
                  </a:lnTo>
                  <a:lnTo>
                    <a:pt x="2171" y="0"/>
                  </a:lnTo>
                  <a:lnTo>
                    <a:pt x="2171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5788080"/>
              <a:ext cx="378360" cy="924120"/>
            </a:xfrm>
            <a:custGeom>
              <a:avLst/>
              <a:gdLst/>
              <a:ahLst/>
              <a:rect l="0" t="0" r="r" b="b"/>
              <a:pathLst>
                <a:path w="1051" h="2567">
                  <a:moveTo>
                    <a:pt x="0" y="854"/>
                  </a:moveTo>
                  <a:lnTo>
                    <a:pt x="0" y="1710"/>
                  </a:lnTo>
                  <a:lnTo>
                    <a:pt x="735" y="1710"/>
                  </a:lnTo>
                  <a:lnTo>
                    <a:pt x="735" y="2567"/>
                  </a:lnTo>
                  <a:lnTo>
                    <a:pt x="1051" y="1284"/>
                  </a:lnTo>
                  <a:lnTo>
                    <a:pt x="735" y="0"/>
                  </a:lnTo>
                  <a:lnTo>
                    <a:pt x="735" y="854"/>
                  </a:lnTo>
                  <a:lnTo>
                    <a:pt x="0" y="85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5965920" y="4800600"/>
              <a:ext cx="1770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  <a:ea typeface="Times New Roman"/>
                </a:rPr>
                <a:t>Heat Eng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ntr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990720"/>
            <a:ext cx="8610480" cy="49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easure of the disorder of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entropy of a system in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is lost that cannot be retr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bout the previous state of the system is lost and cannot be retr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p an object on the floor and watch it impact (or splatter) against the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6676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 look at the remains on the floor and ask yoursel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66760" algn="ctr">
              <a:lnSpc>
                <a:spcPct val="9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 reconstruct the original object from this stuff?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6676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f your answer is “no” then the object gained entropy &amp; information is lost forever (the process is irrever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6676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If your answer is “yes” then your object did not gain entropy (the process is rever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Aristotle</dc:title>
</cp:coreProperties>
</file>