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375-05CD-439F-93B9-0EDF7016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1E5-7D0F-4CCB-BA1B-AAD3C50E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768-A133-46E1-8342-4ECB59BF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47AB-9E07-43B6-9986-CB8AB750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141-59BA-491D-93DA-263ACAB1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00C-26D5-4580-850C-E010C0C2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113-37B8-4834-BC82-5441D19F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313-8DF7-475B-84E7-8726C07C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1AC-B229-43BA-B0D6-19EBD4B5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BA7-77EE-4A9A-AE64-895FAFF8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9A7-0696-456A-8C3C-4F50738B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C5A-4B3B-4FC7-86E2-F4C7EDA9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4A49-7F34-499E-B4BC-EE551B251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 102: Fundamentals of Physics I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7: States of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hanging States of Matter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2819520"/>
            <a:ext cx="8305920" cy="1983600"/>
            <a:chOff x="457200" y="2819520"/>
            <a:chExt cx="8305920" cy="1983600"/>
          </a:xfrm>
        </p:grpSpPr>
        <p:sp>
          <p:nvSpPr>
            <p:cNvPr id="45" name=""/>
            <p:cNvSpPr/>
            <p:nvPr/>
          </p:nvSpPr>
          <p:spPr>
            <a:xfrm>
              <a:off x="3581280" y="3200400"/>
              <a:ext cx="1447920" cy="121932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895480"/>
              <a:ext cx="2210040" cy="1752840"/>
            </a:xfrm>
            <a:prstGeom prst="irregularSeal2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733920" y="3581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iqu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3200400"/>
              <a:ext cx="1447920" cy="12193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9480" y="3581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ol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010280" y="3581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09680" y="3809880"/>
              <a:ext cx="1143000" cy="45720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257800" y="3809880"/>
              <a:ext cx="1143000" cy="45720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180760" y="3352680"/>
              <a:ext cx="1143000" cy="45720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133000" y="3352680"/>
              <a:ext cx="1143000" cy="45720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43434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Mel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7692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Evapo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81080" y="281952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Freez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28195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Condens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219320" y="5257800"/>
            <a:ext cx="6400800" cy="825480"/>
            <a:chOff x="1219320" y="5257800"/>
            <a:chExt cx="6400800" cy="825480"/>
          </a:xfrm>
        </p:grpSpPr>
        <p:sp>
          <p:nvSpPr>
            <p:cNvPr id="60" name=""/>
            <p:cNvSpPr/>
            <p:nvPr/>
          </p:nvSpPr>
          <p:spPr>
            <a:xfrm>
              <a:off x="1219320" y="5257800"/>
              <a:ext cx="6400800" cy="0"/>
            </a:xfrm>
            <a:prstGeom prst="line">
              <a:avLst/>
            </a:prstGeom>
            <a:ln w="76320">
              <a:solidFill>
                <a:srgbClr val="ff66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81080" y="5257800"/>
              <a:ext cx="510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Times New Roman"/>
                </a:rPr>
                <a:t>Energy is absorbed when change of phase is in this dir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371600" y="1616040"/>
            <a:ext cx="6400800" cy="838080"/>
            <a:chOff x="1371600" y="1616040"/>
            <a:chExt cx="6400800" cy="838080"/>
          </a:xfrm>
        </p:grpSpPr>
        <p:sp>
          <p:nvSpPr>
            <p:cNvPr id="63" name=""/>
            <p:cNvSpPr/>
            <p:nvPr/>
          </p:nvSpPr>
          <p:spPr>
            <a:xfrm>
              <a:off x="1371600" y="2454120"/>
              <a:ext cx="6400800" cy="0"/>
            </a:xfrm>
            <a:prstGeom prst="line">
              <a:avLst/>
            </a:prstGeom>
            <a:ln w="76320">
              <a:solidFill>
                <a:srgbClr val="cccc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33720" y="1616040"/>
              <a:ext cx="510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ccff"/>
                  </a:solidFill>
                  <a:latin typeface="Times New Roman"/>
                </a:rPr>
                <a:t>Energy is released when change of phase is in this dir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iquid to Solid Transformation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reez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hase change from liquid to sol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energy must be re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l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hase change from solid to liqu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energy must be absorb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gel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hase change from solid to liquid (under high pressure) that reverts back to solid (when pressure is remov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blade of an ice skate causes the ice beneath to melt under its pressure, the ice then re-freezes once the blade has passed over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Evapor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hase change from liquid to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s only at the surface of the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must be absorbed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ff"/>
                </a:solidFill>
                <a:uFillTx/>
                <a:latin typeface="Times New Roman"/>
              </a:rPr>
              <a:t>Condens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hase change from gas to liqu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rel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iquid to Gas Transformation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Boiling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poration that takes throughout a liquid instead of only at the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must be absorbed by a liquid to b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ually a cooling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keeps liquid from exceeding its critical temperature, its boil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liquids have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itical temperat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t which they boil (called the boiling poi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ling point depends on pres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er pressure higher boil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r pressure lower boil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ublimat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hase change from solid to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must be absorb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ezer burn” occurs when ice crystals present in frozen food subli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eze drying is a more useful example of subl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y ice (solid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sublimates when it is placed in water producing “artificial” smo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05120" y="2057400"/>
            <a:ext cx="5257800" cy="1907640"/>
            <a:chOff x="1905120" y="2057400"/>
            <a:chExt cx="5257800" cy="1907640"/>
          </a:xfrm>
        </p:grpSpPr>
        <p:sp>
          <p:nvSpPr>
            <p:cNvPr id="74" name=""/>
            <p:cNvSpPr/>
            <p:nvPr/>
          </p:nvSpPr>
          <p:spPr>
            <a:xfrm>
              <a:off x="4952880" y="2057400"/>
              <a:ext cx="2210040" cy="1752840"/>
            </a:xfrm>
            <a:prstGeom prst="irregularSeal2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05120" y="2362320"/>
              <a:ext cx="1447560" cy="12193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5740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ol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1008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57600" y="2743200"/>
              <a:ext cx="1143000" cy="457200"/>
            </a:xfrm>
            <a:custGeom>
              <a:avLst/>
              <a:gdLst>
                <a:gd name="textAreaLeft" fmla="*/ 178560 w 1143000"/>
                <a:gd name="textAreaRight" fmla="*/ 1000440 w 11430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76720" y="35053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Sublim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tent He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 is always absorbed or released when a substance undergoes a change of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quantity of heat energy gained/released by a substance (per mass) during a phase transformation is called the latent heat (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3 latent hea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nt heat of fusion (solid to liquid, vice versa), 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atent heat of fusion for water is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= 3.35x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nt heat of vaporization (liquid to gas, vice versa), 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8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atent heat of vaporization for water is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= 2.26x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eat absorbed/released as an object changes phase is describe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Q = m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 is the mass of substance transformed (in k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ffff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ow much energy must be absorbed to melt 0.2 kg of ic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2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=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(0.2 kg)(33.5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J) = 67.0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 or 67.0 k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5:28:08Z</dcterms:created>
  <dc:creator>Tony Zable</dc:creator>
  <dc:description/>
  <dc:language>en-US</dc:language>
  <cp:lastModifiedBy>PCC</cp:lastModifiedBy>
  <dcterms:modified xsi:type="dcterms:W3CDTF">2003-02-21T16:58:47Z</dcterms:modified>
  <cp:revision>36</cp:revision>
  <dc:subject/>
  <dc:title>Aristotle</dc:title>
</cp:coreProperties>
</file>