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A00-7A35-4B8A-A046-B67AE10B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E14-53D2-417C-A1D1-C4DAF988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90F-4C56-4905-9D57-D23FDBE7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63B-F5E2-450A-B226-BEBD3368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70F-C33B-4255-84A8-A2920968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573-F38D-44D2-98E5-7FE60499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E62-36EC-4A48-9776-1B65822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5B8-5608-4B47-A330-FE1386B5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3DD-14EC-4326-87DF-DB4F2DA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C9E-7201-46B2-93F4-6AC1DD91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482-3815-4F88-B7B1-C678F196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6EA-6922-4789-8EA5-7EDB1158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5EC8-521F-46B6-A9F6-83A36F378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7: States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anging States of Matter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2819520"/>
            <a:ext cx="8305920" cy="1983600"/>
            <a:chOff x="457200" y="2819520"/>
            <a:chExt cx="8305920" cy="1983600"/>
          </a:xfrm>
        </p:grpSpPr>
        <p:sp>
          <p:nvSpPr>
            <p:cNvPr id="45" name=""/>
            <p:cNvSpPr/>
            <p:nvPr/>
          </p:nvSpPr>
          <p:spPr>
            <a:xfrm>
              <a:off x="3581280" y="3200400"/>
              <a:ext cx="1447920" cy="121932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895480"/>
              <a:ext cx="2210040" cy="1752840"/>
            </a:xfrm>
            <a:prstGeom prst="irregularSeal2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733920" y="3581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qu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3200400"/>
              <a:ext cx="1447920" cy="12193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9480" y="3581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l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10280" y="3581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9680" y="3809880"/>
              <a:ext cx="1143000" cy="4572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57800" y="3809880"/>
              <a:ext cx="1143000" cy="4572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180760" y="3352680"/>
              <a:ext cx="1143000" cy="4572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133000" y="3352680"/>
              <a:ext cx="1143000" cy="4572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43434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Mel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Evapo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080" y="281952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Freez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2819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Condens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219320" y="5257800"/>
            <a:ext cx="6400800" cy="825480"/>
            <a:chOff x="1219320" y="5257800"/>
            <a:chExt cx="6400800" cy="825480"/>
          </a:xfrm>
        </p:grpSpPr>
        <p:sp>
          <p:nvSpPr>
            <p:cNvPr id="60" name=""/>
            <p:cNvSpPr/>
            <p:nvPr/>
          </p:nvSpPr>
          <p:spPr>
            <a:xfrm>
              <a:off x="1219320" y="5257800"/>
              <a:ext cx="6400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1080" y="5257800"/>
              <a:ext cx="510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Energy is absorbed when change of phase is in this dir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371600" y="1616040"/>
            <a:ext cx="6400800" cy="838080"/>
            <a:chOff x="1371600" y="1616040"/>
            <a:chExt cx="6400800" cy="838080"/>
          </a:xfrm>
        </p:grpSpPr>
        <p:sp>
          <p:nvSpPr>
            <p:cNvPr id="63" name=""/>
            <p:cNvSpPr/>
            <p:nvPr/>
          </p:nvSpPr>
          <p:spPr>
            <a:xfrm>
              <a:off x="1371600" y="2454120"/>
              <a:ext cx="6400800" cy="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33720" y="1616040"/>
              <a:ext cx="510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Times New Roman"/>
                </a:rPr>
                <a:t>Energy is released when change of phase is in this dir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iquid to Solid Transformation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reez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ase change from liquid to sol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must be re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l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ase change from solid to liqu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must be absor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gel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ase change from solid to liquid (under high pressure) that reverts back to solid (when pressure is remov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blade of an ice skate causes the ice beneath to melt under its pressure, the ice then re-freezes once the blade has passed over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Evapor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hase change from liquid to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only at the surface of the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must be absorbed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Condens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hase change from gas to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iquid to Gas Transformation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oiling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poration that takes throughout a liquid instead of only at the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must be absorbed by a liquid to b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ually a cool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keeps liquid from exceeding its critical temperature, its boil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liquids hav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itical tempera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t which they boil (called the boiling poi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ling point depends on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er pressure higher boil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pressure lower boil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ublimat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ase change from solid to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must be absorb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zer burn” occurs when ice crystals present in frozen food subli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ze drying is a more useful example of s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y ice (solid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sublimates when it is placed in water producing “artificial” sm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05120" y="2057400"/>
            <a:ext cx="5257800" cy="1907640"/>
            <a:chOff x="1905120" y="2057400"/>
            <a:chExt cx="5257800" cy="1907640"/>
          </a:xfrm>
        </p:grpSpPr>
        <p:sp>
          <p:nvSpPr>
            <p:cNvPr id="74" name=""/>
            <p:cNvSpPr/>
            <p:nvPr/>
          </p:nvSpPr>
          <p:spPr>
            <a:xfrm>
              <a:off x="4952880" y="2057400"/>
              <a:ext cx="2210040" cy="1752840"/>
            </a:xfrm>
            <a:prstGeom prst="irregularSeal2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05120" y="2362320"/>
              <a:ext cx="1447560" cy="12193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5740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l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00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57600" y="2743200"/>
              <a:ext cx="1143000" cy="4572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76720" y="3505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Sublim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tent He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is always absorbed or released when a substance undergoes a change of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quantity of heat energy gained/released by a substance (per mass) during a phase transformation is called the latent heat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3 latent hea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nt heat of fusion (solid to liquid, vice versa), 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atent heat of fusion for water is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= 3.35x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nt heat of vaporization (liquid to gas, vice versa), 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atent heat of vaporization for water is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= 2.26x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eat absorbed/released as an object changes phase is describ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Q = m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is the mass of substance transformed (in k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ow much energy must be absorbed to melt 0.2 kg of 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=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(0.2 kg)(33.5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J) = 67.0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 or 67.0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2-21T16:58:47Z</dcterms:modified>
  <cp:revision>36</cp:revision>
  <dc:subject/>
  <dc:title>Aristotle</dc:title>
</cp:coreProperties>
</file>