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AA3456-036C-4D52-89E2-A24BC5E2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at flow rate = Q/t = k(A/L)</a:t>
            </a:r>
            <a:r>
              <a:rPr b="0" lang="en-US" sz="1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1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2: Fundamentals of Phys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6 Hea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914400"/>
            <a:ext cx="6095880" cy="425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tial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d the French Army under Napol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a branch of mathematics known as “Fourier 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a mathematical model of heat transfer (conduction) that was independent of the “caloric”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a form of martial arts, adopted widely in Ch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ung Fourier (get it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Joseph Fourier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768-18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041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99072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transfer due to direc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difference in temperature between 2 object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) the faster heat will transfer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surface area of contact (A) between 2 objects the faster heat will transfer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distance (L) between the hot and cold temperature regions, the slower the rate of 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at flow rate = Q/t ~ A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perty of substances is called thermal con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ls have high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etals have low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for conductance to occur, objects (atoms/molecules) must be i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838080"/>
            <a:ext cx="8610480" cy="51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transfer due to bulk movement of a flu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.e. mi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conv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convection occurs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omething gets warmer it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warmer regions in a fluid are less dense than cool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dense regions therefore will rise in the fluid due to buoyancy {this is Archimedes’ Princip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 hot air (or any fluid) rises and cooler air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d convention occurs due to unnatural mixing of a fluid (i.e. the effect of a f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-2286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838080"/>
            <a:ext cx="8610480" cy="45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transferred as electromagnetic radiation (l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bjects “radiate” thermal energy at thei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tter something is the more energy is rad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surface area something has the more energy it can ra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that radiate energy abundantly also absorb radiant energy easily (dark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that do not radiate energy do not absorb radiant energy (light or metallic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k pavement gets so much hotter during the day than lighter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T-shirts are “cooler” on a hot day than dark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ewton’s Law of C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fast an object cools down is related to the difference in temperature between the object and it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objects cool at a fast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 objects cool at a slow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ate of cooling ~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37160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fluence of the atmosphere on the surface temperatur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necessarily a ba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 absorbs radiant energy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 radiates energy away from it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radiated energy gets reflected back to the earth due to the atmosphere (greenhouse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surface temperature of the earth is higher than it would be without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maller disparity between day &amp; night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