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93A3A7-1DFE-45BA-AD79-85E24774C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Heat flow rate = Q/t = k(A/L)</a:t>
            </a:r>
            <a:r>
              <a:rPr b="0" lang="en-US" sz="1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1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 102: Fundamentals of Physic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16 Hea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914400"/>
            <a:ext cx="6095880" cy="425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tial mathema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d the French Army under Napol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a branch of mathematics known as “Fourier Analysi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 a mathematical model of heat transfer (conduction) that was independent of the “caloric”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a form of martial arts, adopted widely in Ch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Kung Fourier (get it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Joseph Fourier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768-183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041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990720"/>
            <a:ext cx="777240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transfer due to direc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difference in temperature between 2 object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) the faster heat will transfer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surface area of contact (A) between 2 objects the faster heat will transfer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distance (L) between the hot and cold temperature regions, the slower the rate of heat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Heat flow rate = Q/t ~ A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perty of substances is called thermal condu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als have high thermal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etals have low thermal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rder for conductance to occur, objects (atoms/molecules) must be in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v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838080"/>
            <a:ext cx="8610480" cy="510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t transfer due to bulk movement of a flu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.e. mi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of conv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convection occurs beca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something gets warmer it exp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, warmer regions in a fluid are less dense than coole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dense regions therefore will rise in the fluid due to buoyancy {this is Archimedes’ Principl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s hot air (or any fluid) rises and cooler air s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i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d convention occurs due to unnatural mixing of a fluid (i.e. the effect of a f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-2286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838080"/>
            <a:ext cx="8610480" cy="45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y transferred as electromagnetic radiation (l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bjects “radiate” thermal energy at their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otter something is the more energy is rad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surface area something has the more energy it can ra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that radiate energy abundantly also absorb radiant energy easily (dark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that do not radiate energy do not absorb radiant energy (light or metallic obj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rk pavement gets so much hotter during the day than lighter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te T-shirts are “cooler” on a hot day than dark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ewton’s Law of Coo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fast an object cools down is related to the difference in temperature between the object and it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objects cool at a faste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d objects cool at a slowe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Rate of cooling ~ 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37160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fluence of the atmosphere on the surface temperature of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necessarily a bad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th absorbs radiant energy from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th radiates energy away from it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of the radiated energy gets reflected back to the earth due to the atmosphere (greenhouse g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verage surface temperature of the earth is higher than it would be without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smaller disparity between day &amp; night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Aristotle</dc:title>
</cp:coreProperties>
</file>