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60C0-FE94-457B-A436-DBFE58549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B169-ED0F-4C0F-8147-6A319522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9BAC-E998-435C-A481-22849C3FE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1885-9C3F-424E-A01C-62D232BC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23D0-828E-42D0-B2E0-1E41A832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4723-F465-4130-B8E3-0C905441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D658-46F7-4CB6-98BC-9470FF8D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D3A9-DCF0-410F-B5D5-53A963B4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7D33-AD18-4392-A2D1-C447DB7B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8175-88BC-43D1-863E-D13D4356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3C41-B622-427A-9D68-56712EC1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CD28-4C7D-4D0B-B968-21042A09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BA86-4A86-4355-9FC4-4B08E567D0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Phy 102: Fundamentals of Physics II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15 Heat &amp; Temperature Lectu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Joseph Black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(1728-1799)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5791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lish chem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re-)discovered carbon dioxid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“fixed air”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nder of calorimetry techn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ed a theory of heat that did not reference phlogiston, includ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heat eq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heat capacity &amp; Latent 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dely renowned as a  great teach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53341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"Many were induced, by the report of his students, to attend his courses, without having any particular relish for chemical knowledge."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Black" descr=""/>
          <p:cNvPicPr/>
          <p:nvPr/>
        </p:nvPicPr>
        <p:blipFill>
          <a:blip r:embed="rId1"/>
          <a:stretch/>
        </p:blipFill>
        <p:spPr>
          <a:xfrm>
            <a:off x="6019920" y="1066680"/>
            <a:ext cx="27921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emperatur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easure of how “hot” or “cold” something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ed to the average kinetic energy of the atoms/molecules of an o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lish: Fahrenheit (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ric: Celsius (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: Kelvin (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He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 that flows from higher temperature to lower temper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 that is transferred due to “collisions” between atoms/molecules of different kinetic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eat energy that is absorbed by an object is proportional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ss of the object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hange in temperature the object undergoes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heat capacity (s)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a physical property unique to the substan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alculate heat (Q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Q = s </a:t>
            </a:r>
            <a:r>
              <a:rPr b="1" lang="en-US" sz="28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m </a:t>
            </a:r>
            <a:r>
              <a:rPr b="1" lang="en-US" sz="28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produced by friction, heat is mechanical energy that is irretrievably removed from a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Specific Heat Capacity (c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mount of heat energy (in J) required to increase the temperature of 1 kg of a substance by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(or 1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 units are J/kg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(more useful units are cal/g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or J/g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unique physical property of different subst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als have low specific heat capa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n-metals have higher specific heat capa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er has an unusually large specific heat capa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onship between heat gained (Q) and temperature change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Q = cm</a:t>
            </a:r>
            <a:r>
              <a:rPr b="0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rmal Expansion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emperature of a substance determines its siz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substances cool they contr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substances warm they exp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rmal expa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gener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greater the temperature change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) the greater the degree of thermal expansion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/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V/V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~ 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/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the fractional change in volume of the substanc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 is the change in volume &amp;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s original volu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quids expand more readily than sol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ses expand more readily than liqu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substances expand/contract due to temperature changes in a unique, characteristic w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rmal Properties of Water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 requires unusually large amounts of energy to change temperature (high specific capacity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water (liquid) cools it contracts (as do most substances) as the molecules move closer toge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water gets near its freezing poi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ensity of the water reaches its greatest value at 4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water is further cooled below 4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all ice crystals begin to form (ice is an ionic soli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ce crystals have a lower density than liquid water (due to the bent shape of the molecul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et density of the water increases as the temperature approaches 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e: the water at 4oC sinks to the bottom (due to high density) and water of colder or warmer temperature rise upw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15:28:08Z</dcterms:created>
  <dc:creator>Tony Zable</dc:creator>
  <dc:description/>
  <dc:language>en-US</dc:language>
  <cp:lastModifiedBy>PCC</cp:lastModifiedBy>
  <dcterms:modified xsi:type="dcterms:W3CDTF">2003-02-04T22:09:59Z</dcterms:modified>
  <cp:revision>35</cp:revision>
  <dc:subject/>
  <dc:title>Aristotle</dc:title>
</cp:coreProperties>
</file>