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6DD4-6F76-480B-90FE-50C2AF03B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FBCE-8623-48E3-BB68-B86973C6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2D23-FE73-4214-9FE6-8D4C83B28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A46C-A4D0-4BDA-AB28-FBF1D2A20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742D-747C-4FF5-85AC-93456852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F0CC-D915-4457-A503-6BE89594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5D5E-453A-40D1-944C-406A5F4D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8B82-1063-49F0-A1F5-4FBF680B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B003-F81E-4B7C-84C6-55025033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24FA-17C9-4ABA-8924-102EB6BA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0A54-3665-42C2-B945-B9D5ECC5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9F5B-1F59-45B4-B32C-560755DD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547D-7A8D-42E8-B292-F141171984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Phy 102: Fundamentals of Physics II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15 Heat &amp; Temperature Lecture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Joseph Black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(1728-1799)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5791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lish chem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re-)discovered carbon dioxid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“fixed air”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nder of calorimetry techn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osed a theory of heat that did not reference phlogiston, includ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heat eq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heat capacity &amp; Latent 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dely renowned as a  great teach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53341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"Many were induced, by the report of his students, to attend his courses, without having any particular relish for chemical knowledge."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Black" descr=""/>
          <p:cNvPicPr/>
          <p:nvPr/>
        </p:nvPicPr>
        <p:blipFill>
          <a:blip r:embed="rId1"/>
          <a:stretch/>
        </p:blipFill>
        <p:spPr>
          <a:xfrm>
            <a:off x="6019920" y="1066680"/>
            <a:ext cx="27921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emperatur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easure of how “hot” or “cold” something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ed to the average kinetic energy of the atoms/molecules of an ob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lish: Fahrenheit (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ric: Celsius (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: Kelvin (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He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y that flows from higher temperature to lower temper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y that is transferred due to “collisions” between atoms/molecules of different kinetic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eat energy that is absorbed by an object is proportional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ass of the object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hange in temperature the object undergoes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heat capacity (s)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a physical property unique to the substanc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alculate heat (Q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Q = s </a:t>
            </a:r>
            <a:r>
              <a:rPr b="1" lang="en-US" sz="2800" spc="-1" strike="noStrike" baseline="30000">
                <a:solidFill>
                  <a:srgbClr val="66ff33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m </a:t>
            </a:r>
            <a:r>
              <a:rPr b="1" lang="en-US" sz="2800" spc="-1" strike="noStrike" baseline="30000">
                <a:solidFill>
                  <a:srgbClr val="66ff33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produced by friction, heat is mechanical energy that is irretrievably removed from a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Specific Heat Capacity (c)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mount of heat energy (in J) required to increase the temperature of 1 kg of a substance by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 (or 1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 units are J/kg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 (more useful units are cal/g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 or J/g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unique physical property of different subst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als have low specific heat capa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n-metals have higher specific heat capa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ter has an unusually large specific heat capa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onship between heat gained (Q) and temperature change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Q = cm</a:t>
            </a:r>
            <a:r>
              <a:rPr b="0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hermal Expansion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emperature of a substance determines its siz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 substances cool they contra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 substances warm they exp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rmal expa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gener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greater the temperature change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) the greater the degree of thermal expansion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/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V/V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~ </a:t>
            </a:r>
            <a:r>
              <a:rPr b="0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/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the fractional change in volume of the substanc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 is the change in volume &amp;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s original volu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quids expand more readily than sol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ses expand more readily than liqu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substances expand/contract due to temperature changes in a unique, characteristic w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Thermal Properties of Water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 requires unusually large amounts of energy to change temperature (high specific capacity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water (liquid) cools it contracts (as do most substances) as the molecules move closer toge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water gets near its freezing poi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ensity of the water reaches its greatest value at 4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water is further cooled below 4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all ice crystals begin to form (ice is an ionic soli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ce crystals have a lower density than liquid water (due to the bent shape of the molecul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net density of the water increases as the temperature approaches 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e: the water at 4oC sinks to the bottom (due to high density) and water of colder or warmer temperature rise upw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15:28:08Z</dcterms:created>
  <dc:creator>Tony Zable</dc:creator>
  <dc:description/>
  <dc:language>en-US</dc:language>
  <cp:lastModifiedBy>PCC</cp:lastModifiedBy>
  <dcterms:modified xsi:type="dcterms:W3CDTF">2003-02-04T22:09:59Z</dcterms:modified>
  <cp:revision>35</cp:revision>
  <dc:subject/>
  <dc:title>Aristotle</dc:title>
</cp:coreProperties>
</file>