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4C6-3787-4538-A58B-6969AC2F0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is mass density not weight density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957-9434-450D-AF87-0419371E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31E-5331-4792-9A21-88F0C2B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C01-8056-48C9-9536-A4896D3C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F22-0680-4066-90B5-7F4B442A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7F3-5BDD-4448-8640-55A1451E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AEF-4F5B-47B2-872A-6A53772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FDD-9748-4854-B999-4918AC2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DB9-9E8A-4264-877B-2D45AC56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CD5-CBC3-4D54-BB78-C0712F2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AFC-3B10-4499-A7CC-992E5C6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78A-D319-4F84-B17A-AFFA63C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097-97E0-4B83-87AE-92AAB5A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985-5DDF-4A7F-A8DA-0AB1D02E8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4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h-born, English Chem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prominent scientist to carry out controlled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rigorous experimental and quantitative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d results in de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Scientific Contribu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d the first modern definition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em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onically he did not believe in the physical reality of at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ed the first vacuum pu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to use color indicators to test acid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Robert Boyle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627-1691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Boyle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3162240" cy="41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5943600"/>
            <a:ext cx="921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by many to be the “Father of Modern Chemist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er that has no definite shape and no definite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shape of their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volume of the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es are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 particles have very little interaction with each other (except collis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gases take the volume of their container, the density is not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temperature and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tmospheric Pressu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es with ele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s as you increase in 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s as air density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ir Pressure = weight density x dep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is measured from the top dow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t is depth not he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dens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creases as you increase in 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sea level, 1 cubic meter has a mass of 1-and-¼ kilogram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12.5 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arometer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ces that measure pressure of the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ical mercury barome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end (P 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end exposed to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rcury in the closed end drops until its weight is balanced by the atmospher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rcury column (the meter) w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as atmospheric pressure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 as atmospheric pressure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W0416_11.12_6333" descr=""/>
          <p:cNvPicPr/>
          <p:nvPr/>
        </p:nvPicPr>
        <p:blipFill>
          <a:blip r:embed="rId1"/>
          <a:srcRect l="0" t="0" r="0" b="26270"/>
          <a:stretch/>
        </p:blipFill>
        <p:spPr>
          <a:xfrm>
            <a:off x="6211800" y="1066680"/>
            <a:ext cx="2706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oyle’s La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lationship between pressure &amp; volume for an enclosed gas at constant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by Boy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ut not discovered by him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n enclosed gas the product of pressure times volume is a constant value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ressur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Volum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Pressur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Volum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= P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/decreases in volume result in inversely proportional change in pressur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ice vers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 only when the temperature is kept const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ample Pressure vs. Volume Curv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143000"/>
          <a:ext cx="792504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rnoulli’s Princip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peed of a fluid increases its pressure decre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 ask yoursel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golf balls have dimp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es a pitcher scuff the baseball before throwing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loose papers fly out the window when you are driving down the ro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n’t airplanes fall out of the sky (at least not most of the time…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nswers to these questions, my friends, lie in Bernoulli’s Principl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ressure Difference = 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 = ½ Dv</a:t>
            </a:r>
            <a:r>
              <a:rPr b="0" lang="en-US" sz="3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28T21:00:07Z</dcterms:modified>
  <cp:revision>29</cp:revision>
  <dc:subject/>
  <dc:title>Aristotle</dc:title>
</cp:coreProperties>
</file>