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27AD-F7AD-4B64-88AB-46F4B238E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is mass density not weight density (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3AE-8B30-4AA3-948C-1DB380FF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226-E6CF-40C6-BC62-2645CAA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B26-B3AB-4283-BBB6-12A688C8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74D-0833-4593-95E0-0B7199BA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F55-426D-4293-A56F-8AB8B03F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D9F-313D-43DC-A53D-F438D2C8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08C7-7478-41E7-BFC6-C4CEF607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D10-B7D2-4A1C-A110-EC20ECC5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369-DAF2-465F-994B-0E0B944D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582-35D0-4916-BDB5-B97D2102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E11-AEA2-4D07-89A0-516F41F9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1DD-8852-45DB-B4B0-57372DB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51D-1994-4D4B-AD2C-E89DE31B2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4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h-born, English Chem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prominent scientist to carry out controlled experi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rigorous experimental and quantitative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shed results in det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Scientific Contribu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d the first modern definition of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emic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onically he did not believe in the physical reality of at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ed the first vacuum pum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to use color indicators to test acid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Robert Boyle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627-1691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Boyle" descr=""/>
          <p:cNvPicPr/>
          <p:nvPr/>
        </p:nvPicPr>
        <p:blipFill>
          <a:blip r:embed="rId1"/>
          <a:stretch/>
        </p:blipFill>
        <p:spPr>
          <a:xfrm>
            <a:off x="5791320" y="914400"/>
            <a:ext cx="3162240" cy="4140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5943600"/>
            <a:ext cx="921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by many to be the “Father of Modern Chemist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as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er that has no definite shape and no definite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shape of their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volume of the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es are fl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s particles have very little interaction with each other (except collis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gases take the volume of their container, the density is not cons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s on temperature and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tmospheric Pressu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es with ele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s as you increase in 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s as air density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ir Pressure = weight density x dep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 is measured from the top dow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t is depth not he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v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r density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decreases as you increase in ele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sea level, 1 cubic meter has a mass of 1-and-¼ kilogram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~ 12.5 N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arometer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ces that measure pressure of the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ical mercury barome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end (P =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end exposed to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rcury in the closed end drops until its weight is balanced by the atmospheric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rcury column (the meter) wi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as atmospheric pressure in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 as atmospheric pressure decr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W0416_11.12_6333" descr=""/>
          <p:cNvPicPr/>
          <p:nvPr/>
        </p:nvPicPr>
        <p:blipFill>
          <a:blip r:embed="rId1"/>
          <a:srcRect l="0" t="0" r="0" b="26270"/>
          <a:stretch/>
        </p:blipFill>
        <p:spPr>
          <a:xfrm>
            <a:off x="6211800" y="1066680"/>
            <a:ext cx="2706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oyle’s Law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lationship between pressure &amp; volume for an enclosed gas at constant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by Boy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ut not discovered by him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n enclosed gas the product of pressure times volume is a constant value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ressur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Volum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Pressur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Volume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= P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/decreases in volume result in inversely proportional change in pressur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ice vers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id only when the temperature is kept consta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ample Pressure vs. Volume Curv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143000"/>
          <a:ext cx="7925040" cy="49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ernoulli’s Princip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peed of a fluid increases its pressure decre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 ask yoursel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golf balls have dimp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es a pitcher scuff the baseball before throwing 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loose papers fly out the window when you are driving down the ro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n’t airplanes fall out of the sky (at least not most of the time…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nswers to these questions, my friends, lie in Bernoulli’s Principle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ressure Difference = 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P = ½ Dv</a:t>
            </a:r>
            <a:r>
              <a:rPr b="0" lang="en-US" sz="36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28T21:00:07Z</dcterms:modified>
  <cp:revision>29</cp:revision>
  <dc:subject/>
  <dc:title>Aristotle</dc:title>
</cp:coreProperties>
</file>