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719C-0021-4933-A828-AFD153319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entions of Archimedes’ single-handedly held off the advances of the Roman fleets for several years.  When Syracuse was finally overtaken, Archimedes was busy working on geometry.  When confronted by a Roman soldier, Archimedes was storied to have said, “not now, I am busy with my circles”.  The Roman soldier promptly beheaded Archime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P x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density is weight/volume (or mg/V in 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ork &amp;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s perform work &amp; often multiply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BBE-BE36-4DC0-A3D0-67288DD4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EAC-25AB-41DD-9F7B-124989A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4E6-8337-4CFD-9550-6213B821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7B1-B10D-442B-8D3D-0D7C0970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603-1846-4A0F-9F3F-C7D2354F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1E6-F801-43F8-A9E4-757A6272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43C-CBFD-4EAE-8A9C-336FEAA0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81A-13E0-49CA-B4B0-D6EF734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E5B-AAD9-4A16-A3A6-A621BD84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A21-6CCA-4BC8-96E6-584492A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51B-5D8F-43CF-B429-5B357B69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3AD-8B6C-4E26-BEB6-6415BABD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FAC8-D5F6-4952-B2F3-94829B5CB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3: Liq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amples of Surface Ten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beer" descr=""/>
          <p:cNvPicPr/>
          <p:nvPr/>
        </p:nvPicPr>
        <p:blipFill>
          <a:blip r:embed="rId1"/>
          <a:stretch/>
        </p:blipFill>
        <p:spPr>
          <a:xfrm>
            <a:off x="152280" y="2106720"/>
            <a:ext cx="8839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pillar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hesion:  the attraction of unlike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ample:  glass and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hesion:  the attraction of like substances due to molecular “stickines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 cause of surface tens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rchimedes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287-212 BC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the greatest mathematician in 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circles and geometric sh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an early form of calcu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the Principle of Buoyanc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ow called Archimedes’ Princip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the Principle of Leverag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orqu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uilt several machines based on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ous quo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ive me a point of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d I will move the Ear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quid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ance with a definite volume but indefinite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the shape of their container but always retain their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are fluids (they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are difficult to com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essu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per uni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alculate press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Pressure = force/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: N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ascals or 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: lb/i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si), lb/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ynes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ilopas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essure in a Liqui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ubmerged in a liquid, an object experiences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liquid pre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e to the weight of the fluid directly abov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quid Pressure (P) is equal to weight density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times depth (H)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iquid Pressure = weight density x dep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eper into the liquid you are, the greater the pressure (&amp; force) the liquid exerts on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67480" y="1143000"/>
            <a:ext cx="1676160" cy="2819160"/>
            <a:chOff x="7467480" y="1143000"/>
            <a:chExt cx="1676160" cy="2819160"/>
          </a:xfrm>
        </p:grpSpPr>
        <p:sp>
          <p:nvSpPr>
            <p:cNvPr id="59" name=""/>
            <p:cNvSpPr/>
            <p:nvPr/>
          </p:nvSpPr>
          <p:spPr>
            <a:xfrm>
              <a:off x="7467480" y="1655640"/>
              <a:ext cx="1676160" cy="1922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67480" y="3065040"/>
              <a:ext cx="1676160" cy="8971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67480" y="1143000"/>
              <a:ext cx="1676160" cy="8971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924680" y="1981080"/>
            <a:ext cx="0" cy="762120"/>
          </a:xfrm>
          <a:prstGeom prst="line">
            <a:avLst/>
          </a:prstGeom>
          <a:ln w="1260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743200"/>
            <a:ext cx="457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uoyancy &amp; Archimedes’ Princip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 submerged in a liquid experiences a buoyant 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oyant force acting on an object is equal to the weight of the fluid it dis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nser the liquid the greater buoyant force it will exert on an objec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or the same volume displac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atation occurs when an object displaces the weight of fluid equal to its own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4952880"/>
            <a:ext cx="2286000" cy="1523880"/>
            <a:chOff x="914400" y="4952880"/>
            <a:chExt cx="2286000" cy="1523880"/>
          </a:xfrm>
        </p:grpSpPr>
        <p:sp>
          <p:nvSpPr>
            <p:cNvPr id="68" name=""/>
            <p:cNvSpPr/>
            <p:nvPr/>
          </p:nvSpPr>
          <p:spPr>
            <a:xfrm>
              <a:off x="914400" y="5410080"/>
              <a:ext cx="1295640" cy="609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524240" y="4952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4240" y="6095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Buoyant fo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6095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86200" y="4572000"/>
            <a:ext cx="2286000" cy="1904760"/>
            <a:chOff x="3886200" y="4572000"/>
            <a:chExt cx="2286000" cy="1904760"/>
          </a:xfrm>
        </p:grpSpPr>
        <p:sp>
          <p:nvSpPr>
            <p:cNvPr id="74" name=""/>
            <p:cNvSpPr/>
            <p:nvPr/>
          </p:nvSpPr>
          <p:spPr>
            <a:xfrm>
              <a:off x="3886200" y="5410080"/>
              <a:ext cx="1295280" cy="609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95680" y="4572000"/>
              <a:ext cx="0" cy="7617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6095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Buoyant fo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6095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629400" y="4952880"/>
            <a:ext cx="2286000" cy="1828800"/>
            <a:chOff x="6629400" y="4952880"/>
            <a:chExt cx="2286000" cy="1828800"/>
          </a:xfrm>
        </p:grpSpPr>
        <p:sp>
          <p:nvSpPr>
            <p:cNvPr id="80" name=""/>
            <p:cNvSpPr/>
            <p:nvPr/>
          </p:nvSpPr>
          <p:spPr>
            <a:xfrm>
              <a:off x="6629400" y="5410080"/>
              <a:ext cx="1295280" cy="609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238880" y="4952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6095880"/>
              <a:ext cx="0" cy="6858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Buoyant fo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6095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80880" y="4648320"/>
            <a:ext cx="914400" cy="4597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648320"/>
            <a:ext cx="761760" cy="4597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4648320"/>
            <a:ext cx="838080" cy="4597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Float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ccordance with Archimedes’ Princi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buoyant force is less than the weight of liquid displaced, object will s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buoyant force is greater than the weight of liquid displaced, object will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buoyant force is the same as the weight of liquid displaced, object will susp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of a liquid/object is proportional to its weight density &amp; volume:   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eight = weight density x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quen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loat on the surf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its dens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s l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density of the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nk to the bott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its dens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s m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density of the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ither float nor si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its dens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s the s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density of the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ascal’s Princip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change in pressure at any point in an enclosed fluid at rest is transmitted undiminished to all points in the fl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is for hydraulic mach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hw9lf1321_c" descr=""/>
          <p:cNvPicPr/>
          <p:nvPr/>
        </p:nvPicPr>
        <p:blipFill>
          <a:blip r:embed="rId1"/>
          <a:stretch/>
        </p:blipFill>
        <p:spPr>
          <a:xfrm>
            <a:off x="1523880" y="3211560"/>
            <a:ext cx="58928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urface Ten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endency of the surface of a liquid to contract in area and behave like a stretched elastic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tension is caused by molecular attractions beneath the surface of the liq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tension causes the area of the liquid to be forced into the shape with least surface are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drops are sphe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rface of a pond is flat (when there is no wind or flow to disturb 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rface of a slightly overfilled glass of beer is slightly circular (near edge) and flat in the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21T21:42:07Z</dcterms:modified>
  <cp:revision>28</cp:revision>
  <dc:subject/>
  <dc:title>Aristotle</dc:title>
</cp:coreProperties>
</file>