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DFE6-A99D-43F4-A0D6-0755A13B0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entions of Archimedes’ single-handedly held off the advances of the Roman fleets for several years.  When Syracuse was finally overtaken, Archimedes was busy working on geometry.  When confronted by a Roman soldier, Archimedes was storied to have said, “not now, I am busy with my circles”.  The Roman soldier promptly beheaded Archime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P x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density is weight/volume (or mg/V in N/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work &amp;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ines perform work &amp; often multiply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172-F93B-41AF-9465-9804695C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618-ABAC-4C47-A4C1-0FA71CC5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984-01E4-4FE2-9442-558B87B4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4ED-1716-49BB-AEA9-F795EFD1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1FB-53BA-4019-A988-75374C26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53B-1B9B-4EB2-A504-E3F00CE6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26B-83E6-4CEF-9D75-1CC2B06F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438-6511-4616-97DB-DF1C7F30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9DA-7CD4-4E4B-8D87-5775E3E0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CE5-0341-4F0F-9041-B816675D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1E0-337E-4704-BFE9-ACCD6F15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0ED-CE0A-4C1B-9A85-9AB18B6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240-AE6B-444E-A8FC-AF03DE895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3: Liqu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xamples of Surface Tens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96" name="beer" descr=""/>
          <p:cNvPicPr/>
          <p:nvPr/>
        </p:nvPicPr>
        <p:blipFill>
          <a:blip r:embed="rId1"/>
          <a:stretch/>
        </p:blipFill>
        <p:spPr>
          <a:xfrm>
            <a:off x="152280" y="2106720"/>
            <a:ext cx="88394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apillar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hesion:  the attraction of unlike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ample:  glass and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hesion:  the attraction of like substances due to molecular “stickines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e cause of surface tens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rchimedes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287-212 BC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the greatest mathematician in his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d circles and geometric sh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an early form of calcu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vered the Principle of Buoyanc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now called Archimedes’ Princip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vered the Principle of Leverag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orque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built several machines based on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ous quo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ive me a point of suppo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d I will move the Earth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iquid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ance with a definite volume but indefinite sh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the shape of their container but always retain their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are fluids (they flo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quids are difficult to com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ressur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ce per uni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alculate pressu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Pressure = force/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s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: N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ascals or 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: lb/i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si), lb/f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dynes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ilopas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ressure in a Liquid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ubmerged in a liquid, an object experiences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liquid press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ue to the weight of the fluid directly abov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quid Pressure (P) is equal to weight density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times depth (H)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Liquid Pressure = weight density x dep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 =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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x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eper into the liquid you are, the greater the pressure (&amp; force) the liquid exerts on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67480" y="1143000"/>
            <a:ext cx="1676160" cy="2819160"/>
            <a:chOff x="7467480" y="1143000"/>
            <a:chExt cx="1676160" cy="2819160"/>
          </a:xfrm>
        </p:grpSpPr>
        <p:sp>
          <p:nvSpPr>
            <p:cNvPr id="59" name=""/>
            <p:cNvSpPr/>
            <p:nvPr/>
          </p:nvSpPr>
          <p:spPr>
            <a:xfrm>
              <a:off x="7467480" y="1655640"/>
              <a:ext cx="1676160" cy="19220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67480" y="3065040"/>
              <a:ext cx="1676160" cy="89712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67480" y="1143000"/>
              <a:ext cx="1676160" cy="897120"/>
            </a:xfrm>
            <a:prstGeom prst="ellipse">
              <a:avLst/>
            </a:prstGeom>
            <a:solidFill>
              <a:srgbClr val="66ff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924680" y="1981080"/>
            <a:ext cx="0" cy="762120"/>
          </a:xfrm>
          <a:prstGeom prst="line">
            <a:avLst/>
          </a:prstGeom>
          <a:ln w="1260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2743200"/>
            <a:ext cx="457200" cy="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0100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uoyancy &amp; Archimedes’ Principl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bject submerged in a liquid experiences a buoyant for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oyant force acting on an object is equal to the weight of the fluid it dis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nser the liquid the greater buoyant force it will exert on an objec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for the same volume displace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atation occurs when an object displaces the weight of fluid equal to its own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14400" y="4952880"/>
            <a:ext cx="2286000" cy="1523880"/>
            <a:chOff x="914400" y="4952880"/>
            <a:chExt cx="2286000" cy="1523880"/>
          </a:xfrm>
        </p:grpSpPr>
        <p:sp>
          <p:nvSpPr>
            <p:cNvPr id="68" name=""/>
            <p:cNvSpPr/>
            <p:nvPr/>
          </p:nvSpPr>
          <p:spPr>
            <a:xfrm>
              <a:off x="914400" y="5410080"/>
              <a:ext cx="1295640" cy="609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524240" y="4952880"/>
              <a:ext cx="0" cy="3808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4240" y="6095880"/>
              <a:ext cx="0" cy="3808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Buoyant fo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6095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886200" y="4572000"/>
            <a:ext cx="2286000" cy="1904760"/>
            <a:chOff x="3886200" y="4572000"/>
            <a:chExt cx="2286000" cy="1904760"/>
          </a:xfrm>
        </p:grpSpPr>
        <p:sp>
          <p:nvSpPr>
            <p:cNvPr id="74" name=""/>
            <p:cNvSpPr/>
            <p:nvPr/>
          </p:nvSpPr>
          <p:spPr>
            <a:xfrm>
              <a:off x="3886200" y="5410080"/>
              <a:ext cx="1295280" cy="609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95680" y="4572000"/>
              <a:ext cx="0" cy="7617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95680" y="6095880"/>
              <a:ext cx="0" cy="3808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Buoyant fo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6095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629400" y="4952880"/>
            <a:ext cx="2286000" cy="1828800"/>
            <a:chOff x="6629400" y="4952880"/>
            <a:chExt cx="2286000" cy="1828800"/>
          </a:xfrm>
        </p:grpSpPr>
        <p:sp>
          <p:nvSpPr>
            <p:cNvPr id="80" name=""/>
            <p:cNvSpPr/>
            <p:nvPr/>
          </p:nvSpPr>
          <p:spPr>
            <a:xfrm>
              <a:off x="6629400" y="5410080"/>
              <a:ext cx="1295280" cy="609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238880" y="4952880"/>
              <a:ext cx="0" cy="3808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38880" y="6095880"/>
              <a:ext cx="0" cy="6858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Buoyant for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15200" y="6095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66"/>
                  </a:solidFill>
                  <a:latin typeface="Times New Roman"/>
                </a:rPr>
                <a:t>weigh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80880" y="4648320"/>
            <a:ext cx="914400" cy="4597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lo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4648320"/>
            <a:ext cx="761760" cy="4597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4648320"/>
            <a:ext cx="838080" cy="4597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Floatat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ccordance with Archimedes’ Princi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buoyant force is less than the weight of liquid displaced, object will s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buoyant force is greater than the weight of liquid displaced, object will 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buoyant force is the same as the weight of liquid displaced, object will susp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 of a liquid/object is proportional to its weight density &amp; volume:   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eight = weight density x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quenc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loat on the surfa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its densit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s l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density of the fl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ink to the bott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its densit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s m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density of the fl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ither float nor sin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f its densit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s the sa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density of the flu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ascal’s Principl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A change in pressure at any point in an enclosed fluid at rest is transmitted undiminished to all points in the fl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is for hydraulic mach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hw9lf1321_c" descr=""/>
          <p:cNvPicPr/>
          <p:nvPr/>
        </p:nvPicPr>
        <p:blipFill>
          <a:blip r:embed="rId1"/>
          <a:stretch/>
        </p:blipFill>
        <p:spPr>
          <a:xfrm>
            <a:off x="1523880" y="3211560"/>
            <a:ext cx="58928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urface Tens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endency of the surface of a liquid to contract in area and behave like a stretched elastic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face tension is caused by molecular attractions beneath the surface of the liqu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face tension causes the area of the liquid to be forced into the shape with least surface are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ndrops are spher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urface of a pond is flat (when there is no wind or flow to disturb 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urface of a slightly overfilled glass of beer is slightly circular (near edge) and flat in the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1-21T21:42:07Z</dcterms:modified>
  <cp:revision>28</cp:revision>
  <dc:subject/>
  <dc:title>Aristotle</dc:title>
</cp:coreProperties>
</file>