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9F7-A889-42CF-B71E-C6DBA28E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2234-2723-4BD5-A558-3A4AA364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301-AE44-4C87-9B06-62090623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7D4-3AB1-4F99-9677-363976D6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1AD7-CE3B-4B74-AD7B-1237B92C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0F50-A81C-452B-8500-F6F18351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00A6-B3E3-4208-B446-7236D282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07CE-05D8-4E54-997D-AE79B5B8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196B-08D5-4BED-A922-295FDA34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C5F-3304-4703-A23D-DDC22F6C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8B6-61EA-4F6A-97C3-EC9EFA76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BC9-9D25-47C4-8A74-D074602A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2BDC-8C75-4D12-A7BE-8071E2D29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hy 102: Fundamentals of Physics I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12 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70102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nglish chemist, mathematician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physicist, and invento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he spiral sp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ngland’s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experimental scientis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Founder of many scientific fields,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icroscop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- Microbi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eteorolog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- ge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sci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Robert Hooke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635-1702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RobertHooke1" descr=""/>
          <p:cNvPicPr/>
          <p:nvPr/>
        </p:nvPicPr>
        <p:blipFill>
          <a:blip r:embed="rId1"/>
          <a:stretch/>
        </p:blipFill>
        <p:spPr>
          <a:xfrm>
            <a:off x="7380360" y="898560"/>
            <a:ext cx="1611360" cy="2149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350532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Gained acclaim for writing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microscopy textboo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n for his creating brilliant ideas but not following them up to develop complete the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mporar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&amp; scientific enemy!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Isaac New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oke claimed Newton “stole” many of his ideas including his theory of universal gravitation and a particle theory of op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oke was known for his frequent and bitter disputes with fellow scient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olid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tance with definite shape &amp; definite 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ifications of sol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ystalline (regul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orphous (irregul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s of sol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on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val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ll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n der Wa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Density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hysical property of ma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lationship between a substance’s mass and the volume of space it occup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s 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s of the atoms/molec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tightly the atoms are packed toge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alculate dens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Density = mass/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D = m/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ts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: kg/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: g/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or g/mL), kg/L, g/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lasticity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astic materials have 2 characteristi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hange shape when a deforming force acts on an objec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.g. compress or stretc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return to the original shape when the deforming force is remo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rce (F) required to deform an elastic material is proportional to the amount of deformation the object experiences (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F ~ </a:t>
            </a:r>
            <a:r>
              <a:rPr b="0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This is call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ooke’s La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astic materials can be stretched/compressed past a poi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alled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lastic lim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yond which Hooke’s Law no longer appli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&amp; they stay permanently deform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Soloflex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5" name="soloflex_look_1a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1660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nsion &amp; Compressi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pulled on (stretched) is referred to as being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nder t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pushed in i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 com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omething is b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utside part of it is in te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nner part is in com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where between these regions is an interface call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neutral lay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where neither tension nor compression occu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el girders are designed in “I” shapes to that maximum material is at tension/compression regions &amp; minimal material is located at the neutral laye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to maximize stretch &amp; minimize weigh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rches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nexpensive restaurant specializ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fried f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dollar_menu_promo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caling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object’s strength is proportional to its cross-sectional area (A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Strength ~ 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measured in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or c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object’s mass is proportional to its volume (V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Weight ~ V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in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 c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objects increase in size, volume &amp; weight increase faster than cross-sectional area &amp; str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results in disproportionately larger support features (such as le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er animals tend to have thin legs (spiders, deer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er animals tend to have thick legs (rhinos, elephants, hipp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5:28:08Z</dcterms:created>
  <dc:creator>Tony Zable</dc:creator>
  <dc:description/>
  <dc:language>en-US</dc:language>
  <cp:lastModifiedBy>PCC</cp:lastModifiedBy>
  <dcterms:modified xsi:type="dcterms:W3CDTF">2003-01-28T20:58:05Z</dcterms:modified>
  <cp:revision>19</cp:revision>
  <dc:subject/>
  <dc:title>Aristotle</dc:title>
</cp:coreProperties>
</file>