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532-8CD4-45B5-8566-30A213A8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B8E-45EC-497A-9D30-7FBDF430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69D-66A9-48DC-81AA-8AF0AD88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6EE-1749-46AA-A088-1A953875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B57-4559-4B98-93AC-A75DD671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B89-2A4B-4D3A-A7CA-8AFD6997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99B-E401-4099-9ED5-CAF69A1F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249-0438-4139-8F6D-BED16220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CE4-CC4D-49F7-B71E-7022D13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496-417D-4398-9B49-860321A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BC4-93DE-4B83-8367-88699A5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7C3-2F68-4FB8-B6B0-1710BC0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9D1-1FE2-4222-B309-C39E0C356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2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70102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 chemist, mathematicia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hysicist, and invent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he spiral sp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gland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experimental scienti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ounder of many scientific fields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icrosco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 Microb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teor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 ge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Robert Hooke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635-1702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obertHooke1" descr=""/>
          <p:cNvPicPr/>
          <p:nvPr/>
        </p:nvPicPr>
        <p:blipFill>
          <a:blip r:embed="rId1"/>
          <a:stretch/>
        </p:blipFill>
        <p:spPr>
          <a:xfrm>
            <a:off x="7380360" y="898560"/>
            <a:ext cx="1611360" cy="2149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5053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Gained acclaim for writing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microscopy textboo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n for his creating brilliant ideas but not following them up to develop complete the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orar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&amp; scientific enemy!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Isaac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oke claimed Newton “stole” many of his ideas including his theory of universal gravitation and a particle theory of op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oke was known for his frequent and bitter disputes with fellow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ce with definite shape &amp; definite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s of sol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stalline (regu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orphous (irregu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sol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n der Wa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ysical property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lationship between a substance’s mass and the volume of space it occup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of the atoms/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ightly the atoms are packed toge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dens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ensity = mass/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 = m/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: kg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: g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r g/mL), kg/L, g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lastic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stic materials have 2 character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hange shape when a deforming force acts on an obj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compress or stre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turn to the original shape when the deforming force is re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 (F) required to deform an elastic material is proportional to the amount of deformation the object experiences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F ~ 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Thi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ooke’s La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stic materials can be stretched/compressed past a poi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alled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lastic li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yond which Hooke’s Law no longer appli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&amp; they stay permanently deform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Soloflex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5" name="soloflex_look_1a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66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nsion &amp; Compres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pulled on (stretched) is referred to as be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nder 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pushed in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 com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b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utside part of it is in 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ner part is in 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where between these regions is an interface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neutral lay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where neither tension nor compression occ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l girders are designed in “I” shapes to that maximum material is at tension/compression regions &amp; minimal material is located at the neutral lay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o maximize stretch &amp; minimize we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rch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expensive restaurant specializ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r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dollar_menu_promo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’s strength is proportional to its cross-sectional area (A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Strength ~ 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easured in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r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’s mass is proportional to its volume (V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eight ~ V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n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bjects increase in size, volume &amp; weight increase faster than cross-sectional area &amp; 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sults in disproportionately larger support features (such as le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er animals tend to have thin legs (spiders, deer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 animals tend to have thick legs (rhinos, elephants, hipp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28T20:58:05Z</dcterms:modified>
  <cp:revision>19</cp:revision>
  <dc:subject/>
  <dc:title>Aristotle</dc:title>
</cp:coreProperties>
</file>