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4440" y="686880"/>
            <a:ext cx="4569120" cy="3426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9E16F-B049-4817-AC53-D4B28CBC3E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Ups &amp; 1 Down form a pro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Up &amp; 2 Downs form a neut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C245-DDD7-449C-A9B4-9E327145F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E48B-4B80-425B-B94E-5DA767A80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05FA-9ABB-4886-892A-353F01CE3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CC4E-0A8E-4D41-A9E2-74D572E92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BDC9-71E0-48E8-8BBA-50C4D3760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1A42-3016-46C2-AD9C-C5033E3C1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A8BF-AE2E-401B-B937-1499D2BD9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1066-3CA8-44F1-BC66-9E6644DF0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294C-B221-45D0-809B-C19E18439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A000-FFBF-47B7-8CC8-C92864759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F72E-1C5F-4412-AE0E-D2AB659FA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D9CA-5538-461A-9301-09805C7B7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9B087-8E49-41CA-85C4-B11A21272D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Phy 102: Fundamentals of Physics II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pter 11: The Atomic Nature of Mat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The Atomic Nucleus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“nuclear atom” hypothesis proposed by Earnest Rutherford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1909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nse, positively charged “core” of the at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ains protons &amp; neutr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termine the </a:t>
            </a: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mas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f the at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The Proton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rst observed by Eugene Goldstein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1869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 referred to them in his experiments as “canal rays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avy” positive charged partic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bout 2000 times as massive as an electr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ass of Proton = 1.67x10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-27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k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ame magnitude of charge as electron (opposite sig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harge of Proton = +1.60x10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-19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umber of protons in the nucleus is unique for each el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# of protons is the same as the # of electrons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except for ion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The Neutron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scovered by James Chadwick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193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avy” neutral charge partic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ss slightly larger than prot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ss of Neutron = 1.67x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-27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k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the “glue” that holds the protons together in the nucle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oms of the same element with different amounts of neutrons are called </a:t>
            </a: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isotop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The Periodic Table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master “menu” of mat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rst proposed by Dmitri Mendelee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 known elements are organized by chemical proper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re are currently ~120 elements have been identifi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lumns are called </a:t>
            </a:r>
            <a:r>
              <a:rPr b="0" lang="en-US" sz="3200" spc="-1" strike="noStrike">
                <a:solidFill>
                  <a:srgbClr val="ccccff"/>
                </a:solidFill>
                <a:latin typeface="Times New Roman"/>
              </a:rPr>
              <a:t>Group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ows are called </a:t>
            </a:r>
            <a:r>
              <a:rPr b="0" lang="en-US" sz="3200" spc="-1" strike="noStrike">
                <a:solidFill>
                  <a:srgbClr val="ccccff"/>
                </a:solidFill>
                <a:latin typeface="Times New Roman"/>
              </a:rPr>
              <a:t>Perio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Quarks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8000"/>
          </a:bodyPr>
          <a:p>
            <a:pPr marL="415800" indent="-41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rst proposed by Murray Gell-Mann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1963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15800" indent="-415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ong with Leptons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electrons, neutrinos,…)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form the “fundamental particles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15800" indent="-415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bine in combinations to form protons &amp; neutr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15800" indent="-415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wo Classes of quark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arge = -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10160" indent="-2077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ow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010160" indent="-2077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tran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010160" indent="-2077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ottom (Beauty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arge = +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10160" indent="-2077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010160" indent="-2077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harm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010160" indent="-2077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op (Truth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1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Elements, Compounds &amp; Mixtures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tter can be classified 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ure substances (elements &amp; compound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ixtures (homogeneous &amp; heterogeneou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oms of elements combine to form compoun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lecules are the basic units of compoun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The Atomic Hypothesis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 matter is made up of small invisible particles called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to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toms can combine to form larger blocks of matter called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molecu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toms have 2 primary region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nucle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electron clou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atomic nucleus contains protons &amp; neutr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electrons are held to nucleus by the electric force (attractive) between the protons &amp; the electr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History of the Atomic Hypothesis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mocritus proposes the concept of “atoms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lton proposes his “atomic theory of matter” &amp; re-introduces the concept of the at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utherford introduces the nuclear atom hypothe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ohr proposes the “planetary” model of the at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 Broglie suggests that electrons can act like wav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ads to the wave theory of the electron clou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hrodinger &amp; Heisenberg simultaneously work out the foundations for the quantum theory of the atom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referred to as quantum mechanic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ll-Mann proposes the quark hypothe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52280" y="914040"/>
            <a:ext cx="64771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glish Chemi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idered by many to be the “Father of Modern Chemistry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-4572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John Dalton </a:t>
            </a: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(1776-1844)</a:t>
            </a:r>
            <a:endParaRPr b="0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124080" y="548640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7" name="Dalton" descr=""/>
          <p:cNvPicPr/>
          <p:nvPr/>
        </p:nvPicPr>
        <p:blipFill>
          <a:blip r:embed="rId1"/>
          <a:stretch/>
        </p:blipFill>
        <p:spPr>
          <a:xfrm>
            <a:off x="6553080" y="152280"/>
            <a:ext cx="2286000" cy="22654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52280" y="2514600"/>
            <a:ext cx="876312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-introduced the atomic hypothesis of mat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tter is never created nor destroy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basic units of matter are called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ato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toms cannot be broken down into smaller uni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bstances composed of only one type of atom are called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ele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toms of a given element are identic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toms of different elements have different mas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toms may combine in defined whole-number ratios to form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molecu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Ernest Rutherford </a:t>
            </a: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(1871-1937)</a:t>
            </a:r>
            <a:endParaRPr b="0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elebrated experimental physici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sidered the “Father of Nuclear Physics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bel Prize in Chemistry (1908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uided many of his students to win Nobel Priz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ributions included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posed the model of the nuclear at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plained radioactivity as the disintegration of ato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first to split the atom (O to 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vented the 1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s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method to measure radioactive particles by electrical mea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lped invent the modern smoke detec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1" name="rutherford" descr=""/>
          <p:cNvPicPr/>
          <p:nvPr/>
        </p:nvPicPr>
        <p:blipFill>
          <a:blip r:embed="rId1"/>
          <a:stretch/>
        </p:blipFill>
        <p:spPr>
          <a:xfrm>
            <a:off x="6858000" y="1447920"/>
            <a:ext cx="1909800" cy="24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Neils Bohr </a:t>
            </a: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(1885-1962)</a:t>
            </a:r>
            <a:endParaRPr b="0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nish physici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on the Nobel Prize (1922) for his work on the structure of ato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posed a “planetary” model of the atom, referred to as the Bohr Mod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orked on the Manhattan Project at Los Alam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ter in life promoted the peaceful use of nuclear energ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" name="Bohr_Niels" descr=""/>
          <p:cNvPicPr/>
          <p:nvPr/>
        </p:nvPicPr>
        <p:blipFill>
          <a:blip r:embed="rId1"/>
          <a:stretch/>
        </p:blipFill>
        <p:spPr>
          <a:xfrm>
            <a:off x="7010280" y="1523880"/>
            <a:ext cx="188280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Murray Gell-Mann (1929- )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67053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on the Nobel Prize (1969) for his contributions to elementary particle physics (the quark theory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umerous contributions to the field of elementary particle physics including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assification of elementary particles &amp; their intera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posed the existence of “quarks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veloped the following theori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60120" indent="-191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trangeness Theory”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60120" indent="-191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ightfold Way Theo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60120" indent="-191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Quantum Chromodynamic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sidered by many to be “the greatest living theoretical physicist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7" name="gell-mann" descr=""/>
          <p:cNvPicPr/>
          <p:nvPr/>
        </p:nvPicPr>
        <p:blipFill>
          <a:blip r:embed="rId1"/>
          <a:stretch/>
        </p:blipFill>
        <p:spPr>
          <a:xfrm>
            <a:off x="7086600" y="1371600"/>
            <a:ext cx="1600200" cy="22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Elements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bstances made of only one type of at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tter that cannot be broken down into new substan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toms of a particular element have the same # of proton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Atomic Number = # of Prot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toms of a particular element can have different # of neutron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Atomic Mass = (# of Protons) + (# of Neutron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The Electron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rst discovered by J.J. Thomson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1897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mall negatively charged “particle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ss of electron = 9.11x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-3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k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arge of electron = -1.60x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-19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termine for the chemical properties of a subst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m a “cloud” around the nucleus of the at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stablish the </a:t>
            </a:r>
            <a:r>
              <a:rPr b="1" lang="en-US" sz="2800" spc="-1" strike="noStrike">
                <a:solidFill>
                  <a:srgbClr val="ccccff"/>
                </a:solidFill>
                <a:latin typeface="Times New Roman"/>
              </a:rPr>
              <a:t>volum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of an at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low of electrons in conducting material is referred to as “electrical current”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or electricity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25T15:28:08Z</dcterms:created>
  <dc:creator>Tony Zable</dc:creator>
  <dc:description/>
  <dc:language>en-US</dc:language>
  <cp:lastModifiedBy>PCC</cp:lastModifiedBy>
  <dcterms:modified xsi:type="dcterms:W3CDTF">2003-01-08T02:36:13Z</dcterms:modified>
  <cp:revision>13</cp:revision>
  <dc:subject/>
  <dc:title>Aristotle</dc:title>
</cp:coreProperties>
</file>