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BBA-B86E-409E-A36C-772F5899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Ups &amp; 1 Down form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Up &amp; 2 Downs form a 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344-C78A-4A60-877F-71EB648B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F5B-5669-47FB-AF13-EF054FAD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9460-C228-48AB-AD6E-5A038103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482-B3B1-43DB-A7F5-87784FC8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D4E-115C-4A47-976F-7ADADF14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F3E-F222-42AB-92B8-14FFF49F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F46-C6E7-42F5-8D5E-92B2A5A0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ADE-8F0D-4B89-BF6E-85203AD8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873-7F3E-4442-ABDF-BE1EBDF5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4C2-1EA5-48AC-9985-954F268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22C-D6FB-40D7-9842-336B414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250-A81D-4A39-B0A0-624189D6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9ED-DEEF-4212-94B0-24CAAFFF6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1: The Atomic Nature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ic Nucleu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uclear atom” hypothesis proposed by Earnest Rutherfor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se, positively charged “core” of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s protons &amp; neu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the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ma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Prot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observed by Eugene Goldste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86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referred to them in his experiments as “canal ray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” positive charged part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out 2000 times as massive as an 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ss of Proton = 1.67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2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magnitude of charge as electron (opposite sig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ge of Proton = +1.60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protons in the nucleus is unique for each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of protons is the same as the # of electr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xcept for 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Neutr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vered by James Chadwick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193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” neutral charge parti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slightly larger than pro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of Neutron = 1.67x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-2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the “glue” that holds the protons together in the nucle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the same element with different amounts of neutrons are called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isot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Periodic Tabl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ter “menu” of ma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roposed by Dmitri Mendele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known elements are organized by chemical prope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currently ~120 elements have been ident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umns are called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s are called 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Peri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Quark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roposed by Murray Gell-Man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96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ong with Lept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lectrons, neutrinos,…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m the “fundamental particl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in combinations to form protons &amp;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Classes of qua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= -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tom (Beau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= +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016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p (Trut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ements, Compounds &amp; Mixtur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ter can be classifi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re substances (elements &amp; compoun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tures (homogeneous &amp; heterogeneo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oms of elements combine to form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lecules are the basic units of compou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ic Hypothesi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is made up of small invisible particle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can combine to form larger blocks of matter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lec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have 2 primary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on 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omic nucleus contains protons &amp;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s are held to nucleus by the electric force (attractive) between the protons &amp; the elec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istory of the Atomic Hypothesi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ocritus proposes the concept of “atom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lton proposes his “atomic theory of matter” &amp; re-introduces the concept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herford introduces the nuclear atom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hr proposes the “planetary” model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 Broglie suggests that electrons can act like wav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s to the wave theory of the electron 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rodinger &amp; Heisenberg simultaneously work out the foundations for the quantum theory of the ato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referred to as quantum mechani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ll-Mann proposes the quark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6477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ed by many to be the “Father of Modern Chemist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-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John Dalton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776-1844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Dalton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286000" cy="2265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514600"/>
            <a:ext cx="8763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introduced the atomic hypothesis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ter is never created nor destr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units of matter are calle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cannot be broken down into smaller un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ances composed of only one type of atom are calle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of a given element are iden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of different elements have different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may combine in defined whole-number ratios to form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rnest Rutherfor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71-1937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ebrated experimental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he “Father of Nuclear Phys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bel Prize in Chemistry (19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many of his students to win Nobel Pr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ion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model of the nuclear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ained radioactivity as the disintegration of a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to split the atom (O to 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 to measure radioactive particles by electrical m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ed invent the modern smoke det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rutherford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9098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Neils Bohr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85-1962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ish physic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the Nobel Prize (1922) for his work on the structure of a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“planetary” model of the atom, referred to as the Bohr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 the Manhattan Project at Los Ala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 in life promoted the peaceful use of nucle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Bohr_Niels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8828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Murray Gell-Mann (1929- 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the Nobel Prize (1969) for his contributions to elementary particle physics (the quark the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erous contributions to the field of elementary particle physics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ification of elementary particles &amp; their inte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ed the existence of “quark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d the following theori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angeness Theory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ightfold Way The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um Chromodynam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by many to be “the greatest living theoretical physicis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gell-mann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6002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ement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s made of only one type of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ter that cannot be broken down into new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a particular element have the same # of prot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tomic Number = # of Pr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s of a particular element can have different # of neutr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Atomic Mass = (# of Protons) + (# of Neutr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Electr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discovered by J.J. Thoms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8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negatively charged “partic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of electron = 9.11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3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ge of electron = -1.6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for the chemical properties of a sub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 a “cloud” around the nucleus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the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volu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ow of electrons in conducting material is referred to as “electrical current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electric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08T02:36:13Z</dcterms:modified>
  <cp:revision>13</cp:revision>
  <dc:subject/>
  <dc:title>Aristotle</dc:title>
</cp:coreProperties>
</file>