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680-C47A-462A-BA5B-3882FB4E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D7E-E4DA-4D33-8CF2-3C946CA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49F-7BCB-4FD9-ABE3-2847357B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844-94BB-4654-B2FF-E36727B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A13-8A38-41A0-B12B-90315B1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7B2-00B8-41F2-883A-454D4F35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E1F-B1ED-4C23-9C92-11CCEBE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799-A926-439A-A2F4-20FF0231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246-C6F4-468D-9D98-805F78A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B2F-DEFD-43F6-8C10-8B057A9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24B-38DB-4816-A42D-5BB01C58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B5C-E08D-4EC2-9B30-58AAB3D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154-FFF8-4A34-A97E-D21DC7DDF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1: Fundamentals of Physics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9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nry Cavendish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31-181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chemist and physic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ied electr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ed the property of capac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 the strength of electrical current by shocking himself and estimating the magnitude of the p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sed a method to measure the Universal Gravitational Constant (G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 used this value to calculate the mass of the Ea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ton’s Law of Universal Gravi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force (weight) is the mutual attraction of two bodies due to their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 of the masses of each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verse square of the distance between the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iversal gravitational constant (G)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more on this constant later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ymbolic for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gravity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~ 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/r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Universal Gravitational Constant (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undamental constant in na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 is the same everywhere in the univer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alue is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 = 6.67x10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-11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N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gravitational force to be calculated when using mass and distance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gravity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= G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/r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s how an object’s influence gets diluted in space at increased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ever any force (or physical quantity) obeys an inverse square law its form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F ~ 1/r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otable inverse square fo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vitational Force Inside a Pl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you go deeper into the plane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any solid body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ss of its mass directly affects its gravitational acceleration/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inside a solid bod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.e. a planet)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ravitational influen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field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portional to the remaining mass of the “sphere” from your location to its center, 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 ~ r (not 1/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oser to the center you get, the smaller the gravitational eff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ts zero at the center of the earth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due to the fact that that as you go inside it some of its mass now pulls you outward rather than in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ean T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by both the moon and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ant factors to 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on is closer to the earth than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avitational force between the moon and the earth is smaller than that between the sun and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on has a greater influence on the ocean tides since its gravitational influence varies more during its cycle than the s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des are due to a “bulging” of the ocean water due to the moon’s gravitation force on the earth and its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PCC</cp:lastModifiedBy>
  <dcterms:modified xsi:type="dcterms:W3CDTF">2002-10-03T19:26:19Z</dcterms:modified>
  <cp:revision>5</cp:revision>
  <dc:subject/>
  <dc:title>Phy 101: Fundamentals of Physics I</dc:title>
</cp:coreProperties>
</file>