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6304-82C7-4814-A6AD-764A23BF8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BD33-CD13-4549-887C-B27AFF2B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F3B0-2E1F-4A80-BCD2-BCAFEF76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8317-360D-45EE-A549-FF608264D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39CD-3777-4B8A-9CA3-FAB77BD7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0B65-FD2A-4F63-91C6-68F0E345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D47E-9A92-40E8-9F82-889272C4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3913-FE5C-4F89-B2D9-DB9A55F1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2159-26F5-46EA-B5C5-44E8682F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DA78-919A-428A-87C6-D7ABB2E9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3728-B85A-4DF5-A4F8-24580F1D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0493-5606-45DE-8611-D10C6079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577E-BCC0-4291-89E2-F124EAD5FF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 101: Fundamentals of Physics 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9 Lectu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nry Cavendish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1731-1810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glish chemist and physic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ied electri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estigated the property of capaci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sured the strength of electrical current by shocking himself and estimating the magnitude of the p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ised a method to measure the Universal Gravitational Constant (G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he used this value to calculate the mass of the Eart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wton’s Law of Universal Gravi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vitational force (weight) is the mutual attraction of two bodies due to their m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ends 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roduct of the masses of each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nverse square of the distance between the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universal gravitational constant (G)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{more on this constant later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symbolic for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</a:rPr>
              <a:t>gravity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~ m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/r</a:t>
            </a:r>
            <a:r>
              <a:rPr b="1" lang="en-US" sz="2800" spc="-1" strike="noStrike" baseline="30000">
                <a:solidFill>
                  <a:srgbClr val="66ff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Universal Gravitational Constant (G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fundamental constant in natur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it is the same everywhere in the univers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alue is 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G = 6.67x10</a:t>
            </a:r>
            <a:r>
              <a:rPr b="0" lang="en-US" sz="3200" spc="-1" strike="noStrike" baseline="30000">
                <a:solidFill>
                  <a:srgbClr val="ccecff"/>
                </a:solidFill>
                <a:latin typeface="Times New Roman"/>
              </a:rPr>
              <a:t>-11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 N</a:t>
            </a:r>
            <a:r>
              <a:rPr b="1" lang="en-US" sz="3200" spc="-1" strike="noStrike" baseline="30000">
                <a:solidFill>
                  <a:srgbClr val="ccecff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m</a:t>
            </a:r>
            <a:r>
              <a:rPr b="0" lang="en-US" sz="3200" spc="-1" strike="noStrike" baseline="30000">
                <a:solidFill>
                  <a:srgbClr val="ccec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/kg</a:t>
            </a:r>
            <a:r>
              <a:rPr b="0" lang="en-US" sz="3200" spc="-1" strike="noStrike" baseline="30000">
                <a:solidFill>
                  <a:srgbClr val="ccec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s gravitational force to be calculated when using mass and distance va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66ff33"/>
                </a:solidFill>
                <a:latin typeface="Times New Roman"/>
              </a:rPr>
              <a:t>gravity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= G</a:t>
            </a:r>
            <a:r>
              <a:rPr b="1" lang="en-US" sz="32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66ff33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m</a:t>
            </a:r>
            <a:r>
              <a:rPr b="1" lang="en-US" sz="3200" spc="-1" strike="noStrike" baseline="-25000">
                <a:solidFill>
                  <a:srgbClr val="66ff33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/r</a:t>
            </a:r>
            <a:r>
              <a:rPr b="1" lang="en-US" sz="3200" spc="-1" strike="noStrike" baseline="30000">
                <a:solidFill>
                  <a:srgbClr val="66ff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verse Square La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lects how an object’s influence gets diluted in space at increased di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ever any force (or physical quantity) obeys an inverse square law its form i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F ~ 1/r</a:t>
            </a:r>
            <a:r>
              <a:rPr b="1" lang="en-US" sz="3200" spc="-1" strike="noStrike" baseline="30000">
                <a:solidFill>
                  <a:srgbClr val="66ff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notable inverse square for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al fo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vitational Force Inside a Plan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you go deeper into the plane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or any solid body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ess of its mass directly affects its gravitational acceleration/fo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inside a solid body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i.e. a planet)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gravitational influenc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or field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proportional to the remaining mass of the “sphere” from your location to its center, 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F ~ r (not 1/r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loser to the center you get, the smaller the gravitational effec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its zero at the center of the earth!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due to the fact that that as you go inside it some of its mass now pulls you outward rather than inw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cean Ti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fected by both the moon and the s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ortant factors to consid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oon is closer to the earth than the s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gravitational force between the moon and the earth is smaller than that between the sun and ear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oon has a greater influence on the ocean tides since its gravitational influence varies more during its cycle than the su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des are due to a “bulging” of the ocean water due to the moon’s gravitation force on the earth and its mov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6T23:00:17Z</dcterms:created>
  <dc:creator>Tony Zable</dc:creator>
  <dc:description/>
  <dc:language>en-US</dc:language>
  <cp:lastModifiedBy>PCC</cp:lastModifiedBy>
  <dcterms:modified xsi:type="dcterms:W3CDTF">2002-10-03T19:26:19Z</dcterms:modified>
  <cp:revision>5</cp:revision>
  <dc:subject/>
  <dc:title>Phy 101: Fundamentals of Physics I</dc:title>
</cp:coreProperties>
</file>