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 101: Fundamentals of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8 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ervation of Angular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o “external” torque acts on an objec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 system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ts angular momentum will remain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changes in rotational inerti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ue to changes in body position, for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duce an inversely proportional change in the system’s rotational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will not alter the angular of the object/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ains the motion of the planets orbiting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loser they are to the Sun the faster they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urther away they are from the Sun the slower they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chimede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87-212 B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ly the greatest mathematician i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ed early form of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ed the Principle of Buoyanc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w called Archimedes’ Princi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ed the Principle of Leverag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orqu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built several machines based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ous qu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me a point of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I will move the Ear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on maintained at a fixed distance about a central point (the rad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le in degrees or radians (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tions (or rot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tationa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ngular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ed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: how fast an object rotates or the rate of rotation/revolution while in circular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s of rotational speed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: radians/second (rad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: revolutions/minute (R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tational Iner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of objects to resist changes in rotation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tational inertia (I) depend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 of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 of mass about the axis of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able 8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s (SI) are k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r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times referred to as “leverag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changes in rotation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 must be applied perpendicular to lever arm to produce t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alcul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orque = (force) x (lever a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t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F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s (SI) are 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t Joule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rque is a vector quantit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t we will treat it as a sca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nter of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rigid non-point-like objects, the center mass is the “average” location of its total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may or may not actually lie on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bined mass of an objec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though it is located at its center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rown in the air, objects rotate or “wobble” about their center of mas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t the center of mass follows a smooth path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rm “center of gravity” refers to the same location as the center of mas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ect in a few situ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ntripetal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n object is in rotational mo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ven at constant speed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t is subject to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ripetal force “pulls” the object in the circular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ipetal force is related to the object’s mass, its speed and the radius of its circular path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entripetal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v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you verify the units of centripetal fo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ntrifugal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force at all, it is merely a percep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object which is moving in circular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sponse to an object’s inertia resisting its circular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gnitude of perceived centrifugal force is its acting centripetal forc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t acting in the opposite di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asis for ideas of artificial gravity environment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gular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tational equivalent to linear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duct of an object’s rotational inertia times its rotational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alculate angular momentum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 = (rotational inertia)*(rotational sp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 = I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ular momentum is a vector quantit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t we will treat it as a sca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s (SI) are k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what happened to the radians?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101: Fundamentals of Physics I</dc:title>
</cp:coreProperties>
</file>