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D558-B5D9-42EF-AA76-5641ADB3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C793-590B-4324-88CB-B3ED0DD2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9B2A-BCFB-43A1-9260-7C20172D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EC3-37CF-4F5C-A995-32574963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1AF0-03B2-40DB-96DD-E32786DA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03F0-0B54-4421-9087-E89CE834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285-9A61-422D-ACB0-DC100380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93A-E1D1-4E41-8068-C3EA126D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D71-0E1E-453F-886E-37C3AB68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41D7-B3E5-4C05-AA00-52A4D9CB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B0B6-5829-4EED-8ED5-11CB8795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E965-83E7-46B4-B619-44E2ED86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76D8-96A4-41B1-ADAB-8A177612C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101: Fundamentals of Physics 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7 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fundamental typ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one form of mechanical work into another (create “mechanical advantage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orm energy into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(%) is a measure of a machine’s performa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Efficiency = (work performed/energy input) *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machine can be more than 100% 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istotle Revisi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rding to Aristotle’s theory, forc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au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ti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iolent mo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ristotle, an object’s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pe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as simply the ratio of the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or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erted on the object divided by its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sista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Speed = “force”/“resistanc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istotle was not too far of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 “force” is really p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 “resistance” is really the applied force acting on the object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which must be equal to the resistance/frictional force when v is constant!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Speed = power/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course, Aristotle did not consider accelerating objects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mes Prescott Joul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1818-1889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ntor &amp; scient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ested in efficiency of electric mo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ed the heat dissipated across a resisto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now known as Joules’ La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ed that heat is produced by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dited with establishing the mechanical energy equivalent of h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ipated in establishing the “Law of Energy Conserva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ort times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alculate wor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Work = (Force Applied)*(Distance Travel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W = F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force that is applied in the direction of distance traveled can do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 is a scalar qua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ts (SI) are Joules (J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apacity of something to do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s of energ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chan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m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cl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cannot be created nor destro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Work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can be re-described a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 measure of energy transfer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i.e. chemical to mechanical energ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at which work is perfo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at which energy is consu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ts of power are units of energy per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: Joules/sec (or Watts, 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: horsepower (1hp = 750 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alculate pow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Power = work/ti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Power = energy/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e:  when an object has constant velo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Power = (force) x (veloc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inetic Ener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due to an object’s moti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in order to have kinetic energy an object must have mo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of ½ times mass times velocity squ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alar qua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alculate kinetic energy (K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KE = ½ x mass x velocity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KE = ½ mv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ts (SI) are J (or k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vitational Potential Ener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due to an object’s positi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when it is within a gravitational fiel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s the potential work gravity could perform if an object were let 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alar qua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alculate potential energy (P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PE = mass*gravitational acceleration*ele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PE = m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ts (SI) are J (or k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-Energy Theor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rk perform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 object (the net work) is equal to its change in kinetic energ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W = </a:t>
            </a:r>
            <a:r>
              <a:rPr b="1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vidual forces can do work even though no net work is performed on an 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this make sense in terms of Newton’s Law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 of Mechanical Ener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chanical energy in a system remains constant if there is no heat los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due to fri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may change form but the total amount of it stays the same, fo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object in free-fall gains as much KE as it loses PE during its desc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23:00:17Z</dcterms:created>
  <dc:creator>Tony Zable</dc:creator>
  <dc:description/>
  <dc:language>en-US</dc:language>
  <cp:lastModifiedBy>PCC</cp:lastModifiedBy>
  <dcterms:modified xsi:type="dcterms:W3CDTF">2002-08-03T00:19:11Z</dcterms:modified>
  <cp:revision>10</cp:revision>
  <dc:subject/>
  <dc:title>Phy 101: Fundamentals of Physics I</dc:title>
</cp:coreProperties>
</file>