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5922-704A-492C-A8DD-EB9931E8A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6187-EEA7-4C38-8E4B-D3127A9BD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1559-85CD-480E-B20B-819BE76F4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13E0-C459-4FF7-A6D2-A3E73578B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183D-6DF8-46AF-83ED-AEF3191B9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4699-71C5-4435-80F4-37BC783B2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144A-9A75-441B-9690-B4B741CEF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F63F-797F-4A1D-9ACF-8CA31303A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EFC7-98B5-4E4F-8B4A-5F9A3C2CC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0CB2-3026-4A56-A058-8B7DA7087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FAC8-580A-47F4-B9F7-86805423D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868E-CCC8-4FFB-94F6-F631469B9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22C19-2F80-4437-9514-84238E6A7A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hy 101: Fundamentals of Physics 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pter 7 Lecture No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chin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wo fundamental typ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vert one form of mechanical work into another (create “mechanical advantage”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nsform energy into 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fficiency (%) is a measure of a machine’s performanc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Efficiency = (work performed/energy input) * 100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machine can be more than 100% effici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ristotle Revisite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cording to Aristotle’s theory, force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aus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otion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violent motio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Aristotle, an object’s 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spe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as simply the ratio of the 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for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exerted on the object divided by its 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resistan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Speed = “force”/“resistance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istotle was not too far off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is “force” is really pow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is “resistance” is really the applied force acting on the object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which must be equal to the resistance/frictional force when v is constant!!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Speed = power/for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f course, Aristotle did not consider accelerating objects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ames Prescott Joule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(1818-1889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ventor &amp; scienti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ested in efficiency of electric mo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cribed the heat dissipated across a resistor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now known as Joules’ Law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wed that heat is produced by mo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edited with establishing the mechanical energy equivalent of he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ticipated in establishing the “Law of Energy Conservation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or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ffort times outp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calculate work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Work = (Force Applied)*(Distance Travel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W = F</a:t>
            </a:r>
            <a:r>
              <a:rPr b="1" lang="en-US" sz="2800" spc="-1" strike="noStrike" baseline="30000">
                <a:solidFill>
                  <a:srgbClr val="66ff33"/>
                </a:solidFill>
                <a:latin typeface="Times New Roman"/>
              </a:rPr>
              <a:t>.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ly force that is applied in the direction of distance traveled can do 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rk is a scalar quant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ts (SI) are Joules (J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nerg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apacity of something to do 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ypes of energ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chani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ectri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emi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ucle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ergy cannot be created nor destroy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Work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can be re-described as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a measure of energy transfer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(i.e. chemical to mechanical energ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ow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te at which work is perform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te at which energy is consum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ts of power are units of energy per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: Joules/sec (or Watts, W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ther: horsepower (1hp = 750 W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calculate powe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Power = work/tim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o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Power = energy/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e:  when an object has constant veloc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Power = (force) x (velocit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Kinetic Energ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ergy due to an object’s motion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in order to have kinetic energy an object must have motio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duct of ½ times mass times velocity squa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calar quant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calculate kinetic energy (KE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KE = ½ x mass x velocity</a:t>
            </a:r>
            <a:r>
              <a:rPr b="0" lang="en-US" sz="2800" spc="-1" strike="noStrike" baseline="30000">
                <a:solidFill>
                  <a:srgbClr val="66ff33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KE = ½ mv</a:t>
            </a:r>
            <a:r>
              <a:rPr b="0" lang="en-US" sz="2800" spc="-1" strike="noStrike" baseline="30000">
                <a:solidFill>
                  <a:srgbClr val="66ff33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ts (SI) are J (or kg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/s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ravitational Potential Energ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ergy due to an object’s position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when it is within a gravitational fiel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resents the potential work gravity could perform if an object were let g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calar quant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calculate potential energy (P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PE = mass*gravitational acceleration*elev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PE = mg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ts (SI) are J (or kg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/s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ork-Energy Theore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work performe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 object (the net work) is equal to its change in kinetic energ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Times New Roman"/>
              </a:rPr>
              <a:t>W = </a:t>
            </a:r>
            <a:r>
              <a:rPr b="1" lang="en-US" sz="3200" spc="-1" strike="noStrike">
                <a:solidFill>
                  <a:srgbClr val="66ff33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66ff33"/>
                </a:solidFill>
                <a:latin typeface="Times New Roman"/>
              </a:rPr>
              <a:t>K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dividual forces can do work even though no net work is performed on an ob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es this make sense in terms of Newton’s Law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servation of Mechanical Energ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chanical energy in a system remains constant if there is no heat los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due to fric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ergy may change form but the total amount of it stays the same, for examp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object in free-fall gains as much KE as it loses PE during its desc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6T23:00:17Z</dcterms:created>
  <dc:creator>Tony Zable</dc:creator>
  <dc:description/>
  <dc:language>en-US</dc:language>
  <cp:lastModifiedBy>PCC</cp:lastModifiedBy>
  <dcterms:modified xsi:type="dcterms:W3CDTF">2002-08-03T00:19:11Z</dcterms:modified>
  <cp:revision>10</cp:revision>
  <dc:subject/>
  <dc:title>Phy 101: Fundamentals of Physics I</dc:title>
</cp:coreProperties>
</file>