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 101: Fundamentals of Physic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pter 6 Lectur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ne Descart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596-165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5238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inent mathematician &amp; philosop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toward end of Galileo’s car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ed collisions bet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introduced the concept of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ed the Law of Conservation of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7558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ertia in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d by Newton as the 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y of mo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of mass time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ector quantity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oints in the direction of the velo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alculate momentum (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 = mass*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 = m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 (SI) are 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ervation of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“external” force acts on a system its momentum will remain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” forces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cur between objects within the system (and alter the motion of these 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 the motion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amp; momentum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objects withi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lter the momentum of the tot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tement of Newton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 as applied to system of objects instead of an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l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tly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um is con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cal energy is con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tly In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mentum is con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cal energy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nserved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nergy is lost as heat due to de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others (somewhat elastic &amp; somewhat inelas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in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Impulse =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of force times time of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Impulse = 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net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a collision often the forces exerted are not constant in which case:   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Impulse = 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average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s (SI) are 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{same as momentum??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th of the above descriptions mean the same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mentum &amp; Newton’s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447920"/>
            <a:ext cx="7772400" cy="44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’s momentum will remain constant unless it is acted upon by a net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Net force = change in momentum/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Times New Roman"/>
                <a:ea typeface="Times New Roman"/>
              </a:rPr>
              <a:t>net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66ff33"/>
                </a:solidFill>
                <a:latin typeface="Symbol"/>
                <a:ea typeface="Symbol"/>
              </a:rPr>
              <a:t>D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p/t = Impulse/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 object exerts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l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a second object, the second object exerts an equal but oppositely directe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l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the firs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ulses occur in Action-Reactio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ny Zable</dc:creator>
  <dc:description/>
  <dc:language>en-US</dc:language>
  <cp:lastModifiedBy>PCC</cp:lastModifiedBy>
  <cp:revision>0</cp:revision>
  <dc:subject/>
  <dc:title>Phy 101: Fundamentals of Physics I</dc:title>
</cp:coreProperties>
</file>