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5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ton’s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en an object exerts a force on a second object, the second object exerts an equal but oppositely directed force on the firs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always occur in action-reaction pairs (never by themsel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force in an action-reaction pair acts o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orta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the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for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by interactions but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ccff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es the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acceler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each object under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 of Newton’s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ction-Reaction Force Pai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ational Force (w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(normal)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hes/pu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a “system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914400"/>
            <a:ext cx="777240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or collection of objects that are chosen to be observed or treated as separate from the rest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as within an inflated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is anything(s) you wish to observe and distinguish from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ton’s 3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applies to systems as well as individu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quantities that are described by both magnitude &amp;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vectors of the same kind can be added togeth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.e. you can’t add apples and orang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or more vectors can be added together to obtain a “resultant”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resultant” vector represents the combined effects of multiple vectors acting on the same object/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as well as magnitude must be taken into account when adding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vectors are pointed in parallel directions they can be added(subtracted) like scalar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e have been doing this all alo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ties of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600" y="5181480"/>
            <a:ext cx="6400800" cy="609840"/>
            <a:chOff x="1371600" y="5181480"/>
            <a:chExt cx="6400800" cy="609840"/>
          </a:xfrm>
        </p:grpSpPr>
        <p:sp>
          <p:nvSpPr>
            <p:cNvPr id="52" name=""/>
            <p:cNvSpPr/>
            <p:nvPr/>
          </p:nvSpPr>
          <p:spPr>
            <a:xfrm>
              <a:off x="1371600" y="54100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9000" y="54100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410080"/>
              <a:ext cx="21337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67652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373392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6553080" y="53341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743200" y="51814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876920" y="51814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371600" y="6019920"/>
            <a:ext cx="4800600" cy="609480"/>
            <a:chOff x="1371600" y="6019920"/>
            <a:chExt cx="4800600" cy="609480"/>
          </a:xfrm>
        </p:grpSpPr>
        <p:sp>
          <p:nvSpPr>
            <p:cNvPr id="61" name=""/>
            <p:cNvSpPr/>
            <p:nvPr/>
          </p:nvSpPr>
          <p:spPr>
            <a:xfrm>
              <a:off x="1371600" y="624852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29000" y="6248520"/>
              <a:ext cx="7621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6248520"/>
              <a:ext cx="53352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167652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73392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638680" y="6172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743200" y="60199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876920" y="60199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ties of Vector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single vector can be treated as a “resultant” vector and represented as 2 or more “component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dd vectors of this type requires sophisticated mathematics or use of graphical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66680" y="3657600"/>
            <a:ext cx="5943600" cy="1219320"/>
            <a:chOff x="1066680" y="3657600"/>
            <a:chExt cx="5943600" cy="1219320"/>
          </a:xfrm>
        </p:grpSpPr>
        <p:sp>
          <p:nvSpPr>
            <p:cNvPr id="72" name=""/>
            <p:cNvSpPr/>
            <p:nvPr/>
          </p:nvSpPr>
          <p:spPr>
            <a:xfrm>
              <a:off x="2514600" y="44956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800600" y="3657600"/>
              <a:ext cx="0" cy="83808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066680" y="3657600"/>
              <a:ext cx="1067040" cy="83808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819520" y="44197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800600" y="38098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295280" y="36576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3886200" y="39625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2209680" y="3886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43600" y="4495680"/>
              <a:ext cx="1066680" cy="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943600" y="3657600"/>
              <a:ext cx="0" cy="838080"/>
            </a:xfrm>
            <a:prstGeom prst="line">
              <a:avLst/>
            </a:prstGeom>
            <a:ln w="126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248520" y="44197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943600" y="38098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5257800" y="3886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43600" y="3657600"/>
              <a:ext cx="1066680" cy="838080"/>
            </a:xfrm>
            <a:prstGeom prst="line">
              <a:avLst/>
            </a:prstGeom>
            <a:ln w="12600">
              <a:solidFill>
                <a:srgbClr val="ffff00"/>
              </a:solidFill>
              <a:custDash>
                <a:ds d="100000" sp="100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