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4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ton’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880"/>
            <a:ext cx="77724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net force is exerted on an object its velocity wil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ime rate of change of motion (acceleration) is rela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tional to the size of the net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rsely proportional to the mass of the object (i.e. its inert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onship between them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cceleration = net force/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F</a:t>
            </a:r>
            <a:r>
              <a:rPr b="1" lang="en-US" sz="36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net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t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more than one force acts on an object they can be added up to determine their combined effect 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are vectors so their direction is just as important as their magn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 vector (Free Body) diagrams are useful for determining ne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net force acts on an object its mo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il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ght vs.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is the amount of “stuff” i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is a sc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is 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is the same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eight is the effect of gravity on an object’s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eight is a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eight is a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eight depends o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onardo da Vinc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452-15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85800"/>
            <a:ext cx="7772400" cy="51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st, inventor and Self-educated scholar whose work predated Galileo, Kepler, &amp; 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ng his private notebooks included investigation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po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 his notebooks which were lost upon his death for several centuri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earful of theft and plagiarism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work might have changed the course of history but was unknown until after most of his ideas were discovered by other peopl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uch later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48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investigated and described by da Vinci (pre-15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scovered by Guillaume Amonton (in 16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resists direction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Friction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ypes of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ssing force between the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pend directly on the area of contact (think about this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id Friction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of object moving through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sectional of object in direction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Newton’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ll of the forces (and mass) are known you can determine the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cceleration = net force/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acceleration (and mass) or net force is known you can determine an unknown f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unknown force = net force – known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