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hy 101: Fundamentals of Physic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3 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91440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ed is the distance traveled per time inter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=d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ly, the rate of change of position per time 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 = position/time =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where x is the object position at some tim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s are distance units per time 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: 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: km/hr, miles/hr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ed is a scalar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types of sp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aneous (moment to moment),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erage (over a “long time”), v or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62485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bject’s state of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on of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ocity can change when speed is constant.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te of change of velocity per time 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= (change in velocity)/time =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s are velocity units per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: (m/s)/s  or 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: (km/hr)/s, (miles/hr)/s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since velocity is a vector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ed can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on can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speed &amp; direction can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Free 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914400"/>
            <a:ext cx="77724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ir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e time = fall time {to return to initial heigh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leration (due to gravity)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 = 10 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ownw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ance fallen: d = ½ g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hen time, t, is 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ing this information, can you determine the “hang time” of an object tossed in the ai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in terms of its initial vertical sp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hang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in terms of its final ele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hang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ccelerated Motion (In Gener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direction is cons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pe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quals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acceler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imes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 = a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 = v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when starting from res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Dist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veled equals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½ acceler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imes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time squ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d = ½ a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when starting from res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“g” in Free Fall is replaced with “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s to any direction (not just vertical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Aristotle</dc:title>
</cp:coreProperties>
</file>