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2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amples of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ational (w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(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(sti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etic (sli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id (e.g. air resistance, viscos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sion (e.g. force in a 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914400"/>
            <a:ext cx="777240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 Force on an object equals Zer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forces acting 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or more forces acting 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with only 1 force acting on it cannot produc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can be stationa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tic Equilibr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 pencil on the table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can be movin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ynamic Equilibr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 feather gliding to the ground at constan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ized motion as eit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tur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io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ed the universe into 2 regions as Earthly and Heav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arth is the center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arthly matter strives to reach its “natural” place (at the center of the unive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ter can be broken down into one of 4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ristotle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384-322 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124080" y="5257800"/>
            <a:ext cx="3048120" cy="1067040"/>
            <a:chOff x="3124080" y="5257800"/>
            <a:chExt cx="3048120" cy="1067040"/>
          </a:xfrm>
        </p:grpSpPr>
        <p:sp>
          <p:nvSpPr>
            <p:cNvPr id="45" name=""/>
            <p:cNvSpPr txBox="1"/>
            <p:nvPr/>
          </p:nvSpPr>
          <p:spPr>
            <a:xfrm>
              <a:off x="4689360" y="579132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124080" y="579132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4689360" y="525780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3124080" y="525780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4080" y="525780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24080" y="632448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080" y="525780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72200" y="525780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89360" y="525780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24080" y="579132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72200" y="579132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9360" y="632448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icolas Copernicus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473-15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sh Astron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the Sun as the “center of the unive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ory was condemned by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alileo Galilei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564-16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93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ited with establishing the “scientific meth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hypotheses on observation and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to use telescope for astronomical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aters and features on th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ons of Jupiter &amp; the rings of Sa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his observations supported Copernic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vely refuted Aristotelian ideolo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d contradicted Church doct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under “house arrest” as pu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alileo on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red the basic essence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d “pure”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vacuum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“resisted”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e to air, wate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d the concept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perty of objects to resis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d falling (accelerated) motion using inclined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d that objects of different weight fall at sam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alileo’s &amp; Inclined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udy how objects fall, Galileo used inclined pla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measurements we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ined planes slow down the rate of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performing experiment where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a ball down an in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a ball up an in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a ball along a fla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role of inertia in these experi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aac Newton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642-17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invented the “calculus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ong with Gottfried Wilhelm Leibni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his accomplishments include theorie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&amp;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&amp; C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3 Laws of Motion &amp; Law of Universal Gra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ffff66"/>
                </a:solidFill>
                <a:latin typeface="Times New Roman"/>
                <a:ea typeface="Times New Roman"/>
              </a:rPr>
              <a:t>st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are For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shes or pulls on things that cause changes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: newtons (or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: pounds (lb), d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fo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(involves direct touching/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contact (occurs without direct contact, acros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