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Phy 101: Fundamentals of Physic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60560" y="3886200"/>
            <a:ext cx="7068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0: Projectiles &amp; Satellit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304920"/>
            <a:ext cx="5257800" cy="11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Johannes Kepler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(1571-16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67652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an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ematical con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to the development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d the first proof of how logarithm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ed 2 regular polyhe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ronomy con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ed the most exact astronomical tables of his time (using stolen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d that the planets move in elliptical orbits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ed the term “satellite” to describe the moons of Jupiter observed by Gali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4335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Projectile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1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dimension motion that occurs at the surface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motion is treated like “free fall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motion i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izontal &amp; vertical components of motion occur independent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ball that rolls off a flat table-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705200"/>
            <a:ext cx="7873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Upwardly Launched Projec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1520" y="2438280"/>
            <a:ext cx="8940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Satellite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6120" y="1052640"/>
            <a:ext cx="7496280" cy="44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ss a ball horizont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alls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ss the ball ha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alls further away from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ss the ball even ha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alls still further away from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, imagine tossing a ball so h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falls it follows the curvature of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referred to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atellit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objects fa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never reaches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mains in constant free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11960" y="3886200"/>
            <a:ext cx="2298600" cy="2749680"/>
            <a:chOff x="6411960" y="3886200"/>
            <a:chExt cx="2298600" cy="2749680"/>
          </a:xfrm>
        </p:grpSpPr>
        <p:sp>
          <p:nvSpPr>
            <p:cNvPr id="52" name=""/>
            <p:cNvSpPr/>
            <p:nvPr/>
          </p:nvSpPr>
          <p:spPr>
            <a:xfrm>
              <a:off x="6602400" y="4518000"/>
              <a:ext cx="1917720" cy="1841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78640" y="4203720"/>
              <a:ext cx="155520" cy="1270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11960" y="4260960"/>
              <a:ext cx="2298600" cy="2374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28040" y="427680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647120" y="388620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545080" y="1146240"/>
            <a:ext cx="2981520" cy="660240"/>
            <a:chOff x="5545080" y="1146240"/>
            <a:chExt cx="2981520" cy="660240"/>
          </a:xfrm>
        </p:grpSpPr>
        <p:sp>
          <p:nvSpPr>
            <p:cNvPr id="58" name=""/>
            <p:cNvSpPr/>
            <p:nvPr/>
          </p:nvSpPr>
          <p:spPr>
            <a:xfrm>
              <a:off x="5545080" y="1146240"/>
              <a:ext cx="249120" cy="266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19760" y="1274760"/>
              <a:ext cx="763920" cy="475200"/>
            </a:xfrm>
            <a:custGeom>
              <a:avLst/>
              <a:gdLst/>
              <a:ahLst/>
              <a:rect l="0" t="0" r="r" b="b"/>
              <a:pathLst>
                <a:path fill="none" w="2122" h="1320">
                  <a:moveTo>
                    <a:pt x="0" y="17"/>
                  </a:moveTo>
                  <a:lnTo>
                    <a:pt x="176" y="8"/>
                  </a:lnTo>
                  <a:lnTo>
                    <a:pt x="349" y="0"/>
                  </a:lnTo>
                  <a:lnTo>
                    <a:pt x="437" y="0"/>
                  </a:lnTo>
                  <a:lnTo>
                    <a:pt x="521" y="4"/>
                  </a:lnTo>
                  <a:lnTo>
                    <a:pt x="600" y="4"/>
                  </a:lnTo>
                  <a:lnTo>
                    <a:pt x="684" y="13"/>
                  </a:lnTo>
                  <a:lnTo>
                    <a:pt x="768" y="22"/>
                  </a:lnTo>
                  <a:lnTo>
                    <a:pt x="848" y="35"/>
                  </a:lnTo>
                  <a:lnTo>
                    <a:pt x="923" y="48"/>
                  </a:lnTo>
                  <a:lnTo>
                    <a:pt x="1003" y="66"/>
                  </a:lnTo>
                  <a:lnTo>
                    <a:pt x="1074" y="88"/>
                  </a:lnTo>
                  <a:lnTo>
                    <a:pt x="1149" y="119"/>
                  </a:lnTo>
                  <a:lnTo>
                    <a:pt x="1220" y="154"/>
                  </a:lnTo>
                  <a:lnTo>
                    <a:pt x="1286" y="190"/>
                  </a:lnTo>
                  <a:lnTo>
                    <a:pt x="1322" y="212"/>
                  </a:lnTo>
                  <a:lnTo>
                    <a:pt x="1353" y="238"/>
                  </a:lnTo>
                  <a:lnTo>
                    <a:pt x="1384" y="265"/>
                  </a:lnTo>
                  <a:lnTo>
                    <a:pt x="1419" y="296"/>
                  </a:lnTo>
                  <a:lnTo>
                    <a:pt x="1454" y="327"/>
                  </a:lnTo>
                  <a:lnTo>
                    <a:pt x="1485" y="363"/>
                  </a:lnTo>
                  <a:lnTo>
                    <a:pt x="1547" y="434"/>
                  </a:lnTo>
                  <a:lnTo>
                    <a:pt x="1613" y="518"/>
                  </a:lnTo>
                  <a:lnTo>
                    <a:pt x="1675" y="602"/>
                  </a:lnTo>
                  <a:lnTo>
                    <a:pt x="1733" y="691"/>
                  </a:lnTo>
                  <a:lnTo>
                    <a:pt x="1790" y="779"/>
                  </a:lnTo>
                  <a:lnTo>
                    <a:pt x="1843" y="868"/>
                  </a:lnTo>
                  <a:lnTo>
                    <a:pt x="1896" y="952"/>
                  </a:lnTo>
                  <a:lnTo>
                    <a:pt x="1945" y="1032"/>
                  </a:lnTo>
                  <a:lnTo>
                    <a:pt x="1989" y="1108"/>
                  </a:lnTo>
                  <a:lnTo>
                    <a:pt x="2011" y="1143"/>
                  </a:lnTo>
                  <a:lnTo>
                    <a:pt x="2029" y="1178"/>
                  </a:lnTo>
                  <a:lnTo>
                    <a:pt x="2046" y="1209"/>
                  </a:lnTo>
                  <a:lnTo>
                    <a:pt x="2064" y="1236"/>
                  </a:lnTo>
                  <a:lnTo>
                    <a:pt x="2082" y="1262"/>
                  </a:lnTo>
                  <a:lnTo>
                    <a:pt x="2095" y="1285"/>
                  </a:lnTo>
                  <a:lnTo>
                    <a:pt x="2108" y="1302"/>
                  </a:lnTo>
                  <a:lnTo>
                    <a:pt x="2122" y="1320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53080" y="1806480"/>
              <a:ext cx="28735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532480" y="2830680"/>
            <a:ext cx="3016080" cy="623880"/>
            <a:chOff x="5532480" y="2830680"/>
            <a:chExt cx="3016080" cy="623880"/>
          </a:xfrm>
        </p:grpSpPr>
        <p:sp>
          <p:nvSpPr>
            <p:cNvPr id="62" name=""/>
            <p:cNvSpPr/>
            <p:nvPr/>
          </p:nvSpPr>
          <p:spPr>
            <a:xfrm>
              <a:off x="5532480" y="2830680"/>
              <a:ext cx="277920" cy="2491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0760" y="2975040"/>
              <a:ext cx="2372040" cy="444960"/>
            </a:xfrm>
            <a:custGeom>
              <a:avLst/>
              <a:gdLst/>
              <a:ahLst/>
              <a:rect l="0" t="0" r="r" b="b"/>
              <a:pathLst>
                <a:path fill="none" w="6589" h="1236">
                  <a:moveTo>
                    <a:pt x="0" y="13"/>
                  </a:moveTo>
                  <a:lnTo>
                    <a:pt x="538" y="4"/>
                  </a:lnTo>
                  <a:lnTo>
                    <a:pt x="1076" y="0"/>
                  </a:lnTo>
                  <a:lnTo>
                    <a:pt x="1610" y="0"/>
                  </a:lnTo>
                  <a:lnTo>
                    <a:pt x="1866" y="4"/>
                  </a:lnTo>
                  <a:lnTo>
                    <a:pt x="2131" y="13"/>
                  </a:lnTo>
                  <a:lnTo>
                    <a:pt x="2382" y="22"/>
                  </a:lnTo>
                  <a:lnTo>
                    <a:pt x="2625" y="30"/>
                  </a:lnTo>
                  <a:lnTo>
                    <a:pt x="2868" y="44"/>
                  </a:lnTo>
                  <a:lnTo>
                    <a:pt x="3110" y="61"/>
                  </a:lnTo>
                  <a:lnTo>
                    <a:pt x="3341" y="84"/>
                  </a:lnTo>
                  <a:lnTo>
                    <a:pt x="3562" y="110"/>
                  </a:lnTo>
                  <a:lnTo>
                    <a:pt x="3773" y="141"/>
                  </a:lnTo>
                  <a:lnTo>
                    <a:pt x="3985" y="177"/>
                  </a:lnTo>
                  <a:lnTo>
                    <a:pt x="4091" y="199"/>
                  </a:lnTo>
                  <a:lnTo>
                    <a:pt x="4197" y="221"/>
                  </a:lnTo>
                  <a:lnTo>
                    <a:pt x="4290" y="247"/>
                  </a:lnTo>
                  <a:lnTo>
                    <a:pt x="4396" y="274"/>
                  </a:lnTo>
                  <a:lnTo>
                    <a:pt x="4501" y="305"/>
                  </a:lnTo>
                  <a:lnTo>
                    <a:pt x="4599" y="337"/>
                  </a:lnTo>
                  <a:lnTo>
                    <a:pt x="4797" y="408"/>
                  </a:lnTo>
                  <a:lnTo>
                    <a:pt x="4996" y="483"/>
                  </a:lnTo>
                  <a:lnTo>
                    <a:pt x="5185" y="563"/>
                  </a:lnTo>
                  <a:lnTo>
                    <a:pt x="5375" y="642"/>
                  </a:lnTo>
                  <a:lnTo>
                    <a:pt x="5556" y="726"/>
                  </a:lnTo>
                  <a:lnTo>
                    <a:pt x="5724" y="810"/>
                  </a:lnTo>
                  <a:lnTo>
                    <a:pt x="5883" y="890"/>
                  </a:lnTo>
                  <a:lnTo>
                    <a:pt x="6028" y="966"/>
                  </a:lnTo>
                  <a:lnTo>
                    <a:pt x="6165" y="1037"/>
                  </a:lnTo>
                  <a:lnTo>
                    <a:pt x="6240" y="1072"/>
                  </a:lnTo>
                  <a:lnTo>
                    <a:pt x="6293" y="1103"/>
                  </a:lnTo>
                  <a:lnTo>
                    <a:pt x="6355" y="1130"/>
                  </a:lnTo>
                  <a:lnTo>
                    <a:pt x="6408" y="1157"/>
                  </a:lnTo>
                  <a:lnTo>
                    <a:pt x="6461" y="1183"/>
                  </a:lnTo>
                  <a:lnTo>
                    <a:pt x="6505" y="1201"/>
                  </a:lnTo>
                  <a:lnTo>
                    <a:pt x="6544" y="1219"/>
                  </a:lnTo>
                  <a:lnTo>
                    <a:pt x="6589" y="1236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75400" y="3454560"/>
              <a:ext cx="2873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524560" y="1936800"/>
            <a:ext cx="3031920" cy="609480"/>
            <a:chOff x="5524560" y="1936800"/>
            <a:chExt cx="3031920" cy="609480"/>
          </a:xfrm>
        </p:grpSpPr>
        <p:sp>
          <p:nvSpPr>
            <p:cNvPr id="66" name=""/>
            <p:cNvSpPr/>
            <p:nvPr/>
          </p:nvSpPr>
          <p:spPr>
            <a:xfrm>
              <a:off x="5524560" y="1936800"/>
              <a:ext cx="262080" cy="254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15080" y="2058840"/>
              <a:ext cx="1446480" cy="452880"/>
            </a:xfrm>
            <a:custGeom>
              <a:avLst/>
              <a:gdLst/>
              <a:ahLst/>
              <a:rect l="0" t="0" r="r" b="b"/>
              <a:pathLst>
                <a:path fill="none" w="4018" h="1258">
                  <a:moveTo>
                    <a:pt x="0" y="13"/>
                  </a:moveTo>
                  <a:lnTo>
                    <a:pt x="326" y="4"/>
                  </a:lnTo>
                  <a:lnTo>
                    <a:pt x="657" y="0"/>
                  </a:lnTo>
                  <a:lnTo>
                    <a:pt x="980" y="4"/>
                  </a:lnTo>
                  <a:lnTo>
                    <a:pt x="1138" y="4"/>
                  </a:lnTo>
                  <a:lnTo>
                    <a:pt x="1297" y="8"/>
                  </a:lnTo>
                  <a:lnTo>
                    <a:pt x="1452" y="22"/>
                  </a:lnTo>
                  <a:lnTo>
                    <a:pt x="1602" y="30"/>
                  </a:lnTo>
                  <a:lnTo>
                    <a:pt x="1748" y="44"/>
                  </a:lnTo>
                  <a:lnTo>
                    <a:pt x="1898" y="61"/>
                  </a:lnTo>
                  <a:lnTo>
                    <a:pt x="2040" y="88"/>
                  </a:lnTo>
                  <a:lnTo>
                    <a:pt x="2177" y="115"/>
                  </a:lnTo>
                  <a:lnTo>
                    <a:pt x="2309" y="146"/>
                  </a:lnTo>
                  <a:lnTo>
                    <a:pt x="2437" y="181"/>
                  </a:lnTo>
                  <a:lnTo>
                    <a:pt x="2504" y="203"/>
                  </a:lnTo>
                  <a:lnTo>
                    <a:pt x="2561" y="225"/>
                  </a:lnTo>
                  <a:lnTo>
                    <a:pt x="2627" y="252"/>
                  </a:lnTo>
                  <a:lnTo>
                    <a:pt x="2689" y="278"/>
                  </a:lnTo>
                  <a:lnTo>
                    <a:pt x="2746" y="309"/>
                  </a:lnTo>
                  <a:lnTo>
                    <a:pt x="2813" y="346"/>
                  </a:lnTo>
                  <a:lnTo>
                    <a:pt x="2936" y="416"/>
                  </a:lnTo>
                  <a:lnTo>
                    <a:pt x="3051" y="492"/>
                  </a:lnTo>
                  <a:lnTo>
                    <a:pt x="3166" y="571"/>
                  </a:lnTo>
                  <a:lnTo>
                    <a:pt x="3281" y="660"/>
                  </a:lnTo>
                  <a:lnTo>
                    <a:pt x="3391" y="744"/>
                  </a:lnTo>
                  <a:lnTo>
                    <a:pt x="3492" y="824"/>
                  </a:lnTo>
                  <a:lnTo>
                    <a:pt x="3590" y="908"/>
                  </a:lnTo>
                  <a:lnTo>
                    <a:pt x="3682" y="984"/>
                  </a:lnTo>
                  <a:lnTo>
                    <a:pt x="3766" y="1055"/>
                  </a:lnTo>
                  <a:lnTo>
                    <a:pt x="3801" y="1090"/>
                  </a:lnTo>
                  <a:lnTo>
                    <a:pt x="3841" y="1121"/>
                  </a:lnTo>
                  <a:lnTo>
                    <a:pt x="3872" y="1152"/>
                  </a:lnTo>
                  <a:lnTo>
                    <a:pt x="3907" y="1179"/>
                  </a:lnTo>
                  <a:lnTo>
                    <a:pt x="3938" y="1201"/>
                  </a:lnTo>
                  <a:lnTo>
                    <a:pt x="3965" y="1227"/>
                  </a:lnTo>
                  <a:lnTo>
                    <a:pt x="3991" y="1245"/>
                  </a:lnTo>
                  <a:lnTo>
                    <a:pt x="4018" y="1258"/>
                  </a:lnTo>
                </a:path>
              </a:pathLst>
            </a:custGeom>
            <a:ln w="12600">
              <a:solidFill>
                <a:srgbClr val="ffffff"/>
              </a:solidFill>
              <a:custDash>
                <a:ds d="100000" sp="100000"/>
              </a:custDash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83320" y="2546280"/>
              <a:ext cx="2873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Elliptical Or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595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in projectile motion is moving so fast that its fall does not follow the curvature of the earth it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shoot a circular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 an elliptical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ed of the object will vary while in elliptical or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r to the earth it will mov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ther from the earth it will move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Kepler’s Laws of Planetary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9240" y="1371600"/>
            <a:ext cx="892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pler derived a set of generalized statements describing the motion of the planets, based on the observations of Tycho Bra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statements are know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epler’s Law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ach planet moves in an elliptical orbit with the sun at one focus of the el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 line from the sun to any planet sweeps equal areas of space in equal tim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 squares of times of revolutions (periods) of the planets are proportional to the cubes of their average distances from the s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~ R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{for all planet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Verdana"/>
              </a:rPr>
              <a:t>Energy Conservation &amp; Satellit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objects maintain satellite motion their energy is conser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E + KE = const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rue whether the orbit is circular or ellip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 orbit: v and KE will remain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iptical orbit: v and KE will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satellite is closest to the planet (PE is lowest) its speed (&amp; KE) is its fastest value for the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satellite is farthest from the planet (PE is highest) its speed (&amp; KE) is at its lowest value for the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both cases, KE + PE remains the sam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Verdana"/>
              </a:rPr>
              <a:t>Escape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1520" y="1038240"/>
            <a:ext cx="8396280" cy="50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ed a hurled object must exceed to escape the gravitational influence of a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escape sp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scap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planet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d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efer to Ch 9 for details on gravitational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scape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2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/d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fast must an object be moving to escape the earth’s gra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2800" spc="-1" strike="noStrike" u="sng">
                <a:solidFill>
                  <a:srgbClr val="ffccff"/>
                </a:solidFill>
                <a:uFillTx/>
                <a:latin typeface="Times New Roman"/>
                <a:ea typeface="Times New Roman"/>
              </a:rPr>
              <a:t>Bottomline: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Object must have more </a:t>
            </a:r>
            <a:r>
              <a:rPr b="1" i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KE</a:t>
            </a:r>
            <a:r>
              <a:rPr b="0" i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than </a:t>
            </a:r>
            <a:r>
              <a:rPr b="1" i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PE</a:t>
            </a:r>
            <a:r>
              <a:rPr b="0" i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to escape the gravitational influence (field) of a plan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