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2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f001cc"/>
                </a:gs>
                <a:gs pos="50000">
                  <a:srgbClr val="ebebeb"/>
                </a:gs>
                <a:gs pos="100000">
                  <a:srgbClr val="f001c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f00199"/>
                </a:gs>
                <a:gs pos="50000">
                  <a:srgbClr val="cecece"/>
                </a:gs>
                <a:gs pos="100000">
                  <a:srgbClr val="f00199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hy 101: Fundamentals of Physic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hapter 1 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nits &amp;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en a measurement has a specific unit (i.e. 25 cm) it can can be expressed in a different unit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ithou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changing its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25 cm is the same as 0.25 m or even 250 m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choice of unit is somewhat arbitrary, what is important is the observation it re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verting between Unit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To convert from one unit to an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dentify the relationship between the units (e.g. 100 cm = 1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rite out the starting measurement and multiply it by a quantity that will yield the desired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25 cm (         ) = _____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number in the “( )” is called the “conversion fac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cientific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-53352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1.  Recogniz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ke observ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sk a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2.  Make an educated guess - 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50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edict the consequences of the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3.  Perform experiments to test the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oes experiment support or dispute hypo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04840" indent="-457200">
              <a:lnSpc>
                <a:spcPct val="9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Formulate the simplest rule that organizes the 3 main ingredients - develop a the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cientific At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ll hypotheses must be testable (i.e. there must be a way to prove them wrong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cientific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 “Light is bent by grav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on-Scientific: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“Intelligent life exists on tother planets elsewhere in the univer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What is Phys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hysics is the most basic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goal of Physics is to explain on a fundamental level how our environment behaves the way it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ake Home Message of Phys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ll of nature can be described by a few “simple” rules (or La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e Laws of Physics underlie the motion and behavior of everything around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amples of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676520"/>
            <a:ext cx="777240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hemist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e behavior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e energy exchanges that occur during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io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e mechanisms for all processes that support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fine the structural “limitations” on such things as the size of cells, how large animals can ultimately become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Geology &amp; Meteo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arthquakes &amp; Volcanic eru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ornados, El Nino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amples of Physic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Tech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ockets and space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icrowave ovens, television &amp;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D-players and laser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x-ray, ultrasonic &amp; magnetic resonance methods used in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d on and on and 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Early Investig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Eratostha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easured” the size of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istarc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easured” the size of the Moon &amp;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easured” the distance from the Earth to the 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easured” the distance from the Earth to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isto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mpiled all existing knowledge of the physic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veloped the 1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comprehensive model of “physic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ypes of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scriptive/subjective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tail qualities such as color, tast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xample:  “It is really warm outside toda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scribed by a number and a unit (an accepted reference sc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lso known a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xample: “The temperature is 8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 outside toda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Described with a value (number) &amp; a unit (reference sc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oth the value and unit are of equal importance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The value indicates a measurement’s size (based on its u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The unit indicates a measurement’s relationship to other physical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Tony Zable</cp:lastModifiedBy>
  <cp:revision>0</cp:revision>
  <dc:subject/>
  <dc:title>What is Physics</dc:title>
</cp:coreProperties>
</file>