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2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A22A07E-37F0-4543-9C01-3C85C054B5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3A752BE-009C-4116-806A-63ADA1431D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9E5CB77-6A44-41E8-B8C6-4A9339D4EF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B2FAB16-C492-4874-92A4-EE8005279C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67922CE-6BDA-4278-8327-7187B03161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AF947DE-36DE-410F-A2AE-83D3661F9F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03EE386-D62C-4289-A9C1-FF13C583D0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33259DD-44CE-4AD1-BFE7-8783BFDA96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6207E01-C47A-42D3-841D-8C553553ED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3F62ED6-8EA7-4D49-8821-FDBD20C195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8BFD074-12FB-4FB3-A405-F61E5D88E5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B222924-5EAD-40B3-B60E-D29EF20A3D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40E10FD-B748-4683-9399-EB2ACF25B6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396758C-A0E6-4EAF-8ACC-FAC5B097AF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6D85191-8481-428C-80FB-04CA2EADF7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E752F81-9E13-46BD-9EF1-90BFE6C94E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600723B-C14F-490F-BB7B-E00BC570B7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4B2AD53-D3A6-4358-AE91-0226075FD9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22E56E9-43B7-453A-AE65-9BD08C0F74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F52198B-1375-45D8-865D-11E13B87AE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436C8BD-565D-41DA-BF68-24AA0AFE11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3CF0C75-5028-4D6E-AE3A-05E1ED0D2C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3E1FB23-4224-47AE-8948-0095DD00B0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CA06AB9-A585-47D0-9E01-573F4DB506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ACE33E2-BC3F-47E4-B26A-8D4F97A7AB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965DCAC-1043-404F-B734-231A50A5F1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0B23838-06C5-46C9-AFCA-646B8E8D2E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1A1A51B-1B8F-4ECE-A94D-1EBB8ED3FA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1CC7B9E-D7F8-4D46-B544-F2FBE66B0D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945C69C-9811-4433-AAB7-FC7CB9907C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B62345B-0F0B-46AD-AE63-EB30B1CBD7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E8CECEC-0D21-4D2B-B344-E184EB859B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98EE084-E32A-4C82-B568-C8EEA714EC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8B5B450-293B-4AC9-A53B-B4CCEAAAC5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B222FFC-E741-4E9D-8C7E-186BE76E3C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7BA1665-A12F-4C8D-8534-2DBEE220C0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52F56DF-2C68-42DD-9D3F-D0E8A0BA2A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50FA12D-920C-4DAD-8BB8-DFD6210CF7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B84B5E9-CA14-42A0-98DE-22BE628385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8B1ACB0-FB0C-4672-BEDC-3A7E6D130E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36C7CEF-AA44-4013-86B8-E5E1D58627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BFD0264-29A4-4FBD-A973-D15CDD2041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CB82866-1A3B-4592-8C5B-A49F34EE22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FA1BEA4-07AC-4088-802E-543666D9F9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16CDCDC-4940-4C8D-84DC-117DDE797A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56D4DB1-92AE-4258-B073-2682298491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5596BBD-7F15-40F2-B589-F5C08314BA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69C8C83-2D34-4F0E-A6C7-CC3A8B5E3B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2909085-8B60-4989-8EA0-4D2210DEDA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E37D297-0953-4C9E-8562-4E54562319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1F8D5E-4E25-42DB-ABED-E278849CE0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98C1EF4-156B-47E8-939F-7F56381722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E8E3574-53C7-43B7-8199-D097566432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B62A5D2-5315-4E9A-8883-11A9902B98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887AF75-CADB-43FE-8CAE-CC8B87450E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EDE69F3-628A-4E67-B0B8-3BC8F0845F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58656C3-1AA9-48BA-BBFC-E35161ED71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3BB55EE-A0DD-4F50-97B8-889063E46A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CB1B2BF-B10F-4437-874E-B67B7AD55B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C536982-1612-4EA6-B812-5EDB96F460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B037998-0006-4681-8BD6-2F1F573E1C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CDB2658-D25B-427B-A903-F61855B669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08B55A2-9734-44C1-B1C9-67526B0104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0C20D28-AB13-4DE5-A69E-76F05533CC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5FF56B4-F184-45AD-BE07-551F0FD7C2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DC1EDC9-2557-4E45-9D85-64F1D61C29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B9A9D82-A082-4B5B-B8BE-E29EB31D1A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42B8C41-E25F-4BA5-9A3D-6E00F17807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2F7CC2B-39F3-48A4-B93E-CD74D3C999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491DFDF-C739-45DF-ABFA-0A82A598C6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9138EA0-30F4-4CF9-9C08-E751DB453C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C68E51E-40E3-4FBF-B31B-44311794F2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5073514-35EC-4E8B-8C00-7B8DE0192B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51C2572-D0B5-4D1B-AE28-89AA08C02D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due to collisions must be great enough to overcome the energy barrier for existing chemical bonds.  The magnitude of this energy is referred to as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41EBD32-5D73-417D-BC4D-4032E59252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22EEDB3-1FEA-4E7E-892B-0CB2ED2A43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E18C56E-45AB-4901-A851-BEF176B5EC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9076CB6-67AD-4BF7-BB36-7EE55F22B8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2CEBF81-3919-4162-B5BF-C7114C6112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n the dry marker board the type of reaction that may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5D11B54-5425-40CE-A953-F950550979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55A28A5-8667-40DB-BB36-A2848CA8A8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0A2463-7DE7-4E8A-95A6-ABFA03518A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276C3DE-0146-4207-A3E0-70DCCA8199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7E12158-C43E-4280-AFDE-0006D7947C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529D168-48B3-457B-BFDE-39ED092BE9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1547E26-10B2-4C0B-9827-69FEC0A303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5876A90-A99B-4272-B476-84BD38C99F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273EC72-8497-47DF-8997-1F9BD763DB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937FEB5-E0EF-4BF6-A7A8-299127324A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9515F86-9C0A-4FA8-BDF5-CE8417DE1E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DB5CD2F-2648-48B4-9A17-7F881F7869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33474DE-BBA1-43A2-B3BB-D96FDB065D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7C00A86-BB1C-4FB8-979B-D69B974B54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D9A-FB4B-46FF-84DD-A4EA956D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737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3DA-7724-4DBD-832B-595D43C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92E-D4CC-4F06-8A5B-7348AC70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737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5737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5737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358-FE44-448A-81C9-0DE5BECA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C0C-D205-4BFE-89A1-3B7D87DB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A91-9E46-4F32-8969-E2EB2551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98C-A863-42D9-8DB2-B08CFFC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33C-9990-435D-B3D3-0C73720C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A78-3E1E-4C68-ABA6-8B2C7727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D00-2FDF-4AF8-A65A-FB7F357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7E5-D391-4B66-970E-3430C284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737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0D7-2376-48D8-8CBC-E49C151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CAA-5365-4D44-A9CC-86B45D78A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: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cientific Not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Used to Express Very Large or Very Small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Powers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pare Numbers Written in Scientific 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pare Exponents of 10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order of magnitu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Compare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nother Kind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xidation-Reduction Reac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actions between two non-metals are also oxidation-reduc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reaction in which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reactant or a product will be an oxidation-reduc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2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2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8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8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involve solid formation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ipit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involve water formation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id-ba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precipitation reactions and acid-base reactions involve compounds exchanging ions, ion exchange reactions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 displacement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5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0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ouble Displacement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36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ionic compounds exchang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 (aq) +  AB (aq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B + 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will not occur unless one of the products either (1) precipitates or (2) is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that involve electron transfer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xidation-reduc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+ Non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 reactant o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that occur in aqueous solution where one of the products is a gas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s forming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HCl(aq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aCl(aq) +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9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9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involve one ion being transferred from one cation to another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 replacemen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 +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Zn(s) + 2 HCl(aq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Zn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aq) +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) + 2 Al(s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Fe(s) +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6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1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1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ther 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in which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) is reacted with a carbon compound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us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reactions release a lot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reactions are a subclass of Oxidation-Reduc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of carbon compounds produces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of compounds that contain hydrogen produc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5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3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4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3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3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8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3" dur="5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8" dur="5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ther 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in which chemicals combine to mak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produ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thesis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+ Nonmetal reactions can be classified as Synthesis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Na(s) + Cl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NaCl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of Metals or Nonmetals with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classified as Synthesis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N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wo types of Synthesis Reactions are also subclasses of Oxidation-Reduc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5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0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5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0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5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ther 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in whic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reacta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s down into smaller molecules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omposi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initiated by addition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of electric current or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e of a Synthesis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NaCl(l)  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2 Na(l) + 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80200" y="4724280"/>
            <a:ext cx="92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7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2" dur="5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ctions 8.1 to 8.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madeo Avogadro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1743-1794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 lawyer turned chem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ontributions includ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difference between atoms &amp; molec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xygen &amp; nitrogen exist as molecules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amp; 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ciled the work of Dalton &amp; Guy-Luss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ing Avogadro’s Principl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qual volumes of all gases at the same temperature and pressure contain the same number of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determine Avogadro’s number nor the mo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se concepts came l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gadro is honored because the molar volume of all gases should be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Avogadro’s work was acknowledged after he died, by Stanislao Cannizar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6959520" y="0"/>
            <a:ext cx="19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riting Numbers in Scientific Notation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 the Decimal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decimal point to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non-zero digit in the larges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number is now between 1 and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y the new number by 10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number of places you moved the decimal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he sign on the exponent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cimal point was moved left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cimal point was moved right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cimal point was not moved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Mo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ing unit (similar to the doz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unit used to describe large quantities such as number of ato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1 mole = 6.022 x 1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known as Avogadro’s numb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hip between the mole &amp; the Periodic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tomic mass is the quantit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 gram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1 mole of that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ts of atomic mass are grams/m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is used by chemists as a way of “counting” number of atoms/molecules of a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 cal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Unicode MS"/>
              </a:rPr>
              <a:t>Got mole problems? 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all Avogadro at 602-102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335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nswer: molasses (a mole of as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" y="2438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Unicode MS"/>
              </a:rPr>
              <a:t>What do you get if you have Avogadro's number of donkey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ar Mas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n grams of 1 mole of a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both atoms &amp;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(at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Na has a mass of 22.99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Cl has a mass of 35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Cl</a:t>
            </a:r>
            <a:r>
              <a:rPr b="0" lang="en-US" sz="24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has a mass of 70.90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unds (molec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NaCl has a mass of 58.44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Mass of Na (22.99 g) + Mass of Cl (35.45 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CO</a:t>
            </a:r>
            <a:r>
              <a:rPr b="0" lang="en-US" sz="24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has a mass of 44.01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Mass of C (12.01 g) + 2 x Mass of O (16.00 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e Calculations (1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/Molecules to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# of atoms (or molecules) by Avogadro’s 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moles are 1.0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to Atoms/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 # of atoms (or molecules) by Avogadro’s 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molecules are in 2.5 mo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057400" y="2514600"/>
          <a:ext cx="57913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14600"/>
                    <a:ext cx="57913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1633680" y="5105520"/>
          <a:ext cx="64864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5105520"/>
                    <a:ext cx="6486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e Calculations (2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to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e # of moles by 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grams in 2.5 moles of carb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s to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the mass in grams by 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moles are in 2.5 grams of lithiu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389240" y="2514600"/>
          <a:ext cx="712764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2514600"/>
                    <a:ext cx="7127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1076400" y="5105520"/>
          <a:ext cx="75992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105520"/>
                    <a:ext cx="75992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ercent Composi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240" y="115560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age of each element in a compound (by ma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termined fr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rmula of the compound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perimental mass analysis of the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percentages may not always total to 100% due to ro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2057400" y="3510000"/>
          <a:ext cx="533412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10000"/>
                    <a:ext cx="533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4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9" dur="500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4" dur="500"/>
                                        <p:tgtEl>
                                          <p:spTgt spid="7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ercent Composition Calcul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% Composition from the chemical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molar mass of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e molar mass of the element of interest by the number of atoms per molecule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this value by the molar mass of the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The % Composition of sodium in table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 of NaCl is 58.44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1 atom of Na in each NaCl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tomic mass of Na is 22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349200" y="3200400"/>
          <a:ext cx="852012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3200400"/>
                    <a:ext cx="85201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209600" y="5867280"/>
          <a:ext cx="6562800" cy="8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9600" y="5867280"/>
                    <a:ext cx="65628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ercent Composition Calcul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the following % Composition calcul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% composition of carbon in carbon mon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% composition of oxygen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% composition of chlorine in sodium hypochlo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9: More on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 (Sections 9.1 to 9.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hat do they tell us?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9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perly written chemical equation will provide the following inform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reactants &amp; products involved in the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ysical state of all reactants &amp;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any catalysts involved in the chemical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ve quantity of all reactants &amp;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riting Numbers in Standard For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10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+ the decimal point will move to th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– the decimal point will move to the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value of the exponent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s the number of places to move the decimal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decimal point and rewrite 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equation provides the relationship between the relative numbers of reacting molecules and produc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molecules react with 1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to produce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1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1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information given is rela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0 CO molecules react with 100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200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billion CO molecules react with 1 billion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20 billion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moles CO molecules react with 1 mole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2 moles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 moles CO molecules react with 6 moles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12 moles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3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8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oefficients in the balanced chemical equation shows the molecules and mole ratio of the reactants an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les can be converted to masses, we can determine the mass ratio of the reactants and products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5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moles CO = 1mole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2 moles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 mole of CO = 28.01 g, 1 mol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2.00 g, and 1 mol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44.01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(28.01) g CO = 1(32.00) g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2(44.01) g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2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7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2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balanced equ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coefficients to find the mole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moles CO = 1 mol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2 moles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xample: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8" name=""/>
          <p:cNvSpPr/>
          <p:nvPr/>
        </p:nvSpPr>
        <p:spPr>
          <a:xfrm>
            <a:off x="30240" y="685800"/>
            <a:ext cx="91137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Number of Moles of Carbon Monoxide required to react with 3.2 moles Oxygen, and determine the moles of Carbon Dioxide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9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4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04560" y="2437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dimensional an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028880" y="3432240"/>
                <a:ext cx="72133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 moles O</m:t>
                    </m:r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moles 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e O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 moles C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990720" y="4668840"/>
                <a:ext cx="72514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 moles O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moles CO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e O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 moles CO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73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xample (cont.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3" name=""/>
          <p:cNvSpPr/>
          <p:nvPr/>
        </p:nvSpPr>
        <p:spPr>
          <a:xfrm>
            <a:off x="34920" y="833400"/>
            <a:ext cx="91137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Number of Moles of Carbon Monox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quired to react with 3.2 moles Oxyg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determine the moles of Carbon Dioxide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14: Solutions &amp;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 are single phase homogenous mix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 consist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nt: the component in largest qua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(s): the othe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lu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idered to be dissolved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l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olution has not reached its limit of dissolved solute it is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saturated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olution has reached its limit of dissolved solute and any added solute will not dissolve, it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aturated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oncentr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asure of how much of a substance (solute) is dissolved in another substance (solv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[concentration]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usages of concent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(m/v) conc. (units are grams/L, grams/mL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(v/v) conc. (unit-less, often % is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arity (units are moles/L or 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981080" y="3200400"/>
                <a:ext cx="5334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n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solute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oun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e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oun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ass Percent (%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of a solute dissolved in a solvent (in grams per unit gram of s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mass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-373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mass of solute (in grams) by the total mass of solution (in grams) and multiply this ration by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What is the mass percent of 30.0 grams of NaCl in a 150.0 gram sol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) How much C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 250.0 grams of solution where the mass percent of C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30.0%?  (b) How much C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 this solu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438280" y="3048120"/>
                <a:ext cx="44593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ion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1600200" y="4952880"/>
                <a:ext cx="5961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ion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asurement System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standard unit systems we will focu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United States Customary System (US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erly the British system of measu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in US, Albania, and a couple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 units are defined but seem arbitrary (e.g. there are 12 inches in 1 f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Me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by most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in France during Napoleon’s re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s are related by powers of 10 (e.g. there are 1000 meters in 1 kilo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SI (L’Systeme Internation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pecial set of metric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by scientists and most science text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lways the most practical unit system for lab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ari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of a solute (in moles per unit volume) dissolved in a sol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units are moles/liter, or M (molarity or molar concent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molarity from mass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a unit conversion from grams to moles (using atomic or molar mass as the unit conver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What is the molarity of a NaCl solution with concentration of 30.0 grams/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The molar mass of NaCl is 22.99 + 35.45 = 58.44 grams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at is the molarity of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is sol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676520" y="4876920"/>
                <a:ext cx="5867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3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idity (or concentration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of a solution is often measured using the pH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 scale is based on the molarity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in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 scale ranges from 0 (acidic) to 14 (bas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H=7.0 the solution is neutral acidity, there is equal concentr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bulk 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pH from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 mol/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pH=-log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99ff33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Example: a solution with [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]=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[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]=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 then pH = -log</a:t>
            </a:r>
            <a:r>
              <a:rPr b="0" lang="en-US" sz="2400" spc="-1" strike="noStrike" baseline="-25000">
                <a:solidFill>
                  <a:srgbClr val="ebebeb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(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) = 5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from pH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99ff33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]=10</a:t>
            </a:r>
            <a:r>
              <a:rPr b="0" lang="en-US" sz="2800" spc="-1" strike="noStrike" baseline="30000">
                <a:solidFill>
                  <a:srgbClr val="99ff33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Example: a solution with pH = 9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pH = 9.0 then [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]=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9.0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 = 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H Concept Ques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for a 0.5 M HCl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0.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for a 0.5 M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Less than 0.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e 2 solutions above have the same pH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No, pH depends on [H</a:t>
            </a:r>
            <a:r>
              <a:rPr b="0" lang="en-US" sz="28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] not [acid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HCl is a strong acid but H</a:t>
            </a:r>
            <a:r>
              <a:rPr b="0" lang="en-US" sz="2800" spc="-1" strike="noStrike" baseline="-25000">
                <a:solidFill>
                  <a:srgbClr val="ebebe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ebebe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is a weak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a strong acid differ from a weak ac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trong acids dissociate all of their H</a:t>
            </a:r>
            <a:r>
              <a:rPr b="0" lang="en-US" sz="28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ions when in water whereas weak acids do n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elated Units in the Metric Syste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units in the metric system are related to the fundamental unit by a pow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wer of 10 is indicated by a pre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fixes are always the same, regardless of the fundamental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Units &amp; Measurement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measurement has a specific unit (i.e. 25 cm) it can can be expressed using different uni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ing its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 cm is the same as 0.25 m or even 250 m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oice of unit is somewhat arbitrary, what is important is the observation it repres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asurement &amp; Uncertain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ment always has some amount of uncertai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ertainty comes from limitations of the techniques used for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how reliable a measurement is, we need to understand the limitations of the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Measurements &amp; Significant Figure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ndicate the uncertainty of a single measurement scientists use a system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digit written in a measurement is the number that is considered to be uncer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ess stated otherwise, the uncertainty in the last digit is ±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ules for Counting Significant Figure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zero integers are always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ing zeros never count as significant fig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ive zeros are always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ling zeros are significant if the number has a decimal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ct numbers have an unlimited number of significant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ules for Rounding Off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digit to be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less than 5, the preceding digit stays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al to or greater than 5, the preceding digit is increased by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series of calculations, carry the extra digits to the final result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ound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forget to add place-holding zeros if necessary to keep value the same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hat is Chemistry?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stry is considered to be the central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stry is the study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the “stuff” that makes up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ndamental questions of Chemistry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matter be describ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one type of matter interact with other types of ma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matter transform into other forms of ma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xact Number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ct 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numbers known with certain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mited number of significant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ei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ing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ides on a squ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cm = 1 m, 12 in = 1 ft, 1 in = 2.54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kg = 1000 g, 1 LB = 16 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 mL = 1 L; 1 gal = 4 q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inute = 60 seco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onverting between Unit Systems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vert from one unit to an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relationship between the units (e.g. 100 cm = 1 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out the starting measurement and multiply it by a quantity that will yield the desired val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cm (         ) = _____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in the “( )” is called the “conversion fact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tric Prefix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4600" y="1538280"/>
            <a:ext cx="8793360" cy="4176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eight vs. Mas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5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the amount of “stuff” in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iner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the same everywhere in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Units of mass are kilograms (k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ight is the effect of gravity on an object’s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ight is a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ight depends on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I units of weight are newtons 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SCS units are pounds (l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Volum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-D space an object occup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 unit is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eters x meters x me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on metric unit is the Liter 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and volume are not the same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onfuse mass &amp;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7240"/>
            <a:ext cx="798336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ensi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 is a property of matter representing the mass per unit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qual volumes, denser object has larger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qual masses, denser object has smal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s = g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 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s = g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es = g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a solid can be determined by water dis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 :  solids &gt; liquids &gt;&gt;&gt; g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heterogeneous mixture, denser object s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57800" y="3048120"/>
                <a:ext cx="31622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ns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432560" cy="5751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Using Density in Calcul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71800" y="2057400"/>
                <a:ext cx="316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ns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71800" y="3581280"/>
                <a:ext cx="3149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um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t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14600" y="5181480"/>
                <a:ext cx="4381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ensity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Volum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: Matter &amp; Energy 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d 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an important step in understanding the natur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ypes of matter are mixtures of one of 4  basic “elements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atter has one or more of 4 basic “qualities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Aristot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ubstance could be transformed into another substance by altering the relative proportion of these qualities (i.e. lead to go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ristotl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(384-322 BC)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962520" y="2209680"/>
            <a:ext cx="3047760" cy="1066680"/>
            <a:chOff x="3962520" y="2209680"/>
            <a:chExt cx="3047760" cy="1066680"/>
          </a:xfrm>
        </p:grpSpPr>
        <p:sp>
          <p:nvSpPr>
            <p:cNvPr id="111" name=""/>
            <p:cNvSpPr/>
            <p:nvPr/>
          </p:nvSpPr>
          <p:spPr>
            <a:xfrm>
              <a:off x="5527440" y="274320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) Fi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274320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Wa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27440" y="220968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A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220968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) Ear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2520" y="220968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32763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2520" y="22096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2096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27440" y="220968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27432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10280" y="27432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27440" y="32763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62520" y="4038480"/>
            <a:ext cx="3047760" cy="1066680"/>
            <a:chOff x="3962520" y="4038480"/>
            <a:chExt cx="3047760" cy="1066680"/>
          </a:xfrm>
        </p:grpSpPr>
        <p:sp>
          <p:nvSpPr>
            <p:cNvPr id="124" name=""/>
            <p:cNvSpPr/>
            <p:nvPr/>
          </p:nvSpPr>
          <p:spPr>
            <a:xfrm>
              <a:off x="5527440" y="457200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) D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2520" y="457200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Mo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27440" y="403848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H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2520" y="403848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) Co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2520" y="403848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62520" y="51051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520" y="4038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4038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27440" y="403848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2520" y="4572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0280" y="4572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7440" y="51051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2140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cientific Method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Recognize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observ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a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Make an educated guess -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the consequences of the 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Perform experiments to test the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experiment support or dispute hypo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hysical &amp; Chemical Properti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Proper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characteristics of matter that can be changed without changing its 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that are directly obser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mical Proper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characteristics that determine how the composition of matter changes as a result of contact with other matter or the influence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that describe the behavior of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hysical &amp; Chemical Chang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changes to matter that do not result in a change the fundamental components that make that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hanges : boiling, melting, conden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mical 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volve a change in the fundamental components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a new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→  Liquid  → 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tates of Matter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981080"/>
          <a:ext cx="8247240" cy="36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47240" cy="36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971800" y="99072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990720"/>
            <a:ext cx="99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←  Liquid  ←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6728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86728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lassification of Matter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ter can be classified as either Pure or Impu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:  composed of only one type of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osed of either individual atoms or molecules (e.g. 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: composed of more than one type of at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ists of molecu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ure (or mix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ogeneous: uniform throughout, appears to be one 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re substa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s (single phase homogeneous mixtu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sions (multi-phase homogeneous mixtu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terogeneous: non-uniform, contains regions with different properties than other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28800" y="4724280"/>
          <a:ext cx="5334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724280"/>
                    <a:ext cx="5334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eparation of Mixtur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re substan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broken down into its component substances by physical means only by a chem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reakdown of a pure substance results in formation of new substances (i.e. chemical chan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pure substance there is nothing to separate (its only 1 substance to begin wi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separat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s (and also by chemical methods, as we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general methods of s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thods of Separ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2 ways of separating various substan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 Physical separation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 of substances by their physical properti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uch as size, solubility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xtures can be separated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several methods of separating mix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tration (solids from liqu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illation (liquids from liqu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ifugation (liquids from liqu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Chemical separation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 of substances by their chemical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s can be separated into their individual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tures can be separated by chemical separation as w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several methods of chemical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n exchange (such as water purification syst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affinity (using antibodies to isolate specific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Chemical re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nerg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of something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, mechanical, thermal, electrical, radiant, sound, nu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 unit of energy is the Joule (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ommon unit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ories (c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lowatt-hour (kW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ener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cannot be created nor destroy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ut it does change from one type to another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Heat &amp; Temperatur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hot or cold something is (a physical proper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kinetic) energy of the substan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 the total energ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d in unit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ees Fahrenheit (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ees Celsius (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lvin (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is energy that 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s from hot objects to col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bsorbed/released by an object resulting in its change in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absorbed/releas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asu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changes in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emperature Scal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hrenheit Scale, °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’s freezing point = 32°F, boiling point = 212°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sius Scale, 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unit larger than the Fahrenh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’s freezing point = 0°C, boiling point = 100°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vin Scale,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unit same size as Cels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’s freezing point = 273 K, boiling point = 373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ok Antiqua"/>
              </a:rPr>
              <a:t>Temperature of ice water and boiling water.</a:t>
            </a:r>
            <a:endParaRPr b="0" lang="en-US" sz="33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60400" y="1069920"/>
            <a:ext cx="7431120" cy="55101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Scientific Attitud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ientific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Matter is made up of tiny particles called atom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Scientific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There are tiny particles of matter in the universe that will never be detect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Heat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is the flow of energy due to a temperature dif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flows from higher temperature to lower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is transferred due to “collisions” between atoms/molecules of different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oduced by friction, heat is mechanical energy that is irretrievably removed from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involving He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othermic = A process that releases heat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 when a match is struck, it is an exothermic process because energy is produced as h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rmic = A process that absorbs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 melting ice to form liquid water is an endothermic 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Heat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t energy absorbed by an object is proportiona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 of the objec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nge in temperature the object undergo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eat capacity (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 physical property unique to the subst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 heat (Q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Q = s </a:t>
            </a:r>
            <a:r>
              <a:rPr b="1" lang="en-US" sz="3200" spc="-1" strike="noStrike" baseline="30000">
                <a:solidFill>
                  <a:srgbClr val="66ff33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m </a:t>
            </a:r>
            <a:r>
              <a:rPr b="1" lang="en-US" sz="3200" spc="-1" strike="noStrike" baseline="30000">
                <a:solidFill>
                  <a:srgbClr val="66ff33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pecific Heat Capacity (s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of heat energ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 J or Ca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d to increase the temperature of 1 gram of a substance by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r 1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s of Specific Heat Capac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/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(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/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(metric &amp; more useful in the l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eat Capacity  is a unique physical property of different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have low specific heat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metals have higher specific heat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has an unusually large specific heat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s = Q/(m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3400" y="219240"/>
            <a:ext cx="7396200" cy="5902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able of Specific Heat for various substances @ 2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Book Antiqua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3520" y="1295280"/>
            <a:ext cx="8076240" cy="5486400"/>
            <a:chOff x="533520" y="1295280"/>
            <a:chExt cx="8076240" cy="5486400"/>
          </a:xfrm>
        </p:grpSpPr>
        <p:grpSp>
          <p:nvGrpSpPr>
            <p:cNvPr id="175" name=""/>
            <p:cNvGrpSpPr/>
            <p:nvPr/>
          </p:nvGrpSpPr>
          <p:grpSpPr>
            <a:xfrm>
              <a:off x="542880" y="1297440"/>
              <a:ext cx="8055360" cy="5481360"/>
              <a:chOff x="542880" y="1297440"/>
              <a:chExt cx="8055360" cy="54813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42880" y="1297440"/>
                <a:ext cx="2257920" cy="410040"/>
                <a:chOff x="542880" y="1297440"/>
                <a:chExt cx="2257920" cy="410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81040" y="1306800"/>
                  <a:ext cx="2181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ubstanc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42880" y="1297440"/>
                  <a:ext cx="2257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801520" y="1297440"/>
                <a:ext cx="1870920" cy="410040"/>
                <a:chOff x="2801520" y="1297440"/>
                <a:chExt cx="1870920" cy="410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839680" y="1306800"/>
                  <a:ext cx="1794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 in J/gm 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801520" y="1297440"/>
                  <a:ext cx="1870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73520" y="1297440"/>
                <a:ext cx="2446200" cy="410040"/>
                <a:chOff x="4673520" y="1297440"/>
                <a:chExt cx="2446200" cy="410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711680" y="1306800"/>
                  <a:ext cx="23695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 in cal/gm K or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tu/lb F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73520" y="1297440"/>
                  <a:ext cx="24462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120440" y="1297440"/>
                <a:ext cx="1477800" cy="410040"/>
                <a:chOff x="7120440" y="1297440"/>
                <a:chExt cx="1477800" cy="410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158600" y="1306800"/>
                  <a:ext cx="14011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olar C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/mol 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120440" y="1297440"/>
                  <a:ext cx="14778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42880" y="1726560"/>
                <a:ext cx="2257920" cy="318960"/>
                <a:chOff x="542880" y="1726560"/>
                <a:chExt cx="2257920" cy="318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81040" y="17359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uminu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2880" y="17265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801520" y="1726560"/>
                <a:ext cx="1870920" cy="318960"/>
                <a:chOff x="2801520" y="1726560"/>
                <a:chExt cx="1870920" cy="318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839680" y="17359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90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801520" y="17265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673520" y="1726560"/>
                <a:ext cx="2446200" cy="318960"/>
                <a:chOff x="4673520" y="1726560"/>
                <a:chExt cx="2446200" cy="318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11680" y="17359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1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73520" y="17265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120440" y="1726560"/>
                <a:ext cx="1477800" cy="318960"/>
                <a:chOff x="7120440" y="1726560"/>
                <a:chExt cx="1477800" cy="318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158600" y="17359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20440" y="17265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42880" y="2064600"/>
                <a:ext cx="2257920" cy="318960"/>
                <a:chOff x="542880" y="2064600"/>
                <a:chExt cx="2257920" cy="318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81040" y="20739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ismuth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2880" y="20646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801520" y="2064600"/>
                <a:ext cx="1870920" cy="318960"/>
                <a:chOff x="2801520" y="2064600"/>
                <a:chExt cx="1870920" cy="318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839680" y="20739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2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801520" y="20646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673520" y="2064600"/>
                <a:ext cx="2446200" cy="318960"/>
                <a:chOff x="4673520" y="2064600"/>
                <a:chExt cx="2446200" cy="318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711680" y="20739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29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673520" y="20646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7120440" y="2064600"/>
                <a:ext cx="1477800" cy="318960"/>
                <a:chOff x="7120440" y="2064600"/>
                <a:chExt cx="1477800" cy="3189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158600" y="20739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120440" y="20646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42880" y="2402640"/>
                <a:ext cx="2257920" cy="318960"/>
                <a:chOff x="542880" y="2402640"/>
                <a:chExt cx="2257920" cy="318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81040" y="2412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pp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2880" y="2402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801520" y="2402640"/>
                <a:ext cx="1870920" cy="318960"/>
                <a:chOff x="2801520" y="2402640"/>
                <a:chExt cx="1870920" cy="318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839680" y="2412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801520" y="2402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673520" y="2402640"/>
                <a:ext cx="2446200" cy="318960"/>
                <a:chOff x="4673520" y="2402640"/>
                <a:chExt cx="2446200" cy="318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711680" y="2412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92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673520" y="2402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7120440" y="2402640"/>
                <a:ext cx="1477800" cy="318960"/>
                <a:chOff x="7120440" y="2402640"/>
                <a:chExt cx="1477800" cy="318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158600" y="2412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120440" y="2402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42880" y="2740680"/>
                <a:ext cx="2257920" cy="318960"/>
                <a:chOff x="542880" y="2740680"/>
                <a:chExt cx="2257920" cy="318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1040" y="27500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as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2880" y="27406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801520" y="2740680"/>
                <a:ext cx="1870920" cy="318960"/>
                <a:chOff x="2801520" y="2740680"/>
                <a:chExt cx="1870920" cy="318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839680" y="27500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8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01520" y="27406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673520" y="2740680"/>
                <a:ext cx="2446200" cy="318960"/>
                <a:chOff x="4673520" y="2740680"/>
                <a:chExt cx="2446200" cy="318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711680" y="27500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9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673520" y="27406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120440" y="2740680"/>
                <a:ext cx="1477800" cy="318960"/>
                <a:chOff x="7120440" y="2740680"/>
                <a:chExt cx="1477800" cy="3189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158600" y="27500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20440" y="27406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42880" y="3078720"/>
                <a:ext cx="2257920" cy="318960"/>
                <a:chOff x="542880" y="3078720"/>
                <a:chExt cx="2257920" cy="318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81040" y="30880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ol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42880" y="30787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801520" y="3078720"/>
                <a:ext cx="1870920" cy="318960"/>
                <a:chOff x="2801520" y="3078720"/>
                <a:chExt cx="1870920" cy="318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839680" y="30880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2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1520" y="30787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673520" y="3078720"/>
                <a:ext cx="2446200" cy="318960"/>
                <a:chOff x="4673520" y="3078720"/>
                <a:chExt cx="2446200" cy="318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711680" y="30880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0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673520" y="30787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120440" y="3078720"/>
                <a:ext cx="1477800" cy="318960"/>
                <a:chOff x="7120440" y="3078720"/>
                <a:chExt cx="1477800" cy="318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158600" y="30880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20440" y="30787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42880" y="3417120"/>
                <a:ext cx="2257920" cy="318960"/>
                <a:chOff x="542880" y="3417120"/>
                <a:chExt cx="2257920" cy="318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81040" y="34264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a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2880" y="3417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801520" y="3417120"/>
                <a:ext cx="1870920" cy="318960"/>
                <a:chOff x="2801520" y="3417120"/>
                <a:chExt cx="1870920" cy="318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839680" y="34264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2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01520" y="3417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673520" y="3417120"/>
                <a:ext cx="2446200" cy="318960"/>
                <a:chOff x="4673520" y="3417120"/>
                <a:chExt cx="2446200" cy="318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711680" y="34264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0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673520" y="3417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7120440" y="3417120"/>
                <a:ext cx="1477800" cy="318960"/>
                <a:chOff x="7120440" y="3417120"/>
                <a:chExt cx="1477800" cy="318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7158600" y="34264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120440" y="3417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42880" y="3755160"/>
                <a:ext cx="2257920" cy="318960"/>
                <a:chOff x="542880" y="3755160"/>
                <a:chExt cx="2257920" cy="318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81040" y="37645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ilv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2880" y="37551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801520" y="3755160"/>
                <a:ext cx="1870920" cy="318960"/>
                <a:chOff x="2801520" y="3755160"/>
                <a:chExt cx="1870920" cy="318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839680" y="37645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3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01520" y="37551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673520" y="3755160"/>
                <a:ext cx="2446200" cy="318960"/>
                <a:chOff x="4673520" y="3755160"/>
                <a:chExt cx="2446200" cy="318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711680" y="37645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55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673520" y="37551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120440" y="3755160"/>
                <a:ext cx="1477800" cy="318960"/>
                <a:chOff x="7120440" y="3755160"/>
                <a:chExt cx="1477800" cy="318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158600" y="37645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120440" y="37551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42880" y="4093200"/>
                <a:ext cx="2257920" cy="318960"/>
                <a:chOff x="542880" y="4093200"/>
                <a:chExt cx="2257920" cy="318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81040" y="41025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ungste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2880" y="40932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801520" y="4093200"/>
                <a:ext cx="1870920" cy="318960"/>
                <a:chOff x="2801520" y="4093200"/>
                <a:chExt cx="1870920" cy="318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839680" y="41025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3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01520" y="40932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4673520" y="4093200"/>
                <a:ext cx="2446200" cy="318960"/>
                <a:chOff x="4673520" y="4093200"/>
                <a:chExt cx="2446200" cy="318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711680" y="41025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73520" y="40932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120440" y="4093200"/>
                <a:ext cx="1477800" cy="318960"/>
                <a:chOff x="7120440" y="4093200"/>
                <a:chExt cx="1477800" cy="318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158600" y="41025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120440" y="40932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2880" y="4431240"/>
                <a:ext cx="2257920" cy="318960"/>
                <a:chOff x="542880" y="4431240"/>
                <a:chExt cx="2257920" cy="318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81040" y="44406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inc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42880" y="44312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801520" y="4431240"/>
                <a:ext cx="1870920" cy="318960"/>
                <a:chOff x="2801520" y="4431240"/>
                <a:chExt cx="1870920" cy="318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39680" y="44406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8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801520" y="44312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673520" y="4431240"/>
                <a:ext cx="2446200" cy="318960"/>
                <a:chOff x="4673520" y="4431240"/>
                <a:chExt cx="2446200" cy="3189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711680" y="44406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92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73520" y="44312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120440" y="4431240"/>
                <a:ext cx="1477800" cy="318960"/>
                <a:chOff x="7120440" y="4431240"/>
                <a:chExt cx="1477800" cy="318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158600" y="44406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120440" y="44312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42880" y="4769640"/>
                <a:ext cx="2257920" cy="318960"/>
                <a:chOff x="542880" y="4769640"/>
                <a:chExt cx="2257920" cy="318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81040" y="4779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rcury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2880" y="4769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801520" y="4769640"/>
                <a:ext cx="1870920" cy="318960"/>
                <a:chOff x="2801520" y="4769640"/>
                <a:chExt cx="1870920" cy="318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839680" y="4779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4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801520" y="4769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673520" y="4769640"/>
                <a:ext cx="2446200" cy="318960"/>
                <a:chOff x="4673520" y="4769640"/>
                <a:chExt cx="2446200" cy="318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711680" y="4779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673520" y="4769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120440" y="4769640"/>
                <a:ext cx="1477800" cy="318960"/>
                <a:chOff x="7120440" y="4769640"/>
                <a:chExt cx="1477800" cy="318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158600" y="4779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120440" y="4769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42880" y="5107680"/>
                <a:ext cx="2257920" cy="318960"/>
                <a:chOff x="542880" y="5107680"/>
                <a:chExt cx="2257920" cy="318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81040" y="51170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cohol(ethyl)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2880" y="51076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801520" y="5107680"/>
                <a:ext cx="1870920" cy="318960"/>
                <a:chOff x="2801520" y="5107680"/>
                <a:chExt cx="1870920" cy="318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839680" y="51170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01520" y="51076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673520" y="5107680"/>
                <a:ext cx="2446200" cy="318960"/>
                <a:chOff x="4673520" y="5107680"/>
                <a:chExt cx="2446200" cy="318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711680" y="51170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5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673520" y="51076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7120440" y="5107680"/>
                <a:ext cx="1477800" cy="318960"/>
                <a:chOff x="7120440" y="5107680"/>
                <a:chExt cx="1477800" cy="318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158600" y="51170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20440" y="51076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42880" y="5445720"/>
                <a:ext cx="2257920" cy="318960"/>
                <a:chOff x="542880" y="5445720"/>
                <a:chExt cx="2257920" cy="318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81040" y="5454720"/>
                  <a:ext cx="218124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Wat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42880" y="54457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801520" y="5445720"/>
                <a:ext cx="1870920" cy="318960"/>
                <a:chOff x="2801520" y="5445720"/>
                <a:chExt cx="1870920" cy="318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839680" y="5454720"/>
                  <a:ext cx="179424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1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01520" y="54457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673520" y="5445720"/>
                <a:ext cx="2446200" cy="318960"/>
                <a:chOff x="4673520" y="5445720"/>
                <a:chExt cx="2446200" cy="318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711680" y="5454720"/>
                  <a:ext cx="236952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73520" y="54457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120440" y="5445720"/>
                <a:ext cx="1477800" cy="318960"/>
                <a:chOff x="7120440" y="5445720"/>
                <a:chExt cx="1477800" cy="318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158600" y="5454720"/>
                  <a:ext cx="140112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5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20440" y="54457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42880" y="5783760"/>
                <a:ext cx="2257920" cy="318960"/>
                <a:chOff x="542880" y="5783760"/>
                <a:chExt cx="2257920" cy="318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81040" y="57931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ce (-10 C)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2880" y="57837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801520" y="5783760"/>
                <a:ext cx="1870920" cy="318960"/>
                <a:chOff x="2801520" y="5783760"/>
                <a:chExt cx="1870920" cy="3189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839680" y="57931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801520" y="57837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673520" y="5783760"/>
                <a:ext cx="2446200" cy="318960"/>
                <a:chOff x="4673520" y="5783760"/>
                <a:chExt cx="2446200" cy="318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711680" y="57931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4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673520" y="57837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7120440" y="5783760"/>
                <a:ext cx="1477800" cy="318960"/>
                <a:chOff x="7120440" y="5783760"/>
                <a:chExt cx="1477800" cy="318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7158600" y="57931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6.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120440" y="57837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42880" y="6121800"/>
                <a:ext cx="2257920" cy="318960"/>
                <a:chOff x="542880" y="6121800"/>
                <a:chExt cx="2257920" cy="318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81040" y="61311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anit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42880" y="61218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801520" y="6121800"/>
                <a:ext cx="1870920" cy="318960"/>
                <a:chOff x="2801520" y="6121800"/>
                <a:chExt cx="1870920" cy="3189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839680" y="61311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7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801520" y="61218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673520" y="6121800"/>
                <a:ext cx="2446200" cy="318960"/>
                <a:chOff x="4673520" y="6121800"/>
                <a:chExt cx="2446200" cy="318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711680" y="61311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73520" y="61218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120440" y="6121800"/>
                <a:ext cx="1477800" cy="318960"/>
                <a:chOff x="7120440" y="6121800"/>
                <a:chExt cx="1477800" cy="318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158600" y="61311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120440" y="61218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542880" y="6459840"/>
                <a:ext cx="2257920" cy="318960"/>
                <a:chOff x="542880" y="6459840"/>
                <a:chExt cx="2257920" cy="318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81040" y="64692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las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42880" y="64598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801520" y="6459840"/>
                <a:ext cx="1870920" cy="318960"/>
                <a:chOff x="2801520" y="6459840"/>
                <a:chExt cx="1870920" cy="3189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839680" y="64692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8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801520" y="64598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673520" y="6459840"/>
                <a:ext cx="2446200" cy="318960"/>
                <a:chOff x="4673520" y="6459840"/>
                <a:chExt cx="2446200" cy="318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711680" y="64692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673520" y="64598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7120440" y="6459840"/>
                <a:ext cx="1477800" cy="318960"/>
                <a:chOff x="7120440" y="6459840"/>
                <a:chExt cx="1477800" cy="318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158600" y="64692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20440" y="64598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533520" y="1295280"/>
              <a:ext cx="8076240" cy="5486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4: Elements, Ions &amp; Atoms 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mitri Mendeleev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1834-1907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born chem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one of the greatest teachers of hi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the known elements into the first “periodic 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rganized by chemical properties (&amp; by weight) -&gt;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iodic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ed the existence of 3 new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67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Symbols &amp; Formula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element has a unique chemical 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hemical symbo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: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: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: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olecule has a chemical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mical formula ind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emical symbol for each of the elements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# of atoms of each element present in the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hemical formul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al oxygen: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O atoms per molecu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: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H atoms &amp; 1 O at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sulfate: 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Al, 3 S &amp; 12 O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alton’s Atomic Theo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element consists of individual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 neither be created nor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toms of a given element are iden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ombined chemically in definite whole-number ratios to form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have different m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Ato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tom has 2 primary regions of inter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 protons &amp; neutrons (called nucleons, collective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s most of the atom’s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1 neutron = 1.675 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1 proton = 1.673 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, dense region at the center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adius of the nucleus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 (1 femtome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The Electron C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1 electron = 9.109 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s the effective volume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adius of the electron cloud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 (1 Angstr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s the chemical properties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chemical processes, interactions occur between the outermost electrons of each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lectron properties of the atom will define the type(s) of interaction that will tak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Major Developments in Chemistry I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400 BC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mocritus proposed the concept of the “ato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00 BC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istotle developed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rehensive model of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700 A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inese alchemists invent gunpow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61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bert Boyle proposed the concept of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70-179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voisier proposed the concept of compounds &amp; the Law of Mass Con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74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iestly isolates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97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ust proposed the Law of Definite Prop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03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lton re-introduces the concept of the atom and establishes Dalton’s 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69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deleev creates the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iodic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1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utherford proposes the “nuclear” model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15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ohr proposes a “planetary” model of the hydrogen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roedinger publishes his wave equation for hydro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69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urray Gell-Mann proposes the theory of QCD (proposing the existence of qu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1787400"/>
            <a:ext cx="5956200" cy="4680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tructure of the Ato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Electric Charge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charge is a fundamental property of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on’t really know what electric charge is but we do know that there are 2 kin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charge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charge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e charge polarity is attra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 attracts 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charge polarity is repuls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 repels 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repels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gnitude of electric charge (q) is the same for protons and electron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rge of a proton or electron is the smallest amount that occurs in nature, it is called the quantum of char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1.60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ulom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-1.60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ulom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hat holds the atom together?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magnetic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a.k.a. electric forc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lds the electrons to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gative charge (-) of the electrons are attracted to the positive charge (+) of the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a.k.a. strong forc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lds the nucleons together within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sitive charge of the protons repel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ucleons, protons and neutrons, possess a STRONG attraction to each other that overcomes the protons’ mutual repul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tomic Bookkeeping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number (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rotons in an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rotons in an uncharged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the identity of the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number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rotons &amp; neutrons in an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the weight of the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number of neutrons in an at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# of neutrons = (Mass #) – (Atomic #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# of neutrons = A -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ass # vs. Atomic Mas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es are the equivalent of sibling members of an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que atoms of the same element with different mass numbers (i.e. they have different numbers of neutr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que isotopes are identified by their mass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e 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carbon-12 (        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carbon-14 (       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verage total mass of an element’s various naturally occuring isoto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nit of Atomic Mass is the Dalt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ormerly called the am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alton = one twelfth mass of one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atom = 1.661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7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 There 6 protons &amp; 6 neutrons in a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atom but the mass of a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atom is actually less than the combined mass of all of the nucleons individ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is this lost mas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’s released as energy when the nucleons combine (bind) to form the nucleus of the at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2920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895480" y="2651040"/>
            <a:ext cx="4038480" cy="778680"/>
            <a:chOff x="2895480" y="2651040"/>
            <a:chExt cx="4038480" cy="778680"/>
          </a:xfrm>
        </p:grpSpPr>
        <p:sp>
          <p:nvSpPr>
            <p:cNvPr id="392" name=""/>
            <p:cNvSpPr/>
            <p:nvPr/>
          </p:nvSpPr>
          <p:spPr>
            <a:xfrm>
              <a:off x="3962160" y="272736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(Atomic Symbol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24080" y="26510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Mass #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95480" y="303228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Atomic #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505320" y="3429000"/>
            <a:ext cx="3200400" cy="778320"/>
            <a:chOff x="3505320" y="3429000"/>
            <a:chExt cx="3200400" cy="778320"/>
          </a:xfrm>
        </p:grpSpPr>
        <p:sp>
          <p:nvSpPr>
            <p:cNvPr id="396" name=""/>
            <p:cNvSpPr/>
            <p:nvPr/>
          </p:nvSpPr>
          <p:spPr>
            <a:xfrm>
              <a:off x="3733920" y="350496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05320" y="342900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57960" y="380988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248520" y="3413160"/>
            <a:ext cx="3200400" cy="778320"/>
            <a:chOff x="6248520" y="3413160"/>
            <a:chExt cx="3200400" cy="778320"/>
          </a:xfrm>
        </p:grpSpPr>
        <p:sp>
          <p:nvSpPr>
            <p:cNvPr id="400" name=""/>
            <p:cNvSpPr/>
            <p:nvPr/>
          </p:nvSpPr>
          <p:spPr>
            <a:xfrm>
              <a:off x="6477120" y="348912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48520" y="341316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01160" y="379404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xamples of Isotop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33200" y="1219320"/>
            <a:ext cx="8794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Periodic Tab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known elements are arranged in a chart called the Periodic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are arranged by similarity of chem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element is identified by i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are organized left-to-right and top-to-bottom by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umns ar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f each group have similar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ws ar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i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lements and the Periodic Tab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ments can be categorized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most elements of the periodic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ly 70% of all of the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ghtmost elements of the periodic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metals (metallo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ments between the metals and non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ies are not quite metal or non-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(or molecules) that have gained or lost one or more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that have lost electrons are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that have gained extra electrons are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have both cations and anions (so that their net charge is ze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05960" y="1066320"/>
            <a:ext cx="812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s have electric char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”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1 or more electrons are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”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 1 or more electrons are g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n atom/molecule is an ion, its charge must be specifi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de 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 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s on Electric Char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e charges at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10080" y="4648320"/>
            <a:ext cx="2667240" cy="764280"/>
            <a:chOff x="5410080" y="4648320"/>
            <a:chExt cx="2667240" cy="764280"/>
          </a:xfrm>
        </p:grpSpPr>
        <p:sp>
          <p:nvSpPr>
            <p:cNvPr id="414" name=""/>
            <p:cNvSpPr/>
            <p:nvPr/>
          </p:nvSpPr>
          <p:spPr>
            <a:xfrm>
              <a:off x="5410080" y="47563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43800" y="46483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7280" y="5105520"/>
              <a:ext cx="3812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086600" y="5105520"/>
              <a:ext cx="38088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410080" y="5562720"/>
            <a:ext cx="2667240" cy="654840"/>
            <a:chOff x="5410080" y="5562720"/>
            <a:chExt cx="2667240" cy="654840"/>
          </a:xfrm>
        </p:grpSpPr>
        <p:sp>
          <p:nvSpPr>
            <p:cNvPr id="419" name=""/>
            <p:cNvSpPr/>
            <p:nvPr/>
          </p:nvSpPr>
          <p:spPr>
            <a:xfrm>
              <a:off x="5410080" y="55627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3800" y="55749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866920" y="5911560"/>
              <a:ext cx="3812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6600" y="5911560"/>
              <a:ext cx="3808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6083280"/>
            <a:ext cx="2667240" cy="776880"/>
            <a:chOff x="5410080" y="6083280"/>
            <a:chExt cx="2667240" cy="776880"/>
          </a:xfrm>
        </p:grpSpPr>
        <p:sp>
          <p:nvSpPr>
            <p:cNvPr id="424" name=""/>
            <p:cNvSpPr/>
            <p:nvPr/>
          </p:nvSpPr>
          <p:spPr>
            <a:xfrm>
              <a:off x="5410080" y="608328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3800" y="609588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866920" y="6553080"/>
              <a:ext cx="3812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6553080"/>
              <a:ext cx="3808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of subatomic particl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86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ton (first observed by Eugene Goldste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97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ctron (JJ Thomps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ton (named by Ernest Rutherfor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32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utron (James Chadwic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ther Important Discoveri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96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oine Henr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querel discovers radio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1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. Kamerlingh Onnes discovers superconductivity in low temperature merc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47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Shockley and colleagues invent the first transis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rnell, Wieman, and Ketterle observe the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 of matter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the Bose-Einstein condensat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labora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ajor Developments in Chemistry 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 100: Chemical Nomencl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a.k.a. naming comp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ntoine Lavoisier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1743-1794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by many to be the “Father of Modern Chemist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ontribution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d that water cannot be transmuted to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the Law of Conservation of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 method of producing better gunpow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d that oxygen and hydrogen combined to produce water (de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ed a system of chemical nomencl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ill used in part today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ote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rn chemical text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7432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ypes of Compoun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pounds are formed they are held together by the association of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ssociation is called a chemical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general types of chemical bon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(or molecul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r cov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mpounds are classified (and thus named) according to the type of chemical bond(s) that hold together its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Arial"/>
              </a:rPr>
              <a:t>Note:  many compounds have more than one type of chemical bond present, but we will only work with “simple compound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ypes of Compound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practical” purposes will separate compounds into 2 general catego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up of ions (both positive and negative 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have no net charge (i.e. combined charge of zer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 on the attraction between positive and negative charges of the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a metal is present as a cation and a nonmetal is present as an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(or coval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up of atoms that share their outer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 plays no direct role in their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no metals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Compoun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st way to identify an ionic compound is to ask whether or not it has a metal pres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&gt; ionic (e.g. C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&gt; covalent (e.g. C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alent compounds require the use of Greek prefixes to indicate the number of each element present in one molec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do not use the Greek prefix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Simple Compoun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simple”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na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pound is a compound made of only 2 types of el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first element is a me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(metal) keeps its full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n-metal goes by its root with the suffix “-ide” added to th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Example: NaCl is sodium chlor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are no metal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as above ex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k prefixes must be used to identify the number of each element present in the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Example: 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i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ic Charges &amp; the Periodic Tab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 metals form 1+ cations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dium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 metals form 2+ cations (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lcium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3 metals form 3+ cations (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uminum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other met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.e. the transitional metals, Pb, etc.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 more than one type of 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man numerals must be used to indicate the charge of the 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called iron(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called iron(III) chlor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amp; Z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5 nonmetals form 3- anions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itride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6 nonmetals form 2- anions (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xide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7 nonmetals form 1- anions (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loride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8 nonmetals  do not form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Greek Prefixes for Compound Nam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7800" y="1155600"/>
            <a:ext cx="4383360" cy="337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 Di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 T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  Tetr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t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Cl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</a:rPr>
              <a:t>tetra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7960" y="1155240"/>
            <a:ext cx="426708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 Hex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 Hept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 Oct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)  Non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) Dec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</a:rPr>
              <a:t>tri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arbon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</a:rPr>
              <a:t>octa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hyd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3951360"/>
            <a:ext cx="861048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Prefixes are used when the compound does not have a metal present (or when H is the first element in the formu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Prefixes must be used for every element present in the compou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ono- is not used for the first element in a compound name (e.g. carbon diox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ic Compounds containing Polyatomic 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onic compounds are made up of polyatomic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encounter this, do not freak out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familiar with the polyatomic ions on the hand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 the nitrate ion (NO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ing of this type of compound is similar to that for ionic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Latin term for “sour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Acids are sour to the taste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s are substances that donate protons (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ually when dissolved in w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formula usually begins with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 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HCl(aq) +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(l) </a:t>
            </a:r>
            <a:r>
              <a:rPr b="0" lang="en-US" sz="24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te b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metal containing hydrox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s that accept protons (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hen dissolved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potass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KOH(aq) +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 (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: Measurements &amp; 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Aci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46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s separate acids into 2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s that contain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s that do not contain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ing acids containing oxy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cids containing “-ate” an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root of the anion (for sulfate,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</a:rPr>
              <a:t>-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cids with “-ite” an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root of the anion (for sulfite,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</a:rPr>
              <a:t>-o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Acid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ing acids not containing oxy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hydro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prefix to begi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root of the anion (i.e.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chl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-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suffix then end with “aci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l is </a:t>
            </a: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hyd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he following aci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: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Reactions (Intro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atter undergoes chemical changes these processes are called chemical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s that undergo the change(s) are calle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ac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ing substances are calle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form of a chemical re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Arial"/>
              </a:rPr>
              <a:t>Reactant(s) </a:t>
            </a:r>
            <a:r>
              <a:rPr b="1" lang="en-US" sz="2800" spc="-1" strike="noStrike">
                <a:solidFill>
                  <a:srgbClr val="ebebeb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ebebeb"/>
                </a:solidFill>
                <a:latin typeface="Arial"/>
              </a:rPr>
              <a:t> Produc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ccff"/>
                </a:solidFill>
                <a:uFillTx/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(g) +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(g) </a:t>
            </a:r>
            <a:r>
              <a:rPr b="1" lang="en-US" sz="28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O 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nderlined numbers are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efficie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each molecule for each reactant &amp; product in the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re always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Reaction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chemical reactions indicate the 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of each reactant &amp; product involved in the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of each reactant and product  involved in the reaction (i.e. soli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iqui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g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quantity of each reactant and product  involved in the reaction (the coefficient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antity of each reactant and product  involved in the reaction (the coefficient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ates of Chemical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quickly a chemical reaction occurs is indicated by i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ac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quickly the concentration of produc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quickly the concentration of reactan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influence reaction r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ants must be in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s occur due to coll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contact between reactants there can be no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 of reac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re reactant molecules packed into a given space the more likely a collision (&amp; reaction) will occ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verage KE of each reactant affects how much energy will be transferred between reactants during a molecular coll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 must transfer enough KE to break the existing bo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Energy in Chemical Reaction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85800" y="762120"/>
            <a:ext cx="6705720" cy="2743200"/>
            <a:chOff x="685800" y="762120"/>
            <a:chExt cx="6705720" cy="2743200"/>
          </a:xfrm>
        </p:grpSpPr>
        <p:sp>
          <p:nvSpPr>
            <p:cNvPr id="466" name=""/>
            <p:cNvSpPr/>
            <p:nvPr/>
          </p:nvSpPr>
          <p:spPr>
            <a:xfrm>
              <a:off x="2971800" y="1219320"/>
              <a:ext cx="0" cy="228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971440" y="350532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1111320"/>
              <a:ext cx="137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048120" y="1177560"/>
              <a:ext cx="3505320" cy="1794240"/>
              <a:chOff x="3048120" y="1177560"/>
              <a:chExt cx="3505320" cy="1794240"/>
            </a:xfrm>
          </p:grpSpPr>
          <p:sp>
            <p:nvSpPr>
              <p:cNvPr id="470" name=""/>
              <p:cNvSpPr/>
              <p:nvPr/>
            </p:nvSpPr>
            <p:spPr>
              <a:xfrm>
                <a:off x="3048120" y="2133720"/>
                <a:ext cx="15238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2971800"/>
                <a:ext cx="15242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029200" y="2133720"/>
                <a:ext cx="0" cy="838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73" name=""/>
              <p:cNvCxnSpPr>
                <a:endCxn id="472" idx="0"/>
              </p:cNvCxnSpPr>
              <p:nvPr/>
            </p:nvCxnSpPr>
            <p:spPr>
              <a:xfrm flipV="1">
                <a:off x="4572000" y="2118600"/>
                <a:ext cx="457920" cy="11880"/>
              </a:xfrm>
              <a:prstGeom prst="curvedConnector5">
                <a:avLst>
                  <a:gd name="adj1" fmla="val 10700"/>
                  <a:gd name="adj2" fmla="val 4134375"/>
                  <a:gd name="adj3" fmla="val 10700"/>
                </a:avLst>
              </a:prstGeom>
              <a:ln w="3816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474" name=""/>
            <p:cNvSpPr/>
            <p:nvPr/>
          </p:nvSpPr>
          <p:spPr>
            <a:xfrm>
              <a:off x="3048120" y="176688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81840" y="304812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48320" y="2133720"/>
              <a:ext cx="205740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00600" y="1219320"/>
              <a:ext cx="0" cy="914400"/>
            </a:xfrm>
            <a:prstGeom prst="line">
              <a:avLst/>
            </a:prstGeom>
            <a:ln w="28440">
              <a:solidFill>
                <a:srgbClr val="ccff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24640" y="1219320"/>
              <a:ext cx="16002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ccff66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13372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91320" y="228600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nergy Released (Q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762120"/>
              <a:ext cx="350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othermic Re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85800" y="3581280"/>
            <a:ext cx="6781320" cy="2743200"/>
            <a:chOff x="685800" y="3581280"/>
            <a:chExt cx="6781320" cy="2743200"/>
          </a:xfrm>
        </p:grpSpPr>
        <p:sp>
          <p:nvSpPr>
            <p:cNvPr id="483" name=""/>
            <p:cNvSpPr/>
            <p:nvPr/>
          </p:nvSpPr>
          <p:spPr>
            <a:xfrm>
              <a:off x="2971440" y="4038480"/>
              <a:ext cx="0" cy="228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971440" y="6324480"/>
              <a:ext cx="434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28440" y="3930480"/>
              <a:ext cx="1371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047760" y="4266360"/>
              <a:ext cx="3428280" cy="1086480"/>
              <a:chOff x="3047760" y="4266360"/>
              <a:chExt cx="3428280" cy="1086480"/>
            </a:xfrm>
          </p:grpSpPr>
          <p:sp>
            <p:nvSpPr>
              <p:cNvPr id="487" name=""/>
              <p:cNvSpPr/>
              <p:nvPr/>
            </p:nvSpPr>
            <p:spPr>
              <a:xfrm>
                <a:off x="3047760" y="5334120"/>
                <a:ext cx="15235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52520" y="4800600"/>
                <a:ext cx="15235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4952520" y="449532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90" name=""/>
              <p:cNvCxnSpPr>
                <a:stCxn id="487" idx="0"/>
                <a:endCxn id="489" idx="0"/>
              </p:cNvCxnSpPr>
              <p:nvPr/>
            </p:nvCxnSpPr>
            <p:spPr>
              <a:xfrm flipH="1" flipV="1" rot="5400000">
                <a:off x="4323240" y="4723920"/>
                <a:ext cx="877320" cy="381600"/>
              </a:xfrm>
              <a:prstGeom prst="curvedConnector5">
                <a:avLst>
                  <a:gd name="adj1" fmla="val 2873"/>
                  <a:gd name="adj2" fmla="val -1416"/>
                  <a:gd name="adj3" fmla="val 2873"/>
                </a:avLst>
              </a:prstGeom>
              <a:ln w="3816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491" name=""/>
            <p:cNvSpPr/>
            <p:nvPr/>
          </p:nvSpPr>
          <p:spPr>
            <a:xfrm>
              <a:off x="3047760" y="527220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81480" y="441972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47960" y="5334120"/>
              <a:ext cx="205704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00240" y="4267080"/>
              <a:ext cx="0" cy="1067040"/>
            </a:xfrm>
            <a:prstGeom prst="line">
              <a:avLst/>
            </a:prstGeom>
            <a:ln w="28440">
              <a:solidFill>
                <a:srgbClr val="ccff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040" y="4219560"/>
              <a:ext cx="1599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ccff66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43240" y="4800600"/>
              <a:ext cx="0" cy="5335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67280" y="4800600"/>
              <a:ext cx="1599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nergy Absorbed (Q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3581280"/>
              <a:ext cx="3504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Endothermic Re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Energy in Reactions (cont.)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28600" y="1060560"/>
            <a:ext cx="8534520" cy="5140080"/>
            <a:chOff x="228600" y="1060560"/>
            <a:chExt cx="8534520" cy="5140080"/>
          </a:xfrm>
        </p:grpSpPr>
        <p:sp>
          <p:nvSpPr>
            <p:cNvPr id="501" name=""/>
            <p:cNvSpPr/>
            <p:nvPr/>
          </p:nvSpPr>
          <p:spPr>
            <a:xfrm>
              <a:off x="2303640" y="1819440"/>
              <a:ext cx="0" cy="4381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86000" y="6200640"/>
              <a:ext cx="6159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7000" y="1898640"/>
              <a:ext cx="16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651040" y="3220920"/>
              <a:ext cx="5959440" cy="1957680"/>
              <a:chOff x="2651040" y="3220920"/>
              <a:chExt cx="5959440" cy="1957680"/>
            </a:xfrm>
          </p:grpSpPr>
          <p:sp>
            <p:nvSpPr>
              <p:cNvPr id="505" name=""/>
              <p:cNvSpPr/>
              <p:nvPr/>
            </p:nvSpPr>
            <p:spPr>
              <a:xfrm flipV="1">
                <a:off x="2651040" y="3571560"/>
                <a:ext cx="2583000" cy="9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70440" y="5178600"/>
                <a:ext cx="28400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770440" y="3571560"/>
                <a:ext cx="0" cy="16066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8" name=""/>
              <p:cNvCxnSpPr>
                <a:endCxn id="507" idx="0"/>
              </p:cNvCxnSpPr>
              <p:nvPr/>
            </p:nvCxnSpPr>
            <p:spPr>
              <a:xfrm flipV="1">
                <a:off x="5234040" y="3552480"/>
                <a:ext cx="536760" cy="21600"/>
              </a:xfrm>
              <a:prstGeom prst="curvedConnector5">
                <a:avLst>
                  <a:gd name="adj1" fmla="val 10738"/>
                  <a:gd name="adj2" fmla="val 830508"/>
                  <a:gd name="adj3" fmla="val 10738"/>
                </a:avLst>
              </a:prstGeom>
              <a:ln w="3816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509" name=""/>
            <p:cNvSpPr/>
            <p:nvPr/>
          </p:nvSpPr>
          <p:spPr>
            <a:xfrm>
              <a:off x="2819520" y="3166920"/>
              <a:ext cx="20350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Na(s) + 2H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O(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27840" y="5245200"/>
              <a:ext cx="2662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NaOH(aq) + H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22960" y="3571920"/>
              <a:ext cx="240804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43600" y="3228840"/>
              <a:ext cx="0" cy="343080"/>
            </a:xfrm>
            <a:prstGeom prst="line">
              <a:avLst/>
            </a:prstGeom>
            <a:ln w="28440">
              <a:solidFill>
                <a:srgbClr val="ccff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14960" y="2543040"/>
              <a:ext cx="18716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Low Activation Energy (E</a:t>
              </a:r>
              <a:r>
                <a:rPr b="0" lang="en-US" sz="1600" spc="-1" strike="noStrike" baseline="-25000">
                  <a:solidFill>
                    <a:srgbClr val="ccff66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0360" y="3571920"/>
              <a:ext cx="0" cy="160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89680" y="4079880"/>
              <a:ext cx="187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arge amount of Energy Released (Q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" y="1060560"/>
              <a:ext cx="6334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ample: Sodium Water Reac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6400" y="3244680"/>
              <a:ext cx="990720" cy="0"/>
            </a:xfrm>
            <a:prstGeom prst="line">
              <a:avLst/>
            </a:prstGeom>
            <a:ln cap="rnd" w="28440">
              <a:solidFill>
                <a:srgbClr val="cc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16480" y="4340160"/>
              <a:ext cx="401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atalyst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sts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bstances that speed up chemical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reactions to occur that might not otherwise take place (due to low temperature for examp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ctivation energy for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participate in th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ay undergo a chemical change as a reactant but they are always recycled as a product (so there is no net change in the catalyst molecu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sts are indicated in a chemical reaction by placing the chemical formula over/under the reaction a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Reactants   </a:t>
            </a:r>
            <a:r>
              <a:rPr b="1" lang="en-US" sz="28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67080" y="591192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cat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Catalysts &amp; Energy in Reaction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28600" y="1251000"/>
            <a:ext cx="8420040" cy="4798800"/>
            <a:chOff x="228600" y="1251000"/>
            <a:chExt cx="8420040" cy="4798800"/>
          </a:xfrm>
        </p:grpSpPr>
        <p:sp>
          <p:nvSpPr>
            <p:cNvPr id="524" name=""/>
            <p:cNvSpPr/>
            <p:nvPr/>
          </p:nvSpPr>
          <p:spPr>
            <a:xfrm>
              <a:off x="2265840" y="1959480"/>
              <a:ext cx="0" cy="409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248200" y="6049800"/>
              <a:ext cx="60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9360" y="2033280"/>
              <a:ext cx="157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606760" y="3595320"/>
              <a:ext cx="2535840" cy="8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69640" y="5095440"/>
              <a:ext cx="2788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669640" y="3595320"/>
              <a:ext cx="0" cy="1499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0" name=""/>
            <p:cNvCxnSpPr>
              <a:endCxn id="529" idx="0"/>
            </p:cNvCxnSpPr>
            <p:nvPr/>
          </p:nvCxnSpPr>
          <p:spPr>
            <a:xfrm flipV="1">
              <a:off x="5142960" y="3576960"/>
              <a:ext cx="526680" cy="19800"/>
            </a:xfrm>
            <a:prstGeom prst="curvedConnector5">
              <a:avLst>
                <a:gd name="adj1" fmla="val 10738"/>
                <a:gd name="adj2" fmla="val 829629"/>
                <a:gd name="adj3" fmla="val 10738"/>
              </a:avLst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531" name=""/>
            <p:cNvSpPr/>
            <p:nvPr/>
          </p:nvSpPr>
          <p:spPr>
            <a:xfrm>
              <a:off x="2772360" y="3217320"/>
              <a:ext cx="19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7720" y="4728960"/>
              <a:ext cx="163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85080" y="3580560"/>
              <a:ext cx="236412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39920" y="3275280"/>
              <a:ext cx="0" cy="3200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5440" y="2865960"/>
              <a:ext cx="218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00ffff"/>
                  </a:solidFill>
                  <a:uFillTx/>
                  <a:latin typeface="Arial"/>
                </a:rPr>
                <a:t>with</a:t>
              </a: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8600" y="1251000"/>
              <a:ext cx="621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66"/>
                  </a:solidFill>
                  <a:latin typeface="Arial"/>
                </a:rPr>
                <a:t>Catalysts lower Activation Ener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27" idx="0"/>
              <a:endCxn id="529" idx="1"/>
            </p:cNvCxnSpPr>
            <p:nvPr/>
          </p:nvCxnSpPr>
          <p:spPr>
            <a:xfrm flipH="1" rot="16200000">
              <a:off x="5405400" y="3314160"/>
              <a:ext cx="1800" cy="526680"/>
            </a:xfrm>
            <a:prstGeom prst="curvedConnector5">
              <a:avLst>
                <a:gd name="adj1" fmla="val -104000000"/>
                <a:gd name="adj2" fmla="val 50000"/>
                <a:gd name="adj3" fmla="val -104000000"/>
              </a:avLst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5397120" y="3263400"/>
              <a:ext cx="1056240" cy="0"/>
            </a:xfrm>
            <a:prstGeom prst="line">
              <a:avLst/>
            </a:prstGeom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09720" y="2045160"/>
              <a:ext cx="105660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68400" y="1794600"/>
              <a:ext cx="228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withou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98560" y="2054160"/>
              <a:ext cx="29520" cy="153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ypes of Observ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/subjective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 qualities such as color, tast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“It is really warm outside toda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d by a number and a unit (an accepted reference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“The temperature is 8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outside toda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ndothermic or Exothermic?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(that is the question…)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hemical re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required to break bonds (energy absorb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released when bonds are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energy required to break a chemical bond is the same as the energy released when the bond is formed, this is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ond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a chemical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absorbed equal to the bond energies for all bonds broken in the reac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released equal to the bond energies for all bonds formed in th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ctions absorb more energy than they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otherm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ctions release more energy than they abso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7900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Balancing Chemical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64764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w of Mass Conser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&amp; John Dalton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ter is never created nor destr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ato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reactants of a chemical reaction must be accounted for in th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 Proc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ll reactants &amp; products in the reaction &amp; write out their formu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this is the unbalanced chemical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the number of each atom for each compound for each reactant &amp; produc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se values must be the same for both reactants &amp; products when the reaction is balanced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with the most “complicated” molecule, systematically adjust the coefficients to balance # of the atoms on each side of the reac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balance one atom at a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until all atoms are balanced for th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you have a balanced chemical equ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Balancing Chemical Reactions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example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odium metal is added to water a violent reaction takes place producing aqueous sodium hydroxide and releasing hydrogen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out the unbalanced chemical re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balance the chemical re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Balancing Chemical Reactions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Hint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polyatomic ion(s) appears on both the reactant &amp; product side of the reac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chang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eat the whole ion as a “unit” when balancing the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nitrate ion 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gets swapped between the Ag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in thi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treated as a whole unit when  balancing thi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320" y="3116160"/>
            <a:ext cx="8839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g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aq) +   CaCl</a:t>
            </a:r>
            <a:r>
              <a:rPr b="0" lang="en-US" sz="2800" spc="-1" strike="noStrike" baseline="-25000">
                <a:solidFill>
                  <a:srgbClr val="99ff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(aq)</a:t>
            </a:r>
            <a:r>
              <a:rPr b="0" lang="en-US" sz="2800" spc="-1" strike="noStrike">
                <a:solidFill>
                  <a:srgbClr val="99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AgCl(s) +    Ca(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99ff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7: Chemical Reactions in Aqueous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riving Forces &amp; Chemical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ndency for reactants to undergo chemical changes (reactions) to form products are called “driving forc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4 common “driving forces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a solid (precipitation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water (acid-base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of electrons (oxidation-reduction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a gas (bad taco reac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2 or more chemicals are brought together, if any of these things can happen, a chemical change is likely to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one of these processes occurs, we describe the resulting chemical reaction based on the driving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olubili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asure of how much of a solute will dissolve in a solvent is called i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lu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ility is temperature 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 solubility increases with increased temperature (i.e. you can dissolve more sugar in hot water than in cold w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 solubility increases with decreased temperature (i.e. you can dissolve mo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cold water than hot w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olute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lu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f any of it will dissolve in a sol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l is 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lute is insoluble if no appreciable amount of it will dissolve in sol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Cl is in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2 solutions are combined and result in the formation of an insoluble produ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duct will not dissolve in the sol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duct will form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ecipi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Precipitation (formation of a solid) is one indication that a chemical change has occurr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recipitation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0924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precipitation reactions, the ions of one substance are exchanged with the ions of another substance when their aqueous solutions are mi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one of the products formed is in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(aq) +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AgI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95280" y="4354560"/>
            <a:ext cx="6769080" cy="1817640"/>
            <a:chOff x="1295280" y="4354560"/>
            <a:chExt cx="6769080" cy="1817640"/>
          </a:xfrm>
        </p:grpSpPr>
        <p:grpSp>
          <p:nvGrpSpPr>
            <p:cNvPr id="560" name=""/>
            <p:cNvGrpSpPr/>
            <p:nvPr/>
          </p:nvGrpSpPr>
          <p:grpSpPr>
            <a:xfrm>
              <a:off x="1316160" y="4392720"/>
              <a:ext cx="556920" cy="512640"/>
              <a:chOff x="1316160" y="4392720"/>
              <a:chExt cx="556920" cy="512640"/>
            </a:xfrm>
          </p:grpSpPr>
          <p:sp>
            <p:nvSpPr>
              <p:cNvPr id="561" name=""/>
              <p:cNvSpPr/>
              <p:nvPr/>
            </p:nvSpPr>
            <p:spPr>
              <a:xfrm>
                <a:off x="1360440" y="4392720"/>
                <a:ext cx="512640" cy="512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16160" y="442116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295280" y="4965840"/>
              <a:ext cx="749520" cy="825480"/>
              <a:chOff x="1295280" y="4965840"/>
              <a:chExt cx="749520" cy="825480"/>
            </a:xfrm>
          </p:grpSpPr>
          <p:sp>
            <p:nvSpPr>
              <p:cNvPr id="564" name=""/>
              <p:cNvSpPr/>
              <p:nvPr/>
            </p:nvSpPr>
            <p:spPr>
              <a:xfrm>
                <a:off x="1295280" y="4965840"/>
                <a:ext cx="749520" cy="825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48280" y="5151600"/>
                <a:ext cx="343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813040" y="4354560"/>
              <a:ext cx="712800" cy="673200"/>
              <a:chOff x="2813040" y="4354560"/>
              <a:chExt cx="712800" cy="673200"/>
            </a:xfrm>
          </p:grpSpPr>
          <p:sp>
            <p:nvSpPr>
              <p:cNvPr id="567" name=""/>
              <p:cNvSpPr/>
              <p:nvPr/>
            </p:nvSpPr>
            <p:spPr>
              <a:xfrm>
                <a:off x="2852640" y="4354560"/>
                <a:ext cx="673200" cy="673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13040" y="4464360"/>
                <a:ext cx="652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g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743200" y="5118120"/>
              <a:ext cx="1054080" cy="1054080"/>
              <a:chOff x="2743200" y="5118120"/>
              <a:chExt cx="1054080" cy="1054080"/>
            </a:xfrm>
          </p:grpSpPr>
          <p:sp>
            <p:nvSpPr>
              <p:cNvPr id="570" name=""/>
              <p:cNvSpPr/>
              <p:nvPr/>
            </p:nvSpPr>
            <p:spPr>
              <a:xfrm>
                <a:off x="2743200" y="5118120"/>
                <a:ext cx="1054080" cy="10540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36080" y="5418360"/>
                <a:ext cx="7682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317840" y="5005440"/>
              <a:ext cx="684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5410080" y="4438800"/>
              <a:ext cx="557280" cy="512640"/>
              <a:chOff x="5410080" y="4438800"/>
              <a:chExt cx="557280" cy="512640"/>
            </a:xfrm>
          </p:grpSpPr>
          <p:sp>
            <p:nvSpPr>
              <p:cNvPr id="574" name=""/>
              <p:cNvSpPr/>
              <p:nvPr/>
            </p:nvSpPr>
            <p:spPr>
              <a:xfrm>
                <a:off x="5454720" y="4438800"/>
                <a:ext cx="512640" cy="512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10080" y="446724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257800" y="5118120"/>
              <a:ext cx="1054080" cy="1054080"/>
              <a:chOff x="5257800" y="5118120"/>
              <a:chExt cx="1054080" cy="1054080"/>
            </a:xfrm>
          </p:grpSpPr>
          <p:sp>
            <p:nvSpPr>
              <p:cNvPr id="577" name=""/>
              <p:cNvSpPr/>
              <p:nvPr/>
            </p:nvSpPr>
            <p:spPr>
              <a:xfrm>
                <a:off x="5257800" y="5118120"/>
                <a:ext cx="1054080" cy="10540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350680" y="5418360"/>
                <a:ext cx="7682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10400" y="4653000"/>
              <a:ext cx="673200" cy="673200"/>
              <a:chOff x="6710400" y="4653000"/>
              <a:chExt cx="673200" cy="673200"/>
            </a:xfrm>
          </p:grpSpPr>
          <p:sp>
            <p:nvSpPr>
              <p:cNvPr id="580" name=""/>
              <p:cNvSpPr/>
              <p:nvPr/>
            </p:nvSpPr>
            <p:spPr>
              <a:xfrm>
                <a:off x="6710400" y="4653000"/>
                <a:ext cx="673200" cy="67320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70880" y="476280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7315200" y="4584960"/>
              <a:ext cx="749160" cy="825480"/>
              <a:chOff x="7315200" y="4584960"/>
              <a:chExt cx="749160" cy="825480"/>
            </a:xfrm>
          </p:grpSpPr>
          <p:sp>
            <p:nvSpPr>
              <p:cNvPr id="583" name=""/>
              <p:cNvSpPr/>
              <p:nvPr/>
            </p:nvSpPr>
            <p:spPr>
              <a:xfrm>
                <a:off x="7315200" y="4584960"/>
                <a:ext cx="749160" cy="825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8120" y="47707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7315200" y="4813560"/>
              <a:ext cx="63360" cy="44424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issoci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 + nonmetal (Type I &amp; 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 + polyatomic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atomic cation +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onic compounds dissolve in water the anions and cations are separated from each other; this is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hat ionic compounds dissociate when they dissolve in water because the solution conducts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issociation (examples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assium chloride dissociates in water into potassium cations and chloride 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l(aq) = 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+ 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5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(II) sulfate dissociates in water into copper(II) cations and sulfate 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=  Cu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+ 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57400" y="2286000"/>
            <a:ext cx="4545000" cy="825480"/>
            <a:chOff x="2057400" y="2286000"/>
            <a:chExt cx="4545000" cy="825480"/>
          </a:xfrm>
        </p:grpSpPr>
        <p:grpSp>
          <p:nvGrpSpPr>
            <p:cNvPr id="591" name=""/>
            <p:cNvGrpSpPr/>
            <p:nvPr/>
          </p:nvGrpSpPr>
          <p:grpSpPr>
            <a:xfrm>
              <a:off x="4094280" y="2443320"/>
              <a:ext cx="556920" cy="512640"/>
              <a:chOff x="4094280" y="2443320"/>
              <a:chExt cx="556920" cy="512640"/>
            </a:xfrm>
          </p:grpSpPr>
          <p:sp>
            <p:nvSpPr>
              <p:cNvPr id="592" name=""/>
              <p:cNvSpPr/>
              <p:nvPr/>
            </p:nvSpPr>
            <p:spPr>
              <a:xfrm>
                <a:off x="4138560" y="2443320"/>
                <a:ext cx="512640" cy="512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94280" y="247176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53240" y="2286000"/>
              <a:ext cx="749160" cy="825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06240" y="2471760"/>
              <a:ext cx="528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57400" y="2438280"/>
              <a:ext cx="512640" cy="513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14640" y="2467080"/>
              <a:ext cx="399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00200" y="2286000"/>
              <a:ext cx="749520" cy="825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3120" y="247176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00200" y="2514600"/>
              <a:ext cx="63720" cy="368280"/>
            </a:xfrm>
            <a:prstGeom prst="ellipse">
              <a:avLst/>
            </a:prstGeom>
            <a:solidFill>
              <a:srgbClr val="f39fd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616040" y="4724280"/>
            <a:ext cx="5299200" cy="978120"/>
            <a:chOff x="1616040" y="4724280"/>
            <a:chExt cx="5299200" cy="978120"/>
          </a:xfrm>
        </p:grpSpPr>
        <p:grpSp>
          <p:nvGrpSpPr>
            <p:cNvPr id="602" name=""/>
            <p:cNvGrpSpPr/>
            <p:nvPr/>
          </p:nvGrpSpPr>
          <p:grpSpPr>
            <a:xfrm>
              <a:off x="4206960" y="4873680"/>
              <a:ext cx="757080" cy="681120"/>
              <a:chOff x="4206960" y="4873680"/>
              <a:chExt cx="757080" cy="681120"/>
            </a:xfrm>
          </p:grpSpPr>
          <p:sp>
            <p:nvSpPr>
              <p:cNvPr id="603" name=""/>
              <p:cNvSpPr/>
              <p:nvPr/>
            </p:nvSpPr>
            <p:spPr>
              <a:xfrm>
                <a:off x="4206960" y="4873680"/>
                <a:ext cx="757080" cy="68112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22440" y="4986360"/>
                <a:ext cx="72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u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943600" y="4724280"/>
              <a:ext cx="971640" cy="978120"/>
              <a:chOff x="5943600" y="4724280"/>
              <a:chExt cx="971640" cy="978120"/>
            </a:xfrm>
          </p:grpSpPr>
          <p:sp>
            <p:nvSpPr>
              <p:cNvPr id="606" name=""/>
              <p:cNvSpPr/>
              <p:nvPr/>
            </p:nvSpPr>
            <p:spPr>
              <a:xfrm>
                <a:off x="5943600" y="4724280"/>
                <a:ext cx="971640" cy="9781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26760" y="4986360"/>
                <a:ext cx="80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616040" y="4869000"/>
              <a:ext cx="757440" cy="680760"/>
              <a:chOff x="1616040" y="4869000"/>
              <a:chExt cx="757440" cy="680760"/>
            </a:xfrm>
          </p:grpSpPr>
          <p:sp>
            <p:nvSpPr>
              <p:cNvPr id="609" name=""/>
              <p:cNvSpPr/>
              <p:nvPr/>
            </p:nvSpPr>
            <p:spPr>
              <a:xfrm>
                <a:off x="1616040" y="4869000"/>
                <a:ext cx="757440" cy="6807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25480" y="4981680"/>
                <a:ext cx="536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319480" y="4724280"/>
              <a:ext cx="971280" cy="978120"/>
              <a:chOff x="2319480" y="4724280"/>
              <a:chExt cx="971280" cy="978120"/>
            </a:xfrm>
          </p:grpSpPr>
          <p:sp>
            <p:nvSpPr>
              <p:cNvPr id="612" name=""/>
              <p:cNvSpPr/>
              <p:nvPr/>
            </p:nvSpPr>
            <p:spPr>
              <a:xfrm>
                <a:off x="2319480" y="4724280"/>
                <a:ext cx="971280" cy="9781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91480" y="4986360"/>
                <a:ext cx="6588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279520" y="5029200"/>
              <a:ext cx="139680" cy="368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asurement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d with a value (number) &amp; a unit (referenc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value and unit are of equal importance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indicates a measurement’s size (based on its un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 indicates a measurement’s relationship to other physical quant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issociation (example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assium sulfate dissociates in water into potassium cations and sulfate 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 =   2 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+ 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78000" y="3691080"/>
            <a:ext cx="5789520" cy="1366560"/>
            <a:chOff x="1278000" y="3691080"/>
            <a:chExt cx="5789520" cy="1366560"/>
          </a:xfrm>
        </p:grpSpPr>
        <p:grpSp>
          <p:nvGrpSpPr>
            <p:cNvPr id="618" name=""/>
            <p:cNvGrpSpPr/>
            <p:nvPr/>
          </p:nvGrpSpPr>
          <p:grpSpPr>
            <a:xfrm>
              <a:off x="4457520" y="3706920"/>
              <a:ext cx="557280" cy="512640"/>
              <a:chOff x="4457520" y="3706920"/>
              <a:chExt cx="557280" cy="512640"/>
            </a:xfrm>
          </p:grpSpPr>
          <p:sp>
            <p:nvSpPr>
              <p:cNvPr id="619" name=""/>
              <p:cNvSpPr/>
              <p:nvPr/>
            </p:nvSpPr>
            <p:spPr>
              <a:xfrm>
                <a:off x="4502160" y="3706920"/>
                <a:ext cx="512640" cy="512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57520" y="373536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095880" y="3809880"/>
              <a:ext cx="971640" cy="978120"/>
              <a:chOff x="6095880" y="3809880"/>
              <a:chExt cx="971640" cy="978120"/>
            </a:xfrm>
          </p:grpSpPr>
          <p:sp>
            <p:nvSpPr>
              <p:cNvPr id="622" name=""/>
              <p:cNvSpPr/>
              <p:nvPr/>
            </p:nvSpPr>
            <p:spPr>
              <a:xfrm>
                <a:off x="6095880" y="3809880"/>
                <a:ext cx="971640" cy="978120"/>
              </a:xfrm>
              <a:prstGeom prst="ellipse">
                <a:avLst/>
              </a:prstGeom>
              <a:solidFill>
                <a:srgbClr val="f3456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79040" y="4071960"/>
                <a:ext cx="806760" cy="505080"/>
              </a:xfrm>
              <a:prstGeom prst="rect">
                <a:avLst/>
              </a:prstGeom>
              <a:solidFill>
                <a:srgbClr val="f34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457520" y="4545000"/>
              <a:ext cx="557280" cy="512640"/>
              <a:chOff x="4457520" y="4545000"/>
              <a:chExt cx="557280" cy="512640"/>
            </a:xfrm>
          </p:grpSpPr>
          <p:sp>
            <p:nvSpPr>
              <p:cNvPr id="625" name=""/>
              <p:cNvSpPr/>
              <p:nvPr/>
            </p:nvSpPr>
            <p:spPr>
              <a:xfrm>
                <a:off x="4502160" y="4545000"/>
                <a:ext cx="512640" cy="5126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57520" y="457344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2649600" y="3935520"/>
              <a:ext cx="512640" cy="512640"/>
              <a:chOff x="2649600" y="3935520"/>
              <a:chExt cx="512640" cy="512640"/>
            </a:xfrm>
          </p:grpSpPr>
          <p:sp>
            <p:nvSpPr>
              <p:cNvPr id="628" name=""/>
              <p:cNvSpPr/>
              <p:nvPr/>
            </p:nvSpPr>
            <p:spPr>
              <a:xfrm>
                <a:off x="2649600" y="3935520"/>
                <a:ext cx="512640" cy="5126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05400" y="3963960"/>
                <a:ext cx="401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278000" y="3935520"/>
              <a:ext cx="512640" cy="512640"/>
              <a:chOff x="1278000" y="3935520"/>
              <a:chExt cx="512640" cy="512640"/>
            </a:xfrm>
          </p:grpSpPr>
          <p:sp>
            <p:nvSpPr>
              <p:cNvPr id="631" name=""/>
              <p:cNvSpPr/>
              <p:nvPr/>
            </p:nvSpPr>
            <p:spPr>
              <a:xfrm>
                <a:off x="1278000" y="3935520"/>
                <a:ext cx="512640" cy="5126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33800" y="3963960"/>
                <a:ext cx="401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765440" y="3691080"/>
              <a:ext cx="971280" cy="977760"/>
              <a:chOff x="1765440" y="3691080"/>
              <a:chExt cx="971280" cy="977760"/>
            </a:xfrm>
          </p:grpSpPr>
          <p:sp>
            <p:nvSpPr>
              <p:cNvPr id="634" name=""/>
              <p:cNvSpPr/>
              <p:nvPr/>
            </p:nvSpPr>
            <p:spPr>
              <a:xfrm>
                <a:off x="1765440" y="3691080"/>
                <a:ext cx="971280" cy="977760"/>
              </a:xfrm>
              <a:prstGeom prst="ellipse">
                <a:avLst/>
              </a:prstGeom>
              <a:solidFill>
                <a:srgbClr val="f3456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23120" y="3952800"/>
                <a:ext cx="658800" cy="505080"/>
              </a:xfrm>
              <a:prstGeom prst="rect">
                <a:avLst/>
              </a:prstGeom>
              <a:solidFill>
                <a:srgbClr val="f34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2673360" y="4044960"/>
              <a:ext cx="63360" cy="368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58960" y="4044960"/>
              <a:ext cx="6336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Process for Predicting the Products of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a Precipitation Reaction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what ions each aqueous reactant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+) ion from one reactant with (-) ion from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Charges of combined ions to get formula of each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the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Solubility of Each Product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bility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roduct is insoluble or slightly soluble, it will precipi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olubility Rul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, except AgCl,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, except Ba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b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a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lightly soluble (will precipitate), except NaOH, KOH, are soluble and B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oderately sol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lightly soluble (will precipi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ic Equ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s which describe the chemicals put into the water and the product molecule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Cl(aq) + Ag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K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q) + AgCl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s which describe the actual ions and molecules in the solutions as well as the molecules of solid, liquid and gas not dissolved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nic equ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C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that are both reactants and product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tator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C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onic equation in which the  spectator ions are dropped is called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 ionic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gC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3962520"/>
            <a:ext cx="762120" cy="596880"/>
          </a:xfrm>
          <a:prstGeom prst="rect">
            <a:avLst/>
          </a:prstGeom>
          <a:noFill/>
          <a:ln w="12600">
            <a:solidFill>
              <a:srgbClr val="f34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3886200"/>
            <a:ext cx="749160" cy="596880"/>
          </a:xfrm>
          <a:prstGeom prst="rect">
            <a:avLst/>
          </a:prstGeom>
          <a:noFill/>
          <a:ln w="12600">
            <a:solidFill>
              <a:srgbClr val="f34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22840" y="3886200"/>
            <a:ext cx="977760" cy="596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3886200"/>
            <a:ext cx="990720" cy="596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lectrolyt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 are substances whose aqueous solution is a conductor of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electrolytes have ions dissolved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lytes, virtual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 molecules are dissociated into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olecules are dissociated into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lytes,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percenta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molecules are dissociated into 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eactions that Form Water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cids + Bas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all contain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tions and an a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 all contain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ions and a 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cids dissociate in water they release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 and their 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ases dissociate in water they release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 and their 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cid-Base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reaction of an acid with a base,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acid combines with the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base to mak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tion from the base combines with the anion from the acid to make the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id + base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lt +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Ca(OH)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a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2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t ionic equation for an Acid-Base reaction is al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O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5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0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eactions of Metals with Nonmetal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(Oxidation-Reduction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al loses electrons and becomes a 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ll this proces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nmetal gains electrons and becomes an a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ll this proces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eaction, electrons are transferred from the metal to the non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xidation-Reduction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actions that involve a transfer of one or more electrons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xidation-reduc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y that the substance that loses electrons in the reaction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xidiz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substance that gains electrons in the reaction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9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Predicting Products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Metal + Nonmetal Reactions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+ nonmeta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ic com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 compounds are always solids unless dissolved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onic compound the metal is now a 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onic compound the nonmetal is now an a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dict direct synthesis of metal +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charges on the cation and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rom their position on the Periodic T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numbers of cations and anions needed to have charges canc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the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1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23:27:24Z</dcterms:created>
  <dc:creator>tony zable</dc:creator>
  <dc:description/>
  <cp:keywords/>
  <dc:language>en-US</dc:language>
  <cp:lastModifiedBy>Tony Zable</cp:lastModifiedBy>
  <cp:lastPrinted>2002-06-25T17:35:45Z</cp:lastPrinted>
  <dcterms:modified xsi:type="dcterms:W3CDTF">2006-11-09T20:46:33Z</dcterms:modified>
  <cp:revision>62</cp:revision>
  <dc:subject/>
  <dc:title>CH100: Fundamentals for Chemistry</dc:title>
</cp:coreProperties>
</file>