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2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1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125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3070DF3-20CA-4154-85D2-CFE7132657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C5382F-9727-4F33-B2D9-C5A75FF8D9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E8CC9BB-B42B-42BA-A5CD-7A34F0F6EF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E85566C-C017-43B8-989F-A90BDACE3C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5EA1D9E-FBCC-4481-8410-65F254016C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530EB0D-99AE-4259-9CC4-F866E3DE837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9F69E8F-4219-4C59-A678-C00C7EDF9C4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32FC814-0CB1-4C7F-B8EE-318AF22CA8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06442CF-5ACA-48F6-A573-0D9425E35B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587DA6-01CA-440F-AA71-3D3E10DEAA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885B9C6-7AEF-4DB8-8A2B-41C9FFD784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D8D2D10-F205-4D6C-AF31-CF7B4C6635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53B8DB7-3B93-4D38-8307-FC948D8343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430774F-458F-42B6-A520-444B802393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1205BA5-4CFD-449D-8C21-DD1DBA6E02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578063C-5CBF-40C8-9913-8CADB6109F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6470F04-7CD4-4096-AD10-A0E88BFE6E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D9C261B-E852-49AE-9F21-8B88BAC056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C34CA1C-B156-41F9-A25B-B3888B03E8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8FF4712-5781-40B8-A3A6-8FB904D6D9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64F25CC-13DC-4555-95C3-142BA5E835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AA2B5E2-BF4E-44E6-98AB-FCBB8135F3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5958DC-8199-4886-8F5F-6E93417FB1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7BC3E6E-6A46-4E88-9DBB-789674024B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A9BC4DB-59E0-4C9E-B521-E46CEDC126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E6D4652-74C1-4000-84F6-8C3FFB9444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E23DB77-6905-43EB-9A2B-482A3BCEF7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D666F00-ADF9-4DD3-95C7-5BE73FDE216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C8884FB-50C5-4470-A928-350277D71C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422F74E-39CD-474F-9BDA-5C89B13C3F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E6A137-147F-413A-AB94-C8A5B02E95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0349CA8-4B14-4B66-8F0D-4E244ECA19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CEF1161-FC55-4B78-97C9-8A0CE89DA0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1AE49F1-2FCA-433C-8840-89A53E6142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BBD5E3E-C423-43CF-BB98-8B118A1417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01EE6B4-D002-4C52-8B1E-A650CF98F6E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B2D28A0-F0EE-429B-82D2-320E0EF540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3B1513B-CB46-4544-AC36-61AE8DA6DC0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12A7D11-4B2F-4D34-859E-9C04D83AA6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C6DC346-CEE8-4E9D-B645-970ED493AD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E562EC8-E74A-4E7B-865D-1A383D7688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93DE090-274E-4927-9D3B-88EA37DA37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E82982-1CBF-492C-803F-E65C7842E6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3C2B77E-94E5-4A99-86C1-FC69AD0300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D22CCBB-D236-432D-918C-908F015910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3F9A2B8-A287-4FB2-82C4-956CEA56D8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6B39C90-6BFE-426A-98E9-E0DAC53AE8B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1555B20-C5D9-4B3A-9F17-E259B43FF8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C6BAD26-6CD6-4CB0-AE51-C3D98F2400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1B96BAD-63E4-4764-8B6D-3E8C0914A4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BE04913-F592-4036-8B5C-36EBE3827C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F492EA3-0741-4E79-8D12-569FF1363A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9D5DAA6-C207-4C1B-A08F-F041EAD0CE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72B28F3-6BA8-4853-BE74-FCECB83061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F435A56-C281-4118-882E-DCCA5151D8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5F1A6A1-5AEA-4FAE-B869-AD3E3B7376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551A46E-F679-46C4-A395-25CD3BDF63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D518EB-F9BF-4BA9-B7E6-19FB50661A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29AB55F-39D5-462E-8DB6-4CE45D67E6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BECA8BC-F391-4E29-BC3E-77A5E14685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1FD3B9F-73ED-4785-8991-ACC0052478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09E5BF8-1337-4621-8DB0-178DD90599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237E5A7-2221-4AE4-8684-9CA0952C25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57F66D6-C67A-49CD-9CF0-97067634BF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C8E891F-9C82-4A99-A21D-4F30A53BB3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581A9B8-D3B6-468B-9818-463615F641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1337F9E-8310-41F2-97D5-30C19C8DE1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DC01B70-8882-4CEB-BC60-FF6577DFD1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957D66A-EFC9-42CD-9A10-065669401B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0A94F3F-6A4D-4CA9-99F6-A14050DF4B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B8E6A99-3D98-41B4-B35E-8B5B0015DB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04B03E5-6A2F-46F6-A29F-979B9952B1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0886BBC-05E8-4E08-B82C-6F3B6359F2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4529A74-2B53-4BAA-B845-2CD661C3D8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57E3422-5D00-4F8F-8458-66919D625A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68333AE-5F86-4659-B20F-4CE8A34B71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F70D06E-4BFD-4BB9-BC8E-FF511E5F6A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4EEC9D9-A556-43CC-A5AA-F6FF64650A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960BF0E-5FED-404E-9041-B5B6488729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n the dry marker board the type of reaction that may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DF11B32-D188-46E0-B1F3-0DC3CF0C3C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B3BB32EA-D6F9-40C3-A05A-9117515A92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D6ACCA1-1ECB-420C-B689-7CB2E58A17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ED61E01-4887-4D0D-940F-F8662517FB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4A44FEA-B675-45CA-A53F-9F72183089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E156DF-354C-490B-8FDF-1CF5871F2B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228AFB-38B4-4981-8339-E9806B8AA1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AEAC94-0F4B-42E7-82CB-EF0DB69F0F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4BBE0DF-0A37-4DE3-BF43-8AD9A007515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07AEECF1-BA92-4328-A4AA-65886F7DAA7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7B52D84-3319-438E-8A66-741A1144D8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1359F13-2198-421F-B4EF-9611B19C52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021633F-76B6-4791-8138-5A86BC08CA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0A1B4DF-61E0-4EC1-8F39-BC8F16320C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68CB-79D0-4CC1-ABE8-06141D13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5737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FDA8-89E9-4B51-952D-AA690DFF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F04-1FCF-4396-9FF3-0127298E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57372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D4E-36ED-4C2C-A35F-5BA9F957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C55-64A9-4A40-8B42-8A8A99C0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320-699C-4DBE-A34C-335E2DE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523-3C23-4267-A75F-1971BEE2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9B91-F5D3-49B5-93DB-8C29A15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E2B-89FD-4B66-94DF-1F10A1CE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726-218B-4434-A134-1F67D3FD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5737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65B-FE2D-4B48-B33E-B5B0702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1656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57372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8D4-1E8C-4656-8CDA-7BB9866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C73-176E-4880-8C3A-288AC370B5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3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: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cientific Not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 Used to Express Very Large or Very Smal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Powers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pare Numbers Written in Scientific 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Compare Exponents of 10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order of magnitu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Compar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nother Kind of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xidation-Reduction Reac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actions between two non-metals are also oxidation-reduc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reaction in whic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reactant or a product will be an oxidation-reduc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2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2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8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500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8" dur="500"/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solid formation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cipita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water formation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id-base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precipitation reactions and acid-base reactions involve compounds exchanging ions, ion exchange reaction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5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0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5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ouble Displacement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36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ionic compounds exchange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 (aq) +  AB (aq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B + 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 will not occur unless one of the products either (1) precipitates or (2) is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2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that involve electron transfer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+ Non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reactant o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that occur in aqueous solution where one of the products is a gas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s forming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HCl(aq)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aCl(aq) +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9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that involve one ion being transferred from one cation to another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gle replacement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+ 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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X +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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Zn(s) + 2 HCl(aq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Zn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aq) +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) + 2 Al(s)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Fe(s) + A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6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1" dur="5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1" dur="5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in whic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) is reacted with a carbon compound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bus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reactions release a lot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reactions are a subclass of 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carbon compounds produces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ustion of compounds that contain hydrogen produces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5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3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4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3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8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8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3" dur="5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8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in which chemicals combine to mak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ne produc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+ Nonmetal reactions can be classified as 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s of Metals or Nonmetals with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classified as Synthesis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two types of Synthesis Reactions are also subclasses of Oxidation-Reduction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0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5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0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5" dur="500"/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0" dur="500"/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ther Ways to Classify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in whic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 reacta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s down into smaller molecule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omposi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initiated by addition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electric current or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e of a Synthesis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NaCl(l)  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2 Na(l) + Cl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80200" y="4724280"/>
            <a:ext cx="92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7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2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7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2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8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ections 8.1 to 8.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madeo Avogadro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743-1794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 lawyer turned che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ontributions includ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difference between atoms &amp; molec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xygen &amp; nitrogen exist as molecules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amp; 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nciled the work of Dalton &amp; Guy-Luss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ing Avogadro’s Principle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determine Avogadro’s number nor the mo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se concepts came lat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gadro is honored because the molar volume of all gases should be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Avogadro’s work was acknowledged after he died, by Stanislao Cannizar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6959520" y="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riting Numbers in Scientific Notation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 the Decimal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decimal point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non-zero digit in the larges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number is now between 1 and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y the new number by 10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number of places you moved the decimal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the sign on the exponent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moved left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moved right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cimal point was not moved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Mo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unting unit (similar to the doz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1 mole = 6.022 x 10</a:t>
            </a:r>
            <a:r>
              <a:rPr b="0" lang="en-US" sz="2800" spc="-1" strike="noStrike" baseline="30000">
                <a:solidFill>
                  <a:srgbClr val="ccff33"/>
                </a:solidFill>
                <a:latin typeface="Arial"/>
              </a:rPr>
              <a:t>23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022 x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3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known as Avogadro’s numbe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onship between the mole &amp; the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 calc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Unicode MS"/>
              </a:rPr>
              <a:t>Got mole problems? 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all Avogadro at 602-102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ar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n grams of 1 mole of a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s to both atoms &amp;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(ato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unds (molecu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cc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e Calculations (1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s/Molecules to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# of atoms (or molecules) by Avo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to Atoms/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 # of atoms (or molecules) by Avogadro’s 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057400" y="2514600"/>
          <a:ext cx="57913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4600"/>
                    <a:ext cx="57913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"/>
          <p:cNvGraphicFramePr/>
          <p:nvPr/>
        </p:nvGraphicFramePr>
        <p:xfrm>
          <a:off x="1633680" y="5105520"/>
          <a:ext cx="64864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3680" y="5105520"/>
                    <a:ext cx="6486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e Calculations (2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s to 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# of moles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s to M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e mass in grams by 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How many moles are in 2.5 grams of lithiu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389240" y="2514600"/>
          <a:ext cx="712764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2514600"/>
                    <a:ext cx="71276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1076400" y="5105520"/>
          <a:ext cx="759924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105520"/>
                    <a:ext cx="759924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15560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age of each element in a compound (by ma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determined fr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ula of the compound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percentages may not always total to 100% due to ro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2057400" y="3510000"/>
          <a:ext cx="5334120" cy="10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10000"/>
                    <a:ext cx="5334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4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9" dur="500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4" dur="500"/>
                                        <p:tgtEl>
                                          <p:spTgt spid="7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% Composition from the chemical formul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molar mass of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this value by the molar mass of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The % Composition of sodium in table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lar mass of NaCl is 58.44 g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1 atom of Na in each NaCl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ic mass of Na is 22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349200" y="3200400"/>
          <a:ext cx="852012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3200400"/>
                    <a:ext cx="85201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"/>
          <p:cNvGraphicFramePr/>
          <p:nvPr/>
        </p:nvGraphicFramePr>
        <p:xfrm>
          <a:off x="1209600" y="5867280"/>
          <a:ext cx="6562800" cy="8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5867280"/>
                    <a:ext cx="656280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ercent Compositio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the following % Composition calcu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carbon in carbon mon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oxygen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% composition of chlorine in sodium hypochlo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9: More on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 (Sections 9.1 to 9.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s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hat do they tell us?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9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perly written chemical equation will provide the following inform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reactants &amp; products involved in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ysical state of all reactants &amp;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any catalysts involved in the 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lative quantity of all reactants &amp;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riting Numbers in Standard For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10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+ the decimal point will move to the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– the decimal point will move to the le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value of the exponent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s the number of places to move the decimal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decimal point and rewrite the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equation provides the relationship between the relative numbers of reacting molecules and produc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molecules react with 1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 to produce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6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he information given is relati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 CO molecules react with 100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00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billion CO molecules react with 1 billion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0 billion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moles CO molecules react with 1 mole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2 moles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2 moles CO molecules react with 6 moles 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 to produce 12 moles C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3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8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efficients in the balanced chemical equation shows the molecules and mole ratio of the reactants an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0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5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nformation Given by th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Equ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moles CO = 1mole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 moles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 mole of CO = 28.01 g, 1 mol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32.00 g, and 1 mol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44.01 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(28.01) g CO = 1(32.00) g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(44.01) g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2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7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2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7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balanced equ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CO +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2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coefficients to find the mol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257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moles CO = 1 mol 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2 moles C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xample: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28" name=""/>
          <p:cNvSpPr/>
          <p:nvPr/>
        </p:nvSpPr>
        <p:spPr>
          <a:xfrm>
            <a:off x="30240" y="685800"/>
            <a:ext cx="9113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Number of Moles of Carbon Monoxide required to react with 3.2 moles Oxygen, and determine the moles of Carbon Dioxide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9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9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4" dur="500"/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04560" y="243792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dimensional an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0" name=""/>
              <p:cNvSpPr txBox="1"/>
              <p:nvPr/>
            </p:nvSpPr>
            <p:spPr>
              <a:xfrm>
                <a:off x="1028880" y="3432240"/>
                <a:ext cx="72133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moles O</m:t>
                    </m:r>
                    <m:r>
                      <m:rPr>
                        <m:lit/>
                        <m:nor/>
                      </m:rPr>
                      <m:t xml:space="preserve">2 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moles 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e O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 moles C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990720" y="4668840"/>
                <a:ext cx="72514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 moles O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moles CO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mole O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 moles CO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6732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Example (cont.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3" name=""/>
          <p:cNvSpPr/>
          <p:nvPr/>
        </p:nvSpPr>
        <p:spPr>
          <a:xfrm>
            <a:off x="34920" y="833400"/>
            <a:ext cx="91137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Number of Moles of Carbon Monox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quired to react with 3.2 moles Oxyge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determine the moles of Carbon Dioxide produ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6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1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 14: Solutions &amp;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are single phase homogenous mix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s consist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ent: the component in largest qua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(s): the othe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lu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considered to be dissolved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olution has not reached its limit of dissolved solute it is 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saturated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olution has reached its limit of dissolved solute and any added solute will not dissolve, it i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turated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oncentr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asure of how much of a substance (solute) is dissolved in another substance (solv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[concentration]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usages of concentr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(m/v) conc. (units are grams/L, grams/mL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(v/v) conc. (unit-less, often % is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arity (units are moles/L or 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981080" y="3200400"/>
                <a:ext cx="53341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n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rPr>
                            <m:lit/>
                            <m:nor/>
                          </m:rPr>
                          <m:t xml:space="preserve">solute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un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e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moun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ven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ss Percent (%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a solute dissolved in a solvent (in grams per unit gram of s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mass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-373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 mass of solute (in grams) by the total mass of solution (in grams) and multiply this ration by 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What is the mass percent of 30.0 grams of NaCl in a 150.0 gram sol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a) How much C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250.0 grams of solution where the mass percent of C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30.0%?  (b) How much C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this sol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438280" y="3048120"/>
                <a:ext cx="445932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ion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1600200" y="4952880"/>
                <a:ext cx="5961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ution</m:t>
                            </m:r>
                          </m:den>
                        </m:f>
                      </m:e>
                    </m: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 System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standard unit systems we will focus 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in US, Albania, and a couple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pecial set of metric 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olar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ion of a solute (in moles per unit volume) dissolved in a sol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units are moles/liter, or M (molarity or molar concentr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molarity from mass concen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y a unit conversion from grams to moles (using atomic or molar mass as the unit conver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What is the molarity of a NaCl solution with concentration of 30.0 grams/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The molar mass of NaCl is 22.99 + 35.45 = 58.44 grams/m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at is the molarity of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is sol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676520" y="4876920"/>
                <a:ext cx="58672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ams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3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idity (or concentration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of a solution is often measured using the pH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 scale is based on the molarity of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H scale ranges from 0 (acidic) to 14 (bas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pH=7.0 the solution is neutral acidity, there is equal concentr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bulk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pH from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 mol/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pH=-log</a:t>
            </a:r>
            <a:r>
              <a:rPr b="0" lang="en-US" sz="2800" spc="-1" strike="noStrike" baseline="-25000">
                <a:solidFill>
                  <a:srgbClr val="99ff33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Example: a solution with 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 then pH = -log</a:t>
            </a:r>
            <a:r>
              <a:rPr b="0" lang="en-US" sz="2400" spc="-1" strike="noStrike" baseline="-25000">
                <a:solidFill>
                  <a:srgbClr val="ebebeb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(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) = 5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alculat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rom pH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]=10</a:t>
            </a:r>
            <a:r>
              <a:rPr b="0" lang="en-US" sz="2800" spc="-1" strike="noStrike" baseline="30000">
                <a:solidFill>
                  <a:srgbClr val="99ff33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Example: a solution with pH = 9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pH = 9.0 then [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]=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9.0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 = 1.0x10</a:t>
            </a:r>
            <a:r>
              <a:rPr b="0" lang="en-US" sz="2400" spc="-1" strike="noStrike" baseline="30000">
                <a:solidFill>
                  <a:srgbClr val="ebebeb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ebebeb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 Concept Ques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or a 0.5 M HCl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0.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[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] for a 0.5 M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u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Less than 0.5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he 2 solutions above have the same pH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No, pH depends on [H</a:t>
            </a:r>
            <a:r>
              <a:rPr b="0" lang="en-US" sz="28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] not [acid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or why no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HCl is a strong acid but H</a:t>
            </a:r>
            <a:r>
              <a:rPr b="0" lang="en-US" sz="2800" spc="-1" strike="noStrike" baseline="-25000">
                <a:solidFill>
                  <a:srgbClr val="ebebe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ebebe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is a weak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a strong acid differ from a weak aci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Strong acids dissociate all of their H</a:t>
            </a:r>
            <a:r>
              <a:rPr b="0" lang="en-US" sz="2800" spc="-1" strike="noStrike" baseline="30000">
                <a:solidFill>
                  <a:srgbClr val="ebebeb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bebeb"/>
                </a:solidFill>
                <a:latin typeface="Arial"/>
              </a:rPr>
              <a:t> ions when in water whereas weak acids do no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lated Units in the Metric Syste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units in the metric system are related to the fundamental unit by a pow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wer of 10 is indicated by a pref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fixes are always the same, regardless of the fundamental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Units &amp; Measuremen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measurement has a specific unit (i.e. 25 cm) it can can be expressed using different uni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hanging its mea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cm is the same as 0.25 m or even 250 m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oice of unit is somewhat arbitrary, what is important is the observation it repres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 &amp; Uncertain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easurement always has some amount of uncertai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certainty comes from limitations of the techniques used for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easurements &amp; Significant Figure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ificant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ess stated otherwise, the uncertainty in the last digit is ±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Rules for Counting Significant Figure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zero integers are always signifi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r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ing zeros never count as significant fig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ive zeros are always 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ling zeros are significant if the number has a decimal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ct numbers have an unlimited number of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ules for Rounding Off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digit to be re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less than 5, the preceding digit stays the s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2667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equal to or greater than 5, the preceding digit is increased by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ound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forget to add place-holding zeros if necessary to keep value the same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hat is Chemistry?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stry is considered to be the central 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the “stuff” that makes up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matter be describ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one type of matter interact with other types of ma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matter transform into other forms of ma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xact Number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ct Nu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numbers known with certain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mited number of significant fig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ei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ing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ides on a squ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onverting between Unit Systems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from one unit to ano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relationship between the units (e.g. 100 cm = 1 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out the starting measurement and multiply it by a quantity that will yield the desired val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 cm (         ) = _____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mber in the “( )” is called the “conversion facto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tric Prefix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Weight vs.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25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the amount of “stuff” in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iner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is the same everywhere in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Units of mass are kilograms (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is the effect of gravity on an object’s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is a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eight depends on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I units of weight are newtons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SCS units are pounds (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Volum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3-D space an object occup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 unit is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eters x meters x mete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on metric unit is the Liter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and volume are not the same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onfuse mass &amp;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57240"/>
            <a:ext cx="798336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ens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is a property of matter representing the mass per unit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qual volumes, denser object has larger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qual masses, denser object has small volu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1 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sity :  solids &gt; liquids &gt;&gt;&gt; g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heterogeneous mixture, denser object s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257800" y="3048120"/>
                <a:ext cx="31622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ns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432560" cy="5751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Using Density in Calcul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71800" y="2057400"/>
                <a:ext cx="316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ns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71800" y="3581280"/>
                <a:ext cx="31496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um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14600" y="5181480"/>
                <a:ext cx="43815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ss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ensity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 Volum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3: Matter &amp; Energy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d </a:t>
            </a: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an important step in understanding the natur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ypes of matter are mixtures of one of 4  basic “element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atter has one or more of 4 basic “qualitie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Aristot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ubstance could be transformed into another substance by altering the relative proportion of these qualities (i.e. lead to gol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ristotle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(384-322 BC)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62520" y="2209680"/>
            <a:ext cx="3047760" cy="1066680"/>
            <a:chOff x="3962520" y="2209680"/>
            <a:chExt cx="3047760" cy="1066680"/>
          </a:xfrm>
        </p:grpSpPr>
        <p:sp>
          <p:nvSpPr>
            <p:cNvPr id="111" name=""/>
            <p:cNvSpPr/>
            <p:nvPr/>
          </p:nvSpPr>
          <p:spPr>
            <a:xfrm>
              <a:off x="5527440" y="274320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2520" y="274320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7440" y="220968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220968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2520" y="220968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62520" y="32763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2520" y="22096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2096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7440" y="220968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27432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10280" y="27432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7440" y="32763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62520" y="4038480"/>
            <a:ext cx="3047760" cy="1066680"/>
            <a:chOff x="3962520" y="4038480"/>
            <a:chExt cx="3047760" cy="1066680"/>
          </a:xfrm>
        </p:grpSpPr>
        <p:sp>
          <p:nvSpPr>
            <p:cNvPr id="124" name=""/>
            <p:cNvSpPr/>
            <p:nvPr/>
          </p:nvSpPr>
          <p:spPr>
            <a:xfrm>
              <a:off x="5527440" y="457200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) D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2520" y="457200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27440" y="403848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03848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62520" y="403848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62520" y="5105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520" y="4038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4038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27440" y="403848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62520" y="4572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280" y="4572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7440" y="5105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2140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cientific Method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Recognize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observ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a que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Make an educated guess -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 the consequences of the hypo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erform experiments to test the pred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experiment support or dispute hypothesi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ysical &amp; Chemical Properti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that are directly observ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mical Proper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the characteristics that determine how the composition of matter changes as a result of contact with other matter or the influence of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s that describe the behavior of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hysical &amp; Chemical Chang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changes to matter that do not result in a change the fundamental components that make that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Changes : boiling, melting, conden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mical Cha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volve a change in the fundamental components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 new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ant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tates of Matter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1981080"/>
          <a:ext cx="8247240" cy="36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47240" cy="36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2971800" y="99072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990720"/>
            <a:ext cx="990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586728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86728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Ener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lassification of Matter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:  composed of only one type of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osed of either individual atoms or molecules (e.g. O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: composed of more than one type of at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ists of molecu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ure (or mix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ogeneous: uniform throughout, appears to be one 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re substa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lutions (single phase homogeneous mixt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sions (multi-phase homogeneous mixt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terogeneous: non-uniform, contains regions with different properties than other reg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28800" y="4724280"/>
          <a:ext cx="533412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724280"/>
                    <a:ext cx="53341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eparation of Mixtur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em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thods of Separ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2 ways of separating various substan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 Physical separation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substances by their physical propertie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ch as size, solubility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xtures can be separated by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several methods of separating mix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tration (sol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illation (liqu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ifugation (liquids from liqu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Chemical separation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ion of substances by their chemical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g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s can be separated into their individual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tures can be separated by chemical separation as w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several methods of chemical sep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on exchange (such as water purification syste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cal affinity (using antibodies to isolate specific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Chemical re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nerg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of something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, mechanical, thermal, electrical, radiant, sound, 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 unit of energy is the Joule (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ommon units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ories (c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lowatt-hour (kW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s of energ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y cannot be created nor destroy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ut it does change from one type to another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 &amp; Temperatur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is 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hot or cold something is (a physical proper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kinetic) energy of the substan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he total energ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d in units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s Fahrenheit (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rees Celsius (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lvin (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energy that 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s from hot objects to cold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bsorbed/released by an object resulting in its change in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absorbed/released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asu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changes in 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emperature Scal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hrenheit Scale, °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32°F, boiling point = 212°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sius Scale, °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unit larger than the Fahrenhe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0°C, boiling point = 100°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lvin Scale,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unit same size as Cels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’s freezing point = 273 K, boiling point = 373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ok Antiqua"/>
              </a:rPr>
              <a:t>Temperature of ice water and boiling water.</a:t>
            </a:r>
            <a:endParaRPr b="0" lang="en-US" sz="33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Scientific Attitud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“Matter is made up of tiny particles called atom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the flow of energy due to a temperature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 flows from higher temperature to lower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involving He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 when a match is struck, it is an exothermic process because energy is produced as he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 melting ice to form liquid water is an endothermic 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Heat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t energy absorbed by an object is proportiona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 of the obje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ange in temperature the object undergo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t capacity (s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 physical property unique to the subst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alculate heat (Q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Q = s </a:t>
            </a:r>
            <a:r>
              <a:rPr b="1" lang="en-US" sz="3200" spc="-1" strike="noStrike" baseline="30000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m </a:t>
            </a:r>
            <a:r>
              <a:rPr b="1" lang="en-US" sz="3200" spc="-1" strike="noStrike" baseline="30000">
                <a:solidFill>
                  <a:srgbClr val="66ff33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pecific Heat Capacity (s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heat energ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 J or Ca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d to increase the temperature of 1 gram of a substance by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r 1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nits of Specific Heat Capac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eat Capacity  is a unique physical property of different sub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metals have higher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s = Q/(m</a:t>
            </a:r>
            <a:r>
              <a:rPr b="0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3400" y="219240"/>
            <a:ext cx="7396200" cy="5902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able of Specific Heat for various substances @ 2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ook Antiqua"/>
              </a:rPr>
              <a:t>o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C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3520" y="1295280"/>
            <a:ext cx="8076240" cy="5486400"/>
            <a:chOff x="533520" y="1295280"/>
            <a:chExt cx="8076240" cy="5486400"/>
          </a:xfrm>
        </p:grpSpPr>
        <p:grpSp>
          <p:nvGrpSpPr>
            <p:cNvPr id="175" name=""/>
            <p:cNvGrpSpPr/>
            <p:nvPr/>
          </p:nvGrpSpPr>
          <p:grpSpPr>
            <a:xfrm>
              <a:off x="542880" y="1297440"/>
              <a:ext cx="8055360" cy="5481360"/>
              <a:chOff x="542880" y="1297440"/>
              <a:chExt cx="8055360" cy="54813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42880" y="1297440"/>
                <a:ext cx="2257920" cy="410040"/>
                <a:chOff x="542880" y="1297440"/>
                <a:chExt cx="2257920" cy="410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81040" y="13068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42880" y="12974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801520" y="1297440"/>
                <a:ext cx="1870920" cy="410040"/>
                <a:chOff x="2801520" y="1297440"/>
                <a:chExt cx="1870920" cy="410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839680" y="13068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 in J/gm 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01520" y="12974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73520" y="1297440"/>
                <a:ext cx="2446200" cy="410040"/>
                <a:chOff x="4673520" y="1297440"/>
                <a:chExt cx="2446200" cy="410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711680" y="13068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 in cal/gm K or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tu/lb F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73520" y="12974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120440" y="1297440"/>
                <a:ext cx="1477800" cy="410040"/>
                <a:chOff x="7120440" y="1297440"/>
                <a:chExt cx="1477800" cy="410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158600" y="13068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olar C</a:t>
                  </a:r>
                  <a:br>
                    <a:rPr sz="1600"/>
                  </a:b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J/mol K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120440" y="12974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42880" y="1726560"/>
                <a:ext cx="2257920" cy="318960"/>
                <a:chOff x="542880" y="1726560"/>
                <a:chExt cx="2257920" cy="318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81040" y="17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2880" y="17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801520" y="1726560"/>
                <a:ext cx="1870920" cy="318960"/>
                <a:chOff x="2801520" y="1726560"/>
                <a:chExt cx="1870920" cy="318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839680" y="17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01520" y="17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1726560"/>
                <a:ext cx="2446200" cy="318960"/>
                <a:chOff x="4673520" y="1726560"/>
                <a:chExt cx="2446200" cy="318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11680" y="17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73520" y="17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7120440" y="1726560"/>
                <a:ext cx="1477800" cy="318960"/>
                <a:chOff x="7120440" y="1726560"/>
                <a:chExt cx="1477800" cy="318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7158600" y="17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20440" y="17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42880" y="2064600"/>
                <a:ext cx="2257920" cy="318960"/>
                <a:chOff x="542880" y="2064600"/>
                <a:chExt cx="2257920" cy="318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81040" y="20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ismuth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2880" y="20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801520" y="2064600"/>
                <a:ext cx="1870920" cy="318960"/>
                <a:chOff x="2801520" y="2064600"/>
                <a:chExt cx="1870920" cy="318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839680" y="20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01520" y="20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673520" y="2064600"/>
                <a:ext cx="2446200" cy="318960"/>
                <a:chOff x="4673520" y="2064600"/>
                <a:chExt cx="2446200" cy="318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4711680" y="20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29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73520" y="20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120440" y="2064600"/>
                <a:ext cx="1477800" cy="318960"/>
                <a:chOff x="7120440" y="2064600"/>
                <a:chExt cx="1477800" cy="318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158600" y="20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120440" y="20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42880" y="2402640"/>
                <a:ext cx="2257920" cy="318960"/>
                <a:chOff x="542880" y="2402640"/>
                <a:chExt cx="2257920" cy="318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81040" y="24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42880" y="24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801520" y="2402640"/>
                <a:ext cx="1870920" cy="318960"/>
                <a:chOff x="2801520" y="2402640"/>
                <a:chExt cx="1870920" cy="318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839680" y="24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801520" y="24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673520" y="2402640"/>
                <a:ext cx="2446200" cy="318960"/>
                <a:chOff x="4673520" y="2402640"/>
                <a:chExt cx="2446200" cy="318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711680" y="24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673520" y="24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7120440" y="2402640"/>
                <a:ext cx="1477800" cy="318960"/>
                <a:chOff x="7120440" y="2402640"/>
                <a:chExt cx="1477800" cy="318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158600" y="24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120440" y="24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2880" y="2740680"/>
                <a:ext cx="2257920" cy="318960"/>
                <a:chOff x="542880" y="2740680"/>
                <a:chExt cx="2257920" cy="318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040" y="27500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2880" y="27406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2801520" y="2740680"/>
                <a:ext cx="1870920" cy="318960"/>
                <a:chOff x="2801520" y="2740680"/>
                <a:chExt cx="1870920" cy="318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839680" y="27500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01520" y="27406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673520" y="2740680"/>
                <a:ext cx="2446200" cy="318960"/>
                <a:chOff x="4673520" y="2740680"/>
                <a:chExt cx="2446200" cy="318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711680" y="27500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673520" y="27406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120440" y="2740680"/>
                <a:ext cx="1477800" cy="318960"/>
                <a:chOff x="7120440" y="2740680"/>
                <a:chExt cx="1477800" cy="318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158600" y="27500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120440" y="27406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42880" y="3078720"/>
                <a:ext cx="2257920" cy="318960"/>
                <a:chOff x="542880" y="3078720"/>
                <a:chExt cx="2257920" cy="318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81040" y="30880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42880" y="30787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801520" y="3078720"/>
                <a:ext cx="1870920" cy="318960"/>
                <a:chOff x="2801520" y="3078720"/>
                <a:chExt cx="1870920" cy="318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839680" y="30880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01520" y="30787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4673520" y="3078720"/>
                <a:ext cx="2446200" cy="318960"/>
                <a:chOff x="4673520" y="3078720"/>
                <a:chExt cx="2446200" cy="318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711680" y="30880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0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73520" y="30787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120440" y="3078720"/>
                <a:ext cx="1477800" cy="318960"/>
                <a:chOff x="7120440" y="3078720"/>
                <a:chExt cx="1477800" cy="318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158600" y="30880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20440" y="30787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42880" y="3417120"/>
                <a:ext cx="2257920" cy="318960"/>
                <a:chOff x="542880" y="3417120"/>
                <a:chExt cx="2257920" cy="318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81040" y="3426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2880" y="34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801520" y="3417120"/>
                <a:ext cx="1870920" cy="318960"/>
                <a:chOff x="2801520" y="3417120"/>
                <a:chExt cx="1870920" cy="318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839680" y="3426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01520" y="34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673520" y="3417120"/>
                <a:ext cx="2446200" cy="318960"/>
                <a:chOff x="4673520" y="3417120"/>
                <a:chExt cx="2446200" cy="3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711680" y="3426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673520" y="34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7120440" y="3417120"/>
                <a:ext cx="1477800" cy="318960"/>
                <a:chOff x="7120440" y="3417120"/>
                <a:chExt cx="1477800" cy="318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7158600" y="3426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120440" y="34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542880" y="3755160"/>
                <a:ext cx="2257920" cy="318960"/>
                <a:chOff x="542880" y="3755160"/>
                <a:chExt cx="2257920" cy="318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581040" y="37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2880" y="37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801520" y="3755160"/>
                <a:ext cx="1870920" cy="318960"/>
                <a:chOff x="2801520" y="3755160"/>
                <a:chExt cx="1870920" cy="318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839680" y="37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01520" y="37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673520" y="3755160"/>
                <a:ext cx="2446200" cy="318960"/>
                <a:chOff x="4673520" y="3755160"/>
                <a:chExt cx="2446200" cy="318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711680" y="37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73520" y="37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7120440" y="3755160"/>
                <a:ext cx="1477800" cy="318960"/>
                <a:chOff x="7120440" y="3755160"/>
                <a:chExt cx="1477800" cy="318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7158600" y="37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120440" y="37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42880" y="4093200"/>
                <a:ext cx="2257920" cy="318960"/>
                <a:chOff x="542880" y="4093200"/>
                <a:chExt cx="2257920" cy="318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81040" y="41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2880" y="40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2801520" y="4093200"/>
                <a:ext cx="1870920" cy="318960"/>
                <a:chOff x="2801520" y="4093200"/>
                <a:chExt cx="1870920" cy="318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839680" y="41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01520" y="40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4673520" y="4093200"/>
                <a:ext cx="2446200" cy="318960"/>
                <a:chOff x="4673520" y="4093200"/>
                <a:chExt cx="2446200" cy="31896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4711680" y="41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673520" y="40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7120440" y="4093200"/>
                <a:ext cx="1477800" cy="318960"/>
                <a:chOff x="7120440" y="4093200"/>
                <a:chExt cx="1477800" cy="3189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158600" y="41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120440" y="40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42880" y="4431240"/>
                <a:ext cx="2257920" cy="318960"/>
                <a:chOff x="542880" y="4431240"/>
                <a:chExt cx="2257920" cy="318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81040" y="44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42880" y="44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801520" y="4431240"/>
                <a:ext cx="1870920" cy="318960"/>
                <a:chOff x="2801520" y="4431240"/>
                <a:chExt cx="1870920" cy="3189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839680" y="44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801520" y="44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673520" y="4431240"/>
                <a:ext cx="2446200" cy="318960"/>
                <a:chOff x="4673520" y="4431240"/>
                <a:chExt cx="2446200" cy="3189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711680" y="44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73520" y="44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7120440" y="4431240"/>
                <a:ext cx="1477800" cy="318960"/>
                <a:chOff x="7120440" y="4431240"/>
                <a:chExt cx="1477800" cy="318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7158600" y="44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120440" y="44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42880" y="4769640"/>
                <a:ext cx="2257920" cy="318960"/>
                <a:chOff x="542880" y="4769640"/>
                <a:chExt cx="2257920" cy="318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81040" y="4779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42880" y="4769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2801520" y="4769640"/>
                <a:ext cx="1870920" cy="318960"/>
                <a:chOff x="2801520" y="4769640"/>
                <a:chExt cx="1870920" cy="31896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2839680" y="4779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01520" y="4769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673520" y="4769640"/>
                <a:ext cx="2446200" cy="318960"/>
                <a:chOff x="4673520" y="4769640"/>
                <a:chExt cx="2446200" cy="3189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711680" y="4779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673520" y="4769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7120440" y="4769640"/>
                <a:ext cx="1477800" cy="318960"/>
                <a:chOff x="7120440" y="4769640"/>
                <a:chExt cx="1477800" cy="3189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158600" y="4779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120440" y="4769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542880" y="5107680"/>
                <a:ext cx="2257920" cy="318960"/>
                <a:chOff x="542880" y="5107680"/>
                <a:chExt cx="2257920" cy="31896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81040" y="51170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lcohol(ethyl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42880" y="51076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801520" y="5107680"/>
                <a:ext cx="1870920" cy="318960"/>
                <a:chOff x="2801520" y="5107680"/>
                <a:chExt cx="1870920" cy="318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839680" y="51170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01520" y="51076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673520" y="5107680"/>
                <a:ext cx="2446200" cy="318960"/>
                <a:chOff x="4673520" y="5107680"/>
                <a:chExt cx="2446200" cy="318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4711680" y="51170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5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673520" y="51076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7120440" y="5107680"/>
                <a:ext cx="1477800" cy="318960"/>
                <a:chOff x="7120440" y="5107680"/>
                <a:chExt cx="1477800" cy="31896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58600" y="51170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20440" y="51076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42880" y="5445720"/>
                <a:ext cx="2257920" cy="318960"/>
                <a:chOff x="542880" y="5445720"/>
                <a:chExt cx="2257920" cy="318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040" y="5454720"/>
                  <a:ext cx="218124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42880" y="54457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2801520" y="5445720"/>
                <a:ext cx="1870920" cy="318960"/>
                <a:chOff x="2801520" y="5445720"/>
                <a:chExt cx="1870920" cy="3189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839680" y="5454720"/>
                  <a:ext cx="179424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.1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01520" y="54457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673520" y="5445720"/>
                <a:ext cx="2446200" cy="318960"/>
                <a:chOff x="4673520" y="5445720"/>
                <a:chExt cx="2446200" cy="3189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711680" y="5454720"/>
                  <a:ext cx="236952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.0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73520" y="54457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7120440" y="5445720"/>
                <a:ext cx="1477800" cy="318960"/>
                <a:chOff x="7120440" y="5445720"/>
                <a:chExt cx="1477800" cy="3189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7158600" y="5454720"/>
                  <a:ext cx="1401120" cy="30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120440" y="54457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42880" y="5783760"/>
                <a:ext cx="2257920" cy="318960"/>
                <a:chOff x="542880" y="5783760"/>
                <a:chExt cx="2257920" cy="3189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81040" y="57931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880" y="57837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801520" y="5783760"/>
                <a:ext cx="1870920" cy="318960"/>
                <a:chOff x="2801520" y="5783760"/>
                <a:chExt cx="1870920" cy="318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839680" y="57931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.0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801520" y="57837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4673520" y="5783760"/>
                <a:ext cx="2446200" cy="318960"/>
                <a:chOff x="4673520" y="5783760"/>
                <a:chExt cx="2446200" cy="3189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4711680" y="57931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4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673520" y="57837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7120440" y="5783760"/>
                <a:ext cx="1477800" cy="318960"/>
                <a:chOff x="7120440" y="5783760"/>
                <a:chExt cx="1477800" cy="3189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7158600" y="57931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120440" y="57837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542880" y="6121800"/>
                <a:ext cx="2257920" cy="318960"/>
                <a:chOff x="542880" y="6121800"/>
                <a:chExt cx="2257920" cy="31896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581040" y="61311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2880" y="61218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2801520" y="6121800"/>
                <a:ext cx="1870920" cy="318960"/>
                <a:chOff x="2801520" y="6121800"/>
                <a:chExt cx="1870920" cy="31896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2839680" y="61311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801520" y="61218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673520" y="6121800"/>
                <a:ext cx="2446200" cy="318960"/>
                <a:chOff x="4673520" y="6121800"/>
                <a:chExt cx="2446200" cy="31896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4711680" y="61311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73520" y="61218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7120440" y="6121800"/>
                <a:ext cx="1477800" cy="318960"/>
                <a:chOff x="7120440" y="6121800"/>
                <a:chExt cx="1477800" cy="318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158600" y="61311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120440" y="61218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542880" y="6459840"/>
                <a:ext cx="2257920" cy="318960"/>
                <a:chOff x="542880" y="6459840"/>
                <a:chExt cx="2257920" cy="3189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581040" y="64692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2880" y="64598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801520" y="6459840"/>
                <a:ext cx="1870920" cy="318960"/>
                <a:chOff x="2801520" y="6459840"/>
                <a:chExt cx="1870920" cy="3189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839680" y="64692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801520" y="64598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673520" y="6459840"/>
                <a:ext cx="2446200" cy="318960"/>
                <a:chOff x="4673520" y="6459840"/>
                <a:chExt cx="2446200" cy="31896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711680" y="64692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673520" y="64598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7120440" y="6459840"/>
                <a:ext cx="1477800" cy="318960"/>
                <a:chOff x="7120440" y="6459840"/>
                <a:chExt cx="1477800" cy="318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7158600" y="64692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120440" y="64598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8" name=""/>
            <p:cNvSpPr/>
            <p:nvPr/>
          </p:nvSpPr>
          <p:spPr>
            <a:xfrm>
              <a:off x="533520" y="12952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4: Elements, Ions &amp; Atoms 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mitri Mendeleev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834-1907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born chem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one of the greatest teachers of his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the known elements into the first “periodic tabl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rganized by chemical properties (&amp; by weight) -&gt;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cted the existence of 3 new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Symbols &amp; Formula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lecule has a chemical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emical formula ind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hemical formu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alton’s Atomic Theo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element consists of individual particle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an neither be created nor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atoms of a given element are iden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combined chemically in definite whole-number ratios to form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have different m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Ato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tom has 2 primary regions of inter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 protons &amp; neutrons (called nucleons, collective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s most of the atom’s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neutron = 1.675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proton = 1.673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, dense region at the center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adius of the nucleus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 (1 femtome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The Electron Clo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s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of 1 electron = 9.109 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s the effective volume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adius of the electron cloud ~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 (1 Angstr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s the chemical properties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Major Developments in Chemistry I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bert Boyle proposed the concept of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0-179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voisier proposed the concept of compounds &amp; the Law of Mass Conser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iestly isolates oxy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97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ust proposed the Law of Definite Propo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alton re-introduces the concept of the atom and establishes Dalton’s La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ndeleev creates th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utherford proposes the “nuclear” model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ohr proposes a “planetary” model of the hydrogen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roedinger publishes his wave equation for hydr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urray Gell-Mann proposes the theory of QCD (proposing the existence of quar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178740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tructure of the Atom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lectric Charge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repels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ge of a proton or electron is the smallest amount that occurs in nature, it is called the quantum of char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om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ulom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at holds the atom together?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magnetic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a.k.a. electric forc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s the electrons to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interactio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a.k.a. strong forc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lds the nucleons together within the nucl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tomic Bookkeeping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number (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in an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in an uncharged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the identity of the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number (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of protons &amp; neutrons in an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s the weight of the a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number of neutrons in an at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# of neutrons = (Mass #) – (Atomic #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Arial"/>
              </a:rPr>
              <a:t># of neutrons = A - 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ss # vs. Atomic Mas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es are the equivalent of sibling members of an 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pe 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carbon-12 (        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 carbon-14 (       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ic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verage total mass of an element’s various naturally occuring isoto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formerly called the am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 There 6 protons &amp; 6 neutrons in a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atom is actually less than the combined mass of all of the nucleons individ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895480" y="2651040"/>
            <a:ext cx="4038480" cy="778680"/>
            <a:chOff x="2895480" y="2651040"/>
            <a:chExt cx="4038480" cy="778680"/>
          </a:xfrm>
        </p:grpSpPr>
        <p:sp>
          <p:nvSpPr>
            <p:cNvPr id="392" name=""/>
            <p:cNvSpPr/>
            <p:nvPr/>
          </p:nvSpPr>
          <p:spPr>
            <a:xfrm>
              <a:off x="3962160" y="272736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24080" y="26510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95480" y="30322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33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505320" y="3429000"/>
            <a:ext cx="3200400" cy="778320"/>
            <a:chOff x="3505320" y="3429000"/>
            <a:chExt cx="3200400" cy="778320"/>
          </a:xfrm>
        </p:grpSpPr>
        <p:sp>
          <p:nvSpPr>
            <p:cNvPr id="396" name=""/>
            <p:cNvSpPr/>
            <p:nvPr/>
          </p:nvSpPr>
          <p:spPr>
            <a:xfrm>
              <a:off x="3733920" y="350496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505320" y="3429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7960" y="38098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48520" y="3413160"/>
            <a:ext cx="3200400" cy="778320"/>
            <a:chOff x="6248520" y="3413160"/>
            <a:chExt cx="3200400" cy="778320"/>
          </a:xfrm>
        </p:grpSpPr>
        <p:sp>
          <p:nvSpPr>
            <p:cNvPr id="400" name=""/>
            <p:cNvSpPr/>
            <p:nvPr/>
          </p:nvSpPr>
          <p:spPr>
            <a:xfrm>
              <a:off x="6477120" y="34891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48520" y="341316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01160" y="37940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33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xamples of Isotop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f the known elements are arranged in a chart called the Periodic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are arranged by similarity of chemical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element is identified by i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lements are organized left-to-right and top-to-bottom by thei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tomic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umns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f each group have similar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ws are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eri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lements and 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ments can be categorized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ftmost elements of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ly 70% of all of the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ments between the metals and non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rties are not quite metal or non-m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(or molecules) that have gained or lost one or more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that have lost electrons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s that have gained extra electrons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have both cations and anions (so that their net charge is zer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05960" y="1066320"/>
            <a:ext cx="812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s have electric char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”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1 or more electrons are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”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 1 or more electrons are g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n atom/molecule is an ion, its charge must be specifi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de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 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s on Electric Char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site charges at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10080" y="4648320"/>
            <a:ext cx="2667240" cy="764280"/>
            <a:chOff x="5410080" y="4648320"/>
            <a:chExt cx="2667240" cy="764280"/>
          </a:xfrm>
        </p:grpSpPr>
        <p:sp>
          <p:nvSpPr>
            <p:cNvPr id="414" name=""/>
            <p:cNvSpPr/>
            <p:nvPr/>
          </p:nvSpPr>
          <p:spPr>
            <a:xfrm>
              <a:off x="5410080" y="47563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43800" y="46483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7280" y="5105520"/>
              <a:ext cx="3812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086600" y="5105520"/>
              <a:ext cx="38088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410080" y="5562720"/>
            <a:ext cx="2667240" cy="654840"/>
            <a:chOff x="5410080" y="5562720"/>
            <a:chExt cx="2667240" cy="654840"/>
          </a:xfrm>
        </p:grpSpPr>
        <p:sp>
          <p:nvSpPr>
            <p:cNvPr id="419" name=""/>
            <p:cNvSpPr/>
            <p:nvPr/>
          </p:nvSpPr>
          <p:spPr>
            <a:xfrm>
              <a:off x="5410080" y="55627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3800" y="557496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5866920" y="5911560"/>
              <a:ext cx="3812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86600" y="5911560"/>
              <a:ext cx="3808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410080" y="6083280"/>
            <a:ext cx="2667240" cy="776880"/>
            <a:chOff x="5410080" y="6083280"/>
            <a:chExt cx="2667240" cy="776880"/>
          </a:xfrm>
        </p:grpSpPr>
        <p:sp>
          <p:nvSpPr>
            <p:cNvPr id="424" name=""/>
            <p:cNvSpPr/>
            <p:nvPr/>
          </p:nvSpPr>
          <p:spPr>
            <a:xfrm>
              <a:off x="5410080" y="60832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43800" y="609588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866920" y="6553080"/>
              <a:ext cx="38124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86600" y="6553080"/>
              <a:ext cx="380880" cy="0"/>
            </a:xfrm>
            <a:prstGeom prst="line">
              <a:avLst/>
            </a:prstGeom>
            <a:ln w="1260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86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ton (first observed by Eugene Goldste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97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ctron (JJ Thomps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20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roton (named by Ernest Rutherfo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32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eutron (James Chadwic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96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oine Henr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querel discovers radioactiv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11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. Kamerlingh Onnes discovers superconductivity in low temperature mercu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47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Shockley and colleagues invent the first transis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rnell, Wieman, and Ketterle observe the 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 of matter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the Bose-Einstein condensate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he labora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ajor Developments in Chemistry I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 100: Chemical Nomencl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a.k.a. naming compou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ntoine Lavoisier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1743-1794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ed by many to be the “Father of Modern Chemistr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contribution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7432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pounds are formed they are held together by the association of elec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association is called a chemical b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3 general types of chemical bon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ff"/>
                </a:solidFill>
                <a:latin typeface="Arial"/>
              </a:rPr>
              <a:t>Note:  many compounds have more than one type of chemical bond present, but we will only work with “simple compound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Compound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“practical” purposes will separate compounds into 2 general catego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ions (both positive and negative 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have no net charge (i.e. combined charge of ze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 on the attraction between positive and negative charges of the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a metal is present as a cation and a nonmetal is present as an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lecular (or coval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up of atoms that share their outer elect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ge plays no direct role in their 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no metals ar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iest way to identify an ionic compound is to ask whether or not it has a metal pres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&gt; ionic (e.g. Ca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&gt; covalent (e.g. C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alent compounds require the use of Greek prefixes to indicate the number of each element present in one molec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nic compounds do not use the Greek prefix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Simple Compoun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simple”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ina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pound is a compound made of only 2 types of el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first element is a me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are no metal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258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Charges &amp; the Periodic Table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 metals form 1+ cations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di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 metals form 2+ cations (C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lci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3 metals form 3+ cations (A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uminum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other met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.e. the transitional metals, Pb, etc.)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 more than one type of 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man numerals must be used to indicate the charge of the 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called iron(II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C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called iron(III) chlor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C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amp; Z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5 nonmetals form 3- anions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tr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6 nonmetals form 2- anions (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x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7 nonmetals form 1- anions (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loride 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18 nonmetals  do not form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Greek Prefixes for Compound Nam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7800" y="1155600"/>
            <a:ext cx="4383360" cy="337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  Di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  T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  Tetr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Cl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tetra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hlo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7960" y="1155240"/>
            <a:ext cx="426708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)  Hex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)  Hep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)  Oct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)  Non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) Dec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tri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carbon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"/>
              </a:rPr>
              <a:t>octa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hyd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3951360"/>
            <a:ext cx="8610480" cy="28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o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Prefixes are used when the compound does not have a metal present (or when H is the first element in the formul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Prefixes must be used for every element present in the compou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mono- is not used for the first element in a compound name (e.g. carbon diox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Compounds containing Polyatomic 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onic compounds are made up of polyatomic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encounter this, do not freak out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 familiar with the polyatomic ions on the hand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 the nitrate ion (NO</a:t>
            </a:r>
            <a:r>
              <a:rPr b="0" lang="en-US" sz="3200" spc="-1" strike="noStrike" baseline="-25000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ff33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ing of this type of compound is similar to that for ionic comp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Latin term for “sour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are substances that donate protons (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ually when dissolved in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formula usually begins with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  hydrochlor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HCl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te b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ces that accept protons (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potassium hydr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KOH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99cc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99ccff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3048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2: Measurements &amp;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Acid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46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s separate acids into 2 typ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 acids containing oxy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-410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5880" indent="-351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99ff33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6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Naming Acid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hydro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prefix to begi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root of the anion (i.e.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se chl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“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-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suffix then end with “aci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l is </a:t>
            </a: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hyd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6: Chemical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Reactions (Intro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matter undergoes chemical changes these processes are called chemical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tances that undergo the change(s) are calle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ac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ing substances are called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form of a chemical re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Arial"/>
              </a:rPr>
              <a:t>Reactant(s) </a:t>
            </a:r>
            <a:r>
              <a:rPr b="1" lang="en-US" sz="2800" spc="-1" strike="noStrike">
                <a:solidFill>
                  <a:srgbClr val="ebebeb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ebebeb"/>
                </a:solidFill>
                <a:latin typeface="Arial"/>
              </a:rPr>
              <a:t> Produc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(g) +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(g) </a:t>
            </a:r>
            <a:r>
              <a:rPr b="1" lang="en-US" sz="28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99ccff"/>
                </a:solidFill>
                <a:uFillTx/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9cc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O (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nderlined numbers are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efficient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emical Reactions (cont.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chemical reactions indicate the 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of each reactant &amp; product involved in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iqui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g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o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ates of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quickly a chemical reaction occurs is indicated by i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ac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s that influence reaction ra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nergy in Chemical Reaction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85800" y="762120"/>
            <a:ext cx="6705720" cy="2743200"/>
            <a:chOff x="685800" y="762120"/>
            <a:chExt cx="6705720" cy="2743200"/>
          </a:xfrm>
        </p:grpSpPr>
        <p:sp>
          <p:nvSpPr>
            <p:cNvPr id="466" name=""/>
            <p:cNvSpPr/>
            <p:nvPr/>
          </p:nvSpPr>
          <p:spPr>
            <a:xfrm>
              <a:off x="2971800" y="1219320"/>
              <a:ext cx="0" cy="228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71440" y="3505320"/>
              <a:ext cx="434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111132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3048120" y="1177560"/>
              <a:ext cx="3505320" cy="1794240"/>
              <a:chOff x="3048120" y="1177560"/>
              <a:chExt cx="3505320" cy="1794240"/>
            </a:xfrm>
          </p:grpSpPr>
          <p:sp>
            <p:nvSpPr>
              <p:cNvPr id="470" name=""/>
              <p:cNvSpPr/>
              <p:nvPr/>
            </p:nvSpPr>
            <p:spPr>
              <a:xfrm>
                <a:off x="3048120" y="2133720"/>
                <a:ext cx="1523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29200" y="2971800"/>
                <a:ext cx="15242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029200" y="2133720"/>
                <a:ext cx="0" cy="838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73" name=""/>
              <p:cNvCxnSpPr>
                <a:endCxn id="472" idx="0"/>
              </p:cNvCxnSpPr>
              <p:nvPr/>
            </p:nvCxnSpPr>
            <p:spPr>
              <a:xfrm flipV="1">
                <a:off x="4572000" y="211860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474" name=""/>
            <p:cNvSpPr/>
            <p:nvPr/>
          </p:nvSpPr>
          <p:spPr>
            <a:xfrm>
              <a:off x="3048120" y="17668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81840" y="304812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8320" y="2133720"/>
              <a:ext cx="205740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00600" y="1219320"/>
              <a:ext cx="0" cy="91440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724640" y="121932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13372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91320" y="228600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76212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85800" y="3581280"/>
            <a:ext cx="6781320" cy="2743200"/>
            <a:chOff x="685800" y="3581280"/>
            <a:chExt cx="6781320" cy="2743200"/>
          </a:xfrm>
        </p:grpSpPr>
        <p:sp>
          <p:nvSpPr>
            <p:cNvPr id="483" name=""/>
            <p:cNvSpPr/>
            <p:nvPr/>
          </p:nvSpPr>
          <p:spPr>
            <a:xfrm>
              <a:off x="2971440" y="4038480"/>
              <a:ext cx="0" cy="228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971440" y="6324480"/>
              <a:ext cx="4343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440" y="393048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047760" y="4266360"/>
              <a:ext cx="3428280" cy="1086480"/>
              <a:chOff x="3047760" y="4266360"/>
              <a:chExt cx="3428280" cy="1086480"/>
            </a:xfrm>
          </p:grpSpPr>
          <p:sp>
            <p:nvSpPr>
              <p:cNvPr id="487" name=""/>
              <p:cNvSpPr/>
              <p:nvPr/>
            </p:nvSpPr>
            <p:spPr>
              <a:xfrm>
                <a:off x="3047760" y="5334120"/>
                <a:ext cx="15235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952520" y="4800600"/>
                <a:ext cx="152352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4952520" y="4495320"/>
                <a:ext cx="0" cy="3049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90" name=""/>
              <p:cNvCxnSpPr>
                <a:stCxn id="487" idx="0"/>
                <a:endCxn id="489" idx="0"/>
              </p:cNvCxnSpPr>
              <p:nvPr/>
            </p:nvCxnSpPr>
            <p:spPr>
              <a:xfrm flipH="1" flipV="1" rot="5400000">
                <a:off x="4323240" y="472392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491" name=""/>
            <p:cNvSpPr/>
            <p:nvPr/>
          </p:nvSpPr>
          <p:spPr>
            <a:xfrm>
              <a:off x="3047760" y="527220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81480" y="44197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47960" y="5334120"/>
              <a:ext cx="205704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00240" y="4267080"/>
              <a:ext cx="0" cy="106704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00040" y="421956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943240" y="4800600"/>
              <a:ext cx="0" cy="5335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67280" y="480060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85800" y="358128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Energy in Reactions (cont.)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501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505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508" name=""/>
              <p:cNvCxnSpPr>
                <a:endCxn id="507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ffff00"/>
                </a:solidFill>
                <a:miter/>
              </a:ln>
            </p:spPr>
          </p:cxnSp>
        </p:grpSp>
        <p:sp>
          <p:nvSpPr>
            <p:cNvPr id="509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ccff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ccff66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ccff66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cc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atalyst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sts a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bstances that speed up chemical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participate in th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Reactants   </a:t>
            </a:r>
            <a:r>
              <a:rPr b="1" lang="en-US" sz="2800" spc="-1" strike="noStrike">
                <a:solidFill>
                  <a:srgbClr val="99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 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591192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Catalysts &amp; Energy in Reactions</a:t>
            </a:r>
            <a:endParaRPr b="0" lang="en-US" sz="3600" spc="-1" strike="noStrike">
              <a:solidFill>
                <a:srgbClr val="ffff00"/>
              </a:solidFill>
              <a:latin typeface="Book Antiqu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28600" y="1251000"/>
            <a:ext cx="8420040" cy="4798800"/>
            <a:chOff x="228600" y="1251000"/>
            <a:chExt cx="8420040" cy="4798800"/>
          </a:xfrm>
        </p:grpSpPr>
        <p:sp>
          <p:nvSpPr>
            <p:cNvPr id="524" name=""/>
            <p:cNvSpPr/>
            <p:nvPr/>
          </p:nvSpPr>
          <p:spPr>
            <a:xfrm>
              <a:off x="2265840" y="1959480"/>
              <a:ext cx="0" cy="4090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2248200" y="6049800"/>
              <a:ext cx="6047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79360" y="203328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606760" y="3595320"/>
              <a:ext cx="2535840" cy="8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69640" y="5095440"/>
              <a:ext cx="2788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669640" y="3595320"/>
              <a:ext cx="0" cy="1499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0" name=""/>
            <p:cNvCxnSpPr>
              <a:endCxn id="529" idx="0"/>
            </p:cNvCxnSpPr>
            <p:nvPr/>
          </p:nvCxnSpPr>
          <p:spPr>
            <a:xfrm flipV="1">
              <a:off x="5142960" y="357696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531" name=""/>
            <p:cNvSpPr/>
            <p:nvPr/>
          </p:nvSpPr>
          <p:spPr>
            <a:xfrm>
              <a:off x="2772360" y="321732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7720" y="472896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85080" y="3580560"/>
              <a:ext cx="2364120" cy="0"/>
            </a:xfrm>
            <a:prstGeom prst="line">
              <a:avLst/>
            </a:prstGeom>
            <a:ln cap="rnd" w="38160">
              <a:solidFill>
                <a:srgbClr val="ffcc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39920" y="3275280"/>
              <a:ext cx="0" cy="3200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5440" y="286596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ffff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28600" y="125100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ff66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7" idx="0"/>
              <a:endCxn id="529" idx="1"/>
            </p:cNvCxnSpPr>
            <p:nvPr/>
          </p:nvCxnSpPr>
          <p:spPr>
            <a:xfrm flipH="1" rot="16200000">
              <a:off x="5405400" y="331416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5397120" y="3263400"/>
              <a:ext cx="1056240" cy="0"/>
            </a:xfrm>
            <a:prstGeom prst="line">
              <a:avLst/>
            </a:prstGeom>
            <a:ln cap="rnd" w="381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09720" y="204516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68400" y="179460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98560" y="205416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Types of Observ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ve/subjective in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qualities such as color, tast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“It is really warm outside toda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d by a number and a unit (an accepted reference sca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“The temperature is 8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outside toda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ndothermic or Exothermic?</a:t>
            </a:r>
            <a:br>
              <a:rPr sz="4000"/>
            </a:b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(that is the question…)</a:t>
            </a:r>
            <a:endParaRPr b="0" lang="en-US" sz="28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hemical re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quired to break bonds (energy absorb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leased when bonds are for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energy required to break a chemical bond is the same as the energy released when the bond is formed, this is calle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 chemical rea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absorbed equal to the bond energies for all bonds broken in the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s released equal to the bond energies for all bonds formed in th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900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0" y="64764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w of Mass Con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&amp; John Dalton!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tter is never created nor destr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ato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reactants of a chemical reaction must be accounted for in the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asic Proc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this is the unbalanced chemical equ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the number of each atom for each compound for each reactant &amp; produc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balance one atom at a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 until all atoms are balanced for the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you have a balanced chemical eq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example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out the unbalanced chemical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balance the chemical re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Balancing Chemical Reactions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(Hint)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chang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eat the whole ion as a “unit” when balancing the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nitrate ion (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gets swapped between the Ag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C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in thi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n be treated as a whole unit when  balancing this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6320" y="311616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99ff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aq)</a:t>
            </a:r>
            <a:r>
              <a:rPr b="0" lang="en-US" sz="2800" spc="-1" strike="noStrike">
                <a:solidFill>
                  <a:srgbClr val="99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cc66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99ff99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Ch 100: Fundamentals for Chemistr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7: Chemical Reactions in Aqueous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riving Forces &amp; Chemical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ndency for reactants to undergo chemical changes (reactions) to form products are called “driving forc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4 common “driving forces”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a solid (precipitation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water (acid-base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of electrons (oxidation-reduction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8880" indent="-379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ion of a gas (bad taco reactio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2 or more chemicals are brought together, if any of these things can happen, a chemical change is likely to occ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one of these processes occurs, we describe the resulting chemical reaction based on the driving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bility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asure of how much of a solute will dissolve in a solvent is called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ubility is temperature 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cold water than hot w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Cl is 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lute is insoluble if no appreciable amount of it will dissolve in sol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Cl is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2 solutions are combined and result in the formation of an insoluble produ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duct will not dissolve in the sol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duct will form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ecipita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Arial"/>
              </a:rPr>
              <a:t>Precipitation (formation of a solid) is one indication that a chemical change has occurr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Precipitation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0924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precipitation reactions, the ions of one substance are exchanged with the ions of another substance when their aqueous solutions are mi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least one of the products formed is in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(aq) + Ag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+ AgI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5280" y="4354560"/>
            <a:ext cx="6769080" cy="1817640"/>
            <a:chOff x="1295280" y="4354560"/>
            <a:chExt cx="6769080" cy="1817640"/>
          </a:xfrm>
        </p:grpSpPr>
        <p:grpSp>
          <p:nvGrpSpPr>
            <p:cNvPr id="560" name=""/>
            <p:cNvGrpSpPr/>
            <p:nvPr/>
          </p:nvGrpSpPr>
          <p:grpSpPr>
            <a:xfrm>
              <a:off x="1316160" y="4392720"/>
              <a:ext cx="556920" cy="512640"/>
              <a:chOff x="1316160" y="4392720"/>
              <a:chExt cx="556920" cy="512640"/>
            </a:xfrm>
          </p:grpSpPr>
          <p:sp>
            <p:nvSpPr>
              <p:cNvPr id="561" name=""/>
              <p:cNvSpPr/>
              <p:nvPr/>
            </p:nvSpPr>
            <p:spPr>
              <a:xfrm>
                <a:off x="1360440" y="43927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316160" y="44211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295280" y="4965840"/>
              <a:ext cx="749520" cy="825480"/>
              <a:chOff x="1295280" y="4965840"/>
              <a:chExt cx="749520" cy="825480"/>
            </a:xfrm>
          </p:grpSpPr>
          <p:sp>
            <p:nvSpPr>
              <p:cNvPr id="564" name=""/>
              <p:cNvSpPr/>
              <p:nvPr/>
            </p:nvSpPr>
            <p:spPr>
              <a:xfrm>
                <a:off x="1295280" y="4965840"/>
                <a:ext cx="749520" cy="825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48280" y="5151600"/>
                <a:ext cx="3430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813040" y="4354560"/>
              <a:ext cx="712800" cy="673200"/>
              <a:chOff x="2813040" y="4354560"/>
              <a:chExt cx="712800" cy="673200"/>
            </a:xfrm>
          </p:grpSpPr>
          <p:sp>
            <p:nvSpPr>
              <p:cNvPr id="567" name=""/>
              <p:cNvSpPr/>
              <p:nvPr/>
            </p:nvSpPr>
            <p:spPr>
              <a:xfrm>
                <a:off x="2852640" y="4354560"/>
                <a:ext cx="673200" cy="6732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13040" y="4464360"/>
                <a:ext cx="652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g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743200" y="5118120"/>
              <a:ext cx="1054080" cy="1054080"/>
              <a:chOff x="2743200" y="5118120"/>
              <a:chExt cx="1054080" cy="1054080"/>
            </a:xfrm>
          </p:grpSpPr>
          <p:sp>
            <p:nvSpPr>
              <p:cNvPr id="570" name=""/>
              <p:cNvSpPr/>
              <p:nvPr/>
            </p:nvSpPr>
            <p:spPr>
              <a:xfrm>
                <a:off x="2743200" y="5118120"/>
                <a:ext cx="1054080" cy="10540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836080" y="5418360"/>
                <a:ext cx="768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317840" y="5005440"/>
              <a:ext cx="6843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5410080" y="4438800"/>
              <a:ext cx="557280" cy="512640"/>
              <a:chOff x="5410080" y="4438800"/>
              <a:chExt cx="557280" cy="512640"/>
            </a:xfrm>
          </p:grpSpPr>
          <p:sp>
            <p:nvSpPr>
              <p:cNvPr id="574" name=""/>
              <p:cNvSpPr/>
              <p:nvPr/>
            </p:nvSpPr>
            <p:spPr>
              <a:xfrm>
                <a:off x="5454720" y="4438800"/>
                <a:ext cx="512640" cy="5126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10080" y="446724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5257800" y="5118120"/>
              <a:ext cx="1054080" cy="1054080"/>
              <a:chOff x="5257800" y="5118120"/>
              <a:chExt cx="1054080" cy="1054080"/>
            </a:xfrm>
          </p:grpSpPr>
          <p:sp>
            <p:nvSpPr>
              <p:cNvPr id="577" name=""/>
              <p:cNvSpPr/>
              <p:nvPr/>
            </p:nvSpPr>
            <p:spPr>
              <a:xfrm>
                <a:off x="5257800" y="5118120"/>
                <a:ext cx="1054080" cy="10540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350680" y="5418360"/>
                <a:ext cx="7682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10400" y="4653000"/>
              <a:ext cx="673200" cy="673200"/>
              <a:chOff x="6710400" y="4653000"/>
              <a:chExt cx="673200" cy="673200"/>
            </a:xfrm>
          </p:grpSpPr>
          <p:sp>
            <p:nvSpPr>
              <p:cNvPr id="580" name=""/>
              <p:cNvSpPr/>
              <p:nvPr/>
            </p:nvSpPr>
            <p:spPr>
              <a:xfrm>
                <a:off x="6710400" y="4653000"/>
                <a:ext cx="673200" cy="67320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70880" y="4762800"/>
                <a:ext cx="553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Ag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7315200" y="4584960"/>
              <a:ext cx="749160" cy="825480"/>
              <a:chOff x="7315200" y="4584960"/>
              <a:chExt cx="749160" cy="825480"/>
            </a:xfrm>
          </p:grpSpPr>
          <p:sp>
            <p:nvSpPr>
              <p:cNvPr id="583" name=""/>
              <p:cNvSpPr/>
              <p:nvPr/>
            </p:nvSpPr>
            <p:spPr>
              <a:xfrm>
                <a:off x="7315200" y="4584960"/>
                <a:ext cx="749160" cy="825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548120" y="47707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7315200" y="4813560"/>
              <a:ext cx="63360" cy="444240"/>
            </a:xfrm>
            <a:prstGeom prst="ellipse">
              <a:avLst/>
            </a:prstGeom>
            <a:solidFill>
              <a:srgbClr val="7b00e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+ nonmetal (Type I &amp; 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 + polyatomic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atomic cation +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onic compounds dissolve in water the anions and cations are separated from each other; this is call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know that ionic compounds dissociate when they dissolve in water because the solution conducts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 (examples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ssium chloride dissociates in water into potassium cations and chloride 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l(aq) = 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5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per(II) sulfate dissociates in water into copper(II) cations and sulfate a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=  C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  + 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57400" y="2286000"/>
            <a:ext cx="4545000" cy="825480"/>
            <a:chOff x="2057400" y="2286000"/>
            <a:chExt cx="4545000" cy="825480"/>
          </a:xfrm>
        </p:grpSpPr>
        <p:grpSp>
          <p:nvGrpSpPr>
            <p:cNvPr id="591" name=""/>
            <p:cNvGrpSpPr/>
            <p:nvPr/>
          </p:nvGrpSpPr>
          <p:grpSpPr>
            <a:xfrm>
              <a:off x="4094280" y="2443320"/>
              <a:ext cx="556920" cy="512640"/>
              <a:chOff x="4094280" y="2443320"/>
              <a:chExt cx="556920" cy="512640"/>
            </a:xfrm>
          </p:grpSpPr>
          <p:sp>
            <p:nvSpPr>
              <p:cNvPr id="592" name=""/>
              <p:cNvSpPr/>
              <p:nvPr/>
            </p:nvSpPr>
            <p:spPr>
              <a:xfrm>
                <a:off x="4138560" y="24433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94280" y="24717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53240" y="2286000"/>
              <a:ext cx="749160" cy="825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06240" y="2471760"/>
              <a:ext cx="528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57400" y="2438280"/>
              <a:ext cx="512640" cy="513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14640" y="2467080"/>
              <a:ext cx="399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00200" y="2286000"/>
              <a:ext cx="749520" cy="825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33120" y="247176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00200" y="2514600"/>
              <a:ext cx="63720" cy="368280"/>
            </a:xfrm>
            <a:prstGeom prst="ellipse">
              <a:avLst/>
            </a:prstGeom>
            <a:solidFill>
              <a:srgbClr val="f39fd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616040" y="4724280"/>
            <a:ext cx="5299200" cy="978120"/>
            <a:chOff x="1616040" y="4724280"/>
            <a:chExt cx="5299200" cy="978120"/>
          </a:xfrm>
        </p:grpSpPr>
        <p:grpSp>
          <p:nvGrpSpPr>
            <p:cNvPr id="602" name=""/>
            <p:cNvGrpSpPr/>
            <p:nvPr/>
          </p:nvGrpSpPr>
          <p:grpSpPr>
            <a:xfrm>
              <a:off x="4206960" y="4873680"/>
              <a:ext cx="757080" cy="681120"/>
              <a:chOff x="4206960" y="4873680"/>
              <a:chExt cx="757080" cy="681120"/>
            </a:xfrm>
          </p:grpSpPr>
          <p:sp>
            <p:nvSpPr>
              <p:cNvPr id="603" name=""/>
              <p:cNvSpPr/>
              <p:nvPr/>
            </p:nvSpPr>
            <p:spPr>
              <a:xfrm>
                <a:off x="4206960" y="4873680"/>
                <a:ext cx="757080" cy="68112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22440" y="4986360"/>
                <a:ext cx="723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u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5943600" y="4724280"/>
              <a:ext cx="971640" cy="978120"/>
              <a:chOff x="5943600" y="4724280"/>
              <a:chExt cx="971640" cy="978120"/>
            </a:xfrm>
          </p:grpSpPr>
          <p:sp>
            <p:nvSpPr>
              <p:cNvPr id="606" name=""/>
              <p:cNvSpPr/>
              <p:nvPr/>
            </p:nvSpPr>
            <p:spPr>
              <a:xfrm>
                <a:off x="5943600" y="4724280"/>
                <a:ext cx="971640" cy="97812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026760" y="4986360"/>
                <a:ext cx="80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 baseline="30000">
                    <a:solidFill>
                      <a:srgbClr val="ff0000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616040" y="4869000"/>
              <a:ext cx="757440" cy="680760"/>
              <a:chOff x="1616040" y="4869000"/>
              <a:chExt cx="757440" cy="680760"/>
            </a:xfrm>
          </p:grpSpPr>
          <p:sp>
            <p:nvSpPr>
              <p:cNvPr id="609" name=""/>
              <p:cNvSpPr/>
              <p:nvPr/>
            </p:nvSpPr>
            <p:spPr>
              <a:xfrm>
                <a:off x="1616040" y="4869000"/>
                <a:ext cx="757440" cy="6807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25480" y="4981680"/>
                <a:ext cx="536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u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2319480" y="4724280"/>
              <a:ext cx="971280" cy="978120"/>
              <a:chOff x="2319480" y="4724280"/>
              <a:chExt cx="971280" cy="978120"/>
            </a:xfrm>
          </p:grpSpPr>
          <p:sp>
            <p:nvSpPr>
              <p:cNvPr id="612" name=""/>
              <p:cNvSpPr/>
              <p:nvPr/>
            </p:nvSpPr>
            <p:spPr>
              <a:xfrm>
                <a:off x="2319480" y="4724280"/>
                <a:ext cx="971280" cy="97812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391480" y="4986360"/>
                <a:ext cx="65880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279520" y="5029200"/>
              <a:ext cx="139680" cy="368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1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Measurement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d with a value (number) &amp; a unit (reference sca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value and unit are of equal importance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indicates a measurement’s size (based on its un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it indicates a measurement’s relationship to other physical qua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Dissociation (example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assium sulfate dissociates in water into potassium cations and sulfate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 =   2 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  + 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278000" y="3691080"/>
            <a:ext cx="5789520" cy="1366560"/>
            <a:chOff x="1278000" y="3691080"/>
            <a:chExt cx="5789520" cy="1366560"/>
          </a:xfrm>
        </p:grpSpPr>
        <p:grpSp>
          <p:nvGrpSpPr>
            <p:cNvPr id="618" name=""/>
            <p:cNvGrpSpPr/>
            <p:nvPr/>
          </p:nvGrpSpPr>
          <p:grpSpPr>
            <a:xfrm>
              <a:off x="4457520" y="3706920"/>
              <a:ext cx="557280" cy="512640"/>
              <a:chOff x="4457520" y="3706920"/>
              <a:chExt cx="557280" cy="512640"/>
            </a:xfrm>
          </p:grpSpPr>
          <p:sp>
            <p:nvSpPr>
              <p:cNvPr id="619" name=""/>
              <p:cNvSpPr/>
              <p:nvPr/>
            </p:nvSpPr>
            <p:spPr>
              <a:xfrm>
                <a:off x="4502160" y="3706920"/>
                <a:ext cx="512640" cy="51264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57520" y="373536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6095880" y="3809880"/>
              <a:ext cx="971640" cy="978120"/>
              <a:chOff x="6095880" y="3809880"/>
              <a:chExt cx="971640" cy="978120"/>
            </a:xfrm>
          </p:grpSpPr>
          <p:sp>
            <p:nvSpPr>
              <p:cNvPr id="622" name=""/>
              <p:cNvSpPr/>
              <p:nvPr/>
            </p:nvSpPr>
            <p:spPr>
              <a:xfrm>
                <a:off x="6095880" y="3809880"/>
                <a:ext cx="971640" cy="978120"/>
              </a:xfrm>
              <a:prstGeom prst="ellipse">
                <a:avLst/>
              </a:prstGeom>
              <a:solidFill>
                <a:srgbClr val="f3456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79040" y="4071960"/>
                <a:ext cx="806760" cy="505080"/>
              </a:xfrm>
              <a:prstGeom prst="rect">
                <a:avLst/>
              </a:prstGeom>
              <a:solidFill>
                <a:srgbClr val="f34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457520" y="4545000"/>
              <a:ext cx="557280" cy="512640"/>
              <a:chOff x="4457520" y="4545000"/>
              <a:chExt cx="557280" cy="512640"/>
            </a:xfrm>
          </p:grpSpPr>
          <p:sp>
            <p:nvSpPr>
              <p:cNvPr id="625" name=""/>
              <p:cNvSpPr/>
              <p:nvPr/>
            </p:nvSpPr>
            <p:spPr>
              <a:xfrm>
                <a:off x="4502160" y="4545000"/>
                <a:ext cx="512640" cy="5126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457520" y="4573440"/>
                <a:ext cx="500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649600" y="3935520"/>
              <a:ext cx="512640" cy="512640"/>
              <a:chOff x="2649600" y="3935520"/>
              <a:chExt cx="512640" cy="512640"/>
            </a:xfrm>
          </p:grpSpPr>
          <p:sp>
            <p:nvSpPr>
              <p:cNvPr id="628" name=""/>
              <p:cNvSpPr/>
              <p:nvPr/>
            </p:nvSpPr>
            <p:spPr>
              <a:xfrm>
                <a:off x="2649600" y="3935520"/>
                <a:ext cx="512640" cy="5126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05400" y="39639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1278000" y="3935520"/>
              <a:ext cx="512640" cy="512640"/>
              <a:chOff x="1278000" y="3935520"/>
              <a:chExt cx="512640" cy="512640"/>
            </a:xfrm>
          </p:grpSpPr>
          <p:sp>
            <p:nvSpPr>
              <p:cNvPr id="631" name=""/>
              <p:cNvSpPr/>
              <p:nvPr/>
            </p:nvSpPr>
            <p:spPr>
              <a:xfrm>
                <a:off x="1278000" y="3935520"/>
                <a:ext cx="512640" cy="5126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33800" y="3963960"/>
                <a:ext cx="4010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1765440" y="3691080"/>
              <a:ext cx="971280" cy="977760"/>
              <a:chOff x="1765440" y="3691080"/>
              <a:chExt cx="971280" cy="977760"/>
            </a:xfrm>
          </p:grpSpPr>
          <p:sp>
            <p:nvSpPr>
              <p:cNvPr id="634" name=""/>
              <p:cNvSpPr/>
              <p:nvPr/>
            </p:nvSpPr>
            <p:spPr>
              <a:xfrm>
                <a:off x="1765440" y="3691080"/>
                <a:ext cx="971280" cy="977760"/>
              </a:xfrm>
              <a:prstGeom prst="ellipse">
                <a:avLst/>
              </a:prstGeom>
              <a:solidFill>
                <a:srgbClr val="f34562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923120" y="3952800"/>
                <a:ext cx="658800" cy="505080"/>
              </a:xfrm>
              <a:prstGeom prst="rect">
                <a:avLst/>
              </a:prstGeom>
              <a:solidFill>
                <a:srgbClr val="f345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SO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2673360" y="4044960"/>
              <a:ext cx="63360" cy="368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8960" y="4044960"/>
              <a:ext cx="63360" cy="291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Process for Predicting the Products of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a Precipitation Reaction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what ions each aqueous reactant 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hange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+) ion from one reactant with (-) ion from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Charges of combined ions to get formula of each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the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nt a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Solubility of Each Product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bility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roduct is insoluble or slightly soluble, it will precipi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5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6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6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Solubility Rul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N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, except AgCl, Pb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H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oluble, except Ba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b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a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lightly soluble (will precipitate), except NaOH, KOH, are soluble and B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a(OH)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oderately solu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pounds that contain 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s are slightly soluble (will precipit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Ionic Equa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which describe the chemicals put into the water and the product molecul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Cl(aq) + Ag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KN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aq) + AgCl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which describe the actual ions and molecules in the solutions as well as the molecules of solid, liquid and gas not dissolved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nic equ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s that are both reactants and product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tator 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NO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9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onic equation in which the  spectator ions are dropped is called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 ionic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Ag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aq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gC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3962520"/>
            <a:ext cx="762120" cy="596880"/>
          </a:xfrm>
          <a:prstGeom prst="rect">
            <a:avLst/>
          </a:prstGeom>
          <a:noFill/>
          <a:ln w="12600">
            <a:solidFill>
              <a:srgbClr val="f34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3886200"/>
            <a:ext cx="749160" cy="596880"/>
          </a:xfrm>
          <a:prstGeom prst="rect">
            <a:avLst/>
          </a:prstGeom>
          <a:noFill/>
          <a:ln w="12600">
            <a:solidFill>
              <a:srgbClr val="f345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22840" y="3886200"/>
            <a:ext cx="977760" cy="596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3600" y="3886200"/>
            <a:ext cx="990720" cy="596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500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Electrolyt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are substances whose aqueous solution is a conductor of electr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electrolytes have ions dissolved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lytes, virtuall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 molecules are dissociated into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olecules are dissociated into 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a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lytes,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ll percentag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the molecules are dissociated into 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1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1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actions that Form Water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s + Base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ll contain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tions and an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all contain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ions and a 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cids dissociate in water they release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nd their an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bases dissociate in water they release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ons and their 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3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8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3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Acid-Base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reaction of an acid with a base,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acid combines with the O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e base to mak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tion from the base combines with the anion from the acid to make the 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id + bas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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lt +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Ca(OH)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aS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2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t ionic equation for an Acid-Base reaction is al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+ 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a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(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0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5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5" dur="5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0" dur="5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5" dur="5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Reactions of Metals with Nonmetal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(Oxidation-Reduction)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tal loses electrons and becomes a 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ll this proces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nmetal gains electrons and becomes an a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ll this proces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eaction, electrons are transferred from the metal to the nonme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 Antiqua"/>
              </a:rPr>
              <a:t>Oxidation-Reduction Reactions</a:t>
            </a:r>
            <a:endParaRPr b="0" lang="en-US" sz="4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eactions that involve a transfer of one or more electrons are calle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ay that the substance that loses electrons in the reac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xidiz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the substance that gains electrons in the reaction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Predicting Products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Book Antiqua"/>
              </a:rPr>
              <a:t>Metal + Nonmetal Reactions</a:t>
            </a:r>
            <a:endParaRPr b="0" lang="en-US" sz="32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l + nonmetal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onic comp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compounds are always solids unless dissolved in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onic compound the metal is now a 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ionic compound the nonmetal is now an a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redict direct synthesis of metal + non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charges on the cation and an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rom their position on the Periodic Tab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numbers of cations and anions needed to have charges can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484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the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1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6" dur="500"/>
                                        <p:tgtEl>
                                          <p:spTgt spid="6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6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6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6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2T23:27:24Z</dcterms:created>
  <dc:creator>tony zable</dc:creator>
  <dc:description/>
  <cp:keywords/>
  <dc:language>en-US</dc:language>
  <cp:lastModifiedBy>Tony Zable</cp:lastModifiedBy>
  <cp:lastPrinted>2002-06-25T17:35:45Z</cp:lastPrinted>
  <dcterms:modified xsi:type="dcterms:W3CDTF">2006-11-09T20:46:33Z</dcterms:modified>
  <cp:revision>62</cp:revision>
  <dc:subject/>
  <dc:title>CH100: Fundamentals for Chemistry</dc:title>
</cp:coreProperties>
</file>