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8.jpeg" ContentType="image/jpeg"/>
  <Override PartName="/ppt/media/image23.wmf" ContentType="image/x-wmf"/>
  <Override PartName="/ppt/media/image9.jpeg" ContentType="image/jpeg"/>
  <Override PartName="/ppt/media/image51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0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28.wmf" ContentType="image/x-wmf"/>
  <Override PartName="/ppt/media/image7.wmf" ContentType="image/x-wmf"/>
  <Override PartName="/ppt/media/image37.wmf" ContentType="image/x-wmf"/>
  <Override PartName="/ppt/media/image44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5.wmf" ContentType="image/x-wmf"/>
  <Override PartName="/ppt/media/image2.png" ContentType="image/png"/>
  <Override PartName="/ppt/media/image57.jpeg" ContentType="image/jpeg"/>
  <Override PartName="/ppt/media/image31.wmf" ContentType="image/x-wmf"/>
  <Override PartName="/ppt/media/image36.wmf" ContentType="image/x-wmf"/>
  <Override PartName="/ppt/media/image35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2.wmf" ContentType="image/x-wmf"/>
  <Override PartName="/ppt/media/image30.wmf" ContentType="image/x-wmf"/>
  <Override PartName="/ppt/media/image3.png" ContentType="image/png"/>
  <Override PartName="/ppt/media/image56.jpeg" ContentType="image/jpeg"/>
  <Override PartName="/ppt/media/image10.wmf" ContentType="image/x-wmf"/>
  <Override PartName="/ppt/media/image47.wmf" ContentType="image/x-wmf"/>
  <Override PartName="/ppt/media/image12.wmf" ContentType="image/x-wmf"/>
  <Override PartName="/ppt/media/image4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1A0-8BAA-45A5-95B5-4EBF7014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7E8-8050-4D8B-89FB-BCABAE18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30BD-E99F-47B7-A483-21ABCE5F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DB6-4785-462F-B892-6882413A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05F-E9BD-46AB-80D4-C78C604E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4B3-060C-4251-9170-A3860CF9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EAA-625D-48AC-A88F-9EC8A0D7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5A2-3440-4180-8B41-0D111214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4FB-7A2A-42FE-A5FE-C766739F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C62-1AC9-4569-83C7-02E4657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1F0-9C00-464A-83C4-00331371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07B-C6DF-4EB7-969B-71345037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7F02191-4E05-4260-9861-F5FEA323C8AD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:09 P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BDB1-4A10-42BC-A398-C0574097A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1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943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xidation-Redu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1FD-0FBA-4F53-9A3A-F1F2FEAC353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covalently bonded substances, oxidation numbers are assigned by an arbitrary system based on relative electronegativi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D79-BB62-4891-A970-AEA1A6FF60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032360" y="3927600"/>
            <a:ext cx="1077840" cy="64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9480" y="609480"/>
            <a:ext cx="784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symmetrical covalent molecules each atom is assigned an oxidation number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ecause the bonding pair of electrons is shared equally between two like atoms of equal electronegativ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36080" y="4229280"/>
            <a:ext cx="8855640" cy="914400"/>
            <a:chOff x="136080" y="4229280"/>
            <a:chExt cx="8855640" cy="914400"/>
          </a:xfrm>
        </p:grpSpPr>
        <p:sp>
          <p:nvSpPr>
            <p:cNvPr id="72" name=""/>
            <p:cNvSpPr/>
            <p:nvPr/>
          </p:nvSpPr>
          <p:spPr>
            <a:xfrm>
              <a:off x="5867280" y="4229280"/>
              <a:ext cx="3124440" cy="914400"/>
            </a:xfrm>
            <a:prstGeom prst="borderCallout1">
              <a:avLst>
                <a:gd name="adj1" fmla="val -5345"/>
                <a:gd name="adj2" fmla="val -1800"/>
                <a:gd name="adj3" fmla="val 2081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lectronegativity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.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135720" y="4229280"/>
              <a:ext cx="3124440" cy="914400"/>
            </a:xfrm>
            <a:prstGeom prst="borderCallout1">
              <a:avLst>
                <a:gd name="adj1" fmla="val -5345"/>
                <a:gd name="adj2" fmla="val -1800"/>
                <a:gd name="adj3" fmla="val 2081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lectronegativity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.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36080" y="4229280"/>
            <a:ext cx="8855640" cy="914400"/>
            <a:chOff x="136080" y="4229280"/>
            <a:chExt cx="8855640" cy="914400"/>
          </a:xfrm>
        </p:grpSpPr>
        <p:sp>
          <p:nvSpPr>
            <p:cNvPr id="75" name=""/>
            <p:cNvSpPr/>
            <p:nvPr/>
          </p:nvSpPr>
          <p:spPr>
            <a:xfrm>
              <a:off x="5867280" y="4229280"/>
              <a:ext cx="3124440" cy="914400"/>
            </a:xfrm>
            <a:prstGeom prst="borderCallout1">
              <a:avLst>
                <a:gd name="adj1" fmla="val -5345"/>
                <a:gd name="adj2" fmla="val -1800"/>
                <a:gd name="adj3" fmla="val 2081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xidation Numb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35720" y="4229280"/>
              <a:ext cx="3124440" cy="914400"/>
            </a:xfrm>
            <a:prstGeom prst="borderCallout1">
              <a:avLst>
                <a:gd name="adj1" fmla="val -5345"/>
                <a:gd name="adj2" fmla="val -1800"/>
                <a:gd name="adj3" fmla="val 2081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xidation Numb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256-433C-4CAC-954A-19176A0DC20E}" type="slidenum">
              <a:t>11</a:t>
            </a:fld>
          </a:p>
        </p:txBody>
      </p:sp>
    </p:spTree>
  </p:cSld>
  <p:transition spd="slow"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609480"/>
            <a:ext cx="784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symmetrical covalent molecules each atom is assigned an oxidation number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ecause the bonding pair of electrons is shared equally between two like atoms of equal electronegativ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38520" y="3657600"/>
            <a:ext cx="1865520" cy="9525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65160" y="4232160"/>
            <a:ext cx="9002520" cy="914400"/>
            <a:chOff x="65160" y="4232160"/>
            <a:chExt cx="9002520" cy="914400"/>
          </a:xfrm>
        </p:grpSpPr>
        <p:sp>
          <p:nvSpPr>
            <p:cNvPr id="80" name=""/>
            <p:cNvSpPr/>
            <p:nvPr/>
          </p:nvSpPr>
          <p:spPr>
            <a:xfrm>
              <a:off x="6019920" y="4232160"/>
              <a:ext cx="3047760" cy="914400"/>
            </a:xfrm>
            <a:prstGeom prst="borderCallout1">
              <a:avLst>
                <a:gd name="adj1" fmla="val -4298"/>
                <a:gd name="adj2" fmla="val -1800"/>
                <a:gd name="adj3" fmla="val 2079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lectronegativity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.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5160" y="4232160"/>
              <a:ext cx="3047760" cy="914400"/>
            </a:xfrm>
            <a:prstGeom prst="borderCallout1">
              <a:avLst>
                <a:gd name="adj1" fmla="val -4298"/>
                <a:gd name="adj2" fmla="val -1800"/>
                <a:gd name="adj3" fmla="val 2079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lectronegativity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.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5160" y="4232160"/>
            <a:ext cx="9002520" cy="914400"/>
            <a:chOff x="65160" y="4232160"/>
            <a:chExt cx="9002520" cy="914400"/>
          </a:xfrm>
        </p:grpSpPr>
        <p:sp>
          <p:nvSpPr>
            <p:cNvPr id="83" name=""/>
            <p:cNvSpPr/>
            <p:nvPr/>
          </p:nvSpPr>
          <p:spPr>
            <a:xfrm>
              <a:off x="6019920" y="4232160"/>
              <a:ext cx="3047760" cy="914400"/>
            </a:xfrm>
            <a:prstGeom prst="borderCallout1">
              <a:avLst>
                <a:gd name="adj1" fmla="val -4298"/>
                <a:gd name="adj2" fmla="val -1800"/>
                <a:gd name="adj3" fmla="val 2079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Oxidation Number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5160" y="4232160"/>
              <a:ext cx="3047760" cy="914400"/>
            </a:xfrm>
            <a:prstGeom prst="borderCallout1">
              <a:avLst>
                <a:gd name="adj1" fmla="val -4298"/>
                <a:gd name="adj2" fmla="val -1800"/>
                <a:gd name="adj3" fmla="val 2079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Oxidation Number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348-25D4-4205-BBFE-E70379913191}" type="slidenum">
              <a:t>12</a:t>
            </a:fld>
          </a:p>
        </p:txBody>
      </p:sp>
    </p:spTree>
  </p:cSld>
  <p:transition spd="slow">
    <p:blinds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609480"/>
            <a:ext cx="784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the covalent bond is between two unlike atoms, the bonding electrons are shared unequally because the more electronegative element has a greater attraction for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6840" y="4232160"/>
            <a:ext cx="9002520" cy="914400"/>
            <a:chOff x="96840" y="4232160"/>
            <a:chExt cx="9002520" cy="914400"/>
          </a:xfrm>
        </p:grpSpPr>
        <p:sp>
          <p:nvSpPr>
            <p:cNvPr id="87" name=""/>
            <p:cNvSpPr/>
            <p:nvPr/>
          </p:nvSpPr>
          <p:spPr>
            <a:xfrm>
              <a:off x="6051600" y="4232160"/>
              <a:ext cx="3047760" cy="914400"/>
            </a:xfrm>
            <a:prstGeom prst="borderCallout1">
              <a:avLst>
                <a:gd name="adj1" fmla="val -4298"/>
                <a:gd name="adj2" fmla="val -1800"/>
                <a:gd name="adj3" fmla="val 2079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lectronegativity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.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96840" y="4232160"/>
              <a:ext cx="3047760" cy="914400"/>
            </a:xfrm>
            <a:prstGeom prst="borderCallout1">
              <a:avLst>
                <a:gd name="adj1" fmla="val -4298"/>
                <a:gd name="adj2" fmla="val -1800"/>
                <a:gd name="adj3" fmla="val 2079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lectronegativity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.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86200" y="3733920"/>
            <a:ext cx="1508040" cy="954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54320" y="5334120"/>
            <a:ext cx="2133360" cy="1295280"/>
          </a:xfrm>
          <a:prstGeom prst="borderCallout3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pair of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46440" y="5334120"/>
            <a:ext cx="2541240" cy="1295280"/>
          </a:xfrm>
          <a:prstGeom prst="borderCallout3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qual electron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40320" y="5330880"/>
            <a:ext cx="3452760" cy="1298520"/>
          </a:xfrm>
          <a:prstGeom prst="borderCallout1">
            <a:avLst>
              <a:gd name="adj1" fmla="val -477"/>
              <a:gd name="adj2" fmla="val -15395"/>
              <a:gd name="adj3" fmla="val -477"/>
              <a:gd name="adj4" fmla="val 19699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hared electrons are assigned to chlo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5334120"/>
            <a:ext cx="2863800" cy="1295280"/>
          </a:xfrm>
          <a:prstGeom prst="borderCallout3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partial transfer of an electron to chlo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29120" y="5486400"/>
            <a:ext cx="3757680" cy="1298520"/>
          </a:xfrm>
          <a:prstGeom prst="borderCallout1">
            <a:avLst>
              <a:gd name="adj1" fmla="val -438"/>
              <a:gd name="adj2" fmla="val -15395"/>
              <a:gd name="adj3" fmla="val -438"/>
              <a:gd name="adj4" fmla="val 19699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ssignment chlorine has one more electron than neutral chlo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22800" y="4232160"/>
            <a:ext cx="3048120" cy="914400"/>
          </a:xfrm>
          <a:prstGeom prst="borderCallout1">
            <a:avLst>
              <a:gd name="adj1" fmla="val -4298"/>
              <a:gd name="adj2" fmla="val -1800"/>
              <a:gd name="adj3" fmla="val 20790"/>
              <a:gd name="adj4" fmla="val -1800"/>
            </a:avLst>
          </a:prstGeom>
          <a:solidFill>
            <a:srgbClr val="0033cc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xidation Number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7320" y="5486400"/>
            <a:ext cx="3894120" cy="1298520"/>
          </a:xfrm>
          <a:prstGeom prst="borderCallout3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ssignment hydrogen has one less electron than neutral chlo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96120" y="4232160"/>
            <a:ext cx="3048120" cy="914400"/>
          </a:xfrm>
          <a:prstGeom prst="borderCallout1">
            <a:avLst>
              <a:gd name="adj1" fmla="val -4298"/>
              <a:gd name="adj2" fmla="val -1800"/>
              <a:gd name="adj3" fmla="val 20790"/>
              <a:gd name="adj4" fmla="val -18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xidation Numb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288-ECC2-498F-9330-F3779D2BA228}" type="slidenum">
              <a:t>13</a:t>
            </a:fld>
          </a:p>
        </p:txBody>
      </p:sp>
    </p:spTree>
  </p:cSld>
  <p:transition spd="slow"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1680" y="3016080"/>
          <a:ext cx="9067680" cy="1632240"/>
        </p:xfrm>
        <a:graphic>
          <a:graphicData uri="http://schemas.openxmlformats.org/drawingml/2006/table">
            <a:tbl>
              <a:tblPr/>
              <a:tblGrid>
                <a:gridCol w="1633680"/>
                <a:gridCol w="1062000"/>
                <a:gridCol w="1062000"/>
                <a:gridCol w="1062000"/>
                <a:gridCol w="1062000"/>
                <a:gridCol w="1062000"/>
                <a:gridCol w="1062000"/>
                <a:gridCol w="1062000"/>
              </a:tblGrid>
              <a:tr h="80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oxidation num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28600" y="1295280"/>
            <a:ext cx="8686800" cy="1219320"/>
          </a:xfrm>
          <a:prstGeom prst="rect">
            <a:avLst/>
          </a:pr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y elements have multipl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xidation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05920" y="3236760"/>
          <a:ext cx="6094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3236760"/>
                    <a:ext cx="6094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7A6-F28D-4074-AF39-72F8510B9A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35004" t="0" r="36672" b="3337"/>
          <a:stretch/>
        </p:blipFill>
        <p:spPr>
          <a:xfrm>
            <a:off x="3276720" y="76320"/>
            <a:ext cx="2590560" cy="662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866-36E3-435E-8F03-5BC2C83CE2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709" t="19104" r="5832" b="24547"/>
          <a:stretch/>
        </p:blipFill>
        <p:spPr>
          <a:xfrm>
            <a:off x="704880" y="1704960"/>
            <a:ext cx="7620120" cy="344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B11-B4A6-4781-B2F2-D9BBBA34B3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Write the oxidation number of each known atom below the atom in the formul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37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2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ultiply each oxidation number by the number of atoms of that element in the compoun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3716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3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rite an expression indicating the sum of all the oxidation numbers in the compound.  Remember: The sum of the oxidation numbers in a compound must equal ze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304920"/>
            <a:ext cx="7775280" cy="1218960"/>
          </a:xfrm>
          <a:prstGeom prst="rect">
            <a:avLst/>
          </a:pr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s for Determining the Oxidation Number of an Element Within a  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117-F90C-4FBB-99F4-CDC609F185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1440" y="-76320"/>
            <a:ext cx="914400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oxidation number for sulfur in sulfuric ac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1066680"/>
            <a:ext cx="1905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280" y="1752480"/>
            <a:ext cx="8344080" cy="4953240"/>
            <a:chOff x="152280" y="1752480"/>
            <a:chExt cx="8344080" cy="4953240"/>
          </a:xfrm>
        </p:grpSpPr>
        <p:grpSp>
          <p:nvGrpSpPr>
            <p:cNvPr id="109" name=""/>
            <p:cNvGrpSpPr/>
            <p:nvPr/>
          </p:nvGrpSpPr>
          <p:grpSpPr>
            <a:xfrm>
              <a:off x="152280" y="1752480"/>
              <a:ext cx="4849920" cy="644400"/>
              <a:chOff x="152280" y="1752480"/>
              <a:chExt cx="4849920" cy="644400"/>
            </a:xfrm>
          </p:grpSpPr>
          <p:sp>
            <p:nvSpPr>
              <p:cNvPr id="110" name=""/>
              <p:cNvSpPr/>
              <p:nvPr/>
            </p:nvSpPr>
            <p:spPr>
              <a:xfrm>
                <a:off x="152280" y="175428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ep 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392720" y="175248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0080"/>
                    </a:solidFill>
                    <a:latin typeface="Times New Roman"/>
                  </a:rPr>
                  <a:t>-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309840" y="17524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0080"/>
                    </a:solidFill>
                    <a:latin typeface="Times New Roman"/>
                  </a:rPr>
                  <a:t>+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47640" y="5410080"/>
              <a:ext cx="7848720" cy="129564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Write the oxidation number of each known atom below the atom in the formula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2280" y="2697120"/>
            <a:ext cx="8344080" cy="4008600"/>
            <a:chOff x="152280" y="2697120"/>
            <a:chExt cx="8344080" cy="4008600"/>
          </a:xfrm>
        </p:grpSpPr>
        <p:sp>
          <p:nvSpPr>
            <p:cNvPr id="115" name=""/>
            <p:cNvSpPr/>
            <p:nvPr/>
          </p:nvSpPr>
          <p:spPr>
            <a:xfrm>
              <a:off x="647640" y="5410080"/>
              <a:ext cx="7848720" cy="129564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Multiply each oxidation number by the number of atoms of that element in the compound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52280" y="2697120"/>
              <a:ext cx="6413760" cy="642600"/>
              <a:chOff x="152280" y="2697120"/>
              <a:chExt cx="6413760" cy="642600"/>
            </a:xfrm>
          </p:grpSpPr>
          <p:sp>
            <p:nvSpPr>
              <p:cNvPr id="117" name=""/>
              <p:cNvSpPr/>
              <p:nvPr/>
            </p:nvSpPr>
            <p:spPr>
              <a:xfrm>
                <a:off x="152280" y="269712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ep 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56000" y="2697120"/>
                <a:ext cx="221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4(</a:t>
                </a:r>
                <a:r>
                  <a:rPr b="0" lang="en-US" sz="3600" spc="-1" strike="noStrike">
                    <a:solidFill>
                      <a:srgbClr val="800080"/>
                    </a:solidFill>
                    <a:latin typeface="Times New Roman"/>
                  </a:rPr>
                  <a:t>-2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) = -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670040" y="2697120"/>
                <a:ext cx="2330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2(</a:t>
                </a:r>
                <a:r>
                  <a:rPr b="0" lang="en-US" sz="3600" spc="-1" strike="noStrike">
                    <a:solidFill>
                      <a:srgbClr val="800080"/>
                    </a:solidFill>
                    <a:latin typeface="Times New Roman"/>
                  </a:rPr>
                  <a:t>+1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) = +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280" y="3641760"/>
            <a:ext cx="8344080" cy="3063960"/>
            <a:chOff x="152280" y="3641760"/>
            <a:chExt cx="8344080" cy="3063960"/>
          </a:xfrm>
        </p:grpSpPr>
        <p:grpSp>
          <p:nvGrpSpPr>
            <p:cNvPr id="121" name=""/>
            <p:cNvGrpSpPr/>
            <p:nvPr/>
          </p:nvGrpSpPr>
          <p:grpSpPr>
            <a:xfrm>
              <a:off x="152280" y="3641760"/>
              <a:ext cx="5829480" cy="642600"/>
              <a:chOff x="152280" y="3641760"/>
              <a:chExt cx="5829480" cy="642600"/>
            </a:xfrm>
          </p:grpSpPr>
          <p:sp>
            <p:nvSpPr>
              <p:cNvPr id="122" name=""/>
              <p:cNvSpPr/>
              <p:nvPr/>
            </p:nvSpPr>
            <p:spPr>
              <a:xfrm>
                <a:off x="152280" y="364176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ep 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22600" y="3641760"/>
                <a:ext cx="3359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+2 + S + (-8) = 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47640" y="5410080"/>
              <a:ext cx="7848720" cy="129564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Write an expression indicating the sum of all the oxidation numbers in the compound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280" y="4586400"/>
            <a:ext cx="8547120" cy="2271600"/>
            <a:chOff x="152280" y="4586400"/>
            <a:chExt cx="8547120" cy="2271600"/>
          </a:xfrm>
        </p:grpSpPr>
        <p:grpSp>
          <p:nvGrpSpPr>
            <p:cNvPr id="126" name=""/>
            <p:cNvGrpSpPr/>
            <p:nvPr/>
          </p:nvGrpSpPr>
          <p:grpSpPr>
            <a:xfrm>
              <a:off x="152280" y="4586400"/>
              <a:ext cx="8547120" cy="642600"/>
              <a:chOff x="152280" y="4586400"/>
              <a:chExt cx="8547120" cy="642600"/>
            </a:xfrm>
          </p:grpSpPr>
          <p:sp>
            <p:nvSpPr>
              <p:cNvPr id="127" name=""/>
              <p:cNvSpPr/>
              <p:nvPr/>
            </p:nvSpPr>
            <p:spPr>
              <a:xfrm>
                <a:off x="152280" y="458640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ep 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65440" y="4586400"/>
                <a:ext cx="6933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S = +6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 (oxidation number for sulfur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457200" y="5257800"/>
              <a:ext cx="82296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30B-00CC-4B79-BD54-8692016281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-1440" y="-76320"/>
            <a:ext cx="914400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oxidation number for sulfur in sulfuric ac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52280" y="1752480"/>
            <a:ext cx="8344080" cy="4953240"/>
            <a:chOff x="152280" y="1752480"/>
            <a:chExt cx="8344080" cy="4953240"/>
          </a:xfrm>
        </p:grpSpPr>
        <p:grpSp>
          <p:nvGrpSpPr>
            <p:cNvPr id="132" name=""/>
            <p:cNvGrpSpPr/>
            <p:nvPr/>
          </p:nvGrpSpPr>
          <p:grpSpPr>
            <a:xfrm>
              <a:off x="152280" y="1752480"/>
              <a:ext cx="4419720" cy="644400"/>
              <a:chOff x="152280" y="1752480"/>
              <a:chExt cx="4419720" cy="644400"/>
            </a:xfrm>
          </p:grpSpPr>
          <p:sp>
            <p:nvSpPr>
              <p:cNvPr id="133" name=""/>
              <p:cNvSpPr/>
              <p:nvPr/>
            </p:nvSpPr>
            <p:spPr>
              <a:xfrm>
                <a:off x="152280" y="175428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ep 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62520" y="175248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0080"/>
                    </a:solidFill>
                    <a:latin typeface="Times New Roman"/>
                  </a:rPr>
                  <a:t>-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647640" y="5410080"/>
              <a:ext cx="7848720" cy="129564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Write the oxidation number of each known atom below the atom in the formula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280" y="2697120"/>
            <a:ext cx="8344080" cy="4008600"/>
            <a:chOff x="152280" y="2697120"/>
            <a:chExt cx="8344080" cy="4008600"/>
          </a:xfrm>
        </p:grpSpPr>
        <p:sp>
          <p:nvSpPr>
            <p:cNvPr id="137" name=""/>
            <p:cNvSpPr/>
            <p:nvPr/>
          </p:nvSpPr>
          <p:spPr>
            <a:xfrm>
              <a:off x="647640" y="5410080"/>
              <a:ext cx="7848720" cy="129564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Multiply each oxidation number by the number of atoms of that element in the compound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52280" y="2697120"/>
              <a:ext cx="5562720" cy="642600"/>
              <a:chOff x="152280" y="2697120"/>
              <a:chExt cx="5562720" cy="642600"/>
            </a:xfrm>
          </p:grpSpPr>
          <p:sp>
            <p:nvSpPr>
              <p:cNvPr id="139" name=""/>
              <p:cNvSpPr/>
              <p:nvPr/>
            </p:nvSpPr>
            <p:spPr>
              <a:xfrm>
                <a:off x="152280" y="269712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ep 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05320" y="2697120"/>
                <a:ext cx="220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4(</a:t>
                </a:r>
                <a:r>
                  <a:rPr b="0" lang="en-US" sz="3600" spc="-1" strike="noStrike">
                    <a:solidFill>
                      <a:srgbClr val="800080"/>
                    </a:solidFill>
                    <a:latin typeface="Times New Roman"/>
                  </a:rPr>
                  <a:t>-2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) = -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152280" y="3641760"/>
            <a:ext cx="8763120" cy="3063960"/>
            <a:chOff x="152280" y="3641760"/>
            <a:chExt cx="8763120" cy="3063960"/>
          </a:xfrm>
        </p:grpSpPr>
        <p:grpSp>
          <p:nvGrpSpPr>
            <p:cNvPr id="142" name=""/>
            <p:cNvGrpSpPr/>
            <p:nvPr/>
          </p:nvGrpSpPr>
          <p:grpSpPr>
            <a:xfrm>
              <a:off x="152280" y="3641760"/>
              <a:ext cx="8763120" cy="642600"/>
              <a:chOff x="152280" y="3641760"/>
              <a:chExt cx="8763120" cy="642600"/>
            </a:xfrm>
          </p:grpSpPr>
          <p:sp>
            <p:nvSpPr>
              <p:cNvPr id="143" name=""/>
              <p:cNvSpPr/>
              <p:nvPr/>
            </p:nvSpPr>
            <p:spPr>
              <a:xfrm>
                <a:off x="152280" y="364176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ep 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28800" y="3641760"/>
                <a:ext cx="708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2C + (-8) = -2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(the charge on the ion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47640" y="5410080"/>
              <a:ext cx="7848720" cy="129564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Write an expression indicating the sum of all the oxidation numbers in the compound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6" name=""/>
          <p:cNvGraphicFramePr/>
          <p:nvPr/>
        </p:nvGraphicFramePr>
        <p:xfrm>
          <a:off x="3354480" y="1123920"/>
          <a:ext cx="142560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4480" y="1123920"/>
                    <a:ext cx="14256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" name=""/>
          <p:cNvGrpSpPr/>
          <p:nvPr/>
        </p:nvGrpSpPr>
        <p:grpSpPr>
          <a:xfrm>
            <a:off x="152280" y="4586400"/>
            <a:ext cx="8991720" cy="2271600"/>
            <a:chOff x="152280" y="4586400"/>
            <a:chExt cx="8991720" cy="2271600"/>
          </a:xfrm>
        </p:grpSpPr>
        <p:sp>
          <p:nvSpPr>
            <p:cNvPr id="149" name=""/>
            <p:cNvSpPr/>
            <p:nvPr/>
          </p:nvSpPr>
          <p:spPr>
            <a:xfrm>
              <a:off x="457200" y="5257800"/>
              <a:ext cx="84582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52280" y="4586400"/>
              <a:ext cx="8991720" cy="1191240"/>
              <a:chOff x="152280" y="4586400"/>
              <a:chExt cx="8991720" cy="1191240"/>
            </a:xfrm>
          </p:grpSpPr>
          <p:sp>
            <p:nvSpPr>
              <p:cNvPr id="151" name=""/>
              <p:cNvSpPr/>
              <p:nvPr/>
            </p:nvSpPr>
            <p:spPr>
              <a:xfrm>
                <a:off x="152280" y="458640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ep 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765440" y="4586400"/>
                <a:ext cx="73785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2C = +6</a:t>
                </a:r>
                <a:br>
                  <a:rPr sz="3600"/>
                </a:b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  C = +3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 (oxidation number for sulfur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70C-D350-456C-B979-10C0F9B8E1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22400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5760" y="15238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.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idatio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" y="213840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.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idation-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60" y="275256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.3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ing Oxidation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duction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9973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.6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lytic and Volta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Cel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443320"/>
            <a:ext cx="44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ctivity Series of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52388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alancing Ionic Redo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quat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D41-B050-4062-910E-CAF082C3439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7.2</a:t>
            </a:r>
            <a:br>
              <a:rPr sz="4400"/>
            </a:br>
            <a:r>
              <a:rPr b="1" lang="en-US" sz="7000" spc="-1" strike="noStrike" u="sng">
                <a:solidFill>
                  <a:srgbClr val="cc3399"/>
                </a:solidFill>
                <a:uFillTx/>
                <a:latin typeface="Times New Roman"/>
              </a:rPr>
              <a:t>Oxidation-Reduction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135-B218-4938-9C8B-7886BC2279F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3880" y="2400120"/>
            <a:ext cx="8436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xidation-reduction (redox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a chemical process in which the oxidation number of an element is changed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FD7-F30D-4E13-918D-E1E22A8AB4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3880" y="2400120"/>
            <a:ext cx="8436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do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involve the complete transfer of electrons to form ionic bonds or a partial transfer of electrons to form covalent bond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B08-09A1-445C-9923-B22108FAAB0F}" type="slidenum">
              <a:t>22</a:t>
            </a:fld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ccurs when the oxidation number of an element increases as a result of losing elect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2939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ccurs when the oxidation number of an element decreases as a result of gaining elect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 redox reaction oxidation and reduction occur simultaneously, one cannot occur in the absence of the 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D82-B705-48FC-8CB7-6C5D1CC7AB0D}" type="slidenum">
              <a:t>23</a:t>
            </a:fld>
          </a:p>
        </p:txBody>
      </p:sp>
    </p:spTree>
  </p:cSld>
  <p:transition spd="slow"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xidizing agen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ubstance that causes an increase in the oxidation state of another subst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36852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ducing ag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substance that causes a decrease in the oxidation state of another subst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ducing agent is oxidized in a redox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25756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xidizing agent is reduced in a redox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77FC-BFAF-4C7A-B963-51D5EF927B92}" type="slidenum">
              <a:t>24</a:t>
            </a:fld>
          </a:p>
        </p:txBody>
      </p:sp>
    </p:spTree>
  </p:cSld>
  <p:transition spd="slow">
    <p:blinds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60020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Zn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+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H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S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4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) → ZnS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4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87200" y="5481720"/>
          <a:ext cx="85759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5481720"/>
                    <a:ext cx="85759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0" y="4295880"/>
            <a:ext cx="914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lectron transfer is more clearly expressed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40" y="457200"/>
            <a:ext cx="914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eaction of zinc with sulfuric acid is a redox re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6360" y="3000960"/>
            <a:ext cx="3849840" cy="581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nc is oxid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44480" y="3000960"/>
            <a:ext cx="585324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nc is the reducing ag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3000960"/>
            <a:ext cx="6858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nc transfers electrons to hydr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43120" y="3000960"/>
            <a:ext cx="3857760" cy="581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 is re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38360" y="3000960"/>
            <a:ext cx="586728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 is the oxidizing ag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3000960"/>
            <a:ext cx="6858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 accepts electrons from z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AB1-A005-4C2D-B1AF-06385ED43A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38240" y="2611440"/>
            <a:ext cx="8866080" cy="1635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4BA-48EF-4A1D-9E18-4EA1703B3A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7.3</a:t>
            </a:r>
            <a:br>
              <a:rPr sz="4400"/>
            </a:br>
            <a:r>
              <a:rPr b="1" lang="en-US" sz="6600" spc="-1" strike="noStrike" u="sng">
                <a:solidFill>
                  <a:srgbClr val="cc3399"/>
                </a:solidFill>
                <a:uFillTx/>
                <a:latin typeface="Times New Roman"/>
              </a:rPr>
              <a:t>Balancing Oxidation-</a:t>
            </a:r>
            <a:br>
              <a:rPr sz="6600"/>
            </a:br>
            <a:r>
              <a:rPr b="1" lang="en-US" sz="6600" spc="-1" strike="noStrike" u="sng">
                <a:solidFill>
                  <a:srgbClr val="cc3399"/>
                </a:solidFill>
                <a:uFillTx/>
                <a:latin typeface="Times New Roman"/>
              </a:rPr>
              <a:t>Reduction Equa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6E3-93F4-4A44-8D0C-4CCB2BBBACC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f-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2000" y="137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redox reaction can be written as two half-re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2360" y="3789360"/>
          <a:ext cx="453888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3789360"/>
                    <a:ext cx="45388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52360" y="2819520"/>
          <a:ext cx="3960720" cy="78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60" y="2819520"/>
                    <a:ext cx="396072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71440" y="4761000"/>
          <a:ext cx="8597880" cy="156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1440" y="4761000"/>
                    <a:ext cx="859788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52360" y="1371600"/>
            <a:ext cx="8001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wo half reactions can be used to balance the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ECA5-97DE-45FF-AAA9-AC79F1C6BE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Change-In-Oxidation</a:t>
            </a:r>
            <a:br>
              <a:rPr sz="5400"/>
            </a:b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Number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60D-2BD4-4904-ADEC-C8200A40BBF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7.1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xidation Numb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346-1243-43A6-ACEC-4B0EEC933FA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730080" y="4772160"/>
            <a:ext cx="5670720" cy="1158480"/>
            <a:chOff x="730080" y="4772160"/>
            <a:chExt cx="5670720" cy="1158480"/>
          </a:xfrm>
        </p:grpSpPr>
        <p:grpSp>
          <p:nvGrpSpPr>
            <p:cNvPr id="188" name=""/>
            <p:cNvGrpSpPr/>
            <p:nvPr/>
          </p:nvGrpSpPr>
          <p:grpSpPr>
            <a:xfrm>
              <a:off x="730080" y="4772160"/>
              <a:ext cx="3792600" cy="399960"/>
              <a:chOff x="730080" y="4772160"/>
              <a:chExt cx="3792600" cy="399960"/>
            </a:xfrm>
          </p:grpSpPr>
          <p:sp>
            <p:nvSpPr>
              <p:cNvPr id="189" name=""/>
              <p:cNvSpPr/>
              <p:nvPr/>
            </p:nvSpPr>
            <p:spPr>
              <a:xfrm>
                <a:off x="730080" y="4772160"/>
                <a:ext cx="381240" cy="39996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965400" y="4789440"/>
                <a:ext cx="557280" cy="3700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914400" y="5410080"/>
              <a:ext cx="5486400" cy="520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xidation number of tin increa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914400" y="4772160"/>
            <a:ext cx="6477120" cy="1858680"/>
            <a:chOff x="914400" y="4772160"/>
            <a:chExt cx="6477120" cy="1858680"/>
          </a:xfrm>
        </p:grpSpPr>
        <p:grpSp>
          <p:nvGrpSpPr>
            <p:cNvPr id="193" name=""/>
            <p:cNvGrpSpPr/>
            <p:nvPr/>
          </p:nvGrpSpPr>
          <p:grpSpPr>
            <a:xfrm>
              <a:off x="2263680" y="4772160"/>
              <a:ext cx="4000680" cy="399960"/>
              <a:chOff x="2263680" y="4772160"/>
              <a:chExt cx="4000680" cy="399960"/>
            </a:xfrm>
          </p:grpSpPr>
          <p:sp>
            <p:nvSpPr>
              <p:cNvPr id="194" name=""/>
              <p:cNvSpPr/>
              <p:nvPr/>
            </p:nvSpPr>
            <p:spPr>
              <a:xfrm>
                <a:off x="2263680" y="4772160"/>
                <a:ext cx="608040" cy="39996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07080" y="4784760"/>
                <a:ext cx="557280" cy="3697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914400" y="6110280"/>
              <a:ext cx="647712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xidation number of nitrogen decrea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 + 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371600"/>
            <a:ext cx="8381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 Assign oxidation numbers to each element to identify the elements being oxidized and those being reduced.  Write the oxidation numbers below each element to avoid confusing them with ionic ch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3080" y="3657600"/>
            <a:ext cx="84582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Sn   +   H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3  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S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  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+   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  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+   H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14240" y="4281120"/>
            <a:ext cx="8353440" cy="993600"/>
            <a:chOff x="714240" y="4281120"/>
            <a:chExt cx="8353440" cy="993600"/>
          </a:xfrm>
        </p:grpSpPr>
        <p:grpSp>
          <p:nvGrpSpPr>
            <p:cNvPr id="201" name=""/>
            <p:cNvGrpSpPr/>
            <p:nvPr/>
          </p:nvGrpSpPr>
          <p:grpSpPr>
            <a:xfrm>
              <a:off x="714240" y="4281120"/>
              <a:ext cx="3241800" cy="993600"/>
              <a:chOff x="714240" y="4281120"/>
              <a:chExt cx="3241800" cy="993600"/>
            </a:xfrm>
          </p:grpSpPr>
          <p:sp>
            <p:nvSpPr>
              <p:cNvPr id="202" name=""/>
              <p:cNvSpPr/>
              <p:nvPr/>
            </p:nvSpPr>
            <p:spPr>
              <a:xfrm>
                <a:off x="942840" y="42829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4240" y="46321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814760" y="4281120"/>
                <a:ext cx="437760" cy="44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39720" y="4632120"/>
                <a:ext cx="66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</a:rPr>
                  <a:t>+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24080" y="4632120"/>
                <a:ext cx="758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</a:rPr>
                  <a:t>+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112920" y="4632120"/>
                <a:ext cx="843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</a:rPr>
                  <a:t>-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04960" y="42829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55240" y="4284000"/>
                <a:ext cx="438120" cy="44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H="1">
              <a:off x="4181400" y="4326840"/>
              <a:ext cx="32508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65400" y="4326840"/>
              <a:ext cx="32508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02040" y="46321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+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92760" y="46321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54520" y="46321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+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68920" y="46321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857920" y="4326840"/>
              <a:ext cx="32508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42280" y="4326840"/>
              <a:ext cx="32472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31040" y="46321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+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97720" y="46321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523280" y="4326840"/>
              <a:ext cx="32472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7240" y="4326840"/>
              <a:ext cx="32508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D60-EC7E-4DEA-996B-C8A3DBDBC2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 + 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371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Write two new half-reactions, using only the elements that change in oxidation number.  Then add electrons to bring the equations into electrical ba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3080" y="3224160"/>
            <a:ext cx="84582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Sn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o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Sn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4+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 4e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080" y="4199040"/>
            <a:ext cx="8458200" cy="7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5+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 1e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4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05200" y="3270240"/>
            <a:ext cx="1828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+ 4e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45160" y="424332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+ 1e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50734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ons added to each half-reaction will be on opposite s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03C-8E08-45AC-B7E5-6353F1EEA9CA}" type="slidenum">
              <a:t>31</a:t>
            </a:fld>
          </a:p>
        </p:txBody>
      </p:sp>
    </p:spTree>
  </p:cSld>
  <p:transition spd="slow">
    <p:blinds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 + 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1371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Multiply the two equations by the smallest whole numbers that will make the electrons lost by oxidation equal to the number of electrons gained by re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43080" y="3224160"/>
            <a:ext cx="8458200" cy="1743840"/>
            <a:chOff x="343080" y="3224160"/>
            <a:chExt cx="8458200" cy="1743840"/>
          </a:xfrm>
        </p:grpSpPr>
        <p:sp>
          <p:nvSpPr>
            <p:cNvPr id="232" name=""/>
            <p:cNvSpPr/>
            <p:nvPr/>
          </p:nvSpPr>
          <p:spPr>
            <a:xfrm>
              <a:off x="343080" y="3224160"/>
              <a:ext cx="845820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Sn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   </a:t>
              </a:r>
              <a:r>
                <a:rPr b="0" lang="en-US" sz="40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→</a:t>
              </a:r>
              <a:r>
                <a:rPr b="0" lang="en-US" sz="3600" spc="-1" strike="noStrike" baseline="-25000">
                  <a:solidFill>
                    <a:srgbClr val="0033cc"/>
                  </a:solidFill>
                  <a:latin typeface="Times New Roman"/>
                </a:rPr>
                <a:t>   </a:t>
              </a: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Sn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Times New Roman"/>
                </a:rPr>
                <a:t>4+</a:t>
              </a:r>
              <a:r>
                <a:rPr b="0" lang="en-US" sz="3600" spc="-1" strike="noStrike" baseline="-25000">
                  <a:solidFill>
                    <a:srgbClr val="0033cc"/>
                  </a:solidFill>
                  <a:latin typeface="Times New Roman"/>
                </a:rPr>
                <a:t>   </a:t>
              </a: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+   4e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3080" y="4199040"/>
              <a:ext cx="8458200" cy="76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N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Times New Roman"/>
                </a:rPr>
                <a:t>5+ </a:t>
              </a: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+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e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→</a:t>
              </a:r>
              <a:r>
                <a:rPr b="0" lang="en-US" sz="3600" spc="-1" strike="noStrike" baseline="-25000">
                  <a:solidFill>
                    <a:srgbClr val="0033cc"/>
                  </a:solidFill>
                  <a:latin typeface="Times New Roman"/>
                </a:rPr>
                <a:t>  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N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Times New Roman"/>
                </a:rPr>
                <a:t>4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668680" y="4238640"/>
            <a:ext cx="3133440" cy="647280"/>
            <a:chOff x="2668680" y="4238640"/>
            <a:chExt cx="3133440" cy="647280"/>
          </a:xfrm>
        </p:grpSpPr>
        <p:sp>
          <p:nvSpPr>
            <p:cNvPr id="235" name=""/>
            <p:cNvSpPr/>
            <p:nvPr/>
          </p:nvSpPr>
          <p:spPr>
            <a:xfrm>
              <a:off x="2668680" y="42386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33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08600" y="42433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33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92800" y="424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33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175-A50B-46D0-B077-CAFBC7F0A198}" type="slidenum">
              <a:t>32</a:t>
            </a:fld>
          </a:p>
        </p:txBody>
      </p:sp>
    </p:spTree>
  </p:cSld>
  <p:transition spd="slow">
    <p:blinds dir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 + 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371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8360" indent="-13683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Transfer the coefficient in front of each substance in the balanced oxidation-reduction equations to the corresponding substances in the original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3080" y="5105520"/>
            <a:ext cx="84582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Sn +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H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S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+ H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082960" y="5137200"/>
            <a:ext cx="3858840" cy="651960"/>
            <a:chOff x="2082960" y="5137200"/>
            <a:chExt cx="3858840" cy="651960"/>
          </a:xfrm>
        </p:grpSpPr>
        <p:sp>
          <p:nvSpPr>
            <p:cNvPr id="242" name=""/>
            <p:cNvSpPr/>
            <p:nvPr/>
          </p:nvSpPr>
          <p:spPr>
            <a:xfrm>
              <a:off x="2082960" y="5137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33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32480" y="5146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33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43080" y="3224160"/>
            <a:ext cx="8458200" cy="1743840"/>
            <a:chOff x="343080" y="3224160"/>
            <a:chExt cx="8458200" cy="1743840"/>
          </a:xfrm>
        </p:grpSpPr>
        <p:grpSp>
          <p:nvGrpSpPr>
            <p:cNvPr id="245" name=""/>
            <p:cNvGrpSpPr/>
            <p:nvPr/>
          </p:nvGrpSpPr>
          <p:grpSpPr>
            <a:xfrm>
              <a:off x="343080" y="3224160"/>
              <a:ext cx="8458200" cy="1743840"/>
              <a:chOff x="343080" y="3224160"/>
              <a:chExt cx="8458200" cy="1743840"/>
            </a:xfrm>
          </p:grpSpPr>
          <p:sp>
            <p:nvSpPr>
              <p:cNvPr id="246" name=""/>
              <p:cNvSpPr/>
              <p:nvPr/>
            </p:nvSpPr>
            <p:spPr>
              <a:xfrm>
                <a:off x="343080" y="3224160"/>
                <a:ext cx="8458200" cy="76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Sn</a:t>
                </a:r>
                <a:r>
                  <a:rPr b="0" lang="en-US" sz="3600" spc="-1" strike="noStrike" baseline="30000">
                    <a:solidFill>
                      <a:srgbClr val="0033cc"/>
                    </a:solidFill>
                    <a:latin typeface="Times New Roman"/>
                  </a:rPr>
                  <a:t>o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   </a:t>
                </a:r>
                <a:r>
                  <a:rPr b="0" lang="en-US" sz="4000" spc="-1" strike="noStrike">
                    <a:solidFill>
                      <a:srgbClr val="0033cc"/>
                    </a:solidFill>
                    <a:latin typeface="Times New Roman"/>
                    <a:ea typeface="Times New Roman"/>
                  </a:rPr>
                  <a:t>→</a:t>
                </a:r>
                <a:r>
                  <a:rPr b="0" lang="en-US" sz="3600" spc="-1" strike="noStrike" baseline="-25000">
                    <a:solidFill>
                      <a:srgbClr val="0033cc"/>
                    </a:solidFill>
                    <a:latin typeface="Times New Roman"/>
                  </a:rPr>
                  <a:t>   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Sn</a:t>
                </a:r>
                <a:r>
                  <a:rPr b="0" lang="en-US" sz="3600" spc="-1" strike="noStrike" baseline="30000">
                    <a:solidFill>
                      <a:srgbClr val="0033cc"/>
                    </a:solidFill>
                    <a:latin typeface="Times New Roman"/>
                  </a:rPr>
                  <a:t>4+</a:t>
                </a:r>
                <a:r>
                  <a:rPr b="0" lang="en-US" sz="3600" spc="-1" strike="noStrike" baseline="-25000">
                    <a:solidFill>
                      <a:srgbClr val="0033cc"/>
                    </a:solidFill>
                    <a:latin typeface="Times New Roman"/>
                  </a:rPr>
                  <a:t>   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+   4e</a:t>
                </a:r>
                <a:r>
                  <a:rPr b="0" lang="en-US" sz="3600" spc="-1" strike="noStrike" baseline="30000">
                    <a:solidFill>
                      <a:srgbClr val="0033cc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3080" y="4199040"/>
                <a:ext cx="8458200" cy="76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N</a:t>
                </a:r>
                <a:r>
                  <a:rPr b="0" lang="en-US" sz="3600" spc="-1" strike="noStrike" baseline="30000">
                    <a:solidFill>
                      <a:srgbClr val="0033cc"/>
                    </a:solidFill>
                    <a:latin typeface="Times New Roman"/>
                  </a:rPr>
                  <a:t>5+ 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+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e</a:t>
                </a:r>
                <a:r>
                  <a:rPr b="0" lang="en-US" sz="3600" spc="-1" strike="noStrike" baseline="30000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 </a:t>
                </a:r>
                <a:r>
                  <a:rPr b="0" lang="en-US" sz="4000" spc="-1" strike="noStrike">
                    <a:solidFill>
                      <a:srgbClr val="0033cc"/>
                    </a:solidFill>
                    <a:latin typeface="Times New Roman"/>
                    <a:ea typeface="Times New Roman"/>
                  </a:rPr>
                  <a:t>→</a:t>
                </a:r>
                <a:r>
                  <a:rPr b="0" lang="en-US" sz="3600" spc="-1" strike="noStrike" baseline="-25000">
                    <a:solidFill>
                      <a:srgbClr val="0033cc"/>
                    </a:solidFill>
                    <a:latin typeface="Times New Roman"/>
                  </a:rPr>
                  <a:t>  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N</a:t>
                </a:r>
                <a:r>
                  <a:rPr b="0" lang="en-US" sz="3600" spc="-1" strike="noStrike" baseline="30000">
                    <a:solidFill>
                      <a:srgbClr val="0033cc"/>
                    </a:solidFill>
                    <a:latin typeface="Times New Roman"/>
                  </a:rPr>
                  <a:t>4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2668680" y="4238640"/>
              <a:ext cx="3133440" cy="647280"/>
              <a:chOff x="2668680" y="4238640"/>
              <a:chExt cx="3133440" cy="647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668680" y="42386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996633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008600" y="42433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996633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92800" y="42404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996633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2344680" y="4743360"/>
            <a:ext cx="3438720" cy="563760"/>
            <a:chOff x="2344680" y="4743360"/>
            <a:chExt cx="3438720" cy="563760"/>
          </a:xfrm>
        </p:grpSpPr>
        <p:sp>
          <p:nvSpPr>
            <p:cNvPr id="253" name=""/>
            <p:cNvSpPr/>
            <p:nvPr/>
          </p:nvSpPr>
          <p:spPr>
            <a:xfrm flipH="1">
              <a:off x="2344680" y="4746600"/>
              <a:ext cx="54792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18160" y="4743360"/>
              <a:ext cx="165240" cy="56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796-C6BE-41F6-81C6-66D9A0035C49}" type="slidenum">
              <a:t>33</a:t>
            </a:fld>
          </a:p>
        </p:txBody>
      </p:sp>
    </p:spTree>
  </p:cSld>
  <p:transition spd="slow">
    <p:blinds dir="ver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 + 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37160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5  Balance the remaining elements that are not oxidized or reduced to give the final balanced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657600"/>
            <a:ext cx="91440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Sn + 4H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S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+ 4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2316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C38-23AF-40DC-8031-32C103952A8B}" type="slidenum">
              <a:t>34</a:t>
            </a:fld>
          </a:p>
        </p:txBody>
      </p:sp>
    </p:spTree>
  </p:cSld>
  <p:transition spd="slow">
    <p:blinds dir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7.4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Balancing Ionic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Redox Equa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920A-A4C7-4987-BF62-F9F94404EAD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ionic redox equations both the numbers of atoms and the charges on both sides of the equation must be the s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793-6939-4638-AFA2-42E016DF6B1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The Ion-Electro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89D-63D7-4C89-AB45-3C3B1CDF3B9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1680" y="2286000"/>
            <a:ext cx="85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4200" indent="-16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2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lements other than hydrogen and oxy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01680" y="154080"/>
            <a:ext cx="8690040" cy="1739880"/>
            <a:chOff x="301680" y="154080"/>
            <a:chExt cx="8690040" cy="1739880"/>
          </a:xfrm>
        </p:grpSpPr>
        <p:sp>
          <p:nvSpPr>
            <p:cNvPr id="265" name=""/>
            <p:cNvSpPr/>
            <p:nvPr/>
          </p:nvSpPr>
          <p:spPr>
            <a:xfrm>
              <a:off x="301680" y="154080"/>
              <a:ext cx="8690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4200" indent="-1654200" algn="just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         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Write the two half-reactions that contain the elements being oxidized and reduced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4920" y="1969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Step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21F-6145-476A-B223-D517DE98615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1680" y="154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3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hydrogen and oxy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7570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cidic solu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297080"/>
            <a:ext cx="81770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reactions in acidic solution, us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to balance oxygen and hydr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2644920"/>
            <a:ext cx="817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oxygen needed use one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35053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add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needed to balance the hydrogen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FE3-C9A5-4DE8-97C9-D1C5753E567B}" type="slidenum">
              <a:t>39</a:t>
            </a:fld>
          </a:p>
        </p:txBody>
      </p:sp>
    </p:spTree>
  </p:cSld>
  <p:transition spd="slow">
    <p:blinds dir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3880" y="2400120"/>
            <a:ext cx="8436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xidation number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of an atom represents the number of electrons lost, gained, or unequally shared by an atom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A9B-BC0B-46DD-A9D0-FE400026AE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04920" y="152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3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hydrogen and oxy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7621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asic solu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1295280"/>
            <a:ext cx="817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 algn="just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actions in alkaline solutions, first balance as though the reactions were in an acid solution, using Steps 1-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28684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just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add as many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ons to each side of the equation as there ar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s in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3954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ons into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18148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just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rite the equation, canceling equal numbers of water molecules that appear on opposite side of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4497480"/>
            <a:ext cx="5486400" cy="6487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Example:  4H</a:t>
            </a:r>
            <a:r>
              <a:rPr b="0" lang="en-US" sz="3200" spc="-1" strike="noStrike" baseline="30000">
                <a:solidFill>
                  <a:srgbClr val="80008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+ 4OH</a:t>
            </a:r>
            <a:r>
              <a:rPr b="0" lang="en-US" sz="3200" spc="-1" strike="noStrike" baseline="30000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→ 4H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2FB-C27D-4E77-A32F-9F7C7777D66D}" type="slidenum">
              <a:t>40</a:t>
            </a:fld>
          </a:p>
        </p:txBody>
      </p:sp>
    </p:spTree>
  </p:cSld>
  <p:transition spd="slow">
    <p:blinds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1680" y="1981080"/>
            <a:ext cx="8561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4200" indent="-1654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5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ce the loss and gain of electrons must be equal, multiply each half-reaction by the appropriate number to make the number of electrons the same in each half-re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01680" y="154080"/>
            <a:ext cx="8690040" cy="1739880"/>
            <a:chOff x="301680" y="154080"/>
            <a:chExt cx="8690040" cy="1739880"/>
          </a:xfrm>
        </p:grpSpPr>
        <p:sp>
          <p:nvSpPr>
            <p:cNvPr id="281" name=""/>
            <p:cNvSpPr/>
            <p:nvPr/>
          </p:nvSpPr>
          <p:spPr>
            <a:xfrm>
              <a:off x="301680" y="154080"/>
              <a:ext cx="8690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4200" indent="-1654200" algn="just">
                <a:spcBef>
                  <a:spcPts val="22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dd electrons (e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 to each half-reaction to bring them into electrical balance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1040" y="1602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Step 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A8E-644A-4733-9F60-E515941039A4}" type="slidenum">
              <a:t>41</a:t>
            </a:fld>
          </a:p>
        </p:txBody>
      </p:sp>
    </p:spTree>
  </p:cSld>
  <p:transition spd="slow">
    <p:blinds dir="vert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1680" y="154080"/>
            <a:ext cx="869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4200" indent="-1654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6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the two half-reactions together, canceling electrons and any other identical substances that appear on opposite sides of the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091-779A-4F1C-861C-57D1BA2930C1}" type="slidenum">
              <a:t>42</a:t>
            </a:fld>
          </a:p>
        </p:txBody>
      </p:sp>
    </p:spTree>
  </p:cSld>
  <p:transition spd="slow"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128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1371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 Write two half-reactions, one containing the element being oxidized and the other the element being reduced (use the entire molecule or 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77760" y="533520"/>
          <a:ext cx="898848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533520"/>
                    <a:ext cx="8988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3540240" y="3236760"/>
          <a:ext cx="206352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0240" y="3236760"/>
                    <a:ext cx="20635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771640" y="4343400"/>
          <a:ext cx="360072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4343400"/>
                    <a:ext cx="36007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2" name=""/>
          <p:cNvGrpSpPr/>
          <p:nvPr/>
        </p:nvGrpSpPr>
        <p:grpSpPr>
          <a:xfrm>
            <a:off x="304920" y="5180040"/>
            <a:ext cx="8381880" cy="1373760"/>
            <a:chOff x="304920" y="5180040"/>
            <a:chExt cx="8381880" cy="1373760"/>
          </a:xfrm>
        </p:grpSpPr>
        <p:sp>
          <p:nvSpPr>
            <p:cNvPr id="293" name=""/>
            <p:cNvSpPr/>
            <p:nvPr/>
          </p:nvSpPr>
          <p:spPr>
            <a:xfrm>
              <a:off x="304920" y="5180040"/>
              <a:ext cx="8381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55680" indent="-1255680"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lance elements other than oxygen and hydrogen. </a:t>
              </a:r>
              <a:r>
                <a:rPr b="0" lang="en-US" sz="2800" spc="-1" strike="noStrike">
                  <a:solidFill>
                    <a:srgbClr val="800080"/>
                  </a:solidFill>
                  <a:latin typeface="Arial"/>
                </a:rPr>
                <a:t>(Step 2 is unnecessary, since these elements are already balanced)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4920" y="518004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ep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134-A7BF-4A02-B37C-3E6289FAA6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04920" y="1371600"/>
            <a:ext cx="83818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Balance O and H. The solution is acidic.  The oxidation requires neither O nor H, but the reduction equation need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right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540240" y="3236760"/>
          <a:ext cx="206352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0240" y="3236760"/>
                    <a:ext cx="20635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8" name=""/>
          <p:cNvGrpSpPr/>
          <p:nvPr/>
        </p:nvGrpSpPr>
        <p:grpSpPr>
          <a:xfrm>
            <a:off x="1390680" y="4349880"/>
            <a:ext cx="6541560" cy="690480"/>
            <a:chOff x="1390680" y="4349880"/>
            <a:chExt cx="6541560" cy="690480"/>
          </a:xfrm>
        </p:grpSpPr>
        <p:graphicFrame>
          <p:nvGraphicFramePr>
            <p:cNvPr id="299" name=""/>
            <p:cNvGraphicFramePr/>
            <p:nvPr/>
          </p:nvGraphicFramePr>
          <p:xfrm>
            <a:off x="1400040" y="4349880"/>
            <a:ext cx="6532200" cy="69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00040" y="4349880"/>
                      <a:ext cx="6532200" cy="69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1390680" y="4351320"/>
              <a:ext cx="121896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30800" y="4390920"/>
              <a:ext cx="1659960" cy="60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3" name=""/>
          <p:cNvGraphicFramePr/>
          <p:nvPr/>
        </p:nvGraphicFramePr>
        <p:xfrm>
          <a:off x="1300320" y="4335480"/>
          <a:ext cx="141588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00320" y="4335480"/>
                    <a:ext cx="14158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6211800" y="4419720"/>
          <a:ext cx="178920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11800" y="4419720"/>
                    <a:ext cx="17892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4648320" y="5181480"/>
            <a:ext cx="37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448080" y="4352760"/>
            <a:ext cx="5238720" cy="1650600"/>
            <a:chOff x="3448080" y="4352760"/>
            <a:chExt cx="5238720" cy="1650600"/>
          </a:xfrm>
        </p:grpSpPr>
        <p:grpSp>
          <p:nvGrpSpPr>
            <p:cNvPr id="309" name=""/>
            <p:cNvGrpSpPr/>
            <p:nvPr/>
          </p:nvGrpSpPr>
          <p:grpSpPr>
            <a:xfrm>
              <a:off x="5029200" y="4952880"/>
              <a:ext cx="3657600" cy="1050480"/>
              <a:chOff x="5029200" y="4952880"/>
              <a:chExt cx="3657600" cy="1050480"/>
            </a:xfrm>
          </p:grpSpPr>
          <p:sp>
            <p:nvSpPr>
              <p:cNvPr id="310" name=""/>
              <p:cNvSpPr/>
              <p:nvPr/>
            </p:nvSpPr>
            <p:spPr>
              <a:xfrm>
                <a:off x="5029200" y="4952880"/>
                <a:ext cx="365760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 water molecules are necessary to balance the 4 oxygens in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MnO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11" name=""/>
              <p:cNvGraphicFramePr/>
              <p:nvPr/>
            </p:nvGraphicFramePr>
            <p:xfrm>
              <a:off x="5097600" y="5594400"/>
              <a:ext cx="846000" cy="3538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097600" y="5594400"/>
                        <a:ext cx="846000" cy="35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13" name=""/>
            <p:cNvGrpSpPr/>
            <p:nvPr/>
          </p:nvGrpSpPr>
          <p:grpSpPr>
            <a:xfrm>
              <a:off x="3448080" y="4352760"/>
              <a:ext cx="4413240" cy="685800"/>
              <a:chOff x="3448080" y="4352760"/>
              <a:chExt cx="4413240" cy="685800"/>
            </a:xfrm>
          </p:grpSpPr>
          <p:sp>
            <p:nvSpPr>
              <p:cNvPr id="314" name=""/>
              <p:cNvSpPr/>
              <p:nvPr/>
            </p:nvSpPr>
            <p:spPr>
              <a:xfrm>
                <a:off x="6566040" y="4352760"/>
                <a:ext cx="1295280" cy="685800"/>
              </a:xfrm>
              <a:prstGeom prst="rect">
                <a:avLst/>
              </a:prstGeom>
              <a:noFill/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448080" y="4352760"/>
                <a:ext cx="571320" cy="685800"/>
              </a:xfrm>
              <a:prstGeom prst="rect">
                <a:avLst/>
              </a:prstGeom>
              <a:noFill/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304920" y="4352760"/>
            <a:ext cx="7149960" cy="1498320"/>
            <a:chOff x="304920" y="4352760"/>
            <a:chExt cx="7149960" cy="1498320"/>
          </a:xfrm>
        </p:grpSpPr>
        <p:sp>
          <p:nvSpPr>
            <p:cNvPr id="317" name=""/>
            <p:cNvSpPr/>
            <p:nvPr/>
          </p:nvSpPr>
          <p:spPr>
            <a:xfrm>
              <a:off x="304920" y="5105520"/>
              <a:ext cx="36576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balance the 8 hydrogens of 4 water molecules.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n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295280" y="4352760"/>
              <a:ext cx="6159600" cy="685800"/>
              <a:chOff x="1295280" y="4352760"/>
              <a:chExt cx="6159600" cy="685800"/>
            </a:xfrm>
          </p:grpSpPr>
          <p:sp>
            <p:nvSpPr>
              <p:cNvPr id="319" name=""/>
              <p:cNvSpPr/>
              <p:nvPr/>
            </p:nvSpPr>
            <p:spPr>
              <a:xfrm>
                <a:off x="1295280" y="4352760"/>
                <a:ext cx="819360" cy="685800"/>
              </a:xfrm>
              <a:prstGeom prst="rect">
                <a:avLst/>
              </a:prstGeom>
              <a:noFill/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27960" y="4352760"/>
                <a:ext cx="826920" cy="685800"/>
              </a:xfrm>
              <a:prstGeom prst="rect">
                <a:avLst/>
              </a:prstGeom>
              <a:noFill/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21" name=""/>
          <p:cNvGraphicFramePr/>
          <p:nvPr/>
        </p:nvGraphicFramePr>
        <p:xfrm>
          <a:off x="77760" y="533520"/>
          <a:ext cx="8988480" cy="69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760" y="533520"/>
                    <a:ext cx="8988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0" y="0"/>
            <a:ext cx="9144000" cy="128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1000" y="536400"/>
          <a:ext cx="8988480" cy="69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000" y="536400"/>
                    <a:ext cx="898848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2E5-D468-4129-8D6E-76323FA5A409}" type="slidenum">
              <a:t>44</a:t>
            </a:fld>
          </a:p>
        </p:txBody>
      </p:sp>
    </p:spTree>
  </p:cSld>
  <p:transition spd="slow">
    <p:blinds dir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9144000" cy="1279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1371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Balance each half-reaction electrically with electr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2908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charge = +2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77760" y="533520"/>
          <a:ext cx="898848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533520"/>
                    <a:ext cx="8988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262908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charge = -2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870280" y="3236760"/>
            <a:ext cx="3397320" cy="649440"/>
            <a:chOff x="2870280" y="3236760"/>
            <a:chExt cx="3397320" cy="649440"/>
          </a:xfrm>
        </p:grpSpPr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2870280" y="3236760"/>
              <a:ext cx="33796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048280" y="3352680"/>
              <a:ext cx="12193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5" name=""/>
          <p:cNvGraphicFramePr/>
          <p:nvPr/>
        </p:nvGraphicFramePr>
        <p:xfrm>
          <a:off x="5010120" y="3213000"/>
          <a:ext cx="1139760" cy="57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10120" y="3213000"/>
                    <a:ext cx="11397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7" name=""/>
          <p:cNvGrpSpPr/>
          <p:nvPr/>
        </p:nvGrpSpPr>
        <p:grpSpPr>
          <a:xfrm>
            <a:off x="617400" y="4952880"/>
            <a:ext cx="7909200" cy="809640"/>
            <a:chOff x="617400" y="4952880"/>
            <a:chExt cx="7909200" cy="809640"/>
          </a:xfrm>
        </p:grpSpPr>
        <p:graphicFrame>
          <p:nvGraphicFramePr>
            <p:cNvPr id="338" name=""/>
            <p:cNvGraphicFramePr/>
            <p:nvPr/>
          </p:nvGraphicFramePr>
          <p:xfrm>
            <a:off x="617400" y="5072040"/>
            <a:ext cx="7909200" cy="690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3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7400" y="5072040"/>
                      <a:ext cx="7909200" cy="69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0" name=""/>
            <p:cNvSpPr/>
            <p:nvPr/>
          </p:nvSpPr>
          <p:spPr>
            <a:xfrm>
              <a:off x="617400" y="4952880"/>
              <a:ext cx="11430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1" name=""/>
          <p:cNvGraphicFramePr/>
          <p:nvPr/>
        </p:nvGraphicFramePr>
        <p:xfrm>
          <a:off x="609480" y="5068800"/>
          <a:ext cx="1121040" cy="573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9480" y="5068800"/>
                    <a:ext cx="11210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1905120" y="2743200"/>
            <a:ext cx="53337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d oxidation half-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4648320"/>
            <a:ext cx="53337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d reduction half-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7D1-0A7D-4180-925F-076B814D3249}" type="slidenum">
              <a:t>45</a:t>
            </a:fld>
          </a:p>
        </p:txBody>
      </p:sp>
    </p:spTree>
  </p:cSld>
  <p:transition spd="slow">
    <p:blinds dir="vert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2735280" y="3236760"/>
          <a:ext cx="337968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5280" y="3236760"/>
                    <a:ext cx="33796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0" y="0"/>
            <a:ext cx="9144000" cy="1279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137160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8360" indent="-13683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5   Equalize loss and gain of electrons.  In this case, multiply the oxidation equation by 5 and the reduction equation by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470320" y="3236760"/>
          <a:ext cx="420516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0320" y="3236760"/>
                    <a:ext cx="42051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87480" y="4341960"/>
          <a:ext cx="897084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480" y="4341960"/>
                    <a:ext cx="89708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77760" y="533520"/>
          <a:ext cx="8988480" cy="69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60" y="533520"/>
                    <a:ext cx="8988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617400" y="4341960"/>
          <a:ext cx="7909200" cy="69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400" y="4341960"/>
                    <a:ext cx="79092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D62-74D3-462A-A62F-FF40EC7BC3DF}" type="slidenum">
              <a:t>46</a:t>
            </a:fld>
          </a:p>
        </p:txBody>
      </p:sp>
    </p:spTree>
  </p:cSld>
  <p:transition spd="slow">
    <p:blinds dir="vert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1371600"/>
            <a:ext cx="883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8360" indent="-13683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6   Add the two half-reactions together, canceling the 10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each side, to obtain the balanced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738520" y="3429000"/>
          <a:ext cx="3666960" cy="4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3429000"/>
                    <a:ext cx="36669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663480" y="4341960"/>
          <a:ext cx="7815240" cy="59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3480" y="4341960"/>
                    <a:ext cx="781524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152280" y="502920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46160" y="5176800"/>
          <a:ext cx="885024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6160" y="5176800"/>
                    <a:ext cx="88502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77760" y="533520"/>
          <a:ext cx="8988480" cy="69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60" y="533520"/>
                    <a:ext cx="8988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8" name=""/>
          <p:cNvGrpSpPr/>
          <p:nvPr/>
        </p:nvGrpSpPr>
        <p:grpSpPr>
          <a:xfrm>
            <a:off x="588960" y="3565440"/>
            <a:ext cx="5832360" cy="1227240"/>
            <a:chOff x="588960" y="3565440"/>
            <a:chExt cx="5832360" cy="1227240"/>
          </a:xfrm>
        </p:grpSpPr>
        <p:sp>
          <p:nvSpPr>
            <p:cNvPr id="369" name=""/>
            <p:cNvSpPr/>
            <p:nvPr/>
          </p:nvSpPr>
          <p:spPr>
            <a:xfrm>
              <a:off x="588960" y="4475160"/>
              <a:ext cx="88740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33920" y="3565440"/>
              <a:ext cx="88740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790560" y="60199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harge on both sides of the balanced equation is 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874-8406-4BFC-9222-E2D429194011}" type="slidenum">
              <a:t>47</a:t>
            </a:fld>
          </a:p>
        </p:txBody>
      </p:sp>
    </p:spTree>
  </p:cSld>
  <p:transition spd="slow">
    <p:blinds dir="vert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4920" y="1371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 Write two half-reactions, one containing the element being oxidized and the other the element being reduced (use the entire molecule or 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2840" y="533520"/>
          <a:ext cx="905832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533520"/>
                    <a:ext cx="905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2144880" y="3218040"/>
          <a:ext cx="4205160" cy="52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4880" y="3218040"/>
                    <a:ext cx="42051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427120" y="4343400"/>
          <a:ext cx="3721320" cy="59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7120" y="4343400"/>
                    <a:ext cx="37213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304920" y="518004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 Balance elements other than oxygen and hydrogen 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(Step 2 is unnecessary, since these elements are already balanced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0B4-80BB-4DD6-BFF5-30B1739AB66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1219320"/>
            <a:ext cx="8991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 Balance O and H as though the solution were acidic.  Use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nd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48320" y="5181480"/>
            <a:ext cx="37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2840" y="533520"/>
          <a:ext cx="905832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533520"/>
                    <a:ext cx="905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0" y="2846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solution is basic, ad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ach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475160"/>
            <a:ext cx="8839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ewrite, canceling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each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23840" y="5334120"/>
          <a:ext cx="795636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5334120"/>
                    <a:ext cx="79563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123840" y="6027840"/>
          <a:ext cx="5378400" cy="60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840" y="6027840"/>
                    <a:ext cx="53784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2" name=""/>
          <p:cNvGrpSpPr/>
          <p:nvPr/>
        </p:nvGrpSpPr>
        <p:grpSpPr>
          <a:xfrm>
            <a:off x="123840" y="2057400"/>
            <a:ext cx="6810480" cy="601560"/>
            <a:chOff x="123840" y="2057400"/>
            <a:chExt cx="6810480" cy="601560"/>
          </a:xfrm>
        </p:grpSpPr>
        <p:graphicFrame>
          <p:nvGraphicFramePr>
            <p:cNvPr id="393" name=""/>
            <p:cNvGraphicFramePr/>
            <p:nvPr/>
          </p:nvGraphicFramePr>
          <p:xfrm>
            <a:off x="123840" y="2057400"/>
            <a:ext cx="6353280" cy="601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3840" y="2057400"/>
                      <a:ext cx="635328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1752480" y="2170080"/>
              <a:ext cx="1371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62720" y="2133720"/>
              <a:ext cx="1371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97" name=""/>
          <p:cNvGraphicFramePr/>
          <p:nvPr/>
        </p:nvGraphicFramePr>
        <p:xfrm>
          <a:off x="5622840" y="2057400"/>
          <a:ext cx="854280" cy="48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22840" y="2057400"/>
                    <a:ext cx="8542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1836720" y="2133720"/>
          <a:ext cx="1179360" cy="53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36720" y="2133720"/>
                    <a:ext cx="11793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"/>
          <p:cNvGrpSpPr/>
          <p:nvPr/>
        </p:nvGrpSpPr>
        <p:grpSpPr>
          <a:xfrm>
            <a:off x="123840" y="3657600"/>
            <a:ext cx="8943840" cy="601560"/>
            <a:chOff x="123840" y="3657600"/>
            <a:chExt cx="8943840" cy="601560"/>
          </a:xfrm>
        </p:grpSpPr>
        <p:graphicFrame>
          <p:nvGraphicFramePr>
            <p:cNvPr id="402" name=""/>
            <p:cNvGraphicFramePr/>
            <p:nvPr/>
          </p:nvGraphicFramePr>
          <p:xfrm>
            <a:off x="123840" y="3657600"/>
            <a:ext cx="8894880" cy="601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3840" y="3657600"/>
                      <a:ext cx="889488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"/>
            <p:cNvSpPr/>
            <p:nvPr/>
          </p:nvSpPr>
          <p:spPr>
            <a:xfrm>
              <a:off x="7772400" y="3733920"/>
              <a:ext cx="1295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124080" y="3733920"/>
              <a:ext cx="1219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116160" y="3657600"/>
            <a:ext cx="5915160" cy="498600"/>
            <a:chOff x="3116160" y="3657600"/>
            <a:chExt cx="5915160" cy="498600"/>
          </a:xfrm>
        </p:grpSpPr>
        <p:graphicFrame>
          <p:nvGraphicFramePr>
            <p:cNvPr id="407" name=""/>
            <p:cNvGraphicFramePr/>
            <p:nvPr/>
          </p:nvGraphicFramePr>
          <p:xfrm>
            <a:off x="3116160" y="3657600"/>
            <a:ext cx="1144800" cy="4986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16160" y="3657600"/>
                      <a:ext cx="114480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7886880" y="3657600"/>
            <a:ext cx="1144440" cy="4986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886880" y="3657600"/>
                      <a:ext cx="114444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1" name=""/>
          <p:cNvGrpSpPr/>
          <p:nvPr/>
        </p:nvGrpSpPr>
        <p:grpSpPr>
          <a:xfrm>
            <a:off x="2176560" y="5462640"/>
            <a:ext cx="5929200" cy="317520"/>
            <a:chOff x="2176560" y="5462640"/>
            <a:chExt cx="5929200" cy="317520"/>
          </a:xfrm>
        </p:grpSpPr>
        <p:sp>
          <p:nvSpPr>
            <p:cNvPr id="412" name=""/>
            <p:cNvSpPr/>
            <p:nvPr/>
          </p:nvSpPr>
          <p:spPr>
            <a:xfrm>
              <a:off x="2176560" y="5462640"/>
              <a:ext cx="88740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18360" y="5462640"/>
              <a:ext cx="88740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76320" y="6019920"/>
            <a:ext cx="8913600" cy="609480"/>
            <a:chOff x="76320" y="6019920"/>
            <a:chExt cx="8913600" cy="609480"/>
          </a:xfrm>
        </p:grpSpPr>
        <p:sp>
          <p:nvSpPr>
            <p:cNvPr id="415" name=""/>
            <p:cNvSpPr/>
            <p:nvPr/>
          </p:nvSpPr>
          <p:spPr>
            <a:xfrm>
              <a:off x="5791320" y="6095880"/>
              <a:ext cx="31986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xidation half-re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320" y="6019920"/>
              <a:ext cx="5441760" cy="60948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228600" y="2743200"/>
            <a:ext cx="4724280" cy="124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ach unbalanced O add one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to the other side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743200"/>
            <a:ext cx="47242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ach unbalanced H add one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other side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F52-D8C4-4AD4-8980-907796230F86}" type="slidenum">
              <a:t>49</a:t>
            </a:fld>
          </a:p>
        </p:txBody>
      </p:sp>
    </p:spTree>
  </p:cSld>
  <p:transition spd="slow">
    <p:blinds dir="vert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1304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xidation numbers can be zero, positive or negat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C00-FCB8-406F-860B-6C853F82BA68}" type="slidenum">
              <a:t>5</a:t>
            </a:fld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8320" y="5181480"/>
            <a:ext cx="37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2840" y="533520"/>
          <a:ext cx="905832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533520"/>
                    <a:ext cx="905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3" name=""/>
          <p:cNvGrpSpPr/>
          <p:nvPr/>
        </p:nvGrpSpPr>
        <p:grpSpPr>
          <a:xfrm>
            <a:off x="3124080" y="3733920"/>
            <a:ext cx="5943600" cy="457200"/>
            <a:chOff x="3124080" y="3733920"/>
            <a:chExt cx="5943600" cy="457200"/>
          </a:xfrm>
        </p:grpSpPr>
        <p:sp>
          <p:nvSpPr>
            <p:cNvPr id="424" name=""/>
            <p:cNvSpPr/>
            <p:nvPr/>
          </p:nvSpPr>
          <p:spPr>
            <a:xfrm>
              <a:off x="7772400" y="3733920"/>
              <a:ext cx="1295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24080" y="3733920"/>
              <a:ext cx="1219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738360" y="6019920"/>
          <a:ext cx="638784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360" y="6019920"/>
                    <a:ext cx="63878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0" y="556740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e, canceling 1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from each si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65080" y="5562720"/>
            <a:ext cx="74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1219320"/>
            <a:ext cx="8991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 Balance O and H as though the solution were acidic.  Use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nd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6600" y="2019240"/>
            <a:ext cx="6216480" cy="609480"/>
            <a:chOff x="336600" y="2019240"/>
            <a:chExt cx="6216480" cy="609480"/>
          </a:xfrm>
        </p:grpSpPr>
        <p:graphicFrame>
          <p:nvGraphicFramePr>
            <p:cNvPr id="432" name=""/>
            <p:cNvGraphicFramePr/>
            <p:nvPr/>
          </p:nvGraphicFramePr>
          <p:xfrm>
            <a:off x="336600" y="2019240"/>
            <a:ext cx="5925960" cy="60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6600" y="2019240"/>
                      <a:ext cx="592596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4" name=""/>
            <p:cNvSpPr/>
            <p:nvPr/>
          </p:nvSpPr>
          <p:spPr>
            <a:xfrm>
              <a:off x="5105520" y="2095200"/>
              <a:ext cx="14475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23880" y="2095200"/>
              <a:ext cx="11430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6" name=""/>
          <p:cNvGraphicFramePr/>
          <p:nvPr/>
        </p:nvGraphicFramePr>
        <p:xfrm>
          <a:off x="1542960" y="2019240"/>
          <a:ext cx="109404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2960" y="2019240"/>
                    <a:ext cx="10940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5086440" y="2085840"/>
          <a:ext cx="117936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86440" y="2085840"/>
                    <a:ext cx="117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0" y="28209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solution is basic, ad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 O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ach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54000" y="3591000"/>
          <a:ext cx="9036000" cy="601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000" y="3591000"/>
                    <a:ext cx="90360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2438280" y="365904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96080" y="365904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490840" y="3592440"/>
            <a:ext cx="6594480" cy="498240"/>
            <a:chOff x="2490840" y="3592440"/>
            <a:chExt cx="6594480" cy="498240"/>
          </a:xfrm>
        </p:grpSpPr>
        <p:graphicFrame>
          <p:nvGraphicFramePr>
            <p:cNvPr id="446" name=""/>
            <p:cNvGraphicFramePr/>
            <p:nvPr/>
          </p:nvGraphicFramePr>
          <p:xfrm>
            <a:off x="2490840" y="3592440"/>
            <a:ext cx="1366920" cy="498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90840" y="3592440"/>
                      <a:ext cx="1366920" cy="49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8" name=""/>
            <p:cNvGraphicFramePr/>
            <p:nvPr/>
          </p:nvGraphicFramePr>
          <p:xfrm>
            <a:off x="7718400" y="3592440"/>
            <a:ext cx="1366920" cy="498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718400" y="3592440"/>
                      <a:ext cx="1366920" cy="49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0" name=""/>
          <p:cNvGraphicFramePr/>
          <p:nvPr/>
        </p:nvGraphicFramePr>
        <p:xfrm>
          <a:off x="738360" y="4773600"/>
          <a:ext cx="7805520" cy="601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8360" y="4773600"/>
                    <a:ext cx="78055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0" y="43768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+ 5O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2647800"/>
            <a:ext cx="47242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ach unbalanced H add one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other side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320" y="2647800"/>
            <a:ext cx="4724280" cy="124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ach unbalanced O add one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to the other side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38280" y="5446800"/>
            <a:ext cx="7439040" cy="1166760"/>
            <a:chOff x="638280" y="5446800"/>
            <a:chExt cx="7439040" cy="1166760"/>
          </a:xfrm>
        </p:grpSpPr>
        <p:sp>
          <p:nvSpPr>
            <p:cNvPr id="456" name=""/>
            <p:cNvSpPr/>
            <p:nvPr/>
          </p:nvSpPr>
          <p:spPr>
            <a:xfrm>
              <a:off x="638280" y="6073920"/>
              <a:ext cx="6524640" cy="53964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1295280" y="5446800"/>
              <a:ext cx="6782040" cy="609480"/>
              <a:chOff x="1295280" y="5446800"/>
              <a:chExt cx="6782040" cy="609480"/>
            </a:xfrm>
          </p:grpSpPr>
          <p:sp>
            <p:nvSpPr>
              <p:cNvPr id="458" name=""/>
              <p:cNvSpPr/>
              <p:nvPr/>
            </p:nvSpPr>
            <p:spPr>
              <a:xfrm>
                <a:off x="1295280" y="5446800"/>
                <a:ext cx="67820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514600" y="5522760"/>
                <a:ext cx="319896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oxidation half-reac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0CA-C5DB-49F5-9F3E-6695D9801502}" type="slidenum">
              <a:t>50</a:t>
            </a:fld>
          </a:p>
        </p:txBody>
      </p:sp>
    </p:spTree>
  </p:cSld>
  <p:transition spd="slow">
    <p:blinds dir="vert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1371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Balance each half-reaction electrically with electr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2908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charge = -5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2908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charge = -1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42840" y="533520"/>
          <a:ext cx="905832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533520"/>
                    <a:ext cx="905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6" name=""/>
          <p:cNvGrpSpPr/>
          <p:nvPr/>
        </p:nvGrpSpPr>
        <p:grpSpPr>
          <a:xfrm>
            <a:off x="890640" y="5075280"/>
            <a:ext cx="7361280" cy="615960"/>
            <a:chOff x="890640" y="5075280"/>
            <a:chExt cx="7361280" cy="615960"/>
          </a:xfrm>
        </p:grpSpPr>
        <p:graphicFrame>
          <p:nvGraphicFramePr>
            <p:cNvPr id="467" name=""/>
            <p:cNvGraphicFramePr/>
            <p:nvPr/>
          </p:nvGraphicFramePr>
          <p:xfrm>
            <a:off x="890640" y="5075280"/>
            <a:ext cx="7361280" cy="60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90640" y="5075280"/>
                      <a:ext cx="736128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9" name=""/>
            <p:cNvSpPr/>
            <p:nvPr/>
          </p:nvSpPr>
          <p:spPr>
            <a:xfrm>
              <a:off x="3581280" y="5157720"/>
              <a:ext cx="10191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1514520" y="3236760"/>
            <a:ext cx="6334200" cy="601920"/>
            <a:chOff x="1514520" y="3236760"/>
            <a:chExt cx="6334200" cy="601920"/>
          </a:xfrm>
        </p:grpSpPr>
        <p:graphicFrame>
          <p:nvGraphicFramePr>
            <p:cNvPr id="471" name=""/>
            <p:cNvGraphicFramePr/>
            <p:nvPr/>
          </p:nvGraphicFramePr>
          <p:xfrm>
            <a:off x="1514520" y="3236760"/>
            <a:ext cx="6113520" cy="601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14520" y="3236760"/>
                      <a:ext cx="6113520" cy="6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3" name=""/>
            <p:cNvSpPr/>
            <p:nvPr/>
          </p:nvSpPr>
          <p:spPr>
            <a:xfrm>
              <a:off x="6829560" y="3276720"/>
              <a:ext cx="101916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4" name=""/>
          <p:cNvGraphicFramePr/>
          <p:nvPr/>
        </p:nvGraphicFramePr>
        <p:xfrm>
          <a:off x="6865920" y="3236760"/>
          <a:ext cx="75096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65920" y="3236760"/>
                    <a:ext cx="7509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3597120" y="5081760"/>
          <a:ext cx="990720" cy="498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97120" y="5081760"/>
                    <a:ext cx="99072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"/>
          <p:cNvSpPr/>
          <p:nvPr/>
        </p:nvSpPr>
        <p:spPr>
          <a:xfrm>
            <a:off x="1905120" y="2743200"/>
            <a:ext cx="53337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d oxidation half-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05120" y="4575240"/>
            <a:ext cx="53337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d reduction half-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CB2-57CE-48AF-A23C-278D973B58D5}" type="slidenum">
              <a:t>51</a:t>
            </a:fld>
          </a:p>
        </p:txBody>
      </p:sp>
    </p:spTree>
  </p:cSld>
  <p:transition spd="slow">
    <p:blinds dir="vert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1371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8360" indent="-13683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5   Equalize loss and gain of electr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42840" y="533520"/>
          <a:ext cx="905832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533520"/>
                    <a:ext cx="905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1514520" y="3236760"/>
          <a:ext cx="6113520" cy="6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4520" y="3236760"/>
                    <a:ext cx="611352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890640" y="5075280"/>
          <a:ext cx="7361280" cy="60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90640" y="5075280"/>
                    <a:ext cx="73612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1044720" y="3236760"/>
          <a:ext cx="7053120" cy="60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4720" y="3236760"/>
                    <a:ext cx="705312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1652760" y="2666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oxidation reaction b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54200" y="4191120"/>
            <a:ext cx="71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necessary to multiply the reduction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270-206C-4F9D-88F5-1EB5F34A11FA}" type="slidenum">
              <a:t>52</a:t>
            </a:fld>
          </a:p>
        </p:txBody>
      </p:sp>
    </p:spTree>
  </p:cSld>
  <p:transition spd="slow">
    <p:blinds dir="vert"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0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"/>
          <p:cNvGraphicFramePr/>
          <p:nvPr/>
        </p:nvGraphicFramePr>
        <p:xfrm>
          <a:off x="890640" y="4340160"/>
          <a:ext cx="736128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4340160"/>
                    <a:ext cx="73612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920" y="1371600"/>
            <a:ext cx="883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8360" indent="-13683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6   Add the two half-reactions together, canceling 3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3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each side of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280" y="502920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38160" y="5176800"/>
          <a:ext cx="9067680" cy="4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5176800"/>
                    <a:ext cx="90676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790560" y="60199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harge on both sides of the balanced equation is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42840" y="533520"/>
          <a:ext cx="905832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0" y="533520"/>
                    <a:ext cx="905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044720" y="3236760"/>
          <a:ext cx="7053120" cy="60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4720" y="3236760"/>
                    <a:ext cx="705312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4" name=""/>
          <p:cNvGrpSpPr/>
          <p:nvPr/>
        </p:nvGrpSpPr>
        <p:grpSpPr>
          <a:xfrm>
            <a:off x="3886200" y="3438360"/>
            <a:ext cx="4191120" cy="1314720"/>
            <a:chOff x="3886200" y="3438360"/>
            <a:chExt cx="4191120" cy="1314720"/>
          </a:xfrm>
        </p:grpSpPr>
        <p:sp>
          <p:nvSpPr>
            <p:cNvPr id="505" name=""/>
            <p:cNvSpPr/>
            <p:nvPr/>
          </p:nvSpPr>
          <p:spPr>
            <a:xfrm>
              <a:off x="3886200" y="4527720"/>
              <a:ext cx="630360" cy="22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46960" y="3438360"/>
              <a:ext cx="630360" cy="225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B458-ADE5-4DC9-B32E-33D897F389CA}" type="slidenum">
              <a:t>53</a:t>
            </a:fld>
          </a:p>
        </p:txBody>
      </p:sp>
    </p:spTree>
  </p:cSld>
  <p:transition spd="slow">
    <p:blinds dir="vert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7.5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ctivity Series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f Met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94A-EF42-4B55-B0F4-05C5A7F4A38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ivity series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listing of metallic elements in descending order of reactiv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D56-BBCA-4F9B-9A6A-09486807173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rcRect l="31505" t="0" r="31129" b="3996"/>
          <a:stretch/>
        </p:blipFill>
        <p:spPr>
          <a:xfrm>
            <a:off x="522360" y="365040"/>
            <a:ext cx="3281400" cy="6319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046160" y="2081160"/>
            <a:ext cx="455760" cy="4648320"/>
          </a:xfrm>
          <a:prstGeom prst="bracketPair">
            <a:avLst>
              <a:gd name="adj" fmla="val 17129"/>
            </a:avLst>
          </a:prstGeom>
          <a:noFill/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36800" y="2928960"/>
            <a:ext cx="53341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dium (Na) will displace any element below it from one of its compound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17440" y="2422440"/>
            <a:ext cx="330480" cy="42674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86B-87A9-4132-A3FA-0EB84CB0113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380880" y="1454040"/>
            <a:ext cx="685800" cy="5253120"/>
            <a:chOff x="380880" y="1454040"/>
            <a:chExt cx="685800" cy="5253120"/>
          </a:xfrm>
        </p:grpSpPr>
        <p:sp>
          <p:nvSpPr>
            <p:cNvPr id="515" name=""/>
            <p:cNvSpPr/>
            <p:nvPr/>
          </p:nvSpPr>
          <p:spPr>
            <a:xfrm flipV="1">
              <a:off x="1066680" y="1454040"/>
              <a:ext cx="0" cy="525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-1229400" y="3821400"/>
              <a:ext cx="3741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creasing activ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0" y="56340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Mg(s) + PbS(s)</a:t>
            </a:r>
            <a:r>
              <a:rPr b="0" lang="en-US" sz="4200" spc="-1" strike="noStrike" baseline="-25000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9966"/>
                </a:solidFill>
                <a:latin typeface="Symbol"/>
                <a:ea typeface="Symbol"/>
              </a:rPr>
              <a:t></a:t>
            </a: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 MgS(s) + Pb(s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71600" y="106200"/>
            <a:ext cx="2209680" cy="60984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676520" y="1463760"/>
            <a:ext cx="685800" cy="5239440"/>
            <a:chOff x="1676520" y="1463760"/>
            <a:chExt cx="685800" cy="5239440"/>
          </a:xfrm>
        </p:grpSpPr>
        <p:sp>
          <p:nvSpPr>
            <p:cNvPr id="520" name=""/>
            <p:cNvSpPr/>
            <p:nvPr/>
          </p:nvSpPr>
          <p:spPr>
            <a:xfrm>
              <a:off x="1676520" y="5508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1676520" y="1463760"/>
              <a:ext cx="685800" cy="5239440"/>
              <a:chOff x="1676520" y="1463760"/>
              <a:chExt cx="685800" cy="5239440"/>
            </a:xfrm>
          </p:grpSpPr>
          <p:sp>
            <p:nvSpPr>
              <p:cNvPr id="522" name=""/>
              <p:cNvSpPr/>
              <p:nvPr/>
            </p:nvSpPr>
            <p:spPr>
              <a:xfrm>
                <a:off x="1676520" y="587520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676520" y="14637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76520" y="1832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676520" y="2200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C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676520" y="2567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676520" y="2935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676520" y="3301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76520" y="3670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Z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676520" y="4037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C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676520" y="4405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F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676520" y="4773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N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676520" y="5140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S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676520" y="6243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C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5" name=""/>
          <p:cNvGrpSpPr/>
          <p:nvPr/>
        </p:nvGrpSpPr>
        <p:grpSpPr>
          <a:xfrm>
            <a:off x="2138400" y="3199320"/>
            <a:ext cx="938160" cy="2596680"/>
            <a:chOff x="2138400" y="3199320"/>
            <a:chExt cx="938160" cy="2596680"/>
          </a:xfrm>
        </p:grpSpPr>
        <p:sp>
          <p:nvSpPr>
            <p:cNvPr id="536" name=""/>
            <p:cNvSpPr/>
            <p:nvPr/>
          </p:nvSpPr>
          <p:spPr>
            <a:xfrm>
              <a:off x="2233440" y="3199320"/>
              <a:ext cx="841680" cy="10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2138400" y="4260960"/>
              <a:ext cx="938160" cy="153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352680" y="3319560"/>
            <a:ext cx="578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sium is above lead in the activity s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44197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sium will displace lead from its comp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4A2-CF04-4017-A115-7B5FEB81C5B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380880" y="1454040"/>
            <a:ext cx="685800" cy="5253120"/>
            <a:chOff x="380880" y="1454040"/>
            <a:chExt cx="685800" cy="5253120"/>
          </a:xfrm>
        </p:grpSpPr>
        <p:sp>
          <p:nvSpPr>
            <p:cNvPr id="541" name=""/>
            <p:cNvSpPr/>
            <p:nvPr/>
          </p:nvSpPr>
          <p:spPr>
            <a:xfrm flipV="1">
              <a:off x="1066680" y="1454040"/>
              <a:ext cx="0" cy="525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16200000">
              <a:off x="-1229400" y="3821400"/>
              <a:ext cx="3741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creasing activ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352680" y="3319560"/>
            <a:ext cx="578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ver is below copper in the activity s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52680" y="44197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ver will not displace copper from one of its comp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56340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Ag(s) + CuCl</a:t>
            </a:r>
            <a:r>
              <a:rPr b="0" lang="en-US" sz="4200" spc="-1" strike="noStrike" baseline="-25000">
                <a:solidFill>
                  <a:srgbClr val="339966"/>
                </a:solidFill>
                <a:latin typeface="Times New Roman"/>
              </a:rPr>
              <a:t>2</a:t>
            </a: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(s)</a:t>
            </a:r>
            <a:r>
              <a:rPr b="0" lang="en-US" sz="4200" spc="-1" strike="noStrike" baseline="-25000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9966"/>
                </a:solidFill>
                <a:latin typeface="Symbol"/>
                <a:ea typeface="Symbol"/>
              </a:rPr>
              <a:t></a:t>
            </a: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 no reac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676520" y="1360440"/>
            <a:ext cx="685800" cy="5119200"/>
            <a:chOff x="1676520" y="1360440"/>
            <a:chExt cx="685800" cy="5119200"/>
          </a:xfrm>
        </p:grpSpPr>
        <p:sp>
          <p:nvSpPr>
            <p:cNvPr id="547" name=""/>
            <p:cNvSpPr/>
            <p:nvPr/>
          </p:nvSpPr>
          <p:spPr>
            <a:xfrm>
              <a:off x="1676520" y="13604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1676520" y="1676520"/>
              <a:ext cx="685800" cy="4803120"/>
              <a:chOff x="1676520" y="1676520"/>
              <a:chExt cx="685800" cy="4803120"/>
            </a:xfrm>
          </p:grpSpPr>
          <p:sp>
            <p:nvSpPr>
              <p:cNvPr id="549" name=""/>
              <p:cNvSpPr/>
              <p:nvPr/>
            </p:nvSpPr>
            <p:spPr>
              <a:xfrm>
                <a:off x="1676520" y="4618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P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676520" y="498492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676520" y="16765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676520" y="2044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76520" y="2411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76520" y="27795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Z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676520" y="31464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C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676520" y="3514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F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676520" y="3882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N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676520" y="4249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S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676520" y="5353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C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676520" y="56865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A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676520" y="6019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H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2" name=""/>
          <p:cNvSpPr/>
          <p:nvPr/>
        </p:nvSpPr>
        <p:spPr>
          <a:xfrm>
            <a:off x="1728720" y="5433840"/>
            <a:ext cx="457200" cy="6858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44C-14C2-4B9B-B153-D1BDC9AA5EA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2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7.6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lectrolytic and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Voltaic Cel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6CF-5EA7-4C4D-B285-72070E1113B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28456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oxidation number of zero means the atom has the same number of electrons assigned to it as there are in the free neutral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78E-FCF7-427A-BB43-E1525E93AC3C}" type="slidenum">
              <a:t>6</a:t>
            </a:fld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262872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lys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process whereby electrical energy is used to bring about a chemical ch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0880" y="2133720"/>
            <a:ext cx="8382240" cy="25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lytic cell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 electrolysis apparatus in which electrical energy from an outside source is used to produce a chemical chang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2E4-1D89-4990-907F-321EBA6A254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13000" y="3075120"/>
            <a:ext cx="63180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tho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The negative electro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08160" y="3063960"/>
            <a:ext cx="6411960" cy="708120"/>
            <a:chOff x="1208160" y="3063960"/>
            <a:chExt cx="6411960" cy="708120"/>
          </a:xfrm>
        </p:grpSpPr>
        <p:sp>
          <p:nvSpPr>
            <p:cNvPr id="569" name=""/>
            <p:cNvSpPr/>
            <p:nvPr/>
          </p:nvSpPr>
          <p:spPr>
            <a:xfrm>
              <a:off x="1208160" y="3063960"/>
              <a:ext cx="6237360" cy="7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node: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The positive electrode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62920" y="3200400"/>
              <a:ext cx="4572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985-D99D-466E-A56B-B6964A578B64}" type="slidenum">
              <a:t>61</a:t>
            </a:fld>
          </a:p>
        </p:txBody>
      </p:sp>
    </p:spTree>
  </p:cSld>
  <p:transition spd="slow">
    <p:blinds dir="vert"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Electrolysis of</a:t>
            </a:r>
            <a:br>
              <a:rPr sz="5400"/>
            </a:b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Hydrochloric Aci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E94-B620-4186-884A-110B3FF9F7B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2680" y="2590920"/>
            <a:ext cx="83786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 electrolytic cell, electrical energy from the voltage source is used to bring about nonspontaneous redox reaction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A6B-19B6-4FF4-A21D-3144FF148A1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252360" y="1498680"/>
            <a:ext cx="8637480" cy="53593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63680" y="5273640"/>
            <a:ext cx="600120" cy="1219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56320" y="131760"/>
            <a:ext cx="3985920" cy="5796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756320" y="879480"/>
            <a:ext cx="2361960" cy="5796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15000" y="1600200"/>
            <a:ext cx="327672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hode 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9960" y="77760"/>
            <a:ext cx="3986280" cy="1373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nium ions migrate to the cathode and are redu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C48-89D4-470E-8EF5-81160584388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9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4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2360" y="1498680"/>
            <a:ext cx="8637480" cy="535932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753080" y="127080"/>
            <a:ext cx="2388960" cy="520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753080" y="876240"/>
            <a:ext cx="2658960" cy="5796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15000" y="1600200"/>
            <a:ext cx="327672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de 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1760" y="81000"/>
            <a:ext cx="3789360" cy="1373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de ions migrate to the anode and are oxid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95680" y="4606920"/>
            <a:ext cx="600120" cy="1219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DAB-2332-43B5-8CC6-E1ECE491BC36}" type="slidenum">
              <a:t>65</a:t>
            </a:fld>
          </a:p>
        </p:txBody>
      </p:sp>
    </p:spTree>
  </p:cSld>
  <p:transition spd="slow">
    <p:blinds dir="vert"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3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2680" y="2286000"/>
            <a:ext cx="8378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hydrogen and chlorine produced when HCl is electrolyzed have more potential energy than was present in the hydrochloric acid before electrolysi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1752480" y="1371600"/>
            <a:ext cx="5867640" cy="804960"/>
            <a:chOff x="1752480" y="1371600"/>
            <a:chExt cx="5867640" cy="804960"/>
          </a:xfrm>
        </p:grpSpPr>
        <p:grpSp>
          <p:nvGrpSpPr>
            <p:cNvPr id="589" name=""/>
            <p:cNvGrpSpPr/>
            <p:nvPr/>
          </p:nvGrpSpPr>
          <p:grpSpPr>
            <a:xfrm>
              <a:off x="3200400" y="1414440"/>
              <a:ext cx="2286000" cy="459720"/>
              <a:chOff x="3200400" y="1414440"/>
              <a:chExt cx="2286000" cy="459720"/>
            </a:xfrm>
          </p:grpSpPr>
          <p:sp>
            <p:nvSpPr>
              <p:cNvPr id="590" name=""/>
              <p:cNvSpPr/>
              <p:nvPr/>
            </p:nvSpPr>
            <p:spPr>
              <a:xfrm>
                <a:off x="3543120" y="183996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200400" y="1414440"/>
                <a:ext cx="228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lectroly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1752480" y="1414440"/>
              <a:ext cx="5867640" cy="7621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HC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                  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+ C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3195720" y="1371600"/>
              <a:ext cx="2286000" cy="459720"/>
              <a:chOff x="3195720" y="1371600"/>
              <a:chExt cx="2286000" cy="459720"/>
            </a:xfrm>
          </p:grpSpPr>
          <p:sp>
            <p:nvSpPr>
              <p:cNvPr id="594" name=""/>
              <p:cNvSpPr/>
              <p:nvPr/>
            </p:nvSpPr>
            <p:spPr>
              <a:xfrm>
                <a:off x="3538440" y="179712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95720" y="1371600"/>
                <a:ext cx="228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lectroly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290-1630-49A5-A2D9-3E3C56606F2E}" type="slidenum">
              <a:t>66</a:t>
            </a:fld>
          </a:p>
        </p:txBody>
      </p:sp>
    </p:spTree>
  </p:cSld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The Zinc-Copper Voltaic Ce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2EE-BC04-4642-A123-29698BBB727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7640" y="2590920"/>
            <a:ext cx="910872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oltaic cel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cell that produces electrical energy from a spontaneous chemical reaction. (Also known as a galvanic cell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B66-AC5B-40AB-B56E-73D23A9A9549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533520" y="2057400"/>
            <a:ext cx="8076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a piece of zinc is put in a copper(II) sulfate solution, the zinc quickly becomes coated with metallic copper.  This occurs because zinc is above copper in the activity se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2D5-3F19-4FC6-B4AF-F011829F1573}" type="slidenum">
              <a:t>69</a:t>
            </a:fld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25588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ositive oxidation number means the atom has fewer electrons assigned to it than in the neutral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38A-BDF7-4A56-959F-B649537F4437}" type="slidenum">
              <a:t>7</a:t>
            </a:fld>
          </a:p>
        </p:txBody>
      </p:sp>
    </p:spTree>
  </p:cSld>
  <p:transition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56340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Zn(s) + CuSO</a:t>
            </a:r>
            <a:r>
              <a:rPr b="0" lang="en-US" sz="4200" spc="-1" strike="noStrike" baseline="-25000">
                <a:solidFill>
                  <a:srgbClr val="339966"/>
                </a:solidFill>
                <a:latin typeface="Times New Roman"/>
              </a:rPr>
              <a:t>4</a:t>
            </a: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(s)</a:t>
            </a:r>
            <a:r>
              <a:rPr b="0" lang="en-US" sz="4200" spc="-1" strike="noStrike" baseline="-25000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9966"/>
                </a:solidFill>
                <a:latin typeface="Symbol"/>
                <a:ea typeface="Symbol"/>
              </a:rPr>
              <a:t></a:t>
            </a: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 ZnSO</a:t>
            </a:r>
            <a:r>
              <a:rPr b="0" lang="en-US" sz="4200" spc="-1" strike="noStrike" baseline="-25000">
                <a:solidFill>
                  <a:srgbClr val="339966"/>
                </a:solidFill>
                <a:latin typeface="Times New Roman"/>
              </a:rPr>
              <a:t>4</a:t>
            </a: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(s) + Cu(s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2120" y="106200"/>
            <a:ext cx="2133360" cy="533520"/>
          </a:xfrm>
          <a:custGeom>
            <a:avLst/>
            <a:gdLst>
              <a:gd name="textAreaLeft" fmla="*/ 373320 w 2133360"/>
              <a:gd name="textAreaRight" fmla="*/ 1546920 w 21333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380880" y="1454040"/>
            <a:ext cx="685800" cy="5253120"/>
            <a:chOff x="380880" y="1454040"/>
            <a:chExt cx="685800" cy="5253120"/>
          </a:xfrm>
        </p:grpSpPr>
        <p:sp>
          <p:nvSpPr>
            <p:cNvPr id="602" name=""/>
            <p:cNvSpPr/>
            <p:nvPr/>
          </p:nvSpPr>
          <p:spPr>
            <a:xfrm flipV="1">
              <a:off x="1066680" y="1454040"/>
              <a:ext cx="0" cy="525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6200000">
              <a:off x="-1229400" y="3821400"/>
              <a:ext cx="3741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creasing activ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173320" y="3914640"/>
            <a:ext cx="949320" cy="2622600"/>
            <a:chOff x="2173320" y="3914640"/>
            <a:chExt cx="949320" cy="2622600"/>
          </a:xfrm>
        </p:grpSpPr>
        <p:sp>
          <p:nvSpPr>
            <p:cNvPr id="605" name=""/>
            <p:cNvSpPr/>
            <p:nvPr/>
          </p:nvSpPr>
          <p:spPr>
            <a:xfrm>
              <a:off x="2173320" y="3914640"/>
              <a:ext cx="949320" cy="9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2206800" y="4861080"/>
              <a:ext cx="91440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3352680" y="3319560"/>
            <a:ext cx="578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nc  is above copper in the activity s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2680" y="44197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nc will displace copper from one of its comp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676520" y="1463760"/>
            <a:ext cx="685800" cy="5239440"/>
            <a:chOff x="1676520" y="1463760"/>
            <a:chExt cx="685800" cy="5239440"/>
          </a:xfrm>
        </p:grpSpPr>
        <p:sp>
          <p:nvSpPr>
            <p:cNvPr id="610" name=""/>
            <p:cNvSpPr/>
            <p:nvPr/>
          </p:nvSpPr>
          <p:spPr>
            <a:xfrm>
              <a:off x="1676520" y="5508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1676520" y="1463760"/>
              <a:ext cx="685800" cy="5239440"/>
              <a:chOff x="1676520" y="1463760"/>
              <a:chExt cx="685800" cy="5239440"/>
            </a:xfrm>
          </p:grpSpPr>
          <p:sp>
            <p:nvSpPr>
              <p:cNvPr id="612" name=""/>
              <p:cNvSpPr/>
              <p:nvPr/>
            </p:nvSpPr>
            <p:spPr>
              <a:xfrm>
                <a:off x="1676520" y="587520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676520" y="14637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676520" y="1832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520" y="2200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C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76520" y="2567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76520" y="2935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676520" y="3301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676520" y="3670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Z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676520" y="4037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C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676520" y="4405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F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676520" y="4773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N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676520" y="5140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S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676520" y="6243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C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054-5ACC-4D17-B04E-4EF0735E316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533520" y="2057400"/>
            <a:ext cx="8076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is reaction is carried out in a voltaic cell, an electric current is produ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77C-D3B7-4EDB-967B-C3E83BFFCAA3}" type="slidenum">
              <a:t>71</a:t>
            </a:fld>
          </a:p>
        </p:txBody>
      </p:sp>
    </p:spTree>
  </p:cSld>
  <p:transition spd="slow"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57320" y="836640"/>
            <a:ext cx="8829360" cy="594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043-C903-483C-93CC-CCF5B94CE67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384120" y="1335240"/>
            <a:ext cx="8375760" cy="522000"/>
            <a:chOff x="384120" y="1335240"/>
            <a:chExt cx="8375760" cy="522000"/>
          </a:xfrm>
        </p:grpSpPr>
        <p:sp>
          <p:nvSpPr>
            <p:cNvPr id="628" name=""/>
            <p:cNvSpPr/>
            <p:nvPr/>
          </p:nvSpPr>
          <p:spPr>
            <a:xfrm>
              <a:off x="2370240" y="1336680"/>
              <a:ext cx="4098960" cy="520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→ Z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2+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q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 + 2e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4120" y="1335240"/>
              <a:ext cx="1600200" cy="520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4760" y="1335240"/>
              <a:ext cx="1905120" cy="520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384120" y="3220920"/>
            <a:ext cx="8375760" cy="520560"/>
            <a:chOff x="384120" y="3220920"/>
            <a:chExt cx="8375760" cy="520560"/>
          </a:xfrm>
        </p:grpSpPr>
        <p:sp>
          <p:nvSpPr>
            <p:cNvPr id="632" name=""/>
            <p:cNvSpPr/>
            <p:nvPr/>
          </p:nvSpPr>
          <p:spPr>
            <a:xfrm>
              <a:off x="2370240" y="3220920"/>
              <a:ext cx="4098960" cy="520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+ 2e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→ Cu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54760" y="3220920"/>
              <a:ext cx="1905120" cy="520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4120" y="3220920"/>
              <a:ext cx="1600200" cy="520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th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2550960" y="111240"/>
            <a:ext cx="2210040" cy="947160"/>
          </a:xfrm>
          <a:prstGeom prst="borderCallout2">
            <a:avLst>
              <a:gd name="adj1" fmla="val 18750"/>
              <a:gd name="adj2" fmla="val -8333"/>
              <a:gd name="adj3" fmla="val 11611"/>
              <a:gd name="adj4" fmla="val 127370"/>
              <a:gd name="adj5" fmla="val 140462"/>
              <a:gd name="adj6" fmla="val 152212"/>
            </a:avLst>
          </a:prstGeom>
          <a:solidFill>
            <a:srgbClr val="000000"/>
          </a:solidFill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46160" y="1981080"/>
            <a:ext cx="2209680" cy="947160"/>
          </a:xfrm>
          <a:prstGeom prst="borderCallout2">
            <a:avLst>
              <a:gd name="adj1" fmla="val 18750"/>
              <a:gd name="adj2" fmla="val -8333"/>
              <a:gd name="adj3" fmla="val 11611"/>
              <a:gd name="adj4" fmla="val 127370"/>
              <a:gd name="adj5" fmla="val 140462"/>
              <a:gd name="adj6" fmla="val 152222"/>
            </a:avLst>
          </a:prstGeom>
          <a:solidFill>
            <a:srgbClr val="000000"/>
          </a:solidFill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90440" y="4014720"/>
            <a:ext cx="6248520" cy="1184040"/>
            <a:chOff x="190440" y="4014720"/>
            <a:chExt cx="6248520" cy="1184040"/>
          </a:xfrm>
        </p:grpSpPr>
        <p:sp>
          <p:nvSpPr>
            <p:cNvPr id="638" name=""/>
            <p:cNvSpPr/>
            <p:nvPr/>
          </p:nvSpPr>
          <p:spPr>
            <a:xfrm>
              <a:off x="190440" y="4678200"/>
              <a:ext cx="6248520" cy="520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+ Cu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aq)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→ Z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2+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q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 + Cu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0440" y="4014720"/>
              <a:ext cx="3810240" cy="52056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et ionic reac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90440" y="5462640"/>
            <a:ext cx="6988320" cy="1252800"/>
            <a:chOff x="190440" y="5462640"/>
            <a:chExt cx="6988320" cy="1252800"/>
          </a:xfrm>
        </p:grpSpPr>
        <p:sp>
          <p:nvSpPr>
            <p:cNvPr id="641" name=""/>
            <p:cNvSpPr/>
            <p:nvPr/>
          </p:nvSpPr>
          <p:spPr>
            <a:xfrm>
              <a:off x="190440" y="6135840"/>
              <a:ext cx="6988320" cy="5796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+ CuS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aq)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→ ZnS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q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 + Cu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0440" y="5462640"/>
              <a:ext cx="3810240" cy="52056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verall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4C4-A74E-4F8F-895C-3EA1B78024F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0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9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0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533520" y="2057400"/>
            <a:ext cx="8076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eactions of the zinc-copper cell are spontaneou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2057400"/>
            <a:ext cx="8076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ntaneous reactions occur in all voltaic cel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3520" y="2057400"/>
            <a:ext cx="8076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ions that occur in electrolytic cells are nonspontaneou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520" y="2057400"/>
            <a:ext cx="8076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ntaneity is the crucial difference between all voltaic and electrolytic cel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942-442F-4F1C-AFD2-3FB166B20F8B}" type="slidenum">
              <a:t>74</a:t>
            </a:fld>
          </a:p>
        </p:txBody>
      </p:sp>
    </p:spTree>
  </p:cSld>
  <p:transition spd="slow">
    <p:blinds dir="vert"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1855800" y="257004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E11-6B70-4170-ACB9-F966637F193D}" type="slidenum">
              <a:t>75</a:t>
            </a:fld>
          </a:p>
        </p:txBody>
      </p:sp>
    </p:spTree>
  </p:cSld>
  <p:transition spd="slow">
    <p:blinds dir="vert"/>
  </p:transition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25588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gative oxidation number means the atom has more electrons assigned to it than in the neutral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424-3079-4AED-B83D-1C5223A7B3C3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xidation number of an atom that has gained or lost electrons to form an ion is the same as the positive or negative charge of the 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352680"/>
            <a:ext cx="914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C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08760" y="4799160"/>
            <a:ext cx="2971800" cy="1217520"/>
          </a:xfrm>
          <a:prstGeom prst="borderCallout1">
            <a:avLst>
              <a:gd name="adj1" fmla="val 18750"/>
              <a:gd name="adj2" fmla="val -8333"/>
              <a:gd name="adj3" fmla="val -58412"/>
              <a:gd name="adj4" fmla="val -26069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dium has lost an electr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4799160"/>
            <a:ext cx="2971800" cy="1373040"/>
          </a:xfrm>
          <a:prstGeom prst="borderCallout1">
            <a:avLst>
              <a:gd name="adj1" fmla="val 18750"/>
              <a:gd name="adj2" fmla="val -8333"/>
              <a:gd name="adj3" fmla="val -51912"/>
              <a:gd name="adj4" fmla="val -26069"/>
            </a:avLst>
          </a:prstGeom>
          <a:solidFill>
            <a:srgbClr val="0033cc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lorine has gained an elec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8760" y="4799160"/>
            <a:ext cx="2971800" cy="1217520"/>
          </a:xfrm>
          <a:prstGeom prst="borderCallout1">
            <a:avLst>
              <a:gd name="adj1" fmla="val 18750"/>
              <a:gd name="adj2" fmla="val -8333"/>
              <a:gd name="adj3" fmla="val -58412"/>
              <a:gd name="adj4" fmla="val -26069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rge on sodium is +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8760" y="4799160"/>
            <a:ext cx="2971800" cy="1373040"/>
          </a:xfrm>
          <a:prstGeom prst="borderCallout1">
            <a:avLst>
              <a:gd name="adj1" fmla="val 18750"/>
              <a:gd name="adj2" fmla="val -8333"/>
              <a:gd name="adj3" fmla="val -51912"/>
              <a:gd name="adj4" fmla="val -26069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xidation number  of sodium is +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4799160"/>
            <a:ext cx="2971800" cy="1373040"/>
          </a:xfrm>
          <a:prstGeom prst="borderCallout1">
            <a:avLst>
              <a:gd name="adj1" fmla="val 18750"/>
              <a:gd name="adj2" fmla="val -8333"/>
              <a:gd name="adj3" fmla="val -51912"/>
              <a:gd name="adj4" fmla="val -26069"/>
            </a:avLst>
          </a:prstGeom>
          <a:solidFill>
            <a:srgbClr val="0033cc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rge on chlorine is –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4799160"/>
            <a:ext cx="2971800" cy="1373040"/>
          </a:xfrm>
          <a:prstGeom prst="borderCallout1">
            <a:avLst>
              <a:gd name="adj1" fmla="val 18750"/>
              <a:gd name="adj2" fmla="val -8333"/>
              <a:gd name="adj3" fmla="val -51912"/>
              <a:gd name="adj4" fmla="val -26069"/>
            </a:avLst>
          </a:prstGeom>
          <a:solidFill>
            <a:srgbClr val="0033cc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xidation number  of chlorine is -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656-3D09-456F-AD79-C828F01C60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6:50:10Z</dcterms:created>
  <dc:creator>M</dc:creator>
  <dc:description/>
  <dc:language>en-US</dc:language>
  <cp:lastModifiedBy>wininst</cp:lastModifiedBy>
  <dcterms:modified xsi:type="dcterms:W3CDTF">2000-01-01T08:59:06Z</dcterms:modified>
  <cp:revision>1207</cp:revision>
  <dc:subject/>
  <dc:title>Hein and Arena</dc:title>
</cp:coreProperties>
</file>