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.jpeg" ContentType="image/jpeg"/>
  <Override PartName="/ppt/media/image28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7.jpeg" ContentType="image/jpeg"/>
  <Override PartName="/ppt/media/image31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7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C90-805D-4E60-BC46-2143E914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E24-087C-4956-A86B-21F614E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43E-3628-4FBA-8CE3-B9056727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D14-3AD9-4483-B78D-B6A959AD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18C-2D74-4367-9989-D7D0B9DD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D78-3EC8-445F-A1B9-FB3F9C5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F72-32A5-4D02-BA8B-C4731F4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B28-7464-4117-B8E1-9F59C448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CAC-E9D3-4C50-8A21-6FFB054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24B-C800-40B2-8BBD-E698D36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4A4-6C3A-4559-9ABD-CE16A313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9FF-5954-42CB-A594-1B90C6C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DAA5B42-90B4-49F9-B861-48FD6B9C42A7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8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44B-6408-49B7-BFC5-87824F073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49.xml"/><Relationship Id="rId5" Type="http://schemas.openxmlformats.org/officeDocument/2006/relationships/slide" Target="slide55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40.xml"/><Relationship Id="rId9" Type="http://schemas.openxmlformats.org/officeDocument/2006/relationships/slide" Target="slide68.xml"/><Relationship Id="rId10" Type="http://schemas.openxmlformats.org/officeDocument/2006/relationships/slide" Target="slide26.xml"/><Relationship Id="rId11" Type="http://schemas.openxmlformats.org/officeDocument/2006/relationships/slide" Target="slide33.xml"/><Relationship Id="rId12" Type="http://schemas.openxmlformats.org/officeDocument/2006/relationships/slide" Target="slide36.xml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hemical Equilibriu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692-1D05-4F98-B3B1-A757BCD8FD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54200" y="380880"/>
            <a:ext cx="5584680" cy="4213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990720" y="4952880"/>
            <a:ext cx="7162560" cy="642600"/>
            <a:chOff x="990720" y="4952880"/>
            <a:chExt cx="7162560" cy="642600"/>
          </a:xfrm>
        </p:grpSpPr>
        <p:sp>
          <p:nvSpPr>
            <p:cNvPr id="107" name=""/>
            <p:cNvSpPr/>
            <p:nvPr/>
          </p:nvSpPr>
          <p:spPr>
            <a:xfrm>
              <a:off x="990720" y="495288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orward re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00600" y="4952880"/>
              <a:ext cx="3352680" cy="6426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 + B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0720" y="5807160"/>
            <a:ext cx="7162560" cy="642600"/>
            <a:chOff x="990720" y="5807160"/>
            <a:chExt cx="7162560" cy="642600"/>
          </a:xfrm>
        </p:grpSpPr>
        <p:sp>
          <p:nvSpPr>
            <p:cNvPr id="110" name=""/>
            <p:cNvSpPr/>
            <p:nvPr/>
          </p:nvSpPr>
          <p:spPr>
            <a:xfrm>
              <a:off x="990720" y="580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everse re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0600" y="5807160"/>
              <a:ext cx="3352680" cy="6426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+ D → A +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 flipV="1">
            <a:off x="3548160" y="1708200"/>
            <a:ext cx="2325600" cy="3238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909600" y="2215800"/>
            <a:ext cx="2567160" cy="3575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517680"/>
            <a:ext cx="36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ncentration of A and B decreases with time, lowering the rate of the forward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498760"/>
            <a:ext cx="36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ncentration of C and D increases with time, increasing the rate of the revers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376-5322-455A-A29C-502C73C93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3</a:t>
            </a:r>
            <a:br>
              <a:rPr sz="4400"/>
            </a:br>
            <a:r>
              <a:rPr b="1" lang="en-US" sz="6900" spc="-1" strike="noStrike" u="sng">
                <a:solidFill>
                  <a:srgbClr val="cc3399"/>
                </a:solidFill>
                <a:uFillTx/>
                <a:latin typeface="Times New Roman"/>
              </a:rPr>
              <a:t>Chemical Equilibrium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79E-C918-4F98-BB5E-9AE5A8AAC4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ynamic state in which two or more opposing processes are taking place at the same time and at the same r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26368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equilibrium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ate in which the rate of the forward reaction equals the rate of the reverse reaction in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300400"/>
            <a:ext cx="77724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 the concentrations of the products and the reactants are not chang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3D6-38B8-46E3-850A-95F7790D80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3490560"/>
            <a:ext cx="9142560" cy="891360"/>
            <a:chOff x="0" y="3490560"/>
            <a:chExt cx="9142560" cy="891360"/>
          </a:xfrm>
        </p:grpSpPr>
        <p:sp>
          <p:nvSpPr>
            <p:cNvPr id="123" name=""/>
            <p:cNvSpPr/>
            <p:nvPr/>
          </p:nvSpPr>
          <p:spPr>
            <a:xfrm>
              <a:off x="0" y="36147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a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    Na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373560" y="3490560"/>
              <a:ext cx="533160" cy="891360"/>
              <a:chOff x="3373560" y="3490560"/>
              <a:chExt cx="533160" cy="891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373560" y="34905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373560" y="3738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28600" y="8762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urated salt solution is in equilibrium with solid s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7400" y="21700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cryst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s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53080" y="2170080"/>
            <a:ext cx="243864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rystal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915080"/>
            <a:ext cx="7429680" cy="1409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, the rate of salt dissolution equals the rate of salt crystal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123-C3F8-4184-A59A-F54503849C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Le Chatelier’s Princi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392-9583-47C2-AFFA-DE0B1AD18D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88, the French chemist Henri LeChatelier set forth a far-reaching generalization on the behavior of equilibrium syst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04920"/>
            <a:ext cx="88394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generalization, known 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LeChatelier’s Principle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8686800" cy="2301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tress or strain is applied to a system in equilibrium, the system will respond in such a way as to relieve that stress and restore equilibrium under a new set of condi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660-9A0B-45AB-B9F5-E3DAFDA50F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5</a:t>
            </a:r>
            <a:br>
              <a:rPr sz="4400"/>
            </a:br>
            <a:r>
              <a:rPr b="1" lang="en-US" sz="63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Concentration on Equilibriu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525-0F3E-45DF-AA61-3527C2CEA14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most reactions, the rate of reaction increases as reactant concentrations in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36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nner in which the rate of reaction changes with concentration must be determined experimenta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B6F-BCD5-431B-B70B-8BC1F7ED24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quilibrium is disturbed when the concentration of one or more of its components is changed.  As a result, the concentration of all species will change and a new equilibrium mixture will be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DDF-B747-402E-8FB2-FDAC51A165F0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>
            <a:off x="4446000" y="2286000"/>
            <a:ext cx="3352680" cy="1297080"/>
          </a:xfrm>
          <a:prstGeom prst="borderCallout1">
            <a:avLst>
              <a:gd name="adj1" fmla="val 18750"/>
              <a:gd name="adj2" fmla="val -8333"/>
              <a:gd name="adj3" fmla="val 117009"/>
              <a:gd name="adj4" fmla="val 123671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A and B being used faster than they are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2840" y="3770280"/>
            <a:ext cx="457200" cy="53496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160" y="4916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ing the concentration of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3604680"/>
            <a:ext cx="9142560" cy="891360"/>
            <a:chOff x="0" y="3604680"/>
            <a:chExt cx="9142560" cy="891360"/>
          </a:xfrm>
        </p:grpSpPr>
        <p:sp>
          <p:nvSpPr>
            <p:cNvPr id="145" name=""/>
            <p:cNvSpPr/>
            <p:nvPr/>
          </p:nvSpPr>
          <p:spPr>
            <a:xfrm>
              <a:off x="0" y="37180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B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343400" y="3604680"/>
              <a:ext cx="533160" cy="891360"/>
              <a:chOff x="4343400" y="3604680"/>
              <a:chExt cx="533160" cy="891360"/>
            </a:xfrm>
          </p:grpSpPr>
          <p:sp>
            <p:nvSpPr>
              <p:cNvPr id="147" name=""/>
              <p:cNvSpPr/>
              <p:nvPr/>
            </p:nvSpPr>
            <p:spPr>
              <a:xfrm>
                <a:off x="4343400" y="36046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cc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343400" y="3853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1600200" y="1295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ystem is at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59040" y="2284560"/>
            <a:ext cx="3170160" cy="1296720"/>
          </a:xfrm>
          <a:prstGeom prst="borderCallout1">
            <a:avLst>
              <a:gd name="adj1" fmla="val 18750"/>
              <a:gd name="adj2" fmla="val -8333"/>
              <a:gd name="adj3" fmla="val 116643"/>
              <a:gd name="adj4" fmla="val -13370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 and D being produced faster than they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34120" y="2394000"/>
            <a:ext cx="3124080" cy="1068480"/>
          </a:xfrm>
          <a:prstGeom prst="borderCallout1">
            <a:avLst>
              <a:gd name="adj1" fmla="val 18750"/>
              <a:gd name="adj2" fmla="val -8333"/>
              <a:gd name="adj3" fmla="val 131050"/>
              <a:gd name="adj4" fmla="val 126726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rate of the forward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85800"/>
            <a:ext cx="7086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A7C-64FA-48DB-B5D4-F9DE34914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5238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Reversible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13840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Rates of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7525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Chemical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9973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0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Ion Product Constant for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9164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Ionization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3685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Le Chatelier’s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39830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Effect of Concentration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44332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Equilibrium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470480"/>
            <a:ext cx="45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Solubility Product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024520"/>
            <a:ext cx="45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Base Properti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96260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Effect of Volume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94360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Effect of Temperature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52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Effect of Catalysts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943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Solu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The Control of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03A-9E70-4573-A926-9F7556F959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22840" y="3770280"/>
            <a:ext cx="2298600" cy="534960"/>
            <a:chOff x="3822840" y="3770280"/>
            <a:chExt cx="2298600" cy="534960"/>
          </a:xfrm>
        </p:grpSpPr>
        <p:sp>
          <p:nvSpPr>
            <p:cNvPr id="154" name=""/>
            <p:cNvSpPr/>
            <p:nvPr/>
          </p:nvSpPr>
          <p:spPr>
            <a:xfrm>
              <a:off x="382284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1500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6424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994120" y="3770280"/>
            <a:ext cx="457200" cy="53496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600" y="129708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The system is again at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916520"/>
            <a:ext cx="8686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enough time has passed, the rates of the forward and reverse reactions become equ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133720"/>
            <a:ext cx="4419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new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2880" y="2743200"/>
            <a:ext cx="3352680" cy="838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A has 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8440" y="2743200"/>
            <a:ext cx="3352680" cy="8380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B, C and D hav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3582720"/>
            <a:ext cx="9142560" cy="915120"/>
            <a:chOff x="0" y="3582720"/>
            <a:chExt cx="9142560" cy="915120"/>
          </a:xfrm>
        </p:grpSpPr>
        <p:sp>
          <p:nvSpPr>
            <p:cNvPr id="164" name=""/>
            <p:cNvSpPr/>
            <p:nvPr/>
          </p:nvSpPr>
          <p:spPr>
            <a:xfrm>
              <a:off x="0" y="37180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B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280040" y="3582720"/>
              <a:ext cx="533160" cy="915120"/>
              <a:chOff x="4280040" y="3582720"/>
              <a:chExt cx="533160" cy="915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280040" y="35827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cc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280040" y="38548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126-3E85-4364-9424-FBD9BEFE2FEF}" type="slidenum">
              <a:t>20</a:t>
            </a:fld>
          </a:p>
        </p:txBody>
      </p:sp>
    </p:spTree>
  </p:cSld>
  <p:transition spd="slow"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Percent Yie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1C9-C9C1-481C-86A6-8CF1B8E52A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3681000"/>
            <a:ext cx="9142560" cy="891360"/>
            <a:chOff x="0" y="3681000"/>
            <a:chExt cx="9142560" cy="891360"/>
          </a:xfrm>
        </p:grpSpPr>
        <p:sp>
          <p:nvSpPr>
            <p:cNvPr id="170" name=""/>
            <p:cNvSpPr/>
            <p:nvPr/>
          </p:nvSpPr>
          <p:spPr>
            <a:xfrm>
              <a:off x="0" y="38052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g)     2HI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800600" y="3681000"/>
              <a:ext cx="533520" cy="891360"/>
              <a:chOff x="4800600" y="3681000"/>
              <a:chExt cx="533520" cy="891360"/>
            </a:xfrm>
          </p:grpSpPr>
          <p:sp>
            <p:nvSpPr>
              <p:cNvPr id="172" name=""/>
              <p:cNvSpPr/>
              <p:nvPr/>
            </p:nvSpPr>
            <p:spPr>
              <a:xfrm>
                <a:off x="4800600" y="36810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800600" y="39294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 flipH="1">
            <a:off x="3199680" y="232236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o form 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53080" y="2322360"/>
            <a:ext cx="243864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 decomposes to form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0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sp>
          <p:nvSpPr>
            <p:cNvPr id="178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itial Concentration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077920" y="4572000"/>
              <a:ext cx="4454640" cy="401760"/>
              <a:chOff x="2077920" y="4572000"/>
              <a:chExt cx="4454640" cy="401760"/>
            </a:xfrm>
          </p:grpSpPr>
          <p:sp>
            <p:nvSpPr>
              <p:cNvPr id="180" name=""/>
              <p:cNvSpPr/>
              <p:nvPr/>
            </p:nvSpPr>
            <p:spPr>
              <a:xfrm>
                <a:off x="2077920" y="4608720"/>
                <a:ext cx="4454640" cy="36504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26120" y="45720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32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016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28600" y="2057400"/>
            <a:ext cx="8913960" cy="4038480"/>
            <a:chOff x="228600" y="2057400"/>
            <a:chExt cx="8913960" cy="4038480"/>
          </a:xfrm>
        </p:grpSpPr>
        <p:grpSp>
          <p:nvGrpSpPr>
            <p:cNvPr id="185" name=""/>
            <p:cNvGrpSpPr/>
            <p:nvPr/>
          </p:nvGrpSpPr>
          <p:grpSpPr>
            <a:xfrm>
              <a:off x="228600" y="2057400"/>
              <a:ext cx="8913960" cy="1828800"/>
              <a:chOff x="228600" y="2057400"/>
              <a:chExt cx="8913960" cy="1828800"/>
            </a:xfrm>
          </p:grpSpPr>
          <p:sp>
            <p:nvSpPr>
              <p:cNvPr id="186" name=""/>
              <p:cNvSpPr/>
              <p:nvPr/>
            </p:nvSpPr>
            <p:spPr>
              <a:xfrm>
                <a:off x="228600" y="2057400"/>
                <a:ext cx="89139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86000" y="3276720"/>
                <a:ext cx="6858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38680" y="3200400"/>
                <a:ext cx="6858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09480" y="4572000"/>
              <a:ext cx="7391520" cy="1523880"/>
              <a:chOff x="609480" y="4572000"/>
              <a:chExt cx="7391520" cy="15238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077920" y="4572000"/>
                <a:ext cx="4454640" cy="401760"/>
                <a:chOff x="2077920" y="4572000"/>
                <a:chExt cx="4454640" cy="401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077920" y="4608720"/>
                  <a:ext cx="4454640" cy="365040"/>
                </a:xfrm>
                <a:prstGeom prst="rect">
                  <a:avLst/>
                </a:prstGeom>
                <a:solidFill>
                  <a:srgbClr val="99cc00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6120" y="457200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73280" y="457200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01680" y="457200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09480" y="5029200"/>
                <a:ext cx="7391520" cy="10666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Final Concentrations in the</a:t>
                </a:r>
                <a:br>
                  <a:rPr sz="3200"/>
                </a:b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bsence of Equilibrium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197" name=""/>
            <p:cNvGrpSpPr/>
            <p:nvPr/>
          </p:nvGrpSpPr>
          <p:grpSpPr>
            <a:xfrm>
              <a:off x="2077920" y="4572000"/>
              <a:ext cx="4454640" cy="401760"/>
              <a:chOff x="2077920" y="4572000"/>
              <a:chExt cx="4454640" cy="401760"/>
            </a:xfrm>
          </p:grpSpPr>
          <p:sp>
            <p:nvSpPr>
              <p:cNvPr id="198" name=""/>
              <p:cNvSpPr/>
              <p:nvPr/>
            </p:nvSpPr>
            <p:spPr>
              <a:xfrm>
                <a:off x="2077920" y="4608720"/>
                <a:ext cx="4454640" cy="36504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26120" y="45720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.58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32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016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Concentration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66760" y="1295280"/>
            <a:ext cx="8610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 the rate of HI formation equals the rate of HI decomposi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5160" y="1295280"/>
            <a:ext cx="8953560" cy="1067040"/>
            <a:chOff x="65160" y="1295280"/>
            <a:chExt cx="8953560" cy="1067040"/>
          </a:xfrm>
        </p:grpSpPr>
        <p:sp>
          <p:nvSpPr>
            <p:cNvPr id="205" name=""/>
            <p:cNvSpPr/>
            <p:nvPr/>
          </p:nvSpPr>
          <p:spPr>
            <a:xfrm>
              <a:off x="685800" y="1295280"/>
              <a:ext cx="77724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 forward reaction is 79% complete at equilibrium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60" y="1371600"/>
              <a:ext cx="620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97720" y="1371600"/>
              <a:ext cx="621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2280" y="1109520"/>
            <a:ext cx="8839440" cy="1447560"/>
            <a:chOff x="152280" y="1109520"/>
            <a:chExt cx="8839440" cy="1447560"/>
          </a:xfrm>
        </p:grpSpPr>
        <p:sp>
          <p:nvSpPr>
            <p:cNvPr id="209" name=""/>
            <p:cNvSpPr/>
            <p:nvPr/>
          </p:nvSpPr>
          <p:spPr>
            <a:xfrm>
              <a:off x="152280" y="1109520"/>
              <a:ext cx="883944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1189080" y="1390320"/>
            <a:ext cx="67644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9080" y="1390320"/>
                      <a:ext cx="67644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0FD-E276-42E4-93C6-60BB12D398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47600" y="1219320"/>
          <a:ext cx="883908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Equilibriu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Equilibriu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+ 1.00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+ 1.20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ield: 79%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ield: 85%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librium mixture con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librium mixture con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8 mol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 mol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866960" y="152280"/>
            <a:ext cx="5410080" cy="83844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799-12E7-4F07-A9EF-7CEB602FFF90}" type="slidenum">
              <a:t>23</a:t>
            </a:fld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3833280"/>
            <a:ext cx="9142560" cy="891360"/>
            <a:chOff x="0" y="3833280"/>
            <a:chExt cx="9142560" cy="891360"/>
          </a:xfrm>
        </p:grpSpPr>
        <p:sp>
          <p:nvSpPr>
            <p:cNvPr id="215" name=""/>
            <p:cNvSpPr/>
            <p:nvPr/>
          </p:nvSpPr>
          <p:spPr>
            <a:xfrm>
              <a:off x="0" y="395748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2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l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    HOCl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Cl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124080" y="3833280"/>
              <a:ext cx="533520" cy="891360"/>
              <a:chOff x="3124080" y="3833280"/>
              <a:chExt cx="533520" cy="891360"/>
            </a:xfrm>
          </p:grpSpPr>
          <p:sp>
            <p:nvSpPr>
              <p:cNvPr id="217" name=""/>
              <p:cNvSpPr/>
              <p:nvPr/>
            </p:nvSpPr>
            <p:spPr>
              <a:xfrm>
                <a:off x="3124080" y="3833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124080" y="4081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oncentration Chan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hlorine Water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2513160"/>
            <a:ext cx="6934320" cy="2896920"/>
            <a:chOff x="1066680" y="2513160"/>
            <a:chExt cx="6934320" cy="2896920"/>
          </a:xfrm>
        </p:grpSpPr>
        <p:sp>
          <p:nvSpPr>
            <p:cNvPr id="221" name=""/>
            <p:cNvSpPr/>
            <p:nvPr/>
          </p:nvSpPr>
          <p:spPr>
            <a:xfrm flipH="1">
              <a:off x="1066680" y="2513160"/>
              <a:ext cx="2438640" cy="106812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rease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143000" y="4665600"/>
              <a:ext cx="6858000" cy="744480"/>
              <a:chOff x="1143000" y="4665600"/>
              <a:chExt cx="6858000" cy="744480"/>
            </a:xfrm>
          </p:grpSpPr>
          <p:sp>
            <p:nvSpPr>
              <p:cNvPr id="223" name=""/>
              <p:cNvSpPr/>
              <p:nvPr/>
            </p:nvSpPr>
            <p:spPr>
              <a:xfrm>
                <a:off x="2666880" y="4665600"/>
                <a:ext cx="381024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143000" y="54100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26" name=""/>
            <p:cNvSpPr/>
            <p:nvPr/>
          </p:nvSpPr>
          <p:spPr>
            <a:xfrm flipH="1">
              <a:off x="297108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28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r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31" name=""/>
            <p:cNvSpPr/>
            <p:nvPr/>
          </p:nvSpPr>
          <p:spPr>
            <a:xfrm flipH="1">
              <a:off x="479988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HOCl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33" name=""/>
              <p:cNvSpPr/>
              <p:nvPr/>
            </p:nvSpPr>
            <p:spPr>
              <a:xfrm>
                <a:off x="266688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36" name=""/>
            <p:cNvSpPr/>
            <p:nvPr/>
          </p:nvSpPr>
          <p:spPr>
            <a:xfrm flipH="1">
              <a:off x="281880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-33074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rease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38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r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41" name=""/>
            <p:cNvSpPr/>
            <p:nvPr/>
          </p:nvSpPr>
          <p:spPr>
            <a:xfrm flipH="1">
              <a:off x="4724280" y="2514600"/>
              <a:ext cx="243864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-33074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4FB-84AF-40E2-8797-A834A11301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3833280"/>
            <a:ext cx="9142560" cy="891360"/>
            <a:chOff x="0" y="3833280"/>
            <a:chExt cx="9142560" cy="891360"/>
          </a:xfrm>
        </p:grpSpPr>
        <p:sp>
          <p:nvSpPr>
            <p:cNvPr id="246" name=""/>
            <p:cNvSpPr/>
            <p:nvPr/>
          </p:nvSpPr>
          <p:spPr>
            <a:xfrm>
              <a:off x="0" y="395748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l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      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191120" y="3833280"/>
              <a:ext cx="533160" cy="891360"/>
              <a:chOff x="4191120" y="3833280"/>
              <a:chExt cx="533160" cy="891360"/>
            </a:xfrm>
          </p:grpSpPr>
          <p:sp>
            <p:nvSpPr>
              <p:cNvPr id="248" name=""/>
              <p:cNvSpPr/>
              <p:nvPr/>
            </p:nvSpPr>
            <p:spPr>
              <a:xfrm>
                <a:off x="4191120" y="38332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191120" y="40816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0" name=""/>
            <p:cNvGraphicFramePr/>
            <p:nvPr/>
          </p:nvGraphicFramePr>
          <p:xfrm>
            <a:off x="6872400" y="3976560"/>
            <a:ext cx="2157480" cy="57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72400" y="3976560"/>
                      <a:ext cx="215748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53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54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2.87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ion Changes on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2200" y="182880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0.100 mol N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40" y="2489040"/>
            <a:ext cx="9142560" cy="652320"/>
            <a:chOff x="1440" y="2489040"/>
            <a:chExt cx="9142560" cy="652320"/>
          </a:xfrm>
        </p:grpSpPr>
        <p:sp>
          <p:nvSpPr>
            <p:cNvPr id="262" name=""/>
            <p:cNvSpPr/>
            <p:nvPr/>
          </p:nvSpPr>
          <p:spPr>
            <a:xfrm>
              <a:off x="1440" y="250992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NaC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→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 Na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6013440" y="2489040"/>
            <a:ext cx="215748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3440" y="2489040"/>
                      <a:ext cx="215748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5" name=""/>
          <p:cNvGrpSpPr/>
          <p:nvPr/>
        </p:nvGrpSpPr>
        <p:grpSpPr>
          <a:xfrm>
            <a:off x="1143000" y="3218040"/>
            <a:ext cx="6858000" cy="744480"/>
            <a:chOff x="1143000" y="3218040"/>
            <a:chExt cx="6858000" cy="744480"/>
          </a:xfrm>
        </p:grpSpPr>
        <p:sp>
          <p:nvSpPr>
            <p:cNvPr id="266" name=""/>
            <p:cNvSpPr/>
            <p:nvPr/>
          </p:nvSpPr>
          <p:spPr>
            <a:xfrm>
              <a:off x="2667240" y="3218040"/>
              <a:ext cx="380988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143000" y="396252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69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70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4.74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662200" y="182880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0.200 mol N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77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78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5.05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4740120" y="425520"/>
          <a:ext cx="147168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0120" y="425520"/>
                    <a:ext cx="1471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3B4-AC17-4FAA-84A7-6157CB732A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Volume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n Equilibr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D60-A2D3-48EC-833E-5F4702E0F9C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s in volume significantly  affect the reaction rate only when one or more of the reactants or products is a gas and the reaction is run in a closed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7280" y="3673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decreasing the volume is to increase the concentrations of any gaseous reactants or produ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181-A439-434E-ADC2-4F9F93A015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957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a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    Ca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03600" y="3852360"/>
            <a:ext cx="533520" cy="891360"/>
            <a:chOff x="3603600" y="3852360"/>
            <a:chExt cx="533520" cy="891360"/>
          </a:xfrm>
        </p:grpSpPr>
        <p:sp>
          <p:nvSpPr>
            <p:cNvPr id="291" name=""/>
            <p:cNvSpPr/>
            <p:nvPr/>
          </p:nvSpPr>
          <p:spPr>
            <a:xfrm>
              <a:off x="3603600" y="3852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603600" y="41007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3352680" y="2513160"/>
            <a:ext cx="2438640" cy="1068120"/>
          </a:xfrm>
          <a:prstGeom prst="borderCallout1">
            <a:avLst>
              <a:gd name="adj1" fmla="val 18750"/>
              <a:gd name="adj2" fmla="val -8333"/>
              <a:gd name="adj3" fmla="val 136550"/>
              <a:gd name="adj4" fmla="val -3307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143000" y="4665600"/>
            <a:ext cx="6858000" cy="744480"/>
            <a:chOff x="1143000" y="4665600"/>
            <a:chExt cx="6858000" cy="744480"/>
          </a:xfrm>
        </p:grpSpPr>
        <p:sp>
          <p:nvSpPr>
            <p:cNvPr id="295" name=""/>
            <p:cNvSpPr/>
            <p:nvPr/>
          </p:nvSpPr>
          <p:spPr>
            <a:xfrm>
              <a:off x="2667240" y="4665600"/>
              <a:ext cx="380988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143000" y="5410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62200" y="1447920"/>
            <a:ext cx="3809880" cy="591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223-B47A-4B8D-9D83-9613402FEB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3957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a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    Ca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03600" y="3852360"/>
            <a:ext cx="533520" cy="891360"/>
            <a:chOff x="3603600" y="3852360"/>
            <a:chExt cx="533520" cy="891360"/>
          </a:xfrm>
        </p:grpSpPr>
        <p:sp>
          <p:nvSpPr>
            <p:cNvPr id="300" name=""/>
            <p:cNvSpPr/>
            <p:nvPr/>
          </p:nvSpPr>
          <p:spPr>
            <a:xfrm>
              <a:off x="3603600" y="3852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603600" y="41007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3352680" y="2513160"/>
            <a:ext cx="2438640" cy="1068120"/>
          </a:xfrm>
          <a:prstGeom prst="borderCallout1">
            <a:avLst>
              <a:gd name="adj1" fmla="val 18750"/>
              <a:gd name="adj2" fmla="val -8333"/>
              <a:gd name="adj3" fmla="val 136550"/>
              <a:gd name="adj4" fmla="val -3307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143000" y="4665600"/>
            <a:ext cx="6858000" cy="744480"/>
            <a:chOff x="1143000" y="4665600"/>
            <a:chExt cx="6858000" cy="744480"/>
          </a:xfrm>
        </p:grpSpPr>
        <p:sp>
          <p:nvSpPr>
            <p:cNvPr id="304" name=""/>
            <p:cNvSpPr/>
            <p:nvPr/>
          </p:nvSpPr>
          <p:spPr>
            <a:xfrm>
              <a:off x="2666880" y="4665600"/>
              <a:ext cx="381024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3000" y="5410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2200" y="1447920"/>
            <a:ext cx="3809880" cy="591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88E-C5D3-48EF-BFFD-A2B6A034610D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</a:t>
            </a:r>
            <a:br>
              <a:rPr sz="4400"/>
            </a:br>
            <a:r>
              <a:rPr b="1" lang="en-US" sz="6900" spc="-1" strike="noStrike" u="sng">
                <a:solidFill>
                  <a:srgbClr val="cc3399"/>
                </a:solidFill>
                <a:uFillTx/>
                <a:latin typeface="Times New Roman"/>
              </a:rPr>
              <a:t>Reversible Reaction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7B5-3529-4BF6-9818-18FADF9C82E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system composed entirely of gases, a decrease in the volume of the container will cause the reaction and the equilibrium to shift to the side that contains the smallest number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547-6E0C-4AD6-A4AE-E52670F458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1634760"/>
            <a:ext cx="9142560" cy="891360"/>
            <a:chOff x="0" y="1634760"/>
            <a:chExt cx="9142560" cy="891360"/>
          </a:xfrm>
        </p:grpSpPr>
        <p:sp>
          <p:nvSpPr>
            <p:cNvPr id="309" name=""/>
            <p:cNvSpPr/>
            <p:nvPr/>
          </p:nvSpPr>
          <p:spPr>
            <a:xfrm>
              <a:off x="0" y="17589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+   3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g)       2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257800" y="1634760"/>
              <a:ext cx="533520" cy="891360"/>
              <a:chOff x="5257800" y="1634760"/>
              <a:chExt cx="533520" cy="891360"/>
            </a:xfrm>
          </p:grpSpPr>
          <p:sp>
            <p:nvSpPr>
              <p:cNvPr id="311" name=""/>
              <p:cNvSpPr/>
              <p:nvPr/>
            </p:nvSpPr>
            <p:spPr>
              <a:xfrm>
                <a:off x="5257800" y="1634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257800" y="188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4981680"/>
            <a:ext cx="9144000" cy="990360"/>
            <a:chOff x="0" y="4981680"/>
            <a:chExt cx="9144000" cy="990360"/>
          </a:xfrm>
        </p:grpSpPr>
        <p:sp>
          <p:nvSpPr>
            <p:cNvPr id="314" name=""/>
            <p:cNvSpPr/>
            <p:nvPr/>
          </p:nvSpPr>
          <p:spPr>
            <a:xfrm>
              <a:off x="0" y="4981680"/>
              <a:ext cx="9144000" cy="83772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quilibrium shifts to the right towards fewer molecul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597204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62200" y="88416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981080" y="2421000"/>
            <a:ext cx="4953240" cy="520560"/>
            <a:chOff x="1981080" y="2421000"/>
            <a:chExt cx="4953240" cy="520560"/>
          </a:xfrm>
        </p:grpSpPr>
        <p:sp>
          <p:nvSpPr>
            <p:cNvPr id="318" name=""/>
            <p:cNvSpPr/>
            <p:nvPr/>
          </p:nvSpPr>
          <p:spPr>
            <a:xfrm>
              <a:off x="19810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371600" y="3044880"/>
            <a:ext cx="6172200" cy="825480"/>
            <a:chOff x="1371600" y="3044880"/>
            <a:chExt cx="6172200" cy="825480"/>
          </a:xfrm>
        </p:grpSpPr>
        <p:sp>
          <p:nvSpPr>
            <p:cNvPr id="322" name=""/>
            <p:cNvSpPr/>
            <p:nvPr/>
          </p:nvSpPr>
          <p:spPr>
            <a:xfrm>
              <a:off x="1371600" y="30448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304488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81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 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79920" y="3044880"/>
              <a:ext cx="20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33400" y="3610080"/>
            <a:ext cx="3353040" cy="1282680"/>
            <a:chOff x="1733400" y="3610080"/>
            <a:chExt cx="3353040" cy="1282680"/>
          </a:xfrm>
        </p:grpSpPr>
        <p:sp>
          <p:nvSpPr>
            <p:cNvPr id="326" name=""/>
            <p:cNvSpPr/>
            <p:nvPr/>
          </p:nvSpPr>
          <p:spPr>
            <a:xfrm>
              <a:off x="2209680" y="40672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2.41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219480" y="2123640"/>
              <a:ext cx="380880" cy="33530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7120 h 3353040"/>
                <a:gd name="textAreaBottom" fmla="*/ 326592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A43-C984-4E0A-A9A2-A6CBB6687951}" type="slidenum">
              <a:t>31</a:t>
            </a:fld>
          </a:p>
        </p:txBody>
      </p:sp>
    </p:spTree>
  </p:cSld>
  <p:transition spd="slow">
    <p:blinds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1634760"/>
            <a:ext cx="9142560" cy="891360"/>
            <a:chOff x="0" y="1634760"/>
            <a:chExt cx="9142560" cy="891360"/>
          </a:xfrm>
        </p:grpSpPr>
        <p:sp>
          <p:nvSpPr>
            <p:cNvPr id="329" name=""/>
            <p:cNvSpPr/>
            <p:nvPr/>
          </p:nvSpPr>
          <p:spPr>
            <a:xfrm>
              <a:off x="0" y="17589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+   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g)     2NO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172120" y="1634760"/>
              <a:ext cx="533520" cy="891360"/>
              <a:chOff x="5172120" y="1634760"/>
              <a:chExt cx="533520" cy="891360"/>
            </a:xfrm>
          </p:grpSpPr>
          <p:sp>
            <p:nvSpPr>
              <p:cNvPr id="331" name=""/>
              <p:cNvSpPr/>
              <p:nvPr/>
            </p:nvSpPr>
            <p:spPr>
              <a:xfrm>
                <a:off x="5172120" y="1634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172120" y="188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77760" y="4952880"/>
            <a:ext cx="8988480" cy="8384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does not shift. The number of molecules is the same on both side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2200" y="88416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981080" y="2421000"/>
            <a:ext cx="4953240" cy="520560"/>
            <a:chOff x="1981080" y="2421000"/>
            <a:chExt cx="4953240" cy="520560"/>
          </a:xfrm>
        </p:grpSpPr>
        <p:sp>
          <p:nvSpPr>
            <p:cNvPr id="336" name=""/>
            <p:cNvSpPr/>
            <p:nvPr/>
          </p:nvSpPr>
          <p:spPr>
            <a:xfrm>
              <a:off x="19810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98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71600" y="3044880"/>
            <a:ext cx="6172200" cy="825480"/>
            <a:chOff x="1371600" y="3044880"/>
            <a:chExt cx="6172200" cy="825480"/>
          </a:xfrm>
        </p:grpSpPr>
        <p:sp>
          <p:nvSpPr>
            <p:cNvPr id="340" name=""/>
            <p:cNvSpPr/>
            <p:nvPr/>
          </p:nvSpPr>
          <p:spPr>
            <a:xfrm>
              <a:off x="1371600" y="30448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720" y="304488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79920" y="3044880"/>
              <a:ext cx="20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733400" y="3610080"/>
            <a:ext cx="3353040" cy="1282680"/>
            <a:chOff x="1733400" y="3610080"/>
            <a:chExt cx="3353040" cy="1282680"/>
          </a:xfrm>
        </p:grpSpPr>
        <p:sp>
          <p:nvSpPr>
            <p:cNvPr id="344" name=""/>
            <p:cNvSpPr/>
            <p:nvPr/>
          </p:nvSpPr>
          <p:spPr>
            <a:xfrm>
              <a:off x="2209680" y="40672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3219480" y="2123640"/>
              <a:ext cx="380880" cy="33530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7120 h 3353040"/>
                <a:gd name="textAreaBottom" fmla="*/ 326592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CA6-A072-4362-9D5F-0101BB70A650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7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Temperature on Equilibr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334-810D-42BC-A4FC-8C0C35B85A8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temperature of a system is raised, the rate of reaction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2552760"/>
            <a:ext cx="7772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reversible reaction, the rates of both the forward and the reverse reactions are increased by an increase 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324160"/>
            <a:ext cx="77724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 of the reaction that absorbs heat is increased to a greater extent, and the equilibrium shifts to favor that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B5A-4E04-438E-957C-8B6C5F5CA4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143000" y="4908600"/>
            <a:ext cx="6858000" cy="744480"/>
            <a:chOff x="1143000" y="4908600"/>
            <a:chExt cx="6858000" cy="744480"/>
          </a:xfrm>
        </p:grpSpPr>
        <p:sp>
          <p:nvSpPr>
            <p:cNvPr id="352" name=""/>
            <p:cNvSpPr/>
            <p:nvPr/>
          </p:nvSpPr>
          <p:spPr>
            <a:xfrm>
              <a:off x="2666880" y="4908600"/>
              <a:ext cx="381024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5653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33520" y="2022480"/>
            <a:ext cx="8067600" cy="933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oom temperature very little CO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3595320"/>
            <a:ext cx="9142560" cy="891360"/>
            <a:chOff x="0" y="3595320"/>
            <a:chExt cx="9142560" cy="891360"/>
          </a:xfrm>
        </p:grpSpPr>
        <p:sp>
          <p:nvSpPr>
            <p:cNvPr id="356" name=""/>
            <p:cNvSpPr/>
            <p:nvPr/>
          </p:nvSpPr>
          <p:spPr>
            <a:xfrm>
              <a:off x="0" y="37018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heat      2CO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695920" y="3595320"/>
              <a:ext cx="533520" cy="891360"/>
              <a:chOff x="5695920" y="3595320"/>
              <a:chExt cx="533520" cy="891360"/>
            </a:xfrm>
          </p:grpSpPr>
          <p:sp>
            <p:nvSpPr>
              <p:cNvPr id="358" name=""/>
              <p:cNvSpPr/>
              <p:nvPr/>
            </p:nvSpPr>
            <p:spPr>
              <a:xfrm>
                <a:off x="5695920" y="3595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95920" y="38437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04920" y="1203480"/>
            <a:ext cx="8533800" cy="2392200"/>
            <a:chOff x="304920" y="1203480"/>
            <a:chExt cx="8533800" cy="2392200"/>
          </a:xfrm>
        </p:grpSpPr>
        <p:sp>
          <p:nvSpPr>
            <p:cNvPr id="361" name=""/>
            <p:cNvSpPr/>
            <p:nvPr/>
          </p:nvSpPr>
          <p:spPr>
            <a:xfrm>
              <a:off x="7543800" y="1508400"/>
              <a:ext cx="1294920" cy="208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04920" y="1203480"/>
              <a:ext cx="7533720" cy="2392200"/>
              <a:chOff x="304920" y="1203480"/>
              <a:chExt cx="7533720" cy="2392200"/>
            </a:xfrm>
          </p:grpSpPr>
          <p:sp>
            <p:nvSpPr>
              <p:cNvPr id="363" name=""/>
              <p:cNvSpPr/>
              <p:nvPr/>
            </p:nvSpPr>
            <p:spPr>
              <a:xfrm>
                <a:off x="304920" y="1203480"/>
                <a:ext cx="1523880" cy="239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43000" y="2022480"/>
                <a:ext cx="6695640" cy="93348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t 1000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 moles CO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oles 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1281240" y="533520"/>
            <a:ext cx="6581520" cy="106884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may be treated as a reactant in endothermic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28F-C679-4090-9AAC-4D6BFE61FD2A}" type="slidenum">
              <a:t>35</a:t>
            </a:fld>
          </a:p>
        </p:txBody>
      </p:sp>
    </p:spTree>
  </p:cSld>
  <p:transition spd="slow">
    <p:blinds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8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Catalyst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n Equilibr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BBE-52AE-48C9-A8AE-F9013922199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atalyst is a substance that influences the rate of a chemical reaction and can be recovered essentially unchanged at the end of the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3505320"/>
            <a:ext cx="7619760" cy="164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catalyst does not shift the equilibrium of a reaction.  It affects only the speed at which the equilibrium is reache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932-6A02-4BD0-A9BA-21C2632221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49120" y="998640"/>
            <a:ext cx="8209080" cy="4572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228600"/>
            <a:ext cx="8532720" cy="5814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Diagram for an Exothermic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energy: the minimum energy required for a reaction to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62840" y="1171440"/>
            <a:ext cx="403200" cy="259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talyst speeds up a reaction by lowering the activation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52840" y="2252520"/>
            <a:ext cx="558720" cy="1381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talyst does not change the energy of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57880" y="3505320"/>
            <a:ext cx="365040" cy="13809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6A4-D704-4A8F-8DFB-700D57B58B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9208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+ S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→ PS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64764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Cl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095560"/>
            <a:ext cx="914400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thiophosphoryl chloride is formed in the absence of a catalyst because the reaction is so s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095560"/>
            <a:ext cx="914400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esence of an aluminum chloride catalyst the reaction is complete in a few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4000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12640" y="4686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0" y="4273560"/>
            <a:ext cx="9144000" cy="1936800"/>
            <a:chOff x="0" y="4273560"/>
            <a:chExt cx="9144000" cy="1936800"/>
          </a:xfrm>
        </p:grpSpPr>
        <p:sp>
          <p:nvSpPr>
            <p:cNvPr id="386" name=""/>
            <p:cNvSpPr/>
            <p:nvPr/>
          </p:nvSpPr>
          <p:spPr>
            <a:xfrm>
              <a:off x="1440" y="42735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KCl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→ 2KCl + 3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5295960"/>
              <a:ext cx="9144000" cy="9144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aboratory preparation of oxygen uses manganese dioxide as a catalyst to increase the rate of the reac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230-B03D-4435-A8A5-B6ED7C24B6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ersible reac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 chemical reaction in which the products formed react to produce the original reac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C8A-EA7D-4212-966D-D365159B8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9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quilibrium Const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4BD-05A1-46E9-AC0D-8C66AA10846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8080" y="228456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 the rates of the forward and reverse reactions are equal, and the concentrations of the reactants and products are 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638-6F0C-4186-8029-E775858EBA7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constant (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is a value representing the unchanging concentrations of the reactants and the products in a chemical reaction at equilibri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9AD-4BA4-46EA-AEBF-443133DF0FD9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327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eneral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936440"/>
            <a:ext cx="9142560" cy="891360"/>
            <a:chOff x="0" y="1936440"/>
            <a:chExt cx="9142560" cy="891360"/>
          </a:xfrm>
        </p:grpSpPr>
        <p:sp>
          <p:nvSpPr>
            <p:cNvPr id="394" name=""/>
            <p:cNvSpPr/>
            <p:nvPr/>
          </p:nvSpPr>
          <p:spPr>
            <a:xfrm>
              <a:off x="0" y="2060640"/>
              <a:ext cx="914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B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287960" y="1936440"/>
              <a:ext cx="533160" cy="891360"/>
              <a:chOff x="4287960" y="1936440"/>
              <a:chExt cx="533160" cy="89136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7960" y="1936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287960" y="2184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8" name=""/>
          <p:cNvGraphicFramePr/>
          <p:nvPr/>
        </p:nvGraphicFramePr>
        <p:xfrm>
          <a:off x="2577960" y="3801960"/>
          <a:ext cx="398628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801960"/>
                    <a:ext cx="39862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61880" y="269892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given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F53-82F7-4665-A34D-6D44B4DF6851}" type="slidenum">
              <a:t>43</a:t>
            </a:fld>
          </a:p>
        </p:txBody>
      </p:sp>
    </p:spTree>
  </p:cSld>
  <p:transition spd="slow">
    <p:blinds dir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200" y="1327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1936440"/>
            <a:ext cx="9142560" cy="891360"/>
            <a:chOff x="0" y="1936440"/>
            <a:chExt cx="9142560" cy="891360"/>
          </a:xfrm>
        </p:grpSpPr>
        <p:sp>
          <p:nvSpPr>
            <p:cNvPr id="403" name=""/>
            <p:cNvSpPr/>
            <p:nvPr/>
          </p:nvSpPr>
          <p:spPr>
            <a:xfrm>
              <a:off x="0" y="2060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664160" y="1936440"/>
              <a:ext cx="533160" cy="891360"/>
              <a:chOff x="4664160" y="1936440"/>
              <a:chExt cx="533160" cy="891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664160" y="1936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4664160" y="2184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07" name=""/>
          <p:cNvGraphicFramePr/>
          <p:nvPr/>
        </p:nvGraphicFramePr>
        <p:xfrm>
          <a:off x="2928960" y="3048120"/>
          <a:ext cx="328608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048120"/>
                    <a:ext cx="32860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A06-B054-48EE-998B-596343EDB8BA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1327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1928520"/>
            <a:ext cx="9142560" cy="891360"/>
            <a:chOff x="0" y="1928520"/>
            <a:chExt cx="9142560" cy="891360"/>
          </a:xfrm>
        </p:grpSpPr>
        <p:sp>
          <p:nvSpPr>
            <p:cNvPr id="411" name=""/>
            <p:cNvSpPr/>
            <p:nvPr/>
          </p:nvSpPr>
          <p:spPr>
            <a:xfrm>
              <a:off x="0" y="205272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343400" y="1928520"/>
              <a:ext cx="533520" cy="891360"/>
              <a:chOff x="4343400" y="1928520"/>
              <a:chExt cx="533520" cy="891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343400" y="19285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4343400" y="2176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5" name=""/>
          <p:cNvGraphicFramePr/>
          <p:nvPr/>
        </p:nvGraphicFramePr>
        <p:xfrm>
          <a:off x="2614680" y="3048120"/>
          <a:ext cx="39146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048120"/>
                    <a:ext cx="39146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9FD-9DCB-415E-91FB-4818AD672EB7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gnitude of an equilibrium constant indicates the extent to which the forward and reverse reactions tak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1599840"/>
            <a:ext cx="9142560" cy="891360"/>
            <a:chOff x="0" y="1599840"/>
            <a:chExt cx="9142560" cy="891360"/>
          </a:xfrm>
        </p:grpSpPr>
        <p:sp>
          <p:nvSpPr>
            <p:cNvPr id="419" name=""/>
            <p:cNvSpPr/>
            <p:nvPr/>
          </p:nvSpPr>
          <p:spPr>
            <a:xfrm>
              <a:off x="0" y="17240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64160" y="1599840"/>
              <a:ext cx="533160" cy="891360"/>
              <a:chOff x="4664160" y="1599840"/>
              <a:chExt cx="533160" cy="891360"/>
            </a:xfrm>
          </p:grpSpPr>
          <p:sp>
            <p:nvSpPr>
              <p:cNvPr id="421" name=""/>
              <p:cNvSpPr/>
              <p:nvPr/>
            </p:nvSpPr>
            <p:spPr>
              <a:xfrm>
                <a:off x="4664160" y="1599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664160" y="18482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3" name=""/>
          <p:cNvGraphicFramePr/>
          <p:nvPr/>
        </p:nvGraphicFramePr>
        <p:xfrm>
          <a:off x="517680" y="2403360"/>
          <a:ext cx="6670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403360"/>
                    <a:ext cx="6670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1440" y="4366800"/>
            <a:ext cx="9142560" cy="891360"/>
            <a:chOff x="1440" y="4366800"/>
            <a:chExt cx="9142560" cy="891360"/>
          </a:xfrm>
        </p:grpSpPr>
        <p:sp>
          <p:nvSpPr>
            <p:cNvPr id="426" name=""/>
            <p:cNvSpPr/>
            <p:nvPr/>
          </p:nvSpPr>
          <p:spPr>
            <a:xfrm>
              <a:off x="1440" y="44928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O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   C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+ 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070520" y="4366800"/>
              <a:ext cx="533160" cy="891360"/>
              <a:chOff x="4070520" y="4366800"/>
              <a:chExt cx="533160" cy="891360"/>
            </a:xfrm>
          </p:grpSpPr>
          <p:sp>
            <p:nvSpPr>
              <p:cNvPr id="428" name=""/>
              <p:cNvSpPr/>
              <p:nvPr/>
            </p:nvSpPr>
            <p:spPr>
              <a:xfrm>
                <a:off x="4070520" y="43668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070520" y="46152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30" name=""/>
          <p:cNvGraphicFramePr/>
          <p:nvPr/>
        </p:nvGraphicFramePr>
        <p:xfrm>
          <a:off x="517680" y="5253120"/>
          <a:ext cx="8107200" cy="12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680" y="5253120"/>
                    <a:ext cx="810720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4124160" y="2779560"/>
            <a:ext cx="4572000" cy="1595520"/>
            <a:chOff x="4124160" y="2779560"/>
            <a:chExt cx="4572000" cy="1595520"/>
          </a:xfrm>
        </p:grpSpPr>
        <p:sp>
          <p:nvSpPr>
            <p:cNvPr id="433" name=""/>
            <p:cNvSpPr/>
            <p:nvPr/>
          </p:nvSpPr>
          <p:spPr>
            <a:xfrm>
              <a:off x="4124160" y="2779560"/>
              <a:ext cx="106704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24160" y="3429000"/>
              <a:ext cx="4572000" cy="9460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equilibrium more product than reactant exis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24160" y="3581280"/>
            <a:ext cx="4714920" cy="2546640"/>
            <a:chOff x="4124160" y="3581280"/>
            <a:chExt cx="4714920" cy="2546640"/>
          </a:xfrm>
        </p:grpSpPr>
        <p:sp>
          <p:nvSpPr>
            <p:cNvPr id="436" name=""/>
            <p:cNvSpPr/>
            <p:nvPr/>
          </p:nvSpPr>
          <p:spPr>
            <a:xfrm>
              <a:off x="4419720" y="5518080"/>
              <a:ext cx="2209680" cy="609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24160" y="3581280"/>
              <a:ext cx="4714920" cy="9464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equilibrium more reactant than product exis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E2C-D7DD-4054-824A-A9C8E78ED1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38080" y="2009880"/>
            <a:ext cx="74678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molar concentrations of all species in an equilibrium reaction are known,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 be calculated by substituting the concentrations into the equilibrium constant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F71-286D-4449-AE5D-917C7F589E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following reaction based on concentrations of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030 mol/L,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97 mol/L and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97 mol/L at 3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1699920"/>
            <a:ext cx="9142560" cy="891360"/>
            <a:chOff x="0" y="1699920"/>
            <a:chExt cx="9142560" cy="891360"/>
          </a:xfrm>
        </p:grpSpPr>
        <p:sp>
          <p:nvSpPr>
            <p:cNvPr id="441" name=""/>
            <p:cNvSpPr/>
            <p:nvPr/>
          </p:nvSpPr>
          <p:spPr>
            <a:xfrm>
              <a:off x="0" y="182412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P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PC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503880" y="1699920"/>
              <a:ext cx="533160" cy="891360"/>
              <a:chOff x="3503880" y="1699920"/>
              <a:chExt cx="533160" cy="891360"/>
            </a:xfrm>
          </p:grpSpPr>
          <p:sp>
            <p:nvSpPr>
              <p:cNvPr id="443" name=""/>
              <p:cNvSpPr/>
              <p:nvPr/>
            </p:nvSpPr>
            <p:spPr>
              <a:xfrm>
                <a:off x="3503880" y="16999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503880" y="1948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45" name=""/>
          <p:cNvGraphicFramePr/>
          <p:nvPr/>
        </p:nvGraphicFramePr>
        <p:xfrm>
          <a:off x="365040" y="3022560"/>
          <a:ext cx="442764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3022560"/>
                    <a:ext cx="44276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4656240" y="3030480"/>
          <a:ext cx="395424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6240" y="3030480"/>
                    <a:ext cx="39542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9" name=""/>
          <p:cNvGrpSpPr/>
          <p:nvPr/>
        </p:nvGrpSpPr>
        <p:grpSpPr>
          <a:xfrm>
            <a:off x="2728800" y="566640"/>
            <a:ext cx="6345360" cy="3727440"/>
            <a:chOff x="2728800" y="566640"/>
            <a:chExt cx="6345360" cy="3727440"/>
          </a:xfrm>
        </p:grpSpPr>
        <p:sp>
          <p:nvSpPr>
            <p:cNvPr id="450" name=""/>
            <p:cNvSpPr/>
            <p:nvPr/>
          </p:nvSpPr>
          <p:spPr>
            <a:xfrm>
              <a:off x="4657680" y="2990880"/>
              <a:ext cx="2590920" cy="60948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05920" y="577800"/>
              <a:ext cx="768240" cy="50004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28800" y="1089000"/>
              <a:ext cx="838440" cy="44136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7720" y="3684600"/>
              <a:ext cx="1600200" cy="60948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566640"/>
              <a:ext cx="1059120" cy="5000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3C4-073D-4D73-9036-AFA2568B0D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on Product Constant for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3ED-C1B1-434E-BD28-1FCBC8F84B3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1600200"/>
            <a:ext cx="9142560" cy="975240"/>
            <a:chOff x="0" y="1600200"/>
            <a:chExt cx="9142560" cy="975240"/>
          </a:xfrm>
        </p:grpSpPr>
        <p:sp>
          <p:nvSpPr>
            <p:cNvPr id="65" name=""/>
            <p:cNvSpPr/>
            <p:nvPr/>
          </p:nvSpPr>
          <p:spPr>
            <a:xfrm>
              <a:off x="0" y="1857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76640" y="1600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40" y="4419720"/>
            <a:ext cx="9142560" cy="962640"/>
            <a:chOff x="1440" y="4419720"/>
            <a:chExt cx="9142560" cy="962640"/>
          </a:xfrm>
        </p:grpSpPr>
        <p:sp>
          <p:nvSpPr>
            <p:cNvPr id="68" name=""/>
            <p:cNvSpPr/>
            <p:nvPr/>
          </p:nvSpPr>
          <p:spPr>
            <a:xfrm>
              <a:off x="1440" y="46641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76640" y="4419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143000" y="22860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between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1111320"/>
            <a:ext cx="1752480" cy="869760"/>
          </a:xfrm>
          <a:prstGeom prst="borderCallout1">
            <a:avLst>
              <a:gd name="adj1" fmla="val 18750"/>
              <a:gd name="adj2" fmla="val -8333"/>
              <a:gd name="adj3" fmla="val 93430"/>
              <a:gd name="adj4" fmla="val -6929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3000" y="3122640"/>
            <a:ext cx="3276720" cy="1219320"/>
          </a:xfrm>
          <a:prstGeom prst="borderCallout1">
            <a:avLst>
              <a:gd name="adj1" fmla="val 18750"/>
              <a:gd name="adj2" fmla="val -8333"/>
              <a:gd name="adj3" fmla="val 135546"/>
              <a:gd name="adj4" fmla="val -3309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mposes when heated, forming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6CD-F929-4707-BC28-02B651708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587340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(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(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533160"/>
            <a:ext cx="9142560" cy="891360"/>
            <a:chOff x="0" y="533160"/>
            <a:chExt cx="9142560" cy="891360"/>
          </a:xfrm>
        </p:grpSpPr>
        <p:sp>
          <p:nvSpPr>
            <p:cNvPr id="459" name=""/>
            <p:cNvSpPr/>
            <p:nvPr/>
          </p:nvSpPr>
          <p:spPr>
            <a:xfrm>
              <a:off x="0" y="6573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O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267080" y="533160"/>
              <a:ext cx="533520" cy="891360"/>
              <a:chOff x="4267080" y="533160"/>
              <a:chExt cx="533520" cy="891360"/>
            </a:xfrm>
          </p:grpSpPr>
          <p:sp>
            <p:nvSpPr>
              <p:cNvPr id="461" name=""/>
              <p:cNvSpPr/>
              <p:nvPr/>
            </p:nvSpPr>
            <p:spPr>
              <a:xfrm>
                <a:off x="4267080" y="53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4267080" y="7815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440" y="1828440"/>
            <a:ext cx="9142560" cy="891360"/>
            <a:chOff x="1440" y="1828440"/>
            <a:chExt cx="9142560" cy="891360"/>
          </a:xfrm>
        </p:grpSpPr>
        <p:sp>
          <p:nvSpPr>
            <p:cNvPr id="464" name=""/>
            <p:cNvSpPr/>
            <p:nvPr/>
          </p:nvSpPr>
          <p:spPr>
            <a:xfrm>
              <a:off x="1440" y="1952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O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822840" y="1828440"/>
              <a:ext cx="533160" cy="891360"/>
              <a:chOff x="3822840" y="1828440"/>
              <a:chExt cx="533160" cy="891360"/>
            </a:xfrm>
          </p:grpSpPr>
          <p:sp>
            <p:nvSpPr>
              <p:cNvPr id="466" name=""/>
              <p:cNvSpPr/>
              <p:nvPr/>
            </p:nvSpPr>
            <p:spPr>
              <a:xfrm>
                <a:off x="3822840" y="1828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822840" y="2076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62120" y="3123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ol/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507024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    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T = 25</a:t>
            </a:r>
            <a:r>
              <a:rPr b="0" lang="en-US" sz="3600" spc="-1" strike="noStrike" baseline="30000">
                <a:solidFill>
                  <a:srgbClr val="9966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76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utoionizes to a slight deg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371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more sim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2438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83868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ter equilibrium constant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s calle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product constant for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82720" y="3147840"/>
            <a:ext cx="5732640" cy="3421080"/>
            <a:chOff x="1782720" y="3147840"/>
            <a:chExt cx="5732640" cy="3421080"/>
          </a:xfrm>
        </p:grpSpPr>
        <p:sp>
          <p:nvSpPr>
            <p:cNvPr id="475" name=""/>
            <p:cNvSpPr/>
            <p:nvPr/>
          </p:nvSpPr>
          <p:spPr>
            <a:xfrm>
              <a:off x="4010040" y="3147840"/>
              <a:ext cx="3505320" cy="6098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2720" y="5975280"/>
              <a:ext cx="3733920" cy="5936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CD1-292A-40FC-A825-AA86F67700C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oncentration of (a)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(b)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0.001 M HCl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195264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Cl → 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143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 is 100%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05040" y="2711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97320"/>
            <a:ext cx="6781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 for [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38360" y="4076640"/>
            <a:ext cx="58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19520" y="5103720"/>
          <a:ext cx="251748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103720"/>
                    <a:ext cx="251748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354640" y="5396040"/>
          <a:ext cx="36003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4640" y="5396040"/>
                    <a:ext cx="3600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90520" y="5157720"/>
          <a:ext cx="2695680" cy="12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5157720"/>
                    <a:ext cx="26956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AF5-FAFD-4FA1-BD5F-1AAEF287FD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 of a 0.010 M NaOH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0" y="195264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OH → Na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1143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OH is 100%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666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97320"/>
            <a:ext cx="6781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 for 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38360" y="4076640"/>
            <a:ext cx="58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776680" y="5103720"/>
          <a:ext cx="251748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5103720"/>
                    <a:ext cx="251748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5340240" y="5419800"/>
          <a:ext cx="36403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0240" y="5419800"/>
                    <a:ext cx="3640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162000" y="5157720"/>
          <a:ext cx="2695680" cy="12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00" y="5157720"/>
                    <a:ext cx="26956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0" y="4952880"/>
            <a:ext cx="9142560" cy="1752840"/>
            <a:chOff x="0" y="4952880"/>
            <a:chExt cx="9142560" cy="1752840"/>
          </a:xfrm>
        </p:grpSpPr>
        <p:grpSp>
          <p:nvGrpSpPr>
            <p:cNvPr id="502" name=""/>
            <p:cNvGrpSpPr/>
            <p:nvPr/>
          </p:nvGrpSpPr>
          <p:grpSpPr>
            <a:xfrm>
              <a:off x="0" y="4952880"/>
              <a:ext cx="9142560" cy="1752840"/>
              <a:chOff x="0" y="4952880"/>
              <a:chExt cx="9142560" cy="1752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952880"/>
                <a:ext cx="9142560" cy="175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7640" y="5419800"/>
                <a:ext cx="342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pH = - log[H</a:t>
                </a:r>
                <a:r>
                  <a:rPr b="0" lang="en-US" sz="3600" spc="-1" strike="noStrike" baseline="30000">
                    <a:solidFill>
                      <a:srgbClr val="0066ff"/>
                    </a:solidFill>
                    <a:latin typeface="Arial"/>
                  </a:rPr>
                  <a:t>+</a:t>
                </a: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] 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000680" y="5419800"/>
              <a:ext cx="44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- log(1.0 x 10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1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= 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AD2-3DC3-4DA1-92DE-22E109925C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 of a 0.010 M NaOH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765520"/>
            <a:ext cx="44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- log(1.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2952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H may also be calculated by first calculating the pO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765520"/>
            <a:ext cx="37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H = - log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3886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+ pOH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3920" y="4645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= 14 - p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540396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= 14 – 2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0" y="3886200"/>
            <a:ext cx="28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pur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40" y="4645080"/>
            <a:ext cx="28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2765520"/>
            <a:ext cx="403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256-30F2-40EC-AA09-5DB837DAC36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04920" y="1676520"/>
          <a:ext cx="8534160" cy="487656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81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H+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OH-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84360" y="22860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s in Water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959-B60D-40DE-8DF2-1755E54D92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1</a:t>
            </a:r>
            <a:br>
              <a:rPr sz="4400"/>
            </a:br>
            <a:r>
              <a:rPr b="1" lang="en-US" sz="71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Constants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5A9-F1CA-4A8A-AA37-61BED98471D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194580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acids are essentially 100% ionized and do not have ionization cons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acids are slightly ionized and do have ionization cons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F14-38F1-459B-9F5F-4AB4CBB1427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K</a:t>
            </a:r>
            <a:r>
              <a:rPr b="0" lang="en-US" sz="5400" spc="-1" strike="noStrike" baseline="-25000">
                <a:solidFill>
                  <a:srgbClr val="0066cc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52E-18DC-4658-BE7D-CB80F236FCC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1458360"/>
            <a:ext cx="9142560" cy="891360"/>
            <a:chOff x="0" y="1458360"/>
            <a:chExt cx="9142560" cy="891360"/>
          </a:xfrm>
        </p:grpSpPr>
        <p:sp>
          <p:nvSpPr>
            <p:cNvPr id="524" name=""/>
            <p:cNvSpPr/>
            <p:nvPr/>
          </p:nvSpPr>
          <p:spPr>
            <a:xfrm>
              <a:off x="0" y="1574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343400" y="1458360"/>
              <a:ext cx="533520" cy="891360"/>
              <a:chOff x="4343400" y="1458360"/>
              <a:chExt cx="533520" cy="891360"/>
            </a:xfrm>
          </p:grpSpPr>
          <p:sp>
            <p:nvSpPr>
              <p:cNvPr id="526" name=""/>
              <p:cNvSpPr/>
              <p:nvPr/>
            </p:nvSpPr>
            <p:spPr>
              <a:xfrm>
                <a:off x="4343400" y="14583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4343400" y="1706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28" name=""/>
            <p:cNvGraphicFramePr/>
            <p:nvPr/>
          </p:nvGraphicFramePr>
          <p:xfrm>
            <a:off x="5996160" y="1550520"/>
            <a:ext cx="1633320" cy="68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6160" y="1550520"/>
                      <a:ext cx="163332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0" name=""/>
          <p:cNvSpPr/>
          <p:nvPr/>
        </p:nvSpPr>
        <p:spPr>
          <a:xfrm>
            <a:off x="762120" y="2570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cetic acid ionizes in water,  the following equilibriu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0" y="248436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ionization constant for this equilibriu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286000" y="3260880"/>
          <a:ext cx="401652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60880"/>
                    <a:ext cx="401652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1440" y="4773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id ionization 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5486400"/>
            <a:ext cx="8839440" cy="1226160"/>
          </a:xfrm>
          <a:prstGeom prst="rect">
            <a:avLst/>
          </a:prstGeom>
          <a:solidFill>
            <a:srgbClr val="99ccff"/>
          </a:solidFill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nce the concentration of water is large and does not change appreciably, it is omitted from K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C28-88CA-4720-BCF4-CD0EC7920E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a 0.100 M solution of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1.34% ionized and has an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f 1.3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.  Calculat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cetic aci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1699920"/>
            <a:ext cx="9142560" cy="891360"/>
            <a:chOff x="0" y="1699920"/>
            <a:chExt cx="9142560" cy="891360"/>
          </a:xfrm>
        </p:grpSpPr>
        <p:sp>
          <p:nvSpPr>
            <p:cNvPr id="538" name=""/>
            <p:cNvSpPr/>
            <p:nvPr/>
          </p:nvSpPr>
          <p:spPr>
            <a:xfrm>
              <a:off x="0" y="18162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343400" y="1699920"/>
              <a:ext cx="533520" cy="891360"/>
              <a:chOff x="4343400" y="1699920"/>
              <a:chExt cx="533520" cy="891360"/>
            </a:xfrm>
          </p:grpSpPr>
          <p:sp>
            <p:nvSpPr>
              <p:cNvPr id="540" name=""/>
              <p:cNvSpPr/>
              <p:nvPr/>
            </p:nvSpPr>
            <p:spPr>
              <a:xfrm>
                <a:off x="4343400" y="1699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4343400" y="1948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42" name=""/>
            <p:cNvGraphicFramePr/>
            <p:nvPr/>
          </p:nvGraphicFramePr>
          <p:xfrm>
            <a:off x="5996160" y="1792080"/>
            <a:ext cx="1633320" cy="68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6160" y="1792080"/>
                      <a:ext cx="163332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4" name=""/>
          <p:cNvGrpSpPr/>
          <p:nvPr/>
        </p:nvGrpSpPr>
        <p:grpSpPr>
          <a:xfrm>
            <a:off x="473040" y="2639880"/>
            <a:ext cx="9128160" cy="1891080"/>
            <a:chOff x="473040" y="2639880"/>
            <a:chExt cx="9128160" cy="1891080"/>
          </a:xfrm>
        </p:grpSpPr>
        <p:sp>
          <p:nvSpPr>
            <p:cNvPr id="545" name=""/>
            <p:cNvSpPr/>
            <p:nvPr/>
          </p:nvSpPr>
          <p:spPr>
            <a:xfrm>
              <a:off x="473040" y="2639880"/>
              <a:ext cx="91281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molecule of  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ionizes yields one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6045120" y="3240000"/>
            <a:ext cx="1527120" cy="62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45120" y="3240000"/>
                      <a:ext cx="152712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48" name=""/>
          <p:cNvGraphicFramePr/>
          <p:nvPr/>
        </p:nvGraphicFramePr>
        <p:xfrm>
          <a:off x="1125360" y="4324320"/>
          <a:ext cx="689328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5360" y="4324320"/>
                    <a:ext cx="68932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0" y="518148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s of un-ionized acetic acid per liter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40" y="57150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0.100 mol/L – 0.00134 mol/L = 0.099 mol/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658-FFDB-40B1-8475-B45BBD27E7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447920" y="228600"/>
            <a:ext cx="1127160" cy="2260440"/>
            <a:chOff x="1447920" y="228600"/>
            <a:chExt cx="1127160" cy="22604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8215" t="16809" r="20863" b="12347"/>
            <a:stretch/>
          </p:blipFill>
          <p:spPr>
            <a:xfrm>
              <a:off x="1447920" y="228600"/>
              <a:ext cx="10508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18215" t="16809" r="20863" b="12347"/>
            <a:stretch/>
          </p:blipFill>
          <p:spPr>
            <a:xfrm>
              <a:off x="1523880" y="1676160"/>
              <a:ext cx="10512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rcRect l="18797" t="0" r="15991" b="11233"/>
          <a:stretch/>
        </p:blipFill>
        <p:spPr>
          <a:xfrm>
            <a:off x="228600" y="533520"/>
            <a:ext cx="1114560" cy="10094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533520" y="2476440"/>
            <a:ext cx="2270160" cy="1600200"/>
            <a:chOff x="533520" y="2476440"/>
            <a:chExt cx="2270160" cy="1600200"/>
          </a:xfrm>
        </p:grpSpPr>
        <p:pic>
          <p:nvPicPr>
            <p:cNvPr id="78" name="" descr=""/>
            <p:cNvPicPr/>
            <p:nvPr/>
          </p:nvPicPr>
          <p:blipFill>
            <a:blip r:embed="rId4"/>
            <a:srcRect l="18215" t="16809" r="20863" b="12347"/>
            <a:stretch/>
          </p:blipFill>
          <p:spPr>
            <a:xfrm>
              <a:off x="533520" y="326376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rcRect l="18215" t="16809" r="20863" b="12347"/>
            <a:stretch/>
          </p:blipFill>
          <p:spPr>
            <a:xfrm>
              <a:off x="1752480" y="2476440"/>
              <a:ext cx="10512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6"/>
          <a:srcRect l="18797" t="0" r="15991" b="11233"/>
          <a:stretch/>
        </p:blipFill>
        <p:spPr>
          <a:xfrm>
            <a:off x="1905120" y="3505320"/>
            <a:ext cx="11142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286000" y="5410080"/>
            <a:ext cx="3794040" cy="1295280"/>
            <a:chOff x="2286000" y="5410080"/>
            <a:chExt cx="3794040" cy="1295280"/>
          </a:xfrm>
        </p:grpSpPr>
        <p:pic>
          <p:nvPicPr>
            <p:cNvPr id="82" name="" descr=""/>
            <p:cNvPicPr/>
            <p:nvPr/>
          </p:nvPicPr>
          <p:blipFill>
            <a:blip r:embed="rId7"/>
            <a:srcRect l="18215" t="16809" r="20863" b="12347"/>
            <a:stretch/>
          </p:blipFill>
          <p:spPr>
            <a:xfrm>
              <a:off x="2286000" y="541008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8"/>
            <a:srcRect l="18215" t="16809" r="20863" b="12347"/>
            <a:stretch/>
          </p:blipFill>
          <p:spPr>
            <a:xfrm>
              <a:off x="5029200" y="5892480"/>
              <a:ext cx="105084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9"/>
          <a:srcRect l="18797" t="0" r="15991" b="11233"/>
          <a:stretch/>
        </p:blipFill>
        <p:spPr>
          <a:xfrm>
            <a:off x="5715000" y="472428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19920" y="3429000"/>
            <a:ext cx="2193840" cy="1930320"/>
            <a:chOff x="6019920" y="3429000"/>
            <a:chExt cx="2193840" cy="1930320"/>
          </a:xfrm>
        </p:grpSpPr>
        <p:pic>
          <p:nvPicPr>
            <p:cNvPr id="86" name="" descr=""/>
            <p:cNvPicPr/>
            <p:nvPr/>
          </p:nvPicPr>
          <p:blipFill>
            <a:blip r:embed="rId10"/>
            <a:srcRect l="18215" t="16809" r="20863" b="12347"/>
            <a:stretch/>
          </p:blipFill>
          <p:spPr>
            <a:xfrm>
              <a:off x="7162920" y="454644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1"/>
            <a:srcRect l="18215" t="16809" r="20863" b="12347"/>
            <a:stretch/>
          </p:blipFill>
          <p:spPr>
            <a:xfrm>
              <a:off x="6019920" y="3429000"/>
              <a:ext cx="105084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" descr=""/>
          <p:cNvPicPr/>
          <p:nvPr/>
        </p:nvPicPr>
        <p:blipFill>
          <a:blip r:embed="rId12"/>
          <a:srcRect l="18797" t="0" r="15991" b="11233"/>
          <a:stretch/>
        </p:blipFill>
        <p:spPr>
          <a:xfrm>
            <a:off x="4495680" y="388620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886200" y="2362320"/>
            <a:ext cx="2117880" cy="1041120"/>
            <a:chOff x="3886200" y="2362320"/>
            <a:chExt cx="2117880" cy="1041120"/>
          </a:xfrm>
        </p:grpSpPr>
        <p:pic>
          <p:nvPicPr>
            <p:cNvPr id="90" name="" descr=""/>
            <p:cNvPicPr/>
            <p:nvPr/>
          </p:nvPicPr>
          <p:blipFill>
            <a:blip r:embed="rId13"/>
            <a:srcRect l="18215" t="16809" r="20863" b="12347"/>
            <a:stretch/>
          </p:blipFill>
          <p:spPr>
            <a:xfrm>
              <a:off x="4953240" y="2362320"/>
              <a:ext cx="10508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4"/>
            <a:srcRect l="18215" t="16809" r="20863" b="12347"/>
            <a:stretch/>
          </p:blipFill>
          <p:spPr>
            <a:xfrm>
              <a:off x="3886200" y="2590920"/>
              <a:ext cx="1051200" cy="81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15"/>
          <a:srcRect l="18797" t="0" r="15991" b="11233"/>
          <a:stretch/>
        </p:blipFill>
        <p:spPr>
          <a:xfrm>
            <a:off x="6324480" y="220968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0" y="861480"/>
            <a:ext cx="9142560" cy="891360"/>
            <a:chOff x="0" y="861480"/>
            <a:chExt cx="9142560" cy="891360"/>
          </a:xfrm>
        </p:grpSpPr>
        <p:sp>
          <p:nvSpPr>
            <p:cNvPr id="94" name=""/>
            <p:cNvSpPr/>
            <p:nvPr/>
          </p:nvSpPr>
          <p:spPr>
            <a:xfrm>
              <a:off x="0" y="9856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90840" y="861480"/>
              <a:ext cx="533520" cy="891360"/>
              <a:chOff x="4290840" y="861480"/>
              <a:chExt cx="533520" cy="891360"/>
            </a:xfrm>
          </p:grpSpPr>
          <p:sp>
            <p:nvSpPr>
              <p:cNvPr id="96" name=""/>
              <p:cNvSpPr/>
              <p:nvPr/>
            </p:nvSpPr>
            <p:spPr>
              <a:xfrm>
                <a:off x="4290840" y="8614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6009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290840" y="1109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00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293364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reaction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1614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reaction to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451-C98F-4355-A745-ED94FE9C51FC}" type="slidenum">
              <a:t>6</a:t>
            </a:fld>
          </a:p>
        </p:txBody>
      </p: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563920" y="3002040"/>
          <a:ext cx="4016160" cy="13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3002040"/>
                    <a:ext cx="40161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85800" y="4681440"/>
          <a:ext cx="5492880" cy="13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81440"/>
                    <a:ext cx="549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140520" y="5064120"/>
          <a:ext cx="238104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0520" y="5064120"/>
                    <a:ext cx="23810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8" name=""/>
          <p:cNvGrpSpPr/>
          <p:nvPr/>
        </p:nvGrpSpPr>
        <p:grpSpPr>
          <a:xfrm>
            <a:off x="666720" y="1504800"/>
            <a:ext cx="6988320" cy="1346760"/>
            <a:chOff x="666720" y="1504800"/>
            <a:chExt cx="6988320" cy="1346760"/>
          </a:xfrm>
        </p:grpSpPr>
        <p:graphicFrame>
          <p:nvGraphicFramePr>
            <p:cNvPr id="559" name=""/>
            <p:cNvGraphicFramePr/>
            <p:nvPr/>
          </p:nvGraphicFramePr>
          <p:xfrm>
            <a:off x="762120" y="1504800"/>
            <a:ext cx="6892920" cy="628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1504800"/>
                      <a:ext cx="689292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" name=""/>
            <p:cNvSpPr/>
            <p:nvPr/>
          </p:nvSpPr>
          <p:spPr>
            <a:xfrm>
              <a:off x="666720" y="2133360"/>
              <a:ext cx="5257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] = 0.099 mol/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28600" y="228600"/>
            <a:ext cx="60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7760" y="0"/>
            <a:ext cx="7846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these concentrations into the equilibrium expression and solve for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245-F943-42B8-84B8-5AA0897D8F5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5840" y="4660920"/>
            <a:ext cx="9128160" cy="1891080"/>
            <a:chOff x="15840" y="4660920"/>
            <a:chExt cx="9128160" cy="1891080"/>
          </a:xfrm>
        </p:grpSpPr>
        <p:sp>
          <p:nvSpPr>
            <p:cNvPr id="565" name=""/>
            <p:cNvSpPr/>
            <p:nvPr/>
          </p:nvSpPr>
          <p:spPr>
            <a:xfrm>
              <a:off x="15840" y="4660920"/>
              <a:ext cx="91281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molecule of  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ionizes yields one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5587920" y="5261040"/>
            <a:ext cx="1527120" cy="62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7920" y="5261040"/>
                      <a:ext cx="152712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?  The ionization constant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2361960"/>
            <a:ext cx="9142560" cy="891360"/>
            <a:chOff x="0" y="2361960"/>
            <a:chExt cx="9142560" cy="891360"/>
          </a:xfrm>
        </p:grpSpPr>
        <p:sp>
          <p:nvSpPr>
            <p:cNvPr id="570" name=""/>
            <p:cNvSpPr/>
            <p:nvPr/>
          </p:nvSpPr>
          <p:spPr>
            <a:xfrm>
              <a:off x="0" y="2478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343400" y="2361960"/>
              <a:ext cx="533520" cy="891360"/>
              <a:chOff x="4343400" y="2361960"/>
              <a:chExt cx="533520" cy="891360"/>
            </a:xfrm>
          </p:grpSpPr>
          <p:sp>
            <p:nvSpPr>
              <p:cNvPr id="572" name=""/>
              <p:cNvSpPr/>
              <p:nvPr/>
            </p:nvSpPr>
            <p:spPr>
              <a:xfrm>
                <a:off x="4343400" y="23619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343400" y="26103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74" name=""/>
            <p:cNvGraphicFramePr/>
            <p:nvPr/>
          </p:nvGraphicFramePr>
          <p:xfrm>
            <a:off x="5996160" y="2454120"/>
            <a:ext cx="1633320" cy="68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96160" y="2454120"/>
                      <a:ext cx="163332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6" name=""/>
          <p:cNvSpPr/>
          <p:nvPr/>
        </p:nvSpPr>
        <p:spPr>
          <a:xfrm>
            <a:off x="1440" y="1447920"/>
            <a:ext cx="9142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xpression and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H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590920" y="3176640"/>
          <a:ext cx="4016160" cy="13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176640"/>
                    <a:ext cx="40161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"/>
          <p:cNvGrpSpPr/>
          <p:nvPr/>
        </p:nvGrpSpPr>
        <p:grpSpPr>
          <a:xfrm>
            <a:off x="3930480" y="4651200"/>
            <a:ext cx="4797720" cy="671760"/>
            <a:chOff x="3930480" y="4651200"/>
            <a:chExt cx="4797720" cy="671760"/>
          </a:xfrm>
        </p:grpSpPr>
        <p:sp>
          <p:nvSpPr>
            <p:cNvPr id="580" name=""/>
            <p:cNvSpPr/>
            <p:nvPr/>
          </p:nvSpPr>
          <p:spPr>
            <a:xfrm>
              <a:off x="3930480" y="4665600"/>
              <a:ext cx="3276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Let Y = [H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]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6850080" y="4651200"/>
            <a:ext cx="1878120" cy="671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0080" y="4651200"/>
                      <a:ext cx="187812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3" name=""/>
          <p:cNvGraphicFramePr/>
          <p:nvPr/>
        </p:nvGraphicFramePr>
        <p:xfrm>
          <a:off x="415800" y="4672080"/>
          <a:ext cx="3035520" cy="62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5800" y="4672080"/>
                    <a:ext cx="3035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0" y="53784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[HC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] at equilibrium is 0.50 – 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B6A-EAA6-4664-AB37-EE3450B6C3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152280"/>
            <a:ext cx="91425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these values into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563920" y="1647720"/>
          <a:ext cx="401616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1647720"/>
                    <a:ext cx="4016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152280" y="936720"/>
            <a:ext cx="4043520" cy="671400"/>
            <a:chOff x="152280" y="936720"/>
            <a:chExt cx="4043520" cy="671400"/>
          </a:xfrm>
        </p:grpSpPr>
        <p:sp>
          <p:nvSpPr>
            <p:cNvPr id="590" name=""/>
            <p:cNvSpPr/>
            <p:nvPr/>
          </p:nvSpPr>
          <p:spPr>
            <a:xfrm>
              <a:off x="152280" y="950760"/>
              <a:ext cx="2241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Y = [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]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1" name=""/>
            <p:cNvGraphicFramePr/>
            <p:nvPr/>
          </p:nvGraphicFramePr>
          <p:xfrm>
            <a:off x="2317680" y="936720"/>
            <a:ext cx="1878120" cy="67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17680" y="936720"/>
                      <a:ext cx="1878120" cy="67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" name=""/>
          <p:cNvSpPr/>
          <p:nvPr/>
        </p:nvSpPr>
        <p:spPr>
          <a:xfrm>
            <a:off x="4724280" y="952560"/>
            <a:ext cx="426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C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= 0.50 -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515880" y="3036960"/>
          <a:ext cx="8112240" cy="12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880" y="3036960"/>
                    <a:ext cx="81122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515880" y="3036960"/>
            <a:ext cx="8323200" cy="1239840"/>
            <a:chOff x="515880" y="3036960"/>
            <a:chExt cx="8323200" cy="1239840"/>
          </a:xfrm>
        </p:grpSpPr>
        <p:graphicFrame>
          <p:nvGraphicFramePr>
            <p:cNvPr id="597" name=""/>
            <p:cNvGraphicFramePr/>
            <p:nvPr/>
          </p:nvGraphicFramePr>
          <p:xfrm>
            <a:off x="515880" y="3036960"/>
            <a:ext cx="7050240" cy="123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5880" y="3036960"/>
                      <a:ext cx="70502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"/>
            <p:cNvSpPr/>
            <p:nvPr/>
          </p:nvSpPr>
          <p:spPr>
            <a:xfrm>
              <a:off x="7543800" y="3048120"/>
              <a:ext cx="129528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320" y="4800600"/>
            <a:ext cx="4975200" cy="1219320"/>
          </a:xfrm>
          <a:prstGeom prst="borderCallout1">
            <a:avLst>
              <a:gd name="adj1" fmla="val 18750"/>
              <a:gd name="adj2" fmla="val -8333"/>
              <a:gd name="adj3" fmla="val -42055"/>
              <a:gd name="adj4" fmla="val 11384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 is small compared to 0.50 -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2040" y="4800600"/>
            <a:ext cx="4367160" cy="1219320"/>
          </a:xfrm>
          <a:prstGeom prst="borderCallout1">
            <a:avLst>
              <a:gd name="adj1" fmla="val 18750"/>
              <a:gd name="adj2" fmla="val -8333"/>
              <a:gd name="adj3" fmla="val -40625"/>
              <a:gd name="adj4" fmla="val 115958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0.50 –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2838600"/>
            <a:ext cx="9600840" cy="3581280"/>
            <a:chOff x="0" y="2838600"/>
            <a:chExt cx="9600840" cy="3581280"/>
          </a:xfrm>
        </p:grpSpPr>
        <p:grpSp>
          <p:nvGrpSpPr>
            <p:cNvPr id="603" name=""/>
            <p:cNvGrpSpPr/>
            <p:nvPr/>
          </p:nvGrpSpPr>
          <p:grpSpPr>
            <a:xfrm>
              <a:off x="304560" y="2838600"/>
              <a:ext cx="9296280" cy="1523520"/>
              <a:chOff x="304560" y="2838600"/>
              <a:chExt cx="9296280" cy="1523520"/>
            </a:xfrm>
          </p:grpSpPr>
          <p:graphicFrame>
            <p:nvGraphicFramePr>
              <p:cNvPr id="604" name=""/>
              <p:cNvGraphicFramePr/>
              <p:nvPr/>
            </p:nvGraphicFramePr>
            <p:xfrm>
              <a:off x="3047760" y="3046320"/>
              <a:ext cx="3840120" cy="1239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0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7760" y="3046320"/>
                        <a:ext cx="3840120" cy="123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6" name=""/>
              <p:cNvSpPr/>
              <p:nvPr/>
            </p:nvSpPr>
            <p:spPr>
              <a:xfrm>
                <a:off x="304560" y="2914560"/>
                <a:ext cx="2743200" cy="144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57640" y="2838600"/>
                <a:ext cx="2743200" cy="144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0" y="4286160"/>
              <a:ext cx="952344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9" name=""/>
          <p:cNvGraphicFramePr/>
          <p:nvPr/>
        </p:nvGraphicFramePr>
        <p:xfrm>
          <a:off x="2081160" y="5067360"/>
          <a:ext cx="498168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1160" y="5067360"/>
                    <a:ext cx="4981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1440" y="432756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651-8036-4626-A405-ED5F7D1BF4C0}" type="slidenum">
              <a:t>62</a:t>
            </a:fld>
          </a:p>
        </p:txBody>
      </p:sp>
    </p:spTree>
  </p:cSld>
  <p:transition spd="slow">
    <p:blinds dir="vert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440" y="0"/>
            <a:ext cx="91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the square root of both sides of the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057400" y="609480"/>
          <a:ext cx="498168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498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2816280" y="619200"/>
            <a:ext cx="5533560" cy="571320"/>
            <a:chOff x="2816280" y="619200"/>
            <a:chExt cx="5533560" cy="571320"/>
          </a:xfrm>
        </p:grpSpPr>
        <p:sp>
          <p:nvSpPr>
            <p:cNvPr id="616" name=""/>
            <p:cNvSpPr/>
            <p:nvPr/>
          </p:nvSpPr>
          <p:spPr>
            <a:xfrm>
              <a:off x="4267080" y="657000"/>
              <a:ext cx="3429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2816280" y="619200"/>
              <a:ext cx="5533560" cy="571320"/>
              <a:chOff x="2816280" y="619200"/>
              <a:chExt cx="5533560" cy="571320"/>
            </a:xfrm>
          </p:grpSpPr>
          <p:graphicFrame>
            <p:nvGraphicFramePr>
              <p:cNvPr id="618" name=""/>
              <p:cNvGraphicFramePr/>
              <p:nvPr/>
            </p:nvGraphicFramePr>
            <p:xfrm>
              <a:off x="2816280" y="619200"/>
              <a:ext cx="2757240" cy="57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16280" y="619200"/>
                        <a:ext cx="275724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20" name=""/>
              <p:cNvGraphicFramePr/>
              <p:nvPr/>
            </p:nvGraphicFramePr>
            <p:xfrm>
              <a:off x="5730840" y="619200"/>
              <a:ext cx="2619000" cy="571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30840" y="619200"/>
                        <a:ext cx="261900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22" name=""/>
          <p:cNvGraphicFramePr/>
          <p:nvPr/>
        </p:nvGraphicFramePr>
        <p:xfrm>
          <a:off x="685800" y="1371600"/>
          <a:ext cx="7816680" cy="68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371600"/>
                    <a:ext cx="78166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981080" y="2362320"/>
          <a:ext cx="500076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362320"/>
                    <a:ext cx="50007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905040" y="3429000"/>
            <a:ext cx="7333920" cy="2133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no approximation and using the quadratic equation the answer is 2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/L, showing that it was justified to assume Y was small compared to 0.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083-7490-4722-8469-BBDCD726F8FB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74628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equation 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612880" y="1722600"/>
          <a:ext cx="391824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1722600"/>
                    <a:ext cx="3918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1440" y="333684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equ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by + c =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102-08EB-4543-8CCA-6D7FB9D80EE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ionization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3210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ionization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90360" y="4572000"/>
          <a:ext cx="89614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4572000"/>
                    <a:ext cx="89614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0" y="14922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ization of a weak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009960" y="2385720"/>
            <a:ext cx="3122640" cy="891360"/>
            <a:chOff x="3009960" y="2385720"/>
            <a:chExt cx="3122640" cy="891360"/>
          </a:xfrm>
        </p:grpSpPr>
        <p:sp>
          <p:nvSpPr>
            <p:cNvPr id="638" name=""/>
            <p:cNvSpPr/>
            <p:nvPr/>
          </p:nvSpPr>
          <p:spPr>
            <a:xfrm>
              <a:off x="3009960" y="2511360"/>
              <a:ext cx="31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A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A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809880" y="2385720"/>
              <a:ext cx="533520" cy="891360"/>
              <a:chOff x="3809880" y="2385720"/>
              <a:chExt cx="533520" cy="891360"/>
            </a:xfrm>
          </p:grpSpPr>
          <p:sp>
            <p:nvSpPr>
              <p:cNvPr id="640" name=""/>
              <p:cNvSpPr/>
              <p:nvPr/>
            </p:nvSpPr>
            <p:spPr>
              <a:xfrm>
                <a:off x="3809880" y="23857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809880" y="26341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94D-D80B-4E3B-8FA0-DE29EA09A15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57400" y="4387680"/>
            <a:ext cx="5029200" cy="2089440"/>
            <a:chOff x="2057400" y="4387680"/>
            <a:chExt cx="5029200" cy="2089440"/>
          </a:xfrm>
        </p:grpSpPr>
        <p:sp>
          <p:nvSpPr>
            <p:cNvPr id="643" name=""/>
            <p:cNvSpPr/>
            <p:nvPr/>
          </p:nvSpPr>
          <p:spPr>
            <a:xfrm>
              <a:off x="2738520" y="4387680"/>
              <a:ext cx="687240" cy="425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57400" y="5486400"/>
              <a:ext cx="5029200" cy="9907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] was previously calculated as 3.0 x 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3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5" name=""/>
          <p:cNvGraphicFramePr/>
          <p:nvPr/>
        </p:nvGraphicFramePr>
        <p:xfrm>
          <a:off x="122400" y="4343400"/>
          <a:ext cx="889920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4343400"/>
                    <a:ext cx="88992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ionization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2383920"/>
            <a:ext cx="9142200" cy="891360"/>
            <a:chOff x="0" y="2383920"/>
            <a:chExt cx="9142200" cy="891360"/>
          </a:xfrm>
        </p:grpSpPr>
        <p:sp>
          <p:nvSpPr>
            <p:cNvPr id="649" name=""/>
            <p:cNvSpPr/>
            <p:nvPr/>
          </p:nvSpPr>
          <p:spPr>
            <a:xfrm>
              <a:off x="0" y="2481120"/>
              <a:ext cx="9142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33cc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 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343400" y="2383920"/>
              <a:ext cx="533160" cy="891360"/>
              <a:chOff x="4343400" y="2383920"/>
              <a:chExt cx="533160" cy="891360"/>
            </a:xfrm>
          </p:grpSpPr>
          <p:sp>
            <p:nvSpPr>
              <p:cNvPr id="651" name=""/>
              <p:cNvSpPr/>
              <p:nvPr/>
            </p:nvSpPr>
            <p:spPr>
              <a:xfrm>
                <a:off x="4343400" y="23839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43400" y="2632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53" name=""/>
            <p:cNvGraphicFramePr/>
            <p:nvPr/>
          </p:nvGraphicFramePr>
          <p:xfrm>
            <a:off x="6019560" y="2477880"/>
            <a:ext cx="1527120" cy="6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560" y="2477880"/>
                      <a:ext cx="152712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5" name=""/>
          <p:cNvSpPr/>
          <p:nvPr/>
        </p:nvSpPr>
        <p:spPr>
          <a:xfrm>
            <a:off x="0" y="331776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ionization of acetic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40" y="148896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ization of acetic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09480" y="5373720"/>
            <a:ext cx="7848720" cy="1179360"/>
            <a:chOff x="609480" y="5373720"/>
            <a:chExt cx="7848720" cy="1179360"/>
          </a:xfrm>
        </p:grpSpPr>
        <p:sp>
          <p:nvSpPr>
            <p:cNvPr id="658" name=""/>
            <p:cNvSpPr/>
            <p:nvPr/>
          </p:nvSpPr>
          <p:spPr>
            <a:xfrm>
              <a:off x="609480" y="5373720"/>
              <a:ext cx="7848720" cy="11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9" name=""/>
            <p:cNvGraphicFramePr/>
            <p:nvPr/>
          </p:nvGraphicFramePr>
          <p:xfrm>
            <a:off x="905040" y="5533920"/>
            <a:ext cx="7335720" cy="89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05040" y="5533920"/>
                      <a:ext cx="733572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F7A-DFD1-4BF2-AD68-03A21583F125}" type="slidenum">
              <a:t>66</a:t>
            </a:fld>
          </a:p>
        </p:txBody>
      </p:sp>
    </p:spTree>
  </p:cSld>
  <p:transition spd="slow">
    <p:blinds dir="ver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304920" y="1676520"/>
          <a:ext cx="8534160" cy="48765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346040"/>
                <a:gridCol w="1676520"/>
                <a:gridCol w="1244520"/>
                <a:gridCol w="1422360"/>
              </a:tblGrid>
              <a:tr h="81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cy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zo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chl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fluo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H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62" name=""/>
          <p:cNvSpPr/>
          <p:nvPr/>
        </p:nvSpPr>
        <p:spPr>
          <a:xfrm>
            <a:off x="684360" y="22860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tion Constants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Acids at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EE3-0BD6-41ED-BE99-1581973EBD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olubility Product Consta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7DE-0763-4E33-AF3E-78216EF5F5F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ynamic state in which two or more opposing processes are taking place at the same time and at the same r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224784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ate in which the rate of the forward reaction equals the rate of the reverse reaction in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24784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bility product constant, 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equilibrium constant of a slightly soluble sal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74D-15C3-4EAD-88D0-F476578ACF5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ates of Re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DB2-4B44-4468-9A4D-56C32B0C183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18432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lver chloride is in equilibrium with its ions in aqueous solu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40" y="1560240"/>
            <a:ext cx="9141120" cy="891360"/>
            <a:chOff x="1440" y="1560240"/>
            <a:chExt cx="9141120" cy="891360"/>
          </a:xfrm>
        </p:grpSpPr>
        <p:sp>
          <p:nvSpPr>
            <p:cNvPr id="671" name=""/>
            <p:cNvSpPr/>
            <p:nvPr/>
          </p:nvSpPr>
          <p:spPr>
            <a:xfrm>
              <a:off x="1440" y="16858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3352680" y="1560240"/>
              <a:ext cx="533520" cy="891360"/>
              <a:chOff x="3352680" y="1560240"/>
              <a:chExt cx="533520" cy="891360"/>
            </a:xfrm>
          </p:grpSpPr>
          <p:sp>
            <p:nvSpPr>
              <p:cNvPr id="673" name=""/>
              <p:cNvSpPr/>
              <p:nvPr/>
            </p:nvSpPr>
            <p:spPr>
              <a:xfrm>
                <a:off x="3352680" y="15602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3352680" y="1808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75" name=""/>
          <p:cNvGraphicFramePr/>
          <p:nvPr/>
        </p:nvGraphicFramePr>
        <p:xfrm>
          <a:off x="2868480" y="3200400"/>
          <a:ext cx="340524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3200400"/>
                    <a:ext cx="34052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0" y="2637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stan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373040" y="5408640"/>
            <a:ext cx="3275280" cy="1297080"/>
          </a:xfrm>
          <a:prstGeom prst="borderCallout1">
            <a:avLst>
              <a:gd name="adj1" fmla="val 18750"/>
              <a:gd name="adj2" fmla="val -8333"/>
              <a:gd name="adj3" fmla="val -70504"/>
              <a:gd name="adj4" fmla="val -1551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lid AgCl does not affect the equilib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59120" y="5408640"/>
            <a:ext cx="2689200" cy="1297080"/>
          </a:xfrm>
          <a:prstGeom prst="borderCallout1">
            <a:avLst>
              <a:gd name="adj1" fmla="val 18750"/>
              <a:gd name="adj2" fmla="val -8333"/>
              <a:gd name="adj3" fmla="val -70750"/>
              <a:gd name="adj4" fmla="val -1900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solid AgCl is a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998640" y="4989600"/>
          <a:ext cx="714672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8640" y="4989600"/>
                    <a:ext cx="7146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rran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3200400"/>
            <a:ext cx="7078680" cy="1905120"/>
            <a:chOff x="0" y="3200400"/>
            <a:chExt cx="7078680" cy="1905120"/>
          </a:xfrm>
        </p:grpSpPr>
        <p:sp>
          <p:nvSpPr>
            <p:cNvPr id="684" name=""/>
            <p:cNvSpPr/>
            <p:nvPr/>
          </p:nvSpPr>
          <p:spPr>
            <a:xfrm>
              <a:off x="0" y="4419720"/>
              <a:ext cx="20574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6040" y="3200400"/>
              <a:ext cx="6362640" cy="1905120"/>
              <a:chOff x="716040" y="3200400"/>
              <a:chExt cx="6362640" cy="1905120"/>
            </a:xfrm>
          </p:grpSpPr>
          <p:sp>
            <p:nvSpPr>
              <p:cNvPr id="686" name=""/>
              <p:cNvSpPr/>
              <p:nvPr/>
            </p:nvSpPr>
            <p:spPr>
              <a:xfrm rot="16200000">
                <a:off x="2392200" y="3124080"/>
                <a:ext cx="533520" cy="3429000"/>
              </a:xfrm>
              <a:custGeom>
                <a:avLst/>
                <a:gdLst>
                  <a:gd name="textAreaLeft" fmla="*/ 0 w 533520"/>
                  <a:gd name="textAreaRight" fmla="*/ 192600 w 533520"/>
                  <a:gd name="textAreaTop" fmla="*/ 89280 h 3429000"/>
                  <a:gd name="textAreaBottom" fmla="*/ 3339720 h 342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8788"/>
                    </a:lnTo>
                    <a:cubicBezTo>
                      <a:pt x="10800" y="9688"/>
                      <a:pt x="16200" y="10588"/>
                      <a:pt x="21600" y="10588"/>
                    </a:cubicBezTo>
                    <a:cubicBezTo>
                      <a:pt x="16200" y="10588"/>
                      <a:pt x="10800" y="11488"/>
                      <a:pt x="10800" y="12388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716040" y="3200400"/>
                <a:ext cx="6362640" cy="1523880"/>
                <a:chOff x="716040" y="3200400"/>
                <a:chExt cx="6362640" cy="15238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259160" y="3200400"/>
                  <a:ext cx="2819520" cy="1523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16040" y="3429000"/>
                  <a:ext cx="3886200" cy="990720"/>
                </a:xfrm>
                <a:prstGeom prst="rect">
                  <a:avLst/>
                </a:prstGeom>
                <a:solidFill>
                  <a:srgbClr val="ccff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The product of K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eq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and [AgCl(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) is a constant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691" name=""/>
            <p:cNvSpPr/>
            <p:nvPr/>
          </p:nvSpPr>
          <p:spPr>
            <a:xfrm>
              <a:off x="0" y="0"/>
              <a:ext cx="914256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2" name=""/>
            <p:cNvGraphicFramePr/>
            <p:nvPr/>
          </p:nvGraphicFramePr>
          <p:xfrm>
            <a:off x="2995560" y="3054240"/>
            <a:ext cx="3151080" cy="749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95560" y="3054240"/>
                      <a:ext cx="3151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B03-3954-434A-82B7-FA0CD3CA89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440" y="30492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AgCl in water is 1.3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3040" y="2362320"/>
            <a:ext cx="821376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each formula unit of  Ag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dissolves yields one A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one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concentrations of the two ions are equ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440" y="1560240"/>
            <a:ext cx="9141120" cy="891360"/>
            <a:chOff x="1440" y="1560240"/>
            <a:chExt cx="9141120" cy="891360"/>
          </a:xfrm>
        </p:grpSpPr>
        <p:sp>
          <p:nvSpPr>
            <p:cNvPr id="697" name=""/>
            <p:cNvSpPr/>
            <p:nvPr/>
          </p:nvSpPr>
          <p:spPr>
            <a:xfrm>
              <a:off x="1440" y="16858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3352680" y="1560240"/>
              <a:ext cx="533520" cy="891360"/>
              <a:chOff x="3352680" y="1560240"/>
              <a:chExt cx="533520" cy="891360"/>
            </a:xfrm>
          </p:grpSpPr>
          <p:sp>
            <p:nvSpPr>
              <p:cNvPr id="699" name=""/>
              <p:cNvSpPr/>
              <p:nvPr/>
            </p:nvSpPr>
            <p:spPr>
              <a:xfrm>
                <a:off x="3352680" y="15602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352680" y="1808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412920" y="5057640"/>
            <a:ext cx="33526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400" spc="-1" strike="noStrike" baseline="-25000">
                <a:solidFill>
                  <a:srgbClr val="0066ff"/>
                </a:solidFill>
                <a:latin typeface="Arial"/>
              </a:rPr>
              <a:t>sp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 = [Ag</a:t>
            </a:r>
            <a:r>
              <a:rPr b="0" lang="en-US" sz="3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][Cl</a:t>
            </a:r>
            <a:r>
              <a:rPr b="0" lang="en-US" sz="34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19240" y="560700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(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(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40" y="4264200"/>
            <a:ext cx="91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Ag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[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ol/L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19920" y="56070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1.7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9000" y="5105520"/>
            <a:ext cx="4800600" cy="53316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no denomin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1BA-99B4-455A-A35B-9A5DE401D2F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product of the molar concentration of the ions in solution (each raised to its proper power) is greater than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at substance, precipitation will occur.  If the ion product is less than th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lue no precipitation will occ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B91-08C9-4D04-8FB2-77FA827019E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12193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quation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828800" y="1676160"/>
            <a:ext cx="4913280" cy="915120"/>
            <a:chOff x="1828800" y="1676160"/>
            <a:chExt cx="4913280" cy="915120"/>
          </a:xfrm>
        </p:grpSpPr>
        <p:grpSp>
          <p:nvGrpSpPr>
            <p:cNvPr id="710" name=""/>
            <p:cNvGrpSpPr/>
            <p:nvPr/>
          </p:nvGrpSpPr>
          <p:grpSpPr>
            <a:xfrm>
              <a:off x="1828800" y="1811520"/>
              <a:ext cx="4913280" cy="644400"/>
              <a:chOff x="1828800" y="1811520"/>
              <a:chExt cx="4913280" cy="644400"/>
            </a:xfrm>
          </p:grpSpPr>
          <p:graphicFrame>
            <p:nvGraphicFramePr>
              <p:cNvPr id="711" name=""/>
              <p:cNvGraphicFramePr/>
              <p:nvPr/>
            </p:nvGraphicFramePr>
            <p:xfrm>
              <a:off x="1828800" y="1811520"/>
              <a:ext cx="4913280" cy="64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28800" y="1811520"/>
                        <a:ext cx="4913280" cy="64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3" name=""/>
              <p:cNvSpPr/>
              <p:nvPr/>
            </p:nvSpPr>
            <p:spPr>
              <a:xfrm>
                <a:off x="3352680" y="18460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505320" y="1676160"/>
              <a:ext cx="533160" cy="915120"/>
              <a:chOff x="3505320" y="1676160"/>
              <a:chExt cx="533160" cy="91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3505320" y="16761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505320" y="1948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17" name=""/>
          <p:cNvGraphicFramePr/>
          <p:nvPr/>
        </p:nvGraphicFramePr>
        <p:xfrm>
          <a:off x="2550960" y="3111480"/>
          <a:ext cx="3773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0960" y="3111480"/>
                    <a:ext cx="3773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0" y="2514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0" y="3898800"/>
            <a:ext cx="8381880" cy="1815480"/>
            <a:chOff x="0" y="3898800"/>
            <a:chExt cx="8381880" cy="1815480"/>
          </a:xfrm>
        </p:grpSpPr>
        <p:sp>
          <p:nvSpPr>
            <p:cNvPr id="721" name=""/>
            <p:cNvSpPr/>
            <p:nvPr/>
          </p:nvSpPr>
          <p:spPr>
            <a:xfrm>
              <a:off x="0" y="3898800"/>
              <a:ext cx="83818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formula unit of  Pb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dissolves yields one Pb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      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6553080" y="4524480"/>
            <a:ext cx="866880" cy="62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524480"/>
                      <a:ext cx="86688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24" name=""/>
          <p:cNvGraphicFramePr/>
          <p:nvPr/>
        </p:nvGraphicFramePr>
        <p:xfrm>
          <a:off x="2317680" y="5729400"/>
          <a:ext cx="454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7680" y="5729400"/>
                    <a:ext cx="454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908-D0E4-4357-93F4-ABE4C81C04F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550960" y="2000160"/>
          <a:ext cx="37735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0960" y="2000160"/>
                    <a:ext cx="37735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440" y="12952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Y into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qu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2085840" y="3187800"/>
          <a:ext cx="5007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3187800"/>
                    <a:ext cx="5007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232080" y="4327560"/>
          <a:ext cx="30193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2080" y="4327560"/>
                    <a:ext cx="3019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1447920" y="5105520"/>
          <a:ext cx="31478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105520"/>
                    <a:ext cx="31478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4695840" y="5105520"/>
          <a:ext cx="364500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95840" y="5105520"/>
                    <a:ext cx="36450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1440" y="5943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.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CCC-5826-489C-9344-37915C2A0772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0" y="1447920"/>
            <a:ext cx="9142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/L to grams/L. The molar mass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303.3 g/mo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380880" y="3048120"/>
          <a:ext cx="33130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33130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5886360" y="3335400"/>
          <a:ext cx="31482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6360" y="3335400"/>
                    <a:ext cx="31482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3697200" y="3112920"/>
          <a:ext cx="2043360" cy="117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7200" y="3112920"/>
                    <a:ext cx="20433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"/>
          <p:cNvSpPr/>
          <p:nvPr/>
        </p:nvSpPr>
        <p:spPr>
          <a:xfrm>
            <a:off x="1440" y="4692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3.3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651040" y="3235320"/>
            <a:ext cx="2473560" cy="954000"/>
            <a:chOff x="2651040" y="3235320"/>
            <a:chExt cx="2473560" cy="954000"/>
          </a:xfrm>
        </p:grpSpPr>
        <p:sp>
          <p:nvSpPr>
            <p:cNvPr id="749" name=""/>
            <p:cNvSpPr/>
            <p:nvPr/>
          </p:nvSpPr>
          <p:spPr>
            <a:xfrm>
              <a:off x="2651040" y="3235320"/>
              <a:ext cx="82224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02000" y="3843360"/>
              <a:ext cx="82260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AEA-C264-44AE-A2C4-386E18EF456E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Common Ion Eff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0EB-B7EB-4E8B-B46C-A0D961A0ABF4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on added to a solution already containing that ion is called a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on 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80880" y="1773360"/>
            <a:ext cx="8610840" cy="3352680"/>
            <a:chOff x="380880" y="1773360"/>
            <a:chExt cx="8610840" cy="3352680"/>
          </a:xfrm>
        </p:grpSpPr>
        <p:sp>
          <p:nvSpPr>
            <p:cNvPr id="754" name=""/>
            <p:cNvSpPr/>
            <p:nvPr/>
          </p:nvSpPr>
          <p:spPr>
            <a:xfrm>
              <a:off x="380880" y="1773360"/>
              <a:ext cx="861084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800" y="2217960"/>
              <a:ext cx="777240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 shift in the equilibrium position upon addition of an ion already contained in the solution is known as the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ommon ion effect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C72-5FDD-4F74-A125-A8E9D11C96A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886200" y="1103400"/>
            <a:ext cx="1905120" cy="4716360"/>
            <a:chOff x="3886200" y="1103400"/>
            <a:chExt cx="1905120" cy="4716360"/>
          </a:xfrm>
        </p:grpSpPr>
        <p:sp>
          <p:nvSpPr>
            <p:cNvPr id="757" name=""/>
            <p:cNvSpPr/>
            <p:nvPr/>
          </p:nvSpPr>
          <p:spPr>
            <a:xfrm>
              <a:off x="4054320" y="5200560"/>
              <a:ext cx="1737000" cy="619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6200" y="1103400"/>
              <a:ext cx="1668600" cy="619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440" y="914040"/>
            <a:ext cx="9141120" cy="891360"/>
            <a:chOff x="1440" y="914040"/>
            <a:chExt cx="9141120" cy="891360"/>
          </a:xfrm>
        </p:grpSpPr>
        <p:sp>
          <p:nvSpPr>
            <p:cNvPr id="760" name=""/>
            <p:cNvSpPr/>
            <p:nvPr/>
          </p:nvSpPr>
          <p:spPr>
            <a:xfrm>
              <a:off x="1440" y="10396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352680" y="914040"/>
              <a:ext cx="533520" cy="891360"/>
              <a:chOff x="3352680" y="914040"/>
              <a:chExt cx="533520" cy="891360"/>
            </a:xfrm>
          </p:grpSpPr>
          <p:sp>
            <p:nvSpPr>
              <p:cNvPr id="762" name=""/>
              <p:cNvSpPr/>
              <p:nvPr/>
            </p:nvSpPr>
            <p:spPr>
              <a:xfrm>
                <a:off x="3352680" y="9140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3352680" y="11624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>
            <a:off x="152280" y="4495680"/>
            <a:ext cx="89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lver nitrate dissociates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1030320" y="5160960"/>
          <a:ext cx="697536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5160960"/>
                    <a:ext cx="6975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0" y="38088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quation of AgCl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6095880"/>
            <a:ext cx="5486400" cy="5335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mmon to both rea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828800" y="1905120"/>
            <a:ext cx="5486400" cy="2133360"/>
            <a:chOff x="1828800" y="1905120"/>
            <a:chExt cx="5486400" cy="2133360"/>
          </a:xfrm>
        </p:grpSpPr>
        <p:sp>
          <p:nvSpPr>
            <p:cNvPr id="770" name=""/>
            <p:cNvSpPr/>
            <p:nvPr/>
          </p:nvSpPr>
          <p:spPr>
            <a:xfrm>
              <a:off x="1828800" y="2133720"/>
              <a:ext cx="5486400" cy="190476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pon the addition of A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the equilibrium shifts to the left, in accordance with LeChatelier’s Principle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247840" y="1905120"/>
              <a:ext cx="4648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B6-F2A3-4EED-9296-14166DE9577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3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028880" y="5943600"/>
            <a:ext cx="7086600" cy="8380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1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 nitrate is added to a saturated AgCl solution until the 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=0.10 M. What will be the [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remaining in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40" y="14479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gCl to determine [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566720" y="2057400"/>
          <a:ext cx="56707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2057400"/>
                    <a:ext cx="5670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440" y="41148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[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252520" y="3540240"/>
          <a:ext cx="45849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2520" y="3540240"/>
                    <a:ext cx="45849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143000" y="4618080"/>
          <a:ext cx="7089840" cy="12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18080"/>
                    <a:ext cx="70898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1440" y="2895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[A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into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5943600"/>
            <a:ext cx="7772400" cy="8380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the common ion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828800" y="461880"/>
            <a:ext cx="2009880" cy="3745080"/>
            <a:chOff x="1828800" y="461880"/>
            <a:chExt cx="2009880" cy="3745080"/>
          </a:xfrm>
        </p:grpSpPr>
        <p:sp>
          <p:nvSpPr>
            <p:cNvPr id="785" name=""/>
            <p:cNvSpPr/>
            <p:nvPr/>
          </p:nvSpPr>
          <p:spPr>
            <a:xfrm>
              <a:off x="2252520" y="3597120"/>
              <a:ext cx="1136880" cy="60984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28800" y="461880"/>
              <a:ext cx="2009880" cy="5112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EB2-4017-4293-A05E-65F9961C8346}" type="slidenum">
              <a:t>79</a:t>
            </a:fld>
          </a:p>
        </p:txBody>
      </p:sp>
    </p:spTree>
  </p:cSld>
  <p:transition spd="slow">
    <p:blinds dir="vert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kine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udy of reaction rates and reaction mech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153-1A04-4E30-8907-1CEEF472D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304920" y="1523880"/>
          <a:ext cx="8534160" cy="495324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1957320"/>
                <a:gridCol w="2438280"/>
              </a:tblGrid>
              <a:tr h="61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88" name=""/>
          <p:cNvSpPr/>
          <p:nvPr/>
        </p:nvSpPr>
        <p:spPr>
          <a:xfrm>
            <a:off x="684360" y="15228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bility Product Constants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at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49B-D9D7-41E3-A363-CF584E8981C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-Base 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roperties of Sal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165-8E97-4D7A-8ADC-F0BDBD826CF4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7040" y="2590920"/>
            <a:ext cx="8629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term used for the general reaction in which a water molecule is spl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13A-015C-4DB1-8F2B-275E31E873E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84240" y="3683520"/>
            <a:ext cx="8972280" cy="831960"/>
            <a:chOff x="84240" y="3683520"/>
            <a:chExt cx="8972280" cy="831960"/>
          </a:xfrm>
        </p:grpSpPr>
        <p:grpSp>
          <p:nvGrpSpPr>
            <p:cNvPr id="794" name=""/>
            <p:cNvGrpSpPr/>
            <p:nvPr/>
          </p:nvGrpSpPr>
          <p:grpSpPr>
            <a:xfrm>
              <a:off x="4098960" y="3683520"/>
              <a:ext cx="533520" cy="831960"/>
              <a:chOff x="4098960" y="3683520"/>
              <a:chExt cx="533520" cy="831960"/>
            </a:xfrm>
          </p:grpSpPr>
          <p:sp>
            <p:nvSpPr>
              <p:cNvPr id="795" name=""/>
              <p:cNvSpPr/>
              <p:nvPr/>
            </p:nvSpPr>
            <p:spPr>
              <a:xfrm>
                <a:off x="4098960" y="3683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4098960" y="3933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97" name=""/>
            <p:cNvGraphicFramePr/>
            <p:nvPr/>
          </p:nvGraphicFramePr>
          <p:xfrm>
            <a:off x="84240" y="3809880"/>
            <a:ext cx="897228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240" y="3809880"/>
                      <a:ext cx="89722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9" name=""/>
          <p:cNvSpPr/>
          <p:nvPr/>
        </p:nvSpPr>
        <p:spPr>
          <a:xfrm>
            <a:off x="1440" y="2494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for the hydrolysis of sodium acetat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961800" y="507672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molecule spl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680" y="636480"/>
            <a:ext cx="800100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that contain the anion of a weak acid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6080" y="507672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4C4-07C8-4DBC-9AD2-5D6960E04AA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440" y="2494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for the hydrolysis of ammonium chlorid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961800" y="51814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molecule spl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636480"/>
            <a:ext cx="800100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that contain the cation of a weak base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51814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i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16040" y="3683520"/>
            <a:ext cx="7710480" cy="831960"/>
            <a:chOff x="716040" y="3683520"/>
            <a:chExt cx="7710480" cy="831960"/>
          </a:xfrm>
        </p:grpSpPr>
        <p:graphicFrame>
          <p:nvGraphicFramePr>
            <p:cNvPr id="808" name=""/>
            <p:cNvGraphicFramePr/>
            <p:nvPr/>
          </p:nvGraphicFramePr>
          <p:xfrm>
            <a:off x="716040" y="3809880"/>
            <a:ext cx="771048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040" y="3809880"/>
                      <a:ext cx="77104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4098960" y="3683520"/>
              <a:ext cx="533520" cy="831960"/>
              <a:chOff x="4098960" y="3683520"/>
              <a:chExt cx="533520" cy="831960"/>
            </a:xfrm>
          </p:grpSpPr>
          <p:sp>
            <p:nvSpPr>
              <p:cNvPr id="811" name=""/>
              <p:cNvSpPr/>
              <p:nvPr/>
            </p:nvSpPr>
            <p:spPr>
              <a:xfrm>
                <a:off x="4098960" y="3683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4098960" y="3933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D31-665C-45EC-9D5B-9C6929AA09CA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47760" y="63648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derived from a strong acid and a strong base do not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440000" y="3817080"/>
            <a:ext cx="6262560" cy="581400"/>
            <a:chOff x="1440000" y="3817080"/>
            <a:chExt cx="6262560" cy="581400"/>
          </a:xfrm>
        </p:grpSpPr>
        <p:graphicFrame>
          <p:nvGraphicFramePr>
            <p:cNvPr id="815" name=""/>
            <p:cNvGraphicFramePr/>
            <p:nvPr/>
          </p:nvGraphicFramePr>
          <p:xfrm>
            <a:off x="1440000" y="3825720"/>
            <a:ext cx="6262560" cy="5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000" y="3825720"/>
                      <a:ext cx="626256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5029200" y="3817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116-23EC-4311-BFC9-91D9A7075516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0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"/>
          <p:cNvGraphicFramePr/>
          <p:nvPr/>
        </p:nvGraphicFramePr>
        <p:xfrm>
          <a:off x="304920" y="1523880"/>
          <a:ext cx="8381880" cy="4952880"/>
        </p:xfrm>
        <a:graphic>
          <a:graphicData uri="http://schemas.openxmlformats.org/drawingml/2006/table">
            <a:tbl>
              <a:tblPr/>
              <a:tblGrid>
                <a:gridCol w="2844720"/>
                <a:gridCol w="2846520"/>
                <a:gridCol w="2690640"/>
              </a:tblGrid>
              <a:tr h="98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a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e of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eous 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9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 base-strong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, 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base-weak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 base-weak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 the sa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base-strong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, KB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19" name=""/>
          <p:cNvSpPr/>
          <p:nvPr/>
        </p:nvSpPr>
        <p:spPr>
          <a:xfrm>
            <a:off x="684360" y="15228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c Composition of Salts and the Nature of the Aqueous Solutions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DA3-7E21-477F-800D-A62A29F9DDD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uffer Solutions: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Control of 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17C-FF29-4C70-8BD0-93565BA52DA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uffer solution resists changes in pH when diluted or when small amounts of acid or base are ad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2AD-59B2-4FEA-A2FC-34B36119A34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0" y="1994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dium acetate, when mixed with acetic acid,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35D-7C86-46D1-9DEC-0FEFA75636C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 of a reaction is variable.  It depends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79864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tions of the reacting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ce or absence of cataly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the rea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BC6-31B5-4EAD-838A-E11BFABC0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41440" y="3852720"/>
          <a:ext cx="8061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852720"/>
                    <a:ext cx="8061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1440" y="1994040"/>
            <a:ext cx="91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mall amount of HCl is added, the acetate ions of the buffer will react with the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HCl to form unionized acetic ac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DA9-BD2D-4F0C-864B-22F416444D0F}" type="slidenum">
              <a:t>90</a:t>
            </a:fld>
          </a:p>
        </p:txBody>
      </p:sp>
    </p:spTree>
  </p:cSld>
  <p:transition spd="slow">
    <p:blinds dir="vert"/>
  </p:transition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0" name=""/>
          <p:cNvGraphicFramePr/>
          <p:nvPr/>
        </p:nvGraphicFramePr>
        <p:xfrm>
          <a:off x="96840" y="3809880"/>
          <a:ext cx="8948880" cy="6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3809880"/>
                    <a:ext cx="8948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1440" y="1994040"/>
            <a:ext cx="91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mall amount of NaOH is added, the acetic acid molecules of the buffer will react with the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NaOH to form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C6A-6623-4E79-BA96-DECCF2814DBA}" type="slidenum">
              <a:t>91</a:t>
            </a:fld>
          </a:p>
        </p:txBody>
      </p:sp>
    </p:spTree>
  </p:cSld>
  <p:transition spd="slow">
    <p:blinds dir="vert"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433440" y="1658880"/>
          <a:ext cx="8381880" cy="4741920"/>
        </p:xfrm>
        <a:graphic>
          <a:graphicData uri="http://schemas.openxmlformats.org/drawingml/2006/table">
            <a:tbl>
              <a:tblPr/>
              <a:tblGrid>
                <a:gridCol w="3476520"/>
                <a:gridCol w="1981080"/>
                <a:gridCol w="2924280"/>
              </a:tblGrid>
              <a:tr h="46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in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(1000 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0.010 mol HC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0.010 mol NaO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solution (1000 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M H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0.10 M Na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+ 0.010 mol HC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+ 0.010 mol NaO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731880" y="228600"/>
            <a:ext cx="777564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in pH Caused by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 of HCl and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A8F-D2B9-406D-BE19-ABC2F740066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6D0-74BB-4F98-BF31-B3ECFEC3BB8E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38:44Z</dcterms:modified>
  <cp:revision>1217</cp:revision>
  <dc:subject/>
  <dc:title>Hein and Arena</dc:title>
</cp:coreProperties>
</file>