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.jpeg" ContentType="image/jpeg"/>
  <Override PartName="/ppt/media/image28.wmf" ContentType="image/x-wmf"/>
  <Override PartName="/ppt/media/image1.png" ContentType="image/png"/>
  <Override PartName="/ppt/media/image29.wmf" ContentType="image/x-wmf"/>
  <Override PartName="/ppt/media/image14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7.jpeg" ContentType="image/jpeg"/>
  <Override PartName="/ppt/media/image31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2.wmf" ContentType="image/x-wmf"/>
  <Override PartName="/ppt/media/image49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7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5A5-5C65-429F-917F-C8635BFB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9E5-DF2C-4437-A711-AE5EF18E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702C-4799-4AD2-9AA4-C9C82439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066E-FCB4-466D-8778-8B77EB99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DC8-46E4-4FF3-AFB9-CE2CF492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98C-FB0F-4182-83C0-9BBAE9CA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E8D-2E7E-4CD6-B532-DF8EC6A6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AE7-E302-477A-91D2-72F07BEC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114-601B-4E11-8939-1F544123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886-ACFA-40EA-BCA6-D8B78BC7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80E-7A28-4537-95D3-FC92196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F90-E6B9-4D60-BB2E-DB2B9AB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F25C455-A374-40E7-934F-3BF691AA3BB0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:34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6308-0AE3-4CBE-BDAB-9FE04D820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11.xml"/><Relationship Id="rId4" Type="http://schemas.openxmlformats.org/officeDocument/2006/relationships/slide" Target="slide49.xml"/><Relationship Id="rId5" Type="http://schemas.openxmlformats.org/officeDocument/2006/relationships/slide" Target="slide55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40.xml"/><Relationship Id="rId9" Type="http://schemas.openxmlformats.org/officeDocument/2006/relationships/slide" Target="slide68.xml"/><Relationship Id="rId10" Type="http://schemas.openxmlformats.org/officeDocument/2006/relationships/slide" Target="slide26.xml"/><Relationship Id="rId11" Type="http://schemas.openxmlformats.org/officeDocument/2006/relationships/slide" Target="slide33.xml"/><Relationship Id="rId12" Type="http://schemas.openxmlformats.org/officeDocument/2006/relationships/slide" Target="slide36.xml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943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hemical Equilibriu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6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1A3-044B-4972-8B48-B9E956CB527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54200" y="380880"/>
            <a:ext cx="5584680" cy="42134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990720" y="4952880"/>
            <a:ext cx="7162560" cy="642600"/>
            <a:chOff x="990720" y="4952880"/>
            <a:chExt cx="7162560" cy="642600"/>
          </a:xfrm>
        </p:grpSpPr>
        <p:sp>
          <p:nvSpPr>
            <p:cNvPr id="107" name=""/>
            <p:cNvSpPr/>
            <p:nvPr/>
          </p:nvSpPr>
          <p:spPr>
            <a:xfrm>
              <a:off x="990720" y="495288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orward rea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00600" y="4952880"/>
              <a:ext cx="3352680" cy="6426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 + B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 C + 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990720" y="5807160"/>
            <a:ext cx="7162560" cy="642600"/>
            <a:chOff x="990720" y="5807160"/>
            <a:chExt cx="7162560" cy="642600"/>
          </a:xfrm>
        </p:grpSpPr>
        <p:sp>
          <p:nvSpPr>
            <p:cNvPr id="110" name=""/>
            <p:cNvSpPr/>
            <p:nvPr/>
          </p:nvSpPr>
          <p:spPr>
            <a:xfrm>
              <a:off x="990720" y="580716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everse rea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00600" y="5807160"/>
              <a:ext cx="3352680" cy="64260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+ D → A + 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 flipV="1">
            <a:off x="3548160" y="1708200"/>
            <a:ext cx="2325600" cy="3238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909600" y="2215800"/>
            <a:ext cx="2567160" cy="3575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517680"/>
            <a:ext cx="368136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concentration of A and B decreases with time, lowering the rate of the forward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498760"/>
            <a:ext cx="368136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concentration of C and D increases with time, increasing the rate of the reverse rea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43C-A808-4C0E-A813-49FC3028D7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3</a:t>
            </a:r>
            <a:br>
              <a:rPr sz="4400"/>
            </a:br>
            <a:r>
              <a:rPr b="1" lang="en-US" sz="6900" spc="-1" strike="noStrike" u="sng">
                <a:solidFill>
                  <a:srgbClr val="cc3399"/>
                </a:solidFill>
                <a:uFillTx/>
                <a:latin typeface="Times New Roman"/>
              </a:rPr>
              <a:t>Chemical Equilibrium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02E-3AF9-4770-AFEF-27FC429A8D3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478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librium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dynamic state in which two or more opposing processes are taking place at the same time and at the same r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263680"/>
            <a:ext cx="7772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equilibrium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tate in which the rate of the forward reaction equals the rate of the reverse reaction in a chemical chang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300400"/>
            <a:ext cx="77724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equilibrium the concentrations of the products and the reactants are not chang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E67-D3FB-4F9E-A3A3-2924E6946E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3490560"/>
            <a:ext cx="9142560" cy="891360"/>
            <a:chOff x="0" y="3490560"/>
            <a:chExt cx="9142560" cy="891360"/>
          </a:xfrm>
        </p:grpSpPr>
        <p:sp>
          <p:nvSpPr>
            <p:cNvPr id="123" name=""/>
            <p:cNvSpPr/>
            <p:nvPr/>
          </p:nvSpPr>
          <p:spPr>
            <a:xfrm>
              <a:off x="0" y="36147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a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    Na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Cl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3373560" y="3490560"/>
              <a:ext cx="533160" cy="891360"/>
              <a:chOff x="3373560" y="3490560"/>
              <a:chExt cx="533160" cy="891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373560" y="34905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373560" y="37389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28600" y="8762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turated salt solution is in equilibrium with solid sa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47400" y="217008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140115"/>
              <a:gd name="adj4" fmla="val 12942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cryst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is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553080" y="2170080"/>
            <a:ext cx="2438640" cy="1068480"/>
          </a:xfrm>
          <a:prstGeom prst="borderCallout1">
            <a:avLst>
              <a:gd name="adj1" fmla="val 18750"/>
              <a:gd name="adj2" fmla="val -8333"/>
              <a:gd name="adj3" fmla="val 140115"/>
              <a:gd name="adj4" fmla="val 12942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rystal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915080"/>
            <a:ext cx="7429680" cy="1409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quilibrium, the rate of salt dissolution equals the rate of salt crystal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ECE-0CE2-4997-8B94-3F750D49A5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Le Chatelier’s Princi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A7E-58F5-4805-9870-A0E934A101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88, the French chemist Henri LeChatelier set forth a far-reaching generalization on the behavior of equilibrium syst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04920"/>
            <a:ext cx="88394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generalization, known 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LeChatelier’s Principle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0"/>
            <a:ext cx="8686800" cy="23018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stress or strain is applied to a system in equilibrium, the system will respond in such a way as to relieve that stress and restore equilibrium under a new set of condi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FBA-CA3D-437D-84C0-05047EE501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5</a:t>
            </a:r>
            <a:br>
              <a:rPr sz="4400"/>
            </a:br>
            <a:r>
              <a:rPr b="1" lang="en-US" sz="6300" spc="-1" strike="noStrike" u="sng">
                <a:solidFill>
                  <a:srgbClr val="cc3399"/>
                </a:solidFill>
                <a:uFillTx/>
                <a:latin typeface="Times New Roman"/>
              </a:rPr>
              <a:t>Effect of Concentration on Equilibrium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4EC-1508-426E-AB75-2DDB176994C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most reactions, the rate of reaction increases as reactant concentrations incr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436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nner in which the rate of reaction changes with concentration must be determined experimenta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3CB-1C8B-4B51-8068-028F7FA855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quilibrium is disturbed when the concentration of one or more of its components is changed.  As a result, the concentration of all species will change and a new equilibrium mixture will be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D55-CD96-4470-8C27-70F7217ABBD4}" type="slidenum">
              <a:t>18</a:t>
            </a:fld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 flipH="1">
            <a:off x="4446000" y="2286000"/>
            <a:ext cx="3352680" cy="1297080"/>
          </a:xfrm>
          <a:prstGeom prst="borderCallout1">
            <a:avLst>
              <a:gd name="adj1" fmla="val 18750"/>
              <a:gd name="adj2" fmla="val -8333"/>
              <a:gd name="adj3" fmla="val 117009"/>
              <a:gd name="adj4" fmla="val 123671"/>
            </a:avLst>
          </a:prstGeom>
          <a:solidFill>
            <a:srgbClr val="ccffff"/>
          </a:solidFill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A and B being used faster than they are p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22840" y="3770280"/>
            <a:ext cx="457200" cy="53496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160" y="4916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reasing the concentration of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3604680"/>
            <a:ext cx="9142560" cy="891360"/>
            <a:chOff x="0" y="3604680"/>
            <a:chExt cx="9142560" cy="891360"/>
          </a:xfrm>
        </p:grpSpPr>
        <p:sp>
          <p:nvSpPr>
            <p:cNvPr id="145" name=""/>
            <p:cNvSpPr/>
            <p:nvPr/>
          </p:nvSpPr>
          <p:spPr>
            <a:xfrm>
              <a:off x="0" y="371808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 + B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C + 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343400" y="3604680"/>
              <a:ext cx="533160" cy="891360"/>
              <a:chOff x="4343400" y="3604680"/>
              <a:chExt cx="533160" cy="891360"/>
            </a:xfrm>
          </p:grpSpPr>
          <p:sp>
            <p:nvSpPr>
              <p:cNvPr id="147" name=""/>
              <p:cNvSpPr/>
              <p:nvPr/>
            </p:nvSpPr>
            <p:spPr>
              <a:xfrm>
                <a:off x="4343400" y="36046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cc3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343400" y="38530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1600200" y="1295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system is at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59040" y="2284560"/>
            <a:ext cx="3170160" cy="1296720"/>
          </a:xfrm>
          <a:prstGeom prst="borderCallout1">
            <a:avLst>
              <a:gd name="adj1" fmla="val 18750"/>
              <a:gd name="adj2" fmla="val -8333"/>
              <a:gd name="adj3" fmla="val 116643"/>
              <a:gd name="adj4" fmla="val -13370"/>
            </a:avLst>
          </a:prstGeom>
          <a:solidFill>
            <a:srgbClr val="ccffff"/>
          </a:solidFill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C and D being produced faster than they ar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334120" y="2394000"/>
            <a:ext cx="3124080" cy="1068480"/>
          </a:xfrm>
          <a:prstGeom prst="borderCallout1">
            <a:avLst>
              <a:gd name="adj1" fmla="val 18750"/>
              <a:gd name="adj2" fmla="val -8333"/>
              <a:gd name="adj3" fmla="val 131050"/>
              <a:gd name="adj4" fmla="val 126726"/>
            </a:avLst>
          </a:prstGeom>
          <a:solidFill>
            <a:srgbClr val="ccffff"/>
          </a:solidFill>
          <a:ln w="284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the rate of the forward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85800"/>
            <a:ext cx="7086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21D-62A5-4C3D-947C-5A48BB0F15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8" dur="1" fill="hold"/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24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5238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Reversible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13840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Rates of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7525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Chemical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9973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0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Ion Product Constant for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Wa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9164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Ionization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60" y="33685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Le Chatelier’s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760" y="398304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Effect of Concentration on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44332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Equilibrium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470480"/>
            <a:ext cx="45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Solubility Product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024520"/>
            <a:ext cx="45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-Base Propertie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496260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0" action="ppaction://hlinksldjump"/>
              </a:rPr>
              <a:t>Effect of Volume on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594360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1" action="ppaction://hlinksldjump"/>
              </a:rPr>
              <a:t>Effect of Temperature on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5238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2" action="ppaction://hlinksldjump"/>
              </a:rPr>
              <a:t>Effect of Catalysts on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943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1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 Solu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The Control of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273-D9F9-4F3D-A24C-E4EAE40C591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822840" y="3770280"/>
            <a:ext cx="2298600" cy="534960"/>
            <a:chOff x="3822840" y="3770280"/>
            <a:chExt cx="2298600" cy="534960"/>
          </a:xfrm>
        </p:grpSpPr>
        <p:sp>
          <p:nvSpPr>
            <p:cNvPr id="154" name=""/>
            <p:cNvSpPr/>
            <p:nvPr/>
          </p:nvSpPr>
          <p:spPr>
            <a:xfrm>
              <a:off x="3822840" y="3770280"/>
              <a:ext cx="457200" cy="5349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15000" y="3770280"/>
              <a:ext cx="457200" cy="5349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64240" y="3770280"/>
              <a:ext cx="457200" cy="53496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994120" y="3770280"/>
            <a:ext cx="457200" cy="534960"/>
          </a:xfrm>
          <a:prstGeom prst="rect">
            <a:avLst/>
          </a:prstGeom>
          <a:solidFill>
            <a:srgbClr val="ffcc99">
              <a:alpha val="50000"/>
            </a:srgbClr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6600" y="129708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The system is again at 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916520"/>
            <a:ext cx="8686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fter enough time has passed, the rates of the forward and reverse reactions become equ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133720"/>
            <a:ext cx="4419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new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2880" y="2743200"/>
            <a:ext cx="3352680" cy="8380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A has 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8440" y="2743200"/>
            <a:ext cx="3352680" cy="83808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s of B, C and D hav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3582720"/>
            <a:ext cx="9142560" cy="915120"/>
            <a:chOff x="0" y="3582720"/>
            <a:chExt cx="9142560" cy="915120"/>
          </a:xfrm>
        </p:grpSpPr>
        <p:sp>
          <p:nvSpPr>
            <p:cNvPr id="164" name=""/>
            <p:cNvSpPr/>
            <p:nvPr/>
          </p:nvSpPr>
          <p:spPr>
            <a:xfrm>
              <a:off x="0" y="371808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 + B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C + 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280040" y="3582720"/>
              <a:ext cx="533160" cy="915120"/>
              <a:chOff x="4280040" y="3582720"/>
              <a:chExt cx="533160" cy="915120"/>
            </a:xfrm>
          </p:grpSpPr>
          <p:sp>
            <p:nvSpPr>
              <p:cNvPr id="166" name=""/>
              <p:cNvSpPr/>
              <p:nvPr/>
            </p:nvSpPr>
            <p:spPr>
              <a:xfrm>
                <a:off x="4280040" y="35827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cc3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280040" y="38548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663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372-1662-4018-9B7C-86D1849CDEBC}" type="slidenum">
              <a:t>20</a:t>
            </a:fld>
          </a:p>
        </p:txBody>
      </p:sp>
    </p:spTree>
  </p:cSld>
  <p:transition spd="slow"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Percent Yie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90C-19B2-4617-8528-A93933EF257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3681000"/>
            <a:ext cx="9142560" cy="891360"/>
            <a:chOff x="0" y="3681000"/>
            <a:chExt cx="9142560" cy="891360"/>
          </a:xfrm>
        </p:grpSpPr>
        <p:sp>
          <p:nvSpPr>
            <p:cNvPr id="170" name=""/>
            <p:cNvSpPr/>
            <p:nvPr/>
          </p:nvSpPr>
          <p:spPr>
            <a:xfrm>
              <a:off x="0" y="38052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I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(g)     2HI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800600" y="3681000"/>
              <a:ext cx="533520" cy="891360"/>
              <a:chOff x="4800600" y="3681000"/>
              <a:chExt cx="533520" cy="891360"/>
            </a:xfrm>
          </p:grpSpPr>
          <p:sp>
            <p:nvSpPr>
              <p:cNvPr id="172" name=""/>
              <p:cNvSpPr/>
              <p:nvPr/>
            </p:nvSpPr>
            <p:spPr>
              <a:xfrm>
                <a:off x="4800600" y="36810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800600" y="39294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"/>
          <p:cNvSpPr/>
          <p:nvPr/>
        </p:nvSpPr>
        <p:spPr>
          <a:xfrm flipH="1">
            <a:off x="3199680" y="232236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140115"/>
              <a:gd name="adj4" fmla="val 12942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to form 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553080" y="2322360"/>
            <a:ext cx="2438640" cy="1068480"/>
          </a:xfrm>
          <a:prstGeom prst="borderCallout1">
            <a:avLst>
              <a:gd name="adj1" fmla="val 18750"/>
              <a:gd name="adj2" fmla="val -8333"/>
              <a:gd name="adj3" fmla="val 140115"/>
              <a:gd name="adj4" fmla="val 12942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 decomposes to form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3500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0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sp>
          <p:nvSpPr>
            <p:cNvPr id="178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itial Concentration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077920" y="4572000"/>
              <a:ext cx="4454640" cy="401760"/>
              <a:chOff x="2077920" y="4572000"/>
              <a:chExt cx="4454640" cy="401760"/>
            </a:xfrm>
          </p:grpSpPr>
          <p:sp>
            <p:nvSpPr>
              <p:cNvPr id="180" name=""/>
              <p:cNvSpPr/>
              <p:nvPr/>
            </p:nvSpPr>
            <p:spPr>
              <a:xfrm>
                <a:off x="2077920" y="4608720"/>
                <a:ext cx="4454640" cy="36504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26120" y="457200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3280" y="45720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01680" y="45720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28600" y="2057400"/>
            <a:ext cx="8913960" cy="4038480"/>
            <a:chOff x="228600" y="2057400"/>
            <a:chExt cx="8913960" cy="4038480"/>
          </a:xfrm>
        </p:grpSpPr>
        <p:grpSp>
          <p:nvGrpSpPr>
            <p:cNvPr id="185" name=""/>
            <p:cNvGrpSpPr/>
            <p:nvPr/>
          </p:nvGrpSpPr>
          <p:grpSpPr>
            <a:xfrm>
              <a:off x="228600" y="2057400"/>
              <a:ext cx="8913960" cy="1828800"/>
              <a:chOff x="228600" y="2057400"/>
              <a:chExt cx="8913960" cy="1828800"/>
            </a:xfrm>
          </p:grpSpPr>
          <p:sp>
            <p:nvSpPr>
              <p:cNvPr id="186" name=""/>
              <p:cNvSpPr/>
              <p:nvPr/>
            </p:nvSpPr>
            <p:spPr>
              <a:xfrm>
                <a:off x="228600" y="2057400"/>
                <a:ext cx="891396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86000" y="3276720"/>
                <a:ext cx="68580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638680" y="3200400"/>
                <a:ext cx="68580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09480" y="4572000"/>
              <a:ext cx="7391520" cy="1523880"/>
              <a:chOff x="609480" y="4572000"/>
              <a:chExt cx="7391520" cy="15238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2077920" y="4572000"/>
                <a:ext cx="4454640" cy="401760"/>
                <a:chOff x="2077920" y="4572000"/>
                <a:chExt cx="4454640" cy="4017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077920" y="4608720"/>
                  <a:ext cx="4454640" cy="365040"/>
                </a:xfrm>
                <a:prstGeom prst="rect">
                  <a:avLst/>
                </a:prstGeom>
                <a:solidFill>
                  <a:srgbClr val="99cc00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26120" y="457200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 m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473280" y="457200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 m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101680" y="457200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 mo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609480" y="5029200"/>
                <a:ext cx="7391520" cy="10666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Final Concentrations in the</a:t>
                </a:r>
                <a:br>
                  <a:rPr sz="3200"/>
                </a:b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bsence of Equilibrium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grpSp>
          <p:nvGrpSpPr>
            <p:cNvPr id="197" name=""/>
            <p:cNvGrpSpPr/>
            <p:nvPr/>
          </p:nvGrpSpPr>
          <p:grpSpPr>
            <a:xfrm>
              <a:off x="2077920" y="4572000"/>
              <a:ext cx="4454640" cy="401760"/>
              <a:chOff x="2077920" y="4572000"/>
              <a:chExt cx="4454640" cy="401760"/>
            </a:xfrm>
          </p:grpSpPr>
          <p:sp>
            <p:nvSpPr>
              <p:cNvPr id="198" name=""/>
              <p:cNvSpPr/>
              <p:nvPr/>
            </p:nvSpPr>
            <p:spPr>
              <a:xfrm>
                <a:off x="2077920" y="4608720"/>
                <a:ext cx="4454640" cy="36504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226120" y="4572000"/>
                <a:ext cx="1295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.58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73280" y="45720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21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01680" y="4572000"/>
                <a:ext cx="129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.21 m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quilibrium Concentrations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66760" y="1295280"/>
            <a:ext cx="8610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equilibrium the rate of HI formation equals the rate of HI decomposi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5160" y="1295280"/>
            <a:ext cx="8953560" cy="1067040"/>
            <a:chOff x="65160" y="1295280"/>
            <a:chExt cx="8953560" cy="1067040"/>
          </a:xfrm>
        </p:grpSpPr>
        <p:sp>
          <p:nvSpPr>
            <p:cNvPr id="205" name=""/>
            <p:cNvSpPr/>
            <p:nvPr/>
          </p:nvSpPr>
          <p:spPr>
            <a:xfrm>
              <a:off x="685800" y="1295280"/>
              <a:ext cx="7772400" cy="10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  forward reaction is 79% complete at equilibrium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160" y="1371600"/>
              <a:ext cx="620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97720" y="1371600"/>
              <a:ext cx="621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2280" y="1109520"/>
            <a:ext cx="8839440" cy="1447560"/>
            <a:chOff x="152280" y="1109520"/>
            <a:chExt cx="8839440" cy="1447560"/>
          </a:xfrm>
        </p:grpSpPr>
        <p:sp>
          <p:nvSpPr>
            <p:cNvPr id="209" name=""/>
            <p:cNvSpPr/>
            <p:nvPr/>
          </p:nvSpPr>
          <p:spPr>
            <a:xfrm>
              <a:off x="152280" y="1109520"/>
              <a:ext cx="883944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1189080" y="1390320"/>
            <a:ext cx="6764400" cy="96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89080" y="1390320"/>
                      <a:ext cx="676440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432-E71C-4B98-B2F5-A33C3B6BAD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47600" y="1219320"/>
          <a:ext cx="883908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4419360"/>
              </a:tblGrid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iginal Equilibriu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w Equilibriu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mol 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+ 1.00 mol 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mol 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+ 1.20 mol 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ield: 79% 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ield: 85% 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librium mixture cont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ilibrium mixture cont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8 mol 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0 mol H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 mol 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 mol 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1 mol 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 mol I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1866960" y="152280"/>
            <a:ext cx="5410080" cy="838440"/>
          </a:xfrm>
          <a:prstGeom prst="rect">
            <a:avLst/>
          </a:prstGeom>
          <a:solidFill>
            <a:srgbClr val="eaeaea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Equilib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294-B0C2-4B12-A8E4-081A8E7B391E}" type="slidenum">
              <a:t>23</a:t>
            </a:fld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3833280"/>
            <a:ext cx="9142560" cy="891360"/>
            <a:chOff x="0" y="3833280"/>
            <a:chExt cx="9142560" cy="891360"/>
          </a:xfrm>
        </p:grpSpPr>
        <p:sp>
          <p:nvSpPr>
            <p:cNvPr id="215" name=""/>
            <p:cNvSpPr/>
            <p:nvPr/>
          </p:nvSpPr>
          <p:spPr>
            <a:xfrm>
              <a:off x="0" y="3957480"/>
              <a:ext cx="9142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Cl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) +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2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l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    HOCl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1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Cl</a:t>
              </a:r>
              <a:r>
                <a:rPr b="0" lang="en-US" sz="31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124080" y="3833280"/>
              <a:ext cx="533520" cy="891360"/>
              <a:chOff x="3124080" y="3833280"/>
              <a:chExt cx="533520" cy="891360"/>
            </a:xfrm>
          </p:grpSpPr>
          <p:sp>
            <p:nvSpPr>
              <p:cNvPr id="217" name=""/>
              <p:cNvSpPr/>
              <p:nvPr/>
            </p:nvSpPr>
            <p:spPr>
              <a:xfrm>
                <a:off x="3124080" y="38332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3124080" y="4081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Concentration Chan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Chlorine Water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2513160"/>
            <a:ext cx="6934320" cy="2896920"/>
            <a:chOff x="1066680" y="2513160"/>
            <a:chExt cx="6934320" cy="2896920"/>
          </a:xfrm>
        </p:grpSpPr>
        <p:sp>
          <p:nvSpPr>
            <p:cNvPr id="221" name=""/>
            <p:cNvSpPr/>
            <p:nvPr/>
          </p:nvSpPr>
          <p:spPr>
            <a:xfrm flipH="1">
              <a:off x="1066680" y="2513160"/>
              <a:ext cx="2438640" cy="106812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129425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crease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143000" y="4665600"/>
              <a:ext cx="6858000" cy="744480"/>
              <a:chOff x="1143000" y="4665600"/>
              <a:chExt cx="6858000" cy="744480"/>
            </a:xfrm>
          </p:grpSpPr>
          <p:sp>
            <p:nvSpPr>
              <p:cNvPr id="223" name=""/>
              <p:cNvSpPr/>
              <p:nvPr/>
            </p:nvSpPr>
            <p:spPr>
              <a:xfrm>
                <a:off x="2666880" y="4665600"/>
                <a:ext cx="381024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le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1143000" y="54100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1143000" y="2514600"/>
            <a:ext cx="6858000" cy="2897280"/>
            <a:chOff x="1143000" y="2514600"/>
            <a:chExt cx="6858000" cy="2897280"/>
          </a:xfrm>
        </p:grpSpPr>
        <p:sp>
          <p:nvSpPr>
            <p:cNvPr id="226" name=""/>
            <p:cNvSpPr/>
            <p:nvPr/>
          </p:nvSpPr>
          <p:spPr>
            <a:xfrm flipH="1">
              <a:off x="2971080" y="2514600"/>
              <a:ext cx="2438280" cy="106848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129425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e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143000" y="4667400"/>
              <a:ext cx="6858000" cy="744480"/>
              <a:chOff x="1143000" y="4667400"/>
              <a:chExt cx="6858000" cy="744480"/>
            </a:xfrm>
          </p:grpSpPr>
          <p:sp>
            <p:nvSpPr>
              <p:cNvPr id="228" name=""/>
              <p:cNvSpPr/>
              <p:nvPr/>
            </p:nvSpPr>
            <p:spPr>
              <a:xfrm>
                <a:off x="2667240" y="4667400"/>
                <a:ext cx="380988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r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43000" y="54118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1143000" y="2514600"/>
            <a:ext cx="6858000" cy="2897280"/>
            <a:chOff x="1143000" y="2514600"/>
            <a:chExt cx="6858000" cy="2897280"/>
          </a:xfrm>
        </p:grpSpPr>
        <p:sp>
          <p:nvSpPr>
            <p:cNvPr id="231" name=""/>
            <p:cNvSpPr/>
            <p:nvPr/>
          </p:nvSpPr>
          <p:spPr>
            <a:xfrm flipH="1">
              <a:off x="4799880" y="2514600"/>
              <a:ext cx="2438280" cy="106848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129425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e HOCl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143000" y="4667400"/>
              <a:ext cx="6858000" cy="744480"/>
              <a:chOff x="1143000" y="4667400"/>
              <a:chExt cx="6858000" cy="744480"/>
            </a:xfrm>
          </p:grpSpPr>
          <p:sp>
            <p:nvSpPr>
              <p:cNvPr id="233" name=""/>
              <p:cNvSpPr/>
              <p:nvPr/>
            </p:nvSpPr>
            <p:spPr>
              <a:xfrm>
                <a:off x="2666880" y="4667400"/>
                <a:ext cx="380988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le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1143000" y="54118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1143000" y="2514600"/>
            <a:ext cx="6858000" cy="2897280"/>
            <a:chOff x="1143000" y="2514600"/>
            <a:chExt cx="6858000" cy="2897280"/>
          </a:xfrm>
        </p:grpSpPr>
        <p:sp>
          <p:nvSpPr>
            <p:cNvPr id="236" name=""/>
            <p:cNvSpPr/>
            <p:nvPr/>
          </p:nvSpPr>
          <p:spPr>
            <a:xfrm flipH="1">
              <a:off x="2818800" y="2514600"/>
              <a:ext cx="2438280" cy="106848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-33074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crease 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143000" y="4667400"/>
              <a:ext cx="6858000" cy="744480"/>
              <a:chOff x="1143000" y="4667400"/>
              <a:chExt cx="6858000" cy="744480"/>
            </a:xfrm>
          </p:grpSpPr>
          <p:sp>
            <p:nvSpPr>
              <p:cNvPr id="238" name=""/>
              <p:cNvSpPr/>
              <p:nvPr/>
            </p:nvSpPr>
            <p:spPr>
              <a:xfrm>
                <a:off x="2667240" y="4667400"/>
                <a:ext cx="380988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righ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143000" y="54118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1143000" y="2514600"/>
            <a:ext cx="6858000" cy="2897280"/>
            <a:chOff x="1143000" y="2514600"/>
            <a:chExt cx="6858000" cy="2897280"/>
          </a:xfrm>
        </p:grpSpPr>
        <p:sp>
          <p:nvSpPr>
            <p:cNvPr id="241" name=""/>
            <p:cNvSpPr/>
            <p:nvPr/>
          </p:nvSpPr>
          <p:spPr>
            <a:xfrm flipH="1">
              <a:off x="4724280" y="2514600"/>
              <a:ext cx="2438640" cy="1068480"/>
            </a:xfrm>
            <a:prstGeom prst="borderCallout1">
              <a:avLst>
                <a:gd name="adj1" fmla="val 18750"/>
                <a:gd name="adj2" fmla="val -8333"/>
                <a:gd name="adj3" fmla="val 136550"/>
                <a:gd name="adj4" fmla="val -33074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rease Cl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oncen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143000" y="4667400"/>
              <a:ext cx="6858000" cy="744480"/>
              <a:chOff x="1143000" y="4667400"/>
              <a:chExt cx="6858000" cy="744480"/>
            </a:xfrm>
          </p:grpSpPr>
          <p:sp>
            <p:nvSpPr>
              <p:cNvPr id="243" name=""/>
              <p:cNvSpPr/>
              <p:nvPr/>
            </p:nvSpPr>
            <p:spPr>
              <a:xfrm>
                <a:off x="2667240" y="4667400"/>
                <a:ext cx="3809880" cy="59220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quilibrium shifts to lef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143000" y="5411880"/>
                <a:ext cx="685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ADE-8D50-477A-9FC1-2331542FD6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3833280"/>
            <a:ext cx="9142560" cy="891360"/>
            <a:chOff x="0" y="3833280"/>
            <a:chExt cx="9142560" cy="891360"/>
          </a:xfrm>
        </p:grpSpPr>
        <p:sp>
          <p:nvSpPr>
            <p:cNvPr id="246" name=""/>
            <p:cNvSpPr/>
            <p:nvPr/>
          </p:nvSpPr>
          <p:spPr>
            <a:xfrm>
              <a:off x="0" y="3957480"/>
              <a:ext cx="9142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) +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l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      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1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4191120" y="3833280"/>
              <a:ext cx="533160" cy="891360"/>
              <a:chOff x="4191120" y="3833280"/>
              <a:chExt cx="533160" cy="891360"/>
            </a:xfrm>
          </p:grpSpPr>
          <p:sp>
            <p:nvSpPr>
              <p:cNvPr id="248" name=""/>
              <p:cNvSpPr/>
              <p:nvPr/>
            </p:nvSpPr>
            <p:spPr>
              <a:xfrm>
                <a:off x="4191120" y="38332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191120" y="408168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0" name=""/>
            <p:cNvGraphicFramePr/>
            <p:nvPr/>
          </p:nvGraphicFramePr>
          <p:xfrm>
            <a:off x="6872400" y="3976560"/>
            <a:ext cx="2157480" cy="579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72400" y="3976560"/>
                      <a:ext cx="215748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2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grpSp>
          <p:nvGrpSpPr>
            <p:cNvPr id="253" name=""/>
            <p:cNvGrpSpPr/>
            <p:nvPr/>
          </p:nvGrpSpPr>
          <p:grpSpPr>
            <a:xfrm>
              <a:off x="2077920" y="4572000"/>
              <a:ext cx="4454640" cy="440640"/>
              <a:chOff x="2077920" y="4572000"/>
              <a:chExt cx="4454640" cy="440640"/>
            </a:xfrm>
          </p:grpSpPr>
          <p:sp>
            <p:nvSpPr>
              <p:cNvPr id="254" name=""/>
              <p:cNvSpPr/>
              <p:nvPr/>
            </p:nvSpPr>
            <p:spPr>
              <a:xfrm>
                <a:off x="2077920" y="4608360"/>
                <a:ext cx="4454640" cy="3654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26120" y="4572000"/>
                <a:ext cx="1295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40120" y="4572000"/>
                <a:ext cx="2851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L 0.100 M HC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101680" y="4572000"/>
                <a:ext cx="12956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quilibrium pH = 2.87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entration Changes on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2200" y="1828800"/>
            <a:ext cx="3809880" cy="5922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0.100 mol N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440" y="2489040"/>
            <a:ext cx="9142560" cy="652320"/>
            <a:chOff x="1440" y="2489040"/>
            <a:chExt cx="9142560" cy="652320"/>
          </a:xfrm>
        </p:grpSpPr>
        <p:sp>
          <p:nvSpPr>
            <p:cNvPr id="262" name=""/>
            <p:cNvSpPr/>
            <p:nvPr/>
          </p:nvSpPr>
          <p:spPr>
            <a:xfrm>
              <a:off x="1440" y="2509920"/>
              <a:ext cx="914256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NaC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1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</a:rPr>
                <a:t>) →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 Na</a:t>
              </a:r>
              <a:r>
                <a:rPr b="0" lang="en-US" sz="31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0066ff"/>
                  </a:solidFill>
                  <a:latin typeface="Arial"/>
                  <a:ea typeface="Arial"/>
                </a:rPr>
                <a:t>) + 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0" lang="en-US" sz="31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1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6013440" y="2489040"/>
            <a:ext cx="2157480" cy="579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3440" y="2489040"/>
                      <a:ext cx="215748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5" name=""/>
          <p:cNvGrpSpPr/>
          <p:nvPr/>
        </p:nvGrpSpPr>
        <p:grpSpPr>
          <a:xfrm>
            <a:off x="1143000" y="3218040"/>
            <a:ext cx="6858000" cy="744480"/>
            <a:chOff x="1143000" y="3218040"/>
            <a:chExt cx="6858000" cy="744480"/>
          </a:xfrm>
        </p:grpSpPr>
        <p:sp>
          <p:nvSpPr>
            <p:cNvPr id="266" name=""/>
            <p:cNvSpPr/>
            <p:nvPr/>
          </p:nvSpPr>
          <p:spPr>
            <a:xfrm>
              <a:off x="2667240" y="3218040"/>
              <a:ext cx="3809880" cy="5922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ilibrium shifts to le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143000" y="396252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grpSp>
          <p:nvGrpSpPr>
            <p:cNvPr id="269" name=""/>
            <p:cNvGrpSpPr/>
            <p:nvPr/>
          </p:nvGrpSpPr>
          <p:grpSpPr>
            <a:xfrm>
              <a:off x="2077920" y="4572000"/>
              <a:ext cx="4454640" cy="440640"/>
              <a:chOff x="2077920" y="4572000"/>
              <a:chExt cx="4454640" cy="440640"/>
            </a:xfrm>
          </p:grpSpPr>
          <p:sp>
            <p:nvSpPr>
              <p:cNvPr id="270" name=""/>
              <p:cNvSpPr/>
              <p:nvPr/>
            </p:nvSpPr>
            <p:spPr>
              <a:xfrm>
                <a:off x="2077920" y="4608360"/>
                <a:ext cx="4454640" cy="3654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26120" y="4572000"/>
                <a:ext cx="1295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40120" y="4572000"/>
                <a:ext cx="2851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L 0.100 M HC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01680" y="4572000"/>
                <a:ext cx="12956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quilibrium pH = 4.74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662200" y="1828800"/>
            <a:ext cx="3809880" cy="5922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0.200 mol N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09480" y="4572000"/>
            <a:ext cx="7391520" cy="1523880"/>
            <a:chOff x="609480" y="4572000"/>
            <a:chExt cx="7391520" cy="1523880"/>
          </a:xfrm>
        </p:grpSpPr>
        <p:grpSp>
          <p:nvGrpSpPr>
            <p:cNvPr id="277" name=""/>
            <p:cNvGrpSpPr/>
            <p:nvPr/>
          </p:nvGrpSpPr>
          <p:grpSpPr>
            <a:xfrm>
              <a:off x="2077920" y="4572000"/>
              <a:ext cx="4454640" cy="440640"/>
              <a:chOff x="2077920" y="4572000"/>
              <a:chExt cx="4454640" cy="440640"/>
            </a:xfrm>
          </p:grpSpPr>
          <p:sp>
            <p:nvSpPr>
              <p:cNvPr id="278" name=""/>
              <p:cNvSpPr/>
              <p:nvPr/>
            </p:nvSpPr>
            <p:spPr>
              <a:xfrm>
                <a:off x="2077920" y="4608360"/>
                <a:ext cx="4454640" cy="365400"/>
              </a:xfrm>
              <a:prstGeom prst="rect">
                <a:avLst/>
              </a:prstGeom>
              <a:solidFill>
                <a:srgbClr val="99cc00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226120" y="4572000"/>
                <a:ext cx="12952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940120" y="4572000"/>
                <a:ext cx="2851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L 0.100 M HC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01680" y="4572000"/>
                <a:ext cx="12956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609480" y="5029200"/>
              <a:ext cx="7391520" cy="10666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quilibrium pH = 5.05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4740120" y="425520"/>
          <a:ext cx="1471680" cy="60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40120" y="425520"/>
                    <a:ext cx="1471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9C7-52A5-4657-AF9C-7088D2BA91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ffect of Volume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n Equilibr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E1B-4525-4119-873E-F92FF9E5CA4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es in volume significantly  affect the reaction rate only when one or more of the reactants or products is a gas and the reaction is run in a closed contai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7280" y="367344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ffect of decreasing the volume is to increase the concentrations of any gaseous reactants or produc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E1C-172D-410A-B460-D854A23C28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9574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a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    CaO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+ 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603600" y="3852360"/>
            <a:ext cx="533520" cy="891360"/>
            <a:chOff x="3603600" y="3852360"/>
            <a:chExt cx="533520" cy="891360"/>
          </a:xfrm>
        </p:grpSpPr>
        <p:sp>
          <p:nvSpPr>
            <p:cNvPr id="291" name=""/>
            <p:cNvSpPr/>
            <p:nvPr/>
          </p:nvSpPr>
          <p:spPr>
            <a:xfrm>
              <a:off x="3603600" y="3852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603600" y="41007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3352680" y="2513160"/>
            <a:ext cx="2438640" cy="1068120"/>
          </a:xfrm>
          <a:prstGeom prst="borderCallout1">
            <a:avLst>
              <a:gd name="adj1" fmla="val 18750"/>
              <a:gd name="adj2" fmla="val -8333"/>
              <a:gd name="adj3" fmla="val 136550"/>
              <a:gd name="adj4" fmla="val -33074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143000" y="4665600"/>
            <a:ext cx="6858000" cy="744480"/>
            <a:chOff x="1143000" y="4665600"/>
            <a:chExt cx="6858000" cy="744480"/>
          </a:xfrm>
        </p:grpSpPr>
        <p:sp>
          <p:nvSpPr>
            <p:cNvPr id="295" name=""/>
            <p:cNvSpPr/>
            <p:nvPr/>
          </p:nvSpPr>
          <p:spPr>
            <a:xfrm>
              <a:off x="2667240" y="4665600"/>
              <a:ext cx="3809880" cy="5922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ilibrium shifts to le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143000" y="541008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662200" y="1447920"/>
            <a:ext cx="3809880" cy="5918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E50-241D-4662-8D63-E57A646F5F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39574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a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    CaO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+ 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603600" y="3852360"/>
            <a:ext cx="533520" cy="891360"/>
            <a:chOff x="3603600" y="3852360"/>
            <a:chExt cx="533520" cy="891360"/>
          </a:xfrm>
        </p:grpSpPr>
        <p:sp>
          <p:nvSpPr>
            <p:cNvPr id="300" name=""/>
            <p:cNvSpPr/>
            <p:nvPr/>
          </p:nvSpPr>
          <p:spPr>
            <a:xfrm>
              <a:off x="3603600" y="38523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603600" y="41007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3352680" y="2513160"/>
            <a:ext cx="2438640" cy="1068120"/>
          </a:xfrm>
          <a:prstGeom prst="borderCallout1">
            <a:avLst>
              <a:gd name="adj1" fmla="val 18750"/>
              <a:gd name="adj2" fmla="val -8333"/>
              <a:gd name="adj3" fmla="val 136550"/>
              <a:gd name="adj4" fmla="val -33074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143000" y="4665600"/>
            <a:ext cx="6858000" cy="744480"/>
            <a:chOff x="1143000" y="4665600"/>
            <a:chExt cx="6858000" cy="744480"/>
          </a:xfrm>
        </p:grpSpPr>
        <p:sp>
          <p:nvSpPr>
            <p:cNvPr id="304" name=""/>
            <p:cNvSpPr/>
            <p:nvPr/>
          </p:nvSpPr>
          <p:spPr>
            <a:xfrm>
              <a:off x="2666880" y="4665600"/>
              <a:ext cx="3810240" cy="5922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ilibrium shifts to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43000" y="541008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662200" y="1447920"/>
            <a:ext cx="3809880" cy="5918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248-B8E8-4CBA-9426-D1352EEEFFA4}" type="slidenum">
              <a:t>29</a:t>
            </a:fld>
          </a:p>
        </p:txBody>
      </p:sp>
    </p:spTree>
  </p:cSld>
  <p:transition spd="slow">
    <p:blinds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</a:t>
            </a:r>
            <a:br>
              <a:rPr sz="4400"/>
            </a:br>
            <a:r>
              <a:rPr b="1" lang="en-US" sz="6900" spc="-1" strike="noStrike" u="sng">
                <a:solidFill>
                  <a:srgbClr val="cc3399"/>
                </a:solidFill>
                <a:uFillTx/>
                <a:latin typeface="Times New Roman"/>
              </a:rPr>
              <a:t>Reversible Reactions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3B7-42E5-45A4-8229-F03BC2F82D6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system composed entirely of gases, a decrease in the volume of the container will cause the reaction and the equilibrium to shift to the side that contains the smallest number of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CCA-C7F1-4B37-8449-5F3C93C4DC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0" y="1634760"/>
            <a:ext cx="9142560" cy="891360"/>
            <a:chOff x="0" y="1634760"/>
            <a:chExt cx="9142560" cy="891360"/>
          </a:xfrm>
        </p:grpSpPr>
        <p:sp>
          <p:nvSpPr>
            <p:cNvPr id="309" name=""/>
            <p:cNvSpPr/>
            <p:nvPr/>
          </p:nvSpPr>
          <p:spPr>
            <a:xfrm>
              <a:off x="0" y="17589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+   3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g)       2N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257800" y="1634760"/>
              <a:ext cx="533520" cy="891360"/>
              <a:chOff x="5257800" y="1634760"/>
              <a:chExt cx="533520" cy="891360"/>
            </a:xfrm>
          </p:grpSpPr>
          <p:sp>
            <p:nvSpPr>
              <p:cNvPr id="311" name=""/>
              <p:cNvSpPr/>
              <p:nvPr/>
            </p:nvSpPr>
            <p:spPr>
              <a:xfrm>
                <a:off x="5257800" y="16347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5257800" y="18831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4981680"/>
            <a:ext cx="9144000" cy="990360"/>
            <a:chOff x="0" y="4981680"/>
            <a:chExt cx="9144000" cy="990360"/>
          </a:xfrm>
        </p:grpSpPr>
        <p:sp>
          <p:nvSpPr>
            <p:cNvPr id="314" name=""/>
            <p:cNvSpPr/>
            <p:nvPr/>
          </p:nvSpPr>
          <p:spPr>
            <a:xfrm>
              <a:off x="0" y="4981680"/>
              <a:ext cx="9144000" cy="83772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quilibrium shifts to the right towards fewer molecule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3000" y="597204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62200" y="884160"/>
            <a:ext cx="3809880" cy="5922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981080" y="2421000"/>
            <a:ext cx="4953240" cy="520560"/>
            <a:chOff x="1981080" y="2421000"/>
            <a:chExt cx="4953240" cy="520560"/>
          </a:xfrm>
        </p:grpSpPr>
        <p:sp>
          <p:nvSpPr>
            <p:cNvPr id="318" name=""/>
            <p:cNvSpPr/>
            <p:nvPr/>
          </p:nvSpPr>
          <p:spPr>
            <a:xfrm>
              <a:off x="19810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672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371600" y="3044880"/>
            <a:ext cx="6172200" cy="825480"/>
            <a:chOff x="1371600" y="3044880"/>
            <a:chExt cx="6172200" cy="825480"/>
          </a:xfrm>
        </p:grpSpPr>
        <p:sp>
          <p:nvSpPr>
            <p:cNvPr id="322" name=""/>
            <p:cNvSpPr/>
            <p:nvPr/>
          </p:nvSpPr>
          <p:spPr>
            <a:xfrm>
              <a:off x="1371600" y="3044880"/>
              <a:ext cx="235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6.02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3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76720" y="3044880"/>
              <a:ext cx="206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1.81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 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79920" y="3044880"/>
              <a:ext cx="206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1.20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33400" y="3610080"/>
            <a:ext cx="3353040" cy="1282680"/>
            <a:chOff x="1733400" y="3610080"/>
            <a:chExt cx="3353040" cy="1282680"/>
          </a:xfrm>
        </p:grpSpPr>
        <p:sp>
          <p:nvSpPr>
            <p:cNvPr id="326" name=""/>
            <p:cNvSpPr/>
            <p:nvPr/>
          </p:nvSpPr>
          <p:spPr>
            <a:xfrm>
              <a:off x="2209680" y="4067280"/>
              <a:ext cx="235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2.41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3219480" y="2123640"/>
              <a:ext cx="380880" cy="33530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87120 h 3353040"/>
                <a:gd name="textAreaBottom" fmla="*/ 3265920 h 335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92C-9AEB-4179-BD56-D515533CA50E}" type="slidenum">
              <a:t>31</a:t>
            </a:fld>
          </a:p>
        </p:txBody>
      </p:sp>
    </p:spTree>
  </p:cSld>
  <p:transition spd="slow">
    <p:blinds dir="ver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1634760"/>
            <a:ext cx="9142560" cy="891360"/>
            <a:chOff x="0" y="1634760"/>
            <a:chExt cx="9142560" cy="891360"/>
          </a:xfrm>
        </p:grpSpPr>
        <p:sp>
          <p:nvSpPr>
            <p:cNvPr id="329" name=""/>
            <p:cNvSpPr/>
            <p:nvPr/>
          </p:nvSpPr>
          <p:spPr>
            <a:xfrm>
              <a:off x="0" y="17589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+   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g)     2NO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172120" y="1634760"/>
              <a:ext cx="533520" cy="891360"/>
              <a:chOff x="5172120" y="1634760"/>
              <a:chExt cx="533520" cy="891360"/>
            </a:xfrm>
          </p:grpSpPr>
          <p:sp>
            <p:nvSpPr>
              <p:cNvPr id="331" name=""/>
              <p:cNvSpPr/>
              <p:nvPr/>
            </p:nvSpPr>
            <p:spPr>
              <a:xfrm>
                <a:off x="5172120" y="16347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172120" y="18831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/>
          <p:cNvSpPr/>
          <p:nvPr/>
        </p:nvSpPr>
        <p:spPr>
          <a:xfrm>
            <a:off x="77760" y="4952880"/>
            <a:ext cx="8988480" cy="8384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does not shift. The number of molecules is the same on both sides of the equ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62200" y="884160"/>
            <a:ext cx="3809880" cy="5922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981080" y="2421000"/>
            <a:ext cx="4953240" cy="520560"/>
            <a:chOff x="1981080" y="2421000"/>
            <a:chExt cx="4953240" cy="520560"/>
          </a:xfrm>
        </p:grpSpPr>
        <p:sp>
          <p:nvSpPr>
            <p:cNvPr id="336" name=""/>
            <p:cNvSpPr/>
            <p:nvPr/>
          </p:nvSpPr>
          <p:spPr>
            <a:xfrm>
              <a:off x="19810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98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67280" y="2421000"/>
              <a:ext cx="106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m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371600" y="3044880"/>
            <a:ext cx="6172200" cy="825480"/>
            <a:chOff x="1371600" y="3044880"/>
            <a:chExt cx="6172200" cy="825480"/>
          </a:xfrm>
        </p:grpSpPr>
        <p:sp>
          <p:nvSpPr>
            <p:cNvPr id="340" name=""/>
            <p:cNvSpPr/>
            <p:nvPr/>
          </p:nvSpPr>
          <p:spPr>
            <a:xfrm>
              <a:off x="1371600" y="3044880"/>
              <a:ext cx="235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6.02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3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76720" y="3044880"/>
              <a:ext cx="206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6.02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3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79920" y="3044880"/>
              <a:ext cx="206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1.20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733400" y="3610080"/>
            <a:ext cx="3353040" cy="1282680"/>
            <a:chOff x="1733400" y="3610080"/>
            <a:chExt cx="3353040" cy="1282680"/>
          </a:xfrm>
        </p:grpSpPr>
        <p:sp>
          <p:nvSpPr>
            <p:cNvPr id="344" name=""/>
            <p:cNvSpPr/>
            <p:nvPr/>
          </p:nvSpPr>
          <p:spPr>
            <a:xfrm>
              <a:off x="2209680" y="4067280"/>
              <a:ext cx="235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1.20 x 10</a:t>
              </a:r>
              <a:r>
                <a:rPr b="1" lang="en-US" sz="2400" spc="-1" strike="noStrike" baseline="30000">
                  <a:solidFill>
                    <a:srgbClr val="33cc33"/>
                  </a:solidFill>
                  <a:latin typeface="Times New Roman"/>
                </a:rPr>
                <a:t>24 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molec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3219480" y="2123640"/>
              <a:ext cx="380880" cy="33530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87120 h 3353040"/>
                <a:gd name="textAreaBottom" fmla="*/ 3265920 h 335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63F-C9F5-4028-B21A-56A1EB926D60}" type="slidenum">
              <a:t>32</a:t>
            </a:fld>
          </a:p>
        </p:txBody>
      </p:sp>
    </p:spTree>
  </p:cSld>
  <p:transition spd="slow">
    <p:blinds dir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7</a:t>
            </a:r>
            <a:br>
              <a:rPr sz="44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Effect of Temperature on Equilibr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B50-F5C6-4F3C-925B-776DA89BB7C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temperature of a system is raised, the rate of reaction incr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2552760"/>
            <a:ext cx="7772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reversible reaction, the rates of both the forward and the reverse reactions are increased by an increase in temper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2324160"/>
            <a:ext cx="77724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ate of the reaction that absorbs heat is increased to a greater extent, and the equilibrium shifts to favor that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94C-5348-4416-A3E5-CA0522D382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143000" y="4908600"/>
            <a:ext cx="6858000" cy="744480"/>
            <a:chOff x="1143000" y="4908600"/>
            <a:chExt cx="6858000" cy="744480"/>
          </a:xfrm>
        </p:grpSpPr>
        <p:sp>
          <p:nvSpPr>
            <p:cNvPr id="352" name=""/>
            <p:cNvSpPr/>
            <p:nvPr/>
          </p:nvSpPr>
          <p:spPr>
            <a:xfrm>
              <a:off x="2666880" y="4908600"/>
              <a:ext cx="3810240" cy="5922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quilibrium shifts to righ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565308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533520" y="2022480"/>
            <a:ext cx="8067600" cy="9334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oom temperature very little CO fo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3595320"/>
            <a:ext cx="9142560" cy="891360"/>
            <a:chOff x="0" y="3595320"/>
            <a:chExt cx="9142560" cy="891360"/>
          </a:xfrm>
        </p:grpSpPr>
        <p:sp>
          <p:nvSpPr>
            <p:cNvPr id="356" name=""/>
            <p:cNvSpPr/>
            <p:nvPr/>
          </p:nvSpPr>
          <p:spPr>
            <a:xfrm>
              <a:off x="0" y="370188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C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heat      2CO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695920" y="3595320"/>
              <a:ext cx="533520" cy="891360"/>
              <a:chOff x="5695920" y="3595320"/>
              <a:chExt cx="533520" cy="891360"/>
            </a:xfrm>
          </p:grpSpPr>
          <p:sp>
            <p:nvSpPr>
              <p:cNvPr id="358" name=""/>
              <p:cNvSpPr/>
              <p:nvPr/>
            </p:nvSpPr>
            <p:spPr>
              <a:xfrm>
                <a:off x="5695920" y="35953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695920" y="38437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304920" y="1203480"/>
            <a:ext cx="8533800" cy="2392200"/>
            <a:chOff x="304920" y="1203480"/>
            <a:chExt cx="8533800" cy="2392200"/>
          </a:xfrm>
        </p:grpSpPr>
        <p:sp>
          <p:nvSpPr>
            <p:cNvPr id="361" name=""/>
            <p:cNvSpPr/>
            <p:nvPr/>
          </p:nvSpPr>
          <p:spPr>
            <a:xfrm>
              <a:off x="7543800" y="1508400"/>
              <a:ext cx="1294920" cy="208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04920" y="1203480"/>
              <a:ext cx="7533720" cy="2392200"/>
              <a:chOff x="304920" y="1203480"/>
              <a:chExt cx="7533720" cy="2392200"/>
            </a:xfrm>
          </p:grpSpPr>
          <p:sp>
            <p:nvSpPr>
              <p:cNvPr id="363" name=""/>
              <p:cNvSpPr/>
              <p:nvPr/>
            </p:nvSpPr>
            <p:spPr>
              <a:xfrm>
                <a:off x="304920" y="1203480"/>
                <a:ext cx="1523880" cy="239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43000" y="2022480"/>
                <a:ext cx="6695640" cy="933480"/>
              </a:xfrm>
              <a:prstGeom prst="rect">
                <a:avLst/>
              </a:prstGeom>
              <a:solidFill>
                <a:srgbClr val="cc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t 1000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 moles CO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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moles C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"/>
          <p:cNvSpPr/>
          <p:nvPr/>
        </p:nvSpPr>
        <p:spPr>
          <a:xfrm>
            <a:off x="1281240" y="533520"/>
            <a:ext cx="6581520" cy="106884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may be treated as a reactant in endothermic re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CB1-025B-4A8E-BE6C-131489C1CAB3}" type="slidenum">
              <a:t>35</a:t>
            </a:fld>
          </a:p>
        </p:txBody>
      </p:sp>
    </p:spTree>
  </p:cSld>
  <p:transition spd="slow">
    <p:blinds dir="vert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8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ffect of Catalyst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n Equilibriu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D80-50A4-481D-A954-1A8BF723F8E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atalyst is a substance that influences the rate of a chemical reaction and can be recovered essentially unchanged at the end of the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3505320"/>
            <a:ext cx="7619760" cy="1644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catalyst does not shift the equilibrium of a reaction.  It affects only the speed at which the equilibrium is reached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7B8-57AF-4DF8-9AC3-46A4F7E2F7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49120" y="998640"/>
            <a:ext cx="8209080" cy="4572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228600"/>
            <a:ext cx="8532720" cy="58140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Diagram for an Exothermic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5715000"/>
            <a:ext cx="807696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energy: the minimum energy required for a reaction to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62840" y="1171440"/>
            <a:ext cx="403200" cy="259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715000"/>
            <a:ext cx="807696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talyst speeds up a reaction by lowering the activation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52840" y="2252520"/>
            <a:ext cx="558720" cy="1381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5715000"/>
            <a:ext cx="8076960" cy="990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talyst does not change the energy of a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57880" y="3505320"/>
            <a:ext cx="365040" cy="138096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3FF-2DD4-4F93-9C23-E27DBC5417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4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9208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Cl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+ S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→ PSCl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8320" y="64764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Cl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095560"/>
            <a:ext cx="9144000" cy="9144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thiophosphoryl chloride is formed in the absence of a catalyst because the reaction is so s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2095560"/>
            <a:ext cx="9144000" cy="9144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esence of an aluminum chloride catalyst the reaction is complete in a few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40006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n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12640" y="46864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0" y="4273560"/>
            <a:ext cx="9144000" cy="1936800"/>
            <a:chOff x="0" y="4273560"/>
            <a:chExt cx="9144000" cy="1936800"/>
          </a:xfrm>
        </p:grpSpPr>
        <p:sp>
          <p:nvSpPr>
            <p:cNvPr id="386" name=""/>
            <p:cNvSpPr/>
            <p:nvPr/>
          </p:nvSpPr>
          <p:spPr>
            <a:xfrm>
              <a:off x="1440" y="42735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2KCl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→ 2KCl + 3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5295960"/>
              <a:ext cx="9144000" cy="9144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laboratory preparation of oxygen uses manganese dioxide as a catalyst to increase the rate of the reaction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AD3-E3C8-465E-B108-FAEE8BCBAE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versible reaction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A chemical reaction in which the products formed react to produce the original react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9A4-5888-4275-BCB2-949935A257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9</a:t>
            </a:r>
            <a:br>
              <a:rPr sz="44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Equilibrium Constant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C92-513A-41ED-8618-D161561323E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38080" y="228456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equilibrium the rates of the forward and reverse reactions are equal, and the concentrations of the reactants and products are con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539-581C-48F5-828E-F4B45B754AD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ilibrium constant (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is a value representing the unchanging concentrations of the reactants and the products in a chemical reaction at equilibri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E13-900F-4E24-AF57-1246B2F62FB9}" type="slidenum">
              <a:t>42</a:t>
            </a:fld>
          </a:p>
        </p:txBody>
      </p:sp>
    </p:spTree>
  </p:cSld>
  <p:transition spd="slow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57200" y="1327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general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1936440"/>
            <a:ext cx="9142560" cy="891360"/>
            <a:chOff x="0" y="1936440"/>
            <a:chExt cx="9142560" cy="891360"/>
          </a:xfrm>
        </p:grpSpPr>
        <p:sp>
          <p:nvSpPr>
            <p:cNvPr id="394" name=""/>
            <p:cNvSpPr/>
            <p:nvPr/>
          </p:nvSpPr>
          <p:spPr>
            <a:xfrm>
              <a:off x="0" y="2060640"/>
              <a:ext cx="914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 +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B     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C +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287960" y="1936440"/>
              <a:ext cx="533160" cy="891360"/>
              <a:chOff x="4287960" y="1936440"/>
              <a:chExt cx="533160" cy="891360"/>
            </a:xfrm>
          </p:grpSpPr>
          <p:sp>
            <p:nvSpPr>
              <p:cNvPr id="396" name=""/>
              <p:cNvSpPr/>
              <p:nvPr/>
            </p:nvSpPr>
            <p:spPr>
              <a:xfrm>
                <a:off x="4287960" y="19364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4287960" y="2184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8" name=""/>
          <p:cNvGraphicFramePr/>
          <p:nvPr/>
        </p:nvGraphicFramePr>
        <p:xfrm>
          <a:off x="2577960" y="3801960"/>
          <a:ext cx="398628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3801960"/>
                    <a:ext cx="39862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461880" y="2698920"/>
            <a:ext cx="42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a given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968-053C-4D57-A31C-3C25D8CE22AE}" type="slidenum">
              <a:t>43</a:t>
            </a:fld>
          </a:p>
        </p:txBody>
      </p:sp>
    </p:spTree>
  </p:cSld>
  <p:transition spd="slow">
    <p:blinds dir="vert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57200" y="13273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0" y="1936440"/>
            <a:ext cx="9142560" cy="891360"/>
            <a:chOff x="0" y="1936440"/>
            <a:chExt cx="9142560" cy="891360"/>
          </a:xfrm>
        </p:grpSpPr>
        <p:sp>
          <p:nvSpPr>
            <p:cNvPr id="403" name=""/>
            <p:cNvSpPr/>
            <p:nvPr/>
          </p:nvSpPr>
          <p:spPr>
            <a:xfrm>
              <a:off x="0" y="20606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        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664160" y="1936440"/>
              <a:ext cx="533160" cy="891360"/>
              <a:chOff x="4664160" y="1936440"/>
              <a:chExt cx="533160" cy="891360"/>
            </a:xfrm>
          </p:grpSpPr>
          <p:sp>
            <p:nvSpPr>
              <p:cNvPr id="405" name=""/>
              <p:cNvSpPr/>
              <p:nvPr/>
            </p:nvSpPr>
            <p:spPr>
              <a:xfrm>
                <a:off x="4664160" y="19364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4664160" y="2184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07" name=""/>
          <p:cNvGraphicFramePr/>
          <p:nvPr/>
        </p:nvGraphicFramePr>
        <p:xfrm>
          <a:off x="2928960" y="3048120"/>
          <a:ext cx="328608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048120"/>
                    <a:ext cx="328608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632-AA8C-4EFC-9E62-683F6A0A2C08}" type="slidenum">
              <a:t>44</a:t>
            </a:fld>
          </a:p>
        </p:txBody>
      </p:sp>
    </p:spTree>
  </p:cSld>
  <p:transition spd="slow">
    <p:blinds dir="vert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1327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0" y="1928520"/>
            <a:ext cx="9142560" cy="891360"/>
            <a:chOff x="0" y="1928520"/>
            <a:chExt cx="9142560" cy="891360"/>
          </a:xfrm>
        </p:grpSpPr>
        <p:sp>
          <p:nvSpPr>
            <p:cNvPr id="411" name=""/>
            <p:cNvSpPr/>
            <p:nvPr/>
          </p:nvSpPr>
          <p:spPr>
            <a:xfrm>
              <a:off x="0" y="205272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        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+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343400" y="1928520"/>
              <a:ext cx="533520" cy="891360"/>
              <a:chOff x="4343400" y="1928520"/>
              <a:chExt cx="533520" cy="891360"/>
            </a:xfrm>
          </p:grpSpPr>
          <p:sp>
            <p:nvSpPr>
              <p:cNvPr id="413" name=""/>
              <p:cNvSpPr/>
              <p:nvPr/>
            </p:nvSpPr>
            <p:spPr>
              <a:xfrm>
                <a:off x="4343400" y="19285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4343400" y="2176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15" name=""/>
          <p:cNvGraphicFramePr/>
          <p:nvPr/>
        </p:nvGraphicFramePr>
        <p:xfrm>
          <a:off x="2614680" y="3048120"/>
          <a:ext cx="39146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4680" y="3048120"/>
                    <a:ext cx="39146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665-448E-4FFF-8886-DA8E7E4F82E2}" type="slidenum">
              <a:t>45</a:t>
            </a:fld>
          </a:p>
        </p:txBody>
      </p:sp>
    </p:spTree>
  </p:cSld>
  <p:transition spd="slow">
    <p:blinds dir="vert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gnitude of an equilibrium constant indicates the extent to which the forward and reverse reactions take pl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1599840"/>
            <a:ext cx="9142560" cy="891360"/>
            <a:chOff x="0" y="1599840"/>
            <a:chExt cx="9142560" cy="891360"/>
          </a:xfrm>
        </p:grpSpPr>
        <p:sp>
          <p:nvSpPr>
            <p:cNvPr id="419" name=""/>
            <p:cNvSpPr/>
            <p:nvPr/>
          </p:nvSpPr>
          <p:spPr>
            <a:xfrm>
              <a:off x="0" y="17240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         </a:t>
              </a:r>
              <a:r>
                <a:rPr b="0" lang="en-US" sz="36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I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664160" y="1599840"/>
              <a:ext cx="533160" cy="891360"/>
              <a:chOff x="4664160" y="1599840"/>
              <a:chExt cx="533160" cy="891360"/>
            </a:xfrm>
          </p:grpSpPr>
          <p:sp>
            <p:nvSpPr>
              <p:cNvPr id="421" name=""/>
              <p:cNvSpPr/>
              <p:nvPr/>
            </p:nvSpPr>
            <p:spPr>
              <a:xfrm>
                <a:off x="4664160" y="1599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664160" y="18482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23" name=""/>
          <p:cNvGraphicFramePr/>
          <p:nvPr/>
        </p:nvGraphicFramePr>
        <p:xfrm>
          <a:off x="517680" y="2403360"/>
          <a:ext cx="66704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2403360"/>
                    <a:ext cx="6670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5" name=""/>
          <p:cNvGrpSpPr/>
          <p:nvPr/>
        </p:nvGrpSpPr>
        <p:grpSpPr>
          <a:xfrm>
            <a:off x="1440" y="4366800"/>
            <a:ext cx="9142560" cy="891360"/>
            <a:chOff x="1440" y="4366800"/>
            <a:chExt cx="9142560" cy="891360"/>
          </a:xfrm>
        </p:grpSpPr>
        <p:sp>
          <p:nvSpPr>
            <p:cNvPr id="426" name=""/>
            <p:cNvSpPr/>
            <p:nvPr/>
          </p:nvSpPr>
          <p:spPr>
            <a:xfrm>
              <a:off x="1440" y="44928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COCl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   C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+ Cl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070520" y="4366800"/>
              <a:ext cx="533160" cy="891360"/>
              <a:chOff x="4070520" y="4366800"/>
              <a:chExt cx="533160" cy="891360"/>
            </a:xfrm>
          </p:grpSpPr>
          <p:sp>
            <p:nvSpPr>
              <p:cNvPr id="428" name=""/>
              <p:cNvSpPr/>
              <p:nvPr/>
            </p:nvSpPr>
            <p:spPr>
              <a:xfrm>
                <a:off x="4070520" y="43668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070520" y="461520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30" name=""/>
          <p:cNvGraphicFramePr/>
          <p:nvPr/>
        </p:nvGraphicFramePr>
        <p:xfrm>
          <a:off x="517680" y="5253120"/>
          <a:ext cx="8107200" cy="12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680" y="5253120"/>
                    <a:ext cx="8107200" cy="12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"/>
          <p:cNvGrpSpPr/>
          <p:nvPr/>
        </p:nvGrpSpPr>
        <p:grpSpPr>
          <a:xfrm>
            <a:off x="4124160" y="2779560"/>
            <a:ext cx="4572000" cy="1595520"/>
            <a:chOff x="4124160" y="2779560"/>
            <a:chExt cx="4572000" cy="1595520"/>
          </a:xfrm>
        </p:grpSpPr>
        <p:sp>
          <p:nvSpPr>
            <p:cNvPr id="433" name=""/>
            <p:cNvSpPr/>
            <p:nvPr/>
          </p:nvSpPr>
          <p:spPr>
            <a:xfrm>
              <a:off x="4124160" y="2779560"/>
              <a:ext cx="1067040" cy="533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24160" y="3429000"/>
              <a:ext cx="4572000" cy="9460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t equilibrium more product than reactant exist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124160" y="3581280"/>
            <a:ext cx="4714920" cy="2546640"/>
            <a:chOff x="4124160" y="3581280"/>
            <a:chExt cx="4714920" cy="2546640"/>
          </a:xfrm>
        </p:grpSpPr>
        <p:sp>
          <p:nvSpPr>
            <p:cNvPr id="436" name=""/>
            <p:cNvSpPr/>
            <p:nvPr/>
          </p:nvSpPr>
          <p:spPr>
            <a:xfrm>
              <a:off x="4419720" y="5518080"/>
              <a:ext cx="2209680" cy="609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124160" y="3581280"/>
              <a:ext cx="4714920" cy="94644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t equilibrium more reactant than product exist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884-01D9-478B-9E82-C0BBBD68C6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838080" y="2009880"/>
            <a:ext cx="74678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molar concentrations of all species in an equilibrium reaction are known,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 be calculated by substituting the concentrations into the equilibrium constant expres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584-A920-4760-9CF6-21A55DE658A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following reaction based on concentrations of 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030 mol/L, P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97 mol/L and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97 mol/L at 30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0" y="1699920"/>
            <a:ext cx="9142560" cy="891360"/>
            <a:chOff x="0" y="1699920"/>
            <a:chExt cx="9142560" cy="891360"/>
          </a:xfrm>
        </p:grpSpPr>
        <p:sp>
          <p:nvSpPr>
            <p:cNvPr id="441" name=""/>
            <p:cNvSpPr/>
            <p:nvPr/>
          </p:nvSpPr>
          <p:spPr>
            <a:xfrm>
              <a:off x="0" y="182412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PCl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5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PCI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l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503880" y="1699920"/>
              <a:ext cx="533160" cy="891360"/>
              <a:chOff x="3503880" y="1699920"/>
              <a:chExt cx="533160" cy="891360"/>
            </a:xfrm>
          </p:grpSpPr>
          <p:sp>
            <p:nvSpPr>
              <p:cNvPr id="443" name=""/>
              <p:cNvSpPr/>
              <p:nvPr/>
            </p:nvSpPr>
            <p:spPr>
              <a:xfrm>
                <a:off x="3503880" y="16999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503880" y="19483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45" name=""/>
          <p:cNvGraphicFramePr/>
          <p:nvPr/>
        </p:nvGraphicFramePr>
        <p:xfrm>
          <a:off x="365040" y="3022560"/>
          <a:ext cx="442764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3022560"/>
                    <a:ext cx="44276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4656240" y="3030480"/>
          <a:ext cx="3954240" cy="12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6240" y="3030480"/>
                    <a:ext cx="395424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9" name=""/>
          <p:cNvGrpSpPr/>
          <p:nvPr/>
        </p:nvGrpSpPr>
        <p:grpSpPr>
          <a:xfrm>
            <a:off x="2728800" y="566640"/>
            <a:ext cx="6345360" cy="3727440"/>
            <a:chOff x="2728800" y="566640"/>
            <a:chExt cx="6345360" cy="3727440"/>
          </a:xfrm>
        </p:grpSpPr>
        <p:sp>
          <p:nvSpPr>
            <p:cNvPr id="450" name=""/>
            <p:cNvSpPr/>
            <p:nvPr/>
          </p:nvSpPr>
          <p:spPr>
            <a:xfrm>
              <a:off x="4657680" y="2990880"/>
              <a:ext cx="2590920" cy="60948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05920" y="577800"/>
              <a:ext cx="768240" cy="50004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28800" y="1089000"/>
              <a:ext cx="838440" cy="44136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7720" y="3684600"/>
              <a:ext cx="1600200" cy="60948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95680" y="566640"/>
              <a:ext cx="1059120" cy="50004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8DD-67E3-4A47-A3AD-FEDB1C04A11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6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0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on Product Constant for Wa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D5A-4EB9-40D4-90AE-C11EFC0D680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1600200"/>
            <a:ext cx="9142560" cy="975240"/>
            <a:chOff x="0" y="1600200"/>
            <a:chExt cx="9142560" cy="975240"/>
          </a:xfrm>
        </p:grpSpPr>
        <p:sp>
          <p:nvSpPr>
            <p:cNvPr id="65" name=""/>
            <p:cNvSpPr/>
            <p:nvPr/>
          </p:nvSpPr>
          <p:spPr>
            <a:xfrm>
              <a:off x="0" y="18572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2N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76640" y="16002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o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40" y="4419720"/>
            <a:ext cx="9142560" cy="962640"/>
            <a:chOff x="1440" y="4419720"/>
            <a:chExt cx="9142560" cy="962640"/>
          </a:xfrm>
        </p:grpSpPr>
        <p:sp>
          <p:nvSpPr>
            <p:cNvPr id="68" name=""/>
            <p:cNvSpPr/>
            <p:nvPr/>
          </p:nvSpPr>
          <p:spPr>
            <a:xfrm>
              <a:off x="1440" y="46641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2N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76640" y="4419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1143000" y="228600"/>
            <a:ext cx="6858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between 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rever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1111320"/>
            <a:ext cx="1752480" cy="869760"/>
          </a:xfrm>
          <a:prstGeom prst="borderCallout1">
            <a:avLst>
              <a:gd name="adj1" fmla="val 18750"/>
              <a:gd name="adj2" fmla="val -8333"/>
              <a:gd name="adj3" fmla="val 93430"/>
              <a:gd name="adj4" fmla="val -6929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3000" y="3122640"/>
            <a:ext cx="3276720" cy="1219320"/>
          </a:xfrm>
          <a:prstGeom prst="borderCallout1">
            <a:avLst>
              <a:gd name="adj1" fmla="val 18750"/>
              <a:gd name="adj2" fmla="val -8333"/>
              <a:gd name="adj3" fmla="val 135546"/>
              <a:gd name="adj4" fmla="val -33092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mposes when heated, forming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E9E9-C085-4F03-8B14-27D4FED208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85800" y="587340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w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(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7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(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7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0" y="533160"/>
            <a:ext cx="9142560" cy="891360"/>
            <a:chOff x="0" y="533160"/>
            <a:chExt cx="9142560" cy="891360"/>
          </a:xfrm>
        </p:grpSpPr>
        <p:sp>
          <p:nvSpPr>
            <p:cNvPr id="459" name=""/>
            <p:cNvSpPr/>
            <p:nvPr/>
          </p:nvSpPr>
          <p:spPr>
            <a:xfrm>
              <a:off x="0" y="65736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O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4267080" y="533160"/>
              <a:ext cx="533520" cy="891360"/>
              <a:chOff x="4267080" y="533160"/>
              <a:chExt cx="533520" cy="891360"/>
            </a:xfrm>
          </p:grpSpPr>
          <p:sp>
            <p:nvSpPr>
              <p:cNvPr id="461" name=""/>
              <p:cNvSpPr/>
              <p:nvPr/>
            </p:nvSpPr>
            <p:spPr>
              <a:xfrm>
                <a:off x="4267080" y="5331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4267080" y="7815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1440" y="1828440"/>
            <a:ext cx="9142560" cy="891360"/>
            <a:chOff x="1440" y="1828440"/>
            <a:chExt cx="9142560" cy="891360"/>
          </a:xfrm>
        </p:grpSpPr>
        <p:sp>
          <p:nvSpPr>
            <p:cNvPr id="464" name=""/>
            <p:cNvSpPr/>
            <p:nvPr/>
          </p:nvSpPr>
          <p:spPr>
            <a:xfrm>
              <a:off x="1440" y="19526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 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O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822840" y="1828440"/>
              <a:ext cx="533160" cy="891360"/>
              <a:chOff x="3822840" y="1828440"/>
              <a:chExt cx="533160" cy="891360"/>
            </a:xfrm>
          </p:grpSpPr>
          <p:sp>
            <p:nvSpPr>
              <p:cNvPr id="466" name=""/>
              <p:cNvSpPr/>
              <p:nvPr/>
            </p:nvSpPr>
            <p:spPr>
              <a:xfrm>
                <a:off x="3822840" y="18284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3822840" y="207684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762120" y="31237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7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mol/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507024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w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4    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T = 25</a:t>
            </a:r>
            <a:r>
              <a:rPr b="0" lang="en-US" sz="3600" spc="-1" strike="noStrike" baseline="30000">
                <a:solidFill>
                  <a:srgbClr val="996633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76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autoionizes to a slight deg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1371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more sim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24382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 equilibr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838680"/>
            <a:ext cx="91407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ater equilibrium constant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s calle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 product constant for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782720" y="3147840"/>
            <a:ext cx="5732640" cy="3421080"/>
            <a:chOff x="1782720" y="3147840"/>
            <a:chExt cx="5732640" cy="3421080"/>
          </a:xfrm>
        </p:grpSpPr>
        <p:sp>
          <p:nvSpPr>
            <p:cNvPr id="475" name=""/>
            <p:cNvSpPr/>
            <p:nvPr/>
          </p:nvSpPr>
          <p:spPr>
            <a:xfrm>
              <a:off x="4010040" y="3147840"/>
              <a:ext cx="3505320" cy="60984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82720" y="5975280"/>
              <a:ext cx="3733920" cy="59364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2CDA-B436-4F42-B094-A23F6675AEC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oncentration of (a)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(b)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 0.001 M HCl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0" y="195264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Cl → 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Cl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1143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l is 100% ion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05040" y="27115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97320"/>
            <a:ext cx="6781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 for [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38360" y="4076640"/>
            <a:ext cx="58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2819520" y="5103720"/>
          <a:ext cx="251748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5103720"/>
                    <a:ext cx="251748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5354640" y="5396040"/>
          <a:ext cx="36003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4640" y="5396040"/>
                    <a:ext cx="36003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290520" y="5157720"/>
          <a:ext cx="2695680" cy="12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520" y="5157720"/>
                    <a:ext cx="26956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979-3D97-44EF-A673-6AC40C8EC1D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H of a 0.010 M NaOH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0" y="195264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NaOH → Na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11430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OH is 100% ion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6668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397320"/>
            <a:ext cx="6781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 for [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38360" y="4076640"/>
            <a:ext cx="5867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w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[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0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776680" y="5103720"/>
          <a:ext cx="251748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5103720"/>
                    <a:ext cx="251748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5340240" y="5419800"/>
          <a:ext cx="364032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0240" y="5419800"/>
                    <a:ext cx="36403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162000" y="5157720"/>
          <a:ext cx="2695680" cy="12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000" y="5157720"/>
                    <a:ext cx="269568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1" name=""/>
          <p:cNvGrpSpPr/>
          <p:nvPr/>
        </p:nvGrpSpPr>
        <p:grpSpPr>
          <a:xfrm>
            <a:off x="0" y="4952880"/>
            <a:ext cx="9142560" cy="1752840"/>
            <a:chOff x="0" y="4952880"/>
            <a:chExt cx="9142560" cy="1752840"/>
          </a:xfrm>
        </p:grpSpPr>
        <p:grpSp>
          <p:nvGrpSpPr>
            <p:cNvPr id="502" name=""/>
            <p:cNvGrpSpPr/>
            <p:nvPr/>
          </p:nvGrpSpPr>
          <p:grpSpPr>
            <a:xfrm>
              <a:off x="0" y="4952880"/>
              <a:ext cx="9142560" cy="1752840"/>
              <a:chOff x="0" y="4952880"/>
              <a:chExt cx="9142560" cy="1752840"/>
            </a:xfrm>
          </p:grpSpPr>
          <p:sp>
            <p:nvSpPr>
              <p:cNvPr id="503" name=""/>
              <p:cNvSpPr/>
              <p:nvPr/>
            </p:nvSpPr>
            <p:spPr>
              <a:xfrm>
                <a:off x="0" y="4952880"/>
                <a:ext cx="9142560" cy="175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7640" y="5419800"/>
                <a:ext cx="3427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</a:rPr>
                  <a:t>pH = - log[H</a:t>
                </a:r>
                <a:r>
                  <a:rPr b="0" lang="en-US" sz="3600" spc="-1" strike="noStrike" baseline="30000">
                    <a:solidFill>
                      <a:srgbClr val="0066ff"/>
                    </a:solidFill>
                    <a:latin typeface="Arial"/>
                  </a:rPr>
                  <a:t>+</a:t>
                </a: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</a:rPr>
                  <a:t>] =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000680" y="5419800"/>
              <a:ext cx="449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- log(1.0 x 10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1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= 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F2B-49E5-460C-83A9-474FF0ECEF1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H of a 0.010 M NaOH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2765520"/>
            <a:ext cx="44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- log(1.0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=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12952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H may also be calculated by first calculating the pO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2765520"/>
            <a:ext cx="37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OH = - log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33920" y="3886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H + pOH =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33920" y="46450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H = 14 - pO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733920" y="540396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pH = 14 – 2 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40" y="3886200"/>
            <a:ext cx="28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pure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40" y="4645080"/>
            <a:ext cx="28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for 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09880" y="2765520"/>
            <a:ext cx="403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B1B-18BF-48A6-9269-5B2FE26755D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304920" y="1676520"/>
          <a:ext cx="8534160" cy="487656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7840"/>
                <a:gridCol w="1706760"/>
                <a:gridCol w="1706400"/>
              </a:tblGrid>
              <a:tr h="81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H+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OH-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84360" y="228600"/>
            <a:ext cx="777528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ions in Water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428-57F1-46B4-8738-7B3C69BF56D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1</a:t>
            </a:r>
            <a:br>
              <a:rPr sz="4400"/>
            </a:br>
            <a:r>
              <a:rPr b="1" lang="en-US" sz="7100" spc="-1" strike="noStrike" u="sng">
                <a:solidFill>
                  <a:srgbClr val="cc3399"/>
                </a:solidFill>
                <a:uFillTx/>
                <a:latin typeface="Times New Roman"/>
              </a:rPr>
              <a:t>Ionization Constants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EAD-856D-4B78-9954-31E118F5D64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685800" y="194580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acids are essentially 100% ionized and do not have ionization const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k acids are slightly ionized and do have ionization consta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A98-B3E7-4B43-BCD9-BECE558E7E2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K</a:t>
            </a:r>
            <a:r>
              <a:rPr b="0" lang="en-US" sz="5400" spc="-1" strike="noStrike" baseline="-25000">
                <a:solidFill>
                  <a:srgbClr val="0066cc"/>
                </a:solidFill>
                <a:latin typeface="Tahoma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EFB-A0A6-409B-B507-B2ABF572E42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"/>
          <p:cNvGrpSpPr/>
          <p:nvPr/>
        </p:nvGrpSpPr>
        <p:grpSpPr>
          <a:xfrm>
            <a:off x="0" y="1458360"/>
            <a:ext cx="9142560" cy="891360"/>
            <a:chOff x="0" y="1458360"/>
            <a:chExt cx="9142560" cy="891360"/>
          </a:xfrm>
        </p:grpSpPr>
        <p:sp>
          <p:nvSpPr>
            <p:cNvPr id="524" name=""/>
            <p:cNvSpPr/>
            <p:nvPr/>
          </p:nvSpPr>
          <p:spPr>
            <a:xfrm>
              <a:off x="0" y="15746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4343400" y="1458360"/>
              <a:ext cx="533520" cy="891360"/>
              <a:chOff x="4343400" y="1458360"/>
              <a:chExt cx="533520" cy="891360"/>
            </a:xfrm>
          </p:grpSpPr>
          <p:sp>
            <p:nvSpPr>
              <p:cNvPr id="526" name=""/>
              <p:cNvSpPr/>
              <p:nvPr/>
            </p:nvSpPr>
            <p:spPr>
              <a:xfrm>
                <a:off x="4343400" y="14583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4343400" y="17067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28" name=""/>
            <p:cNvGraphicFramePr/>
            <p:nvPr/>
          </p:nvGraphicFramePr>
          <p:xfrm>
            <a:off x="5996160" y="1550520"/>
            <a:ext cx="1633320" cy="68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6160" y="1550520"/>
                      <a:ext cx="1633320" cy="68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0" name=""/>
          <p:cNvSpPr/>
          <p:nvPr/>
        </p:nvSpPr>
        <p:spPr>
          <a:xfrm>
            <a:off x="762120" y="25704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cetic acid ionizes in water,  the following equilibrium is establish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40" y="248436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ionization constant for this equilibriu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2286000" y="3260880"/>
          <a:ext cx="4016520" cy="13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60880"/>
                    <a:ext cx="401652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1440" y="4773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id ionization 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2280" y="5486400"/>
            <a:ext cx="8839440" cy="1226160"/>
          </a:xfrm>
          <a:prstGeom prst="rect">
            <a:avLst/>
          </a:prstGeom>
          <a:solidFill>
            <a:srgbClr val="99ccff"/>
          </a:solidFill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nce the concentration of water is large and does not change appreciably, it is omitted from K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C11-1F32-4FF1-9EE7-F9CBD3C042F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a 0.100 M solution of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1.34% ionized and has an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f 1.34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/L.  Calculat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cetic acid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0" y="1699920"/>
            <a:ext cx="9142560" cy="891360"/>
            <a:chOff x="0" y="1699920"/>
            <a:chExt cx="9142560" cy="891360"/>
          </a:xfrm>
        </p:grpSpPr>
        <p:sp>
          <p:nvSpPr>
            <p:cNvPr id="538" name=""/>
            <p:cNvSpPr/>
            <p:nvPr/>
          </p:nvSpPr>
          <p:spPr>
            <a:xfrm>
              <a:off x="0" y="18162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4343400" y="1699920"/>
              <a:ext cx="533520" cy="891360"/>
              <a:chOff x="4343400" y="1699920"/>
              <a:chExt cx="533520" cy="891360"/>
            </a:xfrm>
          </p:grpSpPr>
          <p:sp>
            <p:nvSpPr>
              <p:cNvPr id="540" name=""/>
              <p:cNvSpPr/>
              <p:nvPr/>
            </p:nvSpPr>
            <p:spPr>
              <a:xfrm>
                <a:off x="4343400" y="1699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4343400" y="19483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42" name=""/>
            <p:cNvGraphicFramePr/>
            <p:nvPr/>
          </p:nvGraphicFramePr>
          <p:xfrm>
            <a:off x="5996160" y="1792080"/>
            <a:ext cx="1633320" cy="68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6160" y="1792080"/>
                      <a:ext cx="163332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4" name=""/>
          <p:cNvGrpSpPr/>
          <p:nvPr/>
        </p:nvGrpSpPr>
        <p:grpSpPr>
          <a:xfrm>
            <a:off x="473040" y="2639880"/>
            <a:ext cx="9128160" cy="1891080"/>
            <a:chOff x="473040" y="2639880"/>
            <a:chExt cx="9128160" cy="1891080"/>
          </a:xfrm>
        </p:grpSpPr>
        <p:sp>
          <p:nvSpPr>
            <p:cNvPr id="545" name=""/>
            <p:cNvSpPr/>
            <p:nvPr/>
          </p:nvSpPr>
          <p:spPr>
            <a:xfrm>
              <a:off x="473040" y="2639880"/>
              <a:ext cx="9128160" cy="18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ecause each molecule of  HC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at ionizes yields one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nd one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 the concentrations of the two ions are equal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6" name=""/>
            <p:cNvGraphicFramePr/>
            <p:nvPr/>
          </p:nvGraphicFramePr>
          <p:xfrm>
            <a:off x="6045120" y="3240000"/>
            <a:ext cx="1527120" cy="62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45120" y="3240000"/>
                      <a:ext cx="1527120" cy="62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48" name=""/>
          <p:cNvGraphicFramePr/>
          <p:nvPr/>
        </p:nvGraphicFramePr>
        <p:xfrm>
          <a:off x="1125360" y="4324320"/>
          <a:ext cx="6893280" cy="62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25360" y="4324320"/>
                    <a:ext cx="68932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0" y="518148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es of un-ionized acetic acid per liter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440" y="571500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0.100 mol/L – 0.00134 mol/L = 0.099 mol/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F50-221A-4371-AF30-7D34A90261D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447920" y="228600"/>
            <a:ext cx="1127160" cy="2260440"/>
            <a:chOff x="1447920" y="228600"/>
            <a:chExt cx="1127160" cy="226044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18215" t="16809" r="20863" b="12347"/>
            <a:stretch/>
          </p:blipFill>
          <p:spPr>
            <a:xfrm>
              <a:off x="1447920" y="228600"/>
              <a:ext cx="105084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18215" t="16809" r="20863" b="12347"/>
            <a:stretch/>
          </p:blipFill>
          <p:spPr>
            <a:xfrm>
              <a:off x="1523880" y="1676160"/>
              <a:ext cx="105120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3"/>
          <a:srcRect l="18797" t="0" r="15991" b="11233"/>
          <a:stretch/>
        </p:blipFill>
        <p:spPr>
          <a:xfrm>
            <a:off x="228600" y="533520"/>
            <a:ext cx="1114560" cy="10094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533520" y="2476440"/>
            <a:ext cx="2270160" cy="1600200"/>
            <a:chOff x="533520" y="2476440"/>
            <a:chExt cx="2270160" cy="1600200"/>
          </a:xfrm>
        </p:grpSpPr>
        <p:pic>
          <p:nvPicPr>
            <p:cNvPr id="78" name="" descr=""/>
            <p:cNvPicPr/>
            <p:nvPr/>
          </p:nvPicPr>
          <p:blipFill>
            <a:blip r:embed="rId4"/>
            <a:srcRect l="18215" t="16809" r="20863" b="12347"/>
            <a:stretch/>
          </p:blipFill>
          <p:spPr>
            <a:xfrm>
              <a:off x="533520" y="3263760"/>
              <a:ext cx="105084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rcRect l="18215" t="16809" r="20863" b="12347"/>
            <a:stretch/>
          </p:blipFill>
          <p:spPr>
            <a:xfrm>
              <a:off x="1752480" y="2476440"/>
              <a:ext cx="105120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6"/>
          <a:srcRect l="18797" t="0" r="15991" b="11233"/>
          <a:stretch/>
        </p:blipFill>
        <p:spPr>
          <a:xfrm>
            <a:off x="1905120" y="3505320"/>
            <a:ext cx="1114200" cy="100944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2286000" y="5410080"/>
            <a:ext cx="3794040" cy="1295280"/>
            <a:chOff x="2286000" y="5410080"/>
            <a:chExt cx="3794040" cy="1295280"/>
          </a:xfrm>
        </p:grpSpPr>
        <p:pic>
          <p:nvPicPr>
            <p:cNvPr id="82" name="" descr=""/>
            <p:cNvPicPr/>
            <p:nvPr/>
          </p:nvPicPr>
          <p:blipFill>
            <a:blip r:embed="rId7"/>
            <a:srcRect l="18215" t="16809" r="20863" b="12347"/>
            <a:stretch/>
          </p:blipFill>
          <p:spPr>
            <a:xfrm>
              <a:off x="2286000" y="5410080"/>
              <a:ext cx="105084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8"/>
            <a:srcRect l="18215" t="16809" r="20863" b="12347"/>
            <a:stretch/>
          </p:blipFill>
          <p:spPr>
            <a:xfrm>
              <a:off x="5029200" y="5892480"/>
              <a:ext cx="105084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9"/>
          <a:srcRect l="18797" t="0" r="15991" b="11233"/>
          <a:stretch/>
        </p:blipFill>
        <p:spPr>
          <a:xfrm>
            <a:off x="5715000" y="4724280"/>
            <a:ext cx="11145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019920" y="3429000"/>
            <a:ext cx="2193840" cy="1930320"/>
            <a:chOff x="6019920" y="3429000"/>
            <a:chExt cx="2193840" cy="1930320"/>
          </a:xfrm>
        </p:grpSpPr>
        <p:pic>
          <p:nvPicPr>
            <p:cNvPr id="86" name="" descr=""/>
            <p:cNvPicPr/>
            <p:nvPr/>
          </p:nvPicPr>
          <p:blipFill>
            <a:blip r:embed="rId10"/>
            <a:srcRect l="18215" t="16809" r="20863" b="12347"/>
            <a:stretch/>
          </p:blipFill>
          <p:spPr>
            <a:xfrm>
              <a:off x="7162920" y="4546440"/>
              <a:ext cx="105084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11"/>
            <a:srcRect l="18215" t="16809" r="20863" b="12347"/>
            <a:stretch/>
          </p:blipFill>
          <p:spPr>
            <a:xfrm>
              <a:off x="6019920" y="3429000"/>
              <a:ext cx="1050840" cy="812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" descr=""/>
          <p:cNvPicPr/>
          <p:nvPr/>
        </p:nvPicPr>
        <p:blipFill>
          <a:blip r:embed="rId12"/>
          <a:srcRect l="18797" t="0" r="15991" b="11233"/>
          <a:stretch/>
        </p:blipFill>
        <p:spPr>
          <a:xfrm>
            <a:off x="4495680" y="3886200"/>
            <a:ext cx="11145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3886200" y="2362320"/>
            <a:ext cx="2117880" cy="1041120"/>
            <a:chOff x="3886200" y="2362320"/>
            <a:chExt cx="2117880" cy="1041120"/>
          </a:xfrm>
        </p:grpSpPr>
        <p:pic>
          <p:nvPicPr>
            <p:cNvPr id="90" name="" descr=""/>
            <p:cNvPicPr/>
            <p:nvPr/>
          </p:nvPicPr>
          <p:blipFill>
            <a:blip r:embed="rId13"/>
            <a:srcRect l="18215" t="16809" r="20863" b="12347"/>
            <a:stretch/>
          </p:blipFill>
          <p:spPr>
            <a:xfrm>
              <a:off x="4953240" y="2362320"/>
              <a:ext cx="105084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4"/>
            <a:srcRect l="18215" t="16809" r="20863" b="12347"/>
            <a:stretch/>
          </p:blipFill>
          <p:spPr>
            <a:xfrm>
              <a:off x="3886200" y="2590920"/>
              <a:ext cx="1051200" cy="81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15"/>
          <a:srcRect l="18797" t="0" r="15991" b="11233"/>
          <a:stretch/>
        </p:blipFill>
        <p:spPr>
          <a:xfrm>
            <a:off x="6324480" y="2209680"/>
            <a:ext cx="11145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0" y="861480"/>
            <a:ext cx="9142560" cy="891360"/>
            <a:chOff x="0" y="861480"/>
            <a:chExt cx="9142560" cy="891360"/>
          </a:xfrm>
        </p:grpSpPr>
        <p:sp>
          <p:nvSpPr>
            <p:cNvPr id="94" name=""/>
            <p:cNvSpPr/>
            <p:nvPr/>
          </p:nvSpPr>
          <p:spPr>
            <a:xfrm>
              <a:off x="0" y="98568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2N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        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N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g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90840" y="861480"/>
              <a:ext cx="533520" cy="891360"/>
              <a:chOff x="4290840" y="861480"/>
              <a:chExt cx="533520" cy="891360"/>
            </a:xfrm>
          </p:grpSpPr>
          <p:sp>
            <p:nvSpPr>
              <p:cNvPr id="96" name=""/>
              <p:cNvSpPr/>
              <p:nvPr/>
            </p:nvSpPr>
            <p:spPr>
              <a:xfrm>
                <a:off x="4290840" y="8614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60093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4290840" y="11098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cc00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" name=""/>
          <p:cNvSpPr/>
          <p:nvPr/>
        </p:nvSpPr>
        <p:spPr>
          <a:xfrm>
            <a:off x="2933640" y="5335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reaction to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33640" y="16146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reaction to the le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953-3FBE-400D-91E6-4B3852A7ED84}" type="slidenum">
              <a:t>6</a:t>
            </a:fld>
          </a:p>
        </p:txBody>
      </p:sp>
    </p:spTree>
  </p:cSld>
  <p:transition spd="slow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4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evt="end">
                                        <p:tn val="96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2563920" y="3002040"/>
          <a:ext cx="4016160" cy="13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3920" y="3002040"/>
                    <a:ext cx="401616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85800" y="4681440"/>
          <a:ext cx="5492880" cy="13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681440"/>
                    <a:ext cx="54928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140520" y="5064120"/>
          <a:ext cx="238104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0520" y="5064120"/>
                    <a:ext cx="23810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8" name=""/>
          <p:cNvGrpSpPr/>
          <p:nvPr/>
        </p:nvGrpSpPr>
        <p:grpSpPr>
          <a:xfrm>
            <a:off x="666720" y="1504800"/>
            <a:ext cx="6988320" cy="1346760"/>
            <a:chOff x="666720" y="1504800"/>
            <a:chExt cx="6988320" cy="1346760"/>
          </a:xfrm>
        </p:grpSpPr>
        <p:graphicFrame>
          <p:nvGraphicFramePr>
            <p:cNvPr id="559" name=""/>
            <p:cNvGraphicFramePr/>
            <p:nvPr/>
          </p:nvGraphicFramePr>
          <p:xfrm>
            <a:off x="762120" y="1504800"/>
            <a:ext cx="6892920" cy="628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120" y="1504800"/>
                      <a:ext cx="689292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1" name=""/>
            <p:cNvSpPr/>
            <p:nvPr/>
          </p:nvSpPr>
          <p:spPr>
            <a:xfrm>
              <a:off x="666720" y="2133360"/>
              <a:ext cx="52578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[HC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] = 0.099 mol/L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28600" y="228600"/>
            <a:ext cx="609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7760" y="0"/>
            <a:ext cx="7846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e these concentrations into the equilibrium expression and solve for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E6C-C569-44C0-ACDC-16443039B40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15840" y="4660920"/>
            <a:ext cx="9128160" cy="1891080"/>
            <a:chOff x="15840" y="4660920"/>
            <a:chExt cx="9128160" cy="1891080"/>
          </a:xfrm>
        </p:grpSpPr>
        <p:sp>
          <p:nvSpPr>
            <p:cNvPr id="565" name=""/>
            <p:cNvSpPr/>
            <p:nvPr/>
          </p:nvSpPr>
          <p:spPr>
            <a:xfrm>
              <a:off x="15840" y="4660920"/>
              <a:ext cx="9128160" cy="189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ecause each molecule of  HC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at ionizes yields one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nd one 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Times New Roman"/>
                </a:rPr>
                <a:t>2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, the concentrations of the two ions are equal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6" name=""/>
            <p:cNvGraphicFramePr/>
            <p:nvPr/>
          </p:nvGraphicFramePr>
          <p:xfrm>
            <a:off x="5587920" y="5261040"/>
            <a:ext cx="1527120" cy="625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87920" y="5261040"/>
                      <a:ext cx="1527120" cy="62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8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a 0.50 M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?  The ionization constant,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for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1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0" y="2361960"/>
            <a:ext cx="9142560" cy="891360"/>
            <a:chOff x="0" y="2361960"/>
            <a:chExt cx="9142560" cy="891360"/>
          </a:xfrm>
        </p:grpSpPr>
        <p:sp>
          <p:nvSpPr>
            <p:cNvPr id="570" name=""/>
            <p:cNvSpPr/>
            <p:nvPr/>
          </p:nvSpPr>
          <p:spPr>
            <a:xfrm>
              <a:off x="0" y="24782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4343400" y="2361960"/>
              <a:ext cx="533520" cy="891360"/>
              <a:chOff x="4343400" y="2361960"/>
              <a:chExt cx="533520" cy="891360"/>
            </a:xfrm>
          </p:grpSpPr>
          <p:sp>
            <p:nvSpPr>
              <p:cNvPr id="572" name=""/>
              <p:cNvSpPr/>
              <p:nvPr/>
            </p:nvSpPr>
            <p:spPr>
              <a:xfrm>
                <a:off x="4343400" y="23619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4343400" y="261036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74" name=""/>
            <p:cNvGraphicFramePr/>
            <p:nvPr/>
          </p:nvGraphicFramePr>
          <p:xfrm>
            <a:off x="5996160" y="2454120"/>
            <a:ext cx="1633320" cy="68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96160" y="2454120"/>
                      <a:ext cx="163332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76" name=""/>
          <p:cNvSpPr/>
          <p:nvPr/>
        </p:nvSpPr>
        <p:spPr>
          <a:xfrm>
            <a:off x="1440" y="1447920"/>
            <a:ext cx="9142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ilibrium expression and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H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2590920" y="3176640"/>
          <a:ext cx="4016160" cy="13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3176640"/>
                    <a:ext cx="401616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9" name=""/>
          <p:cNvGrpSpPr/>
          <p:nvPr/>
        </p:nvGrpSpPr>
        <p:grpSpPr>
          <a:xfrm>
            <a:off x="3930480" y="4651200"/>
            <a:ext cx="4797720" cy="671760"/>
            <a:chOff x="3930480" y="4651200"/>
            <a:chExt cx="4797720" cy="671760"/>
          </a:xfrm>
        </p:grpSpPr>
        <p:sp>
          <p:nvSpPr>
            <p:cNvPr id="580" name=""/>
            <p:cNvSpPr/>
            <p:nvPr/>
          </p:nvSpPr>
          <p:spPr>
            <a:xfrm>
              <a:off x="3930480" y="4665600"/>
              <a:ext cx="3276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Let Y = [H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]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1" name=""/>
            <p:cNvGraphicFramePr/>
            <p:nvPr/>
          </p:nvGraphicFramePr>
          <p:xfrm>
            <a:off x="6850080" y="4651200"/>
            <a:ext cx="1878120" cy="671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50080" y="4651200"/>
                      <a:ext cx="1878120" cy="6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83" name=""/>
          <p:cNvGraphicFramePr/>
          <p:nvPr/>
        </p:nvGraphicFramePr>
        <p:xfrm>
          <a:off x="415800" y="4672080"/>
          <a:ext cx="3035520" cy="628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5800" y="4672080"/>
                    <a:ext cx="30355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0" y="53784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[HC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] at equilibrium is 0.50 – 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5A0-DEDB-4E70-B0ED-024AB7D0879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152280"/>
            <a:ext cx="91425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e these values into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2563920" y="1647720"/>
          <a:ext cx="401616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3920" y="1647720"/>
                    <a:ext cx="4016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9" name=""/>
          <p:cNvGrpSpPr/>
          <p:nvPr/>
        </p:nvGrpSpPr>
        <p:grpSpPr>
          <a:xfrm>
            <a:off x="152280" y="936720"/>
            <a:ext cx="4043520" cy="671400"/>
            <a:chOff x="152280" y="936720"/>
            <a:chExt cx="4043520" cy="671400"/>
          </a:xfrm>
        </p:grpSpPr>
        <p:sp>
          <p:nvSpPr>
            <p:cNvPr id="590" name=""/>
            <p:cNvSpPr/>
            <p:nvPr/>
          </p:nvSpPr>
          <p:spPr>
            <a:xfrm>
              <a:off x="152280" y="950760"/>
              <a:ext cx="2241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Y = [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] 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1" name=""/>
            <p:cNvGraphicFramePr/>
            <p:nvPr/>
          </p:nvGraphicFramePr>
          <p:xfrm>
            <a:off x="2317680" y="936720"/>
            <a:ext cx="1878120" cy="67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17680" y="936720"/>
                      <a:ext cx="1878120" cy="67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3" name=""/>
          <p:cNvSpPr/>
          <p:nvPr/>
        </p:nvSpPr>
        <p:spPr>
          <a:xfrm>
            <a:off x="4724280" y="952560"/>
            <a:ext cx="4267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C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= 0.50 -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515880" y="3036960"/>
          <a:ext cx="8112240" cy="123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5880" y="3036960"/>
                    <a:ext cx="81122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515880" y="3036960"/>
            <a:ext cx="8323200" cy="1239840"/>
            <a:chOff x="515880" y="3036960"/>
            <a:chExt cx="8323200" cy="1239840"/>
          </a:xfrm>
        </p:grpSpPr>
        <p:graphicFrame>
          <p:nvGraphicFramePr>
            <p:cNvPr id="597" name=""/>
            <p:cNvGraphicFramePr/>
            <p:nvPr/>
          </p:nvGraphicFramePr>
          <p:xfrm>
            <a:off x="515880" y="3036960"/>
            <a:ext cx="7050240" cy="123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5880" y="3036960"/>
                      <a:ext cx="7050240" cy="12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9" name=""/>
            <p:cNvSpPr/>
            <p:nvPr/>
          </p:nvSpPr>
          <p:spPr>
            <a:xfrm>
              <a:off x="7543800" y="3048120"/>
              <a:ext cx="1295280" cy="9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6320" y="4800600"/>
            <a:ext cx="4975200" cy="1219320"/>
          </a:xfrm>
          <a:prstGeom prst="borderCallout1">
            <a:avLst>
              <a:gd name="adj1" fmla="val 18750"/>
              <a:gd name="adj2" fmla="val -8333"/>
              <a:gd name="adj3" fmla="val -42055"/>
              <a:gd name="adj4" fmla="val 11384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Y is small compared to 0.50 -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62040" y="4800600"/>
            <a:ext cx="4367160" cy="1219320"/>
          </a:xfrm>
          <a:prstGeom prst="borderCallout1">
            <a:avLst>
              <a:gd name="adj1" fmla="val 18750"/>
              <a:gd name="adj2" fmla="val -8333"/>
              <a:gd name="adj3" fmla="val -40625"/>
              <a:gd name="adj4" fmla="val 115958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0.50 –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0" y="2838600"/>
            <a:ext cx="9600840" cy="3581280"/>
            <a:chOff x="0" y="2838600"/>
            <a:chExt cx="9600840" cy="3581280"/>
          </a:xfrm>
        </p:grpSpPr>
        <p:grpSp>
          <p:nvGrpSpPr>
            <p:cNvPr id="603" name=""/>
            <p:cNvGrpSpPr/>
            <p:nvPr/>
          </p:nvGrpSpPr>
          <p:grpSpPr>
            <a:xfrm>
              <a:off x="304560" y="2838600"/>
              <a:ext cx="9296280" cy="1523520"/>
              <a:chOff x="304560" y="2838600"/>
              <a:chExt cx="9296280" cy="1523520"/>
            </a:xfrm>
          </p:grpSpPr>
          <p:graphicFrame>
            <p:nvGraphicFramePr>
              <p:cNvPr id="604" name=""/>
              <p:cNvGraphicFramePr/>
              <p:nvPr/>
            </p:nvGraphicFramePr>
            <p:xfrm>
              <a:off x="3047760" y="3046320"/>
              <a:ext cx="3840120" cy="12394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60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047760" y="3046320"/>
                        <a:ext cx="3840120" cy="1239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06" name=""/>
              <p:cNvSpPr/>
              <p:nvPr/>
            </p:nvSpPr>
            <p:spPr>
              <a:xfrm>
                <a:off x="304560" y="2914560"/>
                <a:ext cx="2743200" cy="144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57640" y="2838600"/>
                <a:ext cx="2743200" cy="144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0" y="4286160"/>
              <a:ext cx="9523440" cy="21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9" name=""/>
          <p:cNvGraphicFramePr/>
          <p:nvPr/>
        </p:nvGraphicFramePr>
        <p:xfrm>
          <a:off x="2081160" y="5067360"/>
          <a:ext cx="4981680" cy="571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81160" y="5067360"/>
                    <a:ext cx="49816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1440" y="4327560"/>
            <a:ext cx="91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for 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CB3-90FC-4197-A057-FB3E8D3C03A9}" type="slidenum">
              <a:t>62</a:t>
            </a:fld>
          </a:p>
        </p:txBody>
      </p:sp>
    </p:spTree>
  </p:cSld>
  <p:transition spd="slow">
    <p:blinds dir="vert"/>
  </p:transition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8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8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7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440" y="0"/>
            <a:ext cx="9142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ke the square root of both sides of the equ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057400" y="609480"/>
          <a:ext cx="498168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09480"/>
                    <a:ext cx="49816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2816280" y="619200"/>
            <a:ext cx="5533560" cy="571320"/>
            <a:chOff x="2816280" y="619200"/>
            <a:chExt cx="5533560" cy="571320"/>
          </a:xfrm>
        </p:grpSpPr>
        <p:sp>
          <p:nvSpPr>
            <p:cNvPr id="616" name=""/>
            <p:cNvSpPr/>
            <p:nvPr/>
          </p:nvSpPr>
          <p:spPr>
            <a:xfrm>
              <a:off x="4267080" y="657000"/>
              <a:ext cx="34290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2816280" y="619200"/>
              <a:ext cx="5533560" cy="571320"/>
              <a:chOff x="2816280" y="619200"/>
              <a:chExt cx="5533560" cy="571320"/>
            </a:xfrm>
          </p:grpSpPr>
          <p:graphicFrame>
            <p:nvGraphicFramePr>
              <p:cNvPr id="618" name=""/>
              <p:cNvGraphicFramePr/>
              <p:nvPr/>
            </p:nvGraphicFramePr>
            <p:xfrm>
              <a:off x="2816280" y="619200"/>
              <a:ext cx="2757240" cy="571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16280" y="619200"/>
                        <a:ext cx="2757240" cy="57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20" name=""/>
              <p:cNvGraphicFramePr/>
              <p:nvPr/>
            </p:nvGraphicFramePr>
            <p:xfrm>
              <a:off x="5730840" y="619200"/>
              <a:ext cx="2619000" cy="571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30840" y="619200"/>
                        <a:ext cx="2619000" cy="57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22" name=""/>
          <p:cNvGraphicFramePr/>
          <p:nvPr/>
        </p:nvGraphicFramePr>
        <p:xfrm>
          <a:off x="685800" y="1371600"/>
          <a:ext cx="7816680" cy="68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371600"/>
                    <a:ext cx="78166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981080" y="2362320"/>
          <a:ext cx="500076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81080" y="2362320"/>
                    <a:ext cx="50007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905040" y="3429000"/>
            <a:ext cx="7333920" cy="21337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no approximation and using the quadratic equation the answer is 2.99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l/L, showing that it was justified to assume Y was small compared to 0.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8E7-2F95-43A4-A08A-5AD55CBD5EF5}" type="slidenum">
              <a:t>63</a:t>
            </a:fld>
          </a:p>
        </p:txBody>
      </p:sp>
    </p:spTree>
  </p:cSld>
  <p:transition spd="slow">
    <p:blinds dir="vert"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746280"/>
            <a:ext cx="91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quadratic equation 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2612880" y="1722600"/>
          <a:ext cx="3918240" cy="13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2880" y="1722600"/>
                    <a:ext cx="391824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1440" y="3336840"/>
            <a:ext cx="914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equati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by + c =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16D-B44B-4FB5-8FE1-278B7231A2C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ercent ionization in a 0.50 M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332100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ionization is give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90360" y="4572000"/>
          <a:ext cx="89614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4572000"/>
                    <a:ext cx="89614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"/>
          <p:cNvSpPr/>
          <p:nvPr/>
        </p:nvSpPr>
        <p:spPr>
          <a:xfrm>
            <a:off x="0" y="149220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onization of a weak acid is give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009960" y="2385720"/>
            <a:ext cx="3122640" cy="891360"/>
            <a:chOff x="3009960" y="2385720"/>
            <a:chExt cx="3122640" cy="891360"/>
          </a:xfrm>
        </p:grpSpPr>
        <p:sp>
          <p:nvSpPr>
            <p:cNvPr id="638" name=""/>
            <p:cNvSpPr/>
            <p:nvPr/>
          </p:nvSpPr>
          <p:spPr>
            <a:xfrm>
              <a:off x="3009960" y="2511360"/>
              <a:ext cx="312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A     H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+ A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3809880" y="2385720"/>
              <a:ext cx="533520" cy="891360"/>
              <a:chOff x="3809880" y="2385720"/>
              <a:chExt cx="533520" cy="891360"/>
            </a:xfrm>
          </p:grpSpPr>
          <p:sp>
            <p:nvSpPr>
              <p:cNvPr id="640" name=""/>
              <p:cNvSpPr/>
              <p:nvPr/>
            </p:nvSpPr>
            <p:spPr>
              <a:xfrm>
                <a:off x="3809880" y="23857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3809880" y="26341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B19-6026-4591-A7F5-7F052457380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"/>
          <p:cNvGrpSpPr/>
          <p:nvPr/>
        </p:nvGrpSpPr>
        <p:grpSpPr>
          <a:xfrm>
            <a:off x="2057400" y="4387680"/>
            <a:ext cx="5029200" cy="2089440"/>
            <a:chOff x="2057400" y="4387680"/>
            <a:chExt cx="5029200" cy="2089440"/>
          </a:xfrm>
        </p:grpSpPr>
        <p:sp>
          <p:nvSpPr>
            <p:cNvPr id="643" name=""/>
            <p:cNvSpPr/>
            <p:nvPr/>
          </p:nvSpPr>
          <p:spPr>
            <a:xfrm>
              <a:off x="2738520" y="4387680"/>
              <a:ext cx="687240" cy="4255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57400" y="5486400"/>
              <a:ext cx="5029200" cy="99072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] was previously calculated as 3.0 x 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-3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ol/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45" name=""/>
          <p:cNvGraphicFramePr/>
          <p:nvPr/>
        </p:nvGraphicFramePr>
        <p:xfrm>
          <a:off x="122400" y="4343400"/>
          <a:ext cx="889920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4343400"/>
                    <a:ext cx="88992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ercent ionization in a 0.50 M H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0" y="2383920"/>
            <a:ext cx="9142200" cy="891360"/>
            <a:chOff x="0" y="2383920"/>
            <a:chExt cx="9142200" cy="891360"/>
          </a:xfrm>
        </p:grpSpPr>
        <p:sp>
          <p:nvSpPr>
            <p:cNvPr id="649" name=""/>
            <p:cNvSpPr/>
            <p:nvPr/>
          </p:nvSpPr>
          <p:spPr>
            <a:xfrm>
              <a:off x="0" y="2481120"/>
              <a:ext cx="91422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33cc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33cc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)      H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33cc"/>
                  </a:solidFill>
                  <a:latin typeface="Arial"/>
                </a:rPr>
                <a:t> 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4343400" y="2383920"/>
              <a:ext cx="533160" cy="891360"/>
              <a:chOff x="4343400" y="2383920"/>
              <a:chExt cx="533160" cy="891360"/>
            </a:xfrm>
          </p:grpSpPr>
          <p:sp>
            <p:nvSpPr>
              <p:cNvPr id="651" name=""/>
              <p:cNvSpPr/>
              <p:nvPr/>
            </p:nvSpPr>
            <p:spPr>
              <a:xfrm>
                <a:off x="4343400" y="23839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43400" y="26323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53" name=""/>
            <p:cNvGraphicFramePr/>
            <p:nvPr/>
          </p:nvGraphicFramePr>
          <p:xfrm>
            <a:off x="6019560" y="2477880"/>
            <a:ext cx="1527120" cy="64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560" y="2477880"/>
                      <a:ext cx="1527120" cy="6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5" name=""/>
          <p:cNvSpPr/>
          <p:nvPr/>
        </p:nvSpPr>
        <p:spPr>
          <a:xfrm>
            <a:off x="0" y="331776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ionization of acetic acid is give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40" y="148896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ionization of acetic acid is given 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09480" y="5373720"/>
            <a:ext cx="7848720" cy="1179360"/>
            <a:chOff x="609480" y="5373720"/>
            <a:chExt cx="7848720" cy="1179360"/>
          </a:xfrm>
        </p:grpSpPr>
        <p:sp>
          <p:nvSpPr>
            <p:cNvPr id="658" name=""/>
            <p:cNvSpPr/>
            <p:nvPr/>
          </p:nvSpPr>
          <p:spPr>
            <a:xfrm>
              <a:off x="609480" y="5373720"/>
              <a:ext cx="7848720" cy="11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9" name=""/>
            <p:cNvGraphicFramePr/>
            <p:nvPr/>
          </p:nvGraphicFramePr>
          <p:xfrm>
            <a:off x="905040" y="5533920"/>
            <a:ext cx="7335720" cy="897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05040" y="5533920"/>
                      <a:ext cx="7335720" cy="89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1F0-2505-45FB-901B-6C9000CBB665}" type="slidenum">
              <a:t>66</a:t>
            </a:fld>
          </a:p>
        </p:txBody>
      </p:sp>
    </p:spTree>
  </p:cSld>
  <p:transition spd="slow">
    <p:blinds dir="vert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304920" y="1676520"/>
          <a:ext cx="8534160" cy="487656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346040"/>
                <a:gridCol w="1676520"/>
                <a:gridCol w="1244520"/>
                <a:gridCol w="1422360"/>
              </a:tblGrid>
              <a:tr h="811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cy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nzo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3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chlor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tr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ya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fluor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H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62" name=""/>
          <p:cNvSpPr/>
          <p:nvPr/>
        </p:nvSpPr>
        <p:spPr>
          <a:xfrm>
            <a:off x="684360" y="228600"/>
            <a:ext cx="777528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zation Constants (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Acids at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584-0000-4A63-A8D1-1272589A5A3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Solubility Product Constan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1B08-1CCB-4269-961C-D6C694FA263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22478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dynamic state in which two or more opposing processes are taking place at the same time and at the same rat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2247840"/>
            <a:ext cx="7772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equilibr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tate in which the rate of the forward reaction equals the rate of the reverse reaction in a chemical chang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2247840"/>
            <a:ext cx="77724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ubility product constant, 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equilibrium constant of a slightly soluble sal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5CB-7F29-4B58-948F-715499176F8D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ates of Re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64C-ED9F-4E8E-A076-49BFA3517C2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18432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lver chloride is in equilibrium with its ions in aqueous solu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440" y="1560240"/>
            <a:ext cx="9141120" cy="891360"/>
            <a:chOff x="1440" y="1560240"/>
            <a:chExt cx="9141120" cy="891360"/>
          </a:xfrm>
        </p:grpSpPr>
        <p:sp>
          <p:nvSpPr>
            <p:cNvPr id="671" name=""/>
            <p:cNvSpPr/>
            <p:nvPr/>
          </p:nvSpPr>
          <p:spPr>
            <a:xfrm>
              <a:off x="1440" y="1685880"/>
              <a:ext cx="9141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g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Ag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l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3352680" y="1560240"/>
              <a:ext cx="533520" cy="891360"/>
              <a:chOff x="3352680" y="1560240"/>
              <a:chExt cx="533520" cy="891360"/>
            </a:xfrm>
          </p:grpSpPr>
          <p:sp>
            <p:nvSpPr>
              <p:cNvPr id="673" name=""/>
              <p:cNvSpPr/>
              <p:nvPr/>
            </p:nvSpPr>
            <p:spPr>
              <a:xfrm>
                <a:off x="3352680" y="15602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3352680" y="18086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75" name=""/>
          <p:cNvGraphicFramePr/>
          <p:nvPr/>
        </p:nvGraphicFramePr>
        <p:xfrm>
          <a:off x="2868480" y="3200400"/>
          <a:ext cx="340524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3200400"/>
                    <a:ext cx="340524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0" y="2637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quilibr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stan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373040" y="5408640"/>
            <a:ext cx="3275280" cy="1297080"/>
          </a:xfrm>
          <a:prstGeom prst="borderCallout1">
            <a:avLst>
              <a:gd name="adj1" fmla="val 18750"/>
              <a:gd name="adj2" fmla="val -8333"/>
              <a:gd name="adj3" fmla="val -70504"/>
              <a:gd name="adj4" fmla="val -15513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olid AgCl does not affect the equilib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959120" y="5408640"/>
            <a:ext cx="2689200" cy="1297080"/>
          </a:xfrm>
          <a:prstGeom prst="borderCallout1">
            <a:avLst>
              <a:gd name="adj1" fmla="val 18750"/>
              <a:gd name="adj2" fmla="val -8333"/>
              <a:gd name="adj3" fmla="val -70750"/>
              <a:gd name="adj4" fmla="val -1900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entration of solid AgCl is a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998640" y="4989600"/>
          <a:ext cx="714672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8640" y="4989600"/>
                    <a:ext cx="7146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0" y="4343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rran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0" y="3200400"/>
            <a:ext cx="7078680" cy="1905120"/>
            <a:chOff x="0" y="3200400"/>
            <a:chExt cx="7078680" cy="1905120"/>
          </a:xfrm>
        </p:grpSpPr>
        <p:sp>
          <p:nvSpPr>
            <p:cNvPr id="684" name=""/>
            <p:cNvSpPr/>
            <p:nvPr/>
          </p:nvSpPr>
          <p:spPr>
            <a:xfrm>
              <a:off x="0" y="4419720"/>
              <a:ext cx="20574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716040" y="3200400"/>
              <a:ext cx="6362640" cy="1905120"/>
              <a:chOff x="716040" y="3200400"/>
              <a:chExt cx="6362640" cy="1905120"/>
            </a:xfrm>
          </p:grpSpPr>
          <p:sp>
            <p:nvSpPr>
              <p:cNvPr id="686" name=""/>
              <p:cNvSpPr/>
              <p:nvPr/>
            </p:nvSpPr>
            <p:spPr>
              <a:xfrm rot="16200000">
                <a:off x="2392200" y="3124080"/>
                <a:ext cx="533520" cy="3429000"/>
              </a:xfrm>
              <a:custGeom>
                <a:avLst/>
                <a:gdLst>
                  <a:gd name="textAreaLeft" fmla="*/ 0 w 533520"/>
                  <a:gd name="textAreaRight" fmla="*/ 192600 w 533520"/>
                  <a:gd name="textAreaTop" fmla="*/ 89280 h 3429000"/>
                  <a:gd name="textAreaBottom" fmla="*/ 3339720 h 342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8788"/>
                    </a:lnTo>
                    <a:cubicBezTo>
                      <a:pt x="10800" y="9688"/>
                      <a:pt x="16200" y="10588"/>
                      <a:pt x="21600" y="10588"/>
                    </a:cubicBezTo>
                    <a:cubicBezTo>
                      <a:pt x="16200" y="10588"/>
                      <a:pt x="10800" y="11488"/>
                      <a:pt x="10800" y="12388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716040" y="3200400"/>
                <a:ext cx="6362640" cy="1523880"/>
                <a:chOff x="716040" y="3200400"/>
                <a:chExt cx="6362640" cy="15238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259160" y="3200400"/>
                  <a:ext cx="2819520" cy="1523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16040" y="3429000"/>
                  <a:ext cx="3886200" cy="990720"/>
                </a:xfrm>
                <a:prstGeom prst="rect">
                  <a:avLst/>
                </a:prstGeom>
                <a:solidFill>
                  <a:srgbClr val="ccff66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The product of K</a:t>
                  </a:r>
                  <a:r>
                    <a:rPr b="0" lang="en-US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eq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and [AgCl(</a:t>
                  </a: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) is a constant.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0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691" name=""/>
            <p:cNvSpPr/>
            <p:nvPr/>
          </p:nvSpPr>
          <p:spPr>
            <a:xfrm>
              <a:off x="0" y="0"/>
              <a:ext cx="914256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2" name=""/>
            <p:cNvGraphicFramePr/>
            <p:nvPr/>
          </p:nvGraphicFramePr>
          <p:xfrm>
            <a:off x="2995560" y="3054240"/>
            <a:ext cx="3151080" cy="749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95560" y="3054240"/>
                      <a:ext cx="3151080" cy="74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8B3-9C62-4E10-8C3E-5665CC6D490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440" y="30492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lubility of AgCl in water is 1.3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5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/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73040" y="2362320"/>
            <a:ext cx="821376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ause each formula unit of  Ag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dissolves yields one A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one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concentrations of the two ions are equ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440" y="1560240"/>
            <a:ext cx="9141120" cy="891360"/>
            <a:chOff x="1440" y="1560240"/>
            <a:chExt cx="9141120" cy="891360"/>
          </a:xfrm>
        </p:grpSpPr>
        <p:sp>
          <p:nvSpPr>
            <p:cNvPr id="697" name=""/>
            <p:cNvSpPr/>
            <p:nvPr/>
          </p:nvSpPr>
          <p:spPr>
            <a:xfrm>
              <a:off x="1440" y="1685880"/>
              <a:ext cx="9141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g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Ag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l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3352680" y="1560240"/>
              <a:ext cx="533520" cy="891360"/>
              <a:chOff x="3352680" y="1560240"/>
              <a:chExt cx="533520" cy="891360"/>
            </a:xfrm>
          </p:grpSpPr>
          <p:sp>
            <p:nvSpPr>
              <p:cNvPr id="699" name=""/>
              <p:cNvSpPr/>
              <p:nvPr/>
            </p:nvSpPr>
            <p:spPr>
              <a:xfrm>
                <a:off x="3352680" y="15602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352680" y="18086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1" name=""/>
          <p:cNvSpPr/>
          <p:nvPr/>
        </p:nvSpPr>
        <p:spPr>
          <a:xfrm>
            <a:off x="412920" y="5057640"/>
            <a:ext cx="335268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Arial"/>
              </a:rPr>
              <a:t>K</a:t>
            </a:r>
            <a:r>
              <a:rPr b="0" lang="en-US" sz="3400" spc="-1" strike="noStrike" baseline="-25000">
                <a:solidFill>
                  <a:srgbClr val="0066ff"/>
                </a:solidFill>
                <a:latin typeface="Arial"/>
              </a:rPr>
              <a:t>sp</a:t>
            </a:r>
            <a:r>
              <a:rPr b="0" lang="en-US" sz="3400" spc="-1" strike="noStrike">
                <a:solidFill>
                  <a:srgbClr val="0066ff"/>
                </a:solidFill>
                <a:latin typeface="Arial"/>
              </a:rPr>
              <a:t> = [Ag</a:t>
            </a:r>
            <a:r>
              <a:rPr b="0" lang="en-US" sz="3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400" spc="-1" strike="noStrike">
                <a:solidFill>
                  <a:srgbClr val="0066ff"/>
                </a:solidFill>
                <a:latin typeface="Arial"/>
              </a:rPr>
              <a:t>][Cl</a:t>
            </a:r>
            <a:r>
              <a:rPr b="0" lang="en-US" sz="34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400" spc="-1" strike="noStrike">
                <a:solidFill>
                  <a:srgbClr val="0066ff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19240" y="5607000"/>
            <a:ext cx="51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(1.3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5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(1.3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5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40" y="4264200"/>
            <a:ext cx="914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[Ag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[Cl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] = 1.3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5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ol/L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19920" y="56070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= 1.7 x 10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9000" y="5105520"/>
            <a:ext cx="4800600" cy="53316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no denomin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08D-AEDC-49B3-AC22-86C43AC344E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7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the product of the molar concentration of the ions in solution (each raised to its proper power) is greater than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at substance, precipitation will occur.  If the ion product is less than th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lue no precipitation will occ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54B-6CDE-480B-8142-AD7DD935506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fo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 sulfate is 1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lculate the solubility of Pb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grams per l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121932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ilibrium equation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1828800" y="1676160"/>
            <a:ext cx="4913280" cy="915120"/>
            <a:chOff x="1828800" y="1676160"/>
            <a:chExt cx="4913280" cy="915120"/>
          </a:xfrm>
        </p:grpSpPr>
        <p:grpSp>
          <p:nvGrpSpPr>
            <p:cNvPr id="710" name=""/>
            <p:cNvGrpSpPr/>
            <p:nvPr/>
          </p:nvGrpSpPr>
          <p:grpSpPr>
            <a:xfrm>
              <a:off x="1828800" y="1811520"/>
              <a:ext cx="4913280" cy="644400"/>
              <a:chOff x="1828800" y="1811520"/>
              <a:chExt cx="4913280" cy="644400"/>
            </a:xfrm>
          </p:grpSpPr>
          <p:graphicFrame>
            <p:nvGraphicFramePr>
              <p:cNvPr id="711" name=""/>
              <p:cNvGraphicFramePr/>
              <p:nvPr/>
            </p:nvGraphicFramePr>
            <p:xfrm>
              <a:off x="1828800" y="1811520"/>
              <a:ext cx="4913280" cy="64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28800" y="1811520"/>
                        <a:ext cx="4913280" cy="64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3" name=""/>
              <p:cNvSpPr/>
              <p:nvPr/>
            </p:nvSpPr>
            <p:spPr>
              <a:xfrm>
                <a:off x="3352680" y="184608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3505320" y="1676160"/>
              <a:ext cx="533160" cy="915120"/>
              <a:chOff x="3505320" y="1676160"/>
              <a:chExt cx="533160" cy="915120"/>
            </a:xfrm>
          </p:grpSpPr>
          <p:sp>
            <p:nvSpPr>
              <p:cNvPr id="715" name=""/>
              <p:cNvSpPr/>
              <p:nvPr/>
            </p:nvSpPr>
            <p:spPr>
              <a:xfrm>
                <a:off x="3505320" y="16761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505320" y="194832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717" name=""/>
          <p:cNvGraphicFramePr/>
          <p:nvPr/>
        </p:nvGraphicFramePr>
        <p:xfrm>
          <a:off x="2550960" y="3111480"/>
          <a:ext cx="37735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0960" y="3111480"/>
                    <a:ext cx="37735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"/>
          <p:cNvSpPr/>
          <p:nvPr/>
        </p:nvSpPr>
        <p:spPr>
          <a:xfrm>
            <a:off x="0" y="2514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0" y="3898800"/>
            <a:ext cx="8381880" cy="1815480"/>
            <a:chOff x="0" y="3898800"/>
            <a:chExt cx="8381880" cy="1815480"/>
          </a:xfrm>
        </p:grpSpPr>
        <p:sp>
          <p:nvSpPr>
            <p:cNvPr id="721" name=""/>
            <p:cNvSpPr/>
            <p:nvPr/>
          </p:nvSpPr>
          <p:spPr>
            <a:xfrm>
              <a:off x="0" y="3898800"/>
              <a:ext cx="83818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ecause each formula unit of  PbS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that dissolves yields one Pb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+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nd one       , the concentrations of the two ions are equal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2" name=""/>
            <p:cNvGraphicFramePr/>
            <p:nvPr/>
          </p:nvGraphicFramePr>
          <p:xfrm>
            <a:off x="6553080" y="4524480"/>
            <a:ext cx="866880" cy="625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4524480"/>
                      <a:ext cx="866880" cy="62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24" name=""/>
          <p:cNvGraphicFramePr/>
          <p:nvPr/>
        </p:nvGraphicFramePr>
        <p:xfrm>
          <a:off x="2317680" y="5729400"/>
          <a:ext cx="454680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17680" y="5729400"/>
                    <a:ext cx="454680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6B0-F2F1-4369-B53D-9B617565F8C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8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9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fo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 sulfate is 1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lculate the solubility of Pb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grams per l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2550960" y="2000160"/>
          <a:ext cx="3773520" cy="6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0960" y="2000160"/>
                    <a:ext cx="377352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>
            <a:off x="1440" y="12952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e Y into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qua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2085840" y="3187800"/>
          <a:ext cx="50072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5840" y="3187800"/>
                    <a:ext cx="50072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"/>
          <p:cNvGraphicFramePr/>
          <p:nvPr/>
        </p:nvGraphicFramePr>
        <p:xfrm>
          <a:off x="3232080" y="4327560"/>
          <a:ext cx="30193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32080" y="4327560"/>
                    <a:ext cx="3019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4" name=""/>
          <p:cNvGraphicFramePr/>
          <p:nvPr/>
        </p:nvGraphicFramePr>
        <p:xfrm>
          <a:off x="1447920" y="5105520"/>
          <a:ext cx="3147840" cy="64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5105520"/>
                    <a:ext cx="31478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4695840" y="5105520"/>
          <a:ext cx="364500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95840" y="5105520"/>
                    <a:ext cx="36450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1440" y="5943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lubility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1.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/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6AE-C4B5-4776-98E8-36895B9ED5CD}" type="slidenum">
              <a:t>74</a:t>
            </a:fld>
          </a:p>
        </p:txBody>
      </p:sp>
    </p:spTree>
  </p:cSld>
  <p:transition spd="slow">
    <p:blinds dir="vert"/>
  </p:transition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6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6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fo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 sulfate is 1.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alculate the solubility of Pb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grams per l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440" y="1447920"/>
            <a:ext cx="9142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mol/L to grams/L. The molar mass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303.3 g/mo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380880" y="3048120"/>
          <a:ext cx="33130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33130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5886360" y="3335400"/>
          <a:ext cx="31482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6360" y="3335400"/>
                    <a:ext cx="31482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5" name=""/>
          <p:cNvGraphicFramePr/>
          <p:nvPr/>
        </p:nvGraphicFramePr>
        <p:xfrm>
          <a:off x="3697200" y="3112920"/>
          <a:ext cx="2043360" cy="117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7200" y="3112920"/>
                    <a:ext cx="20433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"/>
          <p:cNvSpPr/>
          <p:nvPr/>
        </p:nvSpPr>
        <p:spPr>
          <a:xfrm>
            <a:off x="1440" y="4692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olubility of Pb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3.3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/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651040" y="3235320"/>
            <a:ext cx="2473560" cy="954000"/>
            <a:chOff x="2651040" y="3235320"/>
            <a:chExt cx="2473560" cy="954000"/>
          </a:xfrm>
        </p:grpSpPr>
        <p:sp>
          <p:nvSpPr>
            <p:cNvPr id="749" name=""/>
            <p:cNvSpPr/>
            <p:nvPr/>
          </p:nvSpPr>
          <p:spPr>
            <a:xfrm>
              <a:off x="2651040" y="3235320"/>
              <a:ext cx="82224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302000" y="3843360"/>
              <a:ext cx="82260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567-BDF4-4596-9150-6ED78A7B8ED6}" type="slidenum">
              <a:t>75</a:t>
            </a:fld>
          </a:p>
        </p:txBody>
      </p:sp>
    </p:spTree>
  </p:cSld>
  <p:transition spd="slow">
    <p:blinds dir="vert"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The Common Ion Eff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CF5-82F8-4FA9-9831-99560F2A0620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on added to a solution already containing that ion is called a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mmon 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80880" y="1773360"/>
            <a:ext cx="8610840" cy="3352680"/>
            <a:chOff x="380880" y="1773360"/>
            <a:chExt cx="8610840" cy="3352680"/>
          </a:xfrm>
        </p:grpSpPr>
        <p:sp>
          <p:nvSpPr>
            <p:cNvPr id="754" name=""/>
            <p:cNvSpPr/>
            <p:nvPr/>
          </p:nvSpPr>
          <p:spPr>
            <a:xfrm>
              <a:off x="380880" y="1773360"/>
              <a:ext cx="8610840" cy="335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85800" y="2217960"/>
              <a:ext cx="777240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 shift in the equilibrium position upon addition of an ion already contained in the solution is known as the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ommon ion effect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9C0-6EB5-4379-90B6-5496705B5A6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3886200" y="1103400"/>
            <a:ext cx="1905120" cy="4716360"/>
            <a:chOff x="3886200" y="1103400"/>
            <a:chExt cx="1905120" cy="4716360"/>
          </a:xfrm>
        </p:grpSpPr>
        <p:sp>
          <p:nvSpPr>
            <p:cNvPr id="757" name=""/>
            <p:cNvSpPr/>
            <p:nvPr/>
          </p:nvSpPr>
          <p:spPr>
            <a:xfrm>
              <a:off x="4054320" y="5200560"/>
              <a:ext cx="1737000" cy="619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86200" y="1103400"/>
              <a:ext cx="1668600" cy="619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440" y="914040"/>
            <a:ext cx="9141120" cy="891360"/>
            <a:chOff x="1440" y="914040"/>
            <a:chExt cx="9141120" cy="891360"/>
          </a:xfrm>
        </p:grpSpPr>
        <p:sp>
          <p:nvSpPr>
            <p:cNvPr id="760" name=""/>
            <p:cNvSpPr/>
            <p:nvPr/>
          </p:nvSpPr>
          <p:spPr>
            <a:xfrm>
              <a:off x="1440" y="1039680"/>
              <a:ext cx="9141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Ag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s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    Ag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 + Cl</a:t>
              </a:r>
              <a:r>
                <a:rPr b="0" lang="en-US" sz="3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3352680" y="914040"/>
              <a:ext cx="533520" cy="891360"/>
              <a:chOff x="3352680" y="914040"/>
              <a:chExt cx="533520" cy="891360"/>
            </a:xfrm>
          </p:grpSpPr>
          <p:sp>
            <p:nvSpPr>
              <p:cNvPr id="762" name=""/>
              <p:cNvSpPr/>
              <p:nvPr/>
            </p:nvSpPr>
            <p:spPr>
              <a:xfrm>
                <a:off x="3352680" y="9140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3352680" y="11624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"/>
          <p:cNvSpPr/>
          <p:nvPr/>
        </p:nvSpPr>
        <p:spPr>
          <a:xfrm>
            <a:off x="152280" y="4495680"/>
            <a:ext cx="89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lver nitrate dissociates in aqueous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1030320" y="5160960"/>
          <a:ext cx="697536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5160960"/>
                    <a:ext cx="69753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0" y="38088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ilibrium equation of AgCl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6095880"/>
            <a:ext cx="5486400" cy="5335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ommon to both reac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828800" y="1905120"/>
            <a:ext cx="5486400" cy="2133360"/>
            <a:chOff x="1828800" y="1905120"/>
            <a:chExt cx="5486400" cy="2133360"/>
          </a:xfrm>
        </p:grpSpPr>
        <p:sp>
          <p:nvSpPr>
            <p:cNvPr id="770" name=""/>
            <p:cNvSpPr/>
            <p:nvPr/>
          </p:nvSpPr>
          <p:spPr>
            <a:xfrm>
              <a:off x="1828800" y="2133720"/>
              <a:ext cx="5486400" cy="190476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pon the addition of Ag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 the equilibrium shifts to the left, in accordance with LeChatelier’s Principle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247840" y="1905120"/>
              <a:ext cx="4648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F98-C47E-4D60-BE2F-5F8BFBED314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4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3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028880" y="5943600"/>
            <a:ext cx="7086600" cy="8380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absence of Ag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=1.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lver nitrate is added to a saturated AgCl solution until the [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=0.10 M. What will be the [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remaining in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40" y="144792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AgCl to determine [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1566720" y="2057400"/>
          <a:ext cx="56707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2057400"/>
                    <a:ext cx="5670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1440" y="4114800"/>
            <a:ext cx="91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ve for [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2252520" y="3540240"/>
          <a:ext cx="458496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2520" y="3540240"/>
                    <a:ext cx="45849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0" name=""/>
          <p:cNvGraphicFramePr/>
          <p:nvPr/>
        </p:nvGraphicFramePr>
        <p:xfrm>
          <a:off x="1143000" y="4618080"/>
          <a:ext cx="7089840" cy="124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618080"/>
                    <a:ext cx="708984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1440" y="28954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titute [Ag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 into the K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s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5943600"/>
            <a:ext cx="7772400" cy="83808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ample of the common ion eff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828800" y="461880"/>
            <a:ext cx="2009880" cy="3745080"/>
            <a:chOff x="1828800" y="461880"/>
            <a:chExt cx="2009880" cy="3745080"/>
          </a:xfrm>
        </p:grpSpPr>
        <p:sp>
          <p:nvSpPr>
            <p:cNvPr id="785" name=""/>
            <p:cNvSpPr/>
            <p:nvPr/>
          </p:nvSpPr>
          <p:spPr>
            <a:xfrm>
              <a:off x="2252520" y="3597120"/>
              <a:ext cx="1136880" cy="60984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828800" y="461880"/>
              <a:ext cx="2009880" cy="511200"/>
            </a:xfrm>
            <a:prstGeom prst="rect">
              <a:avLst/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CAB-C9B4-4C06-8765-F305ECA24C48}" type="slidenum">
              <a:t>79</a:t>
            </a:fld>
          </a:p>
        </p:txBody>
      </p:sp>
    </p:spTree>
  </p:cSld>
  <p:transition spd="slow">
    <p:blinds dir="vert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1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3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mical kinetic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study of reaction rates and reaction mechanis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3AC-72EC-45C5-B104-CBA584FF2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"/>
          <p:cNvGraphicFramePr/>
          <p:nvPr/>
        </p:nvGraphicFramePr>
        <p:xfrm>
          <a:off x="304920" y="1523880"/>
          <a:ext cx="8534160" cy="4953240"/>
        </p:xfrm>
        <a:graphic>
          <a:graphicData uri="http://schemas.openxmlformats.org/drawingml/2006/table">
            <a:tbl>
              <a:tblPr/>
              <a:tblGrid>
                <a:gridCol w="2068560"/>
                <a:gridCol w="2070000"/>
                <a:gridCol w="1957320"/>
                <a:gridCol w="2438280"/>
              </a:tblGrid>
              <a:tr h="61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s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n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88" name=""/>
          <p:cNvSpPr/>
          <p:nvPr/>
        </p:nvSpPr>
        <p:spPr>
          <a:xfrm>
            <a:off x="684360" y="152280"/>
            <a:ext cx="777528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ubility Product Constants (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at 2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16D-EBC9-434D-A1C2-33B36B347E7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id-Base 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roperties of Sal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F9E-7F4C-44C2-9AD4-45A7AA3CCCB8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7040" y="2590920"/>
            <a:ext cx="8629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ydrolysi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term used for the general reaction in which a water molecule is spl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759-C587-4022-BB88-9A826BE8183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84240" y="3683520"/>
            <a:ext cx="8972280" cy="831960"/>
            <a:chOff x="84240" y="3683520"/>
            <a:chExt cx="8972280" cy="831960"/>
          </a:xfrm>
        </p:grpSpPr>
        <p:grpSp>
          <p:nvGrpSpPr>
            <p:cNvPr id="794" name=""/>
            <p:cNvGrpSpPr/>
            <p:nvPr/>
          </p:nvGrpSpPr>
          <p:grpSpPr>
            <a:xfrm>
              <a:off x="4098960" y="3683520"/>
              <a:ext cx="533520" cy="831960"/>
              <a:chOff x="4098960" y="3683520"/>
              <a:chExt cx="533520" cy="831960"/>
            </a:xfrm>
          </p:grpSpPr>
          <p:sp>
            <p:nvSpPr>
              <p:cNvPr id="795" name=""/>
              <p:cNvSpPr/>
              <p:nvPr/>
            </p:nvSpPr>
            <p:spPr>
              <a:xfrm>
                <a:off x="4098960" y="3683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4098960" y="3933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797" name=""/>
            <p:cNvGraphicFramePr/>
            <p:nvPr/>
          </p:nvGraphicFramePr>
          <p:xfrm>
            <a:off x="84240" y="3809880"/>
            <a:ext cx="897228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4240" y="3809880"/>
                      <a:ext cx="897228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9" name=""/>
          <p:cNvSpPr/>
          <p:nvPr/>
        </p:nvSpPr>
        <p:spPr>
          <a:xfrm>
            <a:off x="1440" y="24940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t ionic equation for the hydrolysis of sodium acetat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961800" y="507672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-70435"/>
              <a:gd name="adj4" fmla="val 12923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ter molecule spl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680" y="636480"/>
            <a:ext cx="800100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s that contain the anion of a weak acid undergo hydr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6080" y="507672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-70435"/>
              <a:gd name="adj4" fmla="val 12923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205-C762-45B2-962C-967141F9BDC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6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440" y="249408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t ionic equation for the hydrolysis of ammonium chlorid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961800" y="518148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-70435"/>
              <a:gd name="adj4" fmla="val 12923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ter molecule spl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71680" y="636480"/>
            <a:ext cx="800100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s that contain the cation of a weak base undergo hydr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86200" y="5181480"/>
            <a:ext cx="2438280" cy="1068480"/>
          </a:xfrm>
          <a:prstGeom prst="borderCallout1">
            <a:avLst>
              <a:gd name="adj1" fmla="val 18750"/>
              <a:gd name="adj2" fmla="val -8333"/>
              <a:gd name="adj3" fmla="val -70435"/>
              <a:gd name="adj4" fmla="val 129231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id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16040" y="3683520"/>
            <a:ext cx="7710480" cy="831960"/>
            <a:chOff x="716040" y="3683520"/>
            <a:chExt cx="7710480" cy="831960"/>
          </a:xfrm>
        </p:grpSpPr>
        <p:graphicFrame>
          <p:nvGraphicFramePr>
            <p:cNvPr id="808" name=""/>
            <p:cNvGraphicFramePr/>
            <p:nvPr/>
          </p:nvGraphicFramePr>
          <p:xfrm>
            <a:off x="716040" y="3809880"/>
            <a:ext cx="7710480" cy="58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040" y="3809880"/>
                      <a:ext cx="771048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4098960" y="3683520"/>
              <a:ext cx="533520" cy="831960"/>
              <a:chOff x="4098960" y="3683520"/>
              <a:chExt cx="533520" cy="831960"/>
            </a:xfrm>
          </p:grpSpPr>
          <p:sp>
            <p:nvSpPr>
              <p:cNvPr id="811" name=""/>
              <p:cNvSpPr/>
              <p:nvPr/>
            </p:nvSpPr>
            <p:spPr>
              <a:xfrm>
                <a:off x="4098960" y="3683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4098960" y="39337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FCF-EED2-402F-B006-DF11E5B07A22}" type="slidenum">
              <a:t>84</a:t>
            </a:fld>
          </a:p>
        </p:txBody>
      </p:sp>
    </p:spTree>
  </p:cSld>
  <p:transition spd="slow">
    <p:blinds dir="vert"/>
  </p:transition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347760" y="636480"/>
            <a:ext cx="844848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s derived from a strong acid and a strong base do not undergo hydr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440000" y="3817080"/>
            <a:ext cx="6262560" cy="581400"/>
            <a:chOff x="1440000" y="3817080"/>
            <a:chExt cx="6262560" cy="581400"/>
          </a:xfrm>
        </p:grpSpPr>
        <p:graphicFrame>
          <p:nvGraphicFramePr>
            <p:cNvPr id="815" name=""/>
            <p:cNvGraphicFramePr/>
            <p:nvPr/>
          </p:nvGraphicFramePr>
          <p:xfrm>
            <a:off x="1440000" y="3825720"/>
            <a:ext cx="6262560" cy="555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0000" y="3825720"/>
                      <a:ext cx="626256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5029200" y="38170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383-1704-4EFF-8CE7-300FF5D22215}" type="slidenum">
              <a:t>85</a:t>
            </a:fld>
          </a:p>
        </p:txBody>
      </p:sp>
    </p:spTree>
  </p:cSld>
  <p:transition spd="slow">
    <p:blinds dir="vert"/>
  </p:transition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0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8" name=""/>
          <p:cNvGraphicFramePr/>
          <p:nvPr/>
        </p:nvGraphicFramePr>
        <p:xfrm>
          <a:off x="304920" y="1523880"/>
          <a:ext cx="8381880" cy="4952880"/>
        </p:xfrm>
        <a:graphic>
          <a:graphicData uri="http://schemas.openxmlformats.org/drawingml/2006/table">
            <a:tbl>
              <a:tblPr/>
              <a:tblGrid>
                <a:gridCol w="2844720"/>
                <a:gridCol w="2846520"/>
                <a:gridCol w="2690640"/>
              </a:tblGrid>
              <a:tr h="98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sa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e of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eous 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9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k base-strong 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, N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base-weak 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k base-weak 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 the sal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N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9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base-strong ac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, KB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19" name=""/>
          <p:cNvSpPr/>
          <p:nvPr/>
        </p:nvSpPr>
        <p:spPr>
          <a:xfrm>
            <a:off x="684360" y="152280"/>
            <a:ext cx="777528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ic Composition of Salts and the Nature of the Aqueous Solutions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AB9D-2A04-42B4-8836-4C18CD01D6C6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6.1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Buffer Solutions: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Control of p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F2E-1E39-43DA-9BE8-D4D5ED583CC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uffer solution resists changes in pH when diluted or when small amounts of acid or base are ad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63D-BF98-4CC0-940E-69B8C0774A9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0" y="1994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dium acetate, when mixed with acetic acid, forms a buffe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47760" y="228600"/>
            <a:ext cx="844848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eak acid mixed with a salt of its conjugate base forms a buffe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6AD-D268-4536-B7C7-8721CFD8C4C3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ate of a reaction is variable.  It depends 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79864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tions of the reacting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ion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ce or absence of cataly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e of the reac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C4C-9D63-4FA6-B20C-9435C4E09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541440" y="3852720"/>
          <a:ext cx="80611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852720"/>
                    <a:ext cx="8061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"/>
          <p:cNvSpPr/>
          <p:nvPr/>
        </p:nvSpPr>
        <p:spPr>
          <a:xfrm>
            <a:off x="1440" y="1994040"/>
            <a:ext cx="91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small amount of HCl is added, the acetate ions of the buffer will react with the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HCl to form unionized acetic ac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47760" y="228600"/>
            <a:ext cx="844848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eak acid mixed with a salt of its conjugate base forms a buffe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EC9-1714-4230-8DB4-E7B58450F624}" type="slidenum">
              <a:t>90</a:t>
            </a:fld>
          </a:p>
        </p:txBody>
      </p:sp>
    </p:spTree>
  </p:cSld>
  <p:transition spd="slow">
    <p:blinds dir="vert"/>
  </p:transition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0" name=""/>
          <p:cNvGraphicFramePr/>
          <p:nvPr/>
        </p:nvGraphicFramePr>
        <p:xfrm>
          <a:off x="96840" y="3809880"/>
          <a:ext cx="8948880" cy="6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3809880"/>
                    <a:ext cx="8948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1440" y="1994040"/>
            <a:ext cx="914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small amount of NaOH is added, the acetic acid molecules of the buffer will react with the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NaOH to form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47760" y="228600"/>
            <a:ext cx="8448480" cy="121932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weak acid mixed with a salt of its conjugate base forms a buffer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827-A081-4B2E-AD4E-6B283823ECA6}" type="slidenum">
              <a:t>91</a:t>
            </a:fld>
          </a:p>
        </p:txBody>
      </p:sp>
    </p:spTree>
  </p:cSld>
  <p:transition spd="slow">
    <p:blinds dir="vert"/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4" name=""/>
          <p:cNvGraphicFramePr/>
          <p:nvPr/>
        </p:nvGraphicFramePr>
        <p:xfrm>
          <a:off x="433440" y="1658880"/>
          <a:ext cx="8381880" cy="4741920"/>
        </p:xfrm>
        <a:graphic>
          <a:graphicData uri="http://schemas.openxmlformats.org/drawingml/2006/table">
            <a:tbl>
              <a:tblPr/>
              <a:tblGrid>
                <a:gridCol w="3476520"/>
                <a:gridCol w="1981080"/>
                <a:gridCol w="2924280"/>
              </a:tblGrid>
              <a:tr h="46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 in 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(1000 m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5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0.010 mol HC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0.010 mol NaO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ffer solution (1000 m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M HC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0.10 M NaC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ffer + 0.010 mol HC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ffer + 0.010 mol NaO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835" name=""/>
          <p:cNvSpPr/>
          <p:nvPr/>
        </p:nvSpPr>
        <p:spPr>
          <a:xfrm>
            <a:off x="731880" y="228600"/>
            <a:ext cx="7775640" cy="1219320"/>
          </a:xfrm>
          <a:prstGeom prst="rect">
            <a:avLst/>
          </a:prstGeom>
          <a:solidFill>
            <a:srgbClr val="80808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in pH Caused by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 of HCl and Na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4F1-853D-4F78-A8F2-15C383FC8EF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DAD-E16B-4682-91DB-89924817F56C}" type="slidenum">
              <a:t>93</a:t>
            </a:fld>
          </a:p>
        </p:txBody>
      </p:sp>
    </p:spTree>
  </p:cSld>
  <p:transition spd="slow">
    <p:blinds dir="vert"/>
  </p:transition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wininst</cp:lastModifiedBy>
  <dcterms:modified xsi:type="dcterms:W3CDTF">2000-01-01T08:38:44Z</dcterms:modified>
  <cp:revision>1217</cp:revision>
  <dc:subject/>
  <dc:title>Hein and Arena</dc:title>
</cp:coreProperties>
</file>