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28.wmf" ContentType="image/x-wmf"/>
  <Override PartName="/ppt/media/image5.jpeg" ContentType="image/jpeg"/>
  <Override PartName="/ppt/media/image20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27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5.jpeg" ContentType="image/jpeg"/>
  <Override PartName="/ppt/media/image26.wmf" ContentType="image/x-wmf"/>
  <Override PartName="/ppt/media/image14.wmf" ContentType="image/x-wmf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48F-76F2-4D93-940C-95EA27E4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958-35E1-4F15-8BF6-EC9F9525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2F4B-1AC2-4BF6-9EE4-8FAB7CEA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FE7-C402-465B-BC74-A78AA3ED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BA7-5DD7-48FF-868E-6D8E5EB3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9B8-85F3-4EB7-9FCD-AC61E2A4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967A-1D42-4928-AFAB-9BBFE9FC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32C-AEDC-4970-815A-76A778D8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DDA4-3F22-4037-AEDC-A2B966E5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E98-84F2-40A5-91CA-10F9FAEE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1B0-B253-4821-B5B1-303BDB36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6D3-A925-455B-805F-1AEFB316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EAB5CBF-43D4-4D25-889A-F4B9931751BC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:08 P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0FAE-E539-4FFC-A05E-9B8DD035C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3.xml"/><Relationship Id="rId3" Type="http://schemas.openxmlformats.org/officeDocument/2006/relationships/slide" Target="slide31.xml"/><Relationship Id="rId4" Type="http://schemas.openxmlformats.org/officeDocument/2006/relationships/slide" Target="slide35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9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1143000"/>
            <a:ext cx="8001000" cy="29433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cids, Bases and Sal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15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in and Are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866560"/>
            <a:ext cx="23623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gene Pass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Chemistry Depart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Bronx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John Wiley and Son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04080"/>
            <a:ext cx="1676520" cy="55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767-CBDB-4063-ABF0-F2009BBB3E0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838080" y="1612440"/>
            <a:ext cx="7467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.N. Bronsted (1897-1947) was a Danish chemist and T. M. Lowry (1847-1936) was an English chemi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3733920"/>
            <a:ext cx="7467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923 they advanced their theory of acids and b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BE21-858E-4B08-9551-DCD39D0717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685800" y="723960"/>
            <a:ext cx="77724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827 Robert Brown illuminated an aqueous suspension of pollen under a high powered microsco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85800" y="2487600"/>
            <a:ext cx="77724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observed a trembling erratic motion of the pollen gra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erratic motion is characteristic of colloids in gener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random motion is calle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ownian movem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651-88EC-48F9-8794-C223601444E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8" dur="indefinite" restart="never" nodeType="tmRoot">
          <p:childTnLst>
            <p:seq>
              <p:cTn id="1539" dur="indefinite" nodeType="mainSeq">
                <p:childTnLst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685800" y="552600"/>
            <a:ext cx="777240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an intense beam of light is passed through an ordinary solution and viewed at an angle, the beam passing through the solution is hardly vi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3422520"/>
            <a:ext cx="7772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beam of light is clearly visible and sharply outlined when it is passed through a colloidal disper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phenomenon is known as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yndall effec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320" y="533520"/>
            <a:ext cx="8835840" cy="6095880"/>
            <a:chOff x="76320" y="533520"/>
            <a:chExt cx="8835840" cy="6095880"/>
          </a:xfrm>
        </p:grpSpPr>
        <p:sp>
          <p:nvSpPr>
            <p:cNvPr id="693" name=""/>
            <p:cNvSpPr/>
            <p:nvPr/>
          </p:nvSpPr>
          <p:spPr>
            <a:xfrm>
              <a:off x="228600" y="533520"/>
              <a:ext cx="8381880" cy="609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76320" y="2590920"/>
              <a:ext cx="8835840" cy="1676160"/>
              <a:chOff x="76320" y="2590920"/>
              <a:chExt cx="8835840" cy="1676160"/>
            </a:xfrm>
          </p:grpSpPr>
          <p:sp>
            <p:nvSpPr>
              <p:cNvPr id="695" name=""/>
              <p:cNvSpPr/>
              <p:nvPr/>
            </p:nvSpPr>
            <p:spPr>
              <a:xfrm>
                <a:off x="76320" y="2590920"/>
                <a:ext cx="8835840" cy="1676160"/>
              </a:xfrm>
              <a:prstGeom prst="rect">
                <a:avLst/>
              </a:prstGeom>
              <a:solidFill>
                <a:srgbClr val="0bffb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9680" y="2909160"/>
                <a:ext cx="8534520" cy="1191240"/>
              </a:xfrm>
              <a:prstGeom prst="rect">
                <a:avLst/>
              </a:prstGeom>
              <a:solidFill>
                <a:srgbClr val="e7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just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The Tyndall effect occurs because colloidal particles are large enough to scatter light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4C7-8C20-4960-8BC9-224AAC2DCEAF}" type="slidenum">
              <a:t>101</a:t>
            </a:fld>
          </a:p>
        </p:txBody>
      </p:sp>
    </p:spTree>
  </p:cSld>
  <p:transition spd="slow">
    <p:blinds dir="vert"/>
  </p:transition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0769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lloidal particles have huge surface areas in comparison to the volume of the same particles if they were aggregated into one large partic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2619360"/>
            <a:ext cx="807696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lloidal particles become electrically charged when they adsorb ions on their surfa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occurs because surface atoms or ions of the colloid attract and adsorb ions or polar molecules from the dispersion medium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6AF-9595-4F78-8571-6C765A5F9A1C}" type="slidenum">
              <a:t>102</a:t>
            </a:fld>
          </a:p>
        </p:txBody>
      </p:sp>
    </p:spTree>
  </p:cSld>
  <p:transition spd="slow">
    <p:blinds dir="vert"/>
  </p:transition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10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10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10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10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1855800" y="2570040"/>
            <a:ext cx="5432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A15-0675-48AC-B100-45D7E44DAA9B}" type="slidenum">
              <a:t>103</a:t>
            </a:fld>
          </a:p>
        </p:txBody>
      </p:sp>
    </p:spTree>
  </p:cSld>
  <p:transition spd="slow">
    <p:blinds dir="vert"/>
  </p:transition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0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133720"/>
            <a:ext cx="9140760" cy="731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Bronsted-Lowry acid is a proton (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ono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40" y="3718080"/>
            <a:ext cx="9140760" cy="7315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Bronsted-Lowry base is a proton (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ccepto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9F6-835D-4250-9164-CE5BEC6FFBE6}" type="slidenum">
              <a:t>11</a:t>
            </a:fld>
          </a:p>
        </p:txBody>
      </p:sp>
    </p:spTree>
  </p:cSld>
  <p:transition spd="slow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524400"/>
            <a:ext cx="9140760" cy="7315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(l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809160" y="2604960"/>
            <a:ext cx="2667240" cy="533520"/>
          </a:xfrm>
          <a:prstGeom prst="borderCallout1">
            <a:avLst>
              <a:gd name="adj1" fmla="val 18750"/>
              <a:gd name="adj2" fmla="val -8333"/>
              <a:gd name="adj3" fmla="val 196129"/>
              <a:gd name="adj4" fmla="val 139402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 ac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846600" y="2598840"/>
            <a:ext cx="3200400" cy="685800"/>
          </a:xfrm>
          <a:prstGeom prst="borderCallout1">
            <a:avLst>
              <a:gd name="adj1" fmla="val 18750"/>
              <a:gd name="adj2" fmla="val -8333"/>
              <a:gd name="adj3" fmla="val 153467"/>
              <a:gd name="adj4" fmla="val 133875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sted-Lowry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61400" y="2684520"/>
            <a:ext cx="2210040" cy="533520"/>
          </a:xfrm>
          <a:prstGeom prst="borderCallout1">
            <a:avLst>
              <a:gd name="adj1" fmla="val 18750"/>
              <a:gd name="adj2" fmla="val -8333"/>
              <a:gd name="adj3" fmla="val 182736"/>
              <a:gd name="adj4" fmla="val 145902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 do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671920" y="2602080"/>
            <a:ext cx="3170160" cy="609480"/>
          </a:xfrm>
          <a:prstGeom prst="borderCallout1">
            <a:avLst>
              <a:gd name="adj1" fmla="val 18750"/>
              <a:gd name="adj2" fmla="val -8333"/>
              <a:gd name="adj3" fmla="val 174217"/>
              <a:gd name="adj4" fmla="val 13530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sted-Lowr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8E3-7B4C-4FF8-BA20-65BE90606CBB}" type="slidenum">
              <a:t>12</a:t>
            </a:fld>
          </a:p>
        </p:txBody>
      </p:sp>
    </p:spTree>
  </p:cSld>
  <p:transition spd="slow">
    <p:blinds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60570" t="87014" r="0" b="0"/>
          <a:stretch/>
        </p:blipFill>
        <p:spPr>
          <a:xfrm>
            <a:off x="1052640" y="2660760"/>
            <a:ext cx="7038720" cy="1535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>
            <a:off x="2971800" y="1600200"/>
            <a:ext cx="2209680" cy="1278000"/>
          </a:xfrm>
          <a:prstGeom prst="borderCallout1">
            <a:avLst>
              <a:gd name="adj1" fmla="val 18750"/>
              <a:gd name="adj2" fmla="val -8333"/>
              <a:gd name="adj3" fmla="val 117763"/>
              <a:gd name="adj4" fmla="val 166592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ion does not exist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724280" y="1598760"/>
            <a:ext cx="3200400" cy="915840"/>
          </a:xfrm>
          <a:prstGeom prst="borderCallout1">
            <a:avLst>
              <a:gd name="adj1" fmla="val 18750"/>
              <a:gd name="adj2" fmla="val -8333"/>
              <a:gd name="adj3" fmla="val 172439"/>
              <a:gd name="adj4" fmla="val 136504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ion combines with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2666880" cy="914400"/>
          </a:xfrm>
          <a:prstGeom prst="borderCallout1">
            <a:avLst>
              <a:gd name="adj1" fmla="val 18750"/>
              <a:gd name="adj2" fmla="val -8333"/>
              <a:gd name="adj3" fmla="val 136981"/>
              <a:gd name="adj4" fmla="val 148569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ydronium ion is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AF2-4732-4C6C-BD2D-41F1B4C545A2}" type="slidenum">
              <a:t>13</a:t>
            </a:fld>
          </a:p>
        </p:txBody>
      </p:sp>
    </p:spTree>
  </p:cSld>
  <p:transition spd="slow">
    <p:blinds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8" dur="1" fill="hold"/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06560" y="33908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HCl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9280" y="3389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89520" y="33908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3886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886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143000"/>
            <a:ext cx="9140760" cy="731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njugate acid-base pairs differ by a prot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" y="2087640"/>
            <a:ext cx="9140760" cy="960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hen an acid donates a proton it becomes the conjugate bas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EDD-4DE2-4B1A-86FD-8B0F68103E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143000"/>
            <a:ext cx="9140760" cy="731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njugate acid-base pairs differ by a prot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" y="2087640"/>
            <a:ext cx="9140760" cy="960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hen a base accepts a proton it becomes the conjugate aci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99080" y="339084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16120" y="3390840"/>
            <a:ext cx="1524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 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389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39625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3962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753-A862-4B4F-AE51-485106BFE8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143000"/>
            <a:ext cx="9140760" cy="731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njugate acid-base pairs differ by a prot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65080" y="3145680"/>
            <a:ext cx="5027760" cy="1705680"/>
            <a:chOff x="865080" y="3145680"/>
            <a:chExt cx="5027760" cy="1705680"/>
          </a:xfrm>
        </p:grpSpPr>
        <p:sp>
          <p:nvSpPr>
            <p:cNvPr id="107" name=""/>
            <p:cNvSpPr/>
            <p:nvPr/>
          </p:nvSpPr>
          <p:spPr>
            <a:xfrm>
              <a:off x="4902120" y="43308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Arial"/>
                </a:rPr>
                <a:t>ba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52560" y="43308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Arial"/>
                </a:rPr>
                <a:t>ac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 rot="5400000">
              <a:off x="2898720" y="1111680"/>
              <a:ext cx="304920" cy="437220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82160 h 4372200"/>
                <a:gd name="textAreaBottom" fmla="*/ 4190040 h 43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62120" y="3389400"/>
            <a:ext cx="7619760" cy="650160"/>
            <a:chOff x="762120" y="3389400"/>
            <a:chExt cx="7619760" cy="650160"/>
          </a:xfrm>
        </p:grpSpPr>
        <p:sp>
          <p:nvSpPr>
            <p:cNvPr id="111" name=""/>
            <p:cNvSpPr/>
            <p:nvPr/>
          </p:nvSpPr>
          <p:spPr>
            <a:xfrm>
              <a:off x="762120" y="339084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HCl(</a:t>
              </a:r>
              <a:r>
                <a:rPr b="0" i="1" lang="en-US" sz="32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0760" y="3390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6640" y="33894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73520" y="339084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Cl</a:t>
              </a:r>
              <a:r>
                <a:rPr b="0" lang="en-US" sz="32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2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08840" y="3390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53080" y="3390840"/>
              <a:ext cx="1828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0" lang="en-US" sz="32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Arial"/>
                </a:rPr>
                <a:t>aq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65360" y="3390840"/>
              <a:ext cx="1523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O (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97040" y="3984120"/>
            <a:ext cx="5365800" cy="867240"/>
            <a:chOff x="2597040" y="3984120"/>
            <a:chExt cx="5365800" cy="867240"/>
          </a:xfrm>
        </p:grpSpPr>
        <p:sp>
          <p:nvSpPr>
            <p:cNvPr id="119" name=""/>
            <p:cNvSpPr/>
            <p:nvPr/>
          </p:nvSpPr>
          <p:spPr>
            <a:xfrm>
              <a:off x="6972480" y="4330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ac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32120" y="43308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ba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870080" y="1710720"/>
              <a:ext cx="304920" cy="485136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201960 h 4851360"/>
                <a:gd name="textAreaBottom" fmla="*/ 4649400 h 485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6961-8639-4BCE-92C0-BABF16D40E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143000"/>
            <a:ext cx="9140760" cy="731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njugate acid-base pairs differ by a prot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865080" y="3145680"/>
            <a:ext cx="5027760" cy="1705680"/>
            <a:chOff x="865080" y="3145680"/>
            <a:chExt cx="5027760" cy="1705680"/>
          </a:xfrm>
        </p:grpSpPr>
        <p:sp>
          <p:nvSpPr>
            <p:cNvPr id="124" name=""/>
            <p:cNvSpPr/>
            <p:nvPr/>
          </p:nvSpPr>
          <p:spPr>
            <a:xfrm>
              <a:off x="4902120" y="43308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Arial"/>
                </a:rPr>
                <a:t>ba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52560" y="43308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Arial"/>
                </a:rPr>
                <a:t>ac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 rot="5400000">
              <a:off x="2898720" y="1111680"/>
              <a:ext cx="304920" cy="437220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82160 h 4372200"/>
                <a:gd name="textAreaBottom" fmla="*/ 4190040 h 43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62120" y="3389400"/>
            <a:ext cx="7619760" cy="650160"/>
            <a:chOff x="762120" y="3389400"/>
            <a:chExt cx="7619760" cy="650160"/>
          </a:xfrm>
        </p:grpSpPr>
        <p:sp>
          <p:nvSpPr>
            <p:cNvPr id="128" name=""/>
            <p:cNvSpPr/>
            <p:nvPr/>
          </p:nvSpPr>
          <p:spPr>
            <a:xfrm>
              <a:off x="762120" y="339084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HCl(</a:t>
              </a:r>
              <a:r>
                <a:rPr b="0" i="1" lang="en-US" sz="32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20760" y="3390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76640" y="33894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73520" y="339084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Cl</a:t>
              </a:r>
              <a:r>
                <a:rPr b="0" lang="en-US" sz="32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2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08840" y="3390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3390840"/>
              <a:ext cx="1828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0" lang="en-US" sz="32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Arial"/>
                </a:rPr>
                <a:t>aq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65360" y="3390840"/>
              <a:ext cx="1523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O (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597040" y="3984120"/>
            <a:ext cx="5365800" cy="867240"/>
            <a:chOff x="2597040" y="3984120"/>
            <a:chExt cx="5365800" cy="867240"/>
          </a:xfrm>
        </p:grpSpPr>
        <p:sp>
          <p:nvSpPr>
            <p:cNvPr id="136" name=""/>
            <p:cNvSpPr/>
            <p:nvPr/>
          </p:nvSpPr>
          <p:spPr>
            <a:xfrm>
              <a:off x="6972480" y="4330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ac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32120" y="43308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ba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200000">
              <a:off x="4870080" y="1710720"/>
              <a:ext cx="304920" cy="485136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201960 h 4851360"/>
                <a:gd name="textAreaBottom" fmla="*/ 4649400 h 485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054-0A57-4BBA-BCD4-4098CCDD38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20024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923 G. N. Lewis developed a more comprehensive theory of acids and b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105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Lewis theory deals with the way in which a substance with an unshared pair of electrons reacts in an acid-base type of re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8BC-68CC-46B0-B8AA-EC9476A4EE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133720"/>
            <a:ext cx="9140760" cy="731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Lewis acid is an electron-pair acceptor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" y="3718080"/>
            <a:ext cx="9140760" cy="7315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Lewis base is an electron-pair dono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A5E4-CF6F-4DAE-BE63-224C3E766914}" type="slidenum">
              <a:t>19</a:t>
            </a:fld>
          </a:p>
        </p:txBody>
      </p:sp>
    </p:spTree>
  </p:cSld>
  <p:transition spd="slow">
    <p:blinds dir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22400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5760" y="14050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1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Acids and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" y="201924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2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Reactions of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5760" y="263376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3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Reactions of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878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10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6147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riting Net Ion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760" y="324972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5760" y="386388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Electrolytes and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None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141640"/>
            <a:ext cx="44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troduction to 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7163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1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 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5452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13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5760" y="484344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issociation and Ioniz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5760" y="582444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rong and Wea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40508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onization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61898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14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Coll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40A5-847C-4CA3-90BE-126935680D0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27851" t="73195" r="0" b="0"/>
          <a:stretch/>
        </p:blipFill>
        <p:spPr>
          <a:xfrm>
            <a:off x="1244520" y="2590920"/>
            <a:ext cx="6531120" cy="1865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H="1">
            <a:off x="2743200" y="1828800"/>
            <a:ext cx="2666880" cy="663480"/>
          </a:xfrm>
          <a:prstGeom prst="borderCallout1">
            <a:avLst>
              <a:gd name="adj1" fmla="val 18750"/>
              <a:gd name="adj2" fmla="val -8333"/>
              <a:gd name="adj3" fmla="val 200236"/>
              <a:gd name="adj4" fmla="val 148569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743200" y="1828800"/>
            <a:ext cx="2666880" cy="771480"/>
          </a:xfrm>
          <a:prstGeom prst="borderCallout1">
            <a:avLst>
              <a:gd name="adj1" fmla="val 18750"/>
              <a:gd name="adj2" fmla="val -8333"/>
              <a:gd name="adj3" fmla="val 172013"/>
              <a:gd name="adj4" fmla="val 148569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Pair Ac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9720" y="5033880"/>
            <a:ext cx="1815840" cy="506520"/>
          </a:xfrm>
          <a:prstGeom prst="borderCallout1">
            <a:avLst>
              <a:gd name="adj1" fmla="val 18750"/>
              <a:gd name="adj2" fmla="val -8333"/>
              <a:gd name="adj3" fmla="val -150782"/>
              <a:gd name="adj4" fmla="val 14187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74840" y="3286080"/>
            <a:ext cx="133560" cy="380880"/>
          </a:xfrm>
          <a:prstGeom prst="rect">
            <a:avLst/>
          </a:prstGeom>
          <a:noFill/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09720" y="5033880"/>
            <a:ext cx="1815840" cy="887400"/>
          </a:xfrm>
          <a:prstGeom prst="borderCallout1">
            <a:avLst>
              <a:gd name="adj1" fmla="val 18750"/>
              <a:gd name="adj2" fmla="val -8333"/>
              <a:gd name="adj3" fmla="val -86046"/>
              <a:gd name="adj4" fmla="val 14187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Pair Do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809880"/>
            <a:ext cx="2057400" cy="8254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pair donated to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828800" y="3436920"/>
            <a:ext cx="1295280" cy="0"/>
          </a:xfrm>
          <a:prstGeom prst="line">
            <a:avLst/>
          </a:prstGeom>
          <a:ln w="3816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FC6-39C1-4372-B7C4-31AAA63DDD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25850" t="73596" r="0" b="0"/>
          <a:stretch/>
        </p:blipFill>
        <p:spPr>
          <a:xfrm>
            <a:off x="1077840" y="2529000"/>
            <a:ext cx="6728040" cy="1798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H="1">
            <a:off x="3048120" y="1285920"/>
            <a:ext cx="2666880" cy="663480"/>
          </a:xfrm>
          <a:prstGeom prst="borderCallout1">
            <a:avLst>
              <a:gd name="adj1" fmla="val 18750"/>
              <a:gd name="adj2" fmla="val -8333"/>
              <a:gd name="adj3" fmla="val 200236"/>
              <a:gd name="adj4" fmla="val 148569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048120" y="1285920"/>
            <a:ext cx="2666880" cy="771480"/>
          </a:xfrm>
          <a:prstGeom prst="borderCallout1">
            <a:avLst>
              <a:gd name="adj1" fmla="val 18750"/>
              <a:gd name="adj2" fmla="val -8333"/>
              <a:gd name="adj3" fmla="val 172013"/>
              <a:gd name="adj4" fmla="val 148569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Pair Ac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27000" y="5056200"/>
            <a:ext cx="1816200" cy="506520"/>
          </a:xfrm>
          <a:prstGeom prst="borderCallout1">
            <a:avLst>
              <a:gd name="adj1" fmla="val 18750"/>
              <a:gd name="adj2" fmla="val -8333"/>
              <a:gd name="adj3" fmla="val -150782"/>
              <a:gd name="adj4" fmla="val 14187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74840" y="3286080"/>
            <a:ext cx="133560" cy="380880"/>
          </a:xfrm>
          <a:prstGeom prst="rect">
            <a:avLst/>
          </a:prstGeom>
          <a:noFill/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7000" y="5056200"/>
            <a:ext cx="1816200" cy="887400"/>
          </a:xfrm>
          <a:prstGeom prst="borderCallout1">
            <a:avLst>
              <a:gd name="adj1" fmla="val 18750"/>
              <a:gd name="adj2" fmla="val -8333"/>
              <a:gd name="adj3" fmla="val -86046"/>
              <a:gd name="adj4" fmla="val 14187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Pair Do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3809880"/>
            <a:ext cx="2057400" cy="8254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pair donated 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877760" y="3448080"/>
            <a:ext cx="1245960" cy="0"/>
          </a:xfrm>
          <a:prstGeom prst="line">
            <a:avLst/>
          </a:prstGeom>
          <a:ln w="3816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3D0-E1DB-4379-8312-D4B103E1BC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0" t="17392" r="-1735" b="15364"/>
          <a:stretch/>
        </p:blipFill>
        <p:spPr>
          <a:xfrm>
            <a:off x="114480" y="1219320"/>
            <a:ext cx="8915400" cy="44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1C8-2563-472A-8961-A3BB53FA65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2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Reactions of Aci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DBC-DFF7-4FD3-B254-34CA719CE31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857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queous solution, the 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r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ons are responsible for the characteristic reactions of aci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40DE-04F1-4381-95DA-D66ACFD42A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763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 with Metals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ids react with metals that lie above hydrogen in the activity series of elements to produce hydrogen and an ionic compound (salt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475080"/>
            <a:ext cx="9140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2HCl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 + Ca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→ H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 + CaCl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438280"/>
            <a:ext cx="914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imes New Roman"/>
              </a:rPr>
              <a:t>acid + metal </a:t>
            </a:r>
            <a:r>
              <a:rPr b="0" lang="en-US" sz="3600" spc="-1" strike="noStrike">
                <a:solidFill>
                  <a:srgbClr val="9900cc"/>
                </a:solidFill>
                <a:latin typeface="Times New Roman"/>
                <a:ea typeface="Arial"/>
              </a:rPr>
              <a:t>→ hydrogen + ionic comp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449600"/>
            <a:ext cx="914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 + Mg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→ H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 + MgSO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978-0F1F-486A-91B8-DD6D3BFE55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117880"/>
            <a:ext cx="91425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ff"/>
                </a:solidFill>
                <a:latin typeface="Arial"/>
              </a:rPr>
              <a:t>3Zn(</a:t>
            </a:r>
            <a:r>
              <a:rPr b="0" i="1" lang="en-US" sz="25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</a:rPr>
              <a:t>) + 8HNO</a:t>
            </a:r>
            <a:r>
              <a:rPr b="0" lang="en-US" sz="25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</a:rPr>
              <a:t>(dilute)</a:t>
            </a:r>
            <a:r>
              <a:rPr b="0" lang="en-US" sz="25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  <a:ea typeface="Arial"/>
              </a:rPr>
              <a:t>→ 3Zn(NO</a:t>
            </a:r>
            <a:r>
              <a:rPr b="0" lang="en-US" sz="25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3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r>
              <a:rPr b="0" lang="en-US" sz="25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 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5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  <a:ea typeface="Arial"/>
              </a:rPr>
              <a:t> + 2NO(</a:t>
            </a:r>
            <a:r>
              <a:rPr b="0" i="1" lang="en-US" sz="2500" spc="-1" strike="noStrike">
                <a:solidFill>
                  <a:srgbClr val="0066ff"/>
                </a:solidFill>
                <a:latin typeface="Arial"/>
                <a:ea typeface="Arial"/>
              </a:rPr>
              <a:t>g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  <a:ea typeface="Arial"/>
              </a:rPr>
              <a:t>) + 4H</a:t>
            </a:r>
            <a:r>
              <a:rPr b="0" lang="en-US" sz="25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  <a:ea typeface="Arial"/>
              </a:rPr>
              <a:t>O(l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3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 with Metals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xidizing acids react with metals to produce water instead of hydrog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92A-7A6E-41C4-A297-91D314C8469F}" type="slidenum">
              <a:t>26</a:t>
            </a:fld>
          </a:p>
        </p:txBody>
      </p:sp>
    </p:spTree>
  </p:cSld>
  <p:transition spd="slow">
    <p:blinds dir="ver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727360"/>
            <a:ext cx="91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HBr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 + KOH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→ KBr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 + H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763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 with Bases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eaction of an acid with a base is called a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neutr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eaction.  In an aqueous solution the products are a salt and wat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0" y="4038480"/>
            <a:ext cx="91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2HNO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 + Ca(OH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→ Ca(NO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3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 + 2H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447920" y="3124080"/>
            <a:ext cx="4343400" cy="398880"/>
            <a:chOff x="1447920" y="3124080"/>
            <a:chExt cx="4343400" cy="398880"/>
          </a:xfrm>
        </p:grpSpPr>
        <p:sp>
          <p:nvSpPr>
            <p:cNvPr id="173" name=""/>
            <p:cNvSpPr/>
            <p:nvPr/>
          </p:nvSpPr>
          <p:spPr>
            <a:xfrm>
              <a:off x="144792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0040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0552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480" y="4456080"/>
            <a:ext cx="5639040" cy="398880"/>
            <a:chOff x="609480" y="4456080"/>
            <a:chExt cx="5639040" cy="398880"/>
          </a:xfrm>
        </p:grpSpPr>
        <p:sp>
          <p:nvSpPr>
            <p:cNvPr id="177" name=""/>
            <p:cNvSpPr/>
            <p:nvPr/>
          </p:nvSpPr>
          <p:spPr>
            <a:xfrm>
              <a:off x="609480" y="4456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19520" y="4456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720" y="4456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5C7-58D9-4BCC-AB5A-5C779B0B7E0D}" type="slidenum">
              <a:t>27</a:t>
            </a:fld>
          </a:p>
        </p:txBody>
      </p:sp>
    </p:spTree>
  </p:cSld>
  <p:transition spd="slow">
    <p:blinds dir="ver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2727360"/>
            <a:ext cx="91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2HCl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 + Na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O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→ 2NaCl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 + H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63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 with Metal Oxides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 aqueous solution the products are a salt and water.  This type of reaction is closely related to that of an acid with a ba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0" y="4038480"/>
            <a:ext cx="91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SO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 + MgO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→ MgSO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4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 + H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447920" y="3184560"/>
            <a:ext cx="4190760" cy="398880"/>
            <a:chOff x="1447920" y="3184560"/>
            <a:chExt cx="4190760" cy="398880"/>
          </a:xfrm>
        </p:grpSpPr>
        <p:sp>
          <p:nvSpPr>
            <p:cNvPr id="184" name=""/>
            <p:cNvSpPr/>
            <p:nvPr/>
          </p:nvSpPr>
          <p:spPr>
            <a:xfrm>
              <a:off x="1447920" y="31845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520" y="31845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al ox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52880" y="31845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187280" y="4456080"/>
            <a:ext cx="4703760" cy="398880"/>
            <a:chOff x="1187280" y="4456080"/>
            <a:chExt cx="4703760" cy="398880"/>
          </a:xfrm>
        </p:grpSpPr>
        <p:sp>
          <p:nvSpPr>
            <p:cNvPr id="188" name=""/>
            <p:cNvSpPr/>
            <p:nvPr/>
          </p:nvSpPr>
          <p:spPr>
            <a:xfrm>
              <a:off x="1187280" y="4456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05240" y="4456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52640" y="44560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al ox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37AC-C6C8-4D14-9578-5888116FB87A}" type="slidenum">
              <a:t>28</a:t>
            </a:fld>
          </a:p>
        </p:txBody>
      </p:sp>
    </p:spTree>
  </p:cSld>
  <p:transition spd="slow">
    <p:blinds dir="ver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7632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 with Carbonates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acids react with carbonates to produce carbon dioxide, water and an ionic compoun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0" y="2362320"/>
            <a:ext cx="914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HCl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) + Na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→ 2NaCl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) + H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) + CO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920" y="2803680"/>
            <a:ext cx="5105160" cy="398880"/>
            <a:chOff x="304920" y="2803680"/>
            <a:chExt cx="5105160" cy="398880"/>
          </a:xfrm>
        </p:grpSpPr>
        <p:sp>
          <p:nvSpPr>
            <p:cNvPr id="194" name=""/>
            <p:cNvSpPr/>
            <p:nvPr/>
          </p:nvSpPr>
          <p:spPr>
            <a:xfrm>
              <a:off x="304920" y="2803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81080" y="2803680"/>
              <a:ext cx="134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rbon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24280" y="2803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440" y="3618000"/>
            <a:ext cx="914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) + MgCO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→ MgSO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) + H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) + CO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44520" y="4075200"/>
            <a:ext cx="4962600" cy="398880"/>
            <a:chOff x="344520" y="4075200"/>
            <a:chExt cx="4962600" cy="398880"/>
          </a:xfrm>
        </p:grpSpPr>
        <p:sp>
          <p:nvSpPr>
            <p:cNvPr id="199" name=""/>
            <p:cNvSpPr/>
            <p:nvPr/>
          </p:nvSpPr>
          <p:spPr>
            <a:xfrm>
              <a:off x="344520" y="4075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57480" y="4075200"/>
              <a:ext cx="134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rbon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21320" y="4075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440" y="4890960"/>
            <a:ext cx="914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Cl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) + NaHCO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→ NaCl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) + H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) + CO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71520" y="5318280"/>
            <a:ext cx="4917960" cy="398880"/>
            <a:chOff x="371520" y="5318280"/>
            <a:chExt cx="4917960" cy="398880"/>
          </a:xfrm>
        </p:grpSpPr>
        <p:sp>
          <p:nvSpPr>
            <p:cNvPr id="204" name=""/>
            <p:cNvSpPr/>
            <p:nvPr/>
          </p:nvSpPr>
          <p:spPr>
            <a:xfrm>
              <a:off x="371520" y="53182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81080" y="5318280"/>
              <a:ext cx="134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rbon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03680" y="53182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F36-21FA-4760-9F68-4B8B8A63CC0F}" type="slidenum">
              <a:t>29</a:t>
            </a:fld>
          </a:p>
        </p:txBody>
      </p:sp>
    </p:spTree>
  </p:cSld>
  <p:transition spd="slow">
    <p:blinds dir="ver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1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Acids and Bas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A73-1E5B-4CA4-9233-0B70AF766B3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431172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→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+ H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1935000"/>
            <a:ext cx="7467840" cy="1981440"/>
          </a:xfrm>
          <a:prstGeom prst="rect">
            <a:avLst/>
          </a:prstGeom>
          <a:solidFill>
            <a:srgbClr val="99cc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rbonic acid 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is not the product when an acid reacts with a carbonate because carbonate spontaneously decomposes into carbon dioxide and wa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C1D-2AAE-408D-8EF8-7ECD16E89C1C}" type="slidenum">
              <a:t>30</a:t>
            </a:fld>
          </a:p>
        </p:txBody>
      </p:sp>
    </p:spTree>
  </p:cSld>
  <p:transition spd="slow">
    <p:blinds dir="vert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3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Reactions of Bas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05D6-606D-41B5-99E1-6472EC9715F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2727360"/>
            <a:ext cx="91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HBr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 + KOH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→ KBr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 + H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763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 with Acids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eaction of an acid with a base is called a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neutr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eaction.  In an aqueous solution the products are a salt and wat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0" y="4038480"/>
            <a:ext cx="91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2HNO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 + Ca(OH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→ Ca(NO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3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 + 2H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447920" y="3124080"/>
            <a:ext cx="4343400" cy="398880"/>
            <a:chOff x="1447920" y="3124080"/>
            <a:chExt cx="4343400" cy="398880"/>
          </a:xfrm>
        </p:grpSpPr>
        <p:sp>
          <p:nvSpPr>
            <p:cNvPr id="215" name=""/>
            <p:cNvSpPr/>
            <p:nvPr/>
          </p:nvSpPr>
          <p:spPr>
            <a:xfrm>
              <a:off x="144792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040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0552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09480" y="4456080"/>
            <a:ext cx="5639040" cy="398880"/>
            <a:chOff x="609480" y="4456080"/>
            <a:chExt cx="5639040" cy="398880"/>
          </a:xfrm>
        </p:grpSpPr>
        <p:sp>
          <p:nvSpPr>
            <p:cNvPr id="219" name=""/>
            <p:cNvSpPr/>
            <p:nvPr/>
          </p:nvSpPr>
          <p:spPr>
            <a:xfrm>
              <a:off x="609480" y="4456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19520" y="4456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4456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43C-1DC0-42EF-8BB9-5CEBE095018F}" type="slidenum">
              <a:t>32</a:t>
            </a:fld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7632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photeric Hydroxide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droxides of certain metals are amphoteric, meaning they are capable of reacting as either an acid or a ba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006800"/>
            <a:ext cx="91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Zn(OH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 + 2KOH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→ K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Zn(OH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4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295280" y="4403880"/>
            <a:ext cx="2819520" cy="398880"/>
            <a:chOff x="1295280" y="4403880"/>
            <a:chExt cx="2819520" cy="398880"/>
          </a:xfrm>
        </p:grpSpPr>
        <p:sp>
          <p:nvSpPr>
            <p:cNvPr id="225" name=""/>
            <p:cNvSpPr/>
            <p:nvPr/>
          </p:nvSpPr>
          <p:spPr>
            <a:xfrm>
              <a:off x="1295280" y="44038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Lewis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29000" y="44038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440" y="2743200"/>
            <a:ext cx="91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Zn(OH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 + 2HCl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→ ZnCl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 + 2H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219320" y="3160800"/>
            <a:ext cx="4495680" cy="398880"/>
            <a:chOff x="1219320" y="3160800"/>
            <a:chExt cx="4495680" cy="398880"/>
          </a:xfrm>
        </p:grpSpPr>
        <p:sp>
          <p:nvSpPr>
            <p:cNvPr id="229" name=""/>
            <p:cNvSpPr/>
            <p:nvPr/>
          </p:nvSpPr>
          <p:spPr>
            <a:xfrm>
              <a:off x="1219320" y="31608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19520" y="31608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29200" y="31608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7FE-733E-4C04-BD05-A8E2F028CD22}" type="slidenum">
              <a:t>33</a:t>
            </a:fld>
          </a:p>
        </p:txBody>
      </p:sp>
    </p:spTree>
  </p:cSld>
  <p:transition spd="slow">
    <p:blinds dir="vert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76320"/>
            <a:ext cx="8991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 of NaOH and KOH with Certain Metals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amphoteric metals react directly with the strong bases sodium hydroxide and potassium hydroxide to produce hydrog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4997520"/>
            <a:ext cx="9142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2NaOH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) + Zn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) + 2H</a:t>
            </a:r>
            <a:r>
              <a:rPr b="0" lang="en-US" sz="26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O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</a:rPr>
              <a:t>l)</a:t>
            </a:r>
            <a:r>
              <a:rPr b="0" lang="en-US" sz="26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→ Na</a:t>
            </a:r>
            <a:r>
              <a:rPr b="0" lang="en-US" sz="2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Zn(OH)</a:t>
            </a:r>
            <a:r>
              <a:rPr b="0" lang="en-US" sz="2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) + H</a:t>
            </a:r>
            <a:r>
              <a:rPr b="0" lang="en-US" sz="2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g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0" y="2865600"/>
            <a:ext cx="9142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base + metal + water 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→ salt + hydrogen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0" y="3952800"/>
            <a:ext cx="9142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2KOH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) + 2Al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) + 6H</a:t>
            </a:r>
            <a:r>
              <a:rPr b="0" lang="en-US" sz="26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O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</a:rPr>
              <a:t>l)</a:t>
            </a:r>
            <a:r>
              <a:rPr b="0" lang="en-US" sz="26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→ 2KAl(OH)</a:t>
            </a:r>
            <a:r>
              <a:rPr b="0" lang="en-US" sz="2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) + 3H</a:t>
            </a:r>
            <a:r>
              <a:rPr b="0" lang="en-US" sz="2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g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43275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wis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53942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wis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2F0-016E-47AF-B34E-D16DCC897A4B}" type="slidenum">
              <a:t>34</a:t>
            </a:fld>
          </a:p>
        </p:txBody>
      </p:sp>
    </p:spTree>
  </p:cSld>
  <p:transition spd="slow">
    <p:blinds dir="vert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4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Salt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690-84A2-4F91-869A-6EF0E619BE2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964800"/>
            <a:ext cx="80769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lts can be considered compounds derived from acids and bases. They consist of positive metal or ammonium ions combined with nonmetal ions 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xcluded)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4826160"/>
            <a:ext cx="817236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sts use the terms ionic compound and salt interchangeab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4826160"/>
            <a:ext cx="817236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ts are usually crystalline and have high melting and boiling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48E-E827-48E6-A85B-68FA6A17395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324160" y="29541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81760" y="29541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443320" y="3449520"/>
            <a:ext cx="47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333840" y="3449520"/>
            <a:ext cx="47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4147560" y="1996920"/>
            <a:ext cx="1067040" cy="3971880"/>
          </a:xfrm>
          <a:custGeom>
            <a:avLst/>
            <a:gdLst>
              <a:gd name="textAreaLeft" fmla="*/ 0 w 1067040"/>
              <a:gd name="textAreaRight" fmla="*/ 385200 w 1067040"/>
              <a:gd name="textAreaTop" fmla="*/ 103320 h 3971880"/>
              <a:gd name="textAreaBottom" fmla="*/ 3868560 h 39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6280" y="4440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58960" y="3046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2920" y="3044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90840" y="480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238560" y="1654200"/>
            <a:ext cx="2876400" cy="1185840"/>
          </a:xfrm>
          <a:prstGeom prst="borderCallout1">
            <a:avLst>
              <a:gd name="adj1" fmla="val 18750"/>
              <a:gd name="adj2" fmla="val -8333"/>
              <a:gd name="adj3" fmla="val 118740"/>
              <a:gd name="adj4" fmla="val 116722"/>
            </a:avLst>
          </a:prstGeom>
          <a:solidFill>
            <a:srgbClr val="99ccff"/>
          </a:solidFill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ve ion of the  salt is derived from the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35320" y="1654200"/>
            <a:ext cx="2876400" cy="1185840"/>
          </a:xfrm>
          <a:prstGeom prst="borderCallout1">
            <a:avLst>
              <a:gd name="adj1" fmla="val 18750"/>
              <a:gd name="adj2" fmla="val -8333"/>
              <a:gd name="adj3" fmla="val 118740"/>
              <a:gd name="adj4" fmla="val 116722"/>
            </a:avLst>
          </a:prstGeom>
          <a:solidFill>
            <a:srgbClr val="99ccff"/>
          </a:solidFill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gative ion of the  salt is derived from the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29080" y="408960"/>
            <a:ext cx="388620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lt 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0E5-79B4-43D9-8AF4-A085C3F460C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5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Electrolytes and Nonelectroly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7630-BABB-4021-8969-731497550E8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lytes are substances whose aqueous solutions conduct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electrolytes are substances whose aqueous solutions do not conduct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4191120"/>
            <a:ext cx="807696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ectrolytes are capable of  producing ions in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191120"/>
            <a:ext cx="86868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nelectrolytes are not capable of  producing ions in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89E-7927-4337-AF47-1C2F210D049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ur ta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nge the color of litmus from blue to 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 wi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ls such as zinc and magnesium to produce hydrogen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xide bases to produce water and an ionic compound (sa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ates to produce carbon diox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438280"/>
            <a:ext cx="5715000" cy="82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properties are due to the release of hydrogen ions,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nto wate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5FC-34C8-4A8F-98D9-8EEB5E967F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ses of compounds that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lytes 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s of oxides that form an acid or a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36E-E327-4983-89DA-C9AD5D881361}" type="slidenum">
              <a:t>40</a:t>
            </a:fld>
          </a:p>
        </p:txBody>
      </p:sp>
    </p:spTree>
  </p:cSld>
  <p:transition spd="slow">
    <p:blinds dir="vert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rcRect l="0" t="31732" r="1831" b="34970"/>
          <a:stretch/>
        </p:blipFill>
        <p:spPr>
          <a:xfrm>
            <a:off x="0" y="2532240"/>
            <a:ext cx="9144000" cy="179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EDA-5028-48FC-BB8A-A35F7561DA7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6</a:t>
            </a:r>
            <a:br>
              <a:rPr sz="4400"/>
            </a:br>
            <a:r>
              <a:rPr b="1" lang="en-US" sz="5800" spc="-1" strike="noStrike" u="sng">
                <a:solidFill>
                  <a:srgbClr val="cc3399"/>
                </a:solidFill>
                <a:uFillTx/>
                <a:latin typeface="Times New Roman"/>
              </a:rPr>
              <a:t>Dissociation and</a:t>
            </a:r>
            <a:br>
              <a:rPr sz="5800"/>
            </a:br>
            <a:r>
              <a:rPr b="1" lang="en-US" sz="5800" spc="-1" strike="noStrike" u="sng">
                <a:solidFill>
                  <a:srgbClr val="cc3399"/>
                </a:solidFill>
                <a:uFillTx/>
                <a:latin typeface="Times New Roman"/>
              </a:rPr>
              <a:t>Ionization of Electrolytes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C19-F5D0-4B6D-B736-8386EB2C2D0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2857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soci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process by which the ions of a salt separate as the salt dissol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E48-B39A-4DC6-892D-FD4B64BDE3B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57200" y="46483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 crystal of sodium chloride positive sodium ions are bonded to negative chloride 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505320" y="2647440"/>
            <a:ext cx="2360520" cy="1777320"/>
            <a:chOff x="3505320" y="2647440"/>
            <a:chExt cx="2360520" cy="1777320"/>
          </a:xfrm>
        </p:grpSpPr>
        <p:sp>
          <p:nvSpPr>
            <p:cNvPr id="269" name=""/>
            <p:cNvSpPr/>
            <p:nvPr/>
          </p:nvSpPr>
          <p:spPr>
            <a:xfrm rot="13797600">
              <a:off x="4192920" y="3897720"/>
              <a:ext cx="555480" cy="38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4983120" y="4049640"/>
              <a:ext cx="55584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1"/>
            <a:srcRect l="44763" t="46663" r="46195" b="41457"/>
            <a:stretch/>
          </p:blipFill>
          <p:spPr>
            <a:xfrm>
              <a:off x="3505320" y="2997360"/>
              <a:ext cx="801720" cy="78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2"/>
            <a:srcRect l="76504" t="41063" r="9375" b="39587"/>
            <a:stretch/>
          </p:blipFill>
          <p:spPr>
            <a:xfrm>
              <a:off x="4343400" y="2798640"/>
              <a:ext cx="126036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3981600" y="2765520"/>
              <a:ext cx="53316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2326800">
              <a:off x="5319360" y="2789280"/>
              <a:ext cx="53352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7533000">
              <a:off x="5349240" y="3798360"/>
              <a:ext cx="53352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91120" y="2743200"/>
              <a:ext cx="228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45120" y="3657600"/>
              <a:ext cx="152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3809880"/>
              <a:ext cx="2286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19720" y="4038480"/>
              <a:ext cx="1218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8E9-AB1F-4AA8-89AD-FB8A7623D7A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472428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queous solution the sodium and chloride ions dissociate from each oth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505320" y="2647440"/>
            <a:ext cx="2360520" cy="1777320"/>
            <a:chOff x="3505320" y="2647440"/>
            <a:chExt cx="2360520" cy="1777320"/>
          </a:xfrm>
        </p:grpSpPr>
        <p:sp>
          <p:nvSpPr>
            <p:cNvPr id="283" name=""/>
            <p:cNvSpPr/>
            <p:nvPr/>
          </p:nvSpPr>
          <p:spPr>
            <a:xfrm rot="13797600">
              <a:off x="4192920" y="3897720"/>
              <a:ext cx="555480" cy="38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0800000">
              <a:off x="4983120" y="4049640"/>
              <a:ext cx="55584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1"/>
            <a:srcRect l="44763" t="46663" r="46195" b="41457"/>
            <a:stretch/>
          </p:blipFill>
          <p:spPr>
            <a:xfrm>
              <a:off x="3505320" y="2997360"/>
              <a:ext cx="801720" cy="78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2"/>
            <a:srcRect l="76504" t="41063" r="9375" b="39587"/>
            <a:stretch/>
          </p:blipFill>
          <p:spPr>
            <a:xfrm>
              <a:off x="4343400" y="2798640"/>
              <a:ext cx="126036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981600" y="2765520"/>
              <a:ext cx="53316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326800">
              <a:off x="5319360" y="2789280"/>
              <a:ext cx="53352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7533000">
              <a:off x="5349240" y="3798360"/>
              <a:ext cx="53352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91120" y="2743200"/>
              <a:ext cx="228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45120" y="3657600"/>
              <a:ext cx="152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67080" y="3809880"/>
              <a:ext cx="2286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19720" y="4038480"/>
              <a:ext cx="1218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A895-89DF-40D3-9233-371E21A3F02F}" type="slidenum">
              <a:t>45</a:t>
            </a:fld>
          </a:p>
        </p:txBody>
      </p:sp>
    </p:spTree>
  </p:cSld>
  <p:transition spd="slow"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472428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queous solution the sodium and chloride ions dissociate from each oth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981600" y="2647440"/>
            <a:ext cx="1884240" cy="1777320"/>
            <a:chOff x="3981600" y="2647440"/>
            <a:chExt cx="1884240" cy="1777320"/>
          </a:xfrm>
        </p:grpSpPr>
        <p:sp>
          <p:nvSpPr>
            <p:cNvPr id="297" name=""/>
            <p:cNvSpPr/>
            <p:nvPr/>
          </p:nvSpPr>
          <p:spPr>
            <a:xfrm rot="13797600">
              <a:off x="4192920" y="3897720"/>
              <a:ext cx="555480" cy="38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0800000">
              <a:off x="4983120" y="4049640"/>
              <a:ext cx="55584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1"/>
            <a:srcRect l="76504" t="41063" r="9375" b="39587"/>
            <a:stretch/>
          </p:blipFill>
          <p:spPr>
            <a:xfrm>
              <a:off x="4343400" y="2798640"/>
              <a:ext cx="126036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3981600" y="2765520"/>
              <a:ext cx="53316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2326800">
              <a:off x="5319360" y="2789280"/>
              <a:ext cx="53352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7533000">
              <a:off x="5349240" y="3798360"/>
              <a:ext cx="53352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91120" y="2743200"/>
              <a:ext cx="228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45120" y="3657600"/>
              <a:ext cx="152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3809880"/>
              <a:ext cx="2286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19720" y="4038480"/>
              <a:ext cx="1218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7" name="" descr=""/>
          <p:cNvPicPr/>
          <p:nvPr/>
        </p:nvPicPr>
        <p:blipFill>
          <a:blip r:embed="rId2"/>
          <a:srcRect l="44763" t="46663" r="46195" b="41457"/>
          <a:stretch/>
        </p:blipFill>
        <p:spPr>
          <a:xfrm>
            <a:off x="3505320" y="2997360"/>
            <a:ext cx="801720" cy="78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AC5-CE38-4E32-8170-A2560AF241BB}" type="slidenum">
              <a:t>46</a:t>
            </a:fld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83" dur="5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85" dur="5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6140520"/>
            <a:ext cx="9144000" cy="7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ons hydrate with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rcRect l="44763" t="46663" r="46195" b="41457"/>
          <a:stretch/>
        </p:blipFill>
        <p:spPr>
          <a:xfrm>
            <a:off x="2211480" y="2997360"/>
            <a:ext cx="801720" cy="78876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5348160" y="2691720"/>
            <a:ext cx="1884240" cy="1777320"/>
            <a:chOff x="5348160" y="2691720"/>
            <a:chExt cx="1884240" cy="1777320"/>
          </a:xfrm>
        </p:grpSpPr>
        <p:sp>
          <p:nvSpPr>
            <p:cNvPr id="312" name=""/>
            <p:cNvSpPr/>
            <p:nvPr/>
          </p:nvSpPr>
          <p:spPr>
            <a:xfrm rot="13797600">
              <a:off x="5559480" y="3942000"/>
              <a:ext cx="555480" cy="38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0800000">
              <a:off x="6349680" y="4093920"/>
              <a:ext cx="55584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2"/>
            <a:srcRect l="76504" t="41063" r="9375" b="39587"/>
            <a:stretch/>
          </p:blipFill>
          <p:spPr>
            <a:xfrm>
              <a:off x="5709960" y="2842920"/>
              <a:ext cx="126036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348160" y="2809800"/>
              <a:ext cx="53316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2326800">
              <a:off x="6685920" y="2833560"/>
              <a:ext cx="53352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7533000">
              <a:off x="6715800" y="3842640"/>
              <a:ext cx="53352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57680" y="2787480"/>
              <a:ext cx="228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11680" y="3701880"/>
              <a:ext cx="152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33640" y="3854160"/>
              <a:ext cx="2286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86280" y="4082760"/>
              <a:ext cx="1218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2" name="" descr=""/>
          <p:cNvPicPr/>
          <p:nvPr/>
        </p:nvPicPr>
        <p:blipFill>
          <a:blip r:embed="rId3"/>
          <a:srcRect l="35093" t="43967" r="54735" b="38012"/>
          <a:stretch/>
        </p:blipFill>
        <p:spPr>
          <a:xfrm>
            <a:off x="152280" y="2895480"/>
            <a:ext cx="884520" cy="11750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rcRect l="38012" t="35093" r="43967" b="54735"/>
          <a:stretch/>
        </p:blipFill>
        <p:spPr>
          <a:xfrm>
            <a:off x="1981080" y="1066680"/>
            <a:ext cx="1175040" cy="8845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rcRect l="43967" t="54735" r="38012" b="35093"/>
          <a:stretch/>
        </p:blipFill>
        <p:spPr>
          <a:xfrm>
            <a:off x="2100240" y="4906800"/>
            <a:ext cx="1174680" cy="8845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6"/>
          <a:srcRect l="43967" t="54735" r="38012" b="35093"/>
          <a:stretch/>
        </p:blipFill>
        <p:spPr>
          <a:xfrm>
            <a:off x="5842080" y="457200"/>
            <a:ext cx="1174680" cy="884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7"/>
          <a:srcRect l="38012" t="35093" r="43967" b="54735"/>
          <a:stretch/>
        </p:blipFill>
        <p:spPr>
          <a:xfrm>
            <a:off x="5730840" y="5334120"/>
            <a:ext cx="1174680" cy="8841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8"/>
          <a:srcRect l="35093" t="38012" r="54735" b="43967"/>
          <a:stretch/>
        </p:blipFill>
        <p:spPr>
          <a:xfrm>
            <a:off x="7878600" y="2798640"/>
            <a:ext cx="884520" cy="11750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9"/>
          <a:srcRect l="35056" t="43967" r="55998" b="39478"/>
          <a:stretch/>
        </p:blipFill>
        <p:spPr>
          <a:xfrm flipH="1" rot="13550400">
            <a:off x="8145000" y="4642920"/>
            <a:ext cx="764640" cy="10792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10"/>
          <a:srcRect l="35093" t="43967" r="54735" b="38012"/>
          <a:stretch/>
        </p:blipFill>
        <p:spPr>
          <a:xfrm flipH="1" rot="2336400">
            <a:off x="3560400" y="1339200"/>
            <a:ext cx="870120" cy="11743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11"/>
          <a:srcRect l="35093" t="43967" r="54735" b="38012"/>
          <a:stretch/>
        </p:blipFill>
        <p:spPr>
          <a:xfrm rot="7909800">
            <a:off x="4158720" y="4038480"/>
            <a:ext cx="869760" cy="11746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12"/>
          <a:srcRect l="35093" t="43967" r="54735" b="38012"/>
          <a:stretch/>
        </p:blipFill>
        <p:spPr>
          <a:xfrm rot="18545400">
            <a:off x="7771680" y="1034640"/>
            <a:ext cx="870120" cy="11750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13"/>
          <a:srcRect l="54735" t="39498" r="35093" b="43967"/>
          <a:stretch/>
        </p:blipFill>
        <p:spPr>
          <a:xfrm>
            <a:off x="4051440" y="2895480"/>
            <a:ext cx="884160" cy="107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F4A-1430-4DDC-80CF-044A8C96E5C2}" type="slidenum">
              <a:t>47</a:t>
            </a:fld>
          </a:p>
        </p:txBody>
      </p:sp>
    </p:spTree>
  </p:cSld>
  <p:transition spd="slow">
    <p:blinds dir="vert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22222E-006 L -0.00034 0.18842 E">
                                      <p:cBhvr>
                                        <p:cTn id="691" dur="5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7 L 0.0007 -0.13102 E">
                                      <p:cBhvr>
                                        <p:cTn id="693" dur="5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 L -0.08454 -0.00069 E">
                                      <p:cBhvr>
                                        <p:cTn id="695" dur="5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L -0.07674 0.10533 E">
                                      <p:cBhvr>
                                        <p:cTn id="697" dur="5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7.40741E-007 L 0.08247 -0.09491 E">
                                      <p:cBhvr>
                                        <p:cTn id="699" dur="5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00087 0.13102 E">
                                      <p:cBhvr>
                                        <p:cTn id="701" dur="5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444E-006 L -0.00087 -0.16157 E">
                                      <p:cBhvr>
                                        <p:cTn id="703" dur="5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48148E-006 L 0.11927 0.11042 E">
                                      <p:cBhvr>
                                        <p:cTn id="705" dur="5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L -0.10504 0.00046 E">
                                      <p:cBhvr>
                                        <p:cTn id="707" dur="5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0023 L -0.12049 -0.10695 E">
                                      <p:cBhvr>
                                        <p:cTn id="709" dur="5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7 L 0.12309 -0.00324 E">
                                      <p:cBhvr>
                                        <p:cTn id="711" dur="5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13399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quation representing the dissociation of NaCl i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0" y="2743200"/>
            <a:ext cx="914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NaCl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 + 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x+y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H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→ N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+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(H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O)</a:t>
            </a:r>
            <a:r>
              <a:rPr b="0" i="1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+ Cl</a:t>
            </a:r>
            <a:r>
              <a:rPr b="0" lang="en-US" sz="32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(H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O)</a:t>
            </a:r>
            <a:r>
              <a:rPr b="0" i="1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6100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quation can be written more simply 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40" y="4602240"/>
            <a:ext cx="914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NaCl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→ N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+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+ Cl</a:t>
            </a:r>
            <a:r>
              <a:rPr b="0" lang="en-US" sz="32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B9F-DE8B-44BC-A2C7-9954A204178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3085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on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formation of 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3133800"/>
            <a:ext cx="85341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on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ccurs as the result of a chemical reaction of certain substances with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170-29AC-4BEC-A8FA-A13599789852}" type="slidenum">
              <a:t>49</a:t>
            </a:fld>
          </a:p>
        </p:txBody>
      </p:sp>
    </p:spTree>
  </p:cSld>
  <p:transition spd="slow">
    <p:blinds dir="vert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tter or caustic ta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lippery, soapy feel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bility to change litmus red to b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bility to interact with aci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624-F135-40D7-8D49-F2E152CE1C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etic acid ionizes in water to form acetate ion and hydronium 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0" y="2116800"/>
            <a:ext cx="9142560" cy="829800"/>
            <a:chOff x="0" y="2116800"/>
            <a:chExt cx="9142560" cy="829800"/>
          </a:xfrm>
        </p:grpSpPr>
        <p:sp>
          <p:nvSpPr>
            <p:cNvPr id="341" name=""/>
            <p:cNvSpPr/>
            <p:nvPr/>
          </p:nvSpPr>
          <p:spPr>
            <a:xfrm>
              <a:off x="0" y="2209680"/>
              <a:ext cx="9142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HC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 + H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O   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 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3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2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+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 + C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3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2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4335480" y="2116800"/>
              <a:ext cx="533520" cy="829800"/>
              <a:chOff x="4335480" y="2116800"/>
              <a:chExt cx="533520" cy="829800"/>
            </a:xfrm>
          </p:grpSpPr>
          <p:sp>
            <p:nvSpPr>
              <p:cNvPr id="343" name=""/>
              <p:cNvSpPr/>
              <p:nvPr/>
            </p:nvSpPr>
            <p:spPr>
              <a:xfrm>
                <a:off x="4335480" y="2116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4335480" y="236484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414440" y="2682720"/>
            <a:ext cx="6396120" cy="398880"/>
            <a:chOff x="1414440" y="2682720"/>
            <a:chExt cx="6396120" cy="398880"/>
          </a:xfrm>
        </p:grpSpPr>
        <p:sp>
          <p:nvSpPr>
            <p:cNvPr id="346" name=""/>
            <p:cNvSpPr/>
            <p:nvPr/>
          </p:nvSpPr>
          <p:spPr>
            <a:xfrm>
              <a:off x="1414440" y="26827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Lewis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37040" y="2682720"/>
              <a:ext cx="15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Lewis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21240" y="26827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Lewis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5880" y="2682720"/>
              <a:ext cx="17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Lewis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440" y="4199400"/>
            <a:ext cx="9142560" cy="830520"/>
            <a:chOff x="1440" y="4199400"/>
            <a:chExt cx="9142560" cy="830520"/>
          </a:xfrm>
        </p:grpSpPr>
        <p:sp>
          <p:nvSpPr>
            <p:cNvPr id="351" name=""/>
            <p:cNvSpPr/>
            <p:nvPr/>
          </p:nvSpPr>
          <p:spPr>
            <a:xfrm>
              <a:off x="1440" y="4297320"/>
              <a:ext cx="9142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HC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     H</a:t>
              </a:r>
              <a:r>
                <a:rPr b="0" lang="en-US" sz="32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+ 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+ C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3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2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3998880" y="4199400"/>
              <a:ext cx="533520" cy="830520"/>
              <a:chOff x="3998880" y="4199400"/>
              <a:chExt cx="533520" cy="830520"/>
            </a:xfrm>
          </p:grpSpPr>
          <p:sp>
            <p:nvSpPr>
              <p:cNvPr id="353" name=""/>
              <p:cNvSpPr/>
              <p:nvPr/>
            </p:nvSpPr>
            <p:spPr>
              <a:xfrm>
                <a:off x="3998880" y="41994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3998880" y="444816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5" name=""/>
          <p:cNvSpPr/>
          <p:nvPr/>
        </p:nvSpPr>
        <p:spPr>
          <a:xfrm>
            <a:off x="0" y="36100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quation can be written more simply 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5226120"/>
            <a:ext cx="822960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absence of water, ionization reactions do not occ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A93-E24C-4E0E-8D60-73F54D6BD107}" type="slidenum">
              <a:t>50</a:t>
            </a:fld>
          </a:p>
        </p:txBody>
      </p:sp>
    </p:spTree>
  </p:cSld>
  <p:transition spd="slow">
    <p:blinds dir="vert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7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Strong and 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Weak Electroly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E72-03F2-4786-979A-3CDBD9CD6F5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857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ong Electroly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An electrolyte that is essentially 100% ionized in aqueous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28600" y="2362320"/>
            <a:ext cx="8686800" cy="1638360"/>
            <a:chOff x="228600" y="2362320"/>
            <a:chExt cx="8686800" cy="1638360"/>
          </a:xfrm>
        </p:grpSpPr>
        <p:sp>
          <p:nvSpPr>
            <p:cNvPr id="361" name=""/>
            <p:cNvSpPr/>
            <p:nvPr/>
          </p:nvSpPr>
          <p:spPr>
            <a:xfrm>
              <a:off x="304920" y="2857680"/>
              <a:ext cx="853416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eak Electrolyte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An electrolyte that is ionized to a small extent in aqueous solution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8600" y="2362320"/>
              <a:ext cx="86868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53F8-86E1-4FAD-B4CF-DD681AE7CEF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5800" y="186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salts are strong electroly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253512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ong acids and bases (highly ionized) are strong electroly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ak acids and bases (slightly ionized) are weak electroly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56F-A6FE-47AA-AE97-B9A83717CDA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208160" y="1679400"/>
            <a:ext cx="6727680" cy="502632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380880" y="457200"/>
            <a:ext cx="5550120" cy="887400"/>
            <a:chOff x="380880" y="457200"/>
            <a:chExt cx="5550120" cy="887400"/>
          </a:xfrm>
        </p:grpSpPr>
        <p:sp>
          <p:nvSpPr>
            <p:cNvPr id="367" name=""/>
            <p:cNvSpPr/>
            <p:nvPr/>
          </p:nvSpPr>
          <p:spPr>
            <a:xfrm>
              <a:off x="380880" y="457200"/>
              <a:ext cx="1816200" cy="887400"/>
            </a:xfrm>
            <a:prstGeom prst="borderCallout1">
              <a:avLst>
                <a:gd name="adj1" fmla="val 18750"/>
                <a:gd name="adj2" fmla="val -8333"/>
                <a:gd name="adj3" fmla="val 129694"/>
                <a:gd name="adj4" fmla="val 133740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Cl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14800" y="457200"/>
              <a:ext cx="1816200" cy="887400"/>
            </a:xfrm>
            <a:prstGeom prst="borderCallout1">
              <a:avLst>
                <a:gd name="adj1" fmla="val 18750"/>
                <a:gd name="adj2" fmla="val -8333"/>
                <a:gd name="adj3" fmla="val 129694"/>
                <a:gd name="adj4" fmla="val 133740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80880" y="457200"/>
            <a:ext cx="5550120" cy="887400"/>
            <a:chOff x="380880" y="457200"/>
            <a:chExt cx="5550120" cy="887400"/>
          </a:xfrm>
        </p:grpSpPr>
        <p:sp>
          <p:nvSpPr>
            <p:cNvPr id="370" name=""/>
            <p:cNvSpPr/>
            <p:nvPr/>
          </p:nvSpPr>
          <p:spPr>
            <a:xfrm>
              <a:off x="380880" y="457200"/>
              <a:ext cx="1816200" cy="887400"/>
            </a:xfrm>
            <a:prstGeom prst="borderCallout1">
              <a:avLst>
                <a:gd name="adj1" fmla="val 18750"/>
                <a:gd name="adj2" fmla="val -8333"/>
                <a:gd name="adj3" fmla="val 129694"/>
                <a:gd name="adj4" fmla="val 133740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ong Ac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14800" y="457200"/>
              <a:ext cx="1816200" cy="887400"/>
            </a:xfrm>
            <a:prstGeom prst="borderCallout1">
              <a:avLst>
                <a:gd name="adj1" fmla="val 18750"/>
                <a:gd name="adj2" fmla="val -8333"/>
                <a:gd name="adj3" fmla="val 129694"/>
                <a:gd name="adj4" fmla="val 133740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ak Ac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80880" y="457200"/>
            <a:ext cx="5550120" cy="887400"/>
            <a:chOff x="380880" y="457200"/>
            <a:chExt cx="5550120" cy="887400"/>
          </a:xfrm>
        </p:grpSpPr>
        <p:sp>
          <p:nvSpPr>
            <p:cNvPr id="373" name=""/>
            <p:cNvSpPr/>
            <p:nvPr/>
          </p:nvSpPr>
          <p:spPr>
            <a:xfrm>
              <a:off x="4114800" y="457200"/>
              <a:ext cx="1816200" cy="887400"/>
            </a:xfrm>
            <a:prstGeom prst="borderCallout1">
              <a:avLst>
                <a:gd name="adj1" fmla="val 18750"/>
                <a:gd name="adj2" fmla="val -8333"/>
                <a:gd name="adj3" fmla="val 129694"/>
                <a:gd name="adj4" fmla="val 133740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% ioniz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0880" y="457200"/>
              <a:ext cx="1816200" cy="887400"/>
            </a:xfrm>
            <a:prstGeom prst="borderCallout1">
              <a:avLst>
                <a:gd name="adj1" fmla="val 18750"/>
                <a:gd name="adj2" fmla="val -8333"/>
                <a:gd name="adj3" fmla="val 129694"/>
                <a:gd name="adj4" fmla="val 133740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ioniz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83F-165E-4FB7-B99F-BFEE7E8B3E6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1440" y="3067920"/>
            <a:ext cx="9141120" cy="894960"/>
            <a:chOff x="1440" y="3067920"/>
            <a:chExt cx="9141120" cy="894960"/>
          </a:xfrm>
        </p:grpSpPr>
        <p:sp>
          <p:nvSpPr>
            <p:cNvPr id="377" name=""/>
            <p:cNvSpPr/>
            <p:nvPr/>
          </p:nvSpPr>
          <p:spPr>
            <a:xfrm>
              <a:off x="1440" y="3138480"/>
              <a:ext cx="9141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C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)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→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)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8" name=""/>
            <p:cNvGraphicFramePr/>
            <p:nvPr/>
          </p:nvGraphicFramePr>
          <p:xfrm>
            <a:off x="6066000" y="3135240"/>
            <a:ext cx="2403360" cy="66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66000" y="3135240"/>
                      <a:ext cx="240336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80" name=""/>
            <p:cNvGrpSpPr/>
            <p:nvPr/>
          </p:nvGrpSpPr>
          <p:grpSpPr>
            <a:xfrm>
              <a:off x="3533760" y="3067920"/>
              <a:ext cx="533520" cy="894960"/>
              <a:chOff x="3533760" y="3067920"/>
              <a:chExt cx="533520" cy="894960"/>
            </a:xfrm>
          </p:grpSpPr>
          <p:sp>
            <p:nvSpPr>
              <p:cNvPr id="381" name=""/>
              <p:cNvSpPr/>
              <p:nvPr/>
            </p:nvSpPr>
            <p:spPr>
              <a:xfrm>
                <a:off x="3533760" y="30679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3533760" y="33199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3" name=""/>
          <p:cNvSpPr/>
          <p:nvPr/>
        </p:nvSpPr>
        <p:spPr>
          <a:xfrm>
            <a:off x="0" y="1143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th the ionized and unionized forms of a weak electrolyte are present in aqueous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438280" y="4419720"/>
            <a:ext cx="5791320" cy="887400"/>
            <a:chOff x="2438280" y="4419720"/>
            <a:chExt cx="5791320" cy="887400"/>
          </a:xfrm>
        </p:grpSpPr>
        <p:sp>
          <p:nvSpPr>
            <p:cNvPr id="385" name=""/>
            <p:cNvSpPr/>
            <p:nvPr/>
          </p:nvSpPr>
          <p:spPr>
            <a:xfrm>
              <a:off x="6413400" y="4419720"/>
              <a:ext cx="1816200" cy="887400"/>
            </a:xfrm>
            <a:prstGeom prst="borderCallout1">
              <a:avLst>
                <a:gd name="adj1" fmla="val 18750"/>
                <a:gd name="adj2" fmla="val -8333"/>
                <a:gd name="adj3" fmla="val -76208"/>
                <a:gd name="adj4" fmla="val -37500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niz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38280" y="4419720"/>
              <a:ext cx="1816200" cy="887400"/>
            </a:xfrm>
            <a:prstGeom prst="borderCallout1">
              <a:avLst>
                <a:gd name="adj1" fmla="val 18750"/>
                <a:gd name="adj2" fmla="val -8333"/>
                <a:gd name="adj3" fmla="val -76208"/>
                <a:gd name="adj4" fmla="val -37500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ioniz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0960-52FD-4D0E-8D0B-131B8E07522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1440" y="2000160"/>
            <a:ext cx="9141120" cy="682560"/>
            <a:chOff x="1440" y="2000160"/>
            <a:chExt cx="9141120" cy="682560"/>
          </a:xfrm>
        </p:grpSpPr>
        <p:sp>
          <p:nvSpPr>
            <p:cNvPr id="388" name=""/>
            <p:cNvSpPr/>
            <p:nvPr/>
          </p:nvSpPr>
          <p:spPr>
            <a:xfrm>
              <a:off x="1440" y="2000160"/>
              <a:ext cx="9141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N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)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→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+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aq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89" name=""/>
            <p:cNvGraphicFramePr/>
            <p:nvPr/>
          </p:nvGraphicFramePr>
          <p:xfrm>
            <a:off x="6004080" y="2016000"/>
            <a:ext cx="1741320" cy="66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04080" y="2016000"/>
                      <a:ext cx="174132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1" name=""/>
          <p:cNvSpPr/>
          <p:nvPr/>
        </p:nvSpPr>
        <p:spPr>
          <a:xfrm>
            <a:off x="0" y="134460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 strong acid, is 100 % dissocia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440" y="4519080"/>
            <a:ext cx="9141120" cy="891360"/>
            <a:chOff x="1440" y="4519080"/>
            <a:chExt cx="9141120" cy="891360"/>
          </a:xfrm>
        </p:grpSpPr>
        <p:sp>
          <p:nvSpPr>
            <p:cNvPr id="393" name=""/>
            <p:cNvSpPr/>
            <p:nvPr/>
          </p:nvSpPr>
          <p:spPr>
            <a:xfrm>
              <a:off x="1440" y="4587840"/>
              <a:ext cx="9141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N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)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→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+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aq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4" name=""/>
            <p:cNvGraphicFramePr/>
            <p:nvPr/>
          </p:nvGraphicFramePr>
          <p:xfrm>
            <a:off x="5986440" y="4595760"/>
            <a:ext cx="1758960" cy="66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86440" y="4595760"/>
                      <a:ext cx="175896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96" name=""/>
            <p:cNvGrpSpPr/>
            <p:nvPr/>
          </p:nvGrpSpPr>
          <p:grpSpPr>
            <a:xfrm>
              <a:off x="3544920" y="4519080"/>
              <a:ext cx="533520" cy="891360"/>
              <a:chOff x="3544920" y="4519080"/>
              <a:chExt cx="533520" cy="891360"/>
            </a:xfrm>
          </p:grpSpPr>
          <p:sp>
            <p:nvSpPr>
              <p:cNvPr id="397" name=""/>
              <p:cNvSpPr/>
              <p:nvPr/>
            </p:nvSpPr>
            <p:spPr>
              <a:xfrm>
                <a:off x="3544920" y="45190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3544920" y="47674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9" name=""/>
          <p:cNvSpPr/>
          <p:nvPr/>
        </p:nvSpPr>
        <p:spPr>
          <a:xfrm>
            <a:off x="0" y="3965400"/>
            <a:ext cx="914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 weak acid, is only slightly ioniz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77A-28D3-40D4-A80F-DA0A8D5A7755}" type="slidenum">
              <a:t>56</a:t>
            </a:fld>
          </a:p>
        </p:txBody>
      </p:sp>
    </p:spTree>
  </p:cSld>
  <p:transition spd="slow">
    <p:blinds dir="vert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rcRect l="0" t="25640" r="1919" b="29488"/>
          <a:stretch/>
        </p:blipFill>
        <p:spPr>
          <a:xfrm>
            <a:off x="76320" y="1886040"/>
            <a:ext cx="8991360" cy="308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DD61-268E-42DB-A93B-39D3114E576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91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lytes yield two or more ions per formula unit upon dissoci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40" y="1143000"/>
            <a:ext cx="914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aOH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→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(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aq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)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+ OH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(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aq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)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240" y="3048120"/>
            <a:ext cx="9140760" cy="666720"/>
            <a:chOff x="3240" y="3048120"/>
            <a:chExt cx="9140760" cy="666720"/>
          </a:xfrm>
        </p:grpSpPr>
        <p:sp>
          <p:nvSpPr>
            <p:cNvPr id="404" name=""/>
            <p:cNvSpPr/>
            <p:nvPr/>
          </p:nvSpPr>
          <p:spPr>
            <a:xfrm>
              <a:off x="3240" y="3051360"/>
              <a:ext cx="9140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Na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S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→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Na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+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r>
                <a:rPr b="0" lang="en-US" sz="36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5" name=""/>
            <p:cNvGraphicFramePr/>
            <p:nvPr/>
          </p:nvGraphicFramePr>
          <p:xfrm>
            <a:off x="5954760" y="3048120"/>
            <a:ext cx="1833480" cy="66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4760" y="3048120"/>
                      <a:ext cx="18334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07" name=""/>
          <p:cNvSpPr/>
          <p:nvPr/>
        </p:nvSpPr>
        <p:spPr>
          <a:xfrm>
            <a:off x="1765440" y="2008080"/>
            <a:ext cx="3340080" cy="887400"/>
          </a:xfrm>
          <a:prstGeom prst="borderCallout1">
            <a:avLst>
              <a:gd name="adj1" fmla="val 18750"/>
              <a:gd name="adj2" fmla="val -8333"/>
              <a:gd name="adj3" fmla="val -42398"/>
              <a:gd name="adj4" fmla="val 11259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ons in solution per formula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240" y="4952880"/>
            <a:ext cx="9140760" cy="666720"/>
            <a:chOff x="3240" y="4952880"/>
            <a:chExt cx="9140760" cy="666720"/>
          </a:xfrm>
        </p:grpSpPr>
        <p:sp>
          <p:nvSpPr>
            <p:cNvPr id="409" name=""/>
            <p:cNvSpPr/>
            <p:nvPr/>
          </p:nvSpPr>
          <p:spPr>
            <a:xfrm>
              <a:off x="3240" y="4955760"/>
              <a:ext cx="914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Fe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S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4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→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Fe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3+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3S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r>
                <a:rPr b="0" lang="en-US" sz="36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172200" y="4952880"/>
            <a:ext cx="2092320" cy="66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72200" y="4952880"/>
                      <a:ext cx="209232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2" name=""/>
          <p:cNvSpPr/>
          <p:nvPr/>
        </p:nvSpPr>
        <p:spPr>
          <a:xfrm>
            <a:off x="1994040" y="3913200"/>
            <a:ext cx="3340080" cy="887400"/>
          </a:xfrm>
          <a:prstGeom prst="borderCallout1">
            <a:avLst>
              <a:gd name="adj1" fmla="val 18750"/>
              <a:gd name="adj2" fmla="val -8333"/>
              <a:gd name="adj3" fmla="val -42398"/>
              <a:gd name="adj4" fmla="val 112597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ions in solution per formula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46320" y="5818320"/>
            <a:ext cx="3340080" cy="887400"/>
          </a:xfrm>
          <a:prstGeom prst="borderCallout1">
            <a:avLst>
              <a:gd name="adj1" fmla="val 18750"/>
              <a:gd name="adj2" fmla="val -8333"/>
              <a:gd name="adj3" fmla="val -42398"/>
              <a:gd name="adj4" fmla="val 112597"/>
            </a:avLst>
          </a:prstGeom>
          <a:solidFill>
            <a:srgbClr val="cc99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ions in solution per formula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D11-9487-4B09-8C09-1BE860094817}" type="slidenum">
              <a:t>58</a:t>
            </a:fld>
          </a:p>
        </p:txBody>
      </p:sp>
    </p:spTree>
  </p:cSld>
  <p:transition spd="slow">
    <p:blinds dir="vert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71" dur="1" fill="hold"/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91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lytes yield two or more moles of ions per mole of electrolyte upon dissoci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40" y="1143000"/>
            <a:ext cx="914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aOH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→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(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aq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)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+ OH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(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aq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)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828800" y="1660680"/>
            <a:ext cx="4800600" cy="398880"/>
            <a:chOff x="1828800" y="1660680"/>
            <a:chExt cx="4800600" cy="398880"/>
          </a:xfrm>
        </p:grpSpPr>
        <p:sp>
          <p:nvSpPr>
            <p:cNvPr id="417" name=""/>
            <p:cNvSpPr/>
            <p:nvPr/>
          </p:nvSpPr>
          <p:spPr>
            <a:xfrm>
              <a:off x="1828800" y="16606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 m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81280" y="16606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 m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15000" y="16606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 m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240" y="3048120"/>
            <a:ext cx="9140760" cy="666720"/>
            <a:chOff x="3240" y="3048120"/>
            <a:chExt cx="9140760" cy="666720"/>
          </a:xfrm>
        </p:grpSpPr>
        <p:sp>
          <p:nvSpPr>
            <p:cNvPr id="421" name=""/>
            <p:cNvSpPr/>
            <p:nvPr/>
          </p:nvSpPr>
          <p:spPr>
            <a:xfrm>
              <a:off x="3240" y="3051360"/>
              <a:ext cx="9140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Na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S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→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Na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+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r>
                <a:rPr b="0" lang="en-US" sz="36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2" name=""/>
            <p:cNvGraphicFramePr/>
            <p:nvPr/>
          </p:nvGraphicFramePr>
          <p:xfrm>
            <a:off x="5954760" y="3048120"/>
            <a:ext cx="1833480" cy="66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4760" y="3048120"/>
                      <a:ext cx="18334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24" name=""/>
          <p:cNvGrpSpPr/>
          <p:nvPr/>
        </p:nvGrpSpPr>
        <p:grpSpPr>
          <a:xfrm>
            <a:off x="1676520" y="3618000"/>
            <a:ext cx="5257800" cy="398880"/>
            <a:chOff x="1676520" y="3618000"/>
            <a:chExt cx="5257800" cy="398880"/>
          </a:xfrm>
        </p:grpSpPr>
        <p:sp>
          <p:nvSpPr>
            <p:cNvPr id="425" name=""/>
            <p:cNvSpPr/>
            <p:nvPr/>
          </p:nvSpPr>
          <p:spPr>
            <a:xfrm>
              <a:off x="1676520" y="36180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 m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57600" y="3618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 mo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19920" y="3618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 m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240" y="4952880"/>
            <a:ext cx="9140760" cy="666720"/>
            <a:chOff x="3240" y="4952880"/>
            <a:chExt cx="9140760" cy="666720"/>
          </a:xfrm>
        </p:grpSpPr>
        <p:sp>
          <p:nvSpPr>
            <p:cNvPr id="429" name=""/>
            <p:cNvSpPr/>
            <p:nvPr/>
          </p:nvSpPr>
          <p:spPr>
            <a:xfrm>
              <a:off x="3240" y="4955760"/>
              <a:ext cx="914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Fe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S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4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→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Fe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3+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3S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r>
                <a:rPr b="0" lang="en-US" sz="36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30" name=""/>
            <p:cNvGraphicFramePr/>
            <p:nvPr/>
          </p:nvGraphicFramePr>
          <p:xfrm>
            <a:off x="6172200" y="4952880"/>
            <a:ext cx="2092320" cy="66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72200" y="4952880"/>
                      <a:ext cx="209232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32" name=""/>
          <p:cNvGrpSpPr/>
          <p:nvPr/>
        </p:nvGrpSpPr>
        <p:grpSpPr>
          <a:xfrm>
            <a:off x="1371600" y="5510160"/>
            <a:ext cx="5943600" cy="398880"/>
            <a:chOff x="1371600" y="5510160"/>
            <a:chExt cx="5943600" cy="398880"/>
          </a:xfrm>
        </p:grpSpPr>
        <p:sp>
          <p:nvSpPr>
            <p:cNvPr id="433" name=""/>
            <p:cNvSpPr/>
            <p:nvPr/>
          </p:nvSpPr>
          <p:spPr>
            <a:xfrm>
              <a:off x="1371600" y="55101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 m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55101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 mo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48520" y="55101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 mo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E5A0-4CBC-46DD-9E8B-7CF39F9647BD}" type="slidenum">
              <a:t>59</a:t>
            </a:fld>
          </a:p>
        </p:txBody>
      </p:sp>
    </p:spTree>
  </p:cSld>
  <p:transition spd="slow">
    <p:blinds dir="vert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3107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vante Arrhenius was a Swedish scientist who lived from 1859-192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51784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884 he advanced a theory of acids and b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344-C3A7-43C4-8E69-D3A5B5A76E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Colligative Properties of</a:t>
            </a:r>
            <a:br>
              <a:rPr sz="5400"/>
            </a:b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lectrolyte Solu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E8A-CEBC-4E2B-A9E8-3D16D3EA6F22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2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ances that form ions in aqueous solutions change the colligative properties of water in proportion to the number of ions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240" y="1905120"/>
            <a:ext cx="9140760" cy="916560"/>
            <a:chOff x="3240" y="1905120"/>
            <a:chExt cx="9140760" cy="916560"/>
          </a:xfrm>
        </p:grpSpPr>
        <p:sp>
          <p:nvSpPr>
            <p:cNvPr id="439" name=""/>
            <p:cNvSpPr/>
            <p:nvPr/>
          </p:nvSpPr>
          <p:spPr>
            <a:xfrm>
              <a:off x="3240" y="1905120"/>
              <a:ext cx="914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NaOH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→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Na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+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OH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-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1828800" y="2422800"/>
              <a:ext cx="4800600" cy="398880"/>
              <a:chOff x="1828800" y="2422800"/>
              <a:chExt cx="4800600" cy="398880"/>
            </a:xfrm>
          </p:grpSpPr>
          <p:sp>
            <p:nvSpPr>
              <p:cNvPr id="441" name=""/>
              <p:cNvSpPr/>
              <p:nvPr/>
            </p:nvSpPr>
            <p:spPr>
              <a:xfrm>
                <a:off x="1828800" y="242280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m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581280" y="24228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m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715000" y="24228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m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4" name=""/>
          <p:cNvSpPr/>
          <p:nvPr/>
        </p:nvSpPr>
        <p:spPr>
          <a:xfrm>
            <a:off x="0" y="2819520"/>
            <a:ext cx="9140760" cy="1066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les of ions will depress the freezing point of water twice that of one mole of a nonelectroly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240" y="4419720"/>
            <a:ext cx="9140760" cy="955800"/>
            <a:chOff x="3240" y="4419720"/>
            <a:chExt cx="9140760" cy="955800"/>
          </a:xfrm>
        </p:grpSpPr>
        <p:grpSp>
          <p:nvGrpSpPr>
            <p:cNvPr id="446" name=""/>
            <p:cNvGrpSpPr/>
            <p:nvPr/>
          </p:nvGrpSpPr>
          <p:grpSpPr>
            <a:xfrm>
              <a:off x="3240" y="4419720"/>
              <a:ext cx="9140760" cy="666360"/>
              <a:chOff x="3240" y="4419720"/>
              <a:chExt cx="9140760" cy="666360"/>
            </a:xfrm>
          </p:grpSpPr>
          <p:sp>
            <p:nvSpPr>
              <p:cNvPr id="447" name=""/>
              <p:cNvSpPr/>
              <p:nvPr/>
            </p:nvSpPr>
            <p:spPr>
              <a:xfrm>
                <a:off x="3240" y="4422240"/>
                <a:ext cx="91407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Fe</a:t>
                </a:r>
                <a:r>
                  <a:rPr b="0" lang="en-US" sz="3600" spc="-1" strike="noStrike" baseline="-25000">
                    <a:solidFill>
                      <a:srgbClr val="0000ff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(SO</a:t>
                </a:r>
                <a:r>
                  <a:rPr b="0" lang="en-US" sz="3600" spc="-1" strike="noStrike" baseline="-25000">
                    <a:solidFill>
                      <a:srgbClr val="0000ff"/>
                    </a:solidFill>
                    <a:latin typeface="Arial"/>
                    <a:ea typeface="Arial"/>
                  </a:rPr>
                  <a:t>4 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)</a:t>
                </a:r>
                <a:r>
                  <a:rPr b="0" lang="en-US" sz="3600" spc="-1" strike="noStrike" baseline="-25000">
                    <a:solidFill>
                      <a:srgbClr val="0000ff"/>
                    </a:solidFill>
                    <a:latin typeface="Arial"/>
                    <a:ea typeface="Arial"/>
                  </a:rPr>
                  <a:t>3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→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</a:rPr>
                  <a:t> 2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Fe</a:t>
                </a:r>
                <a:r>
                  <a:rPr b="0" lang="en-US" sz="3600" spc="-1" strike="noStrike" baseline="30000">
                    <a:solidFill>
                      <a:srgbClr val="0000ff"/>
                    </a:solidFill>
                    <a:latin typeface="Arial"/>
                    <a:ea typeface="Arial"/>
                  </a:rPr>
                  <a:t>3+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(</a:t>
                </a:r>
                <a:r>
                  <a:rPr b="0" i="1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aq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)</a:t>
                </a:r>
                <a:r>
                  <a:rPr b="0" lang="en-US" sz="3600" spc="-1" strike="noStrike" baseline="30000">
                    <a:solidFill>
                      <a:srgbClr val="0000ff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+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SO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r>
                  <a:rPr b="0" lang="en-US" sz="3600" spc="-1" strike="noStrike" baseline="30000">
                    <a:solidFill>
                      <a:srgbClr val="ffffff"/>
                    </a:solidFill>
                    <a:latin typeface="Arial"/>
                    <a:ea typeface="Arial"/>
                  </a:rPr>
                  <a:t>-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</a:t>
                </a:r>
                <a:r>
                  <a:rPr b="0" i="1" lang="en-US" sz="3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q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)</a:t>
                </a:r>
                <a:r>
                  <a:rPr b="0" lang="en-US" sz="3600" spc="-1" strike="noStrike" baseline="30000">
                    <a:solidFill>
                      <a:srgbClr val="0033cc"/>
                    </a:solidFill>
                    <a:latin typeface="Arial"/>
                    <a:ea typeface="Arial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48" name=""/>
              <p:cNvGraphicFramePr/>
              <p:nvPr/>
            </p:nvGraphicFramePr>
            <p:xfrm>
              <a:off x="6172200" y="4419720"/>
              <a:ext cx="2092320" cy="666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4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172200" y="4419720"/>
                        <a:ext cx="2092320" cy="66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50" name=""/>
            <p:cNvGrpSpPr/>
            <p:nvPr/>
          </p:nvGrpSpPr>
          <p:grpSpPr>
            <a:xfrm>
              <a:off x="1371600" y="4976640"/>
              <a:ext cx="5943600" cy="398880"/>
              <a:chOff x="1371600" y="4976640"/>
              <a:chExt cx="5943600" cy="398880"/>
            </a:xfrm>
          </p:grpSpPr>
          <p:sp>
            <p:nvSpPr>
              <p:cNvPr id="451" name=""/>
              <p:cNvSpPr/>
              <p:nvPr/>
            </p:nvSpPr>
            <p:spPr>
              <a:xfrm>
                <a:off x="1371600" y="497664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m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809880" y="497664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 mo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48520" y="4976640"/>
                <a:ext cx="106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 mo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3240" y="5410080"/>
            <a:ext cx="9140760" cy="10670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moles of ions will depress the freezing point of water five times that of one mole of a nonelectroly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01E-4C1B-43F9-B975-814A3326515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8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Ionization of Wa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962-948F-494B-9F6B-E095697A5FAA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440" y="311040"/>
            <a:ext cx="9141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ionizes sligh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240" y="1618920"/>
            <a:ext cx="9140760" cy="1032480"/>
            <a:chOff x="3240" y="1618920"/>
            <a:chExt cx="9140760" cy="1032480"/>
          </a:xfrm>
        </p:grpSpPr>
        <p:sp>
          <p:nvSpPr>
            <p:cNvPr id="459" name=""/>
            <p:cNvSpPr/>
            <p:nvPr/>
          </p:nvSpPr>
          <p:spPr>
            <a:xfrm>
              <a:off x="1828800" y="22525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76720" y="22525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00600" y="22525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24480" y="22525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3240" y="1618920"/>
              <a:ext cx="9140760" cy="891360"/>
              <a:chOff x="3240" y="1618920"/>
              <a:chExt cx="9140760" cy="891360"/>
            </a:xfrm>
          </p:grpSpPr>
          <p:sp>
            <p:nvSpPr>
              <p:cNvPr id="464" name=""/>
              <p:cNvSpPr/>
              <p:nvPr/>
            </p:nvSpPr>
            <p:spPr>
              <a:xfrm>
                <a:off x="3240" y="1727280"/>
                <a:ext cx="91407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3600" spc="-1" strike="noStrike" baseline="-25000">
                    <a:solidFill>
                      <a:srgbClr val="0000ff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O + H</a:t>
                </a:r>
                <a:r>
                  <a:rPr b="0" lang="en-US" sz="3600" spc="-1" strike="noStrike" baseline="-25000">
                    <a:solidFill>
                      <a:srgbClr val="0000ff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O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→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3600" spc="-1" strike="noStrike" baseline="-25000">
                    <a:solidFill>
                      <a:srgbClr val="0000ff"/>
                    </a:solidFill>
                    <a:latin typeface="Arial"/>
                    <a:ea typeface="Arial"/>
                  </a:rPr>
                  <a:t>3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O</a:t>
                </a:r>
                <a:r>
                  <a:rPr b="0" lang="en-US" sz="3600" spc="-1" strike="noStrike" baseline="30000">
                    <a:solidFill>
                      <a:srgbClr val="0000ff"/>
                    </a:solidFill>
                    <a:latin typeface="Arial"/>
                    <a:ea typeface="Arial"/>
                  </a:rPr>
                  <a:t>+ 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+ OH</a:t>
                </a:r>
                <a:r>
                  <a:rPr b="0" lang="en-US" sz="3600" spc="-1" strike="noStrike" baseline="30000">
                    <a:solidFill>
                      <a:srgbClr val="0000ff"/>
                    </a:solidFill>
                    <a:latin typeface="Arial"/>
                    <a:ea typeface="Arial"/>
                  </a:rPr>
                  <a:t>-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4267080" y="1618920"/>
                <a:ext cx="533520" cy="891360"/>
                <a:chOff x="4267080" y="1618920"/>
                <a:chExt cx="533520" cy="89136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267080" y="1618920"/>
                  <a:ext cx="533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66ff"/>
                      </a:solidFill>
                      <a:latin typeface="Arial"/>
                      <a:ea typeface="Arial"/>
                    </a:rPr>
                    <a:t>→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4267080" y="1867320"/>
                  <a:ext cx="533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66ff"/>
                      </a:solidFill>
                      <a:latin typeface="Arial"/>
                      <a:ea typeface="Arial"/>
                    </a:rPr>
                    <a:t>→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8" name=""/>
          <p:cNvSpPr/>
          <p:nvPr/>
        </p:nvSpPr>
        <p:spPr>
          <a:xfrm>
            <a:off x="2438280" y="1006560"/>
            <a:ext cx="2349720" cy="609480"/>
          </a:xfrm>
          <a:prstGeom prst="borderCallout1">
            <a:avLst>
              <a:gd name="adj1" fmla="val 18750"/>
              <a:gd name="adj2" fmla="val -8333"/>
              <a:gd name="adj3" fmla="val 140884"/>
              <a:gd name="adj4" fmla="val 122703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nium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15000" y="304920"/>
            <a:ext cx="1563840" cy="81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653" y="3038"/>
                </a:moveTo>
                <a:lnTo>
                  <a:pt x="23990" y="3038"/>
                </a:lnTo>
                <a:lnTo>
                  <a:pt x="23990" y="22022"/>
                </a:lnTo>
                <a:lnTo>
                  <a:pt x="13355" y="41048"/>
                </a:lnTo>
              </a:path>
            </a:pathLst>
          </a:cu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xide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240" y="3504960"/>
            <a:ext cx="9140760" cy="891360"/>
            <a:chOff x="3240" y="3504960"/>
            <a:chExt cx="9140760" cy="891360"/>
          </a:xfrm>
        </p:grpSpPr>
        <p:sp>
          <p:nvSpPr>
            <p:cNvPr id="471" name=""/>
            <p:cNvSpPr/>
            <p:nvPr/>
          </p:nvSpPr>
          <p:spPr>
            <a:xfrm>
              <a:off x="3240" y="3611880"/>
              <a:ext cx="9140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O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→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OH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-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3854520" y="3504960"/>
              <a:ext cx="533160" cy="891360"/>
              <a:chOff x="3854520" y="3504960"/>
              <a:chExt cx="533160" cy="8913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54520" y="350496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3854520" y="375336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5" name=""/>
          <p:cNvSpPr/>
          <p:nvPr/>
        </p:nvSpPr>
        <p:spPr>
          <a:xfrm>
            <a:off x="3240" y="3048120"/>
            <a:ext cx="9140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ionization can be expressed more simply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97040" y="4876920"/>
            <a:ext cx="5791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52880" y="5486400"/>
            <a:ext cx="42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40" y="6172200"/>
            <a:ext cx="914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wo out of every 1 billion water molecules are ion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09E-0CD2-4075-8DDD-FF7E0CC9751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9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Introduction to p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FBB-D806-444F-9D6F-1C0DD50B522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negative logarithm of the hydrogen ion concentr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171880" y="38862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H = -log[H</a:t>
            </a:r>
            <a:r>
              <a:rPr b="0" lang="en-US" sz="4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E43-759B-4417-86E3-C94F39731E8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Calculation of p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F6D-3E89-4068-A789-7C663B5BD30F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171880" y="6094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H = -log[H</a:t>
            </a:r>
            <a:r>
              <a:rPr b="0" lang="en-US" sz="4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666880" y="19494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 = 1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03320" y="2819520"/>
            <a:ext cx="2882880" cy="838080"/>
          </a:xfrm>
          <a:prstGeom prst="borderCallout1">
            <a:avLst>
              <a:gd name="adj1" fmla="val 18750"/>
              <a:gd name="adj2" fmla="val -8333"/>
              <a:gd name="adj3" fmla="val -33902"/>
              <a:gd name="adj4" fmla="val 11321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is number is exactl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5384880" y="2073240"/>
            <a:ext cx="3301920" cy="2117880"/>
            <a:chOff x="5384880" y="2073240"/>
            <a:chExt cx="3301920" cy="2117880"/>
          </a:xfrm>
        </p:grpSpPr>
        <p:sp>
          <p:nvSpPr>
            <p:cNvPr id="488" name=""/>
            <p:cNvSpPr/>
            <p:nvPr/>
          </p:nvSpPr>
          <p:spPr>
            <a:xfrm>
              <a:off x="6095880" y="2895840"/>
              <a:ext cx="2590920" cy="1295280"/>
            </a:xfrm>
            <a:prstGeom prst="borderCallout1">
              <a:avLst>
                <a:gd name="adj1" fmla="val 18750"/>
                <a:gd name="adj2" fmla="val -8333"/>
                <a:gd name="adj3" fmla="val -36643"/>
                <a:gd name="adj4" fmla="val -20097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 = this number without the minus sig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84880" y="2073240"/>
              <a:ext cx="268200" cy="257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6095880" y="2895480"/>
            <a:ext cx="2590920" cy="1295640"/>
          </a:xfrm>
          <a:prstGeom prst="borderCallout1">
            <a:avLst>
              <a:gd name="adj1" fmla="val 18750"/>
              <a:gd name="adj2" fmla="val -8333"/>
              <a:gd name="adj3" fmla="val -36643"/>
              <a:gd name="adj4" fmla="val -2009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H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72E-6BB8-48DD-8C33-46FB96850DB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0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171880" y="6112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H = -log[H</a:t>
            </a:r>
            <a:r>
              <a:rPr b="0" lang="en-US" sz="4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66880" y="1951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 = 2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2766960"/>
            <a:ext cx="3213000" cy="838080"/>
          </a:xfrm>
          <a:prstGeom prst="borderCallout1">
            <a:avLst>
              <a:gd name="adj1" fmla="val 18750"/>
              <a:gd name="adj2" fmla="val -8333"/>
              <a:gd name="adj3" fmla="val -33902"/>
              <a:gd name="adj4" fmla="val 11324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is number is between 1 and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280" y="5105160"/>
            <a:ext cx="883944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mber of decimal places of a logarithm is  equal to the number of significant figures in the original number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84880" y="2075040"/>
            <a:ext cx="26820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2895480"/>
            <a:ext cx="2971800" cy="1600200"/>
          </a:xfrm>
          <a:prstGeom prst="borderCallout1">
            <a:avLst>
              <a:gd name="adj1" fmla="val 18750"/>
              <a:gd name="adj2" fmla="val -8333"/>
              <a:gd name="adj3" fmla="val -34425"/>
              <a:gd name="adj4" fmla="val -9828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is between this number and the next lower numb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etween 4 and 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2766960"/>
            <a:ext cx="3213000" cy="838080"/>
          </a:xfrm>
          <a:prstGeom prst="borderCallout1">
            <a:avLst>
              <a:gd name="adj1" fmla="val 18750"/>
              <a:gd name="adj2" fmla="val -8333"/>
              <a:gd name="adj3" fmla="val -33902"/>
              <a:gd name="adj4" fmla="val 11324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ignifican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815080" y="2895480"/>
            <a:ext cx="2970000" cy="1600200"/>
          </a:xfrm>
          <a:prstGeom prst="borderCallout1">
            <a:avLst>
              <a:gd name="adj1" fmla="val 18750"/>
              <a:gd name="adj2" fmla="val -8333"/>
              <a:gd name="adj3" fmla="val -34425"/>
              <a:gd name="adj4" fmla="val -9583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h = 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53240" y="4038480"/>
            <a:ext cx="2895480" cy="39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decimal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097-C063-45E9-A22E-3CDB5A82F4A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8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hat is the pH of a solution with an [H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] of 1.0 x 10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629080" y="19051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= - log(1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29080" y="2946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= 11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733920"/>
            <a:ext cx="2882880" cy="838080"/>
          </a:xfrm>
          <a:prstGeom prst="borderCallout1">
            <a:avLst>
              <a:gd name="adj1" fmla="val 18750"/>
              <a:gd name="adj2" fmla="val -8333"/>
              <a:gd name="adj3" fmla="val -33902"/>
              <a:gd name="adj4" fmla="val 11321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ecimal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095720" y="762120"/>
            <a:ext cx="2882880" cy="838080"/>
          </a:xfrm>
          <a:prstGeom prst="borderCallout1">
            <a:avLst>
              <a:gd name="adj1" fmla="val 18750"/>
              <a:gd name="adj2" fmla="val -8333"/>
              <a:gd name="adj3" fmla="val -33902"/>
              <a:gd name="adj4" fmla="val 11321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ignificant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F9B-D98F-4FD7-A100-7D1BEC0C5F0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99920" y="12952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rrhenius acid “is a hydrogen-containing substance that dissociates to produce hydrogen ions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1360" y="376380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HA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→ H</a:t>
            </a:r>
            <a:r>
              <a:rPr b="0" lang="en-US" sz="44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+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+ A</a:t>
            </a:r>
            <a:r>
              <a:rPr b="0" lang="en-US" sz="44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19360" y="4297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ACB-9A88-4B94-ABB1-CE1FE25474CB}" type="slidenum">
              <a:t>7</a:t>
            </a:fld>
          </a:p>
        </p:txBody>
      </p:sp>
    </p:spTree>
  </p:cSld>
  <p:transition spd="slow">
    <p:blinds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hat is the pH of a solution with an [H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] of 6.0 x 10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05120" y="36194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= - log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-(3.22) = 3.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419720"/>
            <a:ext cx="2882880" cy="838080"/>
          </a:xfrm>
          <a:prstGeom prst="borderCallout1">
            <a:avLst>
              <a:gd name="adj1" fmla="val 18750"/>
              <a:gd name="adj2" fmla="val -8333"/>
              <a:gd name="adj3" fmla="val -33902"/>
              <a:gd name="adj4" fmla="val 11321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ecimal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95720" y="762120"/>
            <a:ext cx="2882880" cy="838080"/>
          </a:xfrm>
          <a:prstGeom prst="borderCallout1">
            <a:avLst>
              <a:gd name="adj1" fmla="val 18750"/>
              <a:gd name="adj2" fmla="val -8333"/>
              <a:gd name="adj3" fmla="val -33902"/>
              <a:gd name="adj4" fmla="val 11321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ignificant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23623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log (6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-3.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85D-97FA-4A07-9919-B1AD48B520B7}" type="slidenum">
              <a:t>70</a:t>
            </a:fld>
          </a:p>
        </p:txBody>
      </p:sp>
    </p:spTree>
  </p:cSld>
  <p:transition spd="slow">
    <p:blinds dir="vert"/>
  </p:transition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0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3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hat is the pH of a solution with an [H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] of 5.47 x 10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00200" y="36194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= - log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-(7.262) = 7.2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81280" y="4419720"/>
            <a:ext cx="2882880" cy="838080"/>
          </a:xfrm>
          <a:prstGeom prst="borderCallout1">
            <a:avLst>
              <a:gd name="adj1" fmla="val 18750"/>
              <a:gd name="adj2" fmla="val -8333"/>
              <a:gd name="adj3" fmla="val -33902"/>
              <a:gd name="adj4" fmla="val 11321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decimal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27400" y="762120"/>
            <a:ext cx="2882880" cy="838080"/>
          </a:xfrm>
          <a:prstGeom prst="borderCallout1">
            <a:avLst>
              <a:gd name="adj1" fmla="val 18750"/>
              <a:gd name="adj2" fmla="val -8333"/>
              <a:gd name="adj3" fmla="val -33902"/>
              <a:gd name="adj4" fmla="val 11321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ignificant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00200" y="2362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log(5.47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-7.2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F9E-0658-486A-B21D-D33F6EC81BEF}" type="slidenum">
              <a:t>71</a:t>
            </a:fld>
          </a:p>
        </p:txBody>
      </p:sp>
    </p:spTree>
  </p:cSld>
  <p:transition spd="slow">
    <p:blinds dir="vert"/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0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344520" y="2711520"/>
            <a:ext cx="8454960" cy="14349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580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 scale of Acidity and Basi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3A69-7209-4E10-AB99-89C65310188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10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Neutraliz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2B9-E66F-49D1-8CB0-D82052CD2ED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2133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utr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The reaction of an acid and a base to form a salt and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0" y="3657600"/>
            <a:ext cx="9142560" cy="979200"/>
            <a:chOff x="0" y="3657600"/>
            <a:chExt cx="9142560" cy="979200"/>
          </a:xfrm>
        </p:grpSpPr>
        <p:sp>
          <p:nvSpPr>
            <p:cNvPr id="522" name=""/>
            <p:cNvSpPr/>
            <p:nvPr/>
          </p:nvSpPr>
          <p:spPr>
            <a:xfrm>
              <a:off x="0" y="365760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Cl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 + KOH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KCl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+ 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l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80880" y="4116240"/>
              <a:ext cx="5867640" cy="520560"/>
              <a:chOff x="380880" y="4116240"/>
              <a:chExt cx="5867640" cy="520560"/>
            </a:xfrm>
          </p:grpSpPr>
          <p:sp>
            <p:nvSpPr>
              <p:cNvPr id="524" name=""/>
              <p:cNvSpPr/>
              <p:nvPr/>
            </p:nvSpPr>
            <p:spPr>
              <a:xfrm>
                <a:off x="380880" y="411624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ci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666880" y="411624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105520" y="411624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al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087-7F18-47F4-A4A7-76B872D39B5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Titr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B5A-83B5-4B23-AF75-33179A738DA8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04920" y="28576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tr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process of measuring the volume of one reagent required to react with a measured mass or volume of another reag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DF3-2C84-4116-85C0-06F687EFAAA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.00 mL of 0.150 M NaOH solution is required to neutralize 50.00 mL of hydrochloric acid solution.  What is the molarity of the acid s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17524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quation for the reaction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52280" y="3932280"/>
          <a:ext cx="246852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932280"/>
                    <a:ext cx="246852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3" name=""/>
          <p:cNvGrpSpPr/>
          <p:nvPr/>
        </p:nvGrpSpPr>
        <p:grpSpPr>
          <a:xfrm>
            <a:off x="0" y="2286000"/>
            <a:ext cx="9142560" cy="979200"/>
            <a:chOff x="0" y="2286000"/>
            <a:chExt cx="9142560" cy="979200"/>
          </a:xfrm>
        </p:grpSpPr>
        <p:sp>
          <p:nvSpPr>
            <p:cNvPr id="534" name=""/>
            <p:cNvSpPr/>
            <p:nvPr/>
          </p:nvSpPr>
          <p:spPr>
            <a:xfrm>
              <a:off x="0" y="228600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Cl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 + NaOH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NaCl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+ 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l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380880" y="2744640"/>
              <a:ext cx="5867640" cy="520560"/>
              <a:chOff x="380880" y="2744640"/>
              <a:chExt cx="5867640" cy="520560"/>
            </a:xfrm>
          </p:grpSpPr>
          <p:sp>
            <p:nvSpPr>
              <p:cNvPr id="536" name=""/>
              <p:cNvSpPr/>
              <p:nvPr/>
            </p:nvSpPr>
            <p:spPr>
              <a:xfrm>
                <a:off x="380880" y="274464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ci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666880" y="274464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105520" y="274464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al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9" name=""/>
          <p:cNvGrpSpPr/>
          <p:nvPr/>
        </p:nvGrpSpPr>
        <p:grpSpPr>
          <a:xfrm>
            <a:off x="68400" y="177840"/>
            <a:ext cx="8059680" cy="5303880"/>
            <a:chOff x="68400" y="177840"/>
            <a:chExt cx="8059680" cy="5303880"/>
          </a:xfrm>
        </p:grpSpPr>
        <p:sp>
          <p:nvSpPr>
            <p:cNvPr id="540" name=""/>
            <p:cNvSpPr/>
            <p:nvPr/>
          </p:nvSpPr>
          <p:spPr>
            <a:xfrm>
              <a:off x="68400" y="177840"/>
              <a:ext cx="1630080" cy="358920"/>
            </a:xfrm>
            <a:prstGeom prst="rect">
              <a:avLst/>
            </a:prstGeom>
            <a:noFill/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48320" y="4110120"/>
              <a:ext cx="3479760" cy="1371600"/>
            </a:xfrm>
            <a:prstGeom prst="borderCallout1">
              <a:avLst>
                <a:gd name="adj1" fmla="val 18750"/>
                <a:gd name="adj2" fmla="val -8333"/>
                <a:gd name="adj3" fmla="val -259143"/>
                <a:gd name="adj4" fmla="val -96851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vert mL of NaOH to liters of Na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4648320" y="4098960"/>
            <a:ext cx="3657600" cy="1066680"/>
          </a:xfrm>
          <a:prstGeom prst="borderCallout1">
            <a:avLst>
              <a:gd name="adj1" fmla="val 18750"/>
              <a:gd name="adj2" fmla="val -8333"/>
              <a:gd name="adj3" fmla="val 48810"/>
              <a:gd name="adj4" fmla="val -62805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 of volume when using molarity is li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502920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moles of NaOH that rea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249120" y="5640480"/>
          <a:ext cx="8645760" cy="9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9120" y="5640480"/>
                    <a:ext cx="864576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6" name=""/>
          <p:cNvGrpSpPr/>
          <p:nvPr/>
        </p:nvGrpSpPr>
        <p:grpSpPr>
          <a:xfrm>
            <a:off x="1897200" y="6041880"/>
            <a:ext cx="2189160" cy="398160"/>
            <a:chOff x="1897200" y="6041880"/>
            <a:chExt cx="2189160" cy="398160"/>
          </a:xfrm>
        </p:grpSpPr>
        <p:sp>
          <p:nvSpPr>
            <p:cNvPr id="547" name=""/>
            <p:cNvSpPr/>
            <p:nvPr/>
          </p:nvSpPr>
          <p:spPr>
            <a:xfrm>
              <a:off x="3821040" y="6345000"/>
              <a:ext cx="265320" cy="95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97200" y="6041880"/>
              <a:ext cx="264960" cy="95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9" name=""/>
          <p:cNvGraphicFramePr/>
          <p:nvPr/>
        </p:nvGraphicFramePr>
        <p:xfrm>
          <a:off x="3214800" y="3932280"/>
          <a:ext cx="5616360" cy="95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14800" y="3932280"/>
                    <a:ext cx="561636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1" name=""/>
          <p:cNvGrpSpPr/>
          <p:nvPr/>
        </p:nvGrpSpPr>
        <p:grpSpPr>
          <a:xfrm>
            <a:off x="4295880" y="4309920"/>
            <a:ext cx="2300040" cy="493920"/>
            <a:chOff x="4295880" y="4309920"/>
            <a:chExt cx="2300040" cy="493920"/>
          </a:xfrm>
        </p:grpSpPr>
        <p:sp>
          <p:nvSpPr>
            <p:cNvPr id="552" name=""/>
            <p:cNvSpPr/>
            <p:nvPr/>
          </p:nvSpPr>
          <p:spPr>
            <a:xfrm>
              <a:off x="4295880" y="4309920"/>
              <a:ext cx="600120" cy="21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039000" y="4602240"/>
              <a:ext cx="556920" cy="20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0" y="32767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liters of NaOH that rea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C2F4-2A89-4F3D-9C59-6239E91396B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9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6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0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.00 mL of 0.150 M NaOH solution is required to neutralize 50.00 mL of hydrochloric acid solution.  What is the molarity of the acid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17524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quation for the reaction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0" y="2286000"/>
            <a:ext cx="9142560" cy="979200"/>
            <a:chOff x="0" y="2286000"/>
            <a:chExt cx="9142560" cy="979200"/>
          </a:xfrm>
        </p:grpSpPr>
        <p:sp>
          <p:nvSpPr>
            <p:cNvPr id="558" name=""/>
            <p:cNvSpPr/>
            <p:nvPr/>
          </p:nvSpPr>
          <p:spPr>
            <a:xfrm>
              <a:off x="0" y="228600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Cl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 + NaOH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NaCl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+ 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l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380880" y="2744640"/>
              <a:ext cx="5867640" cy="520560"/>
              <a:chOff x="380880" y="2744640"/>
              <a:chExt cx="5867640" cy="520560"/>
            </a:xfrm>
          </p:grpSpPr>
          <p:sp>
            <p:nvSpPr>
              <p:cNvPr id="560" name=""/>
              <p:cNvSpPr/>
              <p:nvPr/>
            </p:nvSpPr>
            <p:spPr>
              <a:xfrm>
                <a:off x="380880" y="274464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ci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666880" y="274464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105520" y="274464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al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0" y="3276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le ratio of HCl to NaOH is 1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276720"/>
            <a:ext cx="9144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les of NaOH  that react equals the moles of HCl that rea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95400" y="4343400"/>
            <a:ext cx="4495680" cy="5814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630 mol NaOH re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86480" y="4343400"/>
            <a:ext cx="4362120" cy="5814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630 mol HCl re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933480" y="5724360"/>
          <a:ext cx="18381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5724360"/>
                    <a:ext cx="1838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2876400" y="5724360"/>
          <a:ext cx="300384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6400" y="5724360"/>
                    <a:ext cx="300384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6029280" y="6000840"/>
          <a:ext cx="206856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29280" y="6000840"/>
                    <a:ext cx="20685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"/>
          <p:cNvSpPr/>
          <p:nvPr/>
        </p:nvSpPr>
        <p:spPr>
          <a:xfrm>
            <a:off x="0" y="502920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larity of the HCl solution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62CE-EE20-49AD-B0C6-A3A225AF6CE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11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Writing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Net Ionic Equa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248-31CB-4E18-AA75-EE731C3BB233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90720" y="1296720"/>
            <a:ext cx="7162560" cy="23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rrhenius base is a hydroxide-containing substance that dissociates to produce hydroxide ions in aqueous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376380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MOH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→ M</a:t>
            </a:r>
            <a:r>
              <a:rPr b="0" lang="en-US" sz="44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+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(aq) + OH</a:t>
            </a:r>
            <a:r>
              <a:rPr b="0" lang="en-US" sz="44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-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(aq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297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EDD-684F-46F9-9AA2-E2EC9AE7E1AA}" type="slidenum">
              <a:t>8</a:t>
            </a:fld>
          </a:p>
        </p:txBody>
      </p:sp>
    </p:spTree>
  </p:cSld>
  <p:transition spd="slow"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440" y="406728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+ Cl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 + (K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+ 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→ K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 + Cl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-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+ H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320" y="3063960"/>
            <a:ext cx="912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tal ionic equ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l ions present in solution are writ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40" y="596124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aq)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+ 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aq)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→ H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4964040"/>
            <a:ext cx="9134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onic equ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nly the ions that react are writ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0" y="1830240"/>
            <a:ext cx="9142560" cy="979200"/>
            <a:chOff x="0" y="1830240"/>
            <a:chExt cx="9142560" cy="979200"/>
          </a:xfrm>
        </p:grpSpPr>
        <p:sp>
          <p:nvSpPr>
            <p:cNvPr id="581" name=""/>
            <p:cNvSpPr/>
            <p:nvPr/>
          </p:nvSpPr>
          <p:spPr>
            <a:xfrm>
              <a:off x="0" y="183024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Cl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 + KOH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KCl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+ 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l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380880" y="2288880"/>
              <a:ext cx="5867640" cy="520560"/>
              <a:chOff x="380880" y="2288880"/>
              <a:chExt cx="5867640" cy="520560"/>
            </a:xfrm>
          </p:grpSpPr>
          <p:sp>
            <p:nvSpPr>
              <p:cNvPr id="583" name=""/>
              <p:cNvSpPr/>
              <p:nvPr/>
            </p:nvSpPr>
            <p:spPr>
              <a:xfrm>
                <a:off x="380880" y="228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ci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66880" y="228888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105520" y="228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al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338040" y="255600"/>
            <a:ext cx="8466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mula equ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l compounds are written using their molecular or formula express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60920" y="5029200"/>
            <a:ext cx="3187800" cy="838080"/>
          </a:xfrm>
          <a:prstGeom prst="borderCallout1">
            <a:avLst>
              <a:gd name="adj1" fmla="val 18750"/>
              <a:gd name="adj2" fmla="val -8333"/>
              <a:gd name="adj3" fmla="val -52083"/>
              <a:gd name="adj4" fmla="val -45416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 does not re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5029200"/>
            <a:ext cx="3187800" cy="838080"/>
          </a:xfrm>
          <a:prstGeom prst="borderCallout1">
            <a:avLst>
              <a:gd name="adj1" fmla="val 18750"/>
              <a:gd name="adj2" fmla="val -8333"/>
              <a:gd name="adj3" fmla="val -52083"/>
              <a:gd name="adj4" fmla="val -45416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 does not re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00200" y="4952880"/>
            <a:ext cx="5943600" cy="825480"/>
          </a:xfrm>
          <a:prstGeom prst="rect">
            <a:avLst/>
          </a:prstGeom>
          <a:solidFill>
            <a:srgbClr val="ff99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that do not participate in a chemical reaction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t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97B-FC8D-4822-94B9-C5FC0291C4CC}" type="slidenum">
              <a:t>80</a:t>
            </a:fld>
          </a:p>
        </p:txBody>
      </p:sp>
    </p:spTree>
  </p:cSld>
  <p:transition spd="slow">
    <p:blinds dir="vert"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9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ong electrolytes in solution are written in their ionic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ak electrolytes are written in their molecular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electrolytes are written in their molecular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66960" y="838080"/>
            <a:ext cx="541008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les for Writing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DFE-2645-4F89-ABB3-34E64425863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soluble substances, precipitates and gases are written in their molecular fo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221940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t ionic equation should include only substances that have undergone a chemical change.  Spectator ions are omitted from the net ionic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 must be balanced both in atoms and in electrical charge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5616-5B5E-470D-BAE2-01B9AC8807F3}" type="slidenum">
              <a:t>82</a:t>
            </a:fld>
          </a:p>
        </p:txBody>
      </p:sp>
    </p:spTree>
  </p:cSld>
  <p:transition spd="slow">
    <p:blinds dir="vert"/>
  </p:transition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1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A030-6078-46B6-B3E6-7EB12583D02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"/>
          <p:cNvGrpSpPr/>
          <p:nvPr/>
        </p:nvGrpSpPr>
        <p:grpSpPr>
          <a:xfrm>
            <a:off x="1440" y="3076560"/>
            <a:ext cx="9142560" cy="963360"/>
            <a:chOff x="1440" y="3076560"/>
            <a:chExt cx="9142560" cy="963360"/>
          </a:xfrm>
        </p:grpSpPr>
        <p:grpSp>
          <p:nvGrpSpPr>
            <p:cNvPr id="596" name=""/>
            <p:cNvGrpSpPr/>
            <p:nvPr/>
          </p:nvGrpSpPr>
          <p:grpSpPr>
            <a:xfrm>
              <a:off x="1440" y="3076560"/>
              <a:ext cx="9142560" cy="671760"/>
              <a:chOff x="1440" y="3076560"/>
              <a:chExt cx="9142560" cy="671760"/>
            </a:xfrm>
          </p:grpSpPr>
          <p:sp>
            <p:nvSpPr>
              <p:cNvPr id="597" name=""/>
              <p:cNvSpPr/>
              <p:nvPr/>
            </p:nvSpPr>
            <p:spPr>
              <a:xfrm>
                <a:off x="1440" y="3076560"/>
                <a:ext cx="9142560" cy="67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66ff"/>
                    </a:solidFill>
                    <a:latin typeface="Arial"/>
                  </a:rPr>
                  <a:t>(2Ag</a:t>
                </a:r>
                <a:r>
                  <a:rPr b="0" lang="en-US" sz="2600" spc="-1" strike="noStrike" baseline="30000">
                    <a:solidFill>
                      <a:srgbClr val="0066ff"/>
                    </a:solidFill>
                    <a:latin typeface="Arial"/>
                  </a:rPr>
                  <a:t>+</a:t>
                </a:r>
                <a:r>
                  <a:rPr b="0" lang="en-US" sz="2600" spc="-1" strike="noStrike">
                    <a:solidFill>
                      <a:srgbClr val="0066ff"/>
                    </a:solidFill>
                    <a:latin typeface="Arial"/>
                  </a:rPr>
                  <a:t> +          ) + (Ba</a:t>
                </a:r>
                <a:r>
                  <a:rPr b="0" lang="en-US" sz="2600" spc="-1" strike="noStrike" baseline="30000">
                    <a:solidFill>
                      <a:srgbClr val="0066ff"/>
                    </a:solidFill>
                    <a:latin typeface="Arial"/>
                  </a:rPr>
                  <a:t>2+</a:t>
                </a:r>
                <a:r>
                  <a:rPr b="0" lang="en-US" sz="2600" spc="-1" strike="noStrike">
                    <a:solidFill>
                      <a:srgbClr val="0066ff"/>
                    </a:solidFill>
                    <a:latin typeface="Arial"/>
                  </a:rPr>
                  <a:t> + 2Cl</a:t>
                </a:r>
                <a:r>
                  <a:rPr b="0" lang="en-US" sz="2600" spc="-1" strike="noStrike" baseline="30000">
                    <a:solidFill>
                      <a:srgbClr val="0066ff"/>
                    </a:solidFill>
                    <a:latin typeface="Arial"/>
                  </a:rPr>
                  <a:t>-</a:t>
                </a:r>
                <a:r>
                  <a:rPr b="0" lang="en-US" sz="2600" spc="-1" strike="noStrike">
                    <a:solidFill>
                      <a:srgbClr val="0066ff"/>
                    </a:solidFill>
                    <a:latin typeface="Arial"/>
                  </a:rPr>
                  <a:t>) </a:t>
                </a:r>
                <a:r>
                  <a:rPr b="0" lang="en-US" sz="2600" spc="-1" strike="noStrike" baseline="-25000">
                    <a:solidFill>
                      <a:srgbClr val="0066ff"/>
                    </a:solidFill>
                    <a:latin typeface="Arial"/>
                  </a:rPr>
                  <a:t> </a:t>
                </a:r>
                <a:r>
                  <a:rPr b="0" lang="en-US" sz="2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 2AgCl</a:t>
                </a:r>
                <a:r>
                  <a:rPr b="0" lang="en-US" sz="2600" spc="-1" strike="noStrike">
                    <a:solidFill>
                      <a:srgbClr val="0066ff"/>
                    </a:solidFill>
                    <a:latin typeface="Arial"/>
                  </a:rPr>
                  <a:t>(</a:t>
                </a:r>
                <a:r>
                  <a:rPr b="0" i="1" lang="en-US" sz="2600" spc="-1" strike="noStrike">
                    <a:solidFill>
                      <a:srgbClr val="0066ff"/>
                    </a:solidFill>
                    <a:latin typeface="Arial"/>
                  </a:rPr>
                  <a:t>s)</a:t>
                </a:r>
                <a:r>
                  <a:rPr b="0" lang="en-US" sz="2600" spc="-1" strike="noStrike">
                    <a:solidFill>
                      <a:srgbClr val="0066ff"/>
                    </a:solidFill>
                    <a:latin typeface="Arial"/>
                  </a:rPr>
                  <a:t> </a:t>
                </a:r>
                <a:r>
                  <a:rPr b="0" lang="en-US" sz="2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 + (Ba</a:t>
                </a:r>
                <a:r>
                  <a:rPr b="0" lang="en-US" sz="2600" spc="-1" strike="noStrike" baseline="30000">
                    <a:solidFill>
                      <a:srgbClr val="0066ff"/>
                    </a:solidFill>
                    <a:latin typeface="Arial"/>
                    <a:ea typeface="Arial"/>
                  </a:rPr>
                  <a:t>2+</a:t>
                </a:r>
                <a:r>
                  <a:rPr b="0" lang="en-US" sz="2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 +           )</a:t>
                </a: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598" name=""/>
              <p:cNvGraphicFramePr/>
              <p:nvPr/>
            </p:nvGraphicFramePr>
            <p:xfrm>
              <a:off x="7970760" y="3243240"/>
              <a:ext cx="831960" cy="460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9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970760" y="3243240"/>
                        <a:ext cx="831960" cy="46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00" name=""/>
              <p:cNvGraphicFramePr/>
              <p:nvPr/>
            </p:nvGraphicFramePr>
            <p:xfrm>
              <a:off x="1341360" y="3243240"/>
              <a:ext cx="831960" cy="460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0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341360" y="3243240"/>
                        <a:ext cx="831960" cy="46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02" name=""/>
            <p:cNvSpPr/>
            <p:nvPr/>
          </p:nvSpPr>
          <p:spPr>
            <a:xfrm>
              <a:off x="2514600" y="351936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tal ionic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0" y="990720"/>
            <a:ext cx="9142560" cy="1036440"/>
            <a:chOff x="0" y="990720"/>
            <a:chExt cx="9142560" cy="1036440"/>
          </a:xfrm>
        </p:grpSpPr>
        <p:sp>
          <p:nvSpPr>
            <p:cNvPr id="604" name=""/>
            <p:cNvSpPr/>
            <p:nvPr/>
          </p:nvSpPr>
          <p:spPr>
            <a:xfrm>
              <a:off x="0" y="990720"/>
              <a:ext cx="91425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2AgNO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 + BaCl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2AgCl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s)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+ Ba(NO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3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)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14600" y="1506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mula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0" y="5029200"/>
            <a:ext cx="9142560" cy="839520"/>
            <a:chOff x="0" y="5029200"/>
            <a:chExt cx="9142560" cy="839520"/>
          </a:xfrm>
        </p:grpSpPr>
        <p:sp>
          <p:nvSpPr>
            <p:cNvPr id="607" name=""/>
            <p:cNvSpPr/>
            <p:nvPr/>
          </p:nvSpPr>
          <p:spPr>
            <a:xfrm>
              <a:off x="0" y="5029200"/>
              <a:ext cx="91425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Ag</a:t>
              </a:r>
              <a:r>
                <a:rPr b="0" lang="en-US" sz="2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+ Cl</a:t>
              </a:r>
              <a:r>
                <a:rPr b="0" lang="en-US" sz="26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AgCl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s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13160" y="534816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t ionic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171440" y="2438280"/>
            <a:ext cx="2667240" cy="4597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ator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521240" y="4314960"/>
            <a:ext cx="1663560" cy="4597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p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13280" y="5103720"/>
            <a:ext cx="1166760" cy="382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309680" y="3243240"/>
            <a:ext cx="7524720" cy="458640"/>
            <a:chOff x="1309680" y="3243240"/>
            <a:chExt cx="7524720" cy="458640"/>
          </a:xfrm>
        </p:grpSpPr>
        <p:grpSp>
          <p:nvGrpSpPr>
            <p:cNvPr id="613" name=""/>
            <p:cNvGrpSpPr/>
            <p:nvPr/>
          </p:nvGrpSpPr>
          <p:grpSpPr>
            <a:xfrm>
              <a:off x="2766960" y="3243240"/>
              <a:ext cx="4824360" cy="426960"/>
              <a:chOff x="2766960" y="3243240"/>
              <a:chExt cx="4824360" cy="426960"/>
            </a:xfrm>
          </p:grpSpPr>
          <p:sp>
            <p:nvSpPr>
              <p:cNvPr id="614" name=""/>
              <p:cNvSpPr/>
              <p:nvPr/>
            </p:nvSpPr>
            <p:spPr>
              <a:xfrm>
                <a:off x="2766960" y="3281400"/>
                <a:ext cx="681120" cy="3888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910560" y="3243240"/>
                <a:ext cx="680760" cy="42696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1309680" y="3274920"/>
              <a:ext cx="7524720" cy="426960"/>
              <a:chOff x="1309680" y="3274920"/>
              <a:chExt cx="7524720" cy="426960"/>
            </a:xfrm>
          </p:grpSpPr>
          <p:sp>
            <p:nvSpPr>
              <p:cNvPr id="617" name=""/>
              <p:cNvSpPr/>
              <p:nvPr/>
            </p:nvSpPr>
            <p:spPr>
              <a:xfrm>
                <a:off x="1309680" y="3274920"/>
                <a:ext cx="873000" cy="42696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61400" y="3274920"/>
                <a:ext cx="873000" cy="42696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1319-7237-4548-B537-F96A19B098EA}" type="slidenum">
              <a:t>84</a:t>
            </a:fld>
          </a:p>
        </p:txBody>
      </p:sp>
    </p:spTree>
  </p:cSld>
  <p:transition spd="slow">
    <p:blinds dir="vert"/>
  </p:transition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9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5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"/>
          <p:cNvGrpSpPr/>
          <p:nvPr/>
        </p:nvGrpSpPr>
        <p:grpSpPr>
          <a:xfrm>
            <a:off x="138240" y="3124080"/>
            <a:ext cx="8866080" cy="901800"/>
            <a:chOff x="138240" y="3124080"/>
            <a:chExt cx="8866080" cy="901800"/>
          </a:xfrm>
        </p:grpSpPr>
        <p:graphicFrame>
          <p:nvGraphicFramePr>
            <p:cNvPr id="620" name=""/>
            <p:cNvGraphicFramePr/>
            <p:nvPr/>
          </p:nvGraphicFramePr>
          <p:xfrm>
            <a:off x="138240" y="3124080"/>
            <a:ext cx="8866080" cy="47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8240" y="3124080"/>
                      <a:ext cx="886608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2" name=""/>
            <p:cNvSpPr/>
            <p:nvPr/>
          </p:nvSpPr>
          <p:spPr>
            <a:xfrm>
              <a:off x="2514600" y="350532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tal ionic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2514600" y="1295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ula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71440" y="2438280"/>
            <a:ext cx="2667240" cy="4597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ator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62720" y="4343400"/>
            <a:ext cx="1096920" cy="4597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14920" y="5054760"/>
            <a:ext cx="1030320" cy="382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079640" y="1011240"/>
          <a:ext cx="72612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9640" y="1011240"/>
                    <a:ext cx="72612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9" name=""/>
          <p:cNvGrpSpPr/>
          <p:nvPr/>
        </p:nvGrpSpPr>
        <p:grpSpPr>
          <a:xfrm>
            <a:off x="2513160" y="5029200"/>
            <a:ext cx="4114800" cy="749160"/>
            <a:chOff x="2513160" y="5029200"/>
            <a:chExt cx="4114800" cy="749160"/>
          </a:xfrm>
        </p:grpSpPr>
        <p:sp>
          <p:nvSpPr>
            <p:cNvPr id="630" name=""/>
            <p:cNvSpPr/>
            <p:nvPr/>
          </p:nvSpPr>
          <p:spPr>
            <a:xfrm>
              <a:off x="2513160" y="52578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t ionic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1" name=""/>
            <p:cNvGraphicFramePr/>
            <p:nvPr/>
          </p:nvGraphicFramePr>
          <p:xfrm>
            <a:off x="2535120" y="5029200"/>
            <a:ext cx="4073760" cy="406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35120" y="5029200"/>
                      <a:ext cx="40737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33" name=""/>
          <p:cNvGrpSpPr/>
          <p:nvPr/>
        </p:nvGrpSpPr>
        <p:grpSpPr>
          <a:xfrm>
            <a:off x="255600" y="3146400"/>
            <a:ext cx="6183360" cy="438120"/>
            <a:chOff x="255600" y="3146400"/>
            <a:chExt cx="6183360" cy="438120"/>
          </a:xfrm>
        </p:grpSpPr>
        <p:sp>
          <p:nvSpPr>
            <p:cNvPr id="634" name=""/>
            <p:cNvSpPr/>
            <p:nvPr/>
          </p:nvSpPr>
          <p:spPr>
            <a:xfrm>
              <a:off x="3233880" y="3159000"/>
              <a:ext cx="680760" cy="38916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55600" y="3146400"/>
              <a:ext cx="662040" cy="4269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99160" y="3157560"/>
              <a:ext cx="661680" cy="4269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57840" y="3159000"/>
              <a:ext cx="681120" cy="38916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8B2-C51A-4923-AB10-6DA6113C6984}" type="slidenum">
              <a:t>85</a:t>
            </a:fld>
          </a:p>
        </p:txBody>
      </p:sp>
    </p:spTree>
  </p:cSld>
  <p:transition spd="slow">
    <p:blinds dir="vert"/>
  </p:transition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0" y="739800"/>
            <a:ext cx="9142560" cy="1036440"/>
            <a:chOff x="0" y="739800"/>
            <a:chExt cx="9142560" cy="1036440"/>
          </a:xfrm>
        </p:grpSpPr>
        <p:sp>
          <p:nvSpPr>
            <p:cNvPr id="639" name=""/>
            <p:cNvSpPr/>
            <p:nvPr/>
          </p:nvSpPr>
          <p:spPr>
            <a:xfrm>
              <a:off x="0" y="739800"/>
              <a:ext cx="91425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Mg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s)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 + 2HCl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MgCl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+ H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14600" y="125568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mula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1440" y="3002040"/>
            <a:ext cx="9142560" cy="1036440"/>
            <a:chOff x="1440" y="3002040"/>
            <a:chExt cx="9142560" cy="1036440"/>
          </a:xfrm>
        </p:grpSpPr>
        <p:sp>
          <p:nvSpPr>
            <p:cNvPr id="642" name=""/>
            <p:cNvSpPr/>
            <p:nvPr/>
          </p:nvSpPr>
          <p:spPr>
            <a:xfrm>
              <a:off x="1440" y="3002040"/>
              <a:ext cx="91425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Mg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s)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 + (2H</a:t>
              </a:r>
              <a:r>
                <a:rPr b="0" lang="en-US" sz="2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+ 2Cl</a:t>
              </a:r>
              <a:r>
                <a:rPr b="0" lang="en-US" sz="26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) 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(Mg</a:t>
              </a:r>
              <a:r>
                <a:rPr b="0" lang="en-US" sz="26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2+ 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+ 2Cl</a:t>
              </a:r>
              <a:r>
                <a:rPr b="0" lang="en-US" sz="26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-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)+ H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16040" y="351792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tal ionic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2514600" y="2516040"/>
            <a:ext cx="2666880" cy="4597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ator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643200" y="3171960"/>
            <a:ext cx="3027600" cy="393480"/>
            <a:chOff x="3643200" y="3171960"/>
            <a:chExt cx="3027600" cy="393480"/>
          </a:xfrm>
        </p:grpSpPr>
        <p:sp>
          <p:nvSpPr>
            <p:cNvPr id="646" name=""/>
            <p:cNvSpPr/>
            <p:nvPr/>
          </p:nvSpPr>
          <p:spPr>
            <a:xfrm>
              <a:off x="5989680" y="3176640"/>
              <a:ext cx="681120" cy="388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43200" y="3171960"/>
              <a:ext cx="606600" cy="393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0" y="5280120"/>
            <a:ext cx="9142560" cy="839520"/>
            <a:chOff x="0" y="5280120"/>
            <a:chExt cx="9142560" cy="839520"/>
          </a:xfrm>
        </p:grpSpPr>
        <p:sp>
          <p:nvSpPr>
            <p:cNvPr id="649" name=""/>
            <p:cNvSpPr/>
            <p:nvPr/>
          </p:nvSpPr>
          <p:spPr>
            <a:xfrm>
              <a:off x="0" y="5280120"/>
              <a:ext cx="91425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Mg + 2H</a:t>
              </a:r>
              <a:r>
                <a:rPr b="0" lang="en-US" sz="2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Mg</a:t>
              </a:r>
              <a:r>
                <a:rPr b="0" lang="en-US" sz="26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2+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+ H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g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13160" y="559908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t ionic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838080" y="4780080"/>
            <a:ext cx="7467840" cy="4597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charge on both sides  of the equation = 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CAF-14A8-48E7-A1AC-7A51D854CD57}" type="slidenum">
              <a:t>86</a:t>
            </a:fld>
          </a:p>
        </p:txBody>
      </p:sp>
    </p:spTree>
  </p:cSld>
  <p:transition spd="slow">
    <p:blinds dir="vert"/>
  </p:transition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5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12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Acid Rai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180-C99C-405E-89AE-22E13C0EAF2E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15490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id rai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any atmospheric precipitation that is more acidic than us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3520" y="4241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increase in acidity might be from natural or industrial sour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BC1F-15CB-4603-B922-2563A999983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3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H of rain is lower in the eastern US and higher in the western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3240" y="4571640"/>
            <a:ext cx="9140760" cy="915120"/>
            <a:chOff x="3240" y="4571640"/>
            <a:chExt cx="9140760" cy="915120"/>
          </a:xfrm>
        </p:grpSpPr>
        <p:sp>
          <p:nvSpPr>
            <p:cNvPr id="658" name=""/>
            <p:cNvSpPr/>
            <p:nvPr/>
          </p:nvSpPr>
          <p:spPr>
            <a:xfrm>
              <a:off x="3240" y="4674960"/>
              <a:ext cx="914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C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g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 + H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O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l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 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 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C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     H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HC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3429000" y="4595400"/>
              <a:ext cx="533520" cy="891360"/>
              <a:chOff x="3429000" y="4595400"/>
              <a:chExt cx="533520" cy="891360"/>
            </a:xfrm>
          </p:grpSpPr>
          <p:sp>
            <p:nvSpPr>
              <p:cNvPr id="660" name=""/>
              <p:cNvSpPr/>
              <p:nvPr/>
            </p:nvSpPr>
            <p:spPr>
              <a:xfrm>
                <a:off x="3429000" y="459540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3429000" y="484380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6238800" y="4571640"/>
              <a:ext cx="533520" cy="891360"/>
              <a:chOff x="6238800" y="4571640"/>
              <a:chExt cx="533520" cy="891360"/>
            </a:xfrm>
          </p:grpSpPr>
          <p:sp>
            <p:nvSpPr>
              <p:cNvPr id="663" name=""/>
              <p:cNvSpPr/>
              <p:nvPr/>
            </p:nvSpPr>
            <p:spPr>
              <a:xfrm>
                <a:off x="6238800" y="457164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6238800" y="482004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5" name=""/>
          <p:cNvSpPr/>
          <p:nvPr/>
        </p:nvSpPr>
        <p:spPr>
          <a:xfrm>
            <a:off x="685800" y="26668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polluted rain has a pH of 5.6 because of carbonic acid formation in the atm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704-F072-4694-B409-902F9CA748F7}" type="slidenum">
              <a:t>89</a:t>
            </a:fld>
          </a:p>
        </p:txBody>
      </p:sp>
    </p:spTree>
  </p:cSld>
  <p:transition spd="slow">
    <p:blinds dir="vert"/>
  </p:transition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6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133720"/>
            <a:ext cx="9140760" cy="731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n Arrhenius acid solution contains an excess of 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ion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0" y="3718080"/>
            <a:ext cx="9140760" cy="7315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n Arrhenius base solution contains an excess of O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ion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D15-43D5-4662-8986-0F79C11042D2}" type="slidenum">
              <a:t>9</a:t>
            </a:fld>
          </a:p>
        </p:txBody>
      </p:sp>
    </p:spTree>
  </p:cSld>
  <p:transition spd="slow">
    <p:blinds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85800" y="2201760"/>
            <a:ext cx="7772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portation of these oxides into the atmosp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mical reactions between the oxides and water forming sulfuric acid (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and nitric acid (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in or snow, which carries the acids to the 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cess of Acid Rain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ission of nitrogen and sulfur oxides into the 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00200" y="2286000"/>
            <a:ext cx="5943600" cy="581400"/>
          </a:xfrm>
          <a:prstGeom prst="rect">
            <a:avLst/>
          </a:prstGeom>
          <a:solidFill>
            <a:srgbClr val="ff99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burning of fossil fu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4F2-457C-4DA5-9C8E-7AB5E1D8C0D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10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10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10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10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10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10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685800" y="2201760"/>
            <a:ext cx="7772400" cy="35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uminum is leached from the soil into lakes and adversely affects fish gil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waxy protective coat on plants is dissolved making them vulnerable to bacteria and fungal att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ffects of Acid 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eshwater plants and animals decline significantly when rain is acid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7B7-BFDA-40AE-951F-D43E3F9F0D1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1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1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10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10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2743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reduces the durability of paint and promotes the deterioration of paper, leather and cl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ffects of Acid 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is responsible for extensive and continuing damage to buildings, monuments and stat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9AAD-6640-4687-AD5D-37E26D3C27C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0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13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Colloi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569-A1E0-4134-ADAE-AC6BB51E44E2}" type="slidenum">
              <a:t>93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304920" y="28576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loi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dispersion in which the dispersed particles are larger than the solute ions or molecules of a true solution and smaller than the particles of a mechanical suspen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4E5-87BE-4097-8658-B9C854298A3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914400" y="28576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spens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dispersion in which microscopically visible particles are mixed with, but not dissolved in a fluid or soli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8074080" y="5634000"/>
            <a:ext cx="384120" cy="3859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5920"/>
              <a:gd name="textAreaBottom" fmla="*/ 361080 h 385920"/>
            </a:gdLst>
            <a:ahLst/>
            <a:rect l="textAreaLeft" t="textAreaTop" r="textAreaRight" b="textAreaBottom"/>
            <a:pathLst>
              <a:path w="21600" h="21701">
                <a:moveTo>
                  <a:pt x="0" y="0"/>
                </a:moveTo>
                <a:lnTo>
                  <a:pt x="21600" y="0"/>
                </a:lnTo>
                <a:lnTo>
                  <a:pt x="21600" y="21701"/>
                </a:lnTo>
                <a:lnTo>
                  <a:pt x="0" y="21701"/>
                </a:lnTo>
                <a:close/>
              </a:path>
              <a:path fill="lightenLess" w="21600" h="217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1">
                <a:moveTo>
                  <a:pt x="21600" y="0"/>
                </a:moveTo>
                <a:lnTo>
                  <a:pt x="21600" y="21701"/>
                </a:lnTo>
                <a:lnTo>
                  <a:pt x="20200" y="20301"/>
                </a:lnTo>
                <a:lnTo>
                  <a:pt x="20200" y="1400"/>
                </a:lnTo>
                <a:close/>
              </a:path>
              <a:path fill="darkenLess" w="21600" h="21701">
                <a:moveTo>
                  <a:pt x="21600" y="21701"/>
                </a:moveTo>
                <a:lnTo>
                  <a:pt x="0" y="21701"/>
                </a:lnTo>
                <a:lnTo>
                  <a:pt x="1400" y="20301"/>
                </a:lnTo>
                <a:lnTo>
                  <a:pt x="20200" y="20301"/>
                </a:lnTo>
                <a:close/>
              </a:path>
              <a:path fill="lighten" w="21600" h="21701">
                <a:moveTo>
                  <a:pt x="0" y="217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1"/>
                </a:lnTo>
                <a:close/>
              </a:path>
              <a:path fill="darken" w="21600" h="21701">
                <a:moveTo>
                  <a:pt x="3794" y="10851"/>
                </a:moveTo>
                <a:lnTo>
                  <a:pt x="17806" y="3844"/>
                </a:lnTo>
                <a:lnTo>
                  <a:pt x="17806" y="1785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C4D-F38D-4091-BBF7-19308D4C605C}" type="slidenum">
              <a:t>95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lloid is derived from the Greek word “kolla” meaning “glue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5800" y="33336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rm colloid does not imply a system has a gluelike qual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6A8-574F-41AF-8C83-36887144F3D6}" type="slidenum">
              <a:t>96</a:t>
            </a:fld>
          </a:p>
        </p:txBody>
      </p:sp>
    </p:spTree>
  </p:cSld>
  <p:transition spd="slow">
    <p:blinds dir="vert"/>
  </p:transition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68580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undamental difference between a colloidal dispersion and a true solution is the size of the partic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19051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ordinary solutions the size of solute particles range from 0.1 to 1 n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ize of colloidal particles range from 1 to 1,000 n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 a solution the particles are usually single ions  or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 colloid the particles are usually aggregations of ions or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2D6B-44FF-40D7-8635-D01315FF4E3C}" type="slidenum">
              <a:t>97</a:t>
            </a:fld>
          </a:p>
        </p:txBody>
      </p:sp>
    </p:spTree>
  </p:cSld>
  <p:transition spd="slow">
    <p:blinds dir="vert"/>
  </p:transition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10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10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10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10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10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10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1"/>
          <a:srcRect l="871" t="18553" r="0" b="23484"/>
          <a:stretch/>
        </p:blipFill>
        <p:spPr>
          <a:xfrm>
            <a:off x="228600" y="1523880"/>
            <a:ext cx="8686800" cy="381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EE7-D603-4319-AB6E-05C1E9058DD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14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Properties of Colloi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6DB-F9C8-44DC-AB6B-1736133845F5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6:50:10Z</dcterms:created>
  <dc:creator>M</dc:creator>
  <dc:description/>
  <dc:language>en-US</dc:language>
  <cp:lastModifiedBy>wininst</cp:lastModifiedBy>
  <dcterms:modified xsi:type="dcterms:W3CDTF">2000-01-01T07:17:34Z</dcterms:modified>
  <cp:revision>1112</cp:revision>
  <dc:subject/>
  <dc:title>Hein and Arena</dc:title>
</cp:coreProperties>
</file>