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20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6.jpeg" ContentType="image/jpeg"/>
  <Override PartName="/ppt/media/image144.wmf" ContentType="image/x-wmf"/>
  <Override PartName="/ppt/media/image109.wmf" ContentType="image/x-wmf"/>
  <Override PartName="/ppt/media/image108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5.wmf" ContentType="image/x-wmf"/>
  <Override PartName="/ppt/media/image82.wmf" ContentType="image/x-wmf"/>
  <Override PartName="/ppt/media/image19.jpeg" ContentType="image/jpeg"/>
  <Override PartName="/ppt/media/image6.wmf" ContentType="image/x-wmf"/>
  <Override PartName="/ppt/media/image83.wmf" ContentType="image/x-wmf"/>
  <Override PartName="/ppt/media/image36.wmf" ContentType="image/x-wmf"/>
  <Override PartName="/ppt/media/image11.jpeg" ContentType="image/jpeg"/>
  <Override PartName="/ppt/media/image7.wmf" ContentType="image/x-wmf"/>
  <Override PartName="/ppt/media/image37.wmf" ContentType="image/x-wmf"/>
  <Override PartName="/ppt/media/image12.jpeg" ContentType="image/jpeg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86.wmf" ContentType="image/x-wmf"/>
  <Override PartName="/ppt/media/image9.wmf" ContentType="image/x-wmf"/>
  <Override PartName="/ppt/media/image35.wmf" ContentType="image/x-wmf"/>
  <Override PartName="/ppt/media/image69.jpeg" ContentType="image/jpeg"/>
  <Override PartName="/ppt/media/image46.wmf" ContentType="image/x-wmf"/>
  <Override PartName="/ppt/media/image39.wmf" ContentType="image/x-wmf"/>
  <Override PartName="/ppt/media/image32.wmf" ContentType="image/x-wmf"/>
  <Override PartName="/ppt/media/image129.wmf" ContentType="image/x-wmf"/>
  <Override PartName="/ppt/media/image58.wmf" ContentType="image/x-wmf"/>
  <Override PartName="/ppt/media/image34.jpeg" ContentType="image/jpeg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141.wmf" ContentType="image/x-wmf"/>
  <Override PartName="/ppt/media/image50.wmf" ContentType="image/x-wmf"/>
  <Override PartName="/ppt/media/image143.wmf" ContentType="image/x-wmf"/>
  <Override PartName="/ppt/media/image51.wmf" ContentType="image/x-wmf"/>
  <Override PartName="/ppt/media/image135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13.jpeg" ContentType="image/jpeg"/>
  <Override PartName="/ppt/media/image133.wmf" ContentType="image/x-wmf"/>
  <Override PartName="/ppt/media/image145.wmf" ContentType="image/x-wmf"/>
  <Override PartName="/ppt/media/image53.wmf" ContentType="image/x-wmf"/>
  <Override PartName="/ppt/media/image48.wmf" ContentType="image/x-wmf"/>
  <Override PartName="/ppt/media/image134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142.wmf" ContentType="image/x-wmf"/>
  <Override PartName="/ppt/media/image56.wmf" ContentType="image/x-wmf"/>
  <Override PartName="/ppt/media/image52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94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107.wmf" ContentType="image/x-wmf"/>
  <Override PartName="/ppt/media/image2.jpeg" ContentType="image/jpeg"/>
  <Override PartName="/ppt/media/image99.wmf" ContentType="image/x-wmf"/>
  <Override PartName="/ppt/media/image15.jpeg" ContentType="image/jpeg"/>
  <Override PartName="/ppt/media/image67.wmf" ContentType="image/x-wmf"/>
  <Override PartName="/ppt/media/image93.wmf" ContentType="image/x-wmf"/>
  <Override PartName="/ppt/media/image25.wmf" ContentType="image/x-wmf"/>
  <Override PartName="/ppt/media/image1.wmf" ContentType="image/x-wmf"/>
  <Override PartName="/ppt/media/image92.wmf" ContentType="image/x-wmf"/>
  <Override PartName="/ppt/media/image24.wmf" ContentType="image/x-wmf"/>
  <Override PartName="/ppt/media/image14.jpeg" ContentType="image/jpeg"/>
  <Override PartName="/ppt/media/image57.wmf" ContentType="image/x-wmf"/>
  <Override PartName="/ppt/media/image55.wmf" ContentType="image/x-wmf"/>
  <Override PartName="/ppt/media/image18.jpeg" ContentType="image/jpeg"/>
  <Override PartName="/ppt/media/image29.wmf" ContentType="image/x-wmf"/>
  <Override PartName="/ppt/media/image97.wmf" ContentType="image/x-wmf"/>
  <Override PartName="/ppt/media/image21.wmf" ContentType="image/x-wmf"/>
  <Override PartName="/ppt/media/image118.wmf" ContentType="image/x-wmf"/>
  <Override PartName="/ppt/media/image117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20.wmf" ContentType="image/x-wmf"/>
  <Override PartName="/ppt/media/image80.jpeg" ContentType="image/jpeg"/>
  <Override PartName="/ppt/media/image119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jpeg" ContentType="image/jpeg"/>
  <Override PartName="/ppt/media/image132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98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A04-5292-4E69-B43B-DA310707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B2A-D318-4E24-B8C2-64C9FD7B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EB9-A901-4199-B227-70F07B8E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80A-7F08-4780-8E34-2EB1947B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D1E-28DB-4B7F-98FC-F71195A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3A7-DD3F-49B3-914A-1A02EA21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F1B-3353-4897-B172-43648A3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8BB-34C1-4999-816E-889298FA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64D-EC86-4AE8-8517-0F6B00EE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480-8484-497E-BCCF-67A34B7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508-65A0-4ABE-B2F3-C8D711C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6C4-2119-493F-A8B3-4723046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E03B-102B-4CE8-81EE-97F0A6425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9.wmf"/><Relationship Id="rId15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4.xml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2.wmf"/><Relationship Id="rId1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3.wmf"/><Relationship Id="rId7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0.wmf"/><Relationship Id="rId15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6.wmf"/><Relationship Id="rId1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1.xml"/><Relationship Id="rId8" Type="http://schemas.openxmlformats.org/officeDocument/2006/relationships/slide" Target="slide77.xml"/><Relationship Id="rId9" Type="http://schemas.openxmlformats.org/officeDocument/2006/relationships/slide" Target="slide82.xml"/><Relationship Id="rId10" Type="http://schemas.openxmlformats.org/officeDocument/2006/relationships/slide" Target="slide82.xml"/><Relationship Id="rId11" Type="http://schemas.openxmlformats.org/officeDocument/2006/relationships/slide" Target="slide27.xml"/><Relationship Id="rId12" Type="http://schemas.openxmlformats.org/officeDocument/2006/relationships/slide" Target="slide36.xml"/><Relationship Id="rId13" Type="http://schemas.openxmlformats.org/officeDocument/2006/relationships/slide" Target="slide86.xml"/><Relationship Id="rId14" Type="http://schemas.openxmlformats.org/officeDocument/2006/relationships/slide" Target="slide91.xml"/><Relationship Id="rId15" Type="http://schemas.openxmlformats.org/officeDocument/2006/relationships/slide" Target="slide47.xml"/><Relationship Id="rId16" Type="http://schemas.openxmlformats.org/officeDocument/2006/relationships/slide" Target="slide47.xml"/><Relationship Id="rId17" Type="http://schemas.openxmlformats.org/officeDocument/2006/relationships/slide" Target="slide55.xml"/><Relationship Id="rId18" Type="http://schemas.openxmlformats.org/officeDocument/2006/relationships/slide" Target="slide102.xml"/><Relationship Id="rId19" Type="http://schemas.openxmlformats.org/officeDocument/2006/relationships/slide" Target="slide116.xml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Gaseous State of Mat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210-7F11-453F-8D30-8245A32AB9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98440" y="3124080"/>
            <a:ext cx="6747120" cy="255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of two or more gases to mix spontaneously until they form a uniform mix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1981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33640" y="4971600"/>
            <a:ext cx="3429000" cy="1538280"/>
            <a:chOff x="1133640" y="4971600"/>
            <a:chExt cx="3429000" cy="1538280"/>
          </a:xfrm>
        </p:grpSpPr>
        <p:sp>
          <p:nvSpPr>
            <p:cNvPr id="105" name=""/>
            <p:cNvSpPr/>
            <p:nvPr/>
          </p:nvSpPr>
          <p:spPr>
            <a:xfrm flipV="1">
              <a:off x="2847960" y="4971600"/>
              <a:ext cx="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3640" y="5562720"/>
              <a:ext cx="3429000" cy="94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pcock closed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 diffusion occu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52920" y="4971600"/>
            <a:ext cx="3429000" cy="1538280"/>
            <a:chOff x="4552920" y="4971600"/>
            <a:chExt cx="3429000" cy="1538280"/>
          </a:xfrm>
        </p:grpSpPr>
        <p:sp>
          <p:nvSpPr>
            <p:cNvPr id="108" name=""/>
            <p:cNvSpPr/>
            <p:nvPr/>
          </p:nvSpPr>
          <p:spPr>
            <a:xfrm flipV="1">
              <a:off x="6267240" y="4971600"/>
              <a:ext cx="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2920" y="5562720"/>
              <a:ext cx="3429000" cy="94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pcock open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Diffusion occu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7EE-96B3-4EB2-9551-77607BD41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2508120" y="2895480"/>
            <a:ext cx="3289320" cy="1928880"/>
            <a:chOff x="2508120" y="2895480"/>
            <a:chExt cx="3289320" cy="1928880"/>
          </a:xfrm>
        </p:grpSpPr>
        <p:sp>
          <p:nvSpPr>
            <p:cNvPr id="851" name=""/>
            <p:cNvSpPr/>
            <p:nvPr/>
          </p:nvSpPr>
          <p:spPr>
            <a:xfrm flipH="1">
              <a:off x="2735280" y="3124080"/>
              <a:ext cx="275112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40240" y="2895480"/>
              <a:ext cx="457200" cy="7621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08120" y="4062240"/>
              <a:ext cx="457200" cy="7621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380280" y="2817720"/>
            <a:ext cx="1765080" cy="2516400"/>
            <a:chOff x="6380280" y="2817720"/>
            <a:chExt cx="1765080" cy="2516400"/>
          </a:xfrm>
        </p:grpSpPr>
        <p:sp>
          <p:nvSpPr>
            <p:cNvPr id="855" name=""/>
            <p:cNvSpPr/>
            <p:nvPr/>
          </p:nvSpPr>
          <p:spPr>
            <a:xfrm flipH="1">
              <a:off x="7310160" y="3733920"/>
              <a:ext cx="38556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80280" y="3733920"/>
              <a:ext cx="1041120" cy="160020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65960" y="2817720"/>
              <a:ext cx="779400" cy="104148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tion of Molecular Weights Using the Ideal Gas Equ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666720" y="1447920"/>
          <a:ext cx="3581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44792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2971800" y="4984920"/>
          <a:ext cx="29718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984920"/>
                    <a:ext cx="29718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4915080" y="1447920"/>
          <a:ext cx="3562200" cy="11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5080" y="1447920"/>
                    <a:ext cx="35622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1130400" y="3009960"/>
          <a:ext cx="316224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30400" y="3009960"/>
                    <a:ext cx="3162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5423040" y="2666880"/>
          <a:ext cx="2590560" cy="112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3040" y="2666880"/>
                    <a:ext cx="25905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776160" y="4044960"/>
          <a:ext cx="3116520" cy="64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6160" y="4044960"/>
                    <a:ext cx="3116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4648320" y="3505320"/>
          <a:ext cx="3697200" cy="17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8320" y="3505320"/>
                    <a:ext cx="36972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CD1-AAB5-4EBC-B16C-A3B1CB159AB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an unknown gas, if 0.020 g occupies 250 mL at a temperature of 305 K and a pressure of 0.045 at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3314880" y="3809880"/>
          <a:ext cx="2514600" cy="14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3809880"/>
                    <a:ext cx="251460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711360" y="2133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 = 250 mL = 0.25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91804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 = 0.02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11360" y="3200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305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 = 0.045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68400" y="5637240"/>
          <a:ext cx="23097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00" y="5637240"/>
                    <a:ext cx="230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2306520" y="5637240"/>
          <a:ext cx="39070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6520" y="5637240"/>
                    <a:ext cx="3907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6145200" y="5637240"/>
          <a:ext cx="12859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5200" y="5637240"/>
                    <a:ext cx="1285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4307040" y="5637240"/>
          <a:ext cx="1535040" cy="99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7040" y="5637240"/>
                    <a:ext cx="15350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2478240" y="5637240"/>
          <a:ext cx="1876320" cy="99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8240" y="5637240"/>
                    <a:ext cx="18763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7431120" y="5637240"/>
          <a:ext cx="16430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31120" y="5637240"/>
                    <a:ext cx="1643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2" name=""/>
          <p:cNvGrpSpPr/>
          <p:nvPr/>
        </p:nvGrpSpPr>
        <p:grpSpPr>
          <a:xfrm>
            <a:off x="3368520" y="5729400"/>
            <a:ext cx="3892680" cy="766800"/>
            <a:chOff x="3368520" y="5729400"/>
            <a:chExt cx="3892680" cy="766800"/>
          </a:xfrm>
        </p:grpSpPr>
        <p:sp>
          <p:nvSpPr>
            <p:cNvPr id="893" name=""/>
            <p:cNvSpPr/>
            <p:nvPr/>
          </p:nvSpPr>
          <p:spPr>
            <a:xfrm>
              <a:off x="3627360" y="6278400"/>
              <a:ext cx="593640" cy="21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56120" y="5729400"/>
              <a:ext cx="593640" cy="217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72280" y="6318360"/>
              <a:ext cx="29196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8520" y="5762520"/>
              <a:ext cx="29232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37320" y="5791320"/>
              <a:ext cx="29196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69240" y="5791320"/>
              <a:ext cx="29196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0EB-2D40-44EE-9C03-D2244CA0387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Gas Stoichiomet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505-D8EA-44DB-BDFE-2C4D8D3F29F4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calculations are done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STP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2714760"/>
            <a:ext cx="7772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es are assumed to behave as ideal g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as not at STP is converted to S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A29-97BD-4334-AA03-84A00A71D30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ichiometr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area of chemistry that deals with the quantitative relationships among reactants and products in a chemical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previousslide"/>
          </p:cNvPr>
          <p:cNvSpPr/>
          <p:nvPr/>
        </p:nvSpPr>
        <p:spPr>
          <a:xfrm>
            <a:off x="8070840" y="563868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B7F-43F0-4C36-A332-A6E227161B8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Stoichi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mary conversions involved in stoichio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52360" y="2254320"/>
            <a:ext cx="863748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D4B-C956-4AFD-85FA-1169EE5495E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349"/>
              </a:spcBef>
              <a:spcAft>
                <a:spcPts val="33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Mole-Volume Calcul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Mass-Volume Calcul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946-D4CF-4D62-A19C-56A2EEFEEA8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685800" y="211464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 Write the balanced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KCl + 3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 The starting amount is 0.500 mol 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The convers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l KClO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mol O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L O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volume of oxygen (at STP) can be formed from 0.500 mol of potassium chlo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E96-ED96-413D-BDC2-EF00C804D4D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1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1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10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1000" fill="hold"/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2286000" y="1676520"/>
            <a:ext cx="3657600" cy="2981160"/>
            <a:chOff x="2286000" y="1676520"/>
            <a:chExt cx="3657600" cy="2981160"/>
          </a:xfrm>
        </p:grpSpPr>
        <p:sp>
          <p:nvSpPr>
            <p:cNvPr id="913" name=""/>
            <p:cNvSpPr/>
            <p:nvPr/>
          </p:nvSpPr>
          <p:spPr>
            <a:xfrm>
              <a:off x="2514600" y="2133720"/>
              <a:ext cx="121932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33920" y="4124160"/>
              <a:ext cx="2209680" cy="5335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6000" y="1676520"/>
              <a:ext cx="380880" cy="533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733920" y="1682640"/>
            <a:ext cx="2262240" cy="2394000"/>
            <a:chOff x="3733920" y="1682640"/>
            <a:chExt cx="2262240" cy="2394000"/>
          </a:xfrm>
        </p:grpSpPr>
        <p:sp>
          <p:nvSpPr>
            <p:cNvPr id="917" name=""/>
            <p:cNvSpPr/>
            <p:nvPr/>
          </p:nvSpPr>
          <p:spPr>
            <a:xfrm flipH="1">
              <a:off x="4709880" y="2133720"/>
              <a:ext cx="1081080" cy="14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33920" y="3543480"/>
              <a:ext cx="2209680" cy="533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4920" y="1682640"/>
              <a:ext cx="381240" cy="533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0" name=""/>
          <p:cNvGraphicFramePr/>
          <p:nvPr/>
        </p:nvGraphicFramePr>
        <p:xfrm>
          <a:off x="3505320" y="3505320"/>
          <a:ext cx="268920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26892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228600" y="2361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. Calculate th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the mole-ratio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247680" y="3836880"/>
          <a:ext cx="32544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3836880"/>
                    <a:ext cx="3254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volume of oxygen (at STP) can be formed from 0.500 mol of potassium chlo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" y="50292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4.  Convert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ter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6172200" y="3836880"/>
          <a:ext cx="272268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836880"/>
                    <a:ext cx="2722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1433520" y="5904000"/>
          <a:ext cx="259092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33520" y="5904000"/>
                    <a:ext cx="2590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"/>
          <p:cNvGraphicFramePr/>
          <p:nvPr/>
        </p:nvGraphicFramePr>
        <p:xfrm>
          <a:off x="4014720" y="5638680"/>
          <a:ext cx="1576440" cy="104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4720" y="5638680"/>
                    <a:ext cx="15764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700600" y="5904000"/>
          <a:ext cx="200988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00600" y="5904000"/>
                    <a:ext cx="20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2328120" y="1630440"/>
            <a:ext cx="41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K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KCl + 3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47920" y="4038480"/>
            <a:ext cx="4419360" cy="457200"/>
            <a:chOff x="1447920" y="4038480"/>
            <a:chExt cx="4419360" cy="457200"/>
          </a:xfrm>
        </p:grpSpPr>
        <p:sp>
          <p:nvSpPr>
            <p:cNvPr id="937" name=""/>
            <p:cNvSpPr/>
            <p:nvPr/>
          </p:nvSpPr>
          <p:spPr>
            <a:xfrm>
              <a:off x="1447920" y="4038480"/>
              <a:ext cx="182880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38480" y="4343400"/>
              <a:ext cx="182880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590920" y="6095880"/>
            <a:ext cx="2819160" cy="457200"/>
            <a:chOff x="2590920" y="6095880"/>
            <a:chExt cx="2819160" cy="457200"/>
          </a:xfrm>
        </p:grpSpPr>
        <p:sp>
          <p:nvSpPr>
            <p:cNvPr id="940" name=""/>
            <p:cNvSpPr/>
            <p:nvPr/>
          </p:nvSpPr>
          <p:spPr>
            <a:xfrm>
              <a:off x="2590920" y="6095880"/>
              <a:ext cx="121896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91120" y="6324480"/>
              <a:ext cx="121896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5D6-F1A3-494D-A084-694AFE95050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990720" y="2133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can also be solved in one continuous calc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volume of oxygen (at STP) can be formed from 0.500 mol of potassium chlo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8120" y="3687840"/>
            <a:ext cx="41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K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KCl + 3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38160" y="4994280"/>
          <a:ext cx="30639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4994280"/>
                    <a:ext cx="3063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3095640" y="4681440"/>
          <a:ext cx="2533680" cy="11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4681440"/>
                    <a:ext cx="25336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5619600" y="4743360"/>
          <a:ext cx="148464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600" y="4743360"/>
                    <a:ext cx="1484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7213680" y="4994280"/>
          <a:ext cx="189216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3680" y="4994280"/>
                    <a:ext cx="1892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3" name=""/>
          <p:cNvGrpSpPr/>
          <p:nvPr/>
        </p:nvGrpSpPr>
        <p:grpSpPr>
          <a:xfrm>
            <a:off x="1143000" y="4952880"/>
            <a:ext cx="5654520" cy="689040"/>
            <a:chOff x="1143000" y="4952880"/>
            <a:chExt cx="5654520" cy="689040"/>
          </a:xfrm>
        </p:grpSpPr>
        <p:sp>
          <p:nvSpPr>
            <p:cNvPr id="954" name=""/>
            <p:cNvSpPr/>
            <p:nvPr/>
          </p:nvSpPr>
          <p:spPr>
            <a:xfrm>
              <a:off x="1143000" y="5181480"/>
              <a:ext cx="175248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7120" y="5489640"/>
              <a:ext cx="175284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08520" y="4952880"/>
              <a:ext cx="1166760" cy="117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41960" y="5467320"/>
              <a:ext cx="655560" cy="60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C95-93C8-4A54-B40C-9440626272C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cess by which gas molecules pass through a very small orifice from a container at higher pressure to one at lower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600280"/>
            <a:ext cx="89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8480" y="3143160"/>
            <a:ext cx="141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DDA-CE4C-4D20-8B75-951E54C0D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404640" y="2249640"/>
            <a:ext cx="5712120" cy="4113000"/>
            <a:chOff x="404640" y="2249640"/>
            <a:chExt cx="5712120" cy="4113000"/>
          </a:xfrm>
        </p:grpSpPr>
        <p:sp>
          <p:nvSpPr>
            <p:cNvPr id="959" name=""/>
            <p:cNvSpPr/>
            <p:nvPr/>
          </p:nvSpPr>
          <p:spPr>
            <a:xfrm>
              <a:off x="609480" y="2590920"/>
              <a:ext cx="3789360" cy="35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4640" y="2249640"/>
              <a:ext cx="381240" cy="533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10000" y="5829480"/>
              <a:ext cx="1706760" cy="533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4410000" y="2225520"/>
            <a:ext cx="3179880" cy="3537000"/>
            <a:chOff x="4410000" y="2225520"/>
            <a:chExt cx="3179880" cy="3537000"/>
          </a:xfrm>
        </p:grpSpPr>
        <p:sp>
          <p:nvSpPr>
            <p:cNvPr id="963" name=""/>
            <p:cNvSpPr/>
            <p:nvPr/>
          </p:nvSpPr>
          <p:spPr>
            <a:xfrm>
              <a:off x="4410000" y="5229360"/>
              <a:ext cx="1706760" cy="533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175000" y="2622600"/>
              <a:ext cx="2230200" cy="26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9000" y="2225520"/>
              <a:ext cx="380880" cy="533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l(s) + 6 HCl(aq)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Al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q) + 3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  Calculate moles of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ams Al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es Al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es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hydrogen, collected at 30.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700. torr, will be formed by reacting 50.0 g of aluminum with hydrochlor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01520" y="5533920"/>
          <a:ext cx="1697040" cy="4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5533920"/>
                    <a:ext cx="169704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792440" y="5181480"/>
          <a:ext cx="240480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440" y="5181480"/>
                    <a:ext cx="24048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4183200" y="5226120"/>
          <a:ext cx="215712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3200" y="5226120"/>
                    <a:ext cx="21571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6354720" y="5510160"/>
          <a:ext cx="268776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4720" y="5510160"/>
                    <a:ext cx="26877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6" name=""/>
          <p:cNvGrpSpPr/>
          <p:nvPr/>
        </p:nvGrpSpPr>
        <p:grpSpPr>
          <a:xfrm>
            <a:off x="982800" y="5380200"/>
            <a:ext cx="5100480" cy="839520"/>
            <a:chOff x="982800" y="5380200"/>
            <a:chExt cx="5100480" cy="839520"/>
          </a:xfrm>
        </p:grpSpPr>
        <p:sp>
          <p:nvSpPr>
            <p:cNvPr id="977" name=""/>
            <p:cNvSpPr/>
            <p:nvPr/>
          </p:nvSpPr>
          <p:spPr>
            <a:xfrm>
              <a:off x="2479680" y="5380200"/>
              <a:ext cx="130824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54320" y="6058080"/>
              <a:ext cx="785880" cy="11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82800" y="5718240"/>
              <a:ext cx="785520" cy="11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75040" y="5991120"/>
              <a:ext cx="130824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A69-0378-4168-8816-E22218FF045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10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10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10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762120" y="3352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to K: 30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0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4159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rr to at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38080" y="18288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6 HC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3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7160" y="2514600"/>
            <a:ext cx="594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  Calculate liters of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hydrogen, collected at 30.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700. torr, will be formed by reacting 50.0 g of aluminum with hydrochlor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442880" y="5425920"/>
          <a:ext cx="160668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5425920"/>
                    <a:ext cx="16066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3062160" y="5029200"/>
          <a:ext cx="21272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2160" y="5029200"/>
                    <a:ext cx="2127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5300640" y="5425920"/>
          <a:ext cx="239868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00640" y="5425920"/>
                    <a:ext cx="23986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2" name=""/>
          <p:cNvGrpSpPr/>
          <p:nvPr/>
        </p:nvGrpSpPr>
        <p:grpSpPr>
          <a:xfrm>
            <a:off x="2286000" y="5486400"/>
            <a:ext cx="2606760" cy="633240"/>
            <a:chOff x="2286000" y="5486400"/>
            <a:chExt cx="2606760" cy="633240"/>
          </a:xfrm>
        </p:grpSpPr>
        <p:sp>
          <p:nvSpPr>
            <p:cNvPr id="993" name=""/>
            <p:cNvSpPr/>
            <p:nvPr/>
          </p:nvSpPr>
          <p:spPr>
            <a:xfrm>
              <a:off x="2286000" y="5486400"/>
              <a:ext cx="76212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30640" y="5815080"/>
              <a:ext cx="7621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D33-A35A-4B89-A7AE-39695295A06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hydrogen, collected at 30.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700. torr, will be formed by reacting 50.0 g of aluminum with hydrochlor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05320" y="27669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V = n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3657600" y="3557520"/>
          <a:ext cx="18288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557520"/>
                    <a:ext cx="18288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"/>
          <p:cNvSpPr/>
          <p:nvPr/>
        </p:nvSpPr>
        <p:spPr>
          <a:xfrm>
            <a:off x="304920" y="20574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ideal gas equation for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2309760" y="4829040"/>
          <a:ext cx="1963800" cy="10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9760" y="4829040"/>
                    <a:ext cx="19638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2" name=""/>
          <p:cNvGraphicFramePr/>
          <p:nvPr/>
        </p:nvGraphicFramePr>
        <p:xfrm>
          <a:off x="81000" y="4829040"/>
          <a:ext cx="3163680" cy="95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00" y="4829040"/>
                    <a:ext cx="31636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4" name=""/>
          <p:cNvGraphicFramePr/>
          <p:nvPr/>
        </p:nvGraphicFramePr>
        <p:xfrm>
          <a:off x="3170160" y="4827600"/>
          <a:ext cx="2548080" cy="95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0160" y="4827600"/>
                    <a:ext cx="25480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5638680" y="4827600"/>
          <a:ext cx="134784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4827600"/>
                    <a:ext cx="13478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4205160" y="4829040"/>
          <a:ext cx="1395720" cy="104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05160" y="4829040"/>
                    <a:ext cx="139572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69240" y="5065560"/>
          <a:ext cx="209376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9240" y="5065560"/>
                    <a:ext cx="20937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2" name=""/>
          <p:cNvGrpSpPr/>
          <p:nvPr/>
        </p:nvGrpSpPr>
        <p:grpSpPr>
          <a:xfrm>
            <a:off x="1828800" y="4952880"/>
            <a:ext cx="4998960" cy="720720"/>
            <a:chOff x="1828800" y="4952880"/>
            <a:chExt cx="4998960" cy="720720"/>
          </a:xfrm>
        </p:grpSpPr>
        <p:sp>
          <p:nvSpPr>
            <p:cNvPr id="1013" name=""/>
            <p:cNvSpPr/>
            <p:nvPr/>
          </p:nvSpPr>
          <p:spPr>
            <a:xfrm>
              <a:off x="1828800" y="4952880"/>
              <a:ext cx="121932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54560" y="5546880"/>
              <a:ext cx="636480" cy="11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78320" y="5562720"/>
              <a:ext cx="636480" cy="11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08600" y="4997520"/>
              <a:ext cx="636480" cy="11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59440" y="5564160"/>
              <a:ext cx="366480" cy="6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61280" y="4987800"/>
              <a:ext cx="366480" cy="6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828-B23B-4BB8-AB66-4DC8C023301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Volume-Volume Calcul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007-1F53-4DCE-AECC-058B66DB7B2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1143000" y="2209680"/>
            <a:ext cx="723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+     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)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HC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080" y="287352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90840" y="28735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8520" y="2871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ol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952560" y="3605040"/>
            <a:ext cx="1447920" cy="1105200"/>
            <a:chOff x="952560" y="3605040"/>
            <a:chExt cx="1447920" cy="1105200"/>
          </a:xfrm>
        </p:grpSpPr>
        <p:sp>
          <p:nvSpPr>
            <p:cNvPr id="1025" name=""/>
            <p:cNvSpPr/>
            <p:nvPr/>
          </p:nvSpPr>
          <p:spPr>
            <a:xfrm>
              <a:off x="952560" y="36050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2.4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19320" y="412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772080" y="3605040"/>
            <a:ext cx="1295280" cy="1107000"/>
            <a:chOff x="3772080" y="3605040"/>
            <a:chExt cx="1295280" cy="1107000"/>
          </a:xfrm>
        </p:grpSpPr>
        <p:sp>
          <p:nvSpPr>
            <p:cNvPr id="1028" name=""/>
            <p:cNvSpPr/>
            <p:nvPr/>
          </p:nvSpPr>
          <p:spPr>
            <a:xfrm>
              <a:off x="3772080" y="36050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2.4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962520" y="41306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48520" y="3603600"/>
            <a:ext cx="1981080" cy="1106640"/>
            <a:chOff x="6248520" y="3603600"/>
            <a:chExt cx="1981080" cy="1106640"/>
          </a:xfrm>
        </p:grpSpPr>
        <p:sp>
          <p:nvSpPr>
            <p:cNvPr id="1031" name=""/>
            <p:cNvSpPr/>
            <p:nvPr/>
          </p:nvSpPr>
          <p:spPr>
            <a:xfrm>
              <a:off x="6248520" y="36036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 x 22.4 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1680" y="412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2396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6716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8668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960" y="53942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467160" y="53942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34040" y="53942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Y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acting gases at constant temperature and pressure: Volume-volume relationships are the same as mole-mole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74C-126B-47AF-B423-9BD1395E136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nitrogen will react with 600. mL of hydrogen to form ammonia? What volume of ammonia will be form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181160" y="1663920"/>
            <a:ext cx="67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3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1011240" y="3192480"/>
          <a:ext cx="214488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3192480"/>
                    <a:ext cx="21448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3220920" y="2819520"/>
          <a:ext cx="220356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0920" y="2819520"/>
                    <a:ext cx="22035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5430960" y="3192480"/>
          <a:ext cx="270036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0960" y="3192480"/>
                    <a:ext cx="27003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696960" y="4898880"/>
          <a:ext cx="21445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6960" y="4898880"/>
                    <a:ext cx="21445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2897280" y="4525920"/>
          <a:ext cx="2546280" cy="134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7280" y="4525920"/>
                    <a:ext cx="25462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"/>
          <p:cNvGraphicFramePr/>
          <p:nvPr/>
        </p:nvGraphicFramePr>
        <p:xfrm>
          <a:off x="5421240" y="4898880"/>
          <a:ext cx="3025800" cy="59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21240" y="4898880"/>
                    <a:ext cx="30258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669-6792-4556-8753-08488E8DD6F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5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al G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031-D4CF-4539-993D-EE8EB2C29CA5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al gas obeys the gas la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the molecules of an ideal gas  occupy is negligible compared to the volume of the gas.  This is true at all temperatures and pres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molecular attractions between the molecules of an ideal gas are negligible at all temperatures and pres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0B1-5E57-4F5C-9064-0AC4F44B442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iations from the gas laws occur at high pressures and low temperat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high pressures, the volumes of the real gas molecules are not negligible compared to the volume of th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temperatures, the kinetic energy of the gas molecules cannot completely overcome the intermolecular attractive forces between the molecu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9BF-A79A-4580-B673-589FD2D22A8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10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10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855800" y="307800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AA3-E8F6-4EDF-A1E2-46E012FF6253}" type="slidenum">
              <a:t>119</a:t>
            </a:fld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ham’s Law of E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ates of effusion of two gases at the same temperature and pressure are inversely proportional to the square roots of their densities, or molar m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1680" y="4848120"/>
          <a:ext cx="3903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4848120"/>
                    <a:ext cx="3903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08640" y="4848120"/>
          <a:ext cx="117792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8640" y="4848120"/>
                    <a:ext cx="1177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867280" y="4848120"/>
          <a:ext cx="2853000" cy="101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848120"/>
                    <a:ext cx="2853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C4B-499B-42E7-A289-3CC047F24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160" y="3048120"/>
          <a:ext cx="285264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3048120"/>
                    <a:ext cx="2852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930400" y="3048120"/>
          <a:ext cx="3275280" cy="101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0400" y="3048120"/>
                    <a:ext cx="3275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246720" y="3048120"/>
          <a:ext cx="2859120" cy="10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6720" y="3048120"/>
                    <a:ext cx="28591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atio of the rate of effusion of CO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4A7-DCB7-4109-8BBC-7262913D0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Measurement of Pressure of G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390-22C5-46E4-B319-BFCB6CC1E0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ure equals force per unit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05120" y="2727360"/>
          <a:ext cx="533376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727360"/>
                    <a:ext cx="533376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6BA-E2D4-4F8E-8D61-A03B3E5DF1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695600"/>
            <a:ext cx="434340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resulting from the collisions of gas molecules with the walls of the balloon keeps the balloon infl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1623960"/>
            <a:ext cx="3264120" cy="36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366-8010-41D8-BDAE-26016111B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pressure exerted by a gas depends on th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 of gas molecul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erature of the g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ume in which the gas is confin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C12-0776-4A4C-B544-312044C912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62240" y="866880"/>
            <a:ext cx="5905440" cy="5122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ury 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2280" y="942840"/>
            <a:ext cx="3229200" cy="1800360"/>
            <a:chOff x="152280" y="942840"/>
            <a:chExt cx="3229200" cy="1800360"/>
          </a:xfrm>
        </p:grpSpPr>
        <p:sp>
          <p:nvSpPr>
            <p:cNvPr id="145" name=""/>
            <p:cNvSpPr/>
            <p:nvPr/>
          </p:nvSpPr>
          <p:spPr>
            <a:xfrm>
              <a:off x="2771640" y="20858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280" y="942840"/>
              <a:ext cx="2819520" cy="180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tube of mercury is inverted and placed in a dish of mercur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2280" y="4114800"/>
            <a:ext cx="28195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rometer is used to measure atmospheric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414-63B1-4B60-9706-E3D3AE734D19}" type="slidenum">
              <a:t>18</a:t>
            </a:fld>
          </a:p>
        </p:txBody>
      </p:sp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26441" t="14498" r="25504" b="13750"/>
          <a:stretch/>
        </p:blipFill>
        <p:spPr>
          <a:xfrm>
            <a:off x="1650960" y="157320"/>
            <a:ext cx="5840280" cy="65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C4D-1678-43C5-B1B9-D48EF86034D0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0" y="1523880"/>
            <a:ext cx="44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Dalton’s Law of Partial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res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152388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The Kinetic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Molecular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3716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Measurement of Pressure of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760" y="32194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687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Dependence of Pressure on Number of Molecules and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49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Avogadro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988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Mole-Mass-Volume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Relationships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44337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5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Boyle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5760" y="49165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Charles’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068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Density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673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3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Ideal Ga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53989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Gay-Lussac’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58831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Combined G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27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4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Gas Stoichi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883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5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Real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4A8-565E-49BA-A0B1-78F1913AF1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Composition of Dry 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240" y="222876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14520" y="22287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8.0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240" y="29718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04800" y="29718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.9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240" y="3772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81280" y="37720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93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572000"/>
            <a:ext cx="144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7520" y="4572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33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5410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1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240" y="54100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228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22876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0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920" y="1486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3640" y="1486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olume 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971800"/>
            <a:ext cx="1371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29718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02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772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4572000"/>
            <a:ext cx="4114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e,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4572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772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0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52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1523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olume 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4FD-CF64-4AEE-8534-FFEA690F2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12.4</a:t>
            </a:r>
            <a:br>
              <a:rPr sz="3200"/>
            </a:br>
            <a:r>
              <a:rPr b="1" lang="en-US" sz="4000" spc="-1" strike="noStrike" u="sng">
                <a:solidFill>
                  <a:srgbClr val="cc3399"/>
                </a:solidFill>
                <a:uFillTx/>
                <a:latin typeface="Times New Roman"/>
              </a:rPr>
              <a:t>Dependence of Pressure on Number</a:t>
            </a:r>
            <a:br>
              <a:rPr sz="4000"/>
            </a:br>
            <a:r>
              <a:rPr b="1" lang="en-US" sz="4000" spc="-1" strike="noStrike" u="sng">
                <a:solidFill>
                  <a:srgbClr val="cc3399"/>
                </a:solidFill>
                <a:uFillTx/>
                <a:latin typeface="Times New Roman"/>
              </a:rPr>
              <a:t>of Molecules and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F1A-D690-40C4-92ED-64B43E4BFC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ure is produced by gas molecules colliding with the walls of a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9076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a specific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mperatu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olume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number of collisions depends on the number of gas molecul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an ideal gas the number of collisions is directly proportional to the number of gas molecul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4C0-FEC3-4124-AAF2-B3CBD0C77E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49200" y="1407960"/>
            <a:ext cx="6645600" cy="5526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30120" y="272520"/>
            <a:ext cx="27432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= 22.4 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03440" y="60120"/>
            <a:ext cx="541044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sure exerted by a gas is directly proportional to the number of molecule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B5B-A7FA-4F23-B661-5857ACE3A2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84A3-485F-4417-B5C4-5BE45E6F8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 of Pressure on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of a gas in a fixed volume increases with increasing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pressure of a gas increases, it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kinetic energy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incr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ncreased kinetic energy of the gas results in more frequent and energetic collisions of the molecules with the walls of the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139840" y="2252520"/>
          <a:ext cx="486432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252520"/>
                    <a:ext cx="486432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3D1-DB5A-4740-AC25-E9B07F1F2F4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320" y="33660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sure of a gas in a fixed volume increases with increasing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0" y="963720"/>
            <a:ext cx="4570560" cy="58179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04920" y="3782880"/>
            <a:ext cx="2514600" cy="1218960"/>
            <a:chOff x="304920" y="3782880"/>
            <a:chExt cx="2514600" cy="1218960"/>
          </a:xfrm>
        </p:grpSpPr>
        <p:sp>
          <p:nvSpPr>
            <p:cNvPr id="193" name=""/>
            <p:cNvSpPr/>
            <p:nvPr/>
          </p:nvSpPr>
          <p:spPr>
            <a:xfrm>
              <a:off x="1905120" y="43923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3782880"/>
              <a:ext cx="1600200" cy="1218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ower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ower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334200" y="3782880"/>
            <a:ext cx="2504520" cy="1219320"/>
            <a:chOff x="6334200" y="3782880"/>
            <a:chExt cx="2504520" cy="1219320"/>
          </a:xfrm>
        </p:grpSpPr>
        <p:sp>
          <p:nvSpPr>
            <p:cNvPr id="196" name=""/>
            <p:cNvSpPr/>
            <p:nvPr/>
          </p:nvSpPr>
          <p:spPr>
            <a:xfrm flipH="1">
              <a:off x="6334200" y="43923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238160" y="3782880"/>
              <a:ext cx="1600200" cy="1219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igher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igher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705720" y="0"/>
            <a:ext cx="25905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pressure is due to  more frequent and more energetic collisions of the gas molecules with the walls of the container at the higher 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C8E-27D9-430A-BC54-4AD0E7B5CE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Boyle’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C25-E4BA-42C9-B3DF-9A5F174B9FA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constant temperature (T), the volume (V) of a fixed mass of gas is inversely proportional to the Pressure (P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664080" y="3048120"/>
          <a:ext cx="181584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4080" y="3048120"/>
                    <a:ext cx="181584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92560" y="4878360"/>
          <a:ext cx="25588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2560" y="4878360"/>
                    <a:ext cx="25588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DDC-C9BD-40BE-9B0C-8F9677C383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6760" y="5713920"/>
            <a:ext cx="86104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of pressure versus volume.  This shows the inverse PV relationship of an ideal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30320" y="114480"/>
            <a:ext cx="5283360" cy="5371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232-5EB0-47C1-9E03-A8126AD57C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Kinetic-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Molecular The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4E1-336E-4555-B69C-1D39B5419F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6095160"/>
            <a:ext cx="8610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pressure on the volume of a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8866080" cy="585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D72-DA91-4F55-9FF0-6F9BB25B83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.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Determine whether volume is being increased or decrea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itial volu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8.00 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volu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3.0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olume decreases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pressure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472-DBA6-4F10-9F5E-2FB8B1EBDD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532240" y="4724280"/>
          <a:ext cx="17064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2240" y="4724280"/>
                    <a:ext cx="17064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Multiply the original pressure by a ratio of volumes that will result in an increase in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82960" y="4818240"/>
            <a:ext cx="303120" cy="967680"/>
            <a:chOff x="3882960" y="4818240"/>
            <a:chExt cx="303120" cy="967680"/>
          </a:xfrm>
        </p:grpSpPr>
        <p:sp>
          <p:nvSpPr>
            <p:cNvPr id="220" name=""/>
            <p:cNvSpPr/>
            <p:nvPr/>
          </p:nvSpPr>
          <p:spPr>
            <a:xfrm>
              <a:off x="3882960" y="4818240"/>
              <a:ext cx="291960" cy="338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5448240"/>
              <a:ext cx="291960" cy="33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93600" y="5067360"/>
          <a:ext cx="231768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5067360"/>
                    <a:ext cx="23176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284720" y="5067360"/>
          <a:ext cx="17622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5067360"/>
                    <a:ext cx="17622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288120" y="4954680"/>
          <a:ext cx="27637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8120" y="4954680"/>
                    <a:ext cx="27637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28600" y="3962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ew pressure = original pressure x ratio of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1E2-C252-4008-8A61-DCF54747FB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272880"/>
            <a:ext cx="6873840" cy="4289760"/>
            <a:chOff x="838080" y="272880"/>
            <a:chExt cx="6873840" cy="4289760"/>
          </a:xfrm>
        </p:grpSpPr>
        <p:sp>
          <p:nvSpPr>
            <p:cNvPr id="233" name=""/>
            <p:cNvSpPr/>
            <p:nvPr/>
          </p:nvSpPr>
          <p:spPr>
            <a:xfrm>
              <a:off x="838080" y="272880"/>
              <a:ext cx="1219320" cy="511200"/>
            </a:xfrm>
            <a:prstGeom prst="ellipse">
              <a:avLst/>
            </a:prstGeom>
            <a:solidFill>
              <a:srgbClr val="66ff33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07160" y="3724200"/>
              <a:ext cx="1904760" cy="838440"/>
            </a:xfrm>
            <a:prstGeom prst="ellipse">
              <a:avLst/>
            </a:prstGeom>
            <a:solidFill>
              <a:srgbClr val="66ff33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944720" y="1241280"/>
            <a:ext cx="5767200" cy="4702320"/>
            <a:chOff x="1944720" y="1241280"/>
            <a:chExt cx="5767200" cy="4702320"/>
          </a:xfrm>
        </p:grpSpPr>
        <p:sp>
          <p:nvSpPr>
            <p:cNvPr id="236" name=""/>
            <p:cNvSpPr/>
            <p:nvPr/>
          </p:nvSpPr>
          <p:spPr>
            <a:xfrm>
              <a:off x="5807160" y="5105520"/>
              <a:ext cx="1904760" cy="838080"/>
            </a:xfrm>
            <a:prstGeom prst="ellipse">
              <a:avLst/>
            </a:prstGeom>
            <a:solidFill>
              <a:srgbClr val="00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44720" y="1241280"/>
              <a:ext cx="1219320" cy="511200"/>
            </a:xfrm>
            <a:prstGeom prst="ellipse">
              <a:avLst/>
            </a:prstGeom>
            <a:solidFill>
              <a:srgbClr val="00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54160" y="254160"/>
            <a:ext cx="7750080" cy="4425840"/>
            <a:chOff x="254160" y="254160"/>
            <a:chExt cx="7750080" cy="4425840"/>
          </a:xfrm>
        </p:grpSpPr>
        <p:sp>
          <p:nvSpPr>
            <p:cNvPr id="239" name=""/>
            <p:cNvSpPr/>
            <p:nvPr/>
          </p:nvSpPr>
          <p:spPr>
            <a:xfrm>
              <a:off x="1820880" y="3708360"/>
              <a:ext cx="2197080" cy="9716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8880" y="254160"/>
              <a:ext cx="765360" cy="510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784080"/>
              <a:ext cx="765000" cy="51120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3718080"/>
            <a:ext cx="7162920" cy="2327760"/>
            <a:chOff x="609480" y="3718080"/>
            <a:chExt cx="7162920" cy="2327760"/>
          </a:xfrm>
        </p:grpSpPr>
        <p:sp>
          <p:nvSpPr>
            <p:cNvPr id="243" name=""/>
            <p:cNvSpPr/>
            <p:nvPr/>
          </p:nvSpPr>
          <p:spPr>
            <a:xfrm>
              <a:off x="4572000" y="3718080"/>
              <a:ext cx="3200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8.00 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640" y="3718080"/>
              <a:ext cx="33530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500 tor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5119560"/>
              <a:ext cx="30862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3.00 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80" y="5081760"/>
              <a:ext cx="19814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37304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.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37304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6A5-2C4B-4D18-AED8-543E657D86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314880" y="4648320"/>
          <a:ext cx="251460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648320"/>
                    <a:ext cx="25146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114720" y="3505320"/>
          <a:ext cx="29131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4720" y="3505320"/>
                    <a:ext cx="29131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7600" indent="0">
              <a:spcBef>
                <a:spcPts val="901"/>
              </a:spcBef>
              <a:buNone/>
              <a:tabLst>
                <a:tab algn="l" pos="0"/>
                <a:tab algn="l" pos="137304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equation for the unkn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425-D6E9-482E-8F62-FD104BB704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 Put the given information into the equation and calcu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4114800"/>
          <a:ext cx="18892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18892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905120" y="4170240"/>
          <a:ext cx="400032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170240"/>
                    <a:ext cx="40003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791320" y="4429080"/>
          <a:ext cx="329076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429080"/>
                    <a:ext cx="3290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3" name=""/>
          <p:cNvGrpSpPr/>
          <p:nvPr/>
        </p:nvGrpSpPr>
        <p:grpSpPr>
          <a:xfrm>
            <a:off x="4464000" y="4238640"/>
            <a:ext cx="1227240" cy="1028520"/>
            <a:chOff x="4464000" y="4238640"/>
            <a:chExt cx="1227240" cy="1028520"/>
          </a:xfrm>
        </p:grpSpPr>
        <p:sp>
          <p:nvSpPr>
            <p:cNvPr id="264" name=""/>
            <p:cNvSpPr/>
            <p:nvPr/>
          </p:nvSpPr>
          <p:spPr>
            <a:xfrm>
              <a:off x="5386320" y="423864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000" y="488628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573-1E32-49DE-9E2B-6ADAA6FA6E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harles’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DC2-456D-43EA-956E-85658250699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Zero on the Kelvin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5800" y="1666800"/>
            <a:ext cx="8077320" cy="1920960"/>
            <a:chOff x="685800" y="1666800"/>
            <a:chExt cx="8077320" cy="1920960"/>
          </a:xfrm>
        </p:grpSpPr>
        <p:sp>
          <p:nvSpPr>
            <p:cNvPr id="272" name=""/>
            <p:cNvSpPr/>
            <p:nvPr/>
          </p:nvSpPr>
          <p:spPr>
            <a:xfrm>
              <a:off x="685800" y="1666800"/>
              <a:ext cx="8077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 algn="just"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f a given volume of any gas at 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is cooled by 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e volume of the gas decreases by 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3514680" y="2838600"/>
            <a:ext cx="520920" cy="74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4680" y="2838600"/>
                      <a:ext cx="5209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5" name=""/>
          <p:cNvGrpSpPr/>
          <p:nvPr/>
        </p:nvGrpSpPr>
        <p:grpSpPr>
          <a:xfrm>
            <a:off x="685800" y="3700440"/>
            <a:ext cx="8077320" cy="1928880"/>
            <a:chOff x="685800" y="3700440"/>
            <a:chExt cx="8077320" cy="1928880"/>
          </a:xfrm>
        </p:grpSpPr>
        <p:sp>
          <p:nvSpPr>
            <p:cNvPr id="276" name=""/>
            <p:cNvSpPr/>
            <p:nvPr/>
          </p:nvSpPr>
          <p:spPr>
            <a:xfrm>
              <a:off x="685800" y="3700440"/>
              <a:ext cx="8077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 algn="just"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f a given volume of any gas at 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is cooled by 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e volume of the gas decreases by 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7" name=""/>
            <p:cNvGraphicFramePr/>
            <p:nvPr/>
          </p:nvGraphicFramePr>
          <p:xfrm>
            <a:off x="3498840" y="4880160"/>
            <a:ext cx="52056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8840" y="4880160"/>
                      <a:ext cx="52056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736-BF2D-46CD-A865-8464810976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Zero on the Kelvin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33520" y="1523880"/>
            <a:ext cx="8076960" cy="1920960"/>
            <a:chOff x="533520" y="1523880"/>
            <a:chExt cx="8076960" cy="1920960"/>
          </a:xfrm>
        </p:grpSpPr>
        <p:sp>
          <p:nvSpPr>
            <p:cNvPr id="281" name=""/>
            <p:cNvSpPr/>
            <p:nvPr/>
          </p:nvSpPr>
          <p:spPr>
            <a:xfrm>
              <a:off x="533520" y="1523880"/>
              <a:ext cx="8076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 algn="just"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f a given volume of any gas at 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is cooled by 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273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e volume of the gas decreases by 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2" name=""/>
            <p:cNvGraphicFramePr/>
            <p:nvPr/>
          </p:nvGraphicFramePr>
          <p:xfrm>
            <a:off x="3441600" y="2695680"/>
            <a:ext cx="520200" cy="74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41600" y="2695680"/>
                      <a:ext cx="5202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4" name=""/>
          <p:cNvSpPr/>
          <p:nvPr/>
        </p:nvSpPr>
        <p:spPr>
          <a:xfrm>
            <a:off x="533520" y="35575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273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more precisely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273.15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is the zero point on the Kelvin scale.  It is the temperature at which an ideal gas would have 0 volu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0BE-4B90-4B7A-A7AE-FE5A76FFDD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6198120"/>
            <a:ext cx="91440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temperature relationship of methane 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00200" y="380880"/>
            <a:ext cx="7742160" cy="5340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8B4-4EBC-4EE9-9378-69D071D807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inetic-Molecular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MT is based on the motions of gas part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as that behaves exactly as outlined by KMT is known as a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eal g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le no ideal gases are found in nature, real gases can approximate ideal gas behavior under certain conditions of temperature and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A15-50EB-46AA-8122-E4880E1418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les’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constant pressure the volume of a fixed mass of gas is directly proportional to the absolute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706920" y="4395960"/>
          <a:ext cx="172872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6920" y="4395960"/>
                    <a:ext cx="1728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587760" y="5116680"/>
          <a:ext cx="196848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7760" y="5116680"/>
                    <a:ext cx="196848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F2D-C27C-498E-8226-009EE4021E0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5334120"/>
            <a:ext cx="914400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temperature on the volume of a gas.  Pressure is constant at 1 atm.  When temperature increases at constant pressure, the volume of the gas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02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18750" r="37506" b="16752"/>
          <a:stretch/>
        </p:blipFill>
        <p:spPr>
          <a:xfrm>
            <a:off x="1447920" y="685800"/>
            <a:ext cx="5635440" cy="436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82A-EFAF-4156-9B2E-0F840C7CF9B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32160" y="1400040"/>
            <a:ext cx="5064120" cy="4434120"/>
            <a:chOff x="2432160" y="1400040"/>
            <a:chExt cx="5064120" cy="4434120"/>
          </a:xfrm>
        </p:grpSpPr>
        <p:sp>
          <p:nvSpPr>
            <p:cNvPr id="299" name=""/>
            <p:cNvSpPr/>
            <p:nvPr/>
          </p:nvSpPr>
          <p:spPr>
            <a:xfrm>
              <a:off x="2432160" y="5186520"/>
              <a:ext cx="1412640" cy="64764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84960" y="1400040"/>
              <a:ext cx="1111320" cy="6415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77960" y="19080"/>
            <a:ext cx="4010040" cy="4937040"/>
            <a:chOff x="2577960" y="19080"/>
            <a:chExt cx="4010040" cy="4937040"/>
          </a:xfrm>
        </p:grpSpPr>
        <p:sp>
          <p:nvSpPr>
            <p:cNvPr id="302" name=""/>
            <p:cNvSpPr/>
            <p:nvPr/>
          </p:nvSpPr>
          <p:spPr>
            <a:xfrm>
              <a:off x="2577960" y="4381560"/>
              <a:ext cx="1090800" cy="5745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75400" y="19080"/>
              <a:ext cx="912600" cy="5335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590920" y="43434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48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5181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52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.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Change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to 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500-80EF-495B-BA69-6101B0791B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2571840"/>
            <a:ext cx="76960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ultiply the original volume by a ratio of Kelvin temperatures that will result in an increase in volu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25720" y="4038480"/>
            <a:ext cx="149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748480" y="4994280"/>
          <a:ext cx="22161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8480" y="4994280"/>
                    <a:ext cx="22161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246320" y="4932360"/>
          <a:ext cx="2792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6320" y="4932360"/>
                    <a:ext cx="2792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114800" y="4572000"/>
          <a:ext cx="17636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572000"/>
                    <a:ext cx="17636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5122800" y="4643280"/>
            <a:ext cx="449280" cy="1149120"/>
            <a:chOff x="5122800" y="4643280"/>
            <a:chExt cx="449280" cy="1149120"/>
          </a:xfrm>
        </p:grpSpPr>
        <p:sp>
          <p:nvSpPr>
            <p:cNvPr id="317" name=""/>
            <p:cNvSpPr/>
            <p:nvPr/>
          </p:nvSpPr>
          <p:spPr>
            <a:xfrm>
              <a:off x="5138640" y="533376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22800" y="464328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0AF-51E7-483C-BCEC-B93CAB3F70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19040" y="2514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.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7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information (remember to make units the same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047600" y="4768920"/>
            <a:ext cx="7201080" cy="1479960"/>
            <a:chOff x="1047600" y="4768920"/>
            <a:chExt cx="7201080" cy="1479960"/>
          </a:xfrm>
        </p:grpSpPr>
        <p:sp>
          <p:nvSpPr>
            <p:cNvPr id="323" name=""/>
            <p:cNvSpPr/>
            <p:nvPr/>
          </p:nvSpPr>
          <p:spPr>
            <a:xfrm>
              <a:off x="1047600" y="4768920"/>
              <a:ext cx="2705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255 m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24320" y="4768920"/>
              <a:ext cx="3772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75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348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47600" y="5530680"/>
              <a:ext cx="2438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24320" y="5530680"/>
              <a:ext cx="3924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25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52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5AE-C722-489F-A8EA-E419DA5EBC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equation for the unknow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051520" y="4038480"/>
          <a:ext cx="268920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1520" y="4038480"/>
                    <a:ext cx="26892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403280" y="4038480"/>
          <a:ext cx="22417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038480"/>
                    <a:ext cx="22417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261-E476-4FC7-A22B-E280220C2AF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5268960" y="4443480"/>
            <a:ext cx="2719440" cy="1577880"/>
            <a:chOff x="5268960" y="4443480"/>
            <a:chExt cx="2719440" cy="1577880"/>
          </a:xfrm>
        </p:grpSpPr>
        <p:sp>
          <p:nvSpPr>
            <p:cNvPr id="337" name=""/>
            <p:cNvSpPr/>
            <p:nvPr/>
          </p:nvSpPr>
          <p:spPr>
            <a:xfrm flipH="1">
              <a:off x="6477120" y="4876920"/>
              <a:ext cx="55224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268960" y="4443480"/>
              <a:ext cx="2719440" cy="1577880"/>
              <a:chOff x="5268960" y="4443480"/>
              <a:chExt cx="2719440" cy="1577880"/>
            </a:xfrm>
          </p:grpSpPr>
          <p:sp>
            <p:nvSpPr>
              <p:cNvPr id="339" name=""/>
              <p:cNvSpPr/>
              <p:nvPr/>
            </p:nvSpPr>
            <p:spPr>
              <a:xfrm>
                <a:off x="5268960" y="5165640"/>
                <a:ext cx="1407960" cy="85572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50000" y="4443480"/>
                <a:ext cx="1238400" cy="56196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4156200" y="3657600"/>
            <a:ext cx="3578040" cy="2989440"/>
            <a:chOff x="4156200" y="3657600"/>
            <a:chExt cx="3578040" cy="2989440"/>
          </a:xfrm>
        </p:grpSpPr>
        <p:sp>
          <p:nvSpPr>
            <p:cNvPr id="342" name=""/>
            <p:cNvSpPr/>
            <p:nvPr/>
          </p:nvSpPr>
          <p:spPr>
            <a:xfrm flipH="1">
              <a:off x="5076360" y="3962520"/>
              <a:ext cx="2008440" cy="20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156200" y="3657600"/>
              <a:ext cx="3578040" cy="2989440"/>
              <a:chOff x="4156200" y="3657600"/>
              <a:chExt cx="3578040" cy="2989440"/>
            </a:xfrm>
          </p:grpSpPr>
          <p:sp>
            <p:nvSpPr>
              <p:cNvPr id="344" name=""/>
              <p:cNvSpPr/>
              <p:nvPr/>
            </p:nvSpPr>
            <p:spPr>
              <a:xfrm>
                <a:off x="4156200" y="6037200"/>
                <a:ext cx="1676160" cy="60984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15280" y="3657600"/>
                <a:ext cx="1218960" cy="6094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2062080" y="3657600"/>
            <a:ext cx="3005280" cy="2362320"/>
            <a:chOff x="2062080" y="3657600"/>
            <a:chExt cx="3005280" cy="2362320"/>
          </a:xfrm>
        </p:grpSpPr>
        <p:sp>
          <p:nvSpPr>
            <p:cNvPr id="347" name=""/>
            <p:cNvSpPr/>
            <p:nvPr/>
          </p:nvSpPr>
          <p:spPr>
            <a:xfrm>
              <a:off x="2819520" y="4038480"/>
              <a:ext cx="946080" cy="11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062080" y="3657600"/>
              <a:ext cx="3005280" cy="2362320"/>
              <a:chOff x="2062080" y="3657600"/>
              <a:chExt cx="3005280" cy="2362320"/>
            </a:xfrm>
          </p:grpSpPr>
          <p:sp>
            <p:nvSpPr>
              <p:cNvPr id="349" name=""/>
              <p:cNvSpPr/>
              <p:nvPr/>
            </p:nvSpPr>
            <p:spPr>
              <a:xfrm>
                <a:off x="2062080" y="3657600"/>
                <a:ext cx="1386000" cy="650880"/>
              </a:xfrm>
              <a:prstGeom prst="ellipse">
                <a:avLst/>
              </a:prstGeom>
              <a:solidFill>
                <a:srgbClr val="99ff99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38560" y="5181480"/>
                <a:ext cx="1828800" cy="838440"/>
              </a:xfrm>
              <a:prstGeom prst="ellipse">
                <a:avLst/>
              </a:prstGeom>
              <a:solidFill>
                <a:srgbClr val="99ff99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799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Put the given information into the equation and calcu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767640" y="5656320"/>
          <a:ext cx="24177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7640" y="5656320"/>
                    <a:ext cx="2417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0" y="5176800"/>
          <a:ext cx="241776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76800"/>
                    <a:ext cx="24177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449440" y="5257800"/>
          <a:ext cx="4389480" cy="13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9440" y="5257800"/>
                    <a:ext cx="43894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181160" y="3657600"/>
            <a:ext cx="6781680" cy="1410840"/>
            <a:chOff x="1181160" y="3657600"/>
            <a:chExt cx="6781680" cy="1410840"/>
          </a:xfrm>
        </p:grpSpPr>
        <p:sp>
          <p:nvSpPr>
            <p:cNvPr id="359" name=""/>
            <p:cNvSpPr/>
            <p:nvPr/>
          </p:nvSpPr>
          <p:spPr>
            <a:xfrm>
              <a:off x="1181160" y="365760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V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255 m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57880" y="365760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75</a:t>
              </a:r>
              <a:r>
                <a:rPr b="0" lang="en-US" sz="3200" spc="-1" strike="noStrike" baseline="30000">
                  <a:solidFill>
                    <a:srgbClr val="4d4d4d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C = 348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81160" y="441972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V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57880" y="44197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250</a:t>
              </a:r>
              <a:r>
                <a:rPr b="0" lang="en-US" sz="3200" spc="-1" strike="noStrike" baseline="30000">
                  <a:solidFill>
                    <a:srgbClr val="4d4d4d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C = 52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26040" y="5316480"/>
            <a:ext cx="1467000" cy="1231920"/>
            <a:chOff x="5126040" y="5316480"/>
            <a:chExt cx="1467000" cy="1231920"/>
          </a:xfrm>
        </p:grpSpPr>
        <p:sp>
          <p:nvSpPr>
            <p:cNvPr id="364" name=""/>
            <p:cNvSpPr/>
            <p:nvPr/>
          </p:nvSpPr>
          <p:spPr>
            <a:xfrm>
              <a:off x="5126040" y="608976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600" y="5316480"/>
              <a:ext cx="433440" cy="45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075-5DB6-478F-8D15-F09B3211126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Gay-Lussac’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404-ECED-45FB-86EC-77B365D60EA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1574280"/>
            <a:ext cx="7772400" cy="175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of a fixed mass of gas, at constant volume, is directly proportional to the Kelvin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19440" y="4470480"/>
          <a:ext cx="190512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9440" y="4470480"/>
                    <a:ext cx="190512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755880" y="3479760"/>
          <a:ext cx="163224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5880" y="3479760"/>
                    <a:ext cx="16322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y-Lussac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644-873D-4CEC-AC2D-75E20302819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170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674800" y="189000"/>
            <a:ext cx="1138320" cy="4084560"/>
            <a:chOff x="2674800" y="189000"/>
            <a:chExt cx="1138320" cy="4084560"/>
          </a:xfrm>
        </p:grpSpPr>
        <p:sp>
          <p:nvSpPr>
            <p:cNvPr id="378" name=""/>
            <p:cNvSpPr/>
            <p:nvPr/>
          </p:nvSpPr>
          <p:spPr>
            <a:xfrm>
              <a:off x="2674800" y="3695760"/>
              <a:ext cx="1036800" cy="577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63880" y="189000"/>
              <a:ext cx="849240" cy="5331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349280" y="1062000"/>
            <a:ext cx="2502000" cy="3890880"/>
            <a:chOff x="1349280" y="1062000"/>
            <a:chExt cx="2502000" cy="3890880"/>
          </a:xfrm>
        </p:grpSpPr>
        <p:sp>
          <p:nvSpPr>
            <p:cNvPr id="381" name=""/>
            <p:cNvSpPr/>
            <p:nvPr/>
          </p:nvSpPr>
          <p:spPr>
            <a:xfrm>
              <a:off x="1349280" y="1062000"/>
              <a:ext cx="1015920" cy="5335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94080" y="4395960"/>
              <a:ext cx="1357200" cy="5569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611440" y="364320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1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,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.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Change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to 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7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76240" y="6095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mperature increases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essure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0292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temperature is be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or de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894-BC61-4560-B27C-DCC91E2CD2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inciple Assumptions of the  KM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es consist of tiny part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istance between particles is large compared with the size of the particles them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 particles have no attraction for one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2F1-7D96-43E0-A2DB-896ED48D41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ultiply the original pressure by a ratio of Kelvin temperatures that will result in an increase in pressu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710320" y="4764240"/>
          <a:ext cx="2422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0320" y="4764240"/>
                    <a:ext cx="2422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011240" y="4722840"/>
          <a:ext cx="303840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4722840"/>
                    <a:ext cx="30384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075200" y="4343400"/>
          <a:ext cx="17636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5200" y="4343400"/>
                    <a:ext cx="17636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5102280" y="4413240"/>
            <a:ext cx="449280" cy="1149120"/>
            <a:chOff x="5102280" y="4413240"/>
            <a:chExt cx="449280" cy="1149120"/>
          </a:xfrm>
        </p:grpSpPr>
        <p:sp>
          <p:nvSpPr>
            <p:cNvPr id="397" name=""/>
            <p:cNvSpPr/>
            <p:nvPr/>
          </p:nvSpPr>
          <p:spPr>
            <a:xfrm>
              <a:off x="5118120" y="510372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2280" y="441324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01A-5C4C-46A1-9E18-7B02A5D9C76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5710320" y="4764240"/>
          <a:ext cx="2422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0320" y="4764240"/>
                    <a:ext cx="2422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011240" y="4722840"/>
          <a:ext cx="303840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4722840"/>
                    <a:ext cx="30384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075200" y="4343400"/>
          <a:ext cx="17636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5200" y="4343400"/>
                    <a:ext cx="17636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"/>
          <p:cNvGrpSpPr/>
          <p:nvPr/>
        </p:nvGrpSpPr>
        <p:grpSpPr>
          <a:xfrm>
            <a:off x="5102280" y="4413240"/>
            <a:ext cx="449280" cy="1149120"/>
            <a:chOff x="5102280" y="4413240"/>
            <a:chExt cx="449280" cy="1149120"/>
          </a:xfrm>
        </p:grpSpPr>
        <p:sp>
          <p:nvSpPr>
            <p:cNvPr id="408" name=""/>
            <p:cNvSpPr/>
            <p:nvPr/>
          </p:nvSpPr>
          <p:spPr>
            <a:xfrm>
              <a:off x="5118120" y="510372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02280" y="441324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419720" y="2133720"/>
            <a:ext cx="4343400" cy="1600200"/>
          </a:xfrm>
          <a:prstGeom prst="cloudCallout">
            <a:avLst>
              <a:gd name="adj1" fmla="val -43532"/>
              <a:gd name="adj2" fmla="val 871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ratio greater than 1 will increase th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C9F-F822-441E-AF38-98B9A950209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lnSpc>
                <a:spcPct val="90000"/>
              </a:lnSpc>
              <a:spcBef>
                <a:spcPts val="901"/>
              </a:spcBef>
              <a:spcAft>
                <a:spcPts val="1576"/>
              </a:spcAft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.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73040" indent="0">
              <a:lnSpc>
                <a:spcPct val="90000"/>
              </a:lnSpc>
              <a:spcBef>
                <a:spcPts val="901"/>
              </a:spcBef>
              <a:spcAft>
                <a:spcPts val="1576"/>
              </a:spcAft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information (remember to make units the same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81160" y="4678200"/>
            <a:ext cx="7289640" cy="1632600"/>
            <a:chOff x="1181160" y="4678200"/>
            <a:chExt cx="7289640" cy="1632600"/>
          </a:xfrm>
        </p:grpSpPr>
        <p:sp>
          <p:nvSpPr>
            <p:cNvPr id="414" name=""/>
            <p:cNvSpPr/>
            <p:nvPr/>
          </p:nvSpPr>
          <p:spPr>
            <a:xfrm>
              <a:off x="1181160" y="4678200"/>
              <a:ext cx="2781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21.5 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57880" y="4678200"/>
              <a:ext cx="393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4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31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81160" y="5592600"/>
              <a:ext cx="2438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57880" y="5592600"/>
              <a:ext cx="4012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10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37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4E0-62E0-4DFA-AA5F-89D306BD7A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equation for the unknow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149800" y="4038480"/>
          <a:ext cx="249084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9800" y="4038480"/>
                    <a:ext cx="24908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477800" y="4038480"/>
          <a:ext cx="20923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7800" y="4038480"/>
                    <a:ext cx="20923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E52-1427-426E-91AD-EAA5634A478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5030640" y="4267080"/>
            <a:ext cx="2894040" cy="1676520"/>
            <a:chOff x="5030640" y="4267080"/>
            <a:chExt cx="2894040" cy="1676520"/>
          </a:xfrm>
        </p:grpSpPr>
        <p:sp>
          <p:nvSpPr>
            <p:cNvPr id="426" name=""/>
            <p:cNvSpPr/>
            <p:nvPr/>
          </p:nvSpPr>
          <p:spPr>
            <a:xfrm flipH="1">
              <a:off x="6149520" y="4648320"/>
              <a:ext cx="108900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030640" y="4267080"/>
              <a:ext cx="2894040" cy="1676520"/>
              <a:chOff x="5030640" y="4267080"/>
              <a:chExt cx="2894040" cy="1676520"/>
            </a:xfrm>
          </p:grpSpPr>
          <p:sp>
            <p:nvSpPr>
              <p:cNvPr id="428" name=""/>
              <p:cNvSpPr/>
              <p:nvPr/>
            </p:nvSpPr>
            <p:spPr>
              <a:xfrm>
                <a:off x="6727680" y="4267080"/>
                <a:ext cx="1197000" cy="53352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30640" y="5181480"/>
                <a:ext cx="1446480" cy="76212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981080" y="3425760"/>
            <a:ext cx="2859120" cy="2556000"/>
            <a:chOff x="1981080" y="3425760"/>
            <a:chExt cx="2859120" cy="2556000"/>
          </a:xfrm>
        </p:grpSpPr>
        <p:sp>
          <p:nvSpPr>
            <p:cNvPr id="431" name=""/>
            <p:cNvSpPr/>
            <p:nvPr/>
          </p:nvSpPr>
          <p:spPr>
            <a:xfrm>
              <a:off x="2835360" y="4075200"/>
              <a:ext cx="83664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67040" y="5151600"/>
              <a:ext cx="1973160" cy="8301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81080" y="3425760"/>
              <a:ext cx="1579680" cy="70164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Put the given information into the equation and calcul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6573960" y="5695920"/>
          <a:ext cx="2455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5695920"/>
                    <a:ext cx="245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14480" y="5202360"/>
          <a:ext cx="2082600" cy="13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80" y="5202360"/>
                    <a:ext cx="208260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86200" y="3454560"/>
            <a:ext cx="3832200" cy="3098520"/>
            <a:chOff x="3886200" y="3454560"/>
            <a:chExt cx="3832200" cy="3098520"/>
          </a:xfrm>
        </p:grpSpPr>
        <p:sp>
          <p:nvSpPr>
            <p:cNvPr id="441" name=""/>
            <p:cNvSpPr/>
            <p:nvPr/>
          </p:nvSpPr>
          <p:spPr>
            <a:xfrm flipH="1">
              <a:off x="4876920" y="3962520"/>
              <a:ext cx="2209680" cy="19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886200" y="3454560"/>
              <a:ext cx="3832200" cy="3098520"/>
              <a:chOff x="3886200" y="3454560"/>
              <a:chExt cx="3832200" cy="3098520"/>
            </a:xfrm>
          </p:grpSpPr>
          <p:sp>
            <p:nvSpPr>
              <p:cNvPr id="443" name=""/>
              <p:cNvSpPr/>
              <p:nvPr/>
            </p:nvSpPr>
            <p:spPr>
              <a:xfrm>
                <a:off x="6539040" y="3454560"/>
                <a:ext cx="1179360" cy="6094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86200" y="5943600"/>
                <a:ext cx="1676520" cy="6094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1181160" y="3459240"/>
            <a:ext cx="6781680" cy="1410480"/>
            <a:chOff x="1181160" y="3459240"/>
            <a:chExt cx="6781680" cy="1410480"/>
          </a:xfrm>
        </p:grpSpPr>
        <p:sp>
          <p:nvSpPr>
            <p:cNvPr id="446" name=""/>
            <p:cNvSpPr/>
            <p:nvPr/>
          </p:nvSpPr>
          <p:spPr>
            <a:xfrm>
              <a:off x="1181160" y="345924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1.5 at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57880" y="345924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4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 = 313 K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81160" y="422100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7880" y="422100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10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 = 373 K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2095560" y="5257800"/>
          <a:ext cx="4540320" cy="12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95560" y="5257800"/>
                    <a:ext cx="45403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4888080" y="5319720"/>
            <a:ext cx="1522080" cy="1173240"/>
            <a:chOff x="4888080" y="5319720"/>
            <a:chExt cx="1522080" cy="1173240"/>
          </a:xfrm>
        </p:grpSpPr>
        <p:sp>
          <p:nvSpPr>
            <p:cNvPr id="453" name=""/>
            <p:cNvSpPr/>
            <p:nvPr/>
          </p:nvSpPr>
          <p:spPr>
            <a:xfrm>
              <a:off x="4888080" y="6033960"/>
              <a:ext cx="433080" cy="45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77080" y="5319720"/>
              <a:ext cx="43308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37F-C3D2-4290-A65B-3B77942FD33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8</a:t>
            </a:r>
            <a:br>
              <a:rPr sz="4400"/>
            </a:br>
            <a:r>
              <a:rPr b="1" lang="en-US" sz="7100" spc="-1" strike="noStrike" u="sng">
                <a:solidFill>
                  <a:srgbClr val="cc3399"/>
                </a:solidFill>
                <a:uFillTx/>
                <a:latin typeface="Times New Roman"/>
              </a:rPr>
              <a:t>Combined Gas Laws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467-9358-424C-9C4B-7A892BFCF6F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Standard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Temperature and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 rot="5400000">
            <a:off x="3884400" y="746280"/>
            <a:ext cx="841320" cy="8305920"/>
          </a:xfrm>
          <a:custGeom>
            <a:avLst/>
            <a:gdLst>
              <a:gd name="textAreaLeft" fmla="*/ 0 w 841320"/>
              <a:gd name="textAreaRight" fmla="*/ 303840 w 841320"/>
              <a:gd name="textAreaTop" fmla="*/ 216360 h 8305920"/>
              <a:gd name="textAreaBottom" fmla="*/ 8089560 h 830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600" y="3200400"/>
            <a:ext cx="8229600" cy="1251360"/>
            <a:chOff x="228600" y="3200400"/>
            <a:chExt cx="8229600" cy="1251360"/>
          </a:xfrm>
        </p:grpSpPr>
        <p:sp>
          <p:nvSpPr>
            <p:cNvPr id="460" name=""/>
            <p:cNvSpPr/>
            <p:nvPr/>
          </p:nvSpPr>
          <p:spPr>
            <a:xfrm>
              <a:off x="228600" y="333684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tandard Condi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387036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tandard Temperature and Press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58000" y="3200400"/>
              <a:ext cx="1600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362320" y="53341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3.15 K  or 0.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81160" y="59436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atm or 760 torr or 760 mm H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228600" y="190512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common reference points of temperature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F52-25A2-4753-A061-F8592B96513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(def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set up and established by authority as a rule for the measure of quantity, weight, extent, value, or qualit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erriam Webster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8070840" y="563868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B06-01B1-4394-BC15-821B71EE65E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mbination of Boyle’s and Charles’ 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d when pressure and temperature change at the sam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equation for any one of the 6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819520" y="1219320"/>
          <a:ext cx="380988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19320"/>
                    <a:ext cx="380988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572-BB3A-407C-9733-25A1CACA61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35910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volum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38680" y="3313080"/>
            <a:ext cx="2057400" cy="1017720"/>
            <a:chOff x="4738680" y="3313080"/>
            <a:chExt cx="2057400" cy="1017720"/>
          </a:xfrm>
        </p:grpSpPr>
        <p:sp>
          <p:nvSpPr>
            <p:cNvPr id="474" name=""/>
            <p:cNvSpPr/>
            <p:nvPr/>
          </p:nvSpPr>
          <p:spPr>
            <a:xfrm>
              <a:off x="4738680" y="3313080"/>
              <a:ext cx="2057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press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97440" y="3416400"/>
              <a:ext cx="152640" cy="9144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84320" y="3416400"/>
              <a:ext cx="152280" cy="9144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748560" y="3363840"/>
            <a:ext cx="2286000" cy="1007640"/>
            <a:chOff x="6748560" y="3363840"/>
            <a:chExt cx="2286000" cy="1007640"/>
          </a:xfrm>
        </p:grpSpPr>
        <p:sp>
          <p:nvSpPr>
            <p:cNvPr id="478" name=""/>
            <p:cNvSpPr/>
            <p:nvPr/>
          </p:nvSpPr>
          <p:spPr>
            <a:xfrm>
              <a:off x="6748560" y="336384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temperat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55040" y="3409920"/>
              <a:ext cx="152280" cy="9144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8853480" y="3409920"/>
              <a:ext cx="152640" cy="91440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424240" y="3600360"/>
            <a:ext cx="2361960" cy="560160"/>
            <a:chOff x="2424240" y="3600360"/>
            <a:chExt cx="2361960" cy="560160"/>
          </a:xfrm>
        </p:grpSpPr>
        <p:sp>
          <p:nvSpPr>
            <p:cNvPr id="482" name=""/>
            <p:cNvSpPr/>
            <p:nvPr/>
          </p:nvSpPr>
          <p:spPr>
            <a:xfrm>
              <a:off x="2439720" y="3703320"/>
              <a:ext cx="75960" cy="457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4642560" y="3703320"/>
              <a:ext cx="75960" cy="4572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24240" y="3600360"/>
              <a:ext cx="236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990720" y="2487600"/>
            <a:ext cx="2651040" cy="968400"/>
          </a:xfrm>
          <a:prstGeom prst="wedgeRoundRectCallout">
            <a:avLst>
              <a:gd name="adj1" fmla="val -49490"/>
              <a:gd name="adj2" fmla="val 75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calculate final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AA8-6613-4902-8A03-9B8EA715BA0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64920" indent="-66492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 particles move in straight lines in all directions, colliding frequently with one another and with the walls of the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4920" indent="-66492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nergy is lost by the collision of a gas particle with another gas particle or with the walls of the container.  All collisions are perfectly elast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inciple Assumptions of the  KM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556-1748-4258-AAEC-E376A1657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60216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volum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738680" y="3324240"/>
            <a:ext cx="2057400" cy="1017720"/>
            <a:chOff x="4738680" y="3324240"/>
            <a:chExt cx="2057400" cy="1017720"/>
          </a:xfrm>
        </p:grpSpPr>
        <p:sp>
          <p:nvSpPr>
            <p:cNvPr id="488" name=""/>
            <p:cNvSpPr/>
            <p:nvPr/>
          </p:nvSpPr>
          <p:spPr>
            <a:xfrm>
              <a:off x="4738680" y="3324240"/>
              <a:ext cx="2057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press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97440" y="3427560"/>
              <a:ext cx="152640" cy="9144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484320" y="3427560"/>
              <a:ext cx="152280" cy="9144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48560" y="3375000"/>
            <a:ext cx="2286000" cy="1007640"/>
            <a:chOff x="6748560" y="3375000"/>
            <a:chExt cx="2286000" cy="1007640"/>
          </a:xfrm>
        </p:grpSpPr>
        <p:sp>
          <p:nvSpPr>
            <p:cNvPr id="492" name=""/>
            <p:cNvSpPr/>
            <p:nvPr/>
          </p:nvSpPr>
          <p:spPr>
            <a:xfrm>
              <a:off x="6748560" y="337500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temperat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55040" y="3421080"/>
              <a:ext cx="152280" cy="9144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8853480" y="3421080"/>
              <a:ext cx="152640" cy="91440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424240" y="3611520"/>
            <a:ext cx="2361960" cy="560160"/>
            <a:chOff x="2424240" y="3611520"/>
            <a:chExt cx="2361960" cy="560160"/>
          </a:xfrm>
        </p:grpSpPr>
        <p:sp>
          <p:nvSpPr>
            <p:cNvPr id="496" name=""/>
            <p:cNvSpPr/>
            <p:nvPr/>
          </p:nvSpPr>
          <p:spPr>
            <a:xfrm>
              <a:off x="2439720" y="3714480"/>
              <a:ext cx="75960" cy="457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642560" y="3714480"/>
              <a:ext cx="75960" cy="4572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24240" y="3611520"/>
              <a:ext cx="236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flipH="1">
            <a:off x="2209680" y="1714680"/>
            <a:ext cx="3556080" cy="1298520"/>
          </a:xfrm>
          <a:prstGeom prst="wedgeRoundRectCallout">
            <a:avLst>
              <a:gd name="adj1" fmla="val -49495"/>
              <a:gd name="adj2" fmla="val 7566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ncreases or decreases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74A-BAC9-479A-A337-C83EE07128D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59244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volum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38680" y="3314880"/>
            <a:ext cx="2057400" cy="1017000"/>
            <a:chOff x="4738680" y="3314880"/>
            <a:chExt cx="2057400" cy="1017000"/>
          </a:xfrm>
        </p:grpSpPr>
        <p:sp>
          <p:nvSpPr>
            <p:cNvPr id="502" name=""/>
            <p:cNvSpPr/>
            <p:nvPr/>
          </p:nvSpPr>
          <p:spPr>
            <a:xfrm>
              <a:off x="4738680" y="3314880"/>
              <a:ext cx="2057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press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97440" y="3417840"/>
              <a:ext cx="152640" cy="91404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484320" y="3417840"/>
              <a:ext cx="152280" cy="91404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748560" y="3365640"/>
            <a:ext cx="2286000" cy="1007640"/>
            <a:chOff x="6748560" y="3365640"/>
            <a:chExt cx="2286000" cy="1007640"/>
          </a:xfrm>
        </p:grpSpPr>
        <p:sp>
          <p:nvSpPr>
            <p:cNvPr id="506" name=""/>
            <p:cNvSpPr/>
            <p:nvPr/>
          </p:nvSpPr>
          <p:spPr>
            <a:xfrm>
              <a:off x="6748560" y="336564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temperat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55040" y="3411360"/>
              <a:ext cx="152280" cy="91404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853480" y="3411360"/>
              <a:ext cx="152640" cy="91404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424240" y="3602160"/>
            <a:ext cx="2361960" cy="560160"/>
            <a:chOff x="2424240" y="3602160"/>
            <a:chExt cx="2361960" cy="560160"/>
          </a:xfrm>
        </p:grpSpPr>
        <p:sp>
          <p:nvSpPr>
            <p:cNvPr id="510" name=""/>
            <p:cNvSpPr/>
            <p:nvPr/>
          </p:nvSpPr>
          <p:spPr>
            <a:xfrm>
              <a:off x="2439720" y="3705120"/>
              <a:ext cx="75960" cy="457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642560" y="3705120"/>
              <a:ext cx="75960" cy="4572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24240" y="3602160"/>
              <a:ext cx="236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3961800" y="1704960"/>
            <a:ext cx="3555720" cy="1298520"/>
          </a:xfrm>
          <a:prstGeom prst="wedgeRoundRectCallout">
            <a:avLst>
              <a:gd name="adj1" fmla="val -49495"/>
              <a:gd name="adj2" fmla="val 7566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ncreases or decreases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943-093A-4B40-B5AC-223AF17CE67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95720" y="3244320"/>
            <a:ext cx="27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4006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  = 27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76440" y="48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258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0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, putting temperature in Kelvi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749-C027-4738-A092-E48A4C26200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85800" y="20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, putting temperature in Kelvi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62080" y="3377520"/>
            <a:ext cx="68198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760 tor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950 to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65 m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73 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58 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AE6-BC67-4DD0-B728-1BFFD7AC97D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 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 Set up ratios of T and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4865760"/>
          <a:ext cx="3087720" cy="10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65760"/>
                    <a:ext cx="30877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80880" y="3570120"/>
          <a:ext cx="2799000" cy="10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70120"/>
                    <a:ext cx="27990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286080" y="3832200"/>
          <a:ext cx="486720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832200"/>
                    <a:ext cx="4867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505320" y="5129280"/>
          <a:ext cx="46638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129280"/>
                    <a:ext cx="46638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AA5-3EAC-4F5F-80AA-6B028C0C815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2666880" y="4543560"/>
            <a:ext cx="3998880" cy="2162160"/>
            <a:chOff x="2666880" y="4543560"/>
            <a:chExt cx="3998880" cy="2162160"/>
          </a:xfrm>
        </p:grpSpPr>
        <p:sp>
          <p:nvSpPr>
            <p:cNvPr id="533" name=""/>
            <p:cNvSpPr/>
            <p:nvPr/>
          </p:nvSpPr>
          <p:spPr>
            <a:xfrm>
              <a:off x="3124080" y="4952880"/>
              <a:ext cx="2313000" cy="124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57800" y="6105600"/>
              <a:ext cx="1407960" cy="6001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66880" y="4543560"/>
              <a:ext cx="1219320" cy="56196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948040" y="2971800"/>
            <a:ext cx="4367160" cy="3747960"/>
            <a:chOff x="2948040" y="2971800"/>
            <a:chExt cx="4367160" cy="3747960"/>
          </a:xfrm>
        </p:grpSpPr>
        <p:sp>
          <p:nvSpPr>
            <p:cNvPr id="537" name=""/>
            <p:cNvSpPr/>
            <p:nvPr/>
          </p:nvSpPr>
          <p:spPr>
            <a:xfrm>
              <a:off x="2948040" y="6146640"/>
              <a:ext cx="1901880" cy="573120"/>
            </a:xfrm>
            <a:prstGeom prst="ellipse">
              <a:avLst/>
            </a:prstGeom>
            <a:solidFill>
              <a:srgbClr val="99cc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90600" y="3505320"/>
              <a:ext cx="2638440" cy="27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02480" y="2971800"/>
              <a:ext cx="1512720" cy="625320"/>
            </a:xfrm>
            <a:prstGeom prst="ellipse">
              <a:avLst/>
            </a:prstGeom>
            <a:solidFill>
              <a:srgbClr val="99cc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268960" y="4543560"/>
            <a:ext cx="1839960" cy="1476360"/>
            <a:chOff x="5268960" y="4543560"/>
            <a:chExt cx="1839960" cy="1476360"/>
          </a:xfrm>
        </p:grpSpPr>
        <p:sp>
          <p:nvSpPr>
            <p:cNvPr id="541" name=""/>
            <p:cNvSpPr/>
            <p:nvPr/>
          </p:nvSpPr>
          <p:spPr>
            <a:xfrm>
              <a:off x="5268960" y="5419800"/>
              <a:ext cx="1407960" cy="6001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063840" y="5029200"/>
              <a:ext cx="41292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67280" y="4543560"/>
              <a:ext cx="1241640" cy="56196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 Multiply the original volumes by the rati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737400" y="5837400"/>
          <a:ext cx="2178000" cy="44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7400" y="5837400"/>
                    <a:ext cx="2178000" cy="44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620800" y="2922480"/>
            <a:ext cx="2229120" cy="3098880"/>
            <a:chOff x="2620800" y="2922480"/>
            <a:chExt cx="2229120" cy="3098880"/>
          </a:xfrm>
        </p:grpSpPr>
        <p:sp>
          <p:nvSpPr>
            <p:cNvPr id="549" name=""/>
            <p:cNvSpPr/>
            <p:nvPr/>
          </p:nvSpPr>
          <p:spPr>
            <a:xfrm>
              <a:off x="2948040" y="5448240"/>
              <a:ext cx="1901880" cy="57312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3505320"/>
              <a:ext cx="455760" cy="20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20800" y="2922480"/>
              <a:ext cx="1494000" cy="71460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2" name=""/>
          <p:cNvGraphicFramePr/>
          <p:nvPr/>
        </p:nvGraphicFramePr>
        <p:xfrm>
          <a:off x="0" y="5746680"/>
          <a:ext cx="28828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746680"/>
                    <a:ext cx="28828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2819520" y="5438880"/>
          <a:ext cx="221760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438880"/>
                    <a:ext cx="22176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105520" y="5424480"/>
          <a:ext cx="1733400" cy="12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5424480"/>
                    <a:ext cx="17334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1162080" y="2864880"/>
            <a:ext cx="68198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= 760 torr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= 950 t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465 mL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273 K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258 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962520" y="5621400"/>
            <a:ext cx="2547720" cy="1008000"/>
            <a:chOff x="3962520" y="5621400"/>
            <a:chExt cx="2547720" cy="1008000"/>
          </a:xfrm>
        </p:grpSpPr>
        <p:sp>
          <p:nvSpPr>
            <p:cNvPr id="560" name=""/>
            <p:cNvSpPr/>
            <p:nvPr/>
          </p:nvSpPr>
          <p:spPr>
            <a:xfrm>
              <a:off x="3962520" y="5621400"/>
              <a:ext cx="7617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2520" y="6324480"/>
              <a:ext cx="7617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45200" y="5649840"/>
              <a:ext cx="357120" cy="1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53120" y="6338880"/>
              <a:ext cx="3571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F94-3E3B-4013-9D6F-E8D2E8E7FE5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1219320" y="3886200"/>
          <a:ext cx="243828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243828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 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627360" y="3886200"/>
          <a:ext cx="90648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7360" y="3886200"/>
                    <a:ext cx="90648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28600" y="3886200"/>
          <a:ext cx="949320" cy="14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94932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2679840" y="3992400"/>
            <a:ext cx="1826640" cy="1220760"/>
            <a:chOff x="2679840" y="3992400"/>
            <a:chExt cx="1826640" cy="1220760"/>
          </a:xfrm>
        </p:grpSpPr>
        <p:grpSp>
          <p:nvGrpSpPr>
            <p:cNvPr id="572" name=""/>
            <p:cNvGrpSpPr/>
            <p:nvPr/>
          </p:nvGrpSpPr>
          <p:grpSpPr>
            <a:xfrm>
              <a:off x="2679840" y="3992400"/>
              <a:ext cx="1826640" cy="1220760"/>
              <a:chOff x="2679840" y="3992400"/>
              <a:chExt cx="1826640" cy="1220760"/>
            </a:xfrm>
          </p:grpSpPr>
          <p:sp>
            <p:nvSpPr>
              <p:cNvPr id="573" name=""/>
              <p:cNvSpPr/>
              <p:nvPr/>
            </p:nvSpPr>
            <p:spPr>
              <a:xfrm>
                <a:off x="4022640" y="4727520"/>
                <a:ext cx="483840" cy="484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79840" y="3992400"/>
                <a:ext cx="483840" cy="484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46160" y="4728960"/>
                <a:ext cx="483840" cy="484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982680" y="3992400"/>
              <a:ext cx="483840" cy="48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9960" y="2533680"/>
            <a:ext cx="7788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2590920"/>
            <a:ext cx="8001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 Write and solve the equation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nknown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089680" y="3962520"/>
            <a:ext cx="3367800" cy="1403280"/>
            <a:chOff x="5089680" y="3962520"/>
            <a:chExt cx="3367800" cy="1403280"/>
          </a:xfrm>
        </p:grpSpPr>
        <p:graphicFrame>
          <p:nvGraphicFramePr>
            <p:cNvPr id="581" name=""/>
            <p:cNvGraphicFramePr/>
            <p:nvPr/>
          </p:nvGraphicFramePr>
          <p:xfrm>
            <a:off x="5089680" y="3964320"/>
            <a:ext cx="949320" cy="140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89680" y="3964320"/>
                      <a:ext cx="949320" cy="14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3" name=""/>
            <p:cNvGrpSpPr/>
            <p:nvPr/>
          </p:nvGrpSpPr>
          <p:grpSpPr>
            <a:xfrm>
              <a:off x="6080040" y="3962520"/>
              <a:ext cx="2377440" cy="1403280"/>
              <a:chOff x="6080040" y="3962520"/>
              <a:chExt cx="2377440" cy="1403280"/>
            </a:xfrm>
          </p:grpSpPr>
          <p:graphicFrame>
            <p:nvGraphicFramePr>
              <p:cNvPr id="584" name=""/>
              <p:cNvGraphicFramePr/>
              <p:nvPr/>
            </p:nvGraphicFramePr>
            <p:xfrm>
              <a:off x="6080040" y="3964320"/>
              <a:ext cx="1358640" cy="1401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8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80040" y="3964320"/>
                        <a:ext cx="1358640" cy="140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6" name=""/>
              <p:cNvGraphicFramePr/>
              <p:nvPr/>
            </p:nvGraphicFramePr>
            <p:xfrm>
              <a:off x="7961040" y="3962520"/>
              <a:ext cx="496440" cy="668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8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961040" y="3962520"/>
                        <a:ext cx="496440" cy="66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588" name=""/>
          <p:cNvGraphicFramePr/>
          <p:nvPr/>
        </p:nvGraphicFramePr>
        <p:xfrm>
          <a:off x="3371760" y="5381640"/>
          <a:ext cx="2398680" cy="14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1760" y="5381640"/>
                    <a:ext cx="23986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1E6-7506-4C04-93D1-EF80E6B00A8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  Put the given information into the equation and calcu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371760" y="3429000"/>
          <a:ext cx="23986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1760" y="3429000"/>
                    <a:ext cx="23986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66680" y="5181480"/>
          <a:ext cx="8825040" cy="12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5181480"/>
                    <a:ext cx="882504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352680" y="5334120"/>
            <a:ext cx="3276720" cy="993600"/>
            <a:chOff x="3352680" y="5334120"/>
            <a:chExt cx="3276720" cy="993600"/>
          </a:xfrm>
        </p:grpSpPr>
        <p:sp>
          <p:nvSpPr>
            <p:cNvPr id="597" name=""/>
            <p:cNvSpPr/>
            <p:nvPr/>
          </p:nvSpPr>
          <p:spPr>
            <a:xfrm>
              <a:off x="4191120" y="5334120"/>
              <a:ext cx="76176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72200" y="5384880"/>
              <a:ext cx="45720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13520" y="6073920"/>
              <a:ext cx="45720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2680" y="6022800"/>
              <a:ext cx="76212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C5A-1B56-408F-8F7C-4F1809DC1CE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9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alton’s Law of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artial Pressur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059-6E40-4097-96FB-E98CA6AFA62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gas in a mixture exerts a pressure that is independent of the other gas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118-0194-445C-B1E7-C30591B36A8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verage kinetic energy for particles is the same for all gases at the same temperature, and its value is directly proportional to the Kelvin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inciple Assumptions of the  KM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229-B3FE-4545-A57F-1424D642A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800" y="1828800"/>
            <a:ext cx="792468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pressure of a mixture of gases is the sum of the partial pressures exerted by each of the gases in the mix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3352680"/>
            <a:ext cx="7924680" cy="64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lton’s Law of Partial Pres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EFE-B3EE-4E9A-9204-7CD629D8940C}" type="slidenum">
              <a:t>70</a:t>
            </a:fld>
          </a:p>
        </p:txBody>
      </p:sp>
    </p:spTree>
  </p:cSld>
  <p:transition spd="slow"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ainer contains He at a pressure of 0.50 atm, Ne at a pressure of 0.60 atm, and Ar at a pressure of 1.30 atm.  What is the total pressure in the contai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30477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ot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ot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.5 atm + 0.6 atm + 1.30 atm = 2.40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C14-4250-47AB-8204-74D4E6EE8F3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in the collection container is equal to the atmospheric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of the gas collected plus the pressure of water vapor at the collection temperature is equal to the atmospheric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2039760" y="5594400"/>
          <a:ext cx="506448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5594400"/>
                    <a:ext cx="50644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ng a Gas Sample Over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3567240"/>
            <a:ext cx="54864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876920" y="628668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00920" y="629604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041560" y="4114440"/>
            <a:ext cx="4816440" cy="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076400" y="5219280"/>
            <a:ext cx="3914640" cy="468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517920" y="6291360"/>
            <a:ext cx="836640" cy="324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55D-442C-4A23-840A-796F316FBB3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8572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xygen collected over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04120" cy="41101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CD1-51FA-4E9A-BCC4-97C7C9D58FF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mpl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collected  in a bottle over water at a temperature of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when the atmospheric pressure was 760 torr. What is the partial pressure of th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 The vapor pressure of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23.8 tor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282760" y="3581280"/>
          <a:ext cx="457668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3581280"/>
                    <a:ext cx="45766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579680" y="2286000"/>
          <a:ext cx="33922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2286000"/>
                    <a:ext cx="3392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846680" y="2290680"/>
          <a:ext cx="2717640" cy="8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6680" y="2290680"/>
                    <a:ext cx="2717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495360" y="4908600"/>
          <a:ext cx="5646600" cy="88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360" y="4908600"/>
                    <a:ext cx="56466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6232680" y="5016600"/>
          <a:ext cx="241596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32680" y="5016600"/>
                    <a:ext cx="24159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F1A-F0C2-4703-AE76-75198CF355F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Gay Lussac’s Law of Combining Volum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04920" y="3657600"/>
            <a:ext cx="2209680" cy="1328400"/>
            <a:chOff x="304920" y="3657600"/>
            <a:chExt cx="2209680" cy="1328400"/>
          </a:xfrm>
        </p:grpSpPr>
        <p:sp>
          <p:nvSpPr>
            <p:cNvPr id="635" name=""/>
            <p:cNvSpPr/>
            <p:nvPr/>
          </p:nvSpPr>
          <p:spPr>
            <a:xfrm>
              <a:off x="1028880" y="3657600"/>
              <a:ext cx="761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920" y="434340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volu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514600" y="3657600"/>
            <a:ext cx="457200" cy="1404720"/>
            <a:chOff x="2514600" y="3657600"/>
            <a:chExt cx="457200" cy="1404720"/>
          </a:xfrm>
        </p:grpSpPr>
        <p:sp>
          <p:nvSpPr>
            <p:cNvPr id="638" name=""/>
            <p:cNvSpPr/>
            <p:nvPr/>
          </p:nvSpPr>
          <p:spPr>
            <a:xfrm>
              <a:off x="2514600" y="36576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14600" y="4419720"/>
              <a:ext cx="45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276720" y="3657600"/>
            <a:ext cx="2209680" cy="1358640"/>
            <a:chOff x="3276720" y="3657600"/>
            <a:chExt cx="2209680" cy="1358640"/>
          </a:xfrm>
        </p:grpSpPr>
        <p:sp>
          <p:nvSpPr>
            <p:cNvPr id="641" name=""/>
            <p:cNvSpPr/>
            <p:nvPr/>
          </p:nvSpPr>
          <p:spPr>
            <a:xfrm>
              <a:off x="3848040" y="3657600"/>
              <a:ext cx="106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 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76720" y="437364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 volu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584680" y="3657600"/>
            <a:ext cx="762120" cy="1328400"/>
            <a:chOff x="5584680" y="3657600"/>
            <a:chExt cx="762120" cy="1328400"/>
          </a:xfrm>
        </p:grpSpPr>
        <p:sp>
          <p:nvSpPr>
            <p:cNvPr id="644" name=""/>
            <p:cNvSpPr/>
            <p:nvPr/>
          </p:nvSpPr>
          <p:spPr>
            <a:xfrm>
              <a:off x="5584680" y="3657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84680" y="4343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553080" y="3657600"/>
            <a:ext cx="2361960" cy="1328400"/>
            <a:chOff x="6553080" y="3657600"/>
            <a:chExt cx="2361960" cy="1328400"/>
          </a:xfrm>
        </p:grpSpPr>
        <p:sp>
          <p:nvSpPr>
            <p:cNvPr id="647" name=""/>
            <p:cNvSpPr/>
            <p:nvPr/>
          </p:nvSpPr>
          <p:spPr>
            <a:xfrm>
              <a:off x="7016760" y="3657600"/>
              <a:ext cx="1434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 N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53080" y="434340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 volu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9" name=""/>
          <p:cNvGraphicFramePr/>
          <p:nvPr/>
        </p:nvGraphicFramePr>
        <p:xfrm>
          <a:off x="3743280" y="5029200"/>
          <a:ext cx="15908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5029200"/>
                    <a:ext cx="1590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3648240" y="5029200"/>
          <a:ext cx="184608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8240" y="5029200"/>
                    <a:ext cx="1846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3657600" y="5029200"/>
          <a:ext cx="184644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029200"/>
                    <a:ext cx="1846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571680" y="1676520"/>
            <a:ext cx="80010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measured at the same temperature and pressure, the ratio of the volumes of reacting gases are small who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F87-5028-482D-B317-AA6E3894602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Gay Lussac’s Law of Combining Volum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1680" y="1676520"/>
            <a:ext cx="80010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measured at the same temperature and pressure, the ratio of the volumes of reacting gases are small who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92160" y="4038480"/>
            <a:ext cx="8958240" cy="20574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320-D4BE-4EE6-80B3-9B7BE345B7B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0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vogadro’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C4D-D630-4EE4-9FE6-F7C6AB41B3DD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gadro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1994040"/>
            <a:ext cx="792504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 volumes of different gases at the same temperature and pressure contain the same number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4B5-36F3-452F-8116-C6AC9D99DDA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0" y="1981080"/>
          <a:ext cx="884088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408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32E-BF77-4906-B44B-1D0EF790DB13}" type="slidenum">
              <a:t>79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39840" y="2252520"/>
          <a:ext cx="486432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252520"/>
                    <a:ext cx="486432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4FB-6D08-4F98-B980-266474866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3124080" y="4014720"/>
            <a:ext cx="5867640" cy="2113560"/>
            <a:chOff x="3124080" y="4014720"/>
            <a:chExt cx="5867640" cy="2113560"/>
          </a:xfrm>
        </p:grpSpPr>
        <p:sp>
          <p:nvSpPr>
            <p:cNvPr id="667" name=""/>
            <p:cNvSpPr/>
            <p:nvPr/>
          </p:nvSpPr>
          <p:spPr>
            <a:xfrm flipV="1">
              <a:off x="5481720" y="4014720"/>
              <a:ext cx="1204920" cy="13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24080" y="5181120"/>
              <a:ext cx="5867640" cy="94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are 2 molecules of hydrogen chlorid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57200" y="2679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volume    1 volume           2 volu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880" y="3473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cule 1 molecule         2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4235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         1 mol                   2 m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904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+ chlorin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ydrogen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248080"/>
            <a:ext cx="5867640" cy="1373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olecule of hydrogen chloride contains at least 1 atom of hydrogen and 1 atom of chlo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185-D7B0-4457-9F8D-66CF84B0148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380880" y="1905120"/>
            <a:ext cx="8382240" cy="3048840"/>
            <a:chOff x="380880" y="1905120"/>
            <a:chExt cx="8382240" cy="3048840"/>
          </a:xfrm>
        </p:grpSpPr>
        <p:sp>
          <p:nvSpPr>
            <p:cNvPr id="675" name=""/>
            <p:cNvSpPr/>
            <p:nvPr/>
          </p:nvSpPr>
          <p:spPr>
            <a:xfrm>
              <a:off x="457200" y="267948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volume    1 volume           2 volu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0880" y="3473280"/>
              <a:ext cx="800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molecule 1 molecule         2 molecu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" y="4311360"/>
              <a:ext cx="762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mol          1 mol                   2 mo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040" y="190512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gen + chlorine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hydrogen 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28600" y="3962160"/>
            <a:ext cx="5867280" cy="2440440"/>
            <a:chOff x="228600" y="3962160"/>
            <a:chExt cx="5867280" cy="2440440"/>
          </a:xfrm>
        </p:grpSpPr>
        <p:sp>
          <p:nvSpPr>
            <p:cNvPr id="680" name=""/>
            <p:cNvSpPr/>
            <p:nvPr/>
          </p:nvSpPr>
          <p:spPr>
            <a:xfrm>
              <a:off x="228600" y="5028840"/>
              <a:ext cx="5867280" cy="1373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ach molecule of hydrogen and each molecule of chlorine must contain at least 2 atom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1905120" y="3962160"/>
              <a:ext cx="1828800" cy="1076040"/>
              <a:chOff x="1905120" y="3962160"/>
              <a:chExt cx="1828800" cy="1076040"/>
            </a:xfrm>
          </p:grpSpPr>
          <p:sp>
            <p:nvSpPr>
              <p:cNvPr id="682" name=""/>
              <p:cNvSpPr/>
              <p:nvPr/>
            </p:nvSpPr>
            <p:spPr>
              <a:xfrm flipH="1" flipV="1">
                <a:off x="1905120" y="3962160"/>
                <a:ext cx="91440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2819520" y="3971520"/>
                <a:ext cx="91440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419040" y="1143000"/>
            <a:ext cx="8305920" cy="71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941-D363-4291-8791-64EAF801DF4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1</a:t>
            </a:r>
            <a:br>
              <a:rPr sz="4400"/>
            </a:br>
            <a:r>
              <a:rPr b="1" lang="en-US" sz="6300" spc="-1" strike="noStrike" u="sng">
                <a:solidFill>
                  <a:srgbClr val="cc3399"/>
                </a:solidFill>
                <a:uFillTx/>
                <a:latin typeface="Times New Roman"/>
              </a:rPr>
              <a:t>Mole-Mass-Volume Relationships of Gases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73B-36DE-4527-A499-92EAC1E21C4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ume of one mole of any gas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STP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= 22.4 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3181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4 L at STP is known a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ar volu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any g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27D-C3A7-4691-B33C-C75F5FF473B8}" type="slidenum">
              <a:t>83</a:t>
            </a:fld>
          </a:p>
        </p:txBody>
      </p:sp>
    </p:spTree>
  </p:cSld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407880" y="392040"/>
            <a:ext cx="8328240" cy="60739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2AC-CE78-4527-B6F7-3C27CA943556}" type="slidenum">
              <a:t>84</a:t>
            </a:fld>
          </a:p>
        </p:txBody>
      </p:sp>
    </p:spTree>
  </p:cSld>
  <p:transition spd="slow"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ity of neon at STP is 0.900 g/L.  What is the molar mass of ne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530680" y="2944800"/>
          <a:ext cx="288144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0680" y="2944800"/>
                    <a:ext cx="28814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730080" y="2895480"/>
          <a:ext cx="258624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2895480"/>
                    <a:ext cx="258624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3321000" y="2897280"/>
          <a:ext cx="2338560" cy="15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21000" y="2897280"/>
                    <a:ext cx="233856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8" name=""/>
          <p:cNvGrpSpPr/>
          <p:nvPr/>
        </p:nvGrpSpPr>
        <p:grpSpPr>
          <a:xfrm>
            <a:off x="1974960" y="3060720"/>
            <a:ext cx="3308400" cy="1276200"/>
            <a:chOff x="1974960" y="3060720"/>
            <a:chExt cx="3308400" cy="1276200"/>
          </a:xfrm>
        </p:grpSpPr>
        <p:sp>
          <p:nvSpPr>
            <p:cNvPr id="699" name=""/>
            <p:cNvSpPr/>
            <p:nvPr/>
          </p:nvSpPr>
          <p:spPr>
            <a:xfrm>
              <a:off x="1974960" y="3879720"/>
              <a:ext cx="4572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26160" y="3060720"/>
              <a:ext cx="4572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456-4749-4006-A2A8-31D73BDAFED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ensity of G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C61-90E8-4B35-8AC8-C9C11CBF8E3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"/>
          <p:cNvGraphicFramePr/>
          <p:nvPr/>
        </p:nvGraphicFramePr>
        <p:xfrm>
          <a:off x="284040" y="2031840"/>
          <a:ext cx="8574120" cy="27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031840"/>
                    <a:ext cx="8574120" cy="27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8BA-E30A-45A0-9951-2B3612FDDFB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of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058760" y="2587680"/>
          <a:ext cx="397836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2587680"/>
                    <a:ext cx="3978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4952880" y="3352680"/>
            <a:ext cx="3427560" cy="1901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52880" y="990720"/>
            <a:ext cx="3427560" cy="1901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474-0A8F-4E4F-8443-FA8789E8E9CC}" type="slidenum">
              <a:t>88</a:t>
            </a:fld>
          </a:p>
        </p:txBody>
      </p:sp>
    </p:spTree>
  </p:cSld>
  <p:transition spd="slow">
    <p:blinds dir="vert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of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058760" y="2587680"/>
          <a:ext cx="397836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2587680"/>
                    <a:ext cx="3978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4952880" y="3352680"/>
            <a:ext cx="3427560" cy="1901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s on T and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CE4-4442-4A59-9C77-3F2A629D28D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gases have the same average kinetic energy at the same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a result, lighter molecules move faster than heavier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120" y="4267080"/>
            <a:ext cx="2209680" cy="1163520"/>
            <a:chOff x="762120" y="4267080"/>
            <a:chExt cx="2209680" cy="1163520"/>
          </a:xfrm>
        </p:grpSpPr>
        <p:grpSp>
          <p:nvGrpSpPr>
            <p:cNvPr id="76" name=""/>
            <p:cNvGrpSpPr/>
            <p:nvPr/>
          </p:nvGrpSpPr>
          <p:grpSpPr>
            <a:xfrm>
              <a:off x="762120" y="4267080"/>
              <a:ext cx="1162080" cy="1163520"/>
              <a:chOff x="762120" y="4267080"/>
              <a:chExt cx="1162080" cy="1163520"/>
            </a:xfrm>
          </p:grpSpPr>
          <p:sp>
            <p:nvSpPr>
              <p:cNvPr id="77" name=""/>
              <p:cNvSpPr/>
              <p:nvPr/>
            </p:nvSpPr>
            <p:spPr>
              <a:xfrm>
                <a:off x="762120" y="4267080"/>
                <a:ext cx="114300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19280" y="491004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828800" y="43909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824440" y="4267080"/>
            <a:ext cx="2557440" cy="1101600"/>
            <a:chOff x="5824440" y="4267080"/>
            <a:chExt cx="2557440" cy="1101600"/>
          </a:xfrm>
        </p:grpSpPr>
        <p:grpSp>
          <p:nvGrpSpPr>
            <p:cNvPr id="81" name=""/>
            <p:cNvGrpSpPr/>
            <p:nvPr/>
          </p:nvGrpSpPr>
          <p:grpSpPr>
            <a:xfrm>
              <a:off x="5824440" y="4267080"/>
              <a:ext cx="1371600" cy="1101600"/>
              <a:chOff x="5824440" y="4267080"/>
              <a:chExt cx="1371600" cy="1101600"/>
            </a:xfrm>
          </p:grpSpPr>
          <p:sp>
            <p:nvSpPr>
              <p:cNvPr id="82" name=""/>
              <p:cNvSpPr/>
              <p:nvPr/>
            </p:nvSpPr>
            <p:spPr>
              <a:xfrm>
                <a:off x="5824440" y="4267080"/>
                <a:ext cx="137160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681960" y="4848120"/>
                <a:ext cx="31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15160" y="4305240"/>
              <a:ext cx="15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 3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522600" y="4753080"/>
            <a:ext cx="2097000" cy="1944360"/>
            <a:chOff x="3522600" y="4753080"/>
            <a:chExt cx="2097000" cy="1944360"/>
          </a:xfrm>
        </p:grpSpPr>
        <p:grpSp>
          <p:nvGrpSpPr>
            <p:cNvPr id="86" name=""/>
            <p:cNvGrpSpPr/>
            <p:nvPr/>
          </p:nvGrpSpPr>
          <p:grpSpPr>
            <a:xfrm>
              <a:off x="3522600" y="4753080"/>
              <a:ext cx="990000" cy="1944360"/>
              <a:chOff x="3522600" y="4753080"/>
              <a:chExt cx="990000" cy="19443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536640" y="4753080"/>
                <a:ext cx="959760" cy="1163520"/>
                <a:chOff x="3536640" y="4753080"/>
                <a:chExt cx="959760" cy="1163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536640" y="4753080"/>
                  <a:ext cx="914040" cy="10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5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191840" y="539604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522600" y="5572080"/>
                <a:ext cx="990000" cy="1125360"/>
                <a:chOff x="3522600" y="5572080"/>
                <a:chExt cx="990000" cy="1125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2600" y="5572080"/>
                  <a:ext cx="914040" cy="10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5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208040" y="617688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 flipH="1">
                <a:off x="3598200" y="584820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551120" y="5267160"/>
              <a:ext cx="38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092560" y="4871880"/>
              <a:ext cx="527040" cy="1707480"/>
              <a:chOff x="5092560" y="4871880"/>
              <a:chExt cx="527040" cy="1707480"/>
            </a:xfrm>
          </p:grpSpPr>
          <p:sp>
            <p:nvSpPr>
              <p:cNvPr id="96" name=""/>
              <p:cNvSpPr/>
              <p:nvPr/>
            </p:nvSpPr>
            <p:spPr>
              <a:xfrm>
                <a:off x="5151240" y="566244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92560" y="487188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122800" y="5710320"/>
                <a:ext cx="49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DA6-0C0E-45EC-AE3F-01E443B119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762120" y="3962520"/>
          <a:ext cx="307656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3076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838680" y="3962520"/>
          <a:ext cx="198900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8680" y="3962520"/>
                    <a:ext cx="19890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5805360" y="4003560"/>
          <a:ext cx="1967040" cy="123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5360" y="4003560"/>
                    <a:ext cx="196704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64.07 g/mol. Determine the density of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317680" y="4135320"/>
            <a:ext cx="3121200" cy="1033560"/>
            <a:chOff x="2317680" y="4135320"/>
            <a:chExt cx="3121200" cy="1033560"/>
          </a:xfrm>
        </p:grpSpPr>
        <p:sp>
          <p:nvSpPr>
            <p:cNvPr id="722" name=""/>
            <p:cNvSpPr/>
            <p:nvPr/>
          </p:nvSpPr>
          <p:spPr>
            <a:xfrm>
              <a:off x="2317680" y="4849920"/>
              <a:ext cx="874800" cy="318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64080" y="4135320"/>
              <a:ext cx="874800" cy="3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5181480" y="1981080"/>
            <a:ext cx="3810240" cy="2133720"/>
          </a:xfrm>
          <a:prstGeom prst="cloudCallout">
            <a:avLst>
              <a:gd name="adj1" fmla="val -43750"/>
              <a:gd name="adj2" fmla="val 7001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ole of any gas occupies 22.4 L at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9C2-FCF7-4761-A2DE-CB615241BB1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deal Ga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63D-5281-4553-9926-AA513D7AC4F9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1219320" y="1951200"/>
            <a:ext cx="6629400" cy="3382920"/>
            <a:chOff x="1219320" y="1951200"/>
            <a:chExt cx="6629400" cy="3382920"/>
          </a:xfrm>
        </p:grpSpPr>
        <p:sp>
          <p:nvSpPr>
            <p:cNvPr id="728" name=""/>
            <p:cNvSpPr/>
            <p:nvPr/>
          </p:nvSpPr>
          <p:spPr>
            <a:xfrm>
              <a:off x="2404440" y="2575080"/>
              <a:ext cx="25106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V </a:t>
              </a:r>
              <a:r>
                <a:rPr b="0" lang="en-US" sz="10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34560" y="3198960"/>
              <a:ext cx="92916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5032440" y="1951200"/>
              <a:ext cx="1704600" cy="1708920"/>
              <a:chOff x="5032440" y="1951200"/>
              <a:chExt cx="1704600" cy="1708920"/>
            </a:xfrm>
          </p:grpSpPr>
          <p:sp>
            <p:nvSpPr>
              <p:cNvPr id="731" name=""/>
              <p:cNvSpPr/>
              <p:nvPr/>
            </p:nvSpPr>
            <p:spPr>
              <a:xfrm>
                <a:off x="5061240" y="1951200"/>
                <a:ext cx="167580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600" spc="-1" strike="noStrike">
                    <a:solidFill>
                      <a:srgbClr val="000000"/>
                    </a:solidFill>
                    <a:latin typeface="Times New Roman"/>
                  </a:rPr>
                  <a:t>nT</a:t>
                </a:r>
                <a:endParaRPr b="0" lang="en-US" sz="10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032440" y="347508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33" name=""/>
            <p:cNvGraphicFramePr/>
            <p:nvPr/>
          </p:nvGraphicFramePr>
          <p:xfrm>
            <a:off x="1943280" y="1971720"/>
            <a:ext cx="5257800" cy="31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43280" y="1971720"/>
                      <a:ext cx="5257800" cy="31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5" name=""/>
            <p:cNvGrpSpPr/>
            <p:nvPr/>
          </p:nvGrpSpPr>
          <p:grpSpPr>
            <a:xfrm>
              <a:off x="1219320" y="2057400"/>
              <a:ext cx="6629400" cy="3276720"/>
              <a:chOff x="1219320" y="2057400"/>
              <a:chExt cx="6629400" cy="3276720"/>
            </a:xfrm>
          </p:grpSpPr>
          <p:sp>
            <p:nvSpPr>
              <p:cNvPr id="736" name=""/>
              <p:cNvSpPr/>
              <p:nvPr/>
            </p:nvSpPr>
            <p:spPr>
              <a:xfrm>
                <a:off x="1219320" y="2057400"/>
                <a:ext cx="6629400" cy="3276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37" name=""/>
              <p:cNvGraphicFramePr/>
              <p:nvPr/>
            </p:nvGraphicFramePr>
            <p:xfrm>
              <a:off x="1730520" y="3048120"/>
              <a:ext cx="5681520" cy="11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30520" y="3048120"/>
                        <a:ext cx="5681520" cy="11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47F-34ED-44CB-A31F-19E3DC4A1C3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42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4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6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47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8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0" name=""/>
          <p:cNvGrpSpPr/>
          <p:nvPr/>
        </p:nvGrpSpPr>
        <p:grpSpPr>
          <a:xfrm>
            <a:off x="1828800" y="379800"/>
            <a:ext cx="5486400" cy="2744280"/>
            <a:chOff x="1828800" y="379800"/>
            <a:chExt cx="5486400" cy="2744280"/>
          </a:xfrm>
        </p:grpSpPr>
        <p:sp>
          <p:nvSpPr>
            <p:cNvPr id="751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atmosphere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209320" y="1585800"/>
              <a:ext cx="2341800" cy="15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4C4-E25D-4771-B9AA-9B1AF557604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56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8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0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61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2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4" name=""/>
          <p:cNvGrpSpPr/>
          <p:nvPr/>
        </p:nvGrpSpPr>
        <p:grpSpPr>
          <a:xfrm>
            <a:off x="1828800" y="379800"/>
            <a:ext cx="5486400" cy="2744280"/>
            <a:chOff x="1828800" y="379800"/>
            <a:chExt cx="5486400" cy="2744280"/>
          </a:xfrm>
        </p:grpSpPr>
        <p:sp>
          <p:nvSpPr>
            <p:cNvPr id="765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liter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1406520"/>
              <a:ext cx="1417680" cy="17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E8B-29E4-43C9-AF5E-1486F4FC5A2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70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2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4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75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6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8" name=""/>
          <p:cNvGrpSpPr/>
          <p:nvPr/>
        </p:nvGrpSpPr>
        <p:grpSpPr>
          <a:xfrm>
            <a:off x="1828800" y="379800"/>
            <a:ext cx="5486400" cy="3006360"/>
            <a:chOff x="1828800" y="379800"/>
            <a:chExt cx="5486400" cy="3006360"/>
          </a:xfrm>
        </p:grpSpPr>
        <p:sp>
          <p:nvSpPr>
            <p:cNvPr id="779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51480" y="1406520"/>
              <a:ext cx="684000" cy="19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B96-CF72-4B3D-A447-E376B5E7643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0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84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6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89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0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2" name=""/>
          <p:cNvGrpSpPr/>
          <p:nvPr/>
        </p:nvGrpSpPr>
        <p:grpSpPr>
          <a:xfrm>
            <a:off x="1828800" y="379800"/>
            <a:ext cx="5486400" cy="2704680"/>
            <a:chOff x="1828800" y="379800"/>
            <a:chExt cx="5486400" cy="2704680"/>
          </a:xfrm>
        </p:grpSpPr>
        <p:sp>
          <p:nvSpPr>
            <p:cNvPr id="793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Kelvin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51480" y="1406520"/>
              <a:ext cx="2307960" cy="167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6FC-E3BD-4693-8FAD-67A99754838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98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0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2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803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4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6" name=""/>
          <p:cNvSpPr/>
          <p:nvPr/>
        </p:nvSpPr>
        <p:spPr>
          <a:xfrm>
            <a:off x="5867280" y="1219320"/>
            <a:ext cx="2819520" cy="1752480"/>
          </a:xfrm>
          <a:prstGeom prst="wedgeEllipseCallout">
            <a:avLst>
              <a:gd name="adj1" fmla="val -45606"/>
              <a:gd name="adj2" fmla="val 543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Ga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867280" y="1219320"/>
            <a:ext cx="2819160" cy="1752480"/>
            <a:chOff x="5867280" y="1219320"/>
            <a:chExt cx="2819160" cy="1752480"/>
          </a:xfrm>
        </p:grpSpPr>
        <p:sp>
          <p:nvSpPr>
            <p:cNvPr id="808" name=""/>
            <p:cNvSpPr/>
            <p:nvPr/>
          </p:nvSpPr>
          <p:spPr>
            <a:xfrm>
              <a:off x="5867280" y="1219320"/>
              <a:ext cx="2819160" cy="1752480"/>
            </a:xfrm>
            <a:prstGeom prst="wedgeEllipseCallout">
              <a:avLst>
                <a:gd name="adj1" fmla="val -45606"/>
                <a:gd name="adj2" fmla="val 5434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9" name=""/>
            <p:cNvGraphicFramePr/>
            <p:nvPr/>
          </p:nvGraphicFramePr>
          <p:xfrm>
            <a:off x="6400440" y="1752480"/>
            <a:ext cx="1765440" cy="74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440" y="1752480"/>
                      <a:ext cx="176544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A26-D4CC-4C9A-BFA4-C0F2DD35574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lloon filled with  5.00 moles of helium gas is at a temperature of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atmospheric pressure is 750. torr.  What is the balloon’s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14320" y="1980720"/>
            <a:ext cx="7515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emperature to kelvi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24080" y="3200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2320" y="3992400"/>
            <a:ext cx="495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=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298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4724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pressure to atmosphe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004760" y="5692680"/>
          <a:ext cx="265752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5692680"/>
                    <a:ext cx="2657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3618000" y="5334120"/>
          <a:ext cx="2097000" cy="11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0" y="5334120"/>
                    <a:ext cx="20970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5629320" y="5692680"/>
          <a:ext cx="252396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9320" y="5692680"/>
                    <a:ext cx="25239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2" name=""/>
          <p:cNvGrpSpPr/>
          <p:nvPr/>
        </p:nvGrpSpPr>
        <p:grpSpPr>
          <a:xfrm>
            <a:off x="2724120" y="5749920"/>
            <a:ext cx="2984400" cy="666720"/>
            <a:chOff x="2724120" y="5749920"/>
            <a:chExt cx="2984400" cy="666720"/>
          </a:xfrm>
        </p:grpSpPr>
        <p:sp>
          <p:nvSpPr>
            <p:cNvPr id="823" name=""/>
            <p:cNvSpPr/>
            <p:nvPr/>
          </p:nvSpPr>
          <p:spPr>
            <a:xfrm>
              <a:off x="2724120" y="5749920"/>
              <a:ext cx="83808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0440" y="6111720"/>
              <a:ext cx="83808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34E-EA0A-4A95-884B-F3490AE4737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10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10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10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10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ideal gas equation for the unkn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3520" y="4267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Substitute the given data into the equation and calcu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lloon filled with  5.00 moles of helium gas is at a temperature of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atmospheric pressure is 750. torr.  What is the balloon’s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5084640" y="3208320"/>
          <a:ext cx="190656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4640" y="3208320"/>
                    <a:ext cx="19065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2151000" y="3548160"/>
          <a:ext cx="20606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1000" y="3548160"/>
                    <a:ext cx="20606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3238560" y="5595840"/>
          <a:ext cx="1942920" cy="102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8560" y="5595840"/>
                    <a:ext cx="19429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71280" y="5597640"/>
          <a:ext cx="2536920" cy="94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280" y="5597640"/>
                    <a:ext cx="253692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2544840" y="5595840"/>
          <a:ext cx="3852720" cy="94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4840" y="5595840"/>
                    <a:ext cx="38527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6300720" y="5595840"/>
          <a:ext cx="1332000" cy="946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5595840"/>
                    <a:ext cx="13320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7643880" y="5872320"/>
          <a:ext cx="1428840" cy="33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43880" y="5872320"/>
                    <a:ext cx="142884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"/>
          <p:cNvGrpSpPr/>
          <p:nvPr/>
        </p:nvGrpSpPr>
        <p:grpSpPr>
          <a:xfrm>
            <a:off x="1820880" y="5692680"/>
            <a:ext cx="5651640" cy="822600"/>
            <a:chOff x="1820880" y="5692680"/>
            <a:chExt cx="5651640" cy="822600"/>
          </a:xfrm>
        </p:grpSpPr>
        <p:grpSp>
          <p:nvGrpSpPr>
            <p:cNvPr id="843" name=""/>
            <p:cNvGrpSpPr/>
            <p:nvPr/>
          </p:nvGrpSpPr>
          <p:grpSpPr>
            <a:xfrm>
              <a:off x="4390920" y="5705640"/>
              <a:ext cx="615960" cy="809640"/>
              <a:chOff x="4390920" y="5705640"/>
              <a:chExt cx="615960" cy="809640"/>
            </a:xfrm>
          </p:grpSpPr>
          <p:sp>
            <p:nvSpPr>
              <p:cNvPr id="844" name=""/>
              <p:cNvSpPr/>
              <p:nvPr/>
            </p:nvSpPr>
            <p:spPr>
              <a:xfrm>
                <a:off x="4390920" y="6248520"/>
                <a:ext cx="615960" cy="266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0920" y="5705640"/>
                <a:ext cx="615960" cy="266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5126040" y="5692680"/>
              <a:ext cx="61596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20880" y="5692680"/>
              <a:ext cx="61596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35600" y="5702400"/>
              <a:ext cx="401760" cy="172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70760" y="5702400"/>
              <a:ext cx="401760" cy="172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E7A-82E4-420B-AF0F-712A04A4F6A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10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10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2:05:58Z</dcterms:created>
  <dc:creator>M</dc:creator>
  <dc:description/>
  <dc:language>en-US</dc:language>
  <cp:lastModifiedBy>jyee</cp:lastModifiedBy>
  <dcterms:modified xsi:type="dcterms:W3CDTF">2006-11-01T22:04:23Z</dcterms:modified>
  <cp:revision>152</cp:revision>
  <dc:subject/>
  <dc:title>Chapter 12</dc:title>
</cp:coreProperties>
</file>