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20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16.jpeg" ContentType="image/jpeg"/>
  <Override PartName="/ppt/media/image144.wmf" ContentType="image/x-wmf"/>
  <Override PartName="/ppt/media/image109.wmf" ContentType="image/x-wmf"/>
  <Override PartName="/ppt/media/image108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5.wmf" ContentType="image/x-wmf"/>
  <Override PartName="/ppt/media/image82.wmf" ContentType="image/x-wmf"/>
  <Override PartName="/ppt/media/image19.jpeg" ContentType="image/jpeg"/>
  <Override PartName="/ppt/media/image6.wmf" ContentType="image/x-wmf"/>
  <Override PartName="/ppt/media/image83.wmf" ContentType="image/x-wmf"/>
  <Override PartName="/ppt/media/image36.wmf" ContentType="image/x-wmf"/>
  <Override PartName="/ppt/media/image11.jpeg" ContentType="image/jpeg"/>
  <Override PartName="/ppt/media/image7.wmf" ContentType="image/x-wmf"/>
  <Override PartName="/ppt/media/image37.wmf" ContentType="image/x-wmf"/>
  <Override PartName="/ppt/media/image12.jpeg" ContentType="image/jpeg"/>
  <Override PartName="/ppt/media/image127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38.wmf" ContentType="image/x-wmf"/>
  <Override PartName="/ppt/media/image86.wmf" ContentType="image/x-wmf"/>
  <Override PartName="/ppt/media/image9.wmf" ContentType="image/x-wmf"/>
  <Override PartName="/ppt/media/image35.wmf" ContentType="image/x-wmf"/>
  <Override PartName="/ppt/media/image69.jpeg" ContentType="image/jpeg"/>
  <Override PartName="/ppt/media/image46.wmf" ContentType="image/x-wmf"/>
  <Override PartName="/ppt/media/image39.wmf" ContentType="image/x-wmf"/>
  <Override PartName="/ppt/media/image32.wmf" ContentType="image/x-wmf"/>
  <Override PartName="/ppt/media/image129.wmf" ContentType="image/x-wmf"/>
  <Override PartName="/ppt/media/image58.wmf" ContentType="image/x-wmf"/>
  <Override PartName="/ppt/media/image34.jpeg" ContentType="image/jpeg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36.wmf" ContentType="image/x-wmf"/>
  <Override PartName="/ppt/media/image100.wmf" ContentType="image/x-wmf"/>
  <Override PartName="/ppt/media/image49.wmf" ContentType="image/x-wmf"/>
  <Override PartName="/ppt/media/image141.wmf" ContentType="image/x-wmf"/>
  <Override PartName="/ppt/media/image50.wmf" ContentType="image/x-wmf"/>
  <Override PartName="/ppt/media/image143.wmf" ContentType="image/x-wmf"/>
  <Override PartName="/ppt/media/image51.wmf" ContentType="image/x-wmf"/>
  <Override PartName="/ppt/media/image135.wmf" ContentType="image/x-wmf"/>
  <Override PartName="/ppt/media/image10.wmf" ContentType="image/x-wmf"/>
  <Override PartName="/ppt/media/image31.jpeg" ContentType="image/jpeg"/>
  <Override PartName="/ppt/media/image47.wmf" ContentType="image/x-wmf"/>
  <Override PartName="/ppt/media/image13.jpeg" ContentType="image/jpeg"/>
  <Override PartName="/ppt/media/image133.wmf" ContentType="image/x-wmf"/>
  <Override PartName="/ppt/media/image145.wmf" ContentType="image/x-wmf"/>
  <Override PartName="/ppt/media/image53.wmf" ContentType="image/x-wmf"/>
  <Override PartName="/ppt/media/image48.wmf" ContentType="image/x-wmf"/>
  <Override PartName="/ppt/media/image134.wmf" ContentType="image/x-wmf"/>
  <Override PartName="/ppt/media/image146.wmf" ContentType="image/x-wmf"/>
  <Override PartName="/ppt/media/image140.wmf" ContentType="image/x-wmf"/>
  <Override PartName="/ppt/media/image89.wmf" ContentType="image/x-wmf"/>
  <Override PartName="/ppt/media/image54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142.wmf" ContentType="image/x-wmf"/>
  <Override PartName="/ppt/media/image56.wmf" ContentType="image/x-wmf"/>
  <Override PartName="/ppt/media/image52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81.wmf" ContentType="image/x-wmf"/>
  <Override PartName="/ppt/media/image33.wmf" ContentType="image/x-wmf"/>
  <Override PartName="/ppt/media/image3.wmf" ContentType="image/x-wmf"/>
  <Override PartName="/ppt/media/image94.wmf" ContentType="image/x-wmf"/>
  <Override PartName="/ppt/media/image26.wmf" ContentType="image/x-wmf"/>
  <Override PartName="/ppt/media/image91.wmf" ContentType="image/x-wmf"/>
  <Override PartName="/ppt/media/image23.wmf" ContentType="image/x-wmf"/>
  <Override PartName="/ppt/media/image107.wmf" ContentType="image/x-wmf"/>
  <Override PartName="/ppt/media/image2.jpeg" ContentType="image/jpeg"/>
  <Override PartName="/ppt/media/image99.wmf" ContentType="image/x-wmf"/>
  <Override PartName="/ppt/media/image15.jpeg" ContentType="image/jpeg"/>
  <Override PartName="/ppt/media/image67.wmf" ContentType="image/x-wmf"/>
  <Override PartName="/ppt/media/image93.wmf" ContentType="image/x-wmf"/>
  <Override PartName="/ppt/media/image25.wmf" ContentType="image/x-wmf"/>
  <Override PartName="/ppt/media/image1.wmf" ContentType="image/x-wmf"/>
  <Override PartName="/ppt/media/image92.wmf" ContentType="image/x-wmf"/>
  <Override PartName="/ppt/media/image24.wmf" ContentType="image/x-wmf"/>
  <Override PartName="/ppt/media/image14.jpeg" ContentType="image/jpeg"/>
  <Override PartName="/ppt/media/image57.wmf" ContentType="image/x-wmf"/>
  <Override PartName="/ppt/media/image55.wmf" ContentType="image/x-wmf"/>
  <Override PartName="/ppt/media/image18.jpeg" ContentType="image/jpeg"/>
  <Override PartName="/ppt/media/image29.wmf" ContentType="image/x-wmf"/>
  <Override PartName="/ppt/media/image97.wmf" ContentType="image/x-wmf"/>
  <Override PartName="/ppt/media/image21.wmf" ContentType="image/x-wmf"/>
  <Override PartName="/ppt/media/image118.wmf" ContentType="image/x-wmf"/>
  <Override PartName="/ppt/media/image117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20.wmf" ContentType="image/x-wmf"/>
  <Override PartName="/ppt/media/image80.jpeg" ContentType="image/jpeg"/>
  <Override PartName="/ppt/media/image119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8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jpeg" ContentType="image/jpeg"/>
  <Override PartName="/ppt/media/image132.wmf" ContentType="image/x-wmf"/>
  <Override PartName="/ppt/media/image87.wmf" ContentType="image/x-wmf"/>
  <Override PartName="/ppt/media/image88.wmf" ContentType="image/x-wmf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98.wmf" ContentType="image/x-wmf"/>
  <Override PartName="/ppt/media/image101.wmf" ContentType="image/x-wmf"/>
  <Override PartName="/ppt/media/image102.wmf" ContentType="image/x-wmf"/>
  <Override PartName="/ppt/media/image10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117D-C6F1-461B-A971-EE1805A9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1E9B-ACB2-4E5B-9550-A4513B6C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56E2-C1DA-4A2E-A092-AFD088BE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52F-1306-4DF7-BD0B-A521AC51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9AB-354F-4CFB-95EC-FA8E4432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A394-7847-4401-B207-A7928D76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AB1-DC5E-4FF6-B12A-005770F5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0154-6B7B-42C9-92A5-3FE2A620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71C7-240F-4812-AD66-67571C53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6EE-8E3E-496F-94F3-77EE08AA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C2DB-FBF6-42D6-8AA0-3F6D77B9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93D-BFEC-417D-93D2-936979B1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B534-3D45-4124-B75D-48893476F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9.wmf"/><Relationship Id="rId15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5.wmf"/><Relationship Id="rId15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104.xml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2.wmf"/><Relationship Id="rId1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6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0.wmf"/><Relationship Id="rId9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3.wmf"/><Relationship Id="rId7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0.wmf"/><Relationship Id="rId15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6.wmf"/><Relationship Id="rId1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68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21.xml"/><Relationship Id="rId8" Type="http://schemas.openxmlformats.org/officeDocument/2006/relationships/slide" Target="slide77.xml"/><Relationship Id="rId9" Type="http://schemas.openxmlformats.org/officeDocument/2006/relationships/slide" Target="slide82.xml"/><Relationship Id="rId10" Type="http://schemas.openxmlformats.org/officeDocument/2006/relationships/slide" Target="slide82.xml"/><Relationship Id="rId11" Type="http://schemas.openxmlformats.org/officeDocument/2006/relationships/slide" Target="slide27.xml"/><Relationship Id="rId12" Type="http://schemas.openxmlformats.org/officeDocument/2006/relationships/slide" Target="slide36.xml"/><Relationship Id="rId13" Type="http://schemas.openxmlformats.org/officeDocument/2006/relationships/slide" Target="slide86.xml"/><Relationship Id="rId14" Type="http://schemas.openxmlformats.org/officeDocument/2006/relationships/slide" Target="slide91.xml"/><Relationship Id="rId15" Type="http://schemas.openxmlformats.org/officeDocument/2006/relationships/slide" Target="slide47.xml"/><Relationship Id="rId16" Type="http://schemas.openxmlformats.org/officeDocument/2006/relationships/slide" Target="slide47.xml"/><Relationship Id="rId17" Type="http://schemas.openxmlformats.org/officeDocument/2006/relationships/slide" Target="slide55.xml"/><Relationship Id="rId18" Type="http://schemas.openxmlformats.org/officeDocument/2006/relationships/slide" Target="slide102.xml"/><Relationship Id="rId19" Type="http://schemas.openxmlformats.org/officeDocument/2006/relationships/slide" Target="slide116.xml"/><Relationship Id="rId2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4.wmf"/><Relationship Id="rId1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9.wmf"/><Relationship Id="rId7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2.wmf"/><Relationship Id="rId7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5.wmf"/><Relationship Id="rId7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2.wmf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280" y="1143000"/>
            <a:ext cx="8001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Gaseous State of Matt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1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19520" y="49525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in and Are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5866560"/>
            <a:ext cx="23623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gene Pass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Chemistry Depart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Bronx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John Wiley and Sons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04080"/>
            <a:ext cx="1676520" cy="55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on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AA2-11AB-4225-BF91-9E52C347B01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98440" y="3124080"/>
            <a:ext cx="6747120" cy="2559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bility of two or more gases to mix spontaneously until they form a uniform mix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1981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133640" y="4971600"/>
            <a:ext cx="3429000" cy="1538280"/>
            <a:chOff x="1133640" y="4971600"/>
            <a:chExt cx="3429000" cy="1538280"/>
          </a:xfrm>
        </p:grpSpPr>
        <p:sp>
          <p:nvSpPr>
            <p:cNvPr id="105" name=""/>
            <p:cNvSpPr/>
            <p:nvPr/>
          </p:nvSpPr>
          <p:spPr>
            <a:xfrm flipV="1">
              <a:off x="2847960" y="4971600"/>
              <a:ext cx="0" cy="9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33640" y="5562720"/>
              <a:ext cx="3429000" cy="947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pcock closed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o diffusion occu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552920" y="4971600"/>
            <a:ext cx="3429000" cy="1538280"/>
            <a:chOff x="4552920" y="4971600"/>
            <a:chExt cx="3429000" cy="1538280"/>
          </a:xfrm>
        </p:grpSpPr>
        <p:sp>
          <p:nvSpPr>
            <p:cNvPr id="108" name=""/>
            <p:cNvSpPr/>
            <p:nvPr/>
          </p:nvSpPr>
          <p:spPr>
            <a:xfrm flipV="1">
              <a:off x="6267240" y="4971600"/>
              <a:ext cx="0" cy="9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52920" y="5562720"/>
              <a:ext cx="3429000" cy="947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pcock open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Diffusion occu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6D99-E131-4264-8D31-565FAC031E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"/>
          <p:cNvGrpSpPr/>
          <p:nvPr/>
        </p:nvGrpSpPr>
        <p:grpSpPr>
          <a:xfrm>
            <a:off x="2508120" y="2895480"/>
            <a:ext cx="3289320" cy="1928880"/>
            <a:chOff x="2508120" y="2895480"/>
            <a:chExt cx="3289320" cy="1928880"/>
          </a:xfrm>
        </p:grpSpPr>
        <p:sp>
          <p:nvSpPr>
            <p:cNvPr id="851" name=""/>
            <p:cNvSpPr/>
            <p:nvPr/>
          </p:nvSpPr>
          <p:spPr>
            <a:xfrm flipH="1">
              <a:off x="2735280" y="3124080"/>
              <a:ext cx="2751120" cy="92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40240" y="2895480"/>
              <a:ext cx="457200" cy="76212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508120" y="4062240"/>
              <a:ext cx="457200" cy="76212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6380280" y="2817720"/>
            <a:ext cx="1765080" cy="2516400"/>
            <a:chOff x="6380280" y="2817720"/>
            <a:chExt cx="1765080" cy="2516400"/>
          </a:xfrm>
        </p:grpSpPr>
        <p:sp>
          <p:nvSpPr>
            <p:cNvPr id="855" name=""/>
            <p:cNvSpPr/>
            <p:nvPr/>
          </p:nvSpPr>
          <p:spPr>
            <a:xfrm flipH="1">
              <a:off x="7310160" y="3733920"/>
              <a:ext cx="385560" cy="32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380280" y="3733920"/>
              <a:ext cx="1041120" cy="160020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365960" y="2817720"/>
              <a:ext cx="779400" cy="1041480"/>
            </a:xfrm>
            <a:prstGeom prst="ellipse">
              <a:avLst/>
            </a:prstGeom>
            <a:solidFill>
              <a:srgbClr val="99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termination of Molecular Weights Using the Ideal Gas Equ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666720" y="1447920"/>
          <a:ext cx="3581280" cy="11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1447920"/>
                    <a:ext cx="35812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"/>
          <p:cNvGraphicFramePr/>
          <p:nvPr/>
        </p:nvGraphicFramePr>
        <p:xfrm>
          <a:off x="2971800" y="4984920"/>
          <a:ext cx="2971800" cy="17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4984920"/>
                    <a:ext cx="297180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"/>
          <p:cNvGraphicFramePr/>
          <p:nvPr/>
        </p:nvGraphicFramePr>
        <p:xfrm>
          <a:off x="4915080" y="1447920"/>
          <a:ext cx="3562200" cy="112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15080" y="1447920"/>
                    <a:ext cx="35622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"/>
          <p:cNvGraphicFramePr/>
          <p:nvPr/>
        </p:nvGraphicFramePr>
        <p:xfrm>
          <a:off x="1130400" y="3009960"/>
          <a:ext cx="316224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30400" y="3009960"/>
                    <a:ext cx="3162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7" name=""/>
          <p:cNvGraphicFramePr/>
          <p:nvPr/>
        </p:nvGraphicFramePr>
        <p:xfrm>
          <a:off x="5423040" y="2666880"/>
          <a:ext cx="2590560" cy="112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23040" y="2666880"/>
                    <a:ext cx="259056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"/>
          <p:cNvGraphicFramePr/>
          <p:nvPr/>
        </p:nvGraphicFramePr>
        <p:xfrm>
          <a:off x="776160" y="4044960"/>
          <a:ext cx="3116520" cy="64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6160" y="4044960"/>
                    <a:ext cx="31165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1" name=""/>
          <p:cNvGraphicFramePr/>
          <p:nvPr/>
        </p:nvGraphicFramePr>
        <p:xfrm>
          <a:off x="4648320" y="3505320"/>
          <a:ext cx="3697200" cy="1720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48320" y="3505320"/>
                    <a:ext cx="369720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ED7D-F6B1-438A-95C2-CAA779FE298D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molar mass of an unknown gas, if 0.020 g occupies 250 mL at a temperature of 305 K and a pressure of 0.045 at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3314880" y="3809880"/>
          <a:ext cx="2514600" cy="14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3809880"/>
                    <a:ext cx="2514600" cy="14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"/>
          <p:cNvSpPr/>
          <p:nvPr/>
        </p:nvSpPr>
        <p:spPr>
          <a:xfrm>
            <a:off x="711360" y="21337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 = 250 mL = 0.250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918040" y="2133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 = 0.020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11360" y="32004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 = 305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18040" y="3124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 = 0.045 a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0" name=""/>
          <p:cNvGraphicFramePr/>
          <p:nvPr/>
        </p:nvGraphicFramePr>
        <p:xfrm>
          <a:off x="68400" y="5637240"/>
          <a:ext cx="23097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00" y="5637240"/>
                    <a:ext cx="23097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"/>
          <p:cNvGraphicFramePr/>
          <p:nvPr/>
        </p:nvGraphicFramePr>
        <p:xfrm>
          <a:off x="2306520" y="5637240"/>
          <a:ext cx="39070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06520" y="5637240"/>
                    <a:ext cx="39070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"/>
          <p:cNvGraphicFramePr/>
          <p:nvPr/>
        </p:nvGraphicFramePr>
        <p:xfrm>
          <a:off x="6145200" y="5637240"/>
          <a:ext cx="128592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45200" y="5637240"/>
                    <a:ext cx="1285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"/>
          <p:cNvGraphicFramePr/>
          <p:nvPr/>
        </p:nvGraphicFramePr>
        <p:xfrm>
          <a:off x="4307040" y="5637240"/>
          <a:ext cx="1535040" cy="992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07040" y="5637240"/>
                    <a:ext cx="153504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"/>
          <p:cNvGraphicFramePr/>
          <p:nvPr/>
        </p:nvGraphicFramePr>
        <p:xfrm>
          <a:off x="2478240" y="5637240"/>
          <a:ext cx="1876320" cy="992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78240" y="5637240"/>
                    <a:ext cx="187632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"/>
          <p:cNvGraphicFramePr/>
          <p:nvPr/>
        </p:nvGraphicFramePr>
        <p:xfrm>
          <a:off x="7431120" y="5637240"/>
          <a:ext cx="1643040" cy="914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431120" y="5637240"/>
                    <a:ext cx="16430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2" name=""/>
          <p:cNvGrpSpPr/>
          <p:nvPr/>
        </p:nvGrpSpPr>
        <p:grpSpPr>
          <a:xfrm>
            <a:off x="3368520" y="5729400"/>
            <a:ext cx="3892680" cy="766800"/>
            <a:chOff x="3368520" y="5729400"/>
            <a:chExt cx="3892680" cy="766800"/>
          </a:xfrm>
        </p:grpSpPr>
        <p:sp>
          <p:nvSpPr>
            <p:cNvPr id="893" name=""/>
            <p:cNvSpPr/>
            <p:nvPr/>
          </p:nvSpPr>
          <p:spPr>
            <a:xfrm>
              <a:off x="3627360" y="6278400"/>
              <a:ext cx="593640" cy="217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056120" y="5729400"/>
              <a:ext cx="593640" cy="217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372280" y="6318360"/>
              <a:ext cx="291960" cy="123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68520" y="5762520"/>
              <a:ext cx="292320" cy="123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737320" y="5791320"/>
              <a:ext cx="291960" cy="123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69240" y="5791320"/>
              <a:ext cx="291960" cy="123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92ED-381F-442D-B441-8A8304DA1663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7" dur="indefinite" restart="never" nodeType="tmRoot">
          <p:childTnLst>
            <p:seq>
              <p:cTn id="1778" dur="indefinite" nodeType="mainSeq">
                <p:childTnLst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5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6" dur="10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2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14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Gas Stoichiometr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0E6C-3A76-4AF5-A08B-21F62BBCFDDE}" type="slidenum">
              <a:t>102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 calculations are done at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STP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5800" y="2714760"/>
            <a:ext cx="77724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ses are assumed to behave as ideal g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gas not at STP is converted to ST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9CD-DE55-41A9-8CAC-2D94FA044B4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3" dur="indefinite" restart="never" nodeType="tmRoot">
          <p:childTnLst>
            <p:seq>
              <p:cTn id="1854" dur="indefinite" nodeType="mainSeq">
                <p:childTnLst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oichiometry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The area of chemistry that deals with the quantitative relationships among reactants and products in a chemical re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>
            <a:hlinkClick r:id="" action="ppaction://hlinkshowjump?jump=previousslide"/>
          </p:cNvPr>
          <p:cNvSpPr/>
          <p:nvPr/>
        </p:nvSpPr>
        <p:spPr>
          <a:xfrm>
            <a:off x="8070840" y="563868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B32-AE51-4D9F-87EE-9585D7F8B862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s Stoichi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imary conversions involved in stoichio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252360" y="2254320"/>
            <a:ext cx="8637480" cy="23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2CF-169B-4580-88FE-9E93464D1A2E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1349"/>
              </a:spcBef>
              <a:spcAft>
                <a:spcPts val="33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Times New Roman"/>
              </a:rPr>
              <a:t>Mole-Volume Calcul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Times New Roman"/>
              </a:rPr>
              <a:t>Mass-Volume Calcul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538F-3F55-4CE1-A273-BAD8D5127BC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/>
          </p:nvPr>
        </p:nvSpPr>
        <p:spPr>
          <a:xfrm>
            <a:off x="685800" y="211464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 Write the balanced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spcBef>
                <a:spcPts val="9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KCl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2 KCl + 3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 The starting amount is 0.500 mol KCl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The conversion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ol KClO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mol O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L O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volume of oxygen (at STP) can be formed from 0.500 mol of potassium chlorat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498-F067-4806-963D-880C42E7056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7" dur="indefinite" restart="never" nodeType="tmRoot">
          <p:childTnLst>
            <p:seq>
              <p:cTn id="1868" dur="indefinite" nodeType="mainSeq">
                <p:childTnLst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3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4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9" dur="10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0" dur="1000" fill="hold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1000" fill="hold"/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1000" fill="hold"/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1000" fill="hold"/>
                                        <p:tgtEl>
                                          <p:spTgt spid="9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1000" fill="hold"/>
                                        <p:tgtEl>
                                          <p:spTgt spid="9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"/>
          <p:cNvGrpSpPr/>
          <p:nvPr/>
        </p:nvGrpSpPr>
        <p:grpSpPr>
          <a:xfrm>
            <a:off x="2286000" y="1676520"/>
            <a:ext cx="3657600" cy="2981160"/>
            <a:chOff x="2286000" y="1676520"/>
            <a:chExt cx="3657600" cy="2981160"/>
          </a:xfrm>
        </p:grpSpPr>
        <p:sp>
          <p:nvSpPr>
            <p:cNvPr id="913" name=""/>
            <p:cNvSpPr/>
            <p:nvPr/>
          </p:nvSpPr>
          <p:spPr>
            <a:xfrm>
              <a:off x="2514600" y="2133720"/>
              <a:ext cx="1219320" cy="228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733920" y="4124160"/>
              <a:ext cx="2209680" cy="53352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286000" y="1676520"/>
              <a:ext cx="380880" cy="5331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3733920" y="1682640"/>
            <a:ext cx="2262240" cy="2394000"/>
            <a:chOff x="3733920" y="1682640"/>
            <a:chExt cx="2262240" cy="2394000"/>
          </a:xfrm>
        </p:grpSpPr>
        <p:sp>
          <p:nvSpPr>
            <p:cNvPr id="917" name=""/>
            <p:cNvSpPr/>
            <p:nvPr/>
          </p:nvSpPr>
          <p:spPr>
            <a:xfrm flipH="1">
              <a:off x="4709880" y="2133720"/>
              <a:ext cx="1081080" cy="140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733920" y="3543480"/>
              <a:ext cx="2209680" cy="5331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614920" y="1682640"/>
              <a:ext cx="381240" cy="5335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20" name=""/>
          <p:cNvGraphicFramePr/>
          <p:nvPr/>
        </p:nvGraphicFramePr>
        <p:xfrm>
          <a:off x="3505320" y="3505320"/>
          <a:ext cx="2689200" cy="11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505320"/>
                    <a:ext cx="268920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228600" y="23619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. Calculate the mole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sing the mole-ratio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247680" y="3836880"/>
          <a:ext cx="325440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680" y="3836880"/>
                    <a:ext cx="32544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volume of oxygen (at STP) can be formed from 0.500 mol of potassium chlorat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8600" y="502920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4.  Convert mole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liters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6172200" y="3836880"/>
          <a:ext cx="2722680" cy="51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3836880"/>
                    <a:ext cx="27226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9" name=""/>
          <p:cNvGraphicFramePr/>
          <p:nvPr/>
        </p:nvGraphicFramePr>
        <p:xfrm>
          <a:off x="1433520" y="5904000"/>
          <a:ext cx="2590920" cy="5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33520" y="5904000"/>
                    <a:ext cx="25909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1" name=""/>
          <p:cNvGraphicFramePr/>
          <p:nvPr/>
        </p:nvGraphicFramePr>
        <p:xfrm>
          <a:off x="4014720" y="5638680"/>
          <a:ext cx="1576440" cy="1046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14720" y="5638680"/>
                    <a:ext cx="15764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3" name=""/>
          <p:cNvGraphicFramePr/>
          <p:nvPr/>
        </p:nvGraphicFramePr>
        <p:xfrm>
          <a:off x="5700600" y="5904000"/>
          <a:ext cx="2009880" cy="51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00600" y="5904000"/>
                    <a:ext cx="20098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5" name=""/>
          <p:cNvSpPr/>
          <p:nvPr/>
        </p:nvSpPr>
        <p:spPr>
          <a:xfrm>
            <a:off x="2328120" y="1630440"/>
            <a:ext cx="41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K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KCl + 3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1447920" y="4038480"/>
            <a:ext cx="4419360" cy="457200"/>
            <a:chOff x="1447920" y="4038480"/>
            <a:chExt cx="4419360" cy="457200"/>
          </a:xfrm>
        </p:grpSpPr>
        <p:sp>
          <p:nvSpPr>
            <p:cNvPr id="937" name=""/>
            <p:cNvSpPr/>
            <p:nvPr/>
          </p:nvSpPr>
          <p:spPr>
            <a:xfrm>
              <a:off x="1447920" y="4038480"/>
              <a:ext cx="1828800" cy="15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38480" y="4343400"/>
              <a:ext cx="182880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2590920" y="6095880"/>
            <a:ext cx="2819160" cy="457200"/>
            <a:chOff x="2590920" y="6095880"/>
            <a:chExt cx="2819160" cy="457200"/>
          </a:xfrm>
        </p:grpSpPr>
        <p:sp>
          <p:nvSpPr>
            <p:cNvPr id="940" name=""/>
            <p:cNvSpPr/>
            <p:nvPr/>
          </p:nvSpPr>
          <p:spPr>
            <a:xfrm>
              <a:off x="2590920" y="6095880"/>
              <a:ext cx="121896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191120" y="6324480"/>
              <a:ext cx="121896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F89-57FF-4F0E-A1BD-8F1FB57AD8F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3" dur="indefinite" restart="never" nodeType="tmRoot">
          <p:childTnLst>
            <p:seq>
              <p:cTn id="1894" dur="indefinite" nodeType="mainSeq">
                <p:childTnLst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9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10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1000" fill="hold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6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7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2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3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4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5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fill="hold">
                      <p:stCondLst>
                        <p:cond delay="indefinite"/>
                      </p:stCondLst>
                      <p:childTnLst>
                        <p:par>
                          <p:cTn id="1967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990720" y="213372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oblem can also be solved in one continuous calcul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volume of oxygen (at STP) can be formed from 0.500 mol of potassium chlorat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328120" y="3687840"/>
            <a:ext cx="414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K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KCl + 3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5" name=""/>
          <p:cNvGraphicFramePr/>
          <p:nvPr/>
        </p:nvGraphicFramePr>
        <p:xfrm>
          <a:off x="38160" y="4994280"/>
          <a:ext cx="306396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4994280"/>
                    <a:ext cx="30639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7" name=""/>
          <p:cNvGraphicFramePr/>
          <p:nvPr/>
        </p:nvGraphicFramePr>
        <p:xfrm>
          <a:off x="3095640" y="4681440"/>
          <a:ext cx="2533680" cy="11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95640" y="4681440"/>
                    <a:ext cx="2533680" cy="11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9" name=""/>
          <p:cNvGraphicFramePr/>
          <p:nvPr/>
        </p:nvGraphicFramePr>
        <p:xfrm>
          <a:off x="5619600" y="4743360"/>
          <a:ext cx="1484640" cy="98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19600" y="4743360"/>
                    <a:ext cx="14846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1" name=""/>
          <p:cNvGraphicFramePr/>
          <p:nvPr/>
        </p:nvGraphicFramePr>
        <p:xfrm>
          <a:off x="7213680" y="4994280"/>
          <a:ext cx="1892160" cy="48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13680" y="4994280"/>
                    <a:ext cx="18921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3" name=""/>
          <p:cNvGrpSpPr/>
          <p:nvPr/>
        </p:nvGrpSpPr>
        <p:grpSpPr>
          <a:xfrm>
            <a:off x="1143000" y="4952880"/>
            <a:ext cx="5654520" cy="689040"/>
            <a:chOff x="1143000" y="4952880"/>
            <a:chExt cx="5654520" cy="689040"/>
          </a:xfrm>
        </p:grpSpPr>
        <p:sp>
          <p:nvSpPr>
            <p:cNvPr id="954" name=""/>
            <p:cNvSpPr/>
            <p:nvPr/>
          </p:nvSpPr>
          <p:spPr>
            <a:xfrm>
              <a:off x="1143000" y="5181480"/>
              <a:ext cx="1752480" cy="15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597120" y="5489640"/>
              <a:ext cx="175284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908520" y="4952880"/>
              <a:ext cx="1166760" cy="1177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41960" y="5467320"/>
              <a:ext cx="655560" cy="60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FCA2-20F5-46CD-9168-E0DE7BE82CF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8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9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process by which gas molecules pass through a very small orifice from a container at higher pressure to one at lower press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3800" y="2600280"/>
            <a:ext cx="89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8480" y="3143160"/>
            <a:ext cx="1411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83A0-6F58-448F-91C9-ADDEA0951D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"/>
          <p:cNvGrpSpPr/>
          <p:nvPr/>
        </p:nvGrpSpPr>
        <p:grpSpPr>
          <a:xfrm>
            <a:off x="404640" y="2249640"/>
            <a:ext cx="5712120" cy="4113000"/>
            <a:chOff x="404640" y="2249640"/>
            <a:chExt cx="5712120" cy="4113000"/>
          </a:xfrm>
        </p:grpSpPr>
        <p:sp>
          <p:nvSpPr>
            <p:cNvPr id="959" name=""/>
            <p:cNvSpPr/>
            <p:nvPr/>
          </p:nvSpPr>
          <p:spPr>
            <a:xfrm>
              <a:off x="609480" y="2590920"/>
              <a:ext cx="3789360" cy="350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04640" y="2249640"/>
              <a:ext cx="381240" cy="5331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410000" y="5829480"/>
              <a:ext cx="1706760" cy="5331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4410000" y="2225520"/>
            <a:ext cx="3179880" cy="3537000"/>
            <a:chOff x="4410000" y="2225520"/>
            <a:chExt cx="3179880" cy="3537000"/>
          </a:xfrm>
        </p:grpSpPr>
        <p:sp>
          <p:nvSpPr>
            <p:cNvPr id="963" name=""/>
            <p:cNvSpPr/>
            <p:nvPr/>
          </p:nvSpPr>
          <p:spPr>
            <a:xfrm>
              <a:off x="4410000" y="5229360"/>
              <a:ext cx="1706760" cy="53316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5175000" y="2622600"/>
              <a:ext cx="2230200" cy="260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09000" y="2225520"/>
              <a:ext cx="380880" cy="5335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228600" y="220968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Al(s) + 6 HCl(aq)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2Al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q) + 3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  Calculate moles of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grams Al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moles Al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moles H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volume of hydrogen, collected at 30.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and 700. torr, will be formed by reacting 50.0 g of aluminum with hydrochloric aci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101520" y="5533920"/>
          <a:ext cx="1697040" cy="4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5533920"/>
                    <a:ext cx="169704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"/>
          <p:cNvGraphicFramePr/>
          <p:nvPr/>
        </p:nvGraphicFramePr>
        <p:xfrm>
          <a:off x="1792440" y="5181480"/>
          <a:ext cx="2404800" cy="12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440" y="5181480"/>
                    <a:ext cx="240480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2" name=""/>
          <p:cNvGraphicFramePr/>
          <p:nvPr/>
        </p:nvGraphicFramePr>
        <p:xfrm>
          <a:off x="4183200" y="5226120"/>
          <a:ext cx="2157120" cy="111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83200" y="5226120"/>
                    <a:ext cx="2157120" cy="11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4" name=""/>
          <p:cNvGraphicFramePr/>
          <p:nvPr/>
        </p:nvGraphicFramePr>
        <p:xfrm>
          <a:off x="6354720" y="5510160"/>
          <a:ext cx="2687760" cy="5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54720" y="5510160"/>
                    <a:ext cx="268776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6" name=""/>
          <p:cNvGrpSpPr/>
          <p:nvPr/>
        </p:nvGrpSpPr>
        <p:grpSpPr>
          <a:xfrm>
            <a:off x="982800" y="5380200"/>
            <a:ext cx="5100480" cy="839520"/>
            <a:chOff x="982800" y="5380200"/>
            <a:chExt cx="5100480" cy="839520"/>
          </a:xfrm>
        </p:grpSpPr>
        <p:sp>
          <p:nvSpPr>
            <p:cNvPr id="977" name=""/>
            <p:cNvSpPr/>
            <p:nvPr/>
          </p:nvSpPr>
          <p:spPr>
            <a:xfrm>
              <a:off x="2479680" y="5380200"/>
              <a:ext cx="130824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154320" y="6058080"/>
              <a:ext cx="785880" cy="114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982800" y="5718240"/>
              <a:ext cx="785520" cy="114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775040" y="5991120"/>
              <a:ext cx="130824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3A04-444B-4E24-90D8-F74C5E23013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10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10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1000" fill="hold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1000" fill="hold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1000" fill="hold"/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1000" fill="hold"/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1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2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7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8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5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6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762120" y="33526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to K: 30.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+ 273 = 303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62120" y="4159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torr to at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38080" y="1828800"/>
            <a:ext cx="754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A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6 HC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Al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3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7160" y="2514600"/>
            <a:ext cx="5945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  Calculate liters of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volume of hydrogen, collected at 30.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and 700. torr, will be formed by reacting 50.0 g of aluminum with hydrochloric aci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6" name=""/>
          <p:cNvGraphicFramePr/>
          <p:nvPr/>
        </p:nvGraphicFramePr>
        <p:xfrm>
          <a:off x="1442880" y="5425920"/>
          <a:ext cx="1606680" cy="4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5425920"/>
                    <a:ext cx="160668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8" name=""/>
          <p:cNvGraphicFramePr/>
          <p:nvPr/>
        </p:nvGraphicFramePr>
        <p:xfrm>
          <a:off x="3062160" y="5029200"/>
          <a:ext cx="212724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2160" y="5029200"/>
                    <a:ext cx="21272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0" name=""/>
          <p:cNvGraphicFramePr/>
          <p:nvPr/>
        </p:nvGraphicFramePr>
        <p:xfrm>
          <a:off x="5300640" y="5425920"/>
          <a:ext cx="2398680" cy="4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00640" y="5425920"/>
                    <a:ext cx="239868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2" name=""/>
          <p:cNvGrpSpPr/>
          <p:nvPr/>
        </p:nvGrpSpPr>
        <p:grpSpPr>
          <a:xfrm>
            <a:off x="2286000" y="5486400"/>
            <a:ext cx="2606760" cy="633240"/>
            <a:chOff x="2286000" y="5486400"/>
            <a:chExt cx="2606760" cy="633240"/>
          </a:xfrm>
        </p:grpSpPr>
        <p:sp>
          <p:nvSpPr>
            <p:cNvPr id="993" name=""/>
            <p:cNvSpPr/>
            <p:nvPr/>
          </p:nvSpPr>
          <p:spPr>
            <a:xfrm>
              <a:off x="2286000" y="5486400"/>
              <a:ext cx="762120" cy="304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30640" y="5815080"/>
              <a:ext cx="76212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8CA-AE0E-46D2-ABB4-0C9DC30D8AE9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7" dur="indefinite" restart="never" nodeType="tmRoot">
          <p:childTnLst>
            <p:seq>
              <p:cTn id="2078" dur="indefinite" nodeType="mainSeq">
                <p:childTnLst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volume of hydrogen, collected at 30.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and 700. torr, will be formed by reacting 50.0 g of aluminum with hydrochloric aci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505320" y="276696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V = n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7" name=""/>
          <p:cNvGraphicFramePr/>
          <p:nvPr/>
        </p:nvGraphicFramePr>
        <p:xfrm>
          <a:off x="3657600" y="3557520"/>
          <a:ext cx="182880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3557520"/>
                    <a:ext cx="182880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9" name=""/>
          <p:cNvSpPr/>
          <p:nvPr/>
        </p:nvSpPr>
        <p:spPr>
          <a:xfrm>
            <a:off x="304920" y="205740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the ideal gas equation for 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0" name=""/>
          <p:cNvGraphicFramePr/>
          <p:nvPr/>
        </p:nvGraphicFramePr>
        <p:xfrm>
          <a:off x="2309760" y="4829040"/>
          <a:ext cx="1963800" cy="104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9760" y="4829040"/>
                    <a:ext cx="196380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2" name=""/>
          <p:cNvGraphicFramePr/>
          <p:nvPr/>
        </p:nvGraphicFramePr>
        <p:xfrm>
          <a:off x="81000" y="4829040"/>
          <a:ext cx="3163680" cy="95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000" y="4829040"/>
                    <a:ext cx="316368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4" name=""/>
          <p:cNvGraphicFramePr/>
          <p:nvPr/>
        </p:nvGraphicFramePr>
        <p:xfrm>
          <a:off x="3170160" y="4827600"/>
          <a:ext cx="2548080" cy="95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0160" y="4827600"/>
                    <a:ext cx="254808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5638680" y="4827600"/>
          <a:ext cx="1347840" cy="95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38680" y="4827600"/>
                    <a:ext cx="134784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8" name=""/>
          <p:cNvGraphicFramePr/>
          <p:nvPr/>
        </p:nvGraphicFramePr>
        <p:xfrm>
          <a:off x="4205160" y="4829040"/>
          <a:ext cx="1395720" cy="1040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0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05160" y="4829040"/>
                    <a:ext cx="139572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0" name=""/>
          <p:cNvGraphicFramePr/>
          <p:nvPr/>
        </p:nvGraphicFramePr>
        <p:xfrm>
          <a:off x="6969240" y="5065560"/>
          <a:ext cx="2093760" cy="505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1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69240" y="5065560"/>
                    <a:ext cx="209376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2" name=""/>
          <p:cNvGrpSpPr/>
          <p:nvPr/>
        </p:nvGrpSpPr>
        <p:grpSpPr>
          <a:xfrm>
            <a:off x="1828800" y="4952880"/>
            <a:ext cx="4998960" cy="720720"/>
            <a:chOff x="1828800" y="4952880"/>
            <a:chExt cx="4998960" cy="720720"/>
          </a:xfrm>
        </p:grpSpPr>
        <p:sp>
          <p:nvSpPr>
            <p:cNvPr id="1013" name=""/>
            <p:cNvSpPr/>
            <p:nvPr/>
          </p:nvSpPr>
          <p:spPr>
            <a:xfrm>
              <a:off x="1828800" y="4952880"/>
              <a:ext cx="1219320" cy="22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354560" y="5546880"/>
              <a:ext cx="636480" cy="11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78320" y="5562720"/>
              <a:ext cx="636480" cy="11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908600" y="4997520"/>
              <a:ext cx="636480" cy="11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059440" y="5564160"/>
              <a:ext cx="366480" cy="61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461280" y="4987800"/>
              <a:ext cx="366480" cy="61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118-BD90-4B18-B65A-7726E77B8681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7" dur="indefinite" restart="never" nodeType="tmRoot">
          <p:childTnLst>
            <p:seq>
              <p:cTn id="2128" dur="indefinite" nodeType="mainSeq">
                <p:childTnLst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3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4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9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0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1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2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7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8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00"/>
                </a:solidFill>
                <a:latin typeface="Times New Roman"/>
              </a:rPr>
              <a:t>Volume-Volume Calcul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66D1-285B-451D-922B-B34BC82FE4C0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1143000" y="2209680"/>
            <a:ext cx="7238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    +      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)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HCl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38080" y="2873520"/>
            <a:ext cx="1676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ol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390840" y="2873520"/>
            <a:ext cx="2057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mol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248520" y="2871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mol H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952560" y="3605040"/>
            <a:ext cx="1447920" cy="1105200"/>
            <a:chOff x="952560" y="3605040"/>
            <a:chExt cx="1447920" cy="1105200"/>
          </a:xfrm>
        </p:grpSpPr>
        <p:sp>
          <p:nvSpPr>
            <p:cNvPr id="1025" name=""/>
            <p:cNvSpPr/>
            <p:nvPr/>
          </p:nvSpPr>
          <p:spPr>
            <a:xfrm>
              <a:off x="952560" y="360504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2.4 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219320" y="412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ST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3772080" y="3605040"/>
            <a:ext cx="1295280" cy="1107000"/>
            <a:chOff x="3772080" y="3605040"/>
            <a:chExt cx="1295280" cy="1107000"/>
          </a:xfrm>
        </p:grpSpPr>
        <p:sp>
          <p:nvSpPr>
            <p:cNvPr id="1028" name=""/>
            <p:cNvSpPr/>
            <p:nvPr/>
          </p:nvSpPr>
          <p:spPr>
            <a:xfrm>
              <a:off x="3772080" y="360504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2.4 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962520" y="41306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ST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48520" y="3603600"/>
            <a:ext cx="1981080" cy="1106640"/>
            <a:chOff x="6248520" y="3603600"/>
            <a:chExt cx="1981080" cy="1106640"/>
          </a:xfrm>
        </p:grpSpPr>
        <p:sp>
          <p:nvSpPr>
            <p:cNvPr id="1031" name=""/>
            <p:cNvSpPr/>
            <p:nvPr/>
          </p:nvSpPr>
          <p:spPr>
            <a:xfrm>
              <a:off x="6248520" y="36036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 x 22.4  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81680" y="41288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ST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72396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46716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286680" y="4724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vol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23960" y="53942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467160" y="53942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134040" y="539424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Y vol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reacting gases at constant temperature and pressure: Volume-volume relationships are the same as mole-mole relationshi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47F-565D-46AF-86B5-940013F13D4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9" dur="indefinite" restart="never" nodeType="tmRoot">
          <p:childTnLst>
            <p:seq>
              <p:cTn id="2190" dur="indefinite" nodeType="mainSeq">
                <p:childTnLst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1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2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2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3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8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volume of nitrogen will react with 600. mL of hydrogen to form ammonia? What volume of ammonia will be form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181160" y="1663920"/>
            <a:ext cx="6781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3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N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2" name=""/>
          <p:cNvGraphicFramePr/>
          <p:nvPr/>
        </p:nvGraphicFramePr>
        <p:xfrm>
          <a:off x="1011240" y="3192480"/>
          <a:ext cx="2144880" cy="59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1240" y="3192480"/>
                    <a:ext cx="21448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4" name=""/>
          <p:cNvGraphicFramePr/>
          <p:nvPr/>
        </p:nvGraphicFramePr>
        <p:xfrm>
          <a:off x="3220920" y="2819520"/>
          <a:ext cx="2203560" cy="13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20920" y="2819520"/>
                    <a:ext cx="220356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6" name=""/>
          <p:cNvGraphicFramePr/>
          <p:nvPr/>
        </p:nvGraphicFramePr>
        <p:xfrm>
          <a:off x="5430960" y="3192480"/>
          <a:ext cx="2700360" cy="5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0960" y="3192480"/>
                    <a:ext cx="270036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8" name=""/>
          <p:cNvGraphicFramePr/>
          <p:nvPr/>
        </p:nvGraphicFramePr>
        <p:xfrm>
          <a:off x="696960" y="4898880"/>
          <a:ext cx="2144520" cy="59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6960" y="4898880"/>
                    <a:ext cx="21445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0" name=""/>
          <p:cNvGraphicFramePr/>
          <p:nvPr/>
        </p:nvGraphicFramePr>
        <p:xfrm>
          <a:off x="2897280" y="4525920"/>
          <a:ext cx="2546280" cy="1341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7280" y="4525920"/>
                    <a:ext cx="25462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2" name=""/>
          <p:cNvGraphicFramePr/>
          <p:nvPr/>
        </p:nvGraphicFramePr>
        <p:xfrm>
          <a:off x="5421240" y="4898880"/>
          <a:ext cx="3025800" cy="594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21240" y="4898880"/>
                    <a:ext cx="302580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ADE2-9F99-4621-BB34-D2C35484CEAF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0" dur="indefinite" restart="never" nodeType="tmRoot">
          <p:childTnLst>
            <p:seq>
              <p:cTn id="2261" dur="indefinite" nodeType="mainSeq">
                <p:childTnLst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4" fill="hold">
                      <p:stCondLst>
                        <p:cond delay="indefinite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4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5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0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1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fill="hold">
                      <p:stCondLst>
                        <p:cond delay="indefinite"/>
                      </p:stCondLst>
                      <p:childTnLst>
                        <p:par>
                          <p:cTn id="2293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15</a:t>
            </a:r>
            <a:br>
              <a:rPr sz="4400"/>
            </a:br>
            <a:r>
              <a:rPr b="0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Real Gas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8965-6733-42A5-848B-5F5F48DBC8A5}" type="slidenum">
              <a:t>11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l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5713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al gas obeys the gas law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olume the molecules of an ideal gas  occupy is negligible compared to the volume of the gas.  This is true at all temperatures and press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molecular attractions between the molecules of an ideal gas are negligible at all temperatures and press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9C6-87DB-407D-9DA2-A2489E00575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8" dur="indefinite" restart="never" nodeType="tmRoot">
          <p:childTnLst>
            <p:seq>
              <p:cTn id="2299" dur="indefinite" nodeType="mainSeq">
                <p:childTnLst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1000" fill="hold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1000" fill="hold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1000" fill="hold"/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1000" fill="hold"/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1000" fill="hold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1000" fill="hold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 G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viations from the gas laws occur at high pressures and low temperatu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high pressures, the volumes of the real gas molecules are not negligible compared to the volume of the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ow temperatures, the kinetic energy of the gas molecules cannot completely overcome the intermolecular attractive forces between the molecu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CBEF-69B4-4402-801A-F14E8CB4631C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8" dur="indefinite" restart="never" nodeType="tmRoot">
          <p:childTnLst>
            <p:seq>
              <p:cTn id="2319" dur="indefinite" nodeType="mainSeq">
                <p:childTnLst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1000" fill="hold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1000" fill="hold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1000" fill="hold"/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1000" fill="hold"/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1000" fill="hold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1000" fill="hold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1855800" y="3078000"/>
            <a:ext cx="54324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FC48-B161-4BA1-8B60-9D622A6A9580}" type="slidenum">
              <a:t>119</a:t>
            </a:fld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ham’s Law of Eff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ates of effusion of two gases at the same temperature and pressure are inversely proportional to the square roots of their densities, or molar ma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1680" y="4848120"/>
          <a:ext cx="39034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80" y="4848120"/>
                    <a:ext cx="3903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508640" y="4848120"/>
          <a:ext cx="117792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8640" y="4848120"/>
                    <a:ext cx="11779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867280" y="4848120"/>
          <a:ext cx="2853000" cy="101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848120"/>
                    <a:ext cx="285300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70AB-6769-41A3-AA77-F13491EDBC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0"/>
          <a:ext cx="91440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8160" y="3048120"/>
          <a:ext cx="285264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3048120"/>
                    <a:ext cx="2852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930400" y="3048120"/>
          <a:ext cx="3275280" cy="101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30400" y="3048120"/>
                    <a:ext cx="327528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246720" y="3048120"/>
          <a:ext cx="2859120" cy="109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46720" y="3048120"/>
                    <a:ext cx="285912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ratio of the rate of effusion of CO to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521-0EB7-46C9-A153-D47FC6FF1E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3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Measurement of Pressure of Gas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1ABF-13F8-47BE-B07C-64D0289E901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sure equals force per unit ar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905120" y="2727360"/>
          <a:ext cx="5333760" cy="17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727360"/>
                    <a:ext cx="533376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E1B-7509-4460-B3E9-5D1C102F5E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440" y="1695600"/>
            <a:ext cx="4343400" cy="34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ssure resulting from the collisions of gas molecules with the walls of the balloon keeps the balloon infla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81480" y="1623960"/>
            <a:ext cx="3264120" cy="3610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98A0-7139-4C3F-836D-6CDA0C7968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he pressure exerted by a gas depends on th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mber of gas molecules pres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mperature of the g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lume in which the gas is confin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028F-450B-4D97-855F-2F18350191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62240" y="866880"/>
            <a:ext cx="5905440" cy="5122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048120" y="228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cury Baro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52280" y="942840"/>
            <a:ext cx="3229200" cy="1800360"/>
            <a:chOff x="152280" y="942840"/>
            <a:chExt cx="3229200" cy="1800360"/>
          </a:xfrm>
        </p:grpSpPr>
        <p:sp>
          <p:nvSpPr>
            <p:cNvPr id="145" name=""/>
            <p:cNvSpPr/>
            <p:nvPr/>
          </p:nvSpPr>
          <p:spPr>
            <a:xfrm>
              <a:off x="2771640" y="20858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2280" y="942840"/>
              <a:ext cx="2819520" cy="180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 tube of mercury is inverted and placed in a dish of mercury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52280" y="4114800"/>
            <a:ext cx="2819520" cy="180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rometer is used to measure atmospheric pr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8976-4B4F-48BD-94B2-3F7AA7CA4E36}" type="slidenum">
              <a:t>18</a:t>
            </a:fld>
          </a:p>
        </p:txBody>
      </p:sp>
    </p:spTree>
  </p:cSld>
  <p:transition spd="med"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26441" t="14498" r="25504" b="13750"/>
          <a:stretch/>
        </p:blipFill>
        <p:spPr>
          <a:xfrm>
            <a:off x="1650960" y="157320"/>
            <a:ext cx="5840280" cy="65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155C-FAB2-45CC-AE66-6E94549A079F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0" y="1523880"/>
            <a:ext cx="44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Dalton’s Law of Partial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Pres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hapter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22400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60" y="1523880"/>
            <a:ext cx="40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The Kinetic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Molecular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5760" y="2371680"/>
            <a:ext cx="43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3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Measurement of Pressure of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5760" y="3219480"/>
            <a:ext cx="43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7240" indent="-6872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4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Dependence of Pressure on Number of Molecules and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4940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Avogadro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30988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Mole-Mass-Volume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Relationships of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5760" y="443376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5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Boyle’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5760" y="4916520"/>
            <a:ext cx="32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Charles’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068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3" action="ppaction://hlinksldjump"/>
              </a:rPr>
              <a:t>Density of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6735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3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4" action="ppaction://hlinksldjump"/>
              </a:rPr>
              <a:t>Ideal Gas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5760" y="539892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5" action="ppaction://hlinksldjump"/>
              </a:rPr>
              <a:t>Gay-Lussac’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6" action="ppaction://hlinksldjump"/>
              </a:rPr>
              <a:t>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5760" y="588312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7" action="ppaction://hlinksldjump"/>
              </a:rPr>
              <a:t>Combined Gas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5278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4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8" action="ppaction://hlinksldjump"/>
              </a:rPr>
              <a:t>Gas Stoichi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5883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5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9" action="ppaction://hlinksldjump"/>
              </a:rPr>
              <a:t>Real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1226-809B-42FC-A25A-AD026E719E7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 Composition of Dry 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9240" y="2228760"/>
            <a:ext cx="914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14520" y="222876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8.08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9240" y="2971800"/>
            <a:ext cx="914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04800" y="2971800"/>
            <a:ext cx="22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.95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9240" y="3772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81280" y="37720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.93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4572000"/>
            <a:ext cx="1447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7520" y="457200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.033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71560" y="54100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.0018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9240" y="541008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222876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222876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.0005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2920" y="1486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33640" y="1486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olume Per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2971800"/>
            <a:ext cx="1371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29718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.0002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7720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4572000"/>
            <a:ext cx="4114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Xe, H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45720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29400" y="37720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.0001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1523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G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15238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Volume Per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1F8-07B2-4C5A-8A27-767933162F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70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0"/>
                            </p:stCondLst>
                            <p:childTnLst>
                              <p:par>
                                <p:cTn id="2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12.4</a:t>
            </a:r>
            <a:br>
              <a:rPr sz="3200"/>
            </a:br>
            <a:r>
              <a:rPr b="1" lang="en-US" sz="4000" spc="-1" strike="noStrike" u="sng">
                <a:solidFill>
                  <a:srgbClr val="cc3399"/>
                </a:solidFill>
                <a:uFillTx/>
                <a:latin typeface="Times New Roman"/>
              </a:rPr>
              <a:t>Dependence of Pressure on Number</a:t>
            </a:r>
            <a:br>
              <a:rPr sz="4000"/>
            </a:br>
            <a:r>
              <a:rPr b="1" lang="en-US" sz="4000" spc="-1" strike="noStrike" u="sng">
                <a:solidFill>
                  <a:srgbClr val="cc3399"/>
                </a:solidFill>
                <a:uFillTx/>
                <a:latin typeface="Times New Roman"/>
              </a:rPr>
              <a:t>of Molecules and Temper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362-E7BD-4B34-A782-131AC51ECD7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sure is produced by gas molecules colliding with the walls of a contain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39076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 a specific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emperatur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volume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number of collisions depends on the number of gas molecules pres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an ideal gas the number of collisions is directly proportional to the number of gas molecules pres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AEA2-C136-4CAF-9599-4E877BA5E6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49200" y="1407960"/>
            <a:ext cx="6645600" cy="5526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30120" y="272520"/>
            <a:ext cx="274320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= 22.4 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=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03440" y="60120"/>
            <a:ext cx="5410440" cy="1373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ssure exerted by a gas is directly proportional to the number of molecules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8AE0-4825-42CB-A1AC-EA23CEE539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40D0-EDC3-4E09-88DD-C4FCFC7E9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endence of Pressure on Temp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ssure of a gas in a fixed volume increases with increasing tempera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the pressure of a gas increases, it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kinetic energy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incre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increased kinetic energy of the gas results in more frequent and energetic collisions of the molecules with the walls of the contain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etic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139840" y="2252520"/>
          <a:ext cx="4864320" cy="23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9840" y="2252520"/>
                    <a:ext cx="4864320" cy="23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8074080" y="5634000"/>
            <a:ext cx="384120" cy="3859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5920"/>
              <a:gd name="textAreaBottom" fmla="*/ 361080 h 385920"/>
            </a:gdLst>
            <a:ahLst/>
            <a:rect l="textAreaLeft" t="textAreaTop" r="textAreaRight" b="textAreaBottom"/>
            <a:pathLst>
              <a:path w="21600" h="21701">
                <a:moveTo>
                  <a:pt x="0" y="0"/>
                </a:moveTo>
                <a:lnTo>
                  <a:pt x="21600" y="0"/>
                </a:lnTo>
                <a:lnTo>
                  <a:pt x="21600" y="21701"/>
                </a:lnTo>
                <a:lnTo>
                  <a:pt x="0" y="21701"/>
                </a:lnTo>
                <a:close/>
              </a:path>
              <a:path fill="lightenLess" w="21600" h="217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1">
                <a:moveTo>
                  <a:pt x="21600" y="0"/>
                </a:moveTo>
                <a:lnTo>
                  <a:pt x="21600" y="21701"/>
                </a:lnTo>
                <a:lnTo>
                  <a:pt x="20200" y="20301"/>
                </a:lnTo>
                <a:lnTo>
                  <a:pt x="20200" y="1400"/>
                </a:lnTo>
                <a:close/>
              </a:path>
              <a:path fill="darkenLess" w="21600" h="21701">
                <a:moveTo>
                  <a:pt x="21600" y="21701"/>
                </a:moveTo>
                <a:lnTo>
                  <a:pt x="0" y="21701"/>
                </a:lnTo>
                <a:lnTo>
                  <a:pt x="1400" y="20301"/>
                </a:lnTo>
                <a:lnTo>
                  <a:pt x="20200" y="20301"/>
                </a:lnTo>
                <a:close/>
              </a:path>
              <a:path fill="lighten" w="21600" h="21701">
                <a:moveTo>
                  <a:pt x="0" y="217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1"/>
                </a:lnTo>
                <a:close/>
              </a:path>
              <a:path fill="darken" w="21600" h="21701">
                <a:moveTo>
                  <a:pt x="3794" y="10851"/>
                </a:moveTo>
                <a:lnTo>
                  <a:pt x="17806" y="3844"/>
                </a:lnTo>
                <a:lnTo>
                  <a:pt x="17806" y="17857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E21B-1442-4AAC-84BB-256649AEAD6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6320" y="336600"/>
            <a:ext cx="259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sure of a gas in a fixed volume increases with increasing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0" y="963720"/>
            <a:ext cx="4570560" cy="581796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04920" y="3782880"/>
            <a:ext cx="2514600" cy="1218960"/>
            <a:chOff x="304920" y="3782880"/>
            <a:chExt cx="2514600" cy="1218960"/>
          </a:xfrm>
        </p:grpSpPr>
        <p:sp>
          <p:nvSpPr>
            <p:cNvPr id="193" name=""/>
            <p:cNvSpPr/>
            <p:nvPr/>
          </p:nvSpPr>
          <p:spPr>
            <a:xfrm>
              <a:off x="1905120" y="439236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920" y="3782880"/>
              <a:ext cx="1600200" cy="12189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ower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ower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334200" y="3782880"/>
            <a:ext cx="2504520" cy="1219320"/>
            <a:chOff x="6334200" y="3782880"/>
            <a:chExt cx="2504520" cy="1219320"/>
          </a:xfrm>
        </p:grpSpPr>
        <p:sp>
          <p:nvSpPr>
            <p:cNvPr id="196" name=""/>
            <p:cNvSpPr/>
            <p:nvPr/>
          </p:nvSpPr>
          <p:spPr>
            <a:xfrm flipH="1">
              <a:off x="6334200" y="439236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238160" y="3782880"/>
              <a:ext cx="1600200" cy="1219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igher 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igher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6705720" y="0"/>
            <a:ext cx="25905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pressure is due to  more frequent and more energetic collisions of the gas molecules with the walls of the container at the higher tempera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C4DF-9A33-49C1-8F76-749BB1B247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5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Boyle’s Law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0960-1176-48C6-8467-A3A9EC20F31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 constant temperature (T), the volume (V) of a fixed mass of gas is inversely proportional to the Pressure (P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664080" y="3048120"/>
          <a:ext cx="181584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4080" y="3048120"/>
                    <a:ext cx="181584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292560" y="4878360"/>
          <a:ext cx="255888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92560" y="4878360"/>
                    <a:ext cx="25588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B82-E041-4BBA-9BC4-20020A0C69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66760" y="5713920"/>
            <a:ext cx="8610480" cy="106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 of pressure versus volume.  This shows the inverse PV relationship of an ideal g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30320" y="114480"/>
            <a:ext cx="5283360" cy="5371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3AFA-E804-44D2-8CA6-2C40290DD5E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2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The Kinetic-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Molecular Theor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3B75-20F0-4469-A976-16ADE9E1AB0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4920" y="6095160"/>
            <a:ext cx="861048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ect of pressure on the volume of a g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50840"/>
            <a:ext cx="8866080" cy="5850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9F59-2CC8-4907-B679-5AA43BF543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hod A. Conversion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. Determine whether volume is being increased or decrea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itial volu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8.00 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 volu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3.00 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volume decreases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pressure incre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8.00 L sample of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t a pressure of 500 torr.  What must be the pressure to change the volume to 3.00 L? (T is constan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BAD6-8D98-48D5-8B10-35CDE60B73E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2532240" y="4724280"/>
          <a:ext cx="170640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2240" y="4724280"/>
                    <a:ext cx="17064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. Multiply the original pressure by a ratio of volumes that will result in an increase in press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882960" y="4818240"/>
            <a:ext cx="303120" cy="967680"/>
            <a:chOff x="3882960" y="4818240"/>
            <a:chExt cx="303120" cy="967680"/>
          </a:xfrm>
        </p:grpSpPr>
        <p:sp>
          <p:nvSpPr>
            <p:cNvPr id="220" name=""/>
            <p:cNvSpPr/>
            <p:nvPr/>
          </p:nvSpPr>
          <p:spPr>
            <a:xfrm>
              <a:off x="3882960" y="4818240"/>
              <a:ext cx="291960" cy="338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94120" y="5448240"/>
              <a:ext cx="291960" cy="337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2" name=""/>
          <p:cNvGraphicFramePr/>
          <p:nvPr/>
        </p:nvGraphicFramePr>
        <p:xfrm>
          <a:off x="93600" y="5067360"/>
          <a:ext cx="231768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600" y="5067360"/>
                    <a:ext cx="23176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4284720" y="5067360"/>
          <a:ext cx="176220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4720" y="5067360"/>
                    <a:ext cx="17622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6288120" y="4954680"/>
          <a:ext cx="276372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88120" y="4954680"/>
                    <a:ext cx="27637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28600" y="39625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new pressure = original pressure x ratio of vol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8.00 L sample of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t a pressure of 500 torr.  What must be the pressure to change the volume to 3.00 L? (T is constan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7FF6-C829-4023-82B3-45C7853A0F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838080" y="272880"/>
            <a:ext cx="6873840" cy="4289760"/>
            <a:chOff x="838080" y="272880"/>
            <a:chExt cx="6873840" cy="4289760"/>
          </a:xfrm>
        </p:grpSpPr>
        <p:sp>
          <p:nvSpPr>
            <p:cNvPr id="233" name=""/>
            <p:cNvSpPr/>
            <p:nvPr/>
          </p:nvSpPr>
          <p:spPr>
            <a:xfrm>
              <a:off x="838080" y="272880"/>
              <a:ext cx="1219320" cy="511200"/>
            </a:xfrm>
            <a:prstGeom prst="ellipse">
              <a:avLst/>
            </a:prstGeom>
            <a:solidFill>
              <a:srgbClr val="66ff33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07160" y="3724200"/>
              <a:ext cx="1904760" cy="838440"/>
            </a:xfrm>
            <a:prstGeom prst="ellipse">
              <a:avLst/>
            </a:prstGeom>
            <a:solidFill>
              <a:srgbClr val="66ff33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944720" y="1241280"/>
            <a:ext cx="5767200" cy="4702320"/>
            <a:chOff x="1944720" y="1241280"/>
            <a:chExt cx="5767200" cy="4702320"/>
          </a:xfrm>
        </p:grpSpPr>
        <p:sp>
          <p:nvSpPr>
            <p:cNvPr id="236" name=""/>
            <p:cNvSpPr/>
            <p:nvPr/>
          </p:nvSpPr>
          <p:spPr>
            <a:xfrm>
              <a:off x="5807160" y="5105520"/>
              <a:ext cx="1904760" cy="838080"/>
            </a:xfrm>
            <a:prstGeom prst="ellipse">
              <a:avLst/>
            </a:prstGeom>
            <a:solidFill>
              <a:srgbClr val="00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44720" y="1241280"/>
              <a:ext cx="1219320" cy="511200"/>
            </a:xfrm>
            <a:prstGeom prst="ellipse">
              <a:avLst/>
            </a:prstGeom>
            <a:solidFill>
              <a:srgbClr val="00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54160" y="254160"/>
            <a:ext cx="7750080" cy="4425840"/>
            <a:chOff x="254160" y="254160"/>
            <a:chExt cx="7750080" cy="4425840"/>
          </a:xfrm>
        </p:grpSpPr>
        <p:sp>
          <p:nvSpPr>
            <p:cNvPr id="239" name=""/>
            <p:cNvSpPr/>
            <p:nvPr/>
          </p:nvSpPr>
          <p:spPr>
            <a:xfrm>
              <a:off x="1820880" y="3708360"/>
              <a:ext cx="2197080" cy="97164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38880" y="254160"/>
              <a:ext cx="765360" cy="51084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4160" y="784080"/>
              <a:ext cx="765000" cy="51120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09480" y="3718080"/>
            <a:ext cx="7162920" cy="2327760"/>
            <a:chOff x="609480" y="3718080"/>
            <a:chExt cx="7162920" cy="2327760"/>
          </a:xfrm>
        </p:grpSpPr>
        <p:sp>
          <p:nvSpPr>
            <p:cNvPr id="243" name=""/>
            <p:cNvSpPr/>
            <p:nvPr/>
          </p:nvSpPr>
          <p:spPr>
            <a:xfrm>
              <a:off x="4572000" y="3718080"/>
              <a:ext cx="3200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 = 8.00 L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7640" y="3718080"/>
              <a:ext cx="33530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 = 500 torr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5119560"/>
              <a:ext cx="30862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 = 3.00 L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9480" y="5081760"/>
              <a:ext cx="19814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 = 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8.00 L sample of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t a pressure of 500 torr.  What must be the pressure to change the volume to 3.00 L? (T is constan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37304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hod B. Algebraic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137304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. Organize the given inform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4928-0824-46C1-97B1-31662D19D30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3314880" y="4648320"/>
          <a:ext cx="2514600" cy="16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648320"/>
                    <a:ext cx="251460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3114720" y="3505320"/>
          <a:ext cx="291312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14720" y="3505320"/>
                    <a:ext cx="29131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7600" indent="0">
              <a:spcBef>
                <a:spcPts val="901"/>
              </a:spcBef>
              <a:buNone/>
              <a:tabLst>
                <a:tab algn="l" pos="0"/>
                <a:tab algn="l" pos="1373040"/>
                <a:tab algn="l" pos="411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. Write and solve the equation for the unkn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8.00 L sample of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t a pressure of 500 torr.  What must be the pressure to change the volume to 3.00 L? (T is constan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8CB-0E33-4E77-BD15-9789DA8DB50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.  Put the given information into the equation and calcul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0" y="4114800"/>
          <a:ext cx="188928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14800"/>
                    <a:ext cx="18892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1905120" y="4170240"/>
          <a:ext cx="4000320" cy="110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170240"/>
                    <a:ext cx="40003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791320" y="4429080"/>
          <a:ext cx="3290760" cy="5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429080"/>
                    <a:ext cx="32907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3" name=""/>
          <p:cNvGrpSpPr/>
          <p:nvPr/>
        </p:nvGrpSpPr>
        <p:grpSpPr>
          <a:xfrm>
            <a:off x="4464000" y="4238640"/>
            <a:ext cx="1227240" cy="1028520"/>
            <a:chOff x="4464000" y="4238640"/>
            <a:chExt cx="1227240" cy="1028520"/>
          </a:xfrm>
        </p:grpSpPr>
        <p:sp>
          <p:nvSpPr>
            <p:cNvPr id="264" name=""/>
            <p:cNvSpPr/>
            <p:nvPr/>
          </p:nvSpPr>
          <p:spPr>
            <a:xfrm>
              <a:off x="5386320" y="423864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64000" y="4886280"/>
              <a:ext cx="30492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8.00 L sample of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t a pressure of 500 torr.  What must be the pressure to change the volume to 3.00 L? (T is constan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46A7-2542-495A-A58F-359BF3BD687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6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Charles’ Law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A7F-0120-4A98-81AF-63E6150D3BC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lute Zero on the Kelvin 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685800" y="1666800"/>
            <a:ext cx="8077320" cy="1920960"/>
            <a:chOff x="685800" y="1666800"/>
            <a:chExt cx="8077320" cy="1920960"/>
          </a:xfrm>
        </p:grpSpPr>
        <p:sp>
          <p:nvSpPr>
            <p:cNvPr id="272" name=""/>
            <p:cNvSpPr/>
            <p:nvPr/>
          </p:nvSpPr>
          <p:spPr>
            <a:xfrm>
              <a:off x="685800" y="1666800"/>
              <a:ext cx="80773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9960" indent="-399960" algn="just">
                <a:spcBef>
                  <a:spcPts val="9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If a given volume of any gas at 0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 is cooled by </a:t>
              </a:r>
              <a:r>
                <a:rPr b="0" lang="en-US" sz="36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Times New Roman"/>
                </a:rPr>
                <a:t>o</a:t>
              </a:r>
              <a:r>
                <a:rPr b="0" lang="en-US" sz="36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the volume of the gas decreases by    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3" name=""/>
            <p:cNvGraphicFramePr/>
            <p:nvPr/>
          </p:nvGraphicFramePr>
          <p:xfrm>
            <a:off x="3514680" y="2838600"/>
            <a:ext cx="520920" cy="749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514680" y="2838600"/>
                      <a:ext cx="52092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5" name=""/>
          <p:cNvGrpSpPr/>
          <p:nvPr/>
        </p:nvGrpSpPr>
        <p:grpSpPr>
          <a:xfrm>
            <a:off x="685800" y="3700440"/>
            <a:ext cx="8077320" cy="1928880"/>
            <a:chOff x="685800" y="3700440"/>
            <a:chExt cx="8077320" cy="1928880"/>
          </a:xfrm>
        </p:grpSpPr>
        <p:sp>
          <p:nvSpPr>
            <p:cNvPr id="276" name=""/>
            <p:cNvSpPr/>
            <p:nvPr/>
          </p:nvSpPr>
          <p:spPr>
            <a:xfrm>
              <a:off x="685800" y="3700440"/>
              <a:ext cx="80773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9960" indent="-399960" algn="just">
                <a:spcBef>
                  <a:spcPts val="9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If a given volume of any gas at 0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 is cooled by </a:t>
              </a:r>
              <a:r>
                <a:rPr b="0" lang="en-US" sz="3600" spc="-1" strike="noStrike">
                  <a:solidFill>
                    <a:srgbClr val="0000ff"/>
                  </a:solidFill>
                  <a:latin typeface="Times New Roman"/>
                </a:rPr>
                <a:t>20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Times New Roman"/>
                </a:rPr>
                <a:t>o</a:t>
              </a:r>
              <a:r>
                <a:rPr b="0" lang="en-US" sz="36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the volume of the gas decreases by    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7" name=""/>
            <p:cNvGraphicFramePr/>
            <p:nvPr/>
          </p:nvGraphicFramePr>
          <p:xfrm>
            <a:off x="3498840" y="4880160"/>
            <a:ext cx="520560" cy="74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8840" y="4880160"/>
                      <a:ext cx="52056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3C6-8D07-4D8A-A815-7E47A9A9B1D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427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lute Zero on the Kelvin 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33520" y="1523880"/>
            <a:ext cx="8076960" cy="1920960"/>
            <a:chOff x="533520" y="1523880"/>
            <a:chExt cx="8076960" cy="1920960"/>
          </a:xfrm>
        </p:grpSpPr>
        <p:sp>
          <p:nvSpPr>
            <p:cNvPr id="281" name=""/>
            <p:cNvSpPr/>
            <p:nvPr/>
          </p:nvSpPr>
          <p:spPr>
            <a:xfrm>
              <a:off x="533520" y="1523880"/>
              <a:ext cx="8076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9960" indent="-399960" algn="just">
                <a:spcBef>
                  <a:spcPts val="9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If a given volume of any gas at 0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 is cooled by </a:t>
              </a:r>
              <a:r>
                <a:rPr b="0" lang="en-US" sz="3600" spc="-1" strike="noStrike">
                  <a:solidFill>
                    <a:srgbClr val="0000ff"/>
                  </a:solidFill>
                  <a:latin typeface="Times New Roman"/>
                </a:rPr>
                <a:t>273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Times New Roman"/>
                </a:rPr>
                <a:t>o</a:t>
              </a:r>
              <a:r>
                <a:rPr b="0" lang="en-US" sz="36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the volume of the gas decreases by    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2" name=""/>
            <p:cNvGraphicFramePr/>
            <p:nvPr/>
          </p:nvGraphicFramePr>
          <p:xfrm>
            <a:off x="3441600" y="2695680"/>
            <a:ext cx="520200" cy="749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41600" y="2695680"/>
                      <a:ext cx="520200" cy="74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4" name=""/>
          <p:cNvSpPr/>
          <p:nvPr/>
        </p:nvSpPr>
        <p:spPr>
          <a:xfrm>
            <a:off x="533520" y="355752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-273</a:t>
            </a:r>
            <a:r>
              <a:rPr b="0" lang="en-US" sz="3600" spc="-1" strike="noStrike" baseline="30000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more precisely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–273.15</a:t>
            </a:r>
            <a:r>
              <a:rPr b="0" lang="en-US" sz="3600" spc="-1" strike="noStrike" baseline="30000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is the zero point on the Kelvin scale.  It is the temperature at which an ideal gas would have 0 volu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A3A8-6746-4D4E-AA6F-E24CAC8F94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6198120"/>
            <a:ext cx="91440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me-temperature relationship of methane (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00200" y="380880"/>
            <a:ext cx="7742160" cy="53406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8CD-A5F1-428D-9B57-EC381A8E2A8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Kinetic-Molecular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MT is based on the motions of gas partic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gas that behaves exactly as outlined by KMT is known as an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deal ga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le no ideal gases are found in nature, real gases can approximate ideal gas behavior under certain conditions of temperature and press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B7FA-1E16-4300-8C8A-32F577EEF1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les’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 constant pressure the volume of a fixed mass of gas is directly proportional to the absolute tempera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706920" y="4395960"/>
          <a:ext cx="172872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6920" y="4395960"/>
                    <a:ext cx="172872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3587760" y="5116680"/>
          <a:ext cx="1968480" cy="14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7760" y="5116680"/>
                    <a:ext cx="1968480" cy="14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3CD-3DCF-4940-B21A-2600CB0DCD8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5334120"/>
            <a:ext cx="9144000" cy="204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 of temperature on the volume of a gas.  Pressure is constant at 1 atm.  When temperature increases at constant pressure, the volume of the gas incre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5029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rcRect l="0" t="18750" r="37506" b="16752"/>
          <a:stretch/>
        </p:blipFill>
        <p:spPr>
          <a:xfrm>
            <a:off x="1447920" y="685800"/>
            <a:ext cx="5635440" cy="436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D5C0-1F1F-49B4-BFBC-CEE5BF6707B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432160" y="1400040"/>
            <a:ext cx="5064120" cy="4434120"/>
            <a:chOff x="2432160" y="1400040"/>
            <a:chExt cx="5064120" cy="4434120"/>
          </a:xfrm>
        </p:grpSpPr>
        <p:sp>
          <p:nvSpPr>
            <p:cNvPr id="299" name=""/>
            <p:cNvSpPr/>
            <p:nvPr/>
          </p:nvSpPr>
          <p:spPr>
            <a:xfrm>
              <a:off x="2432160" y="5186520"/>
              <a:ext cx="1412640" cy="64764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84960" y="1400040"/>
              <a:ext cx="1111320" cy="64152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577960" y="19080"/>
            <a:ext cx="4010040" cy="4937040"/>
            <a:chOff x="2577960" y="19080"/>
            <a:chExt cx="4010040" cy="4937040"/>
          </a:xfrm>
        </p:grpSpPr>
        <p:sp>
          <p:nvSpPr>
            <p:cNvPr id="302" name=""/>
            <p:cNvSpPr/>
            <p:nvPr/>
          </p:nvSpPr>
          <p:spPr>
            <a:xfrm>
              <a:off x="2577960" y="4381560"/>
              <a:ext cx="1090800" cy="5745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75400" y="19080"/>
              <a:ext cx="912600" cy="5335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590920" y="43434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+ 273 = 348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5181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+ 273 = 523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280" y="104760"/>
            <a:ext cx="8839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255 mL sample of nitrogen at 7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is confined at a pressure of 3.0 atmospheres.  If the pressure remains constant, what will be the volume of the nitrogen if its temperature is raised to 2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hod A. Conversion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. Change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to 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+ 273 =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124-0F6A-4269-9D05-8B56DC7B7E8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2571840"/>
            <a:ext cx="769608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: Multiply the original volume by a ratio of Kelvin temperatures that will result in an increase in volum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925720" y="4038480"/>
            <a:ext cx="149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748480" y="4994280"/>
          <a:ext cx="22161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8480" y="4994280"/>
                    <a:ext cx="22161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1246320" y="4932360"/>
          <a:ext cx="279216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6320" y="4932360"/>
                    <a:ext cx="27921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4114800" y="4572000"/>
          <a:ext cx="1763640" cy="12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572000"/>
                    <a:ext cx="176364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6" name=""/>
          <p:cNvGrpSpPr/>
          <p:nvPr/>
        </p:nvGrpSpPr>
        <p:grpSpPr>
          <a:xfrm>
            <a:off x="5122800" y="4643280"/>
            <a:ext cx="449280" cy="1149120"/>
            <a:chOff x="5122800" y="4643280"/>
            <a:chExt cx="449280" cy="1149120"/>
          </a:xfrm>
        </p:grpSpPr>
        <p:sp>
          <p:nvSpPr>
            <p:cNvPr id="317" name=""/>
            <p:cNvSpPr/>
            <p:nvPr/>
          </p:nvSpPr>
          <p:spPr>
            <a:xfrm>
              <a:off x="5138640" y="5333760"/>
              <a:ext cx="433440" cy="458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22800" y="4643280"/>
              <a:ext cx="433440" cy="458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104760"/>
            <a:ext cx="8839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255 mL sample of nitrogen at 7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is confined at a pressure of 3.0 atmospheres.  If the pressure remains constant, what will be the volume of the nitrogen if its temperature is raised to 2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036C-E0DA-4C1B-A296-D9519020071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19040" y="2514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7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hod B. Algebraic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37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. Organize the information (remember to make units the same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047600" y="4768920"/>
            <a:ext cx="7201080" cy="1479960"/>
            <a:chOff x="1047600" y="4768920"/>
            <a:chExt cx="7201080" cy="1479960"/>
          </a:xfrm>
        </p:grpSpPr>
        <p:sp>
          <p:nvSpPr>
            <p:cNvPr id="323" name=""/>
            <p:cNvSpPr/>
            <p:nvPr/>
          </p:nvSpPr>
          <p:spPr>
            <a:xfrm>
              <a:off x="1047600" y="4768920"/>
              <a:ext cx="2705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= 255 m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24320" y="4768920"/>
              <a:ext cx="37720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= 75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 = 348 K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47600" y="5530680"/>
              <a:ext cx="24386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= 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24320" y="5530680"/>
              <a:ext cx="39243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= 250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 = 523 K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152280" y="104760"/>
            <a:ext cx="8839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255 mL sample of nitrogen at 7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is confined at a pressure of 3.0 atmospheres.  If the pressure remains constant, what will be the volume of the nitrogen if its temperature is raised to 2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764-CCDF-4A4A-B4D2-586C1A30CED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73040" indent="0">
              <a:spcBef>
                <a:spcPts val="901"/>
              </a:spcBef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. Write and solve the equation for the unknow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5051520" y="4038480"/>
          <a:ext cx="2689200" cy="16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51520" y="4038480"/>
                    <a:ext cx="268920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1403280" y="4038480"/>
          <a:ext cx="2241720" cy="16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038480"/>
                    <a:ext cx="224172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152280" y="104760"/>
            <a:ext cx="8839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255 mL sample of nitrogen at 7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is confined at a pressure of 3.0 atmospheres.  If the pressure remains constant, what will be the volume of the nitrogen if its temperature is raised to 2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E606-5FA4-4614-9575-AF1E8989DEB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5268960" y="4443480"/>
            <a:ext cx="2719440" cy="1577880"/>
            <a:chOff x="5268960" y="4443480"/>
            <a:chExt cx="2719440" cy="1577880"/>
          </a:xfrm>
        </p:grpSpPr>
        <p:sp>
          <p:nvSpPr>
            <p:cNvPr id="337" name=""/>
            <p:cNvSpPr/>
            <p:nvPr/>
          </p:nvSpPr>
          <p:spPr>
            <a:xfrm flipH="1">
              <a:off x="6477120" y="4876920"/>
              <a:ext cx="552240" cy="41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5268960" y="4443480"/>
              <a:ext cx="2719440" cy="1577880"/>
              <a:chOff x="5268960" y="4443480"/>
              <a:chExt cx="2719440" cy="1577880"/>
            </a:xfrm>
          </p:grpSpPr>
          <p:sp>
            <p:nvSpPr>
              <p:cNvPr id="339" name=""/>
              <p:cNvSpPr/>
              <p:nvPr/>
            </p:nvSpPr>
            <p:spPr>
              <a:xfrm>
                <a:off x="5268960" y="5165640"/>
                <a:ext cx="1407960" cy="855720"/>
              </a:xfrm>
              <a:prstGeom prst="ellipse">
                <a:avLst/>
              </a:prstGeom>
              <a:solidFill>
                <a:srgbClr val="cc99ff"/>
              </a:solidFill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50000" y="4443480"/>
                <a:ext cx="1238400" cy="561960"/>
              </a:xfrm>
              <a:prstGeom prst="ellipse">
                <a:avLst/>
              </a:prstGeom>
              <a:solidFill>
                <a:srgbClr val="cc99ff"/>
              </a:solidFill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4156200" y="3657600"/>
            <a:ext cx="3578040" cy="2989440"/>
            <a:chOff x="4156200" y="3657600"/>
            <a:chExt cx="3578040" cy="2989440"/>
          </a:xfrm>
        </p:grpSpPr>
        <p:sp>
          <p:nvSpPr>
            <p:cNvPr id="342" name=""/>
            <p:cNvSpPr/>
            <p:nvPr/>
          </p:nvSpPr>
          <p:spPr>
            <a:xfrm flipH="1">
              <a:off x="5076360" y="3962520"/>
              <a:ext cx="2008440" cy="20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4156200" y="3657600"/>
              <a:ext cx="3578040" cy="2989440"/>
              <a:chOff x="4156200" y="3657600"/>
              <a:chExt cx="3578040" cy="2989440"/>
            </a:xfrm>
          </p:grpSpPr>
          <p:sp>
            <p:nvSpPr>
              <p:cNvPr id="344" name=""/>
              <p:cNvSpPr/>
              <p:nvPr/>
            </p:nvSpPr>
            <p:spPr>
              <a:xfrm>
                <a:off x="4156200" y="6037200"/>
                <a:ext cx="1676160" cy="60984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515280" y="3657600"/>
                <a:ext cx="1218960" cy="60948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6" name=""/>
          <p:cNvGrpSpPr/>
          <p:nvPr/>
        </p:nvGrpSpPr>
        <p:grpSpPr>
          <a:xfrm>
            <a:off x="2062080" y="3657600"/>
            <a:ext cx="3005280" cy="2362320"/>
            <a:chOff x="2062080" y="3657600"/>
            <a:chExt cx="3005280" cy="2362320"/>
          </a:xfrm>
        </p:grpSpPr>
        <p:sp>
          <p:nvSpPr>
            <p:cNvPr id="347" name=""/>
            <p:cNvSpPr/>
            <p:nvPr/>
          </p:nvSpPr>
          <p:spPr>
            <a:xfrm>
              <a:off x="2819520" y="4038480"/>
              <a:ext cx="946080" cy="11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2062080" y="3657600"/>
              <a:ext cx="3005280" cy="2362320"/>
              <a:chOff x="2062080" y="3657600"/>
              <a:chExt cx="3005280" cy="2362320"/>
            </a:xfrm>
          </p:grpSpPr>
          <p:sp>
            <p:nvSpPr>
              <p:cNvPr id="349" name=""/>
              <p:cNvSpPr/>
              <p:nvPr/>
            </p:nvSpPr>
            <p:spPr>
              <a:xfrm>
                <a:off x="2062080" y="3657600"/>
                <a:ext cx="1386000" cy="650880"/>
              </a:xfrm>
              <a:prstGeom prst="ellipse">
                <a:avLst/>
              </a:prstGeom>
              <a:solidFill>
                <a:srgbClr val="99ff99"/>
              </a:solidFill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238560" y="5181480"/>
                <a:ext cx="1828800" cy="838440"/>
              </a:xfrm>
              <a:prstGeom prst="ellipse">
                <a:avLst/>
              </a:prstGeom>
              <a:solidFill>
                <a:srgbClr val="99ff99"/>
              </a:solidFill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73040" indent="0">
              <a:spcBef>
                <a:spcPts val="799"/>
              </a:spcBef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. Put the given information into the equation and calcul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6767640" y="5656320"/>
          <a:ext cx="2417760" cy="4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7640" y="5656320"/>
                    <a:ext cx="24177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0" y="5176800"/>
          <a:ext cx="2417760" cy="14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176800"/>
                    <a:ext cx="241776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2449440" y="5257800"/>
          <a:ext cx="4389480" cy="13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49440" y="5257800"/>
                    <a:ext cx="438948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8" name=""/>
          <p:cNvGrpSpPr/>
          <p:nvPr/>
        </p:nvGrpSpPr>
        <p:grpSpPr>
          <a:xfrm>
            <a:off x="1181160" y="3657600"/>
            <a:ext cx="6781680" cy="1410840"/>
            <a:chOff x="1181160" y="3657600"/>
            <a:chExt cx="6781680" cy="1410840"/>
          </a:xfrm>
        </p:grpSpPr>
        <p:sp>
          <p:nvSpPr>
            <p:cNvPr id="359" name=""/>
            <p:cNvSpPr/>
            <p:nvPr/>
          </p:nvSpPr>
          <p:spPr>
            <a:xfrm>
              <a:off x="1181160" y="365760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d4d4d"/>
                  </a:solidFill>
                  <a:latin typeface="Times New Roman"/>
                </a:rPr>
                <a:t>V</a:t>
              </a:r>
              <a:r>
                <a:rPr b="0" lang="en-US" sz="3200" spc="-1" strike="noStrike" baseline="-25000">
                  <a:solidFill>
                    <a:srgbClr val="4d4d4d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4d4d4d"/>
                  </a:solidFill>
                  <a:latin typeface="Times New Roman"/>
                </a:rPr>
                <a:t> = 255 m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57880" y="365760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d4d4d"/>
                  </a:solidFill>
                  <a:latin typeface="Times New Roman"/>
                </a:rPr>
                <a:t>T</a:t>
              </a:r>
              <a:r>
                <a:rPr b="0" lang="en-US" sz="3200" spc="-1" strike="noStrike" baseline="-25000">
                  <a:solidFill>
                    <a:srgbClr val="4d4d4d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4d4d4d"/>
                  </a:solidFill>
                  <a:latin typeface="Times New Roman"/>
                </a:rPr>
                <a:t> = 75</a:t>
              </a:r>
              <a:r>
                <a:rPr b="0" lang="en-US" sz="3200" spc="-1" strike="noStrike" baseline="30000">
                  <a:solidFill>
                    <a:srgbClr val="4d4d4d"/>
                  </a:solidFill>
                  <a:latin typeface="Times New Roman"/>
                </a:rPr>
                <a:t>o</a:t>
              </a:r>
              <a:r>
                <a:rPr b="0" lang="en-US" sz="3200" spc="-1" strike="noStrike">
                  <a:solidFill>
                    <a:srgbClr val="4d4d4d"/>
                  </a:solidFill>
                  <a:latin typeface="Times New Roman"/>
                </a:rPr>
                <a:t>C = 348 K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81160" y="441972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d4d4d"/>
                  </a:solidFill>
                  <a:latin typeface="Times New Roman"/>
                </a:rPr>
                <a:t>V</a:t>
              </a:r>
              <a:r>
                <a:rPr b="0" lang="en-US" sz="3200" spc="-1" strike="noStrike" baseline="-25000">
                  <a:solidFill>
                    <a:srgbClr val="4d4d4d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4d4d4d"/>
                  </a:solidFill>
                  <a:latin typeface="Times New Roman"/>
                </a:rPr>
                <a:t> =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457880" y="44197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d4d4d"/>
                  </a:solidFill>
                  <a:latin typeface="Times New Roman"/>
                </a:rPr>
                <a:t>T</a:t>
              </a:r>
              <a:r>
                <a:rPr b="0" lang="en-US" sz="3200" spc="-1" strike="noStrike" baseline="-25000">
                  <a:solidFill>
                    <a:srgbClr val="4d4d4d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4d4d4d"/>
                  </a:solidFill>
                  <a:latin typeface="Times New Roman"/>
                </a:rPr>
                <a:t> = 250</a:t>
              </a:r>
              <a:r>
                <a:rPr b="0" lang="en-US" sz="3200" spc="-1" strike="noStrike" baseline="30000">
                  <a:solidFill>
                    <a:srgbClr val="4d4d4d"/>
                  </a:solidFill>
                  <a:latin typeface="Times New Roman"/>
                </a:rPr>
                <a:t>o</a:t>
              </a:r>
              <a:r>
                <a:rPr b="0" lang="en-US" sz="3200" spc="-1" strike="noStrike">
                  <a:solidFill>
                    <a:srgbClr val="4d4d4d"/>
                  </a:solidFill>
                  <a:latin typeface="Times New Roman"/>
                </a:rPr>
                <a:t>C = 523 K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126040" y="5316480"/>
            <a:ext cx="1467000" cy="1231920"/>
            <a:chOff x="5126040" y="5316480"/>
            <a:chExt cx="1467000" cy="1231920"/>
          </a:xfrm>
        </p:grpSpPr>
        <p:sp>
          <p:nvSpPr>
            <p:cNvPr id="364" name=""/>
            <p:cNvSpPr/>
            <p:nvPr/>
          </p:nvSpPr>
          <p:spPr>
            <a:xfrm>
              <a:off x="5126040" y="6089760"/>
              <a:ext cx="433440" cy="458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59600" y="5316480"/>
              <a:ext cx="433440" cy="459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152280" y="104760"/>
            <a:ext cx="8839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255 mL sample of nitrogen at 7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is confined at a pressure of 3.0 atmospheres.  If the pressure remains constant, what will be the volume of the nitrogen if its temperature is raised to 2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643B-943E-4080-8D60-469334AE3DA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7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Gay-Lussac’s Law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8FFC-9FBD-413F-A9B6-04BEF6DA898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85800" y="1574280"/>
            <a:ext cx="7772400" cy="1752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ssure of a fixed mass of gas, at constant volume, is directly proportional to the Kelvin tempera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3619440" y="4470480"/>
          <a:ext cx="1905120" cy="14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9440" y="4470480"/>
                    <a:ext cx="190512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3755880" y="3479760"/>
          <a:ext cx="1632240" cy="4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55880" y="3479760"/>
                    <a:ext cx="163224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y-Lussac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3742-C6BF-4691-B8B6-473D96775CF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9144000" cy="170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2674800" y="189000"/>
            <a:ext cx="1138320" cy="4084560"/>
            <a:chOff x="2674800" y="189000"/>
            <a:chExt cx="1138320" cy="4084560"/>
          </a:xfrm>
        </p:grpSpPr>
        <p:sp>
          <p:nvSpPr>
            <p:cNvPr id="378" name=""/>
            <p:cNvSpPr/>
            <p:nvPr/>
          </p:nvSpPr>
          <p:spPr>
            <a:xfrm>
              <a:off x="2674800" y="3695760"/>
              <a:ext cx="1036800" cy="5778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63880" y="189000"/>
              <a:ext cx="849240" cy="5331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349280" y="1062000"/>
            <a:ext cx="2502000" cy="3890880"/>
            <a:chOff x="1349280" y="1062000"/>
            <a:chExt cx="2502000" cy="3890880"/>
          </a:xfrm>
        </p:grpSpPr>
        <p:sp>
          <p:nvSpPr>
            <p:cNvPr id="381" name=""/>
            <p:cNvSpPr/>
            <p:nvPr/>
          </p:nvSpPr>
          <p:spPr>
            <a:xfrm>
              <a:off x="1349280" y="1062000"/>
              <a:ext cx="1015920" cy="53352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94080" y="4395960"/>
              <a:ext cx="1357200" cy="55692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2611440" y="3643200"/>
            <a:ext cx="39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+ 273 = 313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a temperature of 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 oxygen container is at a pressure of 2.15 atmospheres.  If the temperature of the container  is raised to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,what will be the pressure of the oxyg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hod A. Conversion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. Change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to 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+ 273 =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14600" y="4343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+ 273 = 373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76240" y="60958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emperature increases </a:t>
            </a: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pressure 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14400" y="502920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ether temperature is be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or decrea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B3B7-5FE8-4D65-B609-F86667DB386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3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inciple Assumptions of the  KM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ses consist of tiny partic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distance between particles is large compared with the size of the particles themsel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s particles have no attraction for one ano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FE6-7FB2-4D8D-9F75-2435AC599D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: Multiply the original pressure by a ratio of Kelvin temperatures that will result in an increase in pressu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5710320" y="4764240"/>
          <a:ext cx="242244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0320" y="4764240"/>
                    <a:ext cx="242244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1011240" y="4722840"/>
          <a:ext cx="303840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4722840"/>
                    <a:ext cx="30384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4075200" y="4343400"/>
          <a:ext cx="1763640" cy="12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5200" y="4343400"/>
                    <a:ext cx="176364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6" name=""/>
          <p:cNvGrpSpPr/>
          <p:nvPr/>
        </p:nvGrpSpPr>
        <p:grpSpPr>
          <a:xfrm>
            <a:off x="5102280" y="4413240"/>
            <a:ext cx="449280" cy="1149120"/>
            <a:chOff x="5102280" y="4413240"/>
            <a:chExt cx="449280" cy="1149120"/>
          </a:xfrm>
        </p:grpSpPr>
        <p:sp>
          <p:nvSpPr>
            <p:cNvPr id="397" name=""/>
            <p:cNvSpPr/>
            <p:nvPr/>
          </p:nvSpPr>
          <p:spPr>
            <a:xfrm>
              <a:off x="5118120" y="5103720"/>
              <a:ext cx="433440" cy="458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02280" y="4413240"/>
              <a:ext cx="433440" cy="458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a temperature of 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 oxygen container is at a pressure of 2.15 atmospheres.  If the temperature of the container  is raised to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what will be the pressure of the oxyg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D292-18EF-4676-B0CA-ADAD061C86D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5710320" y="4764240"/>
          <a:ext cx="242244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0320" y="4764240"/>
                    <a:ext cx="242244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011240" y="4722840"/>
          <a:ext cx="303840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4722840"/>
                    <a:ext cx="303840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4075200" y="4343400"/>
          <a:ext cx="1763640" cy="12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5200" y="4343400"/>
                    <a:ext cx="176364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7" name=""/>
          <p:cNvGrpSpPr/>
          <p:nvPr/>
        </p:nvGrpSpPr>
        <p:grpSpPr>
          <a:xfrm>
            <a:off x="5102280" y="4413240"/>
            <a:ext cx="449280" cy="1149120"/>
            <a:chOff x="5102280" y="4413240"/>
            <a:chExt cx="449280" cy="1149120"/>
          </a:xfrm>
        </p:grpSpPr>
        <p:sp>
          <p:nvSpPr>
            <p:cNvPr id="408" name=""/>
            <p:cNvSpPr/>
            <p:nvPr/>
          </p:nvSpPr>
          <p:spPr>
            <a:xfrm>
              <a:off x="5118120" y="5103720"/>
              <a:ext cx="433440" cy="458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02280" y="4413240"/>
              <a:ext cx="433440" cy="458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4419720" y="2133720"/>
            <a:ext cx="4343400" cy="1600200"/>
          </a:xfrm>
          <a:prstGeom prst="cloudCallout">
            <a:avLst>
              <a:gd name="adj1" fmla="val -43532"/>
              <a:gd name="adj2" fmla="val 8710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mperature ratio greater than 1 will increase the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a temperature of 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 oxygen container is at a pressure of 2.15 atmospheres.  If the temperature of the container  is raised to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what will be the pressure of the oxyg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B5E8-30AD-49CB-9B92-566D2B43A9C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73040" indent="0">
              <a:lnSpc>
                <a:spcPct val="90000"/>
              </a:lnSpc>
              <a:spcBef>
                <a:spcPts val="901"/>
              </a:spcBef>
              <a:spcAft>
                <a:spcPts val="1576"/>
              </a:spcAft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hod B. Algebraic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373040" indent="0">
              <a:lnSpc>
                <a:spcPct val="90000"/>
              </a:lnSpc>
              <a:spcBef>
                <a:spcPts val="901"/>
              </a:spcBef>
              <a:spcAft>
                <a:spcPts val="1576"/>
              </a:spcAft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. Organize the information (remember to make units the same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181160" y="4678200"/>
            <a:ext cx="7289640" cy="1632600"/>
            <a:chOff x="1181160" y="4678200"/>
            <a:chExt cx="7289640" cy="1632600"/>
          </a:xfrm>
        </p:grpSpPr>
        <p:sp>
          <p:nvSpPr>
            <p:cNvPr id="414" name=""/>
            <p:cNvSpPr/>
            <p:nvPr/>
          </p:nvSpPr>
          <p:spPr>
            <a:xfrm>
              <a:off x="1181160" y="4678200"/>
              <a:ext cx="27813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= 21.5 at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57880" y="4678200"/>
              <a:ext cx="39369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= 40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 = 313 K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81160" y="5592600"/>
              <a:ext cx="24382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= 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57880" y="5592600"/>
              <a:ext cx="40129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= 100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 = 373 K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a temperature of 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 oxygen container is at a pressure of 2.15 atmospheres.  If the temperature of the container  is raised to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what will be the pressure of the oxyg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76C-2B3F-47E6-B19C-B9BDC807012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1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1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73040" indent="0">
              <a:spcBef>
                <a:spcPts val="901"/>
              </a:spcBef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. Write and solve the equation for the unknow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5149800" y="4038480"/>
          <a:ext cx="2490840" cy="16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9800" y="4038480"/>
                    <a:ext cx="249084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1477800" y="4038480"/>
          <a:ext cx="2092320" cy="16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7800" y="4038480"/>
                    <a:ext cx="209232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a temperature of 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 oxygen container is at a pressure of 2.15 atmospheres.  If the temperature of the container  is raised to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what will be the pressure of the oxyg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E81-D6D6-490F-B72E-75E283E5E76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5030640" y="4267080"/>
            <a:ext cx="2894040" cy="1676520"/>
            <a:chOff x="5030640" y="4267080"/>
            <a:chExt cx="2894040" cy="1676520"/>
          </a:xfrm>
        </p:grpSpPr>
        <p:sp>
          <p:nvSpPr>
            <p:cNvPr id="426" name=""/>
            <p:cNvSpPr/>
            <p:nvPr/>
          </p:nvSpPr>
          <p:spPr>
            <a:xfrm flipH="1">
              <a:off x="6149520" y="4648320"/>
              <a:ext cx="1089000" cy="58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5030640" y="4267080"/>
              <a:ext cx="2894040" cy="1676520"/>
              <a:chOff x="5030640" y="4267080"/>
              <a:chExt cx="2894040" cy="1676520"/>
            </a:xfrm>
          </p:grpSpPr>
          <p:sp>
            <p:nvSpPr>
              <p:cNvPr id="428" name=""/>
              <p:cNvSpPr/>
              <p:nvPr/>
            </p:nvSpPr>
            <p:spPr>
              <a:xfrm>
                <a:off x="6727680" y="4267080"/>
                <a:ext cx="1197000" cy="533520"/>
              </a:xfrm>
              <a:prstGeom prst="ellipse">
                <a:avLst/>
              </a:prstGeom>
              <a:solidFill>
                <a:srgbClr val="cc99ff"/>
              </a:solidFill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030640" y="5181480"/>
                <a:ext cx="1446480" cy="762120"/>
              </a:xfrm>
              <a:prstGeom prst="ellipse">
                <a:avLst/>
              </a:prstGeom>
              <a:solidFill>
                <a:srgbClr val="cc99ff"/>
              </a:solidFill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0" name=""/>
          <p:cNvGrpSpPr/>
          <p:nvPr/>
        </p:nvGrpSpPr>
        <p:grpSpPr>
          <a:xfrm>
            <a:off x="1981080" y="3425760"/>
            <a:ext cx="2859120" cy="2556000"/>
            <a:chOff x="1981080" y="3425760"/>
            <a:chExt cx="2859120" cy="2556000"/>
          </a:xfrm>
        </p:grpSpPr>
        <p:sp>
          <p:nvSpPr>
            <p:cNvPr id="431" name=""/>
            <p:cNvSpPr/>
            <p:nvPr/>
          </p:nvSpPr>
          <p:spPr>
            <a:xfrm>
              <a:off x="2835360" y="4075200"/>
              <a:ext cx="836640" cy="107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67040" y="5151600"/>
              <a:ext cx="1973160" cy="830160"/>
            </a:xfrm>
            <a:prstGeom prst="ellipse">
              <a:avLst/>
            </a:prstGeom>
            <a:solidFill>
              <a:srgbClr val="ccffcc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81080" y="3425760"/>
              <a:ext cx="1579680" cy="701640"/>
            </a:xfrm>
            <a:prstGeom prst="ellipse">
              <a:avLst/>
            </a:prstGeom>
            <a:solidFill>
              <a:srgbClr val="ccffcc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73040" indent="0">
              <a:spcBef>
                <a:spcPts val="901"/>
              </a:spcBef>
              <a:buNone/>
              <a:tabLst>
                <a:tab algn="l" pos="0"/>
                <a:tab algn="l" pos="182556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. Put the given information into the equation and calcul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6573960" y="5695920"/>
          <a:ext cx="24559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960" y="5695920"/>
                    <a:ext cx="2455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114480" y="5202360"/>
          <a:ext cx="2082600" cy="135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480" y="5202360"/>
                    <a:ext cx="2082600" cy="13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a temperature of 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 oxygen container is at a pressure of 2.15 atmospheres.  If the temperature of the container  is raised to 10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, what will be the pressure of the oxyg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886200" y="3454560"/>
            <a:ext cx="3832200" cy="3098520"/>
            <a:chOff x="3886200" y="3454560"/>
            <a:chExt cx="3832200" cy="3098520"/>
          </a:xfrm>
        </p:grpSpPr>
        <p:sp>
          <p:nvSpPr>
            <p:cNvPr id="441" name=""/>
            <p:cNvSpPr/>
            <p:nvPr/>
          </p:nvSpPr>
          <p:spPr>
            <a:xfrm flipH="1">
              <a:off x="4876920" y="3962520"/>
              <a:ext cx="2209680" cy="198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3886200" y="3454560"/>
              <a:ext cx="3832200" cy="3098520"/>
              <a:chOff x="3886200" y="3454560"/>
              <a:chExt cx="3832200" cy="3098520"/>
            </a:xfrm>
          </p:grpSpPr>
          <p:sp>
            <p:nvSpPr>
              <p:cNvPr id="443" name=""/>
              <p:cNvSpPr/>
              <p:nvPr/>
            </p:nvSpPr>
            <p:spPr>
              <a:xfrm>
                <a:off x="6539040" y="3454560"/>
                <a:ext cx="1179360" cy="60948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886200" y="5943600"/>
                <a:ext cx="1676520" cy="609480"/>
              </a:xfrm>
              <a:prstGeom prst="ellipse">
                <a:avLst/>
              </a:prstGeom>
              <a:solidFill>
                <a:srgbClr val="ffff00"/>
              </a:solidFill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5" name=""/>
          <p:cNvGrpSpPr/>
          <p:nvPr/>
        </p:nvGrpSpPr>
        <p:grpSpPr>
          <a:xfrm>
            <a:off x="1181160" y="3459240"/>
            <a:ext cx="6781680" cy="1410480"/>
            <a:chOff x="1181160" y="3459240"/>
            <a:chExt cx="6781680" cy="1410480"/>
          </a:xfrm>
        </p:grpSpPr>
        <p:sp>
          <p:nvSpPr>
            <p:cNvPr id="446" name=""/>
            <p:cNvSpPr/>
            <p:nvPr/>
          </p:nvSpPr>
          <p:spPr>
            <a:xfrm>
              <a:off x="1181160" y="345924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21.5 at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57880" y="345924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40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 = 313 K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181160" y="4221000"/>
              <a:ext cx="2438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57880" y="422100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= 100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 = 373 K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0" name=""/>
          <p:cNvGraphicFramePr/>
          <p:nvPr/>
        </p:nvGraphicFramePr>
        <p:xfrm>
          <a:off x="2095560" y="5257800"/>
          <a:ext cx="4540320" cy="122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95560" y="5257800"/>
                    <a:ext cx="454032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2" name=""/>
          <p:cNvGrpSpPr/>
          <p:nvPr/>
        </p:nvGrpSpPr>
        <p:grpSpPr>
          <a:xfrm>
            <a:off x="4888080" y="5319720"/>
            <a:ext cx="1522080" cy="1173240"/>
            <a:chOff x="4888080" y="5319720"/>
            <a:chExt cx="1522080" cy="1173240"/>
          </a:xfrm>
        </p:grpSpPr>
        <p:sp>
          <p:nvSpPr>
            <p:cNvPr id="453" name=""/>
            <p:cNvSpPr/>
            <p:nvPr/>
          </p:nvSpPr>
          <p:spPr>
            <a:xfrm>
              <a:off x="4888080" y="6033960"/>
              <a:ext cx="433080" cy="459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77080" y="5319720"/>
              <a:ext cx="433080" cy="458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26F0-EEF8-4B71-9A20-4465D01757F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8</a:t>
            </a:r>
            <a:br>
              <a:rPr sz="4400"/>
            </a:br>
            <a:r>
              <a:rPr b="1" lang="en-US" sz="7100" spc="-1" strike="noStrike" u="sng">
                <a:solidFill>
                  <a:srgbClr val="cc3399"/>
                </a:solidFill>
                <a:uFillTx/>
                <a:latin typeface="Times New Roman"/>
              </a:rPr>
              <a:t>Combined Gas Laws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7DA-B7C9-4B8D-B2F6-61B9F686EF2A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Standard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Temperature and Pres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 rot="5400000">
            <a:off x="3884400" y="746280"/>
            <a:ext cx="841320" cy="8305920"/>
          </a:xfrm>
          <a:custGeom>
            <a:avLst/>
            <a:gdLst>
              <a:gd name="textAreaLeft" fmla="*/ 0 w 841320"/>
              <a:gd name="textAreaRight" fmla="*/ 303840 w 841320"/>
              <a:gd name="textAreaTop" fmla="*/ 216360 h 8305920"/>
              <a:gd name="textAreaBottom" fmla="*/ 8089560 h 830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28600" y="3200400"/>
            <a:ext cx="8229600" cy="1251360"/>
            <a:chOff x="228600" y="3200400"/>
            <a:chExt cx="8229600" cy="1251360"/>
          </a:xfrm>
        </p:grpSpPr>
        <p:sp>
          <p:nvSpPr>
            <p:cNvPr id="460" name=""/>
            <p:cNvSpPr/>
            <p:nvPr/>
          </p:nvSpPr>
          <p:spPr>
            <a:xfrm>
              <a:off x="228600" y="3336840"/>
              <a:ext cx="365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tandard Condit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8600" y="3870360"/>
              <a:ext cx="617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tandard Temperature and Pressu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58000" y="3200400"/>
              <a:ext cx="1600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0000"/>
                  </a:solidFill>
                  <a:latin typeface="Times New Roman"/>
                </a:rPr>
                <a:t>STP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2362320" y="5334120"/>
            <a:ext cx="44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73.15 K  or 0.0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81160" y="59436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atm or 760 torr or 760 mm H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-228600" y="1905120"/>
            <a:ext cx="93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ed common reference points of temperature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pres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D08-2953-444E-B2C4-F4B7FF9FD10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0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 (def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thing set up and established by authority as a rule for the measure of quantity, weight, extent, value, or quality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Merriam Webster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>
            <a:hlinkClick r:id="" action="ppaction://hlinkshowjump?jump=previousslide"/>
          </p:cNvPr>
          <p:cNvSpPr/>
          <p:nvPr/>
        </p:nvSpPr>
        <p:spPr>
          <a:xfrm>
            <a:off x="8070840" y="563868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FC35-4BB4-49FC-A89D-BB96241811ED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685800" y="33523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combination of Boyle’s and Charles’ La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d when pressure and temperature change at the sam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the equation for any one of the 6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819520" y="1219320"/>
          <a:ext cx="380988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219320"/>
                    <a:ext cx="380988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AE8-BC69-4D04-BF61-502E5900F77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1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1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1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10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359100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al volume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738680" y="3313080"/>
            <a:ext cx="2057400" cy="1017720"/>
            <a:chOff x="4738680" y="3313080"/>
            <a:chExt cx="2057400" cy="1017720"/>
          </a:xfrm>
        </p:grpSpPr>
        <p:sp>
          <p:nvSpPr>
            <p:cNvPr id="474" name=""/>
            <p:cNvSpPr/>
            <p:nvPr/>
          </p:nvSpPr>
          <p:spPr>
            <a:xfrm>
              <a:off x="4738680" y="3313080"/>
              <a:ext cx="2057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ratio of pressur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897440" y="3416400"/>
              <a:ext cx="152640" cy="91440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6484320" y="3416400"/>
              <a:ext cx="152280" cy="914400"/>
            </a:xfrm>
            <a:custGeom>
              <a:avLst/>
              <a:gdLst>
                <a:gd name="textAreaLeft" fmla="*/ 44280 w 152280"/>
                <a:gd name="textAreaRight" fmla="*/ 152280 w 15228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6748560" y="3363840"/>
            <a:ext cx="2286000" cy="1007640"/>
            <a:chOff x="6748560" y="3363840"/>
            <a:chExt cx="2286000" cy="1007640"/>
          </a:xfrm>
        </p:grpSpPr>
        <p:sp>
          <p:nvSpPr>
            <p:cNvPr id="478" name=""/>
            <p:cNvSpPr/>
            <p:nvPr/>
          </p:nvSpPr>
          <p:spPr>
            <a:xfrm>
              <a:off x="6748560" y="3363840"/>
              <a:ext cx="2286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ratio of temperatur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755040" y="3409920"/>
              <a:ext cx="152280" cy="91440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8853480" y="3409920"/>
              <a:ext cx="152640" cy="914400"/>
            </a:xfrm>
            <a:custGeom>
              <a:avLst/>
              <a:gdLst>
                <a:gd name="textAreaLeft" fmla="*/ 45000 w 152640"/>
                <a:gd name="textAreaRight" fmla="*/ 153360 w 15264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424240" y="3600360"/>
            <a:ext cx="2361960" cy="560160"/>
            <a:chOff x="2424240" y="3600360"/>
            <a:chExt cx="2361960" cy="560160"/>
          </a:xfrm>
        </p:grpSpPr>
        <p:sp>
          <p:nvSpPr>
            <p:cNvPr id="482" name=""/>
            <p:cNvSpPr/>
            <p:nvPr/>
          </p:nvSpPr>
          <p:spPr>
            <a:xfrm>
              <a:off x="2439720" y="3703320"/>
              <a:ext cx="75960" cy="4572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4642560" y="3703320"/>
              <a:ext cx="75960" cy="457200"/>
            </a:xfrm>
            <a:custGeom>
              <a:avLst/>
              <a:gdLst>
                <a:gd name="textAreaLeft" fmla="*/ 21960 w 75960"/>
                <a:gd name="textAreaRight" fmla="*/ 7596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424240" y="3600360"/>
              <a:ext cx="2361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initial volum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990720" y="2487600"/>
            <a:ext cx="2651040" cy="968400"/>
          </a:xfrm>
          <a:prstGeom prst="wedgeRoundRectCallout">
            <a:avLst>
              <a:gd name="adj1" fmla="val -49490"/>
              <a:gd name="adj2" fmla="val 7569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calculate final volu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2F6C-526B-451B-AD6D-02862767E0C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64920" indent="-664920" algn="just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s particles move in straight lines in all directions, colliding frequently with one another and with the walls of the contain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64920" indent="-664920" algn="just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nergy is lost by the collision of a gas particle with another gas particle or with the walls of the container.  All collisions are perfectly elasti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5713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inciple Assumptions of the  KM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D1D8-A748-415A-9169-28EE1A7FDD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360216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al volume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738680" y="3324240"/>
            <a:ext cx="2057400" cy="1017720"/>
            <a:chOff x="4738680" y="3324240"/>
            <a:chExt cx="2057400" cy="1017720"/>
          </a:xfrm>
        </p:grpSpPr>
        <p:sp>
          <p:nvSpPr>
            <p:cNvPr id="488" name=""/>
            <p:cNvSpPr/>
            <p:nvPr/>
          </p:nvSpPr>
          <p:spPr>
            <a:xfrm>
              <a:off x="4738680" y="3324240"/>
              <a:ext cx="2057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ratio of pressur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97440" y="3427560"/>
              <a:ext cx="152640" cy="91440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6484320" y="3427560"/>
              <a:ext cx="152280" cy="914400"/>
            </a:xfrm>
            <a:custGeom>
              <a:avLst/>
              <a:gdLst>
                <a:gd name="textAreaLeft" fmla="*/ 44280 w 152280"/>
                <a:gd name="textAreaRight" fmla="*/ 152280 w 15228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748560" y="3375000"/>
            <a:ext cx="2286000" cy="1007640"/>
            <a:chOff x="6748560" y="3375000"/>
            <a:chExt cx="2286000" cy="1007640"/>
          </a:xfrm>
        </p:grpSpPr>
        <p:sp>
          <p:nvSpPr>
            <p:cNvPr id="492" name=""/>
            <p:cNvSpPr/>
            <p:nvPr/>
          </p:nvSpPr>
          <p:spPr>
            <a:xfrm>
              <a:off x="6748560" y="3375000"/>
              <a:ext cx="2286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ratio of temperatur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55040" y="3421080"/>
              <a:ext cx="152280" cy="91440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8853480" y="3421080"/>
              <a:ext cx="152640" cy="914400"/>
            </a:xfrm>
            <a:custGeom>
              <a:avLst/>
              <a:gdLst>
                <a:gd name="textAreaLeft" fmla="*/ 45000 w 152640"/>
                <a:gd name="textAreaRight" fmla="*/ 153360 w 15264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424240" y="3611520"/>
            <a:ext cx="2361960" cy="560160"/>
            <a:chOff x="2424240" y="3611520"/>
            <a:chExt cx="2361960" cy="560160"/>
          </a:xfrm>
        </p:grpSpPr>
        <p:sp>
          <p:nvSpPr>
            <p:cNvPr id="496" name=""/>
            <p:cNvSpPr/>
            <p:nvPr/>
          </p:nvSpPr>
          <p:spPr>
            <a:xfrm>
              <a:off x="2439720" y="3714480"/>
              <a:ext cx="75960" cy="4572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4642560" y="3714480"/>
              <a:ext cx="75960" cy="457200"/>
            </a:xfrm>
            <a:custGeom>
              <a:avLst/>
              <a:gdLst>
                <a:gd name="textAreaLeft" fmla="*/ 21960 w 75960"/>
                <a:gd name="textAreaRight" fmla="*/ 7596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24240" y="3611520"/>
              <a:ext cx="2361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initial volum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 flipH="1">
            <a:off x="2209680" y="1714680"/>
            <a:ext cx="3556080" cy="1298520"/>
          </a:xfrm>
          <a:prstGeom prst="wedgeRoundRectCallout">
            <a:avLst>
              <a:gd name="adj1" fmla="val -49495"/>
              <a:gd name="adj2" fmla="val 75666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increases or decreases volu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6478-69D9-4C9D-8BA2-A04E2371520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0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359244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al volume 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738680" y="3314880"/>
            <a:ext cx="2057400" cy="1017000"/>
            <a:chOff x="4738680" y="3314880"/>
            <a:chExt cx="2057400" cy="1017000"/>
          </a:xfrm>
        </p:grpSpPr>
        <p:sp>
          <p:nvSpPr>
            <p:cNvPr id="502" name=""/>
            <p:cNvSpPr/>
            <p:nvPr/>
          </p:nvSpPr>
          <p:spPr>
            <a:xfrm>
              <a:off x="4738680" y="3314880"/>
              <a:ext cx="2057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ratio of pressur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97440" y="3417840"/>
              <a:ext cx="152640" cy="91404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37800 h 914040"/>
                <a:gd name="textAreaBottom" fmla="*/ 87624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6484320" y="3417840"/>
              <a:ext cx="152280" cy="914040"/>
            </a:xfrm>
            <a:custGeom>
              <a:avLst/>
              <a:gdLst>
                <a:gd name="textAreaLeft" fmla="*/ 44280 w 152280"/>
                <a:gd name="textAreaRight" fmla="*/ 152280 w 152280"/>
                <a:gd name="textAreaTop" fmla="*/ 37800 h 914040"/>
                <a:gd name="textAreaBottom" fmla="*/ 87624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6748560" y="3365640"/>
            <a:ext cx="2286000" cy="1007640"/>
            <a:chOff x="6748560" y="3365640"/>
            <a:chExt cx="2286000" cy="1007640"/>
          </a:xfrm>
        </p:grpSpPr>
        <p:sp>
          <p:nvSpPr>
            <p:cNvPr id="506" name=""/>
            <p:cNvSpPr/>
            <p:nvPr/>
          </p:nvSpPr>
          <p:spPr>
            <a:xfrm>
              <a:off x="6748560" y="3365640"/>
              <a:ext cx="2286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ratio of temperature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755040" y="3411360"/>
              <a:ext cx="152280" cy="91404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37800 h 914040"/>
                <a:gd name="textAreaBottom" fmla="*/ 87624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8853480" y="3411360"/>
              <a:ext cx="152640" cy="914040"/>
            </a:xfrm>
            <a:custGeom>
              <a:avLst/>
              <a:gdLst>
                <a:gd name="textAreaLeft" fmla="*/ 45000 w 152640"/>
                <a:gd name="textAreaRight" fmla="*/ 153360 w 152640"/>
                <a:gd name="textAreaTop" fmla="*/ 37800 h 914040"/>
                <a:gd name="textAreaBottom" fmla="*/ 87624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2424240" y="3602160"/>
            <a:ext cx="2361960" cy="560160"/>
            <a:chOff x="2424240" y="3602160"/>
            <a:chExt cx="2361960" cy="560160"/>
          </a:xfrm>
        </p:grpSpPr>
        <p:sp>
          <p:nvSpPr>
            <p:cNvPr id="510" name=""/>
            <p:cNvSpPr/>
            <p:nvPr/>
          </p:nvSpPr>
          <p:spPr>
            <a:xfrm>
              <a:off x="2439720" y="3705120"/>
              <a:ext cx="75960" cy="4572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4642560" y="3705120"/>
              <a:ext cx="75960" cy="457200"/>
            </a:xfrm>
            <a:custGeom>
              <a:avLst/>
              <a:gdLst>
                <a:gd name="textAreaLeft" fmla="*/ 21960 w 75960"/>
                <a:gd name="textAreaRight" fmla="*/ 75960 w 75960"/>
                <a:gd name="textAreaTop" fmla="*/ 18720 h 457200"/>
                <a:gd name="textAreaBottom" fmla="*/ 4384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24240" y="3602160"/>
              <a:ext cx="2361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initial volume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 flipH="1">
            <a:off x="3961800" y="1704960"/>
            <a:ext cx="3555720" cy="1298520"/>
          </a:xfrm>
          <a:prstGeom prst="wedgeRoundRectCallout">
            <a:avLst>
              <a:gd name="adj1" fmla="val -49495"/>
              <a:gd name="adj2" fmla="val 75666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imes New Roman"/>
              </a:rPr>
              <a:t>increases or decreases volu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2F4-CCB7-40EC-96C7-7331A83880F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0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ample of hydrogen occupies 465 ml at STP.  If the pressure is increased to 950 torr and the temperature is decreased to –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what would be the new volu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195720" y="3244320"/>
            <a:ext cx="27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+ 273 =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90920" y="40068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+ 273   = 273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76440" y="48445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1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+ 273 = 258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20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60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. Organize the given information, putting temperature in Kelvi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260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260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260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1A94-2733-4D14-8FE2-496C0F90B04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685800" y="20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60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. Organize the given information, putting temperature in Kelvi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260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260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260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62080" y="3377520"/>
            <a:ext cx="681984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760 tor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950 tor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465 m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273 K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258 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ample of hydrogen occupies 465 ml at STP.  If the pressure is increased to 950 torr and the temperature is decreased to –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what would be the new volu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2699-A81B-4810-B659-C7E459C1CC4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hod A  Conversion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.  Set up ratios of T and 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380880" y="4865760"/>
          <a:ext cx="3087720" cy="100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865760"/>
                    <a:ext cx="308772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380880" y="3570120"/>
          <a:ext cx="2799000" cy="100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570120"/>
                    <a:ext cx="279900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ample of hydrogen occupies 465 ml at STP.  If the pressure is increased to 950 torr and the temperature is decreased to –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what would be the new volu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3286080" y="3832200"/>
          <a:ext cx="4867200" cy="4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6080" y="3832200"/>
                    <a:ext cx="48672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3505320" y="5129280"/>
          <a:ext cx="4663800" cy="47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5129280"/>
                    <a:ext cx="466380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8ED-4106-448C-A798-7F4F818BFA8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"/>
          <p:cNvGrpSpPr/>
          <p:nvPr/>
        </p:nvGrpSpPr>
        <p:grpSpPr>
          <a:xfrm>
            <a:off x="2666880" y="4543560"/>
            <a:ext cx="3998880" cy="2162160"/>
            <a:chOff x="2666880" y="4543560"/>
            <a:chExt cx="3998880" cy="2162160"/>
          </a:xfrm>
        </p:grpSpPr>
        <p:sp>
          <p:nvSpPr>
            <p:cNvPr id="533" name=""/>
            <p:cNvSpPr/>
            <p:nvPr/>
          </p:nvSpPr>
          <p:spPr>
            <a:xfrm>
              <a:off x="3124080" y="4952880"/>
              <a:ext cx="2313000" cy="124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257800" y="6105600"/>
              <a:ext cx="1407960" cy="60012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66880" y="4543560"/>
              <a:ext cx="1219320" cy="56196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948040" y="2971800"/>
            <a:ext cx="4367160" cy="3747960"/>
            <a:chOff x="2948040" y="2971800"/>
            <a:chExt cx="4367160" cy="3747960"/>
          </a:xfrm>
        </p:grpSpPr>
        <p:sp>
          <p:nvSpPr>
            <p:cNvPr id="537" name=""/>
            <p:cNvSpPr/>
            <p:nvPr/>
          </p:nvSpPr>
          <p:spPr>
            <a:xfrm>
              <a:off x="2948040" y="6146640"/>
              <a:ext cx="1901880" cy="573120"/>
            </a:xfrm>
            <a:prstGeom prst="ellipse">
              <a:avLst/>
            </a:prstGeom>
            <a:solidFill>
              <a:srgbClr val="99cc00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990600" y="3505320"/>
              <a:ext cx="2638440" cy="27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02480" y="2971800"/>
              <a:ext cx="1512720" cy="625320"/>
            </a:xfrm>
            <a:prstGeom prst="ellipse">
              <a:avLst/>
            </a:prstGeom>
            <a:solidFill>
              <a:srgbClr val="99cc00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5268960" y="4543560"/>
            <a:ext cx="1839960" cy="1476360"/>
            <a:chOff x="5268960" y="4543560"/>
            <a:chExt cx="1839960" cy="1476360"/>
          </a:xfrm>
        </p:grpSpPr>
        <p:sp>
          <p:nvSpPr>
            <p:cNvPr id="541" name=""/>
            <p:cNvSpPr/>
            <p:nvPr/>
          </p:nvSpPr>
          <p:spPr>
            <a:xfrm>
              <a:off x="5268960" y="5419800"/>
              <a:ext cx="1407960" cy="60012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6063840" y="5029200"/>
              <a:ext cx="412920" cy="401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67280" y="4543560"/>
              <a:ext cx="1241640" cy="561960"/>
            </a:xfrm>
            <a:prstGeom prst="ellipse">
              <a:avLst/>
            </a:prstGeom>
            <a:solidFill>
              <a:srgbClr val="cc99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.  Multiply the original volumes by the rati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6737400" y="5837400"/>
          <a:ext cx="2178000" cy="44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7400" y="5837400"/>
                    <a:ext cx="2178000" cy="44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ample of hydrogen occupies 465 ml at STP.  If the pressure is increased to 950 torr and the temperature is decreased to –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what would be the new volu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620800" y="2922480"/>
            <a:ext cx="2229120" cy="3098880"/>
            <a:chOff x="2620800" y="2922480"/>
            <a:chExt cx="2229120" cy="3098880"/>
          </a:xfrm>
        </p:grpSpPr>
        <p:sp>
          <p:nvSpPr>
            <p:cNvPr id="549" name=""/>
            <p:cNvSpPr/>
            <p:nvPr/>
          </p:nvSpPr>
          <p:spPr>
            <a:xfrm>
              <a:off x="2948040" y="5448240"/>
              <a:ext cx="1901880" cy="573120"/>
            </a:xfrm>
            <a:prstGeom prst="ellipse">
              <a:avLst/>
            </a:prstGeom>
            <a:solidFill>
              <a:srgbClr val="66ff66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429000" y="3505320"/>
              <a:ext cx="455760" cy="207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20800" y="2922480"/>
              <a:ext cx="1494000" cy="714600"/>
            </a:xfrm>
            <a:prstGeom prst="ellipse">
              <a:avLst/>
            </a:prstGeom>
            <a:solidFill>
              <a:srgbClr val="66ff66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2" name=""/>
          <p:cNvGraphicFramePr/>
          <p:nvPr/>
        </p:nvGraphicFramePr>
        <p:xfrm>
          <a:off x="0" y="5746680"/>
          <a:ext cx="288288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746680"/>
                    <a:ext cx="28828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2819520" y="5438880"/>
          <a:ext cx="2217600" cy="126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5438880"/>
                    <a:ext cx="221760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5105520" y="5424480"/>
          <a:ext cx="1733400" cy="126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5520" y="5424480"/>
                    <a:ext cx="173340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"/>
          <p:cNvSpPr/>
          <p:nvPr/>
        </p:nvSpPr>
        <p:spPr>
          <a:xfrm>
            <a:off x="1162080" y="2864880"/>
            <a:ext cx="681984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4d4d4d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= 760 torr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4d4d4d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= 950 to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4d4d4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 = 465 mL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4d4d4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4d4d4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 = 273 K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4d4d4d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 = 258 K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962520" y="5621400"/>
            <a:ext cx="2547720" cy="1008000"/>
            <a:chOff x="3962520" y="5621400"/>
            <a:chExt cx="2547720" cy="1008000"/>
          </a:xfrm>
        </p:grpSpPr>
        <p:sp>
          <p:nvSpPr>
            <p:cNvPr id="560" name=""/>
            <p:cNvSpPr/>
            <p:nvPr/>
          </p:nvSpPr>
          <p:spPr>
            <a:xfrm>
              <a:off x="3962520" y="5621400"/>
              <a:ext cx="76176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62520" y="6324480"/>
              <a:ext cx="76176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45200" y="5649840"/>
              <a:ext cx="357120" cy="14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53120" y="6338880"/>
              <a:ext cx="357120" cy="141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37BA-2A90-42CA-A670-2E1D6320307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1219320" y="3886200"/>
          <a:ext cx="2438280" cy="14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86200"/>
                    <a:ext cx="243828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hod B  Algebraic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3627360" y="3886200"/>
          <a:ext cx="906480" cy="14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27360" y="3886200"/>
                    <a:ext cx="90648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228600" y="3886200"/>
          <a:ext cx="949320" cy="140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886200"/>
                    <a:ext cx="94932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1" name=""/>
          <p:cNvGrpSpPr/>
          <p:nvPr/>
        </p:nvGrpSpPr>
        <p:grpSpPr>
          <a:xfrm>
            <a:off x="2679840" y="3992400"/>
            <a:ext cx="1826640" cy="1220760"/>
            <a:chOff x="2679840" y="3992400"/>
            <a:chExt cx="1826640" cy="1220760"/>
          </a:xfrm>
        </p:grpSpPr>
        <p:grpSp>
          <p:nvGrpSpPr>
            <p:cNvPr id="572" name=""/>
            <p:cNvGrpSpPr/>
            <p:nvPr/>
          </p:nvGrpSpPr>
          <p:grpSpPr>
            <a:xfrm>
              <a:off x="2679840" y="3992400"/>
              <a:ext cx="1826640" cy="1220760"/>
              <a:chOff x="2679840" y="3992400"/>
              <a:chExt cx="1826640" cy="1220760"/>
            </a:xfrm>
          </p:grpSpPr>
          <p:sp>
            <p:nvSpPr>
              <p:cNvPr id="573" name=""/>
              <p:cNvSpPr/>
              <p:nvPr/>
            </p:nvSpPr>
            <p:spPr>
              <a:xfrm>
                <a:off x="4022640" y="4727520"/>
                <a:ext cx="483840" cy="484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679840" y="3992400"/>
                <a:ext cx="483840" cy="484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846160" y="4728960"/>
                <a:ext cx="483840" cy="4842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3982680" y="3992400"/>
              <a:ext cx="483840" cy="484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ample of hydrogen occupies 465 ml at STP.  If the pressure is increased to 950 torr and the temperature is decreased to –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what would be the new volu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9960" y="2533680"/>
            <a:ext cx="7788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2590920"/>
            <a:ext cx="80010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.  Write and solve the equation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unknown 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089680" y="3962520"/>
            <a:ext cx="3367800" cy="1403280"/>
            <a:chOff x="5089680" y="3962520"/>
            <a:chExt cx="3367800" cy="1403280"/>
          </a:xfrm>
        </p:grpSpPr>
        <p:graphicFrame>
          <p:nvGraphicFramePr>
            <p:cNvPr id="581" name=""/>
            <p:cNvGraphicFramePr/>
            <p:nvPr/>
          </p:nvGraphicFramePr>
          <p:xfrm>
            <a:off x="5089680" y="3964320"/>
            <a:ext cx="949320" cy="1401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89680" y="3964320"/>
                      <a:ext cx="949320" cy="140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83" name=""/>
            <p:cNvGrpSpPr/>
            <p:nvPr/>
          </p:nvGrpSpPr>
          <p:grpSpPr>
            <a:xfrm>
              <a:off x="6080040" y="3962520"/>
              <a:ext cx="2377440" cy="1403280"/>
              <a:chOff x="6080040" y="3962520"/>
              <a:chExt cx="2377440" cy="1403280"/>
            </a:xfrm>
          </p:grpSpPr>
          <p:graphicFrame>
            <p:nvGraphicFramePr>
              <p:cNvPr id="584" name=""/>
              <p:cNvGraphicFramePr/>
              <p:nvPr/>
            </p:nvGraphicFramePr>
            <p:xfrm>
              <a:off x="6080040" y="3964320"/>
              <a:ext cx="1358640" cy="14014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85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080040" y="3964320"/>
                        <a:ext cx="1358640" cy="1401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86" name=""/>
              <p:cNvGraphicFramePr/>
              <p:nvPr/>
            </p:nvGraphicFramePr>
            <p:xfrm>
              <a:off x="7961040" y="3962520"/>
              <a:ext cx="496440" cy="6685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587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7961040" y="3962520"/>
                        <a:ext cx="496440" cy="66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588" name=""/>
          <p:cNvGraphicFramePr/>
          <p:nvPr/>
        </p:nvGraphicFramePr>
        <p:xfrm>
          <a:off x="3371760" y="5381640"/>
          <a:ext cx="2398680" cy="1400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71760" y="5381640"/>
                    <a:ext cx="23986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45E5-63A1-4E58-AFA2-063806D57D6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  Put the given information into the equation and calcul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3371760" y="3429000"/>
          <a:ext cx="239868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1760" y="3429000"/>
                    <a:ext cx="23986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166680" y="5181480"/>
          <a:ext cx="8825040" cy="12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5181480"/>
                    <a:ext cx="8825040" cy="12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ample of hydrogen occupies 465 ml at STP.  If the pressure is increased to 950 torr and the temperature is decreased to –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what would be the new volu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3352680" y="5334120"/>
            <a:ext cx="3276720" cy="993600"/>
            <a:chOff x="3352680" y="5334120"/>
            <a:chExt cx="3276720" cy="993600"/>
          </a:xfrm>
        </p:grpSpPr>
        <p:sp>
          <p:nvSpPr>
            <p:cNvPr id="597" name=""/>
            <p:cNvSpPr/>
            <p:nvPr/>
          </p:nvSpPr>
          <p:spPr>
            <a:xfrm>
              <a:off x="4191120" y="5334120"/>
              <a:ext cx="76176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172200" y="5384880"/>
              <a:ext cx="45720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213520" y="6073920"/>
              <a:ext cx="457200" cy="152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52680" y="6022800"/>
              <a:ext cx="762120" cy="304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9A70-A78D-48AF-8EA4-A401B55C154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9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Dalton’s Law of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Partial Pressur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BF68-A272-42DA-A193-C29DA00E5E15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ach gas in a mixture exerts a pressure that is independent of the other gases pres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B787-EA6C-4F4C-B9D2-78892595CFD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verage kinetic energy for particles is the same for all gases at the same temperature, and its value is directly proportional to the Kelvin tempera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713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inciple Assumptions of the  KM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10D-9CE3-489D-B997-B2DDBBFF72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685800" y="1828800"/>
            <a:ext cx="7924680" cy="155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tal pressure of a mixture of gases is the sum of the partial pressures exerted by each of the gases in the mix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85800" y="3352680"/>
            <a:ext cx="7924680" cy="64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lton’s Law of Partial Pres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7268-B547-41D1-AE13-C5349240E767}" type="slidenum">
              <a:t>70</a:t>
            </a:fld>
          </a:p>
        </p:txBody>
      </p:sp>
    </p:spTree>
  </p:cSld>
  <p:transition spd="slow"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ntainer contains He at a pressure of 0.50 atm, Ne at a pressure of 0.60 atm, and Ar at a pressure of 1.30 atm.  What is the total pressure in the contain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0" y="30477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tota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tota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0.5 atm + 0.6 atm + 1.30 atm = 2.40 a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796-D749-4385-AC3A-AAE2FC43123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1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ssure in the collection container is equal to the atmospheric press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essure of the gas collected plus the pressure of water vapor at the collection temperature is equal to the atmospheric press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2039760" y="5594400"/>
          <a:ext cx="506448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9760" y="5594400"/>
                    <a:ext cx="50644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ng a Gas Sample Over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81080" y="3567240"/>
            <a:ext cx="54864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4876920" y="628668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100920" y="6296040"/>
            <a:ext cx="1066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2041560" y="4114440"/>
            <a:ext cx="4816440" cy="4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1076400" y="5219280"/>
            <a:ext cx="3914640" cy="468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3517920" y="6291360"/>
            <a:ext cx="836640" cy="324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36D5-E4F6-4964-B0EA-F40A31D6310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10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85720" y="5105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xygen collected over w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404120" cy="41101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B02-680F-4F3B-A975-E056A9E8B9E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ample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 collected  in a bottle over water at a temperature of 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when the atmospheric pressure was 760 torr. What is the partial pressure of the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  The vapor pressure of water at 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is 23.8 torr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2282760" y="3581280"/>
          <a:ext cx="457668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3581280"/>
                    <a:ext cx="45766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1579680" y="2286000"/>
          <a:ext cx="339228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9680" y="2286000"/>
                    <a:ext cx="33922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4846680" y="2290680"/>
          <a:ext cx="2717640" cy="88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46680" y="2290680"/>
                    <a:ext cx="2717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495360" y="4908600"/>
          <a:ext cx="5646600" cy="88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360" y="4908600"/>
                    <a:ext cx="56466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6232680" y="5016600"/>
          <a:ext cx="2415960" cy="511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32680" y="5016600"/>
                    <a:ext cx="241596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C5F6-F668-44CF-8E00-ED9265368F5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Gay Lussac’s Law of Combining Volum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304920" y="3657600"/>
            <a:ext cx="2209680" cy="1328400"/>
            <a:chOff x="304920" y="3657600"/>
            <a:chExt cx="2209680" cy="1328400"/>
          </a:xfrm>
        </p:grpSpPr>
        <p:sp>
          <p:nvSpPr>
            <p:cNvPr id="635" name=""/>
            <p:cNvSpPr/>
            <p:nvPr/>
          </p:nvSpPr>
          <p:spPr>
            <a:xfrm>
              <a:off x="1028880" y="3657600"/>
              <a:ext cx="7617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4920" y="434340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 volum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514600" y="3657600"/>
            <a:ext cx="457200" cy="1404720"/>
            <a:chOff x="2514600" y="3657600"/>
            <a:chExt cx="457200" cy="1404720"/>
          </a:xfrm>
        </p:grpSpPr>
        <p:sp>
          <p:nvSpPr>
            <p:cNvPr id="638" name=""/>
            <p:cNvSpPr/>
            <p:nvPr/>
          </p:nvSpPr>
          <p:spPr>
            <a:xfrm>
              <a:off x="2514600" y="36576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14600" y="4419720"/>
              <a:ext cx="45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3276720" y="3657600"/>
            <a:ext cx="2209680" cy="1358640"/>
            <a:chOff x="3276720" y="3657600"/>
            <a:chExt cx="2209680" cy="1358640"/>
          </a:xfrm>
        </p:grpSpPr>
        <p:sp>
          <p:nvSpPr>
            <p:cNvPr id="641" name=""/>
            <p:cNvSpPr/>
            <p:nvPr/>
          </p:nvSpPr>
          <p:spPr>
            <a:xfrm>
              <a:off x="3848040" y="3657600"/>
              <a:ext cx="1067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 H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76720" y="437364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3 volum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584680" y="3657600"/>
            <a:ext cx="762120" cy="1328400"/>
            <a:chOff x="5584680" y="3657600"/>
            <a:chExt cx="762120" cy="1328400"/>
          </a:xfrm>
        </p:grpSpPr>
        <p:sp>
          <p:nvSpPr>
            <p:cNvPr id="644" name=""/>
            <p:cNvSpPr/>
            <p:nvPr/>
          </p:nvSpPr>
          <p:spPr>
            <a:xfrm>
              <a:off x="5584680" y="3657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→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84680" y="43434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→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6553080" y="3657600"/>
            <a:ext cx="2361960" cy="1328400"/>
            <a:chOff x="6553080" y="3657600"/>
            <a:chExt cx="2361960" cy="1328400"/>
          </a:xfrm>
        </p:grpSpPr>
        <p:sp>
          <p:nvSpPr>
            <p:cNvPr id="647" name=""/>
            <p:cNvSpPr/>
            <p:nvPr/>
          </p:nvSpPr>
          <p:spPr>
            <a:xfrm>
              <a:off x="7016760" y="3657600"/>
              <a:ext cx="14342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 NH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553080" y="434340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 volum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49" name=""/>
          <p:cNvGraphicFramePr/>
          <p:nvPr/>
        </p:nvGraphicFramePr>
        <p:xfrm>
          <a:off x="3743280" y="5029200"/>
          <a:ext cx="159084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3280" y="5029200"/>
                    <a:ext cx="15908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3648240" y="5029200"/>
          <a:ext cx="184608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8240" y="5029200"/>
                    <a:ext cx="18460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"/>
          <p:cNvGraphicFramePr/>
          <p:nvPr/>
        </p:nvGraphicFramePr>
        <p:xfrm>
          <a:off x="3657600" y="5029200"/>
          <a:ext cx="184644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5029200"/>
                    <a:ext cx="18464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"/>
          <p:cNvSpPr/>
          <p:nvPr/>
        </p:nvSpPr>
        <p:spPr>
          <a:xfrm>
            <a:off x="571680" y="1676520"/>
            <a:ext cx="8001000" cy="173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measured at the same temperature and pressure, the ratio of the volumes of reacting gases are small whole numb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84DB-2AD2-4894-9461-F376E8BB94C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Gay Lussac’s Law of Combining Volum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1680" y="1676520"/>
            <a:ext cx="8001000" cy="173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measured at the same temperature and pressure, the ratio of the volumes of reacting gases are small whole numb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92160" y="4038480"/>
            <a:ext cx="8958240" cy="205740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9752-3847-4D45-B534-BC933D93A17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10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Avogadro’s Law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A55-F259-4524-B625-7EEAC0256173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gadro’s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09480" y="1994040"/>
            <a:ext cx="7925040" cy="1739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l volumes of different gases at the same temperature and pressure contain the same number of molecu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9FE3-20DA-4325-A47F-06146C1AE04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4" name=""/>
          <p:cNvGraphicFramePr/>
          <p:nvPr/>
        </p:nvGraphicFramePr>
        <p:xfrm>
          <a:off x="0" y="1981080"/>
          <a:ext cx="8840880" cy="28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84088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103C-8B2B-4E4E-950A-26A17CE63C71}" type="slidenum">
              <a:t>79</a:t>
            </a:fld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etic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39840" y="2252520"/>
          <a:ext cx="4864320" cy="23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9840" y="2252520"/>
                    <a:ext cx="4864320" cy="23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14AE-2881-43EC-A7BF-8DF8AED846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"/>
          <p:cNvGrpSpPr/>
          <p:nvPr/>
        </p:nvGrpSpPr>
        <p:grpSpPr>
          <a:xfrm>
            <a:off x="3124080" y="4014720"/>
            <a:ext cx="5867640" cy="2113560"/>
            <a:chOff x="3124080" y="4014720"/>
            <a:chExt cx="5867640" cy="2113560"/>
          </a:xfrm>
        </p:grpSpPr>
        <p:sp>
          <p:nvSpPr>
            <p:cNvPr id="667" name=""/>
            <p:cNvSpPr/>
            <p:nvPr/>
          </p:nvSpPr>
          <p:spPr>
            <a:xfrm flipV="1">
              <a:off x="5481720" y="4014720"/>
              <a:ext cx="1204920" cy="139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124080" y="5181120"/>
              <a:ext cx="5867640" cy="9471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here are 2 molecules of hydrogen chlorid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457200" y="267984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volume    1 volume           2 volu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0880" y="3473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olecule 1 molecule         2 molec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57200" y="42354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ol          1 mol                   2 m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19040" y="1905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drogen + chlorine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hydrogen chlor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124080" y="5248080"/>
            <a:ext cx="5867640" cy="1373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molecule of hydrogen chloride contains at least 1 atom of hydrogen and 1 atom of chlor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1D2-B013-4751-B6B2-3C5FA678B98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"/>
          <p:cNvGrpSpPr/>
          <p:nvPr/>
        </p:nvGrpSpPr>
        <p:grpSpPr>
          <a:xfrm>
            <a:off x="380880" y="1905120"/>
            <a:ext cx="8382240" cy="3048840"/>
            <a:chOff x="380880" y="1905120"/>
            <a:chExt cx="8382240" cy="3048840"/>
          </a:xfrm>
        </p:grpSpPr>
        <p:sp>
          <p:nvSpPr>
            <p:cNvPr id="675" name=""/>
            <p:cNvSpPr/>
            <p:nvPr/>
          </p:nvSpPr>
          <p:spPr>
            <a:xfrm>
              <a:off x="457200" y="2679480"/>
              <a:ext cx="830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 volume    1 volume           2 volum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0880" y="3473280"/>
              <a:ext cx="800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 molecule 1 molecule         2 molecul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7200" y="4311360"/>
              <a:ext cx="762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 mol          1 mol                   2 mo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19040" y="1905120"/>
              <a:ext cx="830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hydrogen + chlorine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→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hydrogen chlorid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228600" y="3962160"/>
            <a:ext cx="5867280" cy="2440440"/>
            <a:chOff x="228600" y="3962160"/>
            <a:chExt cx="5867280" cy="2440440"/>
          </a:xfrm>
        </p:grpSpPr>
        <p:sp>
          <p:nvSpPr>
            <p:cNvPr id="680" name=""/>
            <p:cNvSpPr/>
            <p:nvPr/>
          </p:nvSpPr>
          <p:spPr>
            <a:xfrm>
              <a:off x="228600" y="5028840"/>
              <a:ext cx="5867280" cy="1373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ach molecule of hydrogen and each molecule of chlorine must contain at least 2 atom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" name=""/>
            <p:cNvGrpSpPr/>
            <p:nvPr/>
          </p:nvGrpSpPr>
          <p:grpSpPr>
            <a:xfrm>
              <a:off x="1905120" y="3962160"/>
              <a:ext cx="1828800" cy="1076040"/>
              <a:chOff x="1905120" y="3962160"/>
              <a:chExt cx="1828800" cy="1076040"/>
            </a:xfrm>
          </p:grpSpPr>
          <p:sp>
            <p:nvSpPr>
              <p:cNvPr id="682" name=""/>
              <p:cNvSpPr/>
              <p:nvPr/>
            </p:nvSpPr>
            <p:spPr>
              <a:xfrm flipH="1" flipV="1">
                <a:off x="1905120" y="3962160"/>
                <a:ext cx="91440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2819520" y="3971520"/>
                <a:ext cx="914400" cy="106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4" name=""/>
          <p:cNvSpPr/>
          <p:nvPr/>
        </p:nvSpPr>
        <p:spPr>
          <a:xfrm>
            <a:off x="419040" y="1143000"/>
            <a:ext cx="8305920" cy="718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2 H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5B47-F5F6-4357-A5BD-2A7510DE6FE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0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11</a:t>
            </a:r>
            <a:br>
              <a:rPr sz="4400"/>
            </a:br>
            <a:r>
              <a:rPr b="1" lang="en-US" sz="6300" spc="-1" strike="noStrike" u="sng">
                <a:solidFill>
                  <a:srgbClr val="cc3399"/>
                </a:solidFill>
                <a:uFillTx/>
                <a:latin typeface="Times New Roman"/>
              </a:rPr>
              <a:t>Mole-Mass-Volume Relationships of Gases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5D56-D010-4AB8-8143-6AED44AEDE57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lume of one mole of any gas at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STP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= 22.4 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3181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2.4 L at STP is known as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lar volum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any g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6B9B-65AD-487F-AF14-06E8E7299FAC}" type="slidenum">
              <a:t>83</a:t>
            </a:fld>
          </a:p>
        </p:txBody>
      </p:sp>
    </p:spTree>
  </p:cSld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407880" y="392040"/>
            <a:ext cx="8328240" cy="607392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2535-3776-4A22-AE79-51E4A4C8C38F}" type="slidenum">
              <a:t>84</a:t>
            </a:fld>
          </a:p>
        </p:txBody>
      </p:sp>
    </p:spTree>
  </p:cSld>
  <p:transition spd="slow"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nsity of neon at STP is 0.900 g/L.  What is the molar mass of ne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530680" y="2944800"/>
          <a:ext cx="2881440" cy="14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0680" y="2944800"/>
                    <a:ext cx="288144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730080" y="2895480"/>
          <a:ext cx="2586240" cy="15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080" y="2895480"/>
                    <a:ext cx="258624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3321000" y="2897280"/>
          <a:ext cx="2338560" cy="155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21000" y="2897280"/>
                    <a:ext cx="233856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8" name=""/>
          <p:cNvGrpSpPr/>
          <p:nvPr/>
        </p:nvGrpSpPr>
        <p:grpSpPr>
          <a:xfrm>
            <a:off x="1974960" y="3060720"/>
            <a:ext cx="3308400" cy="1276200"/>
            <a:chOff x="1974960" y="3060720"/>
            <a:chExt cx="3308400" cy="1276200"/>
          </a:xfrm>
        </p:grpSpPr>
        <p:sp>
          <p:nvSpPr>
            <p:cNvPr id="699" name=""/>
            <p:cNvSpPr/>
            <p:nvPr/>
          </p:nvSpPr>
          <p:spPr>
            <a:xfrm>
              <a:off x="1974960" y="3879720"/>
              <a:ext cx="45720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26160" y="3060720"/>
              <a:ext cx="45720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5CC1-75AC-419F-85EB-495F42B6700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12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Density of Gas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38C-0105-4887-B756-E72A54A8C60F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3" name=""/>
          <p:cNvGraphicFramePr/>
          <p:nvPr/>
        </p:nvGraphicFramePr>
        <p:xfrm>
          <a:off x="284040" y="2031840"/>
          <a:ext cx="8574120" cy="279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2031840"/>
                    <a:ext cx="8574120" cy="27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4E7B-0774-4324-827C-2FE8F7CE0702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sity of G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1058760" y="2587680"/>
          <a:ext cx="3978360" cy="35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2587680"/>
                    <a:ext cx="397836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"/>
          <p:cNvSpPr/>
          <p:nvPr/>
        </p:nvSpPr>
        <p:spPr>
          <a:xfrm>
            <a:off x="4952880" y="3352680"/>
            <a:ext cx="3427560" cy="1901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952880" y="990720"/>
            <a:ext cx="3427560" cy="1901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BFE-EDCF-4817-88F9-595666730F8F}" type="slidenum">
              <a:t>88</a:t>
            </a:fld>
          </a:p>
        </p:txBody>
      </p:sp>
    </p:spTree>
  </p:cSld>
  <p:transition spd="slow">
    <p:blinds dir="vert"/>
  </p:transition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sity of G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1058760" y="2587680"/>
          <a:ext cx="3978360" cy="35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2587680"/>
                    <a:ext cx="397836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>
            <a:off x="4952880" y="3352680"/>
            <a:ext cx="3427560" cy="19018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s on T and 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98B-7F98-46D3-A5C3-4DD6C40B1FB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 gases have the same average kinetic energy at the same tempera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 a result, lighter molecules move faster than heavier molecu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62120" y="4267080"/>
            <a:ext cx="2209680" cy="1163520"/>
            <a:chOff x="762120" y="4267080"/>
            <a:chExt cx="2209680" cy="1163520"/>
          </a:xfrm>
        </p:grpSpPr>
        <p:grpSp>
          <p:nvGrpSpPr>
            <p:cNvPr id="76" name=""/>
            <p:cNvGrpSpPr/>
            <p:nvPr/>
          </p:nvGrpSpPr>
          <p:grpSpPr>
            <a:xfrm>
              <a:off x="762120" y="4267080"/>
              <a:ext cx="1162080" cy="1163520"/>
              <a:chOff x="762120" y="4267080"/>
              <a:chExt cx="1162080" cy="1163520"/>
            </a:xfrm>
          </p:grpSpPr>
          <p:sp>
            <p:nvSpPr>
              <p:cNvPr id="77" name=""/>
              <p:cNvSpPr/>
              <p:nvPr/>
            </p:nvSpPr>
            <p:spPr>
              <a:xfrm>
                <a:off x="762120" y="4267080"/>
                <a:ext cx="1143000" cy="10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5400" spc="-1" strike="noStrike" baseline="-25000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19280" y="4910040"/>
                <a:ext cx="30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1828800" y="43909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= 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824440" y="4267080"/>
            <a:ext cx="2557440" cy="1101600"/>
            <a:chOff x="5824440" y="4267080"/>
            <a:chExt cx="2557440" cy="1101600"/>
          </a:xfrm>
        </p:grpSpPr>
        <p:grpSp>
          <p:nvGrpSpPr>
            <p:cNvPr id="81" name=""/>
            <p:cNvGrpSpPr/>
            <p:nvPr/>
          </p:nvGrpSpPr>
          <p:grpSpPr>
            <a:xfrm>
              <a:off x="5824440" y="4267080"/>
              <a:ext cx="1371600" cy="1101600"/>
              <a:chOff x="5824440" y="4267080"/>
              <a:chExt cx="1371600" cy="1101600"/>
            </a:xfrm>
          </p:grpSpPr>
          <p:sp>
            <p:nvSpPr>
              <p:cNvPr id="82" name=""/>
              <p:cNvSpPr/>
              <p:nvPr/>
            </p:nvSpPr>
            <p:spPr>
              <a:xfrm>
                <a:off x="5824440" y="4267080"/>
                <a:ext cx="1371600" cy="10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5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681960" y="4848120"/>
                <a:ext cx="318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6815160" y="4305240"/>
              <a:ext cx="156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= 3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522600" y="4753080"/>
            <a:ext cx="2097000" cy="1944360"/>
            <a:chOff x="3522600" y="4753080"/>
            <a:chExt cx="2097000" cy="1944360"/>
          </a:xfrm>
        </p:grpSpPr>
        <p:grpSp>
          <p:nvGrpSpPr>
            <p:cNvPr id="86" name=""/>
            <p:cNvGrpSpPr/>
            <p:nvPr/>
          </p:nvGrpSpPr>
          <p:grpSpPr>
            <a:xfrm>
              <a:off x="3522600" y="4753080"/>
              <a:ext cx="990000" cy="1944360"/>
              <a:chOff x="3522600" y="4753080"/>
              <a:chExt cx="990000" cy="194436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536640" y="4753080"/>
                <a:ext cx="959760" cy="1163520"/>
                <a:chOff x="3536640" y="4753080"/>
                <a:chExt cx="959760" cy="11635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536640" y="4753080"/>
                  <a:ext cx="914040" cy="103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lang="en-US" sz="5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191840" y="5396040"/>
                  <a:ext cx="304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3522600" y="5572080"/>
                <a:ext cx="990000" cy="1125360"/>
                <a:chOff x="3522600" y="5572080"/>
                <a:chExt cx="990000" cy="11253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3522600" y="5572080"/>
                  <a:ext cx="914040" cy="103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33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lang="en-US" sz="5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208040" y="6176880"/>
                  <a:ext cx="304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 flipH="1">
                <a:off x="3598200" y="5848200"/>
                <a:ext cx="914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4551120" y="5267160"/>
              <a:ext cx="380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092560" y="4871880"/>
              <a:ext cx="527040" cy="1707480"/>
              <a:chOff x="5092560" y="4871880"/>
              <a:chExt cx="527040" cy="1707480"/>
            </a:xfrm>
          </p:grpSpPr>
          <p:sp>
            <p:nvSpPr>
              <p:cNvPr id="96" name=""/>
              <p:cNvSpPr/>
              <p:nvPr/>
            </p:nvSpPr>
            <p:spPr>
              <a:xfrm>
                <a:off x="5151240" y="5662440"/>
                <a:ext cx="380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092560" y="4871880"/>
                <a:ext cx="380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5122800" y="5710320"/>
                <a:ext cx="496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inetic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3A39-212E-4489-BDD6-6AD3F68801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4" name=""/>
          <p:cNvGraphicFramePr/>
          <p:nvPr/>
        </p:nvGraphicFramePr>
        <p:xfrm>
          <a:off x="762120" y="3962520"/>
          <a:ext cx="3076560" cy="13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62520"/>
                    <a:ext cx="307656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3838680" y="3962520"/>
          <a:ext cx="1989000" cy="13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38680" y="3962520"/>
                    <a:ext cx="198900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5805360" y="4003560"/>
          <a:ext cx="1967040" cy="123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05360" y="4003560"/>
                    <a:ext cx="196704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lar mass of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64.07 g/mol. Determine the density of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ST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317680" y="4135320"/>
            <a:ext cx="3121200" cy="1033560"/>
            <a:chOff x="2317680" y="4135320"/>
            <a:chExt cx="3121200" cy="1033560"/>
          </a:xfrm>
        </p:grpSpPr>
        <p:sp>
          <p:nvSpPr>
            <p:cNvPr id="722" name=""/>
            <p:cNvSpPr/>
            <p:nvPr/>
          </p:nvSpPr>
          <p:spPr>
            <a:xfrm>
              <a:off x="2317680" y="4849920"/>
              <a:ext cx="874800" cy="318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64080" y="4135320"/>
              <a:ext cx="874800" cy="319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5181480" y="1981080"/>
            <a:ext cx="3810240" cy="2133720"/>
          </a:xfrm>
          <a:prstGeom prst="cloudCallout">
            <a:avLst>
              <a:gd name="adj1" fmla="val -43750"/>
              <a:gd name="adj2" fmla="val 7001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ole of any gas occupies 22.4 L at S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410-5641-455E-9E13-22D880B0B49B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4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2.13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Ideal Gas Law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E0FB-6D3E-49D8-8ABB-6C956AA9845D}" type="slidenum">
              <a:t>91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"/>
          <p:cNvGrpSpPr/>
          <p:nvPr/>
        </p:nvGrpSpPr>
        <p:grpSpPr>
          <a:xfrm>
            <a:off x="1219320" y="1951200"/>
            <a:ext cx="6629400" cy="3382920"/>
            <a:chOff x="1219320" y="1951200"/>
            <a:chExt cx="6629400" cy="3382920"/>
          </a:xfrm>
        </p:grpSpPr>
        <p:sp>
          <p:nvSpPr>
            <p:cNvPr id="728" name=""/>
            <p:cNvSpPr/>
            <p:nvPr/>
          </p:nvSpPr>
          <p:spPr>
            <a:xfrm>
              <a:off x="2404440" y="2575080"/>
              <a:ext cx="251064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imes New Roman"/>
                </a:rPr>
                <a:t>V </a:t>
              </a:r>
              <a:r>
                <a:rPr b="0" lang="en-US" sz="10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434560" y="3198960"/>
              <a:ext cx="92916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5032440" y="1951200"/>
              <a:ext cx="1704600" cy="1708920"/>
              <a:chOff x="5032440" y="1951200"/>
              <a:chExt cx="1704600" cy="1708920"/>
            </a:xfrm>
          </p:grpSpPr>
          <p:sp>
            <p:nvSpPr>
              <p:cNvPr id="731" name=""/>
              <p:cNvSpPr/>
              <p:nvPr/>
            </p:nvSpPr>
            <p:spPr>
              <a:xfrm>
                <a:off x="5061240" y="1951200"/>
                <a:ext cx="1675800" cy="170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600" spc="-1" strike="noStrike">
                    <a:solidFill>
                      <a:srgbClr val="000000"/>
                    </a:solidFill>
                    <a:latin typeface="Times New Roman"/>
                  </a:rPr>
                  <a:t>nT</a:t>
                </a:r>
                <a:endParaRPr b="0" lang="en-US" sz="10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032440" y="3475080"/>
                <a:ext cx="154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733" name=""/>
            <p:cNvGraphicFramePr/>
            <p:nvPr/>
          </p:nvGraphicFramePr>
          <p:xfrm>
            <a:off x="1943280" y="1971720"/>
            <a:ext cx="5257800" cy="3133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43280" y="1971720"/>
                      <a:ext cx="5257800" cy="313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35" name=""/>
            <p:cNvGrpSpPr/>
            <p:nvPr/>
          </p:nvGrpSpPr>
          <p:grpSpPr>
            <a:xfrm>
              <a:off x="1219320" y="2057400"/>
              <a:ext cx="6629400" cy="3276720"/>
              <a:chOff x="1219320" y="2057400"/>
              <a:chExt cx="6629400" cy="3276720"/>
            </a:xfrm>
          </p:grpSpPr>
          <p:sp>
            <p:nvSpPr>
              <p:cNvPr id="736" name=""/>
              <p:cNvSpPr/>
              <p:nvPr/>
            </p:nvSpPr>
            <p:spPr>
              <a:xfrm>
                <a:off x="1219320" y="2057400"/>
                <a:ext cx="6629400" cy="32767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37" name=""/>
              <p:cNvGraphicFramePr/>
              <p:nvPr/>
            </p:nvGraphicFramePr>
            <p:xfrm>
              <a:off x="1730520" y="3048120"/>
              <a:ext cx="5681520" cy="1168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3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730520" y="3048120"/>
                        <a:ext cx="5681520" cy="116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21F5-AD61-4C91-8089-91F91CCAEA6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404440" y="2575080"/>
            <a:ext cx="2510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0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434560" y="3198960"/>
            <a:ext cx="929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5032440" y="1951200"/>
            <a:ext cx="1704600" cy="1708920"/>
            <a:chOff x="5032440" y="1951200"/>
            <a:chExt cx="1704600" cy="1708920"/>
          </a:xfrm>
        </p:grpSpPr>
        <p:sp>
          <p:nvSpPr>
            <p:cNvPr id="742" name=""/>
            <p:cNvSpPr/>
            <p:nvPr/>
          </p:nvSpPr>
          <p:spPr>
            <a:xfrm>
              <a:off x="5061240" y="1951200"/>
              <a:ext cx="1675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032440" y="3475080"/>
              <a:ext cx="154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44" name=""/>
          <p:cNvGraphicFramePr/>
          <p:nvPr/>
        </p:nvGraphicFramePr>
        <p:xfrm>
          <a:off x="1943280" y="1971720"/>
          <a:ext cx="5257800" cy="31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1971720"/>
                    <a:ext cx="52578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6" name=""/>
          <p:cNvGrpSpPr/>
          <p:nvPr/>
        </p:nvGrpSpPr>
        <p:grpSpPr>
          <a:xfrm>
            <a:off x="1219320" y="2057400"/>
            <a:ext cx="6629400" cy="3276720"/>
            <a:chOff x="1219320" y="2057400"/>
            <a:chExt cx="6629400" cy="3276720"/>
          </a:xfrm>
        </p:grpSpPr>
        <p:sp>
          <p:nvSpPr>
            <p:cNvPr id="747" name=""/>
            <p:cNvSpPr/>
            <p:nvPr/>
          </p:nvSpPr>
          <p:spPr>
            <a:xfrm>
              <a:off x="1219320" y="2057400"/>
              <a:ext cx="6629400" cy="32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48" name=""/>
            <p:cNvGraphicFramePr/>
            <p:nvPr/>
          </p:nvGraphicFramePr>
          <p:xfrm>
            <a:off x="1730520" y="3048120"/>
            <a:ext cx="5681520" cy="11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30520" y="3048120"/>
                      <a:ext cx="5681520" cy="11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50" name=""/>
          <p:cNvGrpSpPr/>
          <p:nvPr/>
        </p:nvGrpSpPr>
        <p:grpSpPr>
          <a:xfrm>
            <a:off x="1828800" y="379800"/>
            <a:ext cx="5486400" cy="2744280"/>
            <a:chOff x="1828800" y="379800"/>
            <a:chExt cx="5486400" cy="2744280"/>
          </a:xfrm>
        </p:grpSpPr>
        <p:sp>
          <p:nvSpPr>
            <p:cNvPr id="751" name=""/>
            <p:cNvSpPr/>
            <p:nvPr/>
          </p:nvSpPr>
          <p:spPr>
            <a:xfrm>
              <a:off x="1828800" y="37980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"/>
                </a:rPr>
                <a:t>atmospheres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2209320" y="1585800"/>
              <a:ext cx="2341800" cy="15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C3FE-5E36-4B0D-96EB-FFBFC91853A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5" dur="indefinite" restart="never" nodeType="tmRoot">
          <p:childTnLst>
            <p:seq>
              <p:cTn id="1556" dur="indefinite" nodeType="mainSeq">
                <p:childTnLst>
                  <p:par>
                    <p:cTn id="1557" fill="hold">
                      <p:stCondLst>
                        <p:cond delay="0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2404440" y="2575080"/>
            <a:ext cx="2510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0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34560" y="3198960"/>
            <a:ext cx="929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032440" y="1951200"/>
            <a:ext cx="1704600" cy="1708920"/>
            <a:chOff x="5032440" y="1951200"/>
            <a:chExt cx="1704600" cy="1708920"/>
          </a:xfrm>
        </p:grpSpPr>
        <p:sp>
          <p:nvSpPr>
            <p:cNvPr id="756" name=""/>
            <p:cNvSpPr/>
            <p:nvPr/>
          </p:nvSpPr>
          <p:spPr>
            <a:xfrm>
              <a:off x="5061240" y="1951200"/>
              <a:ext cx="1675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2440" y="3475080"/>
              <a:ext cx="154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58" name=""/>
          <p:cNvGraphicFramePr/>
          <p:nvPr/>
        </p:nvGraphicFramePr>
        <p:xfrm>
          <a:off x="1943280" y="1971720"/>
          <a:ext cx="5257800" cy="31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1971720"/>
                    <a:ext cx="52578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0" name=""/>
          <p:cNvGrpSpPr/>
          <p:nvPr/>
        </p:nvGrpSpPr>
        <p:grpSpPr>
          <a:xfrm>
            <a:off x="1219320" y="2057400"/>
            <a:ext cx="6629400" cy="3276720"/>
            <a:chOff x="1219320" y="2057400"/>
            <a:chExt cx="6629400" cy="3276720"/>
          </a:xfrm>
        </p:grpSpPr>
        <p:sp>
          <p:nvSpPr>
            <p:cNvPr id="761" name=""/>
            <p:cNvSpPr/>
            <p:nvPr/>
          </p:nvSpPr>
          <p:spPr>
            <a:xfrm>
              <a:off x="1219320" y="2057400"/>
              <a:ext cx="6629400" cy="32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2" name=""/>
            <p:cNvGraphicFramePr/>
            <p:nvPr/>
          </p:nvGraphicFramePr>
          <p:xfrm>
            <a:off x="1730520" y="3048120"/>
            <a:ext cx="5681520" cy="11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30520" y="3048120"/>
                      <a:ext cx="5681520" cy="11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64" name=""/>
          <p:cNvGrpSpPr/>
          <p:nvPr/>
        </p:nvGrpSpPr>
        <p:grpSpPr>
          <a:xfrm>
            <a:off x="1828800" y="379800"/>
            <a:ext cx="5486400" cy="2744280"/>
            <a:chOff x="1828800" y="379800"/>
            <a:chExt cx="5486400" cy="2744280"/>
          </a:xfrm>
        </p:grpSpPr>
        <p:sp>
          <p:nvSpPr>
            <p:cNvPr id="765" name=""/>
            <p:cNvSpPr/>
            <p:nvPr/>
          </p:nvSpPr>
          <p:spPr>
            <a:xfrm>
              <a:off x="1828800" y="37980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"/>
                </a:rPr>
                <a:t>liters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3133800" y="1406520"/>
              <a:ext cx="1417680" cy="171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512-C94C-4CA8-8A50-31B54143F72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2404440" y="2575080"/>
            <a:ext cx="2510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0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434560" y="3198960"/>
            <a:ext cx="929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032440" y="1951200"/>
            <a:ext cx="1704600" cy="1708920"/>
            <a:chOff x="5032440" y="1951200"/>
            <a:chExt cx="1704600" cy="1708920"/>
          </a:xfrm>
        </p:grpSpPr>
        <p:sp>
          <p:nvSpPr>
            <p:cNvPr id="770" name=""/>
            <p:cNvSpPr/>
            <p:nvPr/>
          </p:nvSpPr>
          <p:spPr>
            <a:xfrm>
              <a:off x="5061240" y="1951200"/>
              <a:ext cx="1675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32440" y="3475080"/>
              <a:ext cx="154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72" name=""/>
          <p:cNvGraphicFramePr/>
          <p:nvPr/>
        </p:nvGraphicFramePr>
        <p:xfrm>
          <a:off x="1943280" y="1971720"/>
          <a:ext cx="5257800" cy="31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1971720"/>
                    <a:ext cx="52578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4" name=""/>
          <p:cNvGrpSpPr/>
          <p:nvPr/>
        </p:nvGrpSpPr>
        <p:grpSpPr>
          <a:xfrm>
            <a:off x="1219320" y="2057400"/>
            <a:ext cx="6629400" cy="3276720"/>
            <a:chOff x="1219320" y="2057400"/>
            <a:chExt cx="6629400" cy="3276720"/>
          </a:xfrm>
        </p:grpSpPr>
        <p:sp>
          <p:nvSpPr>
            <p:cNvPr id="775" name=""/>
            <p:cNvSpPr/>
            <p:nvPr/>
          </p:nvSpPr>
          <p:spPr>
            <a:xfrm>
              <a:off x="1219320" y="2057400"/>
              <a:ext cx="6629400" cy="32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76" name=""/>
            <p:cNvGraphicFramePr/>
            <p:nvPr/>
          </p:nvGraphicFramePr>
          <p:xfrm>
            <a:off x="1730520" y="3048120"/>
            <a:ext cx="5681520" cy="11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30520" y="3048120"/>
                      <a:ext cx="5681520" cy="11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78" name=""/>
          <p:cNvGrpSpPr/>
          <p:nvPr/>
        </p:nvGrpSpPr>
        <p:grpSpPr>
          <a:xfrm>
            <a:off x="1828800" y="379800"/>
            <a:ext cx="5486400" cy="3006360"/>
            <a:chOff x="1828800" y="379800"/>
            <a:chExt cx="5486400" cy="3006360"/>
          </a:xfrm>
        </p:grpSpPr>
        <p:sp>
          <p:nvSpPr>
            <p:cNvPr id="779" name=""/>
            <p:cNvSpPr/>
            <p:nvPr/>
          </p:nvSpPr>
          <p:spPr>
            <a:xfrm>
              <a:off x="1828800" y="37980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"/>
                </a:rPr>
                <a:t>moles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551480" y="1406520"/>
              <a:ext cx="684000" cy="19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124-8C81-4F6B-B569-AEECE18E478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1" dur="indefinite" restart="never" nodeType="tmRoot">
          <p:childTnLst>
            <p:seq>
              <p:cTn id="1572" dur="indefinite" nodeType="mainSeq">
                <p:childTnLst>
                  <p:par>
                    <p:cTn id="1573" fill="hold">
                      <p:stCondLst>
                        <p:cond delay="0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2404440" y="2575080"/>
            <a:ext cx="2510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0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34560" y="3198960"/>
            <a:ext cx="929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5032440" y="1951200"/>
            <a:ext cx="1704600" cy="1708920"/>
            <a:chOff x="5032440" y="1951200"/>
            <a:chExt cx="1704600" cy="1708920"/>
          </a:xfrm>
        </p:grpSpPr>
        <p:sp>
          <p:nvSpPr>
            <p:cNvPr id="784" name=""/>
            <p:cNvSpPr/>
            <p:nvPr/>
          </p:nvSpPr>
          <p:spPr>
            <a:xfrm>
              <a:off x="5061240" y="1951200"/>
              <a:ext cx="1675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032440" y="3475080"/>
              <a:ext cx="154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86" name=""/>
          <p:cNvGraphicFramePr/>
          <p:nvPr/>
        </p:nvGraphicFramePr>
        <p:xfrm>
          <a:off x="1943280" y="1971720"/>
          <a:ext cx="5257800" cy="31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1971720"/>
                    <a:ext cx="52578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8" name=""/>
          <p:cNvGrpSpPr/>
          <p:nvPr/>
        </p:nvGrpSpPr>
        <p:grpSpPr>
          <a:xfrm>
            <a:off x="1219320" y="2057400"/>
            <a:ext cx="6629400" cy="3276720"/>
            <a:chOff x="1219320" y="2057400"/>
            <a:chExt cx="6629400" cy="3276720"/>
          </a:xfrm>
        </p:grpSpPr>
        <p:sp>
          <p:nvSpPr>
            <p:cNvPr id="789" name=""/>
            <p:cNvSpPr/>
            <p:nvPr/>
          </p:nvSpPr>
          <p:spPr>
            <a:xfrm>
              <a:off x="1219320" y="2057400"/>
              <a:ext cx="6629400" cy="32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0" name=""/>
            <p:cNvGraphicFramePr/>
            <p:nvPr/>
          </p:nvGraphicFramePr>
          <p:xfrm>
            <a:off x="1730520" y="3048120"/>
            <a:ext cx="5681520" cy="11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30520" y="3048120"/>
                      <a:ext cx="5681520" cy="11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92" name=""/>
          <p:cNvGrpSpPr/>
          <p:nvPr/>
        </p:nvGrpSpPr>
        <p:grpSpPr>
          <a:xfrm>
            <a:off x="1828800" y="379800"/>
            <a:ext cx="5486400" cy="2704680"/>
            <a:chOff x="1828800" y="379800"/>
            <a:chExt cx="5486400" cy="2704680"/>
          </a:xfrm>
        </p:grpSpPr>
        <p:sp>
          <p:nvSpPr>
            <p:cNvPr id="793" name=""/>
            <p:cNvSpPr/>
            <p:nvPr/>
          </p:nvSpPr>
          <p:spPr>
            <a:xfrm>
              <a:off x="1828800" y="37980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"/>
                </a:rPr>
                <a:t>Kelvin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551480" y="1406520"/>
              <a:ext cx="2307960" cy="167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B350-42CA-4743-B4C5-7B2C4E813DB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fill="hold">
                      <p:stCondLst>
                        <p:cond delay="0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2404440" y="2575080"/>
            <a:ext cx="2510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en-US" sz="10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434560" y="3198960"/>
            <a:ext cx="929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5032440" y="1951200"/>
            <a:ext cx="1704600" cy="1708920"/>
            <a:chOff x="5032440" y="1951200"/>
            <a:chExt cx="1704600" cy="1708920"/>
          </a:xfrm>
        </p:grpSpPr>
        <p:sp>
          <p:nvSpPr>
            <p:cNvPr id="798" name=""/>
            <p:cNvSpPr/>
            <p:nvPr/>
          </p:nvSpPr>
          <p:spPr>
            <a:xfrm>
              <a:off x="5061240" y="1951200"/>
              <a:ext cx="1675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imes New Roman"/>
                </a:rPr>
                <a:t>nT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032440" y="3475080"/>
              <a:ext cx="154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00" name=""/>
          <p:cNvGraphicFramePr/>
          <p:nvPr/>
        </p:nvGraphicFramePr>
        <p:xfrm>
          <a:off x="1943280" y="1971720"/>
          <a:ext cx="5257800" cy="31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1971720"/>
                    <a:ext cx="525780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2" name=""/>
          <p:cNvGrpSpPr/>
          <p:nvPr/>
        </p:nvGrpSpPr>
        <p:grpSpPr>
          <a:xfrm>
            <a:off x="1219320" y="2057400"/>
            <a:ext cx="6629400" cy="3276720"/>
            <a:chOff x="1219320" y="2057400"/>
            <a:chExt cx="6629400" cy="3276720"/>
          </a:xfrm>
        </p:grpSpPr>
        <p:sp>
          <p:nvSpPr>
            <p:cNvPr id="803" name=""/>
            <p:cNvSpPr/>
            <p:nvPr/>
          </p:nvSpPr>
          <p:spPr>
            <a:xfrm>
              <a:off x="1219320" y="2057400"/>
              <a:ext cx="6629400" cy="3276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4" name=""/>
            <p:cNvGraphicFramePr/>
            <p:nvPr/>
          </p:nvGraphicFramePr>
          <p:xfrm>
            <a:off x="1730520" y="3048120"/>
            <a:ext cx="5681520" cy="11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30520" y="3048120"/>
                      <a:ext cx="5681520" cy="11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6" name=""/>
          <p:cNvSpPr/>
          <p:nvPr/>
        </p:nvSpPr>
        <p:spPr>
          <a:xfrm>
            <a:off x="5867280" y="1219320"/>
            <a:ext cx="2819520" cy="1752480"/>
          </a:xfrm>
          <a:prstGeom prst="wedgeEllipseCallout">
            <a:avLst>
              <a:gd name="adj1" fmla="val -45606"/>
              <a:gd name="adj2" fmla="val 5434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 Gas Con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5867280" y="1219320"/>
            <a:ext cx="2819160" cy="1752480"/>
            <a:chOff x="5867280" y="1219320"/>
            <a:chExt cx="2819160" cy="1752480"/>
          </a:xfrm>
        </p:grpSpPr>
        <p:sp>
          <p:nvSpPr>
            <p:cNvPr id="808" name=""/>
            <p:cNvSpPr/>
            <p:nvPr/>
          </p:nvSpPr>
          <p:spPr>
            <a:xfrm>
              <a:off x="5867280" y="1219320"/>
              <a:ext cx="2819160" cy="1752480"/>
            </a:xfrm>
            <a:prstGeom prst="wedgeEllipseCallout">
              <a:avLst>
                <a:gd name="adj1" fmla="val -45606"/>
                <a:gd name="adj2" fmla="val 5434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9" name=""/>
            <p:cNvGraphicFramePr/>
            <p:nvPr/>
          </p:nvGraphicFramePr>
          <p:xfrm>
            <a:off x="6400440" y="1752480"/>
            <a:ext cx="1765440" cy="748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1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00440" y="1752480"/>
                      <a:ext cx="1765440" cy="74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77BF-5EC2-48FA-B142-A283F0F1261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0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lloon filled with  5.00 moles of helium gas is at a temperature of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The atmospheric pressure is 750. torr.  What is the balloon’s volu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14320" y="1980720"/>
            <a:ext cx="7515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. Organize the given information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temperature to kelvin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124080" y="32004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+ 27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362320" y="3992400"/>
            <a:ext cx="4952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 = 2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+ 273 = 298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09680" y="47242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pressure to atmosphe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1004760" y="5692680"/>
          <a:ext cx="265752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5692680"/>
                    <a:ext cx="26575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8" name=""/>
          <p:cNvGraphicFramePr/>
          <p:nvPr/>
        </p:nvGraphicFramePr>
        <p:xfrm>
          <a:off x="3618000" y="5334120"/>
          <a:ext cx="2097000" cy="114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8000" y="5334120"/>
                    <a:ext cx="209700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0" name=""/>
          <p:cNvGraphicFramePr/>
          <p:nvPr/>
        </p:nvGraphicFramePr>
        <p:xfrm>
          <a:off x="5629320" y="5692680"/>
          <a:ext cx="252396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29320" y="5692680"/>
                    <a:ext cx="25239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2" name=""/>
          <p:cNvGrpSpPr/>
          <p:nvPr/>
        </p:nvGrpSpPr>
        <p:grpSpPr>
          <a:xfrm>
            <a:off x="2724120" y="5749920"/>
            <a:ext cx="2984400" cy="666720"/>
            <a:chOff x="2724120" y="5749920"/>
            <a:chExt cx="2984400" cy="666720"/>
          </a:xfrm>
        </p:grpSpPr>
        <p:sp>
          <p:nvSpPr>
            <p:cNvPr id="823" name=""/>
            <p:cNvSpPr/>
            <p:nvPr/>
          </p:nvSpPr>
          <p:spPr>
            <a:xfrm>
              <a:off x="2724120" y="5749920"/>
              <a:ext cx="838080" cy="304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870440" y="6111720"/>
              <a:ext cx="838080" cy="304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5DF-9B04-4402-90A2-E1D7EEA723F0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10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10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10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10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. Write and solve the ideal gas equation for the unkn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33520" y="4267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. Substitute the given data into the equation and calcul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lloon filled with  5.00 moles of helium gas is at a temperature of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The atmospheric pressure is 750. torr.  What is the balloon’s volu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5084640" y="3208320"/>
          <a:ext cx="1906560" cy="11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84640" y="3208320"/>
                    <a:ext cx="190656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0" name=""/>
          <p:cNvGraphicFramePr/>
          <p:nvPr/>
        </p:nvGraphicFramePr>
        <p:xfrm>
          <a:off x="2151000" y="3548160"/>
          <a:ext cx="20606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51000" y="3548160"/>
                    <a:ext cx="20606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2" name=""/>
          <p:cNvGraphicFramePr/>
          <p:nvPr/>
        </p:nvGraphicFramePr>
        <p:xfrm>
          <a:off x="3238560" y="5595840"/>
          <a:ext cx="1942920" cy="102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38560" y="5595840"/>
                    <a:ext cx="194292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4" name=""/>
          <p:cNvGraphicFramePr/>
          <p:nvPr/>
        </p:nvGraphicFramePr>
        <p:xfrm>
          <a:off x="71280" y="5597640"/>
          <a:ext cx="2536920" cy="94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280" y="5597640"/>
                    <a:ext cx="253692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"/>
          <p:cNvGraphicFramePr/>
          <p:nvPr/>
        </p:nvGraphicFramePr>
        <p:xfrm>
          <a:off x="2544840" y="5595840"/>
          <a:ext cx="3852720" cy="946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44840" y="5595840"/>
                    <a:ext cx="385272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"/>
          <p:cNvGraphicFramePr/>
          <p:nvPr/>
        </p:nvGraphicFramePr>
        <p:xfrm>
          <a:off x="6300720" y="5595840"/>
          <a:ext cx="1332000" cy="946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00720" y="5595840"/>
                    <a:ext cx="13320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"/>
          <p:cNvGraphicFramePr/>
          <p:nvPr/>
        </p:nvGraphicFramePr>
        <p:xfrm>
          <a:off x="7643880" y="5872320"/>
          <a:ext cx="1428840" cy="336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43880" y="5872320"/>
                    <a:ext cx="142884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2" name=""/>
          <p:cNvGrpSpPr/>
          <p:nvPr/>
        </p:nvGrpSpPr>
        <p:grpSpPr>
          <a:xfrm>
            <a:off x="1820880" y="5692680"/>
            <a:ext cx="5651640" cy="822600"/>
            <a:chOff x="1820880" y="5692680"/>
            <a:chExt cx="5651640" cy="822600"/>
          </a:xfrm>
        </p:grpSpPr>
        <p:grpSp>
          <p:nvGrpSpPr>
            <p:cNvPr id="843" name=""/>
            <p:cNvGrpSpPr/>
            <p:nvPr/>
          </p:nvGrpSpPr>
          <p:grpSpPr>
            <a:xfrm>
              <a:off x="4390920" y="5705640"/>
              <a:ext cx="615960" cy="809640"/>
              <a:chOff x="4390920" y="5705640"/>
              <a:chExt cx="615960" cy="809640"/>
            </a:xfrm>
          </p:grpSpPr>
          <p:sp>
            <p:nvSpPr>
              <p:cNvPr id="844" name=""/>
              <p:cNvSpPr/>
              <p:nvPr/>
            </p:nvSpPr>
            <p:spPr>
              <a:xfrm>
                <a:off x="4390920" y="6248520"/>
                <a:ext cx="615960" cy="2667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390920" y="5705640"/>
                <a:ext cx="615960" cy="2664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6" name=""/>
            <p:cNvSpPr/>
            <p:nvPr/>
          </p:nvSpPr>
          <p:spPr>
            <a:xfrm>
              <a:off x="5126040" y="5692680"/>
              <a:ext cx="615960" cy="266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820880" y="5692680"/>
              <a:ext cx="615960" cy="266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35600" y="5702400"/>
              <a:ext cx="401760" cy="172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70760" y="5702400"/>
              <a:ext cx="401760" cy="172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4C6F-1309-4496-B6E8-EF75E15D93A9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10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10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3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02:05:58Z</dcterms:created>
  <dc:creator>M</dc:creator>
  <dc:description/>
  <dc:language>en-US</dc:language>
  <cp:lastModifiedBy>jyee</cp:lastModifiedBy>
  <dcterms:modified xsi:type="dcterms:W3CDTF">2006-11-01T22:04:23Z</dcterms:modified>
  <cp:revision>152</cp:revision>
  <dc:subject/>
  <dc:title>Chapter 12</dc:title>
</cp:coreProperties>
</file>