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0.png" ContentType="image/png"/>
  <Override PartName="/ppt/media/image6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1.jpeg" ContentType="image/jpeg"/>
  <Override PartName="/ppt/media/image9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4D7E-7C6C-4328-9A47-3159A1185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3A7B-D64E-4615-8288-B4716E52A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5793-4D3F-4105-91EA-1F6660414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177A-15ED-42C8-8297-FFE3A30A3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6E59-A8B0-4EFA-A521-931BBF8F7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168F-EBEA-444E-BB9A-8431A9502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D1C0-C01B-4F30-856A-5474C3E2D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6A96-2786-4361-B0AB-5566013EE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3EDC-E316-4555-A975-AEEAF6C50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96E5-EEE6-4B73-A40B-F5A6FDA1A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424B-A224-4FE7-86FC-60A8A08E0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48C8-661E-49D2-AFF4-A02917C3A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407960" indent="-20088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1810440" indent="-20088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1810440" indent="-20088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1810440" indent="-20088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1347FE4D-C5E8-4CF4-A726-CFEC29C65314}" type="datetime12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1:09 PM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314DC-EE8B-48EE-999E-58F3BD7FFB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10.png"/><Relationship Id="rId5" Type="http://schemas.openxmlformats.org/officeDocument/2006/relationships/image" Target="../media/image8.png"/><Relationship Id="rId6" Type="http://schemas.openxmlformats.org/officeDocument/2006/relationships/image" Target="../media/image10.png"/><Relationship Id="rId7" Type="http://schemas.openxmlformats.org/officeDocument/2006/relationships/image" Target="../media/image11.jpeg"/><Relationship Id="rId8" Type="http://schemas.openxmlformats.org/officeDocument/2006/relationships/image" Target="../media/image8.png"/><Relationship Id="rId9" Type="http://schemas.openxmlformats.org/officeDocument/2006/relationships/image" Target="../media/image10.png"/><Relationship Id="rId10" Type="http://schemas.openxmlformats.org/officeDocument/2006/relationships/image" Target="../media/image11.jpeg"/><Relationship Id="rId1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8280" y="1143000"/>
            <a:ext cx="8001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Modern Atomic Theory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and the Periodic Tabl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hapter 10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819520" y="4952520"/>
            <a:ext cx="3657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ein and Aren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781680" y="5866560"/>
            <a:ext cx="2362320" cy="8240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ugene Passer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Chemistry Department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Bronx Community Colle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© John Wiley and Sons, In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6004080"/>
            <a:ext cx="1676520" cy="554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sion 2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95ED-2671-47B0-91E3-E51A55A89EE1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723960" y="3417840"/>
            <a:ext cx="6535800" cy="16718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5219640" y="1854360"/>
            <a:ext cx="2068560" cy="1041120"/>
          </a:xfrm>
          <a:prstGeom prst="borderCallout2">
            <a:avLst>
              <a:gd name="adj1" fmla="val 18750"/>
              <a:gd name="adj2" fmla="val -8333"/>
              <a:gd name="adj3" fmla="val 10976"/>
              <a:gd name="adj4" fmla="val -64157"/>
              <a:gd name="adj5" fmla="val 172407"/>
              <a:gd name="adj6" fmla="val -126939"/>
            </a:avLst>
          </a:prstGeom>
          <a:solidFill>
            <a:srgbClr val="ccffff"/>
          </a:solidFill>
          <a:ln w="284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veleng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measured from peak to pea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60960" y="1838160"/>
            <a:ext cx="2362320" cy="1041480"/>
          </a:xfrm>
          <a:prstGeom prst="borderCallout2">
            <a:avLst>
              <a:gd name="adj1" fmla="val 18750"/>
              <a:gd name="adj2" fmla="val -8333"/>
              <a:gd name="adj3" fmla="val 10976"/>
              <a:gd name="adj4" fmla="val -50134"/>
              <a:gd name="adj5" fmla="val 279268"/>
              <a:gd name="adj6" fmla="val -98856"/>
            </a:avLst>
          </a:prstGeom>
          <a:solidFill>
            <a:srgbClr val="ccffff"/>
          </a:solidFill>
          <a:ln w="284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veleng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measured from trough to troug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655308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380880"/>
            <a:ext cx="77724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ght has the properties of a wav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1B26-ED8A-4AC4-A6A7-75AD165430BA}" type="slidenum">
              <a:t>10</a:t>
            </a:fld>
          </a:p>
        </p:txBody>
      </p:sp>
    </p:spTree>
  </p:cSld>
  <p:transition spd="slow">
    <p:blinds dir="vert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requency (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ν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47FC-5B89-4451-BB88-8597FC1984B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4419720" y="3048120"/>
            <a:ext cx="0" cy="32004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0" y="2225520"/>
            <a:ext cx="6187680" cy="669960"/>
            <a:chOff x="0" y="2225520"/>
            <a:chExt cx="6187680" cy="669960"/>
          </a:xfrm>
        </p:grpSpPr>
        <p:pic>
          <p:nvPicPr>
            <p:cNvPr id="76" name="" descr=""/>
            <p:cNvPicPr/>
            <p:nvPr/>
          </p:nvPicPr>
          <p:blipFill>
            <a:blip r:embed="rId1"/>
            <a:stretch/>
          </p:blipFill>
          <p:spPr>
            <a:xfrm>
              <a:off x="0" y="2225520"/>
              <a:ext cx="2621880" cy="66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" descr=""/>
            <p:cNvPicPr/>
            <p:nvPr/>
          </p:nvPicPr>
          <p:blipFill>
            <a:blip r:embed="rId2"/>
            <a:srcRect l="7116" t="0" r="0" b="0"/>
            <a:stretch/>
          </p:blipFill>
          <p:spPr>
            <a:xfrm>
              <a:off x="1968840" y="2225520"/>
              <a:ext cx="2435040" cy="66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" descr=""/>
            <p:cNvPicPr/>
            <p:nvPr/>
          </p:nvPicPr>
          <p:blipFill>
            <a:blip r:embed="rId3"/>
            <a:srcRect l="7116" t="0" r="0" b="0"/>
            <a:stretch/>
          </p:blipFill>
          <p:spPr>
            <a:xfrm>
              <a:off x="3752640" y="2225520"/>
              <a:ext cx="2435040" cy="669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9" name=""/>
          <p:cNvSpPr/>
          <p:nvPr/>
        </p:nvSpPr>
        <p:spPr>
          <a:xfrm>
            <a:off x="685800" y="380880"/>
            <a:ext cx="77724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requency is the number of wavelengths that pass a particular point per secon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55308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639C-92A5-414D-AF40-506AC843D225}" type="slidenum">
              <a:t>12</a:t>
            </a:fld>
          </a:p>
        </p:txBody>
      </p:sp>
    </p:spTree>
  </p:cSld>
  <p:transition spd="slow">
    <p:blinds dir="vert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3.7037E-007 L 0.38663 3.7037E-007 E">
                                      <p:cBhvr>
                                        <p:cTn id="77" dur="15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peed (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11FA-F317-4987-91F2-3DD75082944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0" y="2225520"/>
            <a:ext cx="6187680" cy="669960"/>
            <a:chOff x="0" y="2225520"/>
            <a:chExt cx="6187680" cy="669960"/>
          </a:xfrm>
        </p:grpSpPr>
        <p:pic>
          <p:nvPicPr>
            <p:cNvPr id="83" name="" descr=""/>
            <p:cNvPicPr/>
            <p:nvPr/>
          </p:nvPicPr>
          <p:blipFill>
            <a:blip r:embed="rId1"/>
            <a:stretch/>
          </p:blipFill>
          <p:spPr>
            <a:xfrm>
              <a:off x="0" y="2225520"/>
              <a:ext cx="2621880" cy="66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" descr=""/>
            <p:cNvPicPr/>
            <p:nvPr/>
          </p:nvPicPr>
          <p:blipFill>
            <a:blip r:embed="rId2"/>
            <a:srcRect l="7116" t="0" r="0" b="0"/>
            <a:stretch/>
          </p:blipFill>
          <p:spPr>
            <a:xfrm>
              <a:off x="1968840" y="2225520"/>
              <a:ext cx="2435040" cy="66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" descr=""/>
            <p:cNvPicPr/>
            <p:nvPr/>
          </p:nvPicPr>
          <p:blipFill>
            <a:blip r:embed="rId3"/>
            <a:srcRect l="7116" t="0" r="0" b="0"/>
            <a:stretch/>
          </p:blipFill>
          <p:spPr>
            <a:xfrm>
              <a:off x="3752640" y="2225520"/>
              <a:ext cx="2435040" cy="669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6" name=""/>
          <p:cNvGrpSpPr/>
          <p:nvPr/>
        </p:nvGrpSpPr>
        <p:grpSpPr>
          <a:xfrm>
            <a:off x="0" y="3749760"/>
            <a:ext cx="6187680" cy="669960"/>
            <a:chOff x="0" y="3749760"/>
            <a:chExt cx="6187680" cy="669960"/>
          </a:xfrm>
        </p:grpSpPr>
        <p:pic>
          <p:nvPicPr>
            <p:cNvPr id="87" name="" descr=""/>
            <p:cNvPicPr/>
            <p:nvPr/>
          </p:nvPicPr>
          <p:blipFill>
            <a:blip r:embed="rId4"/>
            <a:stretch/>
          </p:blipFill>
          <p:spPr>
            <a:xfrm>
              <a:off x="0" y="3749760"/>
              <a:ext cx="2621880" cy="66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" descr=""/>
            <p:cNvPicPr/>
            <p:nvPr/>
          </p:nvPicPr>
          <p:blipFill>
            <a:blip r:embed="rId5"/>
            <a:srcRect l="7116" t="0" r="0" b="0"/>
            <a:stretch/>
          </p:blipFill>
          <p:spPr>
            <a:xfrm>
              <a:off x="1968840" y="3749760"/>
              <a:ext cx="2435040" cy="66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" descr=""/>
            <p:cNvPicPr/>
            <p:nvPr/>
          </p:nvPicPr>
          <p:blipFill>
            <a:blip r:embed="rId6"/>
            <a:srcRect l="7116" t="0" r="0" b="0"/>
            <a:stretch/>
          </p:blipFill>
          <p:spPr>
            <a:xfrm>
              <a:off x="3752640" y="3749760"/>
              <a:ext cx="2435040" cy="669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" name=""/>
          <p:cNvSpPr/>
          <p:nvPr/>
        </p:nvSpPr>
        <p:spPr>
          <a:xfrm>
            <a:off x="685800" y="380880"/>
            <a:ext cx="77724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peed is how fast a wave moves through spac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655308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5F89-E1A7-440C-A47D-114C80013EAC}" type="slidenum">
              <a:t>14</a:t>
            </a:fld>
          </a:p>
        </p:txBody>
      </p:sp>
    </p:spTree>
  </p:cSld>
  <p:transition spd="slow">
    <p:blinds dir="vert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83" dur="5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4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85" dur="2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1371600"/>
            <a:ext cx="77724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ght also exhibits the properties of a particle. Light particles are called </a:t>
            </a:r>
            <a:r>
              <a:rPr b="0" i="1" lang="en-US" sz="3600" spc="-1" strike="noStrike">
                <a:solidFill>
                  <a:srgbClr val="ff0066"/>
                </a:solidFill>
                <a:latin typeface="Times New Roman"/>
              </a:rPr>
              <a:t>photon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3124080"/>
            <a:ext cx="7772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oth the wave  model and the particle model are used to explain the properties of ligh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0541-2347-4822-950E-CBFCF5C7BB3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Electromagnetic Spectrum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3B81-2A33-4F19-AD50-FA46A3CFA18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8640" y="2041560"/>
            <a:ext cx="8226720" cy="27734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0" y="655308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105520" y="76320"/>
            <a:ext cx="3276360" cy="1222200"/>
          </a:xfrm>
          <a:prstGeom prst="borderCallout2">
            <a:avLst>
              <a:gd name="adj1" fmla="val 18750"/>
              <a:gd name="adj2" fmla="val -8333"/>
              <a:gd name="adj3" fmla="val 9351"/>
              <a:gd name="adj4" fmla="val -22333"/>
              <a:gd name="adj5" fmla="val 167402"/>
              <a:gd name="adj6" fmla="val -43166"/>
            </a:avLst>
          </a:prstGeom>
          <a:solidFill>
            <a:srgbClr val="ccffff"/>
          </a:solidFill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ible light is part of the electromagnetic spectr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124080" y="76320"/>
            <a:ext cx="3276720" cy="1222200"/>
          </a:xfrm>
          <a:prstGeom prst="borderCallout2">
            <a:avLst>
              <a:gd name="adj1" fmla="val 18750"/>
              <a:gd name="adj2" fmla="val -8333"/>
              <a:gd name="adj3" fmla="val 9351"/>
              <a:gd name="adj4" fmla="val -23060"/>
              <a:gd name="adj5" fmla="val 182856"/>
              <a:gd name="adj6" fmla="val -44717"/>
            </a:avLst>
          </a:prstGeom>
          <a:solidFill>
            <a:srgbClr val="ccffff"/>
          </a:solidFill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-rays are part of the electromagnetic spectr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248520" y="76320"/>
            <a:ext cx="2743200" cy="1676160"/>
          </a:xfrm>
          <a:prstGeom prst="borderCallout2">
            <a:avLst>
              <a:gd name="adj1" fmla="val 18750"/>
              <a:gd name="adj2" fmla="val -8333"/>
              <a:gd name="adj3" fmla="val 6819"/>
              <a:gd name="adj4" fmla="val -28356"/>
              <a:gd name="adj5" fmla="val 133902"/>
              <a:gd name="adj6" fmla="val -55037"/>
            </a:avLst>
          </a:prstGeom>
          <a:solidFill>
            <a:srgbClr val="ccffff"/>
          </a:solidFill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rared light is part of the electromagnetic spectr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E8FE-0688-49B1-ABE1-90847A9DA102}" type="slidenum">
              <a:t>17</a:t>
            </a:fld>
          </a:p>
        </p:txBody>
      </p:sp>
    </p:spTree>
  </p:cSld>
  <p:transition spd="slow">
    <p:blinds dir="vert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99"/>
                </a:solidFill>
                <a:latin typeface="Times New Roman"/>
              </a:rPr>
              <a:t>10.3</a:t>
            </a:r>
            <a:br>
              <a:rPr sz="4400"/>
            </a:br>
            <a:r>
              <a:rPr b="0" lang="en-US" sz="7200" spc="-1" strike="noStrike" u="sng">
                <a:solidFill>
                  <a:srgbClr val="cc3399"/>
                </a:solidFill>
                <a:uFillTx/>
                <a:latin typeface="Times New Roman"/>
              </a:rPr>
              <a:t>The Bohr Atom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075520" y="5635800"/>
            <a:ext cx="384120" cy="384120"/>
          </a:xfrm>
          <a:custGeom>
            <a:avLst/>
            <a:gdLst>
              <a:gd name="textAreaLeft" fmla="*/ 24840 w 384120"/>
              <a:gd name="textAreaRight" fmla="*/ 359280 w 384120"/>
              <a:gd name="textAreaTop" fmla="*/ 24840 h 384120"/>
              <a:gd name="textAreaBottom" fmla="*/ 359280 h 384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07A3-8BD2-416A-8F9A-73346D11D043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85800" y="1371600"/>
            <a:ext cx="77724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t high temperatures or voltages, elements in the gaseous state emit light of different color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3124080"/>
            <a:ext cx="7772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en the light is passed through a prism or diffraction grating a line spectrum result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61FC-3CA5-478C-A8D6-BBD9EC252A9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Arial"/>
              </a:rPr>
              <a:t>Chapter 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523880"/>
            <a:ext cx="7924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85760" y="1828800"/>
            <a:ext cx="40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.1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1" action="ppaction://hlinksldjump"/>
              </a:rPr>
              <a:t>A Brief History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85760" y="2387520"/>
            <a:ext cx="430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1200" indent="-511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.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2" action="ppaction://hlinksldjump"/>
              </a:rPr>
              <a:t>Electromagnetic Rad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5760" y="294624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.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The Bohr At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828800"/>
            <a:ext cx="487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.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omic Structures of the Fir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18 Eleme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0" y="2682720"/>
            <a:ext cx="434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.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Electron Structures and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Periodic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5760" y="3505320"/>
            <a:ext cx="430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.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Energy Levels of Electr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1794-3B92-4BEE-9DF0-981A4147EF93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76360" y="1935000"/>
            <a:ext cx="7989840" cy="20037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685800" y="4602240"/>
            <a:ext cx="7772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Line spectrum of hydroge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  Each line corresponds to the wavelength of the energy emitted when the electron of a hydrogen atom, which has absorbed energy falls back to a lower principal energy level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46720" y="152280"/>
            <a:ext cx="3505320" cy="1630440"/>
          </a:xfrm>
          <a:prstGeom prst="borderCallout2">
            <a:avLst>
              <a:gd name="adj1" fmla="val 18750"/>
              <a:gd name="adj2" fmla="val -8333"/>
              <a:gd name="adj3" fmla="val 7009"/>
              <a:gd name="adj4" fmla="val -9875"/>
              <a:gd name="adj5" fmla="val 115189"/>
              <a:gd name="adj6" fmla="val -17842"/>
            </a:avLst>
          </a:prstGeom>
          <a:solidFill>
            <a:srgbClr val="ccffff"/>
          </a:solidFill>
          <a:ln w="2844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se colored lines indicate that light is being emitted </a:t>
            </a:r>
            <a:r>
              <a:rPr b="0" i="1" lang="en-US" sz="2600" spc="-1" strike="noStrike">
                <a:solidFill>
                  <a:srgbClr val="ff0066"/>
                </a:solidFill>
                <a:latin typeface="Arial"/>
              </a:rPr>
              <a:t>onl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t certain wavelength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04920" y="76320"/>
            <a:ext cx="48006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Arial"/>
              </a:rPr>
              <a:t>Each element has its own unique set of spectral emission lines that distinguish it from other element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655308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.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7F23-EDA3-49E5-995D-816DED5988CA}" type="slidenum">
              <a:t>20</a:t>
            </a:fld>
          </a:p>
        </p:txBody>
      </p:sp>
    </p:spTree>
  </p:cSld>
  <p:transition spd="slow">
    <p:blinds dir="vert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008000"/>
                </a:solidFill>
                <a:uFillTx/>
                <a:latin typeface="Tahoma"/>
              </a:rPr>
              <a:t>Niels Boh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24E3-261A-407E-8FF2-7155C3CAB206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85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iels Bohr, a Danish physicist,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 1912-1913 carried out research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n the hydrogen ato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E789-FC16-459E-993E-3F852DA564F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85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Bohr At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CD21-40CC-46E4-A28A-51FACA7375C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47600" y="838080"/>
            <a:ext cx="4524480" cy="45752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5124600" y="3638520"/>
            <a:ext cx="3962160" cy="2305080"/>
          </a:xfrm>
          <a:prstGeom prst="borderCallout1">
            <a:avLst>
              <a:gd name="adj1" fmla="val -6291"/>
              <a:gd name="adj2" fmla="val -714"/>
              <a:gd name="adj3" fmla="val 20562"/>
              <a:gd name="adj4" fmla="val -714"/>
            </a:avLst>
          </a:prstGeom>
          <a:solidFill>
            <a:srgbClr val="ccffff"/>
          </a:solidFill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rons revolve around the nucleus in orbits that are located at fixed distances from the nucle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655308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48120" y="3344760"/>
            <a:ext cx="533160" cy="533520"/>
          </a:xfrm>
          <a:prstGeom prst="ellipse">
            <a:avLst/>
          </a:prstGeom>
          <a:solidFill>
            <a:srgbClr val="ff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3981600" y="3552840"/>
            <a:ext cx="5105160" cy="1467000"/>
            <a:chOff x="3981600" y="3552840"/>
            <a:chExt cx="5105160" cy="1467000"/>
          </a:xfrm>
        </p:grpSpPr>
        <p:sp>
          <p:nvSpPr>
            <p:cNvPr id="117" name=""/>
            <p:cNvSpPr/>
            <p:nvPr/>
          </p:nvSpPr>
          <p:spPr>
            <a:xfrm>
              <a:off x="5124600" y="3646440"/>
              <a:ext cx="3962160" cy="137340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An electron has a discrete energy when it occupies an orbit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3981600" y="3552840"/>
              <a:ext cx="4952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9289-7B8F-496E-8A6B-67D04517B8ED}" type="slidenum">
              <a:t>24</a:t>
            </a:fld>
          </a:p>
        </p:txBody>
      </p:sp>
    </p:spTree>
  </p:cSld>
  <p:transition spd="slow">
    <p:blinds dir="vert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5283360" cy="53420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5029200" y="1717560"/>
            <a:ext cx="4038480" cy="24699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en an electron falls from a higher energy level to a lower energy level a quantum of energy in the form of light is emitted by the atom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4723920" y="5029200"/>
            <a:ext cx="762120" cy="144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655308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584600" y="4343400"/>
            <a:ext cx="4254480" cy="10666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 flipH="1">
            <a:off x="4747680" y="5029200"/>
            <a:ext cx="73836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1720800"/>
            <a:ext cx="4095720" cy="2679840"/>
            <a:chOff x="4952880" y="1720800"/>
            <a:chExt cx="4095720" cy="2679840"/>
          </a:xfrm>
        </p:grpSpPr>
        <p:sp>
          <p:nvSpPr>
            <p:cNvPr id="126" name=""/>
            <p:cNvSpPr/>
            <p:nvPr/>
          </p:nvSpPr>
          <p:spPr>
            <a:xfrm>
              <a:off x="5029200" y="1720800"/>
              <a:ext cx="3962520" cy="16779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The color of the light emitted corresponds to one of the lines of the hydrogen spectrum.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952880" y="3433680"/>
              <a:ext cx="4095720" cy="966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4481640" y="3321000"/>
            <a:ext cx="533160" cy="533520"/>
          </a:xfrm>
          <a:prstGeom prst="ellipse">
            <a:avLst/>
          </a:prstGeom>
          <a:solidFill>
            <a:srgbClr val="ff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3962520"/>
            <a:ext cx="1752840" cy="533160"/>
          </a:xfrm>
          <a:prstGeom prst="lightningBolt">
            <a:avLst/>
          </a:prstGeom>
          <a:solidFill>
            <a:srgbClr val="ff00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D10D-928C-4A8F-BC65-E864882A2016}" type="slidenum">
              <a:t>25</a:t>
            </a:fld>
          </a:p>
        </p:txBody>
      </p:sp>
    </p:spTree>
  </p:cSld>
  <p:transition spd="slow">
    <p:blinds dir="vert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1.85185E-006 L -0.06927 1.85185E-006 E">
                                      <p:cBhvr>
                                        <p:cTn id="167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3.33333E-006 L 0.1125 0.11666 E">
                                      <p:cBhvr>
                                        <p:cTn id="173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4000"/>
                            </p:stCondLst>
                            <p:childTnLst>
                              <p:par>
                                <p:cTn id="17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7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5000"/>
                            </p:stCondLst>
                            <p:childTnLst>
                              <p:par>
                                <p:cTn id="179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76320" y="220680"/>
            <a:ext cx="5283000" cy="53420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255920" y="3344760"/>
            <a:ext cx="533520" cy="533520"/>
          </a:xfrm>
          <a:prstGeom prst="ellipse">
            <a:avLst/>
          </a:prstGeom>
          <a:solidFill>
            <a:srgbClr val="ff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29200" y="1523880"/>
            <a:ext cx="3962520" cy="20739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erent lines of the hydrogen spectrum correspond to different electron energy level shift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967360" y="5029200"/>
            <a:ext cx="73836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655308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4584600" y="4343400"/>
            <a:ext cx="4254480" cy="106668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2819520" y="3886200"/>
            <a:ext cx="1752480" cy="533520"/>
          </a:xfrm>
          <a:prstGeom prst="lightningBolt">
            <a:avLst/>
          </a:prstGeom>
          <a:solidFill>
            <a:srgbClr val="2aaa2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969160" y="5072040"/>
            <a:ext cx="7380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7628-6BEA-43C9-A709-C39B36EB21AB}" type="slidenum">
              <a:t>26</a:t>
            </a:fld>
          </a:p>
        </p:txBody>
      </p:sp>
    </p:spTree>
  </p:cSld>
  <p:transition spd="slow">
    <p:blinds dir="vert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3.7037E-007 L -0.16129 -3.7037E-007 E">
                                      <p:cBhvr>
                                        <p:cTn id="190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2000"/>
                            </p:stCondLst>
                            <p:childTnLst>
                              <p:par>
                                <p:cTn id="1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007 0.00138 L 0.2125 0.15 E">
                                      <p:cBhvr>
                                        <p:cTn id="196" dur="20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4000"/>
                            </p:stCondLst>
                            <p:childTnLst>
                              <p:par>
                                <p:cTn id="19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0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5000"/>
                            </p:stCondLst>
                            <p:childTnLst>
                              <p:par>
                                <p:cTn id="20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76320" y="220680"/>
            <a:ext cx="5283000" cy="534204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5029200" y="1523880"/>
            <a:ext cx="3505320" cy="16779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ight is not emitted continuously.  It is emitted in discrete packets called </a:t>
            </a:r>
            <a:r>
              <a:rPr b="0" i="1" lang="en-US" sz="2600" spc="-1" strike="noStrike">
                <a:solidFill>
                  <a:srgbClr val="ff0066"/>
                </a:solidFill>
                <a:latin typeface="Arial"/>
              </a:rPr>
              <a:t>quanta</a:t>
            </a:r>
            <a:r>
              <a:rPr b="0" lang="en-US" sz="2600" spc="-1" strike="noStrike">
                <a:solidFill>
                  <a:srgbClr val="ff0066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86200" y="4419720"/>
            <a:ext cx="1752480" cy="533160"/>
          </a:xfrm>
          <a:prstGeom prst="lightningBolt">
            <a:avLst/>
          </a:prstGeom>
          <a:solidFill>
            <a:srgbClr val="ff00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5016600" y="2824200"/>
            <a:ext cx="3313080" cy="2916360"/>
            <a:chOff x="5016600" y="2824200"/>
            <a:chExt cx="3313080" cy="2916360"/>
          </a:xfrm>
        </p:grpSpPr>
        <p:sp>
          <p:nvSpPr>
            <p:cNvPr id="142" name=""/>
            <p:cNvSpPr/>
            <p:nvPr/>
          </p:nvSpPr>
          <p:spPr>
            <a:xfrm>
              <a:off x="7283520" y="2824200"/>
              <a:ext cx="1046160" cy="345960"/>
            </a:xfrm>
            <a:prstGeom prst="rect">
              <a:avLst/>
            </a:prstGeom>
            <a:noFill/>
            <a:ln w="284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016600" y="4826160"/>
              <a:ext cx="1904760" cy="914400"/>
            </a:xfrm>
            <a:prstGeom prst="rect">
              <a:avLst/>
            </a:prstGeom>
            <a:noFill/>
            <a:ln w="284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5950080" y="3164040"/>
              <a:ext cx="1854000" cy="166680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0" y="655308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255920" y="3344760"/>
            <a:ext cx="533520" cy="533520"/>
          </a:xfrm>
          <a:prstGeom prst="ellipse">
            <a:avLst/>
          </a:prstGeom>
          <a:solidFill>
            <a:srgbClr val="ff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E694-C216-4408-917D-4D6BD2E4CF04}" type="slidenum">
              <a:t>27</a:t>
            </a:fld>
          </a:p>
        </p:txBody>
      </p:sp>
    </p:spTree>
  </p:cSld>
  <p:transition spd="slow">
    <p:blinds dir="vert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3.7037E-007 L -0.07795 -3.7037E-007 E">
                                      <p:cBhvr>
                                        <p:cTn id="213" dur="20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2000"/>
                            </p:stCondLst>
                            <p:childTnLst>
                              <p:par>
                                <p:cTn id="21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3.33333E-006 L 0.12917 0.08334 E">
                                      <p:cBhvr>
                                        <p:cTn id="219" dur="2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4000"/>
                            </p:stCondLst>
                            <p:childTnLst>
                              <p:par>
                                <p:cTn id="221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27080" y="228600"/>
            <a:ext cx="5283000" cy="534204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0" y="4408560"/>
            <a:ext cx="4038480" cy="18399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electron can have one of several possible energies depending on its or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592440" y="3070080"/>
            <a:ext cx="533520" cy="533520"/>
          </a:xfrm>
          <a:prstGeom prst="ellipse">
            <a:avLst/>
          </a:prstGeom>
          <a:solidFill>
            <a:srgbClr val="ff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280040" y="3070080"/>
            <a:ext cx="533160" cy="533520"/>
          </a:xfrm>
          <a:prstGeom prst="ellipse">
            <a:avLst/>
          </a:prstGeom>
          <a:solidFill>
            <a:srgbClr val="ff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940120" y="3070080"/>
            <a:ext cx="533160" cy="533520"/>
          </a:xfrm>
          <a:prstGeom prst="ellipse">
            <a:avLst/>
          </a:prstGeom>
          <a:solidFill>
            <a:srgbClr val="ff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655308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6A3D-79CA-4DAA-9408-38EFB7262BB9}" type="slidenum">
              <a:t>28</a:t>
            </a:fld>
          </a:p>
        </p:txBody>
      </p:sp>
    </p:spTree>
  </p:cSld>
  <p:transition spd="slow">
    <p:blinds dir="vert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8380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ohr’s calculations succeeded very well in correlating the experimentally observed spectral lines with electron energy levels for the hydrogen ato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19040" y="3147840"/>
            <a:ext cx="830592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ohr’s methods did not succeed for heavier atom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re theoretical work on atomic structure was neede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A3AD-49B3-4054-A71C-BB60A5237AF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99"/>
                </a:solidFill>
                <a:latin typeface="Times New Roman"/>
              </a:rPr>
              <a:t>10.1</a:t>
            </a:r>
            <a:br>
              <a:rPr sz="4400"/>
            </a:br>
            <a:r>
              <a:rPr b="0" lang="en-US" sz="7200" spc="-1" strike="noStrike" u="sng">
                <a:solidFill>
                  <a:srgbClr val="cc3399"/>
                </a:solidFill>
                <a:uFillTx/>
                <a:latin typeface="Times New Roman"/>
              </a:rPr>
              <a:t>A Brief History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075520" y="5635800"/>
            <a:ext cx="384120" cy="384120"/>
          </a:xfrm>
          <a:custGeom>
            <a:avLst/>
            <a:gdLst>
              <a:gd name="textAreaLeft" fmla="*/ 24840 w 384120"/>
              <a:gd name="textAreaRight" fmla="*/ 359280 w 384120"/>
              <a:gd name="textAreaTop" fmla="*/ 24840 h 384120"/>
              <a:gd name="textAreaBottom" fmla="*/ 359280 h 384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E38C-EBBD-46EB-B3FD-A60225063BE3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685800" y="83988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 1924 Louis De Broglie suggested that all objects have wave properti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85800" y="2041560"/>
            <a:ext cx="777240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 Broglie showed that the wavelength of ordinary sized objects, such as a baseball, are too small to be observ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objects the size of an electron the wavelength can be detec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E500-9E6C-47BA-B6DA-10861F69E2B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685800" y="152280"/>
            <a:ext cx="7772400" cy="15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just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 1926 Erwin Sch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ö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dinger created a mathematical model that showed electrons as wav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85800" y="1884240"/>
            <a:ext cx="7772400" cy="46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h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ö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inger’s work led to a new branch of physics called </a:t>
            </a:r>
            <a:r>
              <a:rPr b="0" i="1" lang="en-US" sz="3200" spc="-1" strike="noStrike">
                <a:solidFill>
                  <a:srgbClr val="ff0066"/>
                </a:solidFill>
                <a:latin typeface="Times New Roman"/>
              </a:rPr>
              <a:t>wave or quantum mechanic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Sch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ö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inger’s wave mechanics, the </a:t>
            </a:r>
            <a:r>
              <a:rPr b="0" i="1" lang="en-US" sz="3200" spc="-1" strike="noStrike">
                <a:solidFill>
                  <a:srgbClr val="ff0066"/>
                </a:solidFill>
                <a:latin typeface="Times New Roman"/>
              </a:rPr>
              <a:t>probabilit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finding an electron in a certain region around the atom can be determined.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ctual location of an electron within an atom cannot be determin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BF60-E067-46F0-B285-CD56222F098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1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10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10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533160" y="839880"/>
            <a:ext cx="8001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sed on wave mechanics it is clear that electrons are not revolving around the nucleus in orbit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33520" y="2589120"/>
            <a:ext cx="807696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stead of being located in orbits, the electrons are located in </a:t>
            </a:r>
            <a:r>
              <a:rPr b="0" i="1" lang="en-US" sz="3600" spc="-1" strike="noStrike">
                <a:solidFill>
                  <a:srgbClr val="ff0066"/>
                </a:solidFill>
                <a:latin typeface="Times New Roman"/>
              </a:rPr>
              <a:t>orbital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i="1" lang="en-US" sz="3600" spc="-1" strike="noStrike">
                <a:solidFill>
                  <a:srgbClr val="ff0066"/>
                </a:solidFill>
                <a:latin typeface="Times New Roman"/>
              </a:rPr>
              <a:t>orbital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is a region around the nucleus where there is a high probability of finding an electr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11E6-6BBE-4EE6-9CDE-4E9170864D3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1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1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99"/>
                </a:solidFill>
                <a:latin typeface="Times New Roman"/>
              </a:rPr>
              <a:t>10.4</a:t>
            </a:r>
            <a:br>
              <a:rPr sz="4400"/>
            </a:br>
            <a:r>
              <a:rPr b="0" lang="en-US" sz="7200" spc="-1" strike="noStrike" u="sng">
                <a:solidFill>
                  <a:srgbClr val="cc3399"/>
                </a:solidFill>
                <a:uFillTx/>
                <a:latin typeface="Times New Roman"/>
              </a:rPr>
              <a:t>Energy Levels</a:t>
            </a:r>
            <a:br>
              <a:rPr sz="7200"/>
            </a:br>
            <a:r>
              <a:rPr b="0" lang="en-US" sz="7200" spc="-1" strike="noStrike" u="sng">
                <a:solidFill>
                  <a:srgbClr val="cc3399"/>
                </a:solidFill>
                <a:uFillTx/>
                <a:latin typeface="Times New Roman"/>
              </a:rPr>
              <a:t>of Electron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075520" y="5635800"/>
            <a:ext cx="384120" cy="384120"/>
          </a:xfrm>
          <a:custGeom>
            <a:avLst/>
            <a:gdLst>
              <a:gd name="textAreaLeft" fmla="*/ 24840 w 384120"/>
              <a:gd name="textAreaRight" fmla="*/ 359280 w 384120"/>
              <a:gd name="textAreaTop" fmla="*/ 24840 h 384120"/>
              <a:gd name="textAreaBottom" fmla="*/ 359280 h 384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8168-A29B-48BB-B597-B82D860BDBF0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cording to Bohr the energies of electrons in an atom are quantize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38080" y="228600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wave-mechanical model of the atom also predicts discrete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incipal energy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evel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within the ato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DCDB-1C16-42DD-84F2-9C1FA24F9A4F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786200" y="2057040"/>
            <a:ext cx="381024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irst four principal energy levels of the hydrogen atom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304920" y="1117440"/>
            <a:ext cx="4030560" cy="46213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4800600" y="228600"/>
            <a:ext cx="4191120" cy="1676520"/>
          </a:xfrm>
          <a:prstGeom prst="borderCallout2">
            <a:avLst>
              <a:gd name="adj1" fmla="val 18750"/>
              <a:gd name="adj2" fmla="val -8333"/>
              <a:gd name="adj3" fmla="val 6819"/>
              <a:gd name="adj4" fmla="val -11629"/>
              <a:gd name="adj5" fmla="val 144884"/>
              <a:gd name="adj6" fmla="val -21893"/>
            </a:avLst>
          </a:prstGeom>
          <a:solidFill>
            <a:srgbClr val="dddddd"/>
          </a:solidFill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n increases, the energy of the electron increas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655308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786200" y="4237200"/>
            <a:ext cx="3886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level is assigned a principal quantum number </a:t>
            </a:r>
            <a:r>
              <a:rPr b="0" i="1" lang="en-US" sz="3200" spc="-1" strike="noStrike">
                <a:solidFill>
                  <a:srgbClr val="ff0066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AAEA-FCDC-424E-B789-F64B2B8034D8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105520" y="1231920"/>
            <a:ext cx="3336840" cy="32544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152280" y="547560"/>
            <a:ext cx="4030920" cy="462132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914400" y="5715000"/>
            <a:ext cx="5334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principal energy level is subdivided into subleve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3505320" y="4038480"/>
            <a:ext cx="3200400" cy="106704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3519360" y="2259000"/>
            <a:ext cx="3551400" cy="1093680"/>
            <a:chOff x="3519360" y="2259000"/>
            <a:chExt cx="3551400" cy="1093680"/>
          </a:xfrm>
        </p:grpSpPr>
        <p:sp>
          <p:nvSpPr>
            <p:cNvPr id="175" name=""/>
            <p:cNvSpPr/>
            <p:nvPr/>
          </p:nvSpPr>
          <p:spPr>
            <a:xfrm>
              <a:off x="3524400" y="2263680"/>
              <a:ext cx="2876400" cy="1089000"/>
            </a:xfrm>
            <a:prstGeom prst="line">
              <a:avLst/>
            </a:prstGeom>
            <a:ln w="28440">
              <a:solidFill>
                <a:srgbClr val="ff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519360" y="2259000"/>
              <a:ext cx="3551400" cy="1017720"/>
            </a:xfrm>
            <a:prstGeom prst="line">
              <a:avLst/>
            </a:prstGeom>
            <a:ln w="28440">
              <a:solidFill>
                <a:srgbClr val="ff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3497400" y="1336680"/>
            <a:ext cx="3970080" cy="1197000"/>
            <a:chOff x="3497400" y="1336680"/>
            <a:chExt cx="3970080" cy="1197000"/>
          </a:xfrm>
        </p:grpSpPr>
        <p:sp>
          <p:nvSpPr>
            <p:cNvPr id="178" name=""/>
            <p:cNvSpPr/>
            <p:nvPr/>
          </p:nvSpPr>
          <p:spPr>
            <a:xfrm>
              <a:off x="3505320" y="1336680"/>
              <a:ext cx="2471760" cy="1197000"/>
            </a:xfrm>
            <a:prstGeom prst="line">
              <a:avLst/>
            </a:prstGeom>
            <a:ln w="2844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497400" y="1336680"/>
              <a:ext cx="3295440" cy="1193760"/>
            </a:xfrm>
            <a:prstGeom prst="line">
              <a:avLst/>
            </a:prstGeom>
            <a:ln w="2844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21160" y="1341360"/>
              <a:ext cx="3946320" cy="1173240"/>
            </a:xfrm>
            <a:prstGeom prst="line">
              <a:avLst/>
            </a:prstGeom>
            <a:ln w="2844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3505320" y="880920"/>
            <a:ext cx="4514760" cy="1024200"/>
            <a:chOff x="3505320" y="880920"/>
            <a:chExt cx="4514760" cy="1024200"/>
          </a:xfrm>
        </p:grpSpPr>
        <p:sp>
          <p:nvSpPr>
            <p:cNvPr id="182" name=""/>
            <p:cNvSpPr/>
            <p:nvPr/>
          </p:nvSpPr>
          <p:spPr>
            <a:xfrm>
              <a:off x="3543480" y="895320"/>
              <a:ext cx="2247840" cy="1009800"/>
            </a:xfrm>
            <a:prstGeom prst="line">
              <a:avLst/>
            </a:prstGeom>
            <a:ln w="28440">
              <a:solidFill>
                <a:srgbClr val="66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519360" y="890640"/>
              <a:ext cx="2957760" cy="1014480"/>
            </a:xfrm>
            <a:prstGeom prst="line">
              <a:avLst/>
            </a:prstGeom>
            <a:ln w="28440">
              <a:solidFill>
                <a:srgbClr val="66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24400" y="880920"/>
              <a:ext cx="3790800" cy="1024200"/>
            </a:xfrm>
            <a:prstGeom prst="line">
              <a:avLst/>
            </a:prstGeom>
            <a:ln w="28440">
              <a:solidFill>
                <a:srgbClr val="66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05320" y="906480"/>
              <a:ext cx="4514760" cy="998640"/>
            </a:xfrm>
            <a:prstGeom prst="line">
              <a:avLst/>
            </a:prstGeom>
            <a:ln w="28440">
              <a:solidFill>
                <a:srgbClr val="66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0" y="655308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.7, 10.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A35A-6E41-4B39-A543-FEF1CE9A42E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14480" y="304920"/>
            <a:ext cx="8913600" cy="10688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in sublevels the electrons are found in orbita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228600" y="1836720"/>
            <a:ext cx="3094200" cy="368784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3429000" y="1806480"/>
            <a:ext cx="5410080" cy="37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s orbital is spherical in shap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pherical surface encloses a space where there is a 90% probability that the electron may be fou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655308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.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1DB5-4580-4B84-B542-DBEEC3CFC153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1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1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3429000" y="1806480"/>
            <a:ext cx="5410080" cy="45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electron can spin in one of  two possible directions represented by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↑ or ↓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two electrons that occupy an atomic orbital must have opposite spi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is is known as the Pauli Exclusion Princip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655308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.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14480" y="301680"/>
            <a:ext cx="8913600" cy="10688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atomic orbital can hold a maximum of two electr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228600" y="1836720"/>
            <a:ext cx="3094200" cy="368784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 flipV="1">
            <a:off x="1463760" y="320472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616040" y="3205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9A6B-F67F-4320-8784-13EADAEBD2A4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1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1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10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304920" y="3733920"/>
            <a:ext cx="868680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p orbital has two lobes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ach p orbital can hold a maximum of two electr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 p sublevel can hold a maximum of 6 electron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655308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.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14480" y="76320"/>
            <a:ext cx="8913600" cy="581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 sublevel is made up of three orbita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533520" y="685800"/>
            <a:ext cx="8162640" cy="2944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4E8C-39F5-4A48-8017-0A45BA5A0DB1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10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10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1957320" y="336600"/>
          <a:ext cx="5229360" cy="618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57320" y="336600"/>
                    <a:ext cx="5229360" cy="618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B2D8-566B-4BD3-9696-87E02E1F2DD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3962520" y="2286000"/>
            <a:ext cx="5105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hree p orbitals share a common cen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655308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.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-76320" y="1585800"/>
            <a:ext cx="3748320" cy="36864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3200400" y="382104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-231840" y="3933720"/>
            <a:ext cx="838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531800" y="1406520"/>
            <a:ext cx="838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959280" y="3505320"/>
            <a:ext cx="5105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three p orbitals point in different direction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42BC-FDB6-4A65-A3A9-1641A272BE3F}" type="slidenum">
              <a:t>40</a:t>
            </a:fld>
          </a:p>
        </p:txBody>
      </p:sp>
    </p:spTree>
  </p:cSld>
  <p:transition spd="slow">
    <p:blinds dir="vert"/>
  </p:transition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1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3565440"/>
            <a:ext cx="914256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five d orbitals all point in different direc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ach d orbital can hold a maximum of two electr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 d sublevel can hold a maximum of 10 electr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655308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.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152280" y="1371600"/>
            <a:ext cx="8537760" cy="183348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114480" y="301680"/>
            <a:ext cx="8913600" cy="581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d sublevel is made up of five orbita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2B84-4075-4C46-941F-1477726B3AF0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10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10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10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10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5257800" y="2395440"/>
            <a:ext cx="3336840" cy="3254400"/>
          </a:xfrm>
          <a:prstGeom prst="rect">
            <a:avLst/>
          </a:prstGeom>
          <a:ln w="0">
            <a:noFill/>
          </a:ln>
        </p:spPr>
      </p:pic>
      <p:grpSp>
        <p:nvGrpSpPr>
          <p:cNvPr id="213" name=""/>
          <p:cNvGrpSpPr/>
          <p:nvPr/>
        </p:nvGrpSpPr>
        <p:grpSpPr>
          <a:xfrm>
            <a:off x="1274760" y="4251240"/>
            <a:ext cx="5506560" cy="1839960"/>
            <a:chOff x="1274760" y="4251240"/>
            <a:chExt cx="5506560" cy="1839960"/>
          </a:xfrm>
        </p:grpSpPr>
        <p:pic>
          <p:nvPicPr>
            <p:cNvPr id="214" name="" descr=""/>
            <p:cNvPicPr/>
            <p:nvPr/>
          </p:nvPicPr>
          <p:blipFill>
            <a:blip r:embed="rId2"/>
            <a:stretch/>
          </p:blipFill>
          <p:spPr>
            <a:xfrm>
              <a:off x="1274760" y="4251240"/>
              <a:ext cx="1544760" cy="183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"/>
            <p:cNvSpPr/>
            <p:nvPr/>
          </p:nvSpPr>
          <p:spPr>
            <a:xfrm flipH="1">
              <a:off x="2895120" y="5170680"/>
              <a:ext cx="3886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1828800" y="6172200"/>
            <a:ext cx="548640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umber of Orbitals in a Sub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838080" y="3044880"/>
            <a:ext cx="6324480" cy="2754360"/>
            <a:chOff x="838080" y="3044880"/>
            <a:chExt cx="6324480" cy="2754360"/>
          </a:xfrm>
        </p:grpSpPr>
        <p:sp>
          <p:nvSpPr>
            <p:cNvPr id="218" name=""/>
            <p:cNvSpPr/>
            <p:nvPr/>
          </p:nvSpPr>
          <p:spPr>
            <a:xfrm flipH="1">
              <a:off x="3200040" y="4421160"/>
              <a:ext cx="3962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9" name="" descr=""/>
            <p:cNvPicPr/>
            <p:nvPr/>
          </p:nvPicPr>
          <p:blipFill>
            <a:blip r:embed="rId3"/>
            <a:stretch/>
          </p:blipFill>
          <p:spPr>
            <a:xfrm>
              <a:off x="838080" y="3044880"/>
              <a:ext cx="2313000" cy="2754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0" name=""/>
          <p:cNvGrpSpPr/>
          <p:nvPr/>
        </p:nvGrpSpPr>
        <p:grpSpPr>
          <a:xfrm>
            <a:off x="304920" y="3178080"/>
            <a:ext cx="6247800" cy="2760840"/>
            <a:chOff x="304920" y="3178080"/>
            <a:chExt cx="6247800" cy="2760840"/>
          </a:xfrm>
        </p:grpSpPr>
        <p:pic>
          <p:nvPicPr>
            <p:cNvPr id="221" name="" descr=""/>
            <p:cNvPicPr/>
            <p:nvPr/>
          </p:nvPicPr>
          <p:blipFill>
            <a:blip r:embed="rId4"/>
            <a:stretch/>
          </p:blipFill>
          <p:spPr>
            <a:xfrm>
              <a:off x="304920" y="3178080"/>
              <a:ext cx="2806560" cy="276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 flipH="1">
              <a:off x="3200040" y="4559400"/>
              <a:ext cx="3352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72880" y="2122560"/>
            <a:ext cx="7314840" cy="3124080"/>
            <a:chOff x="272880" y="2122560"/>
            <a:chExt cx="7314840" cy="3124080"/>
          </a:xfrm>
        </p:grpSpPr>
        <p:pic>
          <p:nvPicPr>
            <p:cNvPr id="224" name="" descr=""/>
            <p:cNvPicPr/>
            <p:nvPr/>
          </p:nvPicPr>
          <p:blipFill>
            <a:blip r:embed="rId5"/>
            <a:stretch/>
          </p:blipFill>
          <p:spPr>
            <a:xfrm>
              <a:off x="272880" y="2122560"/>
              <a:ext cx="2624400" cy="31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 flipH="1">
              <a:off x="2787120" y="3684600"/>
              <a:ext cx="4800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152280" y="2276640"/>
            <a:ext cx="6778440" cy="3128760"/>
            <a:chOff x="152280" y="2276640"/>
            <a:chExt cx="6778440" cy="3128760"/>
          </a:xfrm>
        </p:grpSpPr>
        <p:pic>
          <p:nvPicPr>
            <p:cNvPr id="227" name="" descr=""/>
            <p:cNvPicPr/>
            <p:nvPr/>
          </p:nvPicPr>
          <p:blipFill>
            <a:blip r:embed="rId6"/>
            <a:stretch/>
          </p:blipFill>
          <p:spPr>
            <a:xfrm>
              <a:off x="152280" y="2276640"/>
              <a:ext cx="3181320" cy="31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 flipH="1">
              <a:off x="3276360" y="3841920"/>
              <a:ext cx="3654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1011240" y="228600"/>
            <a:ext cx="7121520" cy="3580920"/>
            <a:chOff x="1011240" y="228600"/>
            <a:chExt cx="7121520" cy="3580920"/>
          </a:xfrm>
        </p:grpSpPr>
        <p:pic>
          <p:nvPicPr>
            <p:cNvPr id="230" name="" descr=""/>
            <p:cNvPicPr/>
            <p:nvPr/>
          </p:nvPicPr>
          <p:blipFill>
            <a:blip r:embed="rId7"/>
            <a:stretch/>
          </p:blipFill>
          <p:spPr>
            <a:xfrm>
              <a:off x="1011240" y="228600"/>
              <a:ext cx="7121520" cy="152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 flipH="1" flipV="1">
              <a:off x="4114440" y="1828440"/>
              <a:ext cx="1981080" cy="198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685800" y="1190520"/>
            <a:ext cx="7286400" cy="3668760"/>
            <a:chOff x="685800" y="1190520"/>
            <a:chExt cx="7286400" cy="3668760"/>
          </a:xfrm>
        </p:grpSpPr>
        <p:pic>
          <p:nvPicPr>
            <p:cNvPr id="233" name="" descr=""/>
            <p:cNvPicPr/>
            <p:nvPr/>
          </p:nvPicPr>
          <p:blipFill>
            <a:blip r:embed="rId8"/>
            <a:stretch/>
          </p:blipFill>
          <p:spPr>
            <a:xfrm>
              <a:off x="685800" y="1190520"/>
              <a:ext cx="3081240" cy="366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"/>
            <p:cNvSpPr/>
            <p:nvPr/>
          </p:nvSpPr>
          <p:spPr>
            <a:xfrm flipH="1">
              <a:off x="3552480" y="2997360"/>
              <a:ext cx="4419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266760" y="1285920"/>
            <a:ext cx="7086600" cy="3686040"/>
            <a:chOff x="266760" y="1285920"/>
            <a:chExt cx="7086600" cy="3686040"/>
          </a:xfrm>
        </p:grpSpPr>
        <p:pic>
          <p:nvPicPr>
            <p:cNvPr id="236" name="" descr=""/>
            <p:cNvPicPr/>
            <p:nvPr/>
          </p:nvPicPr>
          <p:blipFill>
            <a:blip r:embed="rId9"/>
            <a:stretch/>
          </p:blipFill>
          <p:spPr>
            <a:xfrm>
              <a:off x="266760" y="1285920"/>
              <a:ext cx="3747960" cy="368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 flipH="1">
              <a:off x="3981600" y="3129120"/>
              <a:ext cx="3371760" cy="7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50760" y="76320"/>
            <a:ext cx="9040680" cy="2971440"/>
            <a:chOff x="50760" y="76320"/>
            <a:chExt cx="9040680" cy="2971440"/>
          </a:xfrm>
        </p:grpSpPr>
        <p:pic>
          <p:nvPicPr>
            <p:cNvPr id="239" name="" descr=""/>
            <p:cNvPicPr/>
            <p:nvPr/>
          </p:nvPicPr>
          <p:blipFill>
            <a:blip r:embed="rId10"/>
            <a:stretch/>
          </p:blipFill>
          <p:spPr>
            <a:xfrm>
              <a:off x="50760" y="76320"/>
              <a:ext cx="9040680" cy="194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"/>
            <p:cNvSpPr/>
            <p:nvPr/>
          </p:nvSpPr>
          <p:spPr>
            <a:xfrm flipH="1" flipV="1">
              <a:off x="4778280" y="1990440"/>
              <a:ext cx="1774800" cy="1057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0" y="655308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.8  10.10 10.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B738-E348-4D56-9CAA-C3D8E62304B9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2" name=""/>
          <p:cNvGraphicFramePr/>
          <p:nvPr/>
        </p:nvGraphicFramePr>
        <p:xfrm>
          <a:off x="228600" y="1879560"/>
          <a:ext cx="8762760" cy="4063680"/>
        </p:xfrm>
        <a:graphic>
          <a:graphicData uri="http://schemas.openxmlformats.org/drawingml/2006/table">
            <a:tbl>
              <a:tblPr/>
              <a:tblGrid>
                <a:gridCol w="1008000"/>
                <a:gridCol w="775440"/>
                <a:gridCol w="1706040"/>
                <a:gridCol w="2481480"/>
                <a:gridCol w="2791800"/>
              </a:tblGrid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1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s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2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s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p 2p 2p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 = 3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s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p 3p 3p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d 3d 3d 3d 3d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 = 4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s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p 4p 4p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d 4d 4d 4d 4d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f 4f 4f 4f 4f 4f 4f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3" name=""/>
          <p:cNvSpPr/>
          <p:nvPr/>
        </p:nvSpPr>
        <p:spPr>
          <a:xfrm>
            <a:off x="1905120" y="304920"/>
            <a:ext cx="533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istribution of Subshells by Principal Energy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18BA-4AC4-44C2-A218-E47964338D7B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Hydrogen At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e ground state hydrogen’s single electron lies in the 1s orbit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ydrogen can absorb energy and the electron will move to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excit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t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4648320" y="213372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0" y="655308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.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85800" y="1981080"/>
            <a:ext cx="3809880" cy="457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diameter of hydrogen’s nucleus is about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1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diameter of hydrogen’s electron cloud is about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8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85800" y="1981080"/>
            <a:ext cx="3809880" cy="457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diameter of hydrogen’s electron cloud is about 100,000 times greater than the diameter of its nucleu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43F0-4332-482D-A8BD-57297339A6E9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10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10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10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10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10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10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10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10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604" dur="1" fill="hold"/>
                                  <p:tgtEl>
                                    <p:spTgt spid="2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99"/>
                </a:solidFill>
                <a:latin typeface="Times New Roman"/>
              </a:rPr>
              <a:t>10.5</a:t>
            </a:r>
            <a:br>
              <a:rPr sz="4400"/>
            </a:br>
            <a:r>
              <a:rPr b="0" lang="en-US" sz="7200" spc="-1" strike="noStrike" u="sng">
                <a:solidFill>
                  <a:srgbClr val="cc3399"/>
                </a:solidFill>
                <a:uFillTx/>
                <a:latin typeface="Times New Roman"/>
              </a:rPr>
              <a:t>Atomic Structure of the First 18 Element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8075520" y="5635800"/>
            <a:ext cx="384120" cy="384120"/>
          </a:xfrm>
          <a:custGeom>
            <a:avLst/>
            <a:gdLst>
              <a:gd name="textAreaLeft" fmla="*/ 24840 w 384120"/>
              <a:gd name="textAreaRight" fmla="*/ 359280 w 384120"/>
              <a:gd name="textAreaTop" fmla="*/ 24840 h 384120"/>
              <a:gd name="textAreaBottom" fmla="*/ 359280 h 384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EC86-3E0B-4865-AEF2-120DADA5A770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285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 determine the electronic structures of atoms, the following guidelines are use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38D3-35B5-443A-943D-C69FB53FEB67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685440" y="2276280"/>
            <a:ext cx="38098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 more than two electrons can occupy one orbit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5165640" y="1590840"/>
            <a:ext cx="3140280" cy="373356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 flipV="1">
            <a:off x="6448320" y="301896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600960" y="301932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655308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.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8679-8FDA-4521-9F60-0AD00FDF1595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1"/>
          <a:srcRect l="0" t="0" r="0" b="8677"/>
          <a:stretch/>
        </p:blipFill>
        <p:spPr>
          <a:xfrm>
            <a:off x="1204920" y="609480"/>
            <a:ext cx="2386080" cy="259092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76320" y="838080"/>
            <a:ext cx="1981080" cy="520560"/>
          </a:xfrm>
          <a:prstGeom prst="rect">
            <a:avLst/>
          </a:prstGeom>
          <a:solidFill>
            <a:srgbClr val="cc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rbi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685800" y="3429000"/>
            <a:ext cx="815328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ectrons occupy the lowest energy orbitals available.  They enter a higher energy orbital only after the lower orbitals are fill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the atoms beyond hydrogen, orbital energies vary as s&lt;p&lt;d&lt;f for a given value of 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2152800" y="1685880"/>
            <a:ext cx="1440" cy="636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305080" y="1695600"/>
            <a:ext cx="1440" cy="636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2"/>
          <a:srcRect l="0" t="0" r="0" b="10201"/>
          <a:stretch/>
        </p:blipFill>
        <p:spPr>
          <a:xfrm>
            <a:off x="4799160" y="228600"/>
            <a:ext cx="3139920" cy="335268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6229440" y="1695600"/>
            <a:ext cx="1440" cy="636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553080" y="533520"/>
            <a:ext cx="1981440" cy="520560"/>
          </a:xfrm>
          <a:prstGeom prst="rect">
            <a:avLst/>
          </a:prstGeom>
          <a:solidFill>
            <a:srgbClr val="cc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rbi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0" y="655308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.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6095880" y="1695600"/>
            <a:ext cx="1800" cy="636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767C-3135-4F82-A961-1375D6C93BDC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1066320" y="3580920"/>
            <a:ext cx="70866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orbital in a sublevel is occupied by a single electron before a second electron enters.  For example, all three p orbitals must contain one electron before a second electron enters a p orbit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8190000" cy="295416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1143000" y="1771560"/>
            <a:ext cx="0" cy="411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495680" y="2103480"/>
            <a:ext cx="0" cy="411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477200" y="2332080"/>
            <a:ext cx="0" cy="411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2514600" y="1770120"/>
            <a:ext cx="0" cy="411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5410080" y="1457280"/>
            <a:ext cx="0" cy="411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7477200" y="1266840"/>
            <a:ext cx="0" cy="411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0" y="655308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.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28FE-EF8A-4331-BFF0-A3191B50441E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99"/>
                </a:solidFill>
                <a:latin typeface="Times New Roman"/>
              </a:rPr>
              <a:t>10.2</a:t>
            </a:r>
            <a:br>
              <a:rPr sz="4400"/>
            </a:br>
            <a:r>
              <a:rPr b="0" lang="en-US" sz="5400" spc="-1" strike="noStrike" u="sng">
                <a:solidFill>
                  <a:srgbClr val="cc3399"/>
                </a:solidFill>
                <a:uFillTx/>
                <a:latin typeface="Times New Roman"/>
              </a:rPr>
              <a:t>Electromagnetic Radia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075520" y="5635800"/>
            <a:ext cx="384120" cy="384120"/>
          </a:xfrm>
          <a:custGeom>
            <a:avLst/>
            <a:gdLst>
              <a:gd name="textAreaLeft" fmla="*/ 24840 w 384120"/>
              <a:gd name="textAreaRight" fmla="*/ 359280 w 384120"/>
              <a:gd name="textAreaTop" fmla="*/ 24840 h 384120"/>
              <a:gd name="textAreaBottom" fmla="*/ 359280 h 384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EA3F-EBE6-4002-8BFC-BF8F7DB09C18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1904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uclear makeup and electronic structure of each principal energy level of an atom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385920" y="2971800"/>
            <a:ext cx="8372160" cy="1320840"/>
          </a:xfrm>
          <a:prstGeom prst="rect">
            <a:avLst/>
          </a:prstGeom>
          <a:ln w="0">
            <a:noFill/>
          </a:ln>
        </p:spPr>
      </p:pic>
      <p:grpSp>
        <p:nvGrpSpPr>
          <p:cNvPr id="279" name=""/>
          <p:cNvGrpSpPr/>
          <p:nvPr/>
        </p:nvGrpSpPr>
        <p:grpSpPr>
          <a:xfrm>
            <a:off x="1008000" y="2895480"/>
            <a:ext cx="3705120" cy="2514600"/>
            <a:chOff x="1008000" y="2895480"/>
            <a:chExt cx="3705120" cy="2514600"/>
          </a:xfrm>
        </p:grpSpPr>
        <p:sp>
          <p:nvSpPr>
            <p:cNvPr id="280" name=""/>
            <p:cNvSpPr/>
            <p:nvPr/>
          </p:nvSpPr>
          <p:spPr>
            <a:xfrm>
              <a:off x="2046240" y="4572000"/>
              <a:ext cx="2666880" cy="8380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number of electrons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n each sublev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08000" y="2895480"/>
              <a:ext cx="1571400" cy="685800"/>
            </a:xfrm>
            <a:prstGeom prst="rect">
              <a:avLst/>
            </a:prstGeom>
            <a:noFill/>
            <a:ln w="5724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350800" y="3581280"/>
              <a:ext cx="0" cy="990720"/>
            </a:xfrm>
            <a:prstGeom prst="line">
              <a:avLst/>
            </a:prstGeom>
            <a:ln w="5724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304920" y="2895480"/>
            <a:ext cx="3124080" cy="2378160"/>
            <a:chOff x="304920" y="2895480"/>
            <a:chExt cx="3124080" cy="2378160"/>
          </a:xfrm>
        </p:grpSpPr>
        <p:sp>
          <p:nvSpPr>
            <p:cNvPr id="284" name=""/>
            <p:cNvSpPr/>
            <p:nvPr/>
          </p:nvSpPr>
          <p:spPr>
            <a:xfrm>
              <a:off x="457200" y="3962520"/>
              <a:ext cx="0" cy="6094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04920" y="2895480"/>
              <a:ext cx="761760" cy="106704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04920" y="4572000"/>
              <a:ext cx="3124080" cy="70164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number of protons and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neutrons in the nucleu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7" name=""/>
          <p:cNvSpPr/>
          <p:nvPr/>
        </p:nvSpPr>
        <p:spPr>
          <a:xfrm>
            <a:off x="0" y="655308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.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6B55-9CED-4D2E-A5D8-517BECE2E436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lectron Configur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rangement of electrons within their respective subleve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>
              <a:spcBef>
                <a:spcPts val="32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9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12900" spc="-1" strike="noStrike">
                <a:solidFill>
                  <a:srgbClr val="0066ff"/>
                </a:solidFill>
                <a:latin typeface="Times New Roman"/>
              </a:rPr>
              <a:t>p</a:t>
            </a:r>
            <a:r>
              <a:rPr b="1" lang="en-US" sz="12900" spc="-1" strike="noStrike" baseline="30000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1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060880"/>
            <a:ext cx="2584440" cy="1035000"/>
          </a:xfrm>
          <a:prstGeom prst="borderCallout1">
            <a:avLst>
              <a:gd name="adj1" fmla="val 18750"/>
              <a:gd name="adj2" fmla="val -8333"/>
              <a:gd name="adj3" fmla="val -78833"/>
              <a:gd name="adj4" fmla="val 191708"/>
            </a:avLst>
          </a:prstGeom>
          <a:solidFill>
            <a:srgbClr val="99ccff"/>
          </a:solidFill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ncipal energy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657520" y="5054760"/>
            <a:ext cx="2774880" cy="976320"/>
          </a:xfrm>
          <a:prstGeom prst="borderCallout1">
            <a:avLst>
              <a:gd name="adj1" fmla="val 18750"/>
              <a:gd name="adj2" fmla="val -8333"/>
              <a:gd name="adj3" fmla="val -26504"/>
              <a:gd name="adj4" fmla="val 127175"/>
            </a:avLst>
          </a:prstGeom>
          <a:solidFill>
            <a:srgbClr val="99ccff"/>
          </a:solidFill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 of orbi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666880" y="1905120"/>
            <a:ext cx="3124440" cy="1295280"/>
          </a:xfrm>
          <a:prstGeom prst="borderCallout1">
            <a:avLst>
              <a:gd name="adj1" fmla="val 18750"/>
              <a:gd name="adj2" fmla="val -8333"/>
              <a:gd name="adj3" fmla="val 112254"/>
              <a:gd name="adj4" fmla="val 153402"/>
            </a:avLst>
          </a:prstGeom>
          <a:solidFill>
            <a:srgbClr val="99ccff"/>
          </a:solidFill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ber of electrons in sublevel orbit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8D73-FE24-4810-A5C4-B725061BBE77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2" dur="indefinite" restart="never" nodeType="tmRoot">
          <p:childTnLst>
            <p:seq>
              <p:cTn id="723" dur="indefinite" nodeType="mainSeq">
                <p:childTnLst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3366ff"/>
                </a:solidFill>
                <a:uFillTx/>
                <a:latin typeface="Book Antiqua"/>
              </a:rPr>
              <a:t>Orbital Filling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A2C8-A473-4036-9F35-6230359C536F}" type="slidenum">
              <a:t>52</a:t>
            </a:fld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/>
          </p:nvPr>
        </p:nvSpPr>
        <p:spPr>
          <a:xfrm>
            <a:off x="685800" y="130500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 the following diagrams boxes represent orbital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85800" y="2514600"/>
            <a:ext cx="77724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lectrons are indicated by arrows: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 or ↓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arrow direction represents one of the two possible electron spin st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B8F8-DD19-4AA1-A2EE-AA1F42F9F581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4" dur="indefinite" restart="never" nodeType="tmRoot">
          <p:childTnLst>
            <p:seq>
              <p:cTn id="745" dur="indefinite" nodeType="mainSeq">
                <p:childTnLst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10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10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1000" fill="hold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1000" fill="hold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285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lling the 1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Sub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4CA3-1082-48BA-9796-8E0265053804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1523880" y="345276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743200" y="350532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1</a:t>
            </a:r>
            <a:r>
              <a:rPr b="0" i="1" lang="en-US" sz="36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s</a:t>
            </a:r>
            <a:r>
              <a:rPr b="0" lang="en-US" sz="3600" spc="-1" strike="noStrike" baseline="30000">
                <a:solidFill>
                  <a:srgbClr val="0066ff"/>
                </a:solidFill>
                <a:latin typeface="Times New Roman"/>
                <a:ea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752480" y="345276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57200" y="106668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638360" y="102240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743200" y="106668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1</a:t>
            </a:r>
            <a:r>
              <a:rPr b="0" i="1" lang="en-US" sz="36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s</a:t>
            </a:r>
            <a:r>
              <a:rPr b="0" lang="en-US" sz="3600" spc="-1" strike="noStrike" baseline="30000">
                <a:solidFill>
                  <a:srgbClr val="0066ff"/>
                </a:solidFill>
                <a:latin typeface="Times New Roman"/>
                <a:ea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28600" y="182880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drogen has 1 electron.  It will occupy the orbital of lowest energy which is the 1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679400" y="1006560"/>
            <a:ext cx="533520" cy="7617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228600" y="3444840"/>
            <a:ext cx="8686800" cy="1724040"/>
            <a:chOff x="228600" y="3444840"/>
            <a:chExt cx="8686800" cy="1724040"/>
          </a:xfrm>
        </p:grpSpPr>
        <p:grpSp>
          <p:nvGrpSpPr>
            <p:cNvPr id="307" name=""/>
            <p:cNvGrpSpPr/>
            <p:nvPr/>
          </p:nvGrpSpPr>
          <p:grpSpPr>
            <a:xfrm>
              <a:off x="228600" y="3505320"/>
              <a:ext cx="8686800" cy="1663560"/>
              <a:chOff x="228600" y="3505320"/>
              <a:chExt cx="8686800" cy="1663560"/>
            </a:xfrm>
          </p:grpSpPr>
          <p:sp>
            <p:nvSpPr>
              <p:cNvPr id="308" name=""/>
              <p:cNvSpPr/>
              <p:nvPr/>
            </p:nvSpPr>
            <p:spPr>
              <a:xfrm>
                <a:off x="457200" y="3505320"/>
                <a:ext cx="8380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Times New Roman"/>
                  </a:rPr>
                  <a:t>He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228600" y="4343400"/>
                <a:ext cx="86868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Helium has two electrons.  Both helium electrons occupy the 1s orbital with opposite spins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0" name=""/>
            <p:cNvSpPr/>
            <p:nvPr/>
          </p:nvSpPr>
          <p:spPr>
            <a:xfrm>
              <a:off x="1673280" y="3444840"/>
              <a:ext cx="533520" cy="762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A667-001B-44F9-B27C-C5A2527BBFDF}" type="slidenum">
              <a:t>55</a:t>
            </a:fld>
          </a:p>
        </p:txBody>
      </p:sp>
    </p:spTree>
  </p:cSld>
  <p:transition spd="slow">
    <p:blinds dir="vert"/>
  </p:transition>
  <p:timing>
    <p:tnLst>
      <p:par>
        <p:cTn id="758" dur="indefinite" restart="never" nodeType="tmRoot">
          <p:childTnLst>
            <p:seq>
              <p:cTn id="759" dur="indefinite" nodeType="mainSeq">
                <p:childTnLst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4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9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5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0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85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lling the 2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Sub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3E21-269C-4573-8D86-B0B0CAA014C3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457200" y="106668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809880" y="368316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1</a:t>
            </a:r>
            <a:r>
              <a:rPr b="0" i="1" lang="en-US" sz="36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s</a:t>
            </a:r>
            <a:r>
              <a:rPr b="0" lang="en-US" sz="3600" spc="-1" strike="noStrike" baseline="30000">
                <a:solidFill>
                  <a:srgbClr val="0066ff"/>
                </a:solidFill>
                <a:latin typeface="Times New Roman"/>
                <a:ea typeface="Times New Roman"/>
              </a:rPr>
              <a:t>2</a:t>
            </a:r>
            <a:r>
              <a:rPr b="0" lang="en-US" sz="36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2</a:t>
            </a:r>
            <a:r>
              <a:rPr b="0" i="1" lang="en-US" sz="36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s</a:t>
            </a:r>
            <a:r>
              <a:rPr b="0" lang="en-US" sz="3600" spc="-1" strike="noStrike" baseline="30000">
                <a:solidFill>
                  <a:srgbClr val="0066ff"/>
                </a:solidFill>
                <a:latin typeface="Times New Roman"/>
                <a:ea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27160" y="2378160"/>
            <a:ext cx="830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1s orbital is filled.  Lithium’s third electron will enter the 2s orbit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1460520" y="1033560"/>
            <a:ext cx="799560" cy="644040"/>
            <a:chOff x="1460520" y="1033560"/>
            <a:chExt cx="799560" cy="644040"/>
          </a:xfrm>
        </p:grpSpPr>
        <p:sp>
          <p:nvSpPr>
            <p:cNvPr id="316" name=""/>
            <p:cNvSpPr/>
            <p:nvPr/>
          </p:nvSpPr>
          <p:spPr>
            <a:xfrm>
              <a:off x="1460520" y="103356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↑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650600" y="103500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↓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2711520" y="103356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19520" y="364968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486080" y="175248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99"/>
                </a:solidFill>
                <a:latin typeface="Arial"/>
              </a:rPr>
              <a:t>1</a:t>
            </a:r>
            <a:r>
              <a:rPr b="0" i="1" lang="en-US" sz="2800" spc="-1" strike="noStrike">
                <a:solidFill>
                  <a:srgbClr val="cc3399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629080" y="175248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99"/>
                </a:solidFill>
                <a:latin typeface="Arial"/>
              </a:rPr>
              <a:t>2</a:t>
            </a:r>
            <a:r>
              <a:rPr b="0" i="1" lang="en-US" sz="2800" spc="-1" strike="noStrike">
                <a:solidFill>
                  <a:srgbClr val="cc3399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619360" y="364968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809880" y="108576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1</a:t>
            </a:r>
            <a:r>
              <a:rPr b="0" i="1" lang="en-US" sz="36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s</a:t>
            </a:r>
            <a:r>
              <a:rPr b="0" lang="en-US" sz="3600" spc="-1" strike="noStrike" baseline="30000">
                <a:solidFill>
                  <a:srgbClr val="0066ff"/>
                </a:solidFill>
                <a:latin typeface="Times New Roman"/>
                <a:ea typeface="Times New Roman"/>
              </a:rPr>
              <a:t>2</a:t>
            </a:r>
            <a:r>
              <a:rPr b="0" lang="en-US" sz="36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2</a:t>
            </a:r>
            <a:r>
              <a:rPr b="0" i="1" lang="en-US" sz="36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s</a:t>
            </a:r>
            <a:r>
              <a:rPr b="0" lang="en-US" sz="3600" spc="-1" strike="noStrike" baseline="30000">
                <a:solidFill>
                  <a:srgbClr val="0066ff"/>
                </a:solidFill>
                <a:latin typeface="Times New Roman"/>
                <a:ea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600200" y="1006560"/>
            <a:ext cx="533520" cy="7617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751120" y="1006560"/>
            <a:ext cx="533520" cy="7617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227160" y="3613320"/>
            <a:ext cx="8229600" cy="2197080"/>
            <a:chOff x="227160" y="3613320"/>
            <a:chExt cx="8229600" cy="2197080"/>
          </a:xfrm>
        </p:grpSpPr>
        <p:grpSp>
          <p:nvGrpSpPr>
            <p:cNvPr id="327" name=""/>
            <p:cNvGrpSpPr/>
            <p:nvPr/>
          </p:nvGrpSpPr>
          <p:grpSpPr>
            <a:xfrm>
              <a:off x="227160" y="3621240"/>
              <a:ext cx="8229600" cy="2189160"/>
              <a:chOff x="227160" y="3621240"/>
              <a:chExt cx="8229600" cy="2189160"/>
            </a:xfrm>
          </p:grpSpPr>
          <p:sp>
            <p:nvSpPr>
              <p:cNvPr id="328" name=""/>
              <p:cNvSpPr/>
              <p:nvPr/>
            </p:nvSpPr>
            <p:spPr>
              <a:xfrm>
                <a:off x="457200" y="3673440"/>
                <a:ext cx="8380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Times New Roman"/>
                  </a:rPr>
                  <a:t>Be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29" name=""/>
              <p:cNvGrpSpPr/>
              <p:nvPr/>
            </p:nvGrpSpPr>
            <p:grpSpPr>
              <a:xfrm>
                <a:off x="1476360" y="3621240"/>
                <a:ext cx="809640" cy="642600"/>
                <a:chOff x="1476360" y="3621240"/>
                <a:chExt cx="809640" cy="642600"/>
              </a:xfrm>
            </p:grpSpPr>
            <p:sp>
              <p:nvSpPr>
                <p:cNvPr id="330" name=""/>
                <p:cNvSpPr/>
                <p:nvPr/>
              </p:nvSpPr>
              <p:spPr>
                <a:xfrm>
                  <a:off x="1476360" y="3621240"/>
                  <a:ext cx="60984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↑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1676520" y="3621240"/>
                  <a:ext cx="60948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↓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2" name=""/>
              <p:cNvSpPr/>
              <p:nvPr/>
            </p:nvSpPr>
            <p:spPr>
              <a:xfrm>
                <a:off x="227160" y="4984920"/>
                <a:ext cx="82296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The 2s orbital fills upon the addition of beryllium’s  third and fourth electrons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86080" y="4395960"/>
                <a:ext cx="761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cc3399"/>
                    </a:solidFill>
                    <a:latin typeface="Arial"/>
                  </a:rPr>
                  <a:t>1</a:t>
                </a:r>
                <a:r>
                  <a:rPr b="0" i="1" lang="en-US" sz="2800" spc="-1" strike="noStrike">
                    <a:solidFill>
                      <a:srgbClr val="cc3399"/>
                    </a:solidFill>
                    <a:latin typeface="Arial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629080" y="4395960"/>
                <a:ext cx="761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cc3399"/>
                    </a:solidFill>
                    <a:latin typeface="Arial"/>
                  </a:rPr>
                  <a:t>2</a:t>
                </a:r>
                <a:r>
                  <a:rPr b="0" i="1" lang="en-US" sz="2800" spc="-1" strike="noStrike">
                    <a:solidFill>
                      <a:srgbClr val="cc3399"/>
                    </a:solidFill>
                    <a:latin typeface="Arial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5" name=""/>
            <p:cNvSpPr/>
            <p:nvPr/>
          </p:nvSpPr>
          <p:spPr>
            <a:xfrm>
              <a:off x="1600200" y="3613320"/>
              <a:ext cx="533520" cy="7617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736720" y="3613320"/>
              <a:ext cx="533520" cy="7617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2CE2-EA55-4854-87D9-D33D8CAA9310}" type="slidenum">
              <a:t>57</a:t>
            </a:fld>
          </a:p>
        </p:txBody>
      </p:sp>
    </p:spTree>
  </p:cSld>
  <p:transition spd="slow">
    <p:blinds dir="vert"/>
  </p:transition>
  <p:timing>
    <p:tnLst>
      <p:par>
        <p:cTn id="791" dur="indefinite" restart="never" nodeType="tmRoot">
          <p:childTnLst>
            <p:seq>
              <p:cTn id="792" dur="indefinite" nodeType="mainSeq">
                <p:childTnLst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7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2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3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8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3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lling the 2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Sub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5F78-1A2C-4A91-BEE4-AA3507F6DDDF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228600" y="21600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400800" y="21600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1</a:t>
            </a:r>
            <a:r>
              <a:rPr b="0" i="1" lang="en-US" sz="36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s</a:t>
            </a:r>
            <a:r>
              <a:rPr b="0" lang="en-US" sz="3600" spc="-1" strike="noStrike" baseline="30000">
                <a:solidFill>
                  <a:srgbClr val="0066ff"/>
                </a:solidFill>
                <a:latin typeface="Times New Roman"/>
                <a:ea typeface="Times New Roman"/>
              </a:rPr>
              <a:t>2</a:t>
            </a:r>
            <a:r>
              <a:rPr b="0" lang="en-US" sz="36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2</a:t>
            </a:r>
            <a:r>
              <a:rPr b="0" i="1" lang="en-US" sz="36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s</a:t>
            </a:r>
            <a:r>
              <a:rPr b="0" lang="en-US" sz="3600" spc="-1" strike="noStrike" baseline="30000">
                <a:solidFill>
                  <a:srgbClr val="0066ff"/>
                </a:solidFill>
                <a:latin typeface="Times New Roman"/>
                <a:ea typeface="Times New Roman"/>
              </a:rPr>
              <a:t>2</a:t>
            </a:r>
            <a:r>
              <a:rPr b="0" lang="en-US" sz="36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2</a:t>
            </a:r>
            <a:r>
              <a:rPr b="0" i="1" lang="en-US" sz="36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p</a:t>
            </a:r>
            <a:r>
              <a:rPr b="0" lang="en-US" sz="3600" spc="-1" strike="noStrike" baseline="30000">
                <a:solidFill>
                  <a:srgbClr val="0066ff"/>
                </a:solidFill>
                <a:latin typeface="Times New Roman"/>
                <a:ea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101600" y="9414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99"/>
                </a:solidFill>
                <a:latin typeface="Arial"/>
              </a:rPr>
              <a:t>1</a:t>
            </a:r>
            <a:r>
              <a:rPr b="0" i="1" lang="en-US" sz="2800" spc="-1" strike="noStrike">
                <a:solidFill>
                  <a:srgbClr val="cc3399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082960" y="94140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99"/>
                </a:solidFill>
                <a:latin typeface="Arial"/>
              </a:rPr>
              <a:t>2</a:t>
            </a:r>
            <a:r>
              <a:rPr b="0" i="1" lang="en-US" sz="2800" spc="-1" strike="noStrike">
                <a:solidFill>
                  <a:srgbClr val="cc3399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811680" y="94140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99"/>
                </a:solidFill>
                <a:latin typeface="Arial"/>
              </a:rPr>
              <a:t>2</a:t>
            </a:r>
            <a:r>
              <a:rPr b="0" i="1" lang="en-US" sz="2800" spc="-1" strike="noStrike">
                <a:solidFill>
                  <a:srgbClr val="cc3399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066680" y="15228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271520" y="15228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057400" y="16812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217600" y="1681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079800" y="15192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200400" y="155520"/>
            <a:ext cx="533520" cy="7621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648320" y="155520"/>
            <a:ext cx="533160" cy="7621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19320" y="155520"/>
            <a:ext cx="533160" cy="7621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209680" y="155520"/>
            <a:ext cx="533520" cy="7621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924360" y="155520"/>
            <a:ext cx="533520" cy="7621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27160" y="1387440"/>
            <a:ext cx="891540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oron has the first p electron.  The three 2p orbitals have the same energy.  It does not matter which orbital fills first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5" name=""/>
          <p:cNvGrpSpPr/>
          <p:nvPr/>
        </p:nvGrpSpPr>
        <p:grpSpPr>
          <a:xfrm>
            <a:off x="227160" y="2365200"/>
            <a:ext cx="8989920" cy="1965960"/>
            <a:chOff x="227160" y="2365200"/>
            <a:chExt cx="8989920" cy="1965960"/>
          </a:xfrm>
        </p:grpSpPr>
        <p:sp>
          <p:nvSpPr>
            <p:cNvPr id="356" name=""/>
            <p:cNvSpPr/>
            <p:nvPr/>
          </p:nvSpPr>
          <p:spPr>
            <a:xfrm>
              <a:off x="228600" y="2427120"/>
              <a:ext cx="838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7" name=""/>
            <p:cNvGrpSpPr/>
            <p:nvPr/>
          </p:nvGrpSpPr>
          <p:grpSpPr>
            <a:xfrm>
              <a:off x="227160" y="2365200"/>
              <a:ext cx="8989920" cy="1965960"/>
              <a:chOff x="227160" y="2365200"/>
              <a:chExt cx="8989920" cy="1965960"/>
            </a:xfrm>
          </p:grpSpPr>
          <p:grpSp>
            <p:nvGrpSpPr>
              <p:cNvPr id="358" name=""/>
              <p:cNvGrpSpPr/>
              <p:nvPr/>
            </p:nvGrpSpPr>
            <p:grpSpPr>
              <a:xfrm>
                <a:off x="1066680" y="2365200"/>
                <a:ext cx="4114800" cy="1309320"/>
                <a:chOff x="1066680" y="2365200"/>
                <a:chExt cx="4114800" cy="1309320"/>
              </a:xfrm>
            </p:grpSpPr>
            <p:sp>
              <p:nvSpPr>
                <p:cNvPr id="359" name=""/>
                <p:cNvSpPr/>
                <p:nvPr/>
              </p:nvSpPr>
              <p:spPr>
                <a:xfrm>
                  <a:off x="1101600" y="3153960"/>
                  <a:ext cx="7621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cc3399"/>
                      </a:solidFill>
                      <a:latin typeface="Arial"/>
                    </a:rPr>
                    <a:t>1</a:t>
                  </a:r>
                  <a:r>
                    <a:rPr b="0" i="1" lang="en-US" sz="2800" spc="-1" strike="noStrike">
                      <a:solidFill>
                        <a:srgbClr val="cc3399"/>
                      </a:solidFill>
                      <a:latin typeface="Arial"/>
                    </a:rPr>
                    <a:t>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2082960" y="3153960"/>
                  <a:ext cx="7617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cc3399"/>
                      </a:solidFill>
                      <a:latin typeface="Arial"/>
                    </a:rPr>
                    <a:t>2</a:t>
                  </a:r>
                  <a:r>
                    <a:rPr b="0" i="1" lang="en-US" sz="2800" spc="-1" strike="noStrike">
                      <a:solidFill>
                        <a:srgbClr val="cc3399"/>
                      </a:solidFill>
                      <a:latin typeface="Arial"/>
                    </a:rPr>
                    <a:t>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3811680" y="3153960"/>
                  <a:ext cx="7617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cc3399"/>
                      </a:solidFill>
                      <a:latin typeface="Arial"/>
                    </a:rPr>
                    <a:t>2</a:t>
                  </a:r>
                  <a:r>
                    <a:rPr b="0" i="1" lang="en-US" sz="2800" spc="-1" strike="noStrike">
                      <a:solidFill>
                        <a:srgbClr val="cc3399"/>
                      </a:solidFill>
                      <a:latin typeface="Arial"/>
                    </a:rPr>
                    <a:t>p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1066680" y="2365200"/>
                  <a:ext cx="60984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↑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1271520" y="2365200"/>
                  <a:ext cx="60984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↓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2057400" y="2381040"/>
                  <a:ext cx="60948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↑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2217600" y="2381040"/>
                  <a:ext cx="60984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↓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3200400" y="2368440"/>
                  <a:ext cx="533520" cy="76176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4648320" y="2368440"/>
                  <a:ext cx="533160" cy="76176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1219320" y="2368440"/>
                  <a:ext cx="533160" cy="76176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2209680" y="2368440"/>
                  <a:ext cx="533520" cy="76176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3924360" y="2368440"/>
                  <a:ext cx="533520" cy="76176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71" name=""/>
              <p:cNvSpPr/>
              <p:nvPr/>
            </p:nvSpPr>
            <p:spPr>
              <a:xfrm>
                <a:off x="227160" y="3536640"/>
                <a:ext cx="8989920" cy="79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300" spc="-1" strike="noStrike">
                    <a:solidFill>
                      <a:srgbClr val="000000"/>
                    </a:solidFill>
                    <a:latin typeface="Arial"/>
                  </a:rPr>
                  <a:t>The second p electron of carbon enters a different p orbital than the first p electron so as to give carbon the lowest possible energy.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72" name=""/>
          <p:cNvSpPr/>
          <p:nvPr/>
        </p:nvSpPr>
        <p:spPr>
          <a:xfrm>
            <a:off x="6400800" y="242712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1</a:t>
            </a:r>
            <a:r>
              <a:rPr b="0" i="1" lang="en-US" sz="36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s</a:t>
            </a:r>
            <a:r>
              <a:rPr b="0" lang="en-US" sz="3600" spc="-1" strike="noStrike" baseline="30000">
                <a:solidFill>
                  <a:srgbClr val="0066ff"/>
                </a:solidFill>
                <a:latin typeface="Times New Roman"/>
                <a:ea typeface="Times New Roman"/>
              </a:rPr>
              <a:t>2</a:t>
            </a:r>
            <a:r>
              <a:rPr b="0" lang="en-US" sz="36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2</a:t>
            </a:r>
            <a:r>
              <a:rPr b="0" i="1" lang="en-US" sz="36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s</a:t>
            </a:r>
            <a:r>
              <a:rPr b="0" lang="en-US" sz="3600" spc="-1" strike="noStrike" baseline="30000">
                <a:solidFill>
                  <a:srgbClr val="0066ff"/>
                </a:solidFill>
                <a:latin typeface="Times New Roman"/>
                <a:ea typeface="Times New Roman"/>
              </a:rPr>
              <a:t>2</a:t>
            </a:r>
            <a:r>
              <a:rPr b="0" lang="en-US" sz="36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2</a:t>
            </a:r>
            <a:r>
              <a:rPr b="0" i="1" lang="en-US" sz="36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p</a:t>
            </a:r>
            <a:r>
              <a:rPr b="0" lang="en-US" sz="3600" spc="-1" strike="noStrike" baseline="30000">
                <a:solidFill>
                  <a:srgbClr val="0066ff"/>
                </a:solidFill>
                <a:latin typeface="Times New Roman"/>
                <a:ea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006720" y="472392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736800" y="472428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446720" y="472428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6" name=""/>
          <p:cNvGrpSpPr/>
          <p:nvPr/>
        </p:nvGrpSpPr>
        <p:grpSpPr>
          <a:xfrm>
            <a:off x="154080" y="4724280"/>
            <a:ext cx="8989920" cy="1981440"/>
            <a:chOff x="154080" y="4724280"/>
            <a:chExt cx="8989920" cy="1981440"/>
          </a:xfrm>
        </p:grpSpPr>
        <p:grpSp>
          <p:nvGrpSpPr>
            <p:cNvPr id="377" name=""/>
            <p:cNvGrpSpPr/>
            <p:nvPr/>
          </p:nvGrpSpPr>
          <p:grpSpPr>
            <a:xfrm>
              <a:off x="155520" y="4724280"/>
              <a:ext cx="4952880" cy="1309680"/>
              <a:chOff x="155520" y="4724280"/>
              <a:chExt cx="4952880" cy="1309680"/>
            </a:xfrm>
          </p:grpSpPr>
          <p:sp>
            <p:nvSpPr>
              <p:cNvPr id="378" name=""/>
              <p:cNvSpPr/>
              <p:nvPr/>
            </p:nvSpPr>
            <p:spPr>
              <a:xfrm>
                <a:off x="155520" y="4786200"/>
                <a:ext cx="8380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028880" y="5513400"/>
                <a:ext cx="761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cc3399"/>
                    </a:solidFill>
                    <a:latin typeface="Arial"/>
                  </a:rPr>
                  <a:t>1</a:t>
                </a:r>
                <a:r>
                  <a:rPr b="0" i="1" lang="en-US" sz="2800" spc="-1" strike="noStrike">
                    <a:solidFill>
                      <a:srgbClr val="cc3399"/>
                    </a:solidFill>
                    <a:latin typeface="Arial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009880" y="5513400"/>
                <a:ext cx="761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cc3399"/>
                    </a:solidFill>
                    <a:latin typeface="Arial"/>
                  </a:rPr>
                  <a:t>2</a:t>
                </a:r>
                <a:r>
                  <a:rPr b="0" i="1" lang="en-US" sz="2800" spc="-1" strike="noStrike">
                    <a:solidFill>
                      <a:srgbClr val="cc3399"/>
                    </a:solidFill>
                    <a:latin typeface="Arial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738600" y="5513400"/>
                <a:ext cx="7621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cc3399"/>
                    </a:solidFill>
                    <a:latin typeface="Arial"/>
                  </a:rPr>
                  <a:t>2</a:t>
                </a:r>
                <a:r>
                  <a:rPr b="0" i="1" lang="en-US" sz="2800" spc="-1" strike="noStrike">
                    <a:solidFill>
                      <a:srgbClr val="cc3399"/>
                    </a:solidFill>
                    <a:latin typeface="Arial"/>
                  </a:rPr>
                  <a:t>p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993600" y="4724280"/>
                <a:ext cx="6098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↑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2144880" y="4755960"/>
                <a:ext cx="609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↓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3127320" y="4727520"/>
                <a:ext cx="533520" cy="76176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4575240" y="4727520"/>
                <a:ext cx="533160" cy="76176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86" name=""/>
              <p:cNvGrpSpPr/>
              <p:nvPr/>
            </p:nvGrpSpPr>
            <p:grpSpPr>
              <a:xfrm>
                <a:off x="1146240" y="4724280"/>
                <a:ext cx="1523880" cy="765000"/>
                <a:chOff x="1146240" y="4724280"/>
                <a:chExt cx="1523880" cy="765000"/>
              </a:xfrm>
            </p:grpSpPr>
            <p:sp>
              <p:nvSpPr>
                <p:cNvPr id="387" name=""/>
                <p:cNvSpPr/>
                <p:nvPr/>
              </p:nvSpPr>
              <p:spPr>
                <a:xfrm>
                  <a:off x="1198440" y="4724280"/>
                  <a:ext cx="60984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↓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1984320" y="4724280"/>
                  <a:ext cx="60948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↑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1146240" y="4727520"/>
                  <a:ext cx="533160" cy="76176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2136600" y="4727520"/>
                  <a:ext cx="533520" cy="76176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91" name=""/>
              <p:cNvSpPr/>
              <p:nvPr/>
            </p:nvSpPr>
            <p:spPr>
              <a:xfrm>
                <a:off x="3851280" y="4727520"/>
                <a:ext cx="533520" cy="76176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2" name=""/>
            <p:cNvSpPr/>
            <p:nvPr/>
          </p:nvSpPr>
          <p:spPr>
            <a:xfrm>
              <a:off x="154080" y="5895720"/>
              <a:ext cx="8989920" cy="81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The third p electron of nitrogen enters a different p orbital than its first two p electrons to give nitrogen the lowest possible energy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3" name=""/>
          <p:cNvSpPr/>
          <p:nvPr/>
        </p:nvSpPr>
        <p:spPr>
          <a:xfrm>
            <a:off x="6327720" y="478620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1</a:t>
            </a:r>
            <a:r>
              <a:rPr b="0" i="1" lang="en-US" sz="36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s</a:t>
            </a:r>
            <a:r>
              <a:rPr b="0" lang="en-US" sz="3600" spc="-1" strike="noStrike" baseline="30000">
                <a:solidFill>
                  <a:srgbClr val="0066ff"/>
                </a:solidFill>
                <a:latin typeface="Times New Roman"/>
                <a:ea typeface="Times New Roman"/>
              </a:rPr>
              <a:t>2</a:t>
            </a:r>
            <a:r>
              <a:rPr b="0" lang="en-US" sz="36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2</a:t>
            </a:r>
            <a:r>
              <a:rPr b="0" i="1" lang="en-US" sz="36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s</a:t>
            </a:r>
            <a:r>
              <a:rPr b="0" lang="en-US" sz="3600" spc="-1" strike="noStrike" baseline="30000">
                <a:solidFill>
                  <a:srgbClr val="0066ff"/>
                </a:solidFill>
                <a:latin typeface="Times New Roman"/>
                <a:ea typeface="Times New Roman"/>
              </a:rPr>
              <a:t>2</a:t>
            </a:r>
            <a:r>
              <a:rPr b="0" lang="en-US" sz="36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2</a:t>
            </a:r>
            <a:r>
              <a:rPr b="0" i="1" lang="en-US" sz="36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p</a:t>
            </a:r>
            <a:r>
              <a:rPr b="0" lang="en-US" sz="3600" spc="-1" strike="noStrike" baseline="30000">
                <a:solidFill>
                  <a:srgbClr val="0066ff"/>
                </a:solidFill>
                <a:latin typeface="Times New Roman"/>
                <a:ea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079800" y="238068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889440" y="238068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3B42-DDE4-45DB-82FD-54291C82C1A3}" type="slidenum">
              <a:t>59</a:t>
            </a:fld>
          </a:p>
        </p:txBody>
      </p:sp>
    </p:spTree>
  </p:cSld>
  <p:transition spd="slow">
    <p:blinds dir="vert"/>
  </p:transition>
  <p:timing>
    <p:tnLst>
      <p:par>
        <p:cTn id="824" dur="indefinite" restart="never" nodeType="tmRoot">
          <p:childTnLst>
            <p:seq>
              <p:cTn id="825" dur="indefinite" nodeType="mainSeq">
                <p:childTnLst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0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5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0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1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6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1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6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7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2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7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2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ergy can travel through space as </a:t>
            </a:r>
            <a:r>
              <a:rPr b="0" i="1" lang="en-US" sz="3600" spc="-1" strike="noStrike">
                <a:solidFill>
                  <a:srgbClr val="0066ff"/>
                </a:solidFill>
                <a:latin typeface="Times New Roman"/>
              </a:rPr>
              <a:t>electromagnetic radiatio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5E8B-A0D7-42FC-8591-0FD81F92A64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3079800" y="82872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400800" y="89208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1</a:t>
            </a:r>
            <a:r>
              <a:rPr b="0" i="1" lang="en-US" sz="36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s</a:t>
            </a:r>
            <a:r>
              <a:rPr b="0" lang="en-US" sz="3600" spc="-1" strike="noStrike" baseline="30000">
                <a:solidFill>
                  <a:srgbClr val="0066ff"/>
                </a:solidFill>
                <a:latin typeface="Times New Roman"/>
                <a:ea typeface="Times New Roman"/>
              </a:rPr>
              <a:t>2</a:t>
            </a:r>
            <a:r>
              <a:rPr b="0" lang="en-US" sz="36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2</a:t>
            </a:r>
            <a:r>
              <a:rPr b="0" i="1" lang="en-US" sz="36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s</a:t>
            </a:r>
            <a:r>
              <a:rPr b="0" lang="en-US" sz="3600" spc="-1" strike="noStrike" baseline="30000">
                <a:solidFill>
                  <a:srgbClr val="0066ff"/>
                </a:solidFill>
                <a:latin typeface="Times New Roman"/>
                <a:ea typeface="Times New Roman"/>
              </a:rPr>
              <a:t>2</a:t>
            </a:r>
            <a:r>
              <a:rPr b="0" lang="en-US" sz="36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2</a:t>
            </a:r>
            <a:r>
              <a:rPr b="0" i="1" lang="en-US" sz="36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p</a:t>
            </a:r>
            <a:r>
              <a:rPr b="0" lang="en-US" sz="3600" spc="-1" strike="noStrike" baseline="30000">
                <a:solidFill>
                  <a:srgbClr val="0066ff"/>
                </a:solidFill>
                <a:latin typeface="Times New Roman"/>
                <a:ea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809880" y="8287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519440" y="8287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227160" y="828720"/>
            <a:ext cx="8915400" cy="2379960"/>
            <a:chOff x="227160" y="828720"/>
            <a:chExt cx="8915400" cy="2379960"/>
          </a:xfrm>
        </p:grpSpPr>
        <p:sp>
          <p:nvSpPr>
            <p:cNvPr id="401" name=""/>
            <p:cNvSpPr/>
            <p:nvPr/>
          </p:nvSpPr>
          <p:spPr>
            <a:xfrm>
              <a:off x="1101600" y="161784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c3399"/>
                  </a:solidFill>
                  <a:latin typeface="Arial"/>
                </a:rPr>
                <a:t>1</a:t>
              </a:r>
              <a:r>
                <a:rPr b="0" i="1" lang="en-US" sz="2800" spc="-1" strike="noStrike">
                  <a:solidFill>
                    <a:srgbClr val="cc3399"/>
                  </a:solidFill>
                  <a:latin typeface="Arial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082960" y="1617840"/>
              <a:ext cx="76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c3399"/>
                  </a:solidFill>
                  <a:latin typeface="Arial"/>
                </a:rPr>
                <a:t>2</a:t>
              </a:r>
              <a:r>
                <a:rPr b="0" i="1" lang="en-US" sz="2800" spc="-1" strike="noStrike">
                  <a:solidFill>
                    <a:srgbClr val="cc3399"/>
                  </a:solidFill>
                  <a:latin typeface="Arial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811680" y="1617840"/>
              <a:ext cx="76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c3399"/>
                  </a:solidFill>
                  <a:latin typeface="Arial"/>
                </a:rPr>
                <a:t>2</a:t>
              </a:r>
              <a:r>
                <a:rPr b="0" i="1" lang="en-US" sz="2800" spc="-1" strike="noStrike">
                  <a:solidFill>
                    <a:srgbClr val="cc3399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066680" y="828720"/>
              <a:ext cx="609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↑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271520" y="828720"/>
              <a:ext cx="609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↓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057400" y="82872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↑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217600" y="860400"/>
              <a:ext cx="609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↓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200400" y="831960"/>
              <a:ext cx="533520" cy="762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648320" y="831960"/>
              <a:ext cx="533160" cy="762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28600" y="890640"/>
              <a:ext cx="838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219320" y="831960"/>
              <a:ext cx="533160" cy="762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209680" y="831960"/>
              <a:ext cx="533520" cy="762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924360" y="831960"/>
              <a:ext cx="533520" cy="762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27160" y="2063880"/>
              <a:ext cx="8915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There are four electrons in the 2p sublevel of oxygen.  One of the 2p orbitals is now occupied by a second electron, which has a spin opposite to that of the first electron already in the orbital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5" name=""/>
          <p:cNvSpPr/>
          <p:nvPr/>
        </p:nvSpPr>
        <p:spPr>
          <a:xfrm>
            <a:off x="3079800" y="357624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232080" y="357624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809880" y="357660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962520" y="357660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519440" y="357660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0" name=""/>
          <p:cNvGrpSpPr/>
          <p:nvPr/>
        </p:nvGrpSpPr>
        <p:grpSpPr>
          <a:xfrm>
            <a:off x="227160" y="3576600"/>
            <a:ext cx="8989920" cy="2451600"/>
            <a:chOff x="227160" y="3576600"/>
            <a:chExt cx="8989920" cy="2451600"/>
          </a:xfrm>
        </p:grpSpPr>
        <p:sp>
          <p:nvSpPr>
            <p:cNvPr id="421" name=""/>
            <p:cNvSpPr/>
            <p:nvPr/>
          </p:nvSpPr>
          <p:spPr>
            <a:xfrm>
              <a:off x="3811680" y="4365720"/>
              <a:ext cx="76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c3399"/>
                  </a:solidFill>
                  <a:latin typeface="Arial"/>
                </a:rPr>
                <a:t>2</a:t>
              </a:r>
              <a:r>
                <a:rPr b="0" i="1" lang="en-US" sz="2800" spc="-1" strike="noStrike">
                  <a:solidFill>
                    <a:srgbClr val="cc3399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2" name=""/>
            <p:cNvGrpSpPr/>
            <p:nvPr/>
          </p:nvGrpSpPr>
          <p:grpSpPr>
            <a:xfrm>
              <a:off x="227160" y="3576600"/>
              <a:ext cx="8989920" cy="2451600"/>
              <a:chOff x="227160" y="3576600"/>
              <a:chExt cx="8989920" cy="2451600"/>
            </a:xfrm>
          </p:grpSpPr>
          <p:sp>
            <p:nvSpPr>
              <p:cNvPr id="423" name=""/>
              <p:cNvSpPr/>
              <p:nvPr/>
            </p:nvSpPr>
            <p:spPr>
              <a:xfrm>
                <a:off x="228600" y="3638520"/>
                <a:ext cx="8380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1101600" y="4365720"/>
                <a:ext cx="7621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cc3399"/>
                    </a:solidFill>
                    <a:latin typeface="Arial"/>
                  </a:rPr>
                  <a:t>1</a:t>
                </a:r>
                <a:r>
                  <a:rPr b="0" i="1" lang="en-US" sz="2800" spc="-1" strike="noStrike">
                    <a:solidFill>
                      <a:srgbClr val="cc3399"/>
                    </a:solidFill>
                    <a:latin typeface="Arial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2082960" y="4365720"/>
                <a:ext cx="761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cc3399"/>
                    </a:solidFill>
                    <a:latin typeface="Arial"/>
                  </a:rPr>
                  <a:t>2</a:t>
                </a:r>
                <a:r>
                  <a:rPr b="0" i="1" lang="en-US" sz="2800" spc="-1" strike="noStrike">
                    <a:solidFill>
                      <a:srgbClr val="cc3399"/>
                    </a:solidFill>
                    <a:latin typeface="Arial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1066680" y="3576600"/>
                <a:ext cx="6098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↑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1271520" y="3576600"/>
                <a:ext cx="6098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↓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2057400" y="3576600"/>
                <a:ext cx="609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↑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2217600" y="3608640"/>
                <a:ext cx="6098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↓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3200400" y="3579840"/>
                <a:ext cx="533520" cy="76212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4648320" y="3579840"/>
                <a:ext cx="533160" cy="76212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1219320" y="3579840"/>
                <a:ext cx="533160" cy="76212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2209680" y="3579840"/>
                <a:ext cx="533520" cy="76212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3924360" y="3579840"/>
                <a:ext cx="533520" cy="76212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227160" y="4883400"/>
                <a:ext cx="8989920" cy="11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300" spc="-1" strike="noStrike">
                    <a:solidFill>
                      <a:srgbClr val="000000"/>
                    </a:solidFill>
                    <a:latin typeface="Arial"/>
                  </a:rPr>
                  <a:t>There are five electrons in the 2p sublevel of fluorine.  Two of the 2p orbitals are now occupied by a second electron, which has a spin opposite to that of the first electron already in the orbital.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36" name=""/>
          <p:cNvSpPr/>
          <p:nvPr/>
        </p:nvSpPr>
        <p:spPr>
          <a:xfrm>
            <a:off x="6400800" y="363852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1</a:t>
            </a:r>
            <a:r>
              <a:rPr b="0" i="1" lang="en-US" sz="36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s</a:t>
            </a:r>
            <a:r>
              <a:rPr b="0" lang="en-US" sz="3600" spc="-1" strike="noStrike" baseline="30000">
                <a:solidFill>
                  <a:srgbClr val="0066ff"/>
                </a:solidFill>
                <a:latin typeface="Times New Roman"/>
                <a:ea typeface="Times New Roman"/>
              </a:rPr>
              <a:t>2</a:t>
            </a:r>
            <a:r>
              <a:rPr b="0" lang="en-US" sz="36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2</a:t>
            </a:r>
            <a:r>
              <a:rPr b="0" i="1" lang="en-US" sz="36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s</a:t>
            </a:r>
            <a:r>
              <a:rPr b="0" lang="en-US" sz="3600" spc="-1" strike="noStrike" baseline="30000">
                <a:solidFill>
                  <a:srgbClr val="0066ff"/>
                </a:solidFill>
                <a:latin typeface="Times New Roman"/>
                <a:ea typeface="Times New Roman"/>
              </a:rPr>
              <a:t>2</a:t>
            </a:r>
            <a:r>
              <a:rPr b="0" lang="en-US" sz="36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2</a:t>
            </a:r>
            <a:r>
              <a:rPr b="0" i="1" lang="en-US" sz="36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p</a:t>
            </a:r>
            <a:r>
              <a:rPr b="0" lang="en-US" sz="3600" spc="-1" strike="noStrike" baseline="30000">
                <a:solidFill>
                  <a:srgbClr val="0066ff"/>
                </a:solidFill>
                <a:latin typeface="Times New Roman"/>
                <a:ea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257640" y="82872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C995-383E-414F-BB67-A07F435528F5}" type="slidenum">
              <a:t>60</a:t>
            </a:fld>
          </a:p>
        </p:txBody>
      </p:sp>
    </p:spTree>
  </p:cSld>
  <p:transition spd="slow">
    <p:blinds dir="vert"/>
  </p:transition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9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4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9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4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9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4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5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0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5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0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5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0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5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3079800" y="82980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232080" y="82980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809880" y="83016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962520" y="83016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519440" y="83016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672080" y="83016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4" name=""/>
          <p:cNvGrpSpPr/>
          <p:nvPr/>
        </p:nvGrpSpPr>
        <p:grpSpPr>
          <a:xfrm>
            <a:off x="227160" y="830160"/>
            <a:ext cx="8989920" cy="2132280"/>
            <a:chOff x="227160" y="830160"/>
            <a:chExt cx="8989920" cy="2132280"/>
          </a:xfrm>
        </p:grpSpPr>
        <p:sp>
          <p:nvSpPr>
            <p:cNvPr id="445" name=""/>
            <p:cNvSpPr/>
            <p:nvPr/>
          </p:nvSpPr>
          <p:spPr>
            <a:xfrm>
              <a:off x="3811680" y="1619280"/>
              <a:ext cx="76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c3399"/>
                  </a:solidFill>
                  <a:latin typeface="Arial"/>
                </a:rPr>
                <a:t>2</a:t>
              </a:r>
              <a:r>
                <a:rPr b="0" i="1" lang="en-US" sz="2800" spc="-1" strike="noStrike">
                  <a:solidFill>
                    <a:srgbClr val="cc3399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6" name=""/>
            <p:cNvGrpSpPr/>
            <p:nvPr/>
          </p:nvGrpSpPr>
          <p:grpSpPr>
            <a:xfrm>
              <a:off x="227160" y="830160"/>
              <a:ext cx="8989920" cy="2132280"/>
              <a:chOff x="227160" y="830160"/>
              <a:chExt cx="8989920" cy="2132280"/>
            </a:xfrm>
          </p:grpSpPr>
          <p:sp>
            <p:nvSpPr>
              <p:cNvPr id="447" name=""/>
              <p:cNvSpPr/>
              <p:nvPr/>
            </p:nvSpPr>
            <p:spPr>
              <a:xfrm>
                <a:off x="228600" y="892080"/>
                <a:ext cx="8380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Times New Roman"/>
                  </a:rPr>
                  <a:t>Ne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1101600" y="1619280"/>
                <a:ext cx="7621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cc3399"/>
                    </a:solidFill>
                    <a:latin typeface="Arial"/>
                  </a:rPr>
                  <a:t>1</a:t>
                </a:r>
                <a:r>
                  <a:rPr b="0" i="1" lang="en-US" sz="2800" spc="-1" strike="noStrike">
                    <a:solidFill>
                      <a:srgbClr val="cc3399"/>
                    </a:solidFill>
                    <a:latin typeface="Arial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2082960" y="1619280"/>
                <a:ext cx="761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cc3399"/>
                    </a:solidFill>
                    <a:latin typeface="Arial"/>
                  </a:rPr>
                  <a:t>2</a:t>
                </a:r>
                <a:r>
                  <a:rPr b="0" i="1" lang="en-US" sz="2800" spc="-1" strike="noStrike">
                    <a:solidFill>
                      <a:srgbClr val="cc3399"/>
                    </a:solidFill>
                    <a:latin typeface="Arial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1066680" y="830160"/>
                <a:ext cx="6098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↑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271520" y="830160"/>
                <a:ext cx="6098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↓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057400" y="830160"/>
                <a:ext cx="609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↑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2217600" y="862200"/>
                <a:ext cx="6098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↓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3200400" y="833400"/>
                <a:ext cx="533520" cy="76212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4648320" y="833400"/>
                <a:ext cx="533160" cy="76212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219320" y="833400"/>
                <a:ext cx="533160" cy="76212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2209680" y="833400"/>
                <a:ext cx="533520" cy="76212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924360" y="833400"/>
                <a:ext cx="533520" cy="76212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227160" y="2136960"/>
                <a:ext cx="89899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There are 6 electrons in the 2p sublevel of neon, which fills the sublevel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60" name=""/>
          <p:cNvSpPr/>
          <p:nvPr/>
        </p:nvSpPr>
        <p:spPr>
          <a:xfrm>
            <a:off x="6400800" y="89208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1</a:t>
            </a:r>
            <a:r>
              <a:rPr b="0" i="1" lang="en-US" sz="36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s</a:t>
            </a:r>
            <a:r>
              <a:rPr b="0" lang="en-US" sz="3600" spc="-1" strike="noStrike" baseline="30000">
                <a:solidFill>
                  <a:srgbClr val="0066ff"/>
                </a:solidFill>
                <a:latin typeface="Times New Roman"/>
                <a:ea typeface="Times New Roman"/>
              </a:rPr>
              <a:t>2</a:t>
            </a:r>
            <a:r>
              <a:rPr b="0" lang="en-US" sz="36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2</a:t>
            </a:r>
            <a:r>
              <a:rPr b="0" i="1" lang="en-US" sz="36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s</a:t>
            </a:r>
            <a:r>
              <a:rPr b="0" lang="en-US" sz="3600" spc="-1" strike="noStrike" baseline="30000">
                <a:solidFill>
                  <a:srgbClr val="0066ff"/>
                </a:solidFill>
                <a:latin typeface="Times New Roman"/>
                <a:ea typeface="Times New Roman"/>
              </a:rPr>
              <a:t>2</a:t>
            </a:r>
            <a:r>
              <a:rPr b="0" lang="en-US" sz="36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2</a:t>
            </a:r>
            <a:r>
              <a:rPr b="0" i="1" lang="en-US" sz="36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p</a:t>
            </a:r>
            <a:r>
              <a:rPr b="0" lang="en-US" sz="3600" spc="-1" strike="noStrike" baseline="30000">
                <a:solidFill>
                  <a:srgbClr val="0066ff"/>
                </a:solidFill>
                <a:latin typeface="Times New Roman"/>
                <a:ea typeface="Times New Roman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9C42-1227-44B4-94FB-04E21B348AF5}" type="slidenum">
              <a:t>61</a:t>
            </a:fld>
          </a:p>
        </p:txBody>
      </p:sp>
    </p:spTree>
  </p:cSld>
  <p:transition spd="slow">
    <p:blinds dir="vert"/>
  </p:transition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2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7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2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7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2" dur="1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7" dur="1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2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285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lling the 3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Sub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8A10-A4F8-4542-AA7B-2836380BE1EF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228600" y="97776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400800" y="97776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1</a:t>
            </a:r>
            <a:r>
              <a:rPr b="0" i="1" lang="en-US" sz="36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s</a:t>
            </a:r>
            <a:r>
              <a:rPr b="0" lang="en-US" sz="3600" spc="-1" strike="noStrike" baseline="30000">
                <a:solidFill>
                  <a:srgbClr val="0066ff"/>
                </a:solidFill>
                <a:latin typeface="Times New Roman"/>
                <a:ea typeface="Times New Roman"/>
              </a:rPr>
              <a:t>2</a:t>
            </a:r>
            <a:r>
              <a:rPr b="0" lang="en-US" sz="36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2</a:t>
            </a:r>
            <a:r>
              <a:rPr b="0" i="1" lang="en-US" sz="36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s</a:t>
            </a:r>
            <a:r>
              <a:rPr b="0" lang="en-US" sz="3600" spc="-1" strike="noStrike" baseline="30000">
                <a:solidFill>
                  <a:srgbClr val="0066ff"/>
                </a:solidFill>
                <a:latin typeface="Times New Roman"/>
                <a:ea typeface="Times New Roman"/>
              </a:rPr>
              <a:t>2</a:t>
            </a:r>
            <a:r>
              <a:rPr b="0" lang="en-US" sz="36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2</a:t>
            </a:r>
            <a:r>
              <a:rPr b="0" i="1" lang="en-US" sz="36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p</a:t>
            </a:r>
            <a:r>
              <a:rPr b="0" lang="en-US" sz="3600" spc="-1" strike="noStrike" baseline="30000">
                <a:solidFill>
                  <a:srgbClr val="0066ff"/>
                </a:solidFill>
                <a:latin typeface="Times New Roman"/>
                <a:ea typeface="Times New Roman"/>
              </a:rPr>
              <a:t>6</a:t>
            </a:r>
            <a:r>
              <a:rPr b="0" lang="en-US" sz="36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3</a:t>
            </a:r>
            <a:r>
              <a:rPr b="0" i="1" lang="en-US" sz="36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s</a:t>
            </a:r>
            <a:r>
              <a:rPr b="0" lang="en-US" sz="3600" spc="-1" strike="noStrike" baseline="30000">
                <a:solidFill>
                  <a:srgbClr val="0066ff"/>
                </a:solidFill>
                <a:latin typeface="Times New Roman"/>
                <a:ea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101600" y="1703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99"/>
                </a:solidFill>
                <a:latin typeface="Arial"/>
              </a:rPr>
              <a:t>1</a:t>
            </a:r>
            <a:r>
              <a:rPr b="0" i="1" lang="en-US" sz="2800" spc="-1" strike="noStrike">
                <a:solidFill>
                  <a:srgbClr val="cc3399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082960" y="170352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99"/>
                </a:solidFill>
                <a:latin typeface="Arial"/>
              </a:rPr>
              <a:t>2</a:t>
            </a:r>
            <a:r>
              <a:rPr b="0" i="1" lang="en-US" sz="2800" spc="-1" strike="noStrike">
                <a:solidFill>
                  <a:srgbClr val="cc3399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811680" y="170352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99"/>
                </a:solidFill>
                <a:latin typeface="Arial"/>
              </a:rPr>
              <a:t>2</a:t>
            </a:r>
            <a:r>
              <a:rPr b="0" i="1" lang="en-US" sz="2800" spc="-1" strike="noStrike">
                <a:solidFill>
                  <a:srgbClr val="cc3399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5568840" y="17017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99"/>
                </a:solidFill>
                <a:latin typeface="Arial"/>
              </a:rPr>
              <a:t>3</a:t>
            </a:r>
            <a:r>
              <a:rPr b="0" i="1" lang="en-US" sz="2800" spc="-1" strike="noStrike">
                <a:solidFill>
                  <a:srgbClr val="cc3399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066680" y="91440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271520" y="91440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057400" y="91440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217600" y="94608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079800" y="91404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232080" y="91404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809880" y="91440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962520" y="91440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519440" y="91440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4672080" y="91440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200400" y="917640"/>
            <a:ext cx="533520" cy="7617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648320" y="917640"/>
            <a:ext cx="533160" cy="7617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219320" y="917640"/>
            <a:ext cx="533160" cy="7617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209680" y="917640"/>
            <a:ext cx="533520" cy="7617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634000" y="91440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675400" y="917640"/>
            <a:ext cx="533160" cy="7617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924360" y="917640"/>
            <a:ext cx="533520" cy="7617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27160" y="2149560"/>
            <a:ext cx="89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2s and 2p sublevels are filled.  The next electron enters the 3s sublevel of sodiu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227160" y="3415680"/>
            <a:ext cx="8989920" cy="1997640"/>
            <a:chOff x="227160" y="3415680"/>
            <a:chExt cx="8989920" cy="1997640"/>
          </a:xfrm>
        </p:grpSpPr>
        <p:sp>
          <p:nvSpPr>
            <p:cNvPr id="487" name=""/>
            <p:cNvSpPr/>
            <p:nvPr/>
          </p:nvSpPr>
          <p:spPr>
            <a:xfrm>
              <a:off x="228600" y="3478320"/>
              <a:ext cx="838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Mg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101600" y="420516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c3399"/>
                  </a:solidFill>
                  <a:latin typeface="Arial"/>
                </a:rPr>
                <a:t>1</a:t>
              </a:r>
              <a:r>
                <a:rPr b="0" i="1" lang="en-US" sz="2800" spc="-1" strike="noStrike">
                  <a:solidFill>
                    <a:srgbClr val="cc3399"/>
                  </a:solidFill>
                  <a:latin typeface="Arial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082960" y="4205160"/>
              <a:ext cx="76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c3399"/>
                  </a:solidFill>
                  <a:latin typeface="Arial"/>
                </a:rPr>
                <a:t>2</a:t>
              </a:r>
              <a:r>
                <a:rPr b="0" i="1" lang="en-US" sz="2800" spc="-1" strike="noStrike">
                  <a:solidFill>
                    <a:srgbClr val="cc3399"/>
                  </a:solidFill>
                  <a:latin typeface="Arial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811680" y="4205160"/>
              <a:ext cx="76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c3399"/>
                  </a:solidFill>
                  <a:latin typeface="Arial"/>
                </a:rPr>
                <a:t>2</a:t>
              </a:r>
              <a:r>
                <a:rPr b="0" i="1" lang="en-US" sz="2800" spc="-1" strike="noStrike">
                  <a:solidFill>
                    <a:srgbClr val="cc3399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568840" y="420372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c3399"/>
                  </a:solidFill>
                  <a:latin typeface="Arial"/>
                </a:rPr>
                <a:t>3</a:t>
              </a:r>
              <a:r>
                <a:rPr b="0" i="1" lang="en-US" sz="2800" spc="-1" strike="noStrike">
                  <a:solidFill>
                    <a:srgbClr val="cc3399"/>
                  </a:solidFill>
                  <a:latin typeface="Arial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066680" y="3416400"/>
              <a:ext cx="609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↑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271520" y="3416400"/>
              <a:ext cx="609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↓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057400" y="341640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↑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217600" y="3448080"/>
              <a:ext cx="609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↓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3079800" y="341568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↑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232080" y="3415680"/>
              <a:ext cx="609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↓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3809880" y="3416400"/>
              <a:ext cx="609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↑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962520" y="341640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↓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4519440" y="3416400"/>
              <a:ext cx="609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↑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4672080" y="341640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↓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3200400" y="3419640"/>
              <a:ext cx="533520" cy="7617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648320" y="3419640"/>
              <a:ext cx="533160" cy="7617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219320" y="3419640"/>
              <a:ext cx="533160" cy="7617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209680" y="3419640"/>
              <a:ext cx="533520" cy="7617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562720" y="341640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↑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675400" y="3419640"/>
              <a:ext cx="533160" cy="7617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3924360" y="3419640"/>
              <a:ext cx="533520" cy="7617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27160" y="4587840"/>
              <a:ext cx="8989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he 3s orbital fills upon the addition of magnesium’s twelfth electron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0" name=""/>
          <p:cNvSpPr/>
          <p:nvPr/>
        </p:nvSpPr>
        <p:spPr>
          <a:xfrm>
            <a:off x="6400800" y="347832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1</a:t>
            </a:r>
            <a:r>
              <a:rPr b="0" i="1" lang="en-US" sz="36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s</a:t>
            </a:r>
            <a:r>
              <a:rPr b="0" lang="en-US" sz="3600" spc="-1" strike="noStrike" baseline="30000">
                <a:solidFill>
                  <a:srgbClr val="0066ff"/>
                </a:solidFill>
                <a:latin typeface="Times New Roman"/>
                <a:ea typeface="Times New Roman"/>
              </a:rPr>
              <a:t>2</a:t>
            </a:r>
            <a:r>
              <a:rPr b="0" lang="en-US" sz="36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2</a:t>
            </a:r>
            <a:r>
              <a:rPr b="0" i="1" lang="en-US" sz="36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s</a:t>
            </a:r>
            <a:r>
              <a:rPr b="0" lang="en-US" sz="3600" spc="-1" strike="noStrike" baseline="30000">
                <a:solidFill>
                  <a:srgbClr val="0066ff"/>
                </a:solidFill>
                <a:latin typeface="Times New Roman"/>
                <a:ea typeface="Times New Roman"/>
              </a:rPr>
              <a:t>2</a:t>
            </a:r>
            <a:r>
              <a:rPr b="0" lang="en-US" sz="36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2</a:t>
            </a:r>
            <a:r>
              <a:rPr b="0" i="1" lang="en-US" sz="36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p</a:t>
            </a:r>
            <a:r>
              <a:rPr b="0" lang="en-US" sz="3600" spc="-1" strike="noStrike" baseline="30000">
                <a:solidFill>
                  <a:srgbClr val="0066ff"/>
                </a:solidFill>
                <a:latin typeface="Times New Roman"/>
                <a:ea typeface="Times New Roman"/>
              </a:rPr>
              <a:t>6</a:t>
            </a:r>
            <a:r>
              <a:rPr b="0" lang="en-US" sz="36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3</a:t>
            </a:r>
            <a:r>
              <a:rPr b="0" i="1" lang="en-US" sz="36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s</a:t>
            </a:r>
            <a:r>
              <a:rPr b="0" lang="en-US" sz="3600" spc="-1" strike="noStrike" baseline="30000">
                <a:solidFill>
                  <a:srgbClr val="0066ff"/>
                </a:solidFill>
                <a:latin typeface="Times New Roman"/>
                <a:ea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5715000" y="341640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6657-2405-43ED-913C-EEF0120A3619}" type="slidenum">
              <a:t>63</a:t>
            </a:fld>
          </a:p>
        </p:txBody>
      </p:sp>
    </p:spTree>
  </p:cSld>
  <p:transition spd="slow">
    <p:blinds dir="vert"/>
  </p:transition>
  <p:timing>
    <p:tnLst>
      <p:par>
        <p:cTn id="983" dur="indefinite" restart="never" nodeType="tmRoot">
          <p:childTnLst>
            <p:seq>
              <p:cTn id="984" dur="indefinite" nodeType="mainSeq">
                <p:childTnLst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9" dur="1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4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9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0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0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" descr=""/>
          <p:cNvPicPr/>
          <p:nvPr/>
        </p:nvPicPr>
        <p:blipFill>
          <a:blip r:embed="rId1"/>
          <a:stretch/>
        </p:blipFill>
        <p:spPr>
          <a:xfrm>
            <a:off x="1162080" y="871560"/>
            <a:ext cx="6819840" cy="5113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C278-869E-4B8A-A2B9-EE1A14218247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" descr=""/>
          <p:cNvPicPr/>
          <p:nvPr/>
        </p:nvPicPr>
        <p:blipFill>
          <a:blip r:embed="rId1"/>
          <a:srcRect l="0" t="20837" r="0" b="20837"/>
          <a:stretch/>
        </p:blipFill>
        <p:spPr>
          <a:xfrm>
            <a:off x="0" y="1066680"/>
            <a:ext cx="9144000" cy="4000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FB8A-54FD-4D7C-BB27-9329FCDFB9BF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99"/>
                </a:solidFill>
                <a:latin typeface="Times New Roman"/>
              </a:rPr>
              <a:t>10.6</a:t>
            </a:r>
            <a:br>
              <a:rPr sz="4400"/>
            </a:br>
            <a:r>
              <a:rPr b="0" lang="en-US" sz="6600" spc="-1" strike="noStrike" u="sng">
                <a:solidFill>
                  <a:srgbClr val="cc3399"/>
                </a:solidFill>
                <a:uFillTx/>
                <a:latin typeface="Times New Roman"/>
              </a:rPr>
              <a:t>Electron Structures and the Periodic Tabl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8075520" y="5635800"/>
            <a:ext cx="384120" cy="384120"/>
          </a:xfrm>
          <a:custGeom>
            <a:avLst/>
            <a:gdLst>
              <a:gd name="textAreaLeft" fmla="*/ 24840 w 384120"/>
              <a:gd name="textAreaRight" fmla="*/ 359280 w 384120"/>
              <a:gd name="textAreaTop" fmla="*/ 24840 h 384120"/>
              <a:gd name="textAreaBottom" fmla="*/ 359280 h 384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4621-261E-4CE3-AB26-C94C778CD4D9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33520" y="19807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 1869 Dimitri Mendeleev of Russia and Lothar Meyer of Germany independently published periodic arrangements of th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lements based on increasing atomic mass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subTitle"/>
          </p:nvPr>
        </p:nvSpPr>
        <p:spPr>
          <a:xfrm>
            <a:off x="533520" y="4266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ndeleev’s arrangement is the precursor to the modern periodic tabl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E92B-6ED4-4AFD-AC90-7BCA1E391097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1" dur="indefinite" restart="never" nodeType="tmRoot">
          <p:childTnLst>
            <p:seq>
              <p:cTn id="1012" dur="indefinite" nodeType="mainSeq">
                <p:childTnLst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7" dur="1000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8" name="" descr=""/>
          <p:cNvPicPr/>
          <p:nvPr/>
        </p:nvPicPr>
        <p:blipFill>
          <a:blip r:embed="rId1"/>
          <a:srcRect l="0" t="17500" r="0" b="24006"/>
          <a:stretch/>
        </p:blipFill>
        <p:spPr>
          <a:xfrm>
            <a:off x="-23760" y="1654200"/>
            <a:ext cx="9104400" cy="3549600"/>
          </a:xfrm>
          <a:prstGeom prst="rect">
            <a:avLst/>
          </a:prstGeom>
          <a:ln w="0">
            <a:noFill/>
          </a:ln>
        </p:spPr>
      </p:pic>
      <p:grpSp>
        <p:nvGrpSpPr>
          <p:cNvPr id="519" name=""/>
          <p:cNvGrpSpPr/>
          <p:nvPr/>
        </p:nvGrpSpPr>
        <p:grpSpPr>
          <a:xfrm>
            <a:off x="399960" y="2303640"/>
            <a:ext cx="111240" cy="2651040"/>
            <a:chOff x="399960" y="2303640"/>
            <a:chExt cx="111240" cy="2651040"/>
          </a:xfrm>
        </p:grpSpPr>
        <p:sp>
          <p:nvSpPr>
            <p:cNvPr id="520" name=""/>
            <p:cNvSpPr/>
            <p:nvPr/>
          </p:nvSpPr>
          <p:spPr>
            <a:xfrm>
              <a:off x="399960" y="3959280"/>
              <a:ext cx="111240" cy="164880"/>
            </a:xfrm>
            <a:prstGeom prst="rect">
              <a:avLst/>
            </a:prstGeom>
            <a:noFill/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99960" y="4375080"/>
              <a:ext cx="111240" cy="165240"/>
            </a:xfrm>
            <a:prstGeom prst="rect">
              <a:avLst/>
            </a:prstGeom>
            <a:noFill/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99960" y="4789440"/>
              <a:ext cx="111240" cy="165240"/>
            </a:xfrm>
            <a:prstGeom prst="rect">
              <a:avLst/>
            </a:prstGeom>
            <a:noFill/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99960" y="3544920"/>
              <a:ext cx="111240" cy="165240"/>
            </a:xfrm>
            <a:prstGeom prst="rect">
              <a:avLst/>
            </a:prstGeom>
            <a:noFill/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99960" y="3117960"/>
              <a:ext cx="111240" cy="164880"/>
            </a:xfrm>
            <a:prstGeom prst="rect">
              <a:avLst/>
            </a:prstGeom>
            <a:noFill/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99960" y="2706840"/>
              <a:ext cx="111240" cy="164880"/>
            </a:xfrm>
            <a:prstGeom prst="rect">
              <a:avLst/>
            </a:prstGeom>
            <a:noFill/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399960" y="2303640"/>
              <a:ext cx="111240" cy="164880"/>
            </a:xfrm>
            <a:prstGeom prst="rect">
              <a:avLst/>
            </a:prstGeom>
            <a:noFill/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7" name=""/>
          <p:cNvSpPr/>
          <p:nvPr/>
        </p:nvSpPr>
        <p:spPr>
          <a:xfrm>
            <a:off x="0" y="655308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.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8" name=""/>
          <p:cNvGrpSpPr/>
          <p:nvPr/>
        </p:nvGrpSpPr>
        <p:grpSpPr>
          <a:xfrm>
            <a:off x="533520" y="2573280"/>
            <a:ext cx="8458200" cy="1706760"/>
            <a:chOff x="533520" y="2573280"/>
            <a:chExt cx="8458200" cy="1706760"/>
          </a:xfrm>
        </p:grpSpPr>
        <p:sp>
          <p:nvSpPr>
            <p:cNvPr id="529" name=""/>
            <p:cNvSpPr/>
            <p:nvPr/>
          </p:nvSpPr>
          <p:spPr>
            <a:xfrm>
              <a:off x="533520" y="2573280"/>
              <a:ext cx="8458200" cy="457200"/>
            </a:xfrm>
            <a:prstGeom prst="rect">
              <a:avLst/>
            </a:prstGeom>
            <a:noFill/>
            <a:ln w="41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33520" y="3822840"/>
              <a:ext cx="8458200" cy="457200"/>
            </a:xfrm>
            <a:prstGeom prst="rect">
              <a:avLst/>
            </a:prstGeom>
            <a:noFill/>
            <a:ln w="41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1" name=""/>
          <p:cNvSpPr/>
          <p:nvPr/>
        </p:nvSpPr>
        <p:spPr>
          <a:xfrm>
            <a:off x="4030560" y="588960"/>
            <a:ext cx="3272040" cy="144468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rizontal rows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ll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i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019400" y="571680"/>
            <a:ext cx="4038840" cy="1447560"/>
          </a:xfrm>
          <a:prstGeom prst="borderCallout2">
            <a:avLst>
              <a:gd name="adj1" fmla="val 18750"/>
              <a:gd name="adj2" fmla="val -8333"/>
              <a:gd name="adj3" fmla="val 7893"/>
              <a:gd name="adj4" fmla="val -44180"/>
              <a:gd name="adj5" fmla="val 204055"/>
              <a:gd name="adj6" fmla="val -88208"/>
            </a:avLst>
          </a:prstGeom>
          <a:solidFill>
            <a:srgbClr val="00cc99"/>
          </a:solidFill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iod numbers correspond to the highest occupied energy lev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046A-59D7-4DD5-967B-7441E433E860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8" dur="indefinite" restart="never" nodeType="tmRoot">
          <p:childTnLst>
            <p:seq>
              <p:cTn id="1019" dur="indefinite" nodeType="mainSeq">
                <p:childTnLst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24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27" dur="2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32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35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" descr=""/>
          <p:cNvPicPr/>
          <p:nvPr/>
        </p:nvPicPr>
        <p:blipFill>
          <a:blip r:embed="rId1"/>
          <a:srcRect l="0" t="17500" r="0" b="24006"/>
          <a:stretch/>
        </p:blipFill>
        <p:spPr>
          <a:xfrm>
            <a:off x="-23760" y="1654200"/>
            <a:ext cx="9104400" cy="3549600"/>
          </a:xfrm>
          <a:prstGeom prst="rect">
            <a:avLst/>
          </a:prstGeom>
          <a:ln w="0">
            <a:noFill/>
          </a:ln>
        </p:spPr>
      </p:pic>
      <p:sp>
        <p:nvSpPr>
          <p:cNvPr id="534" name=""/>
          <p:cNvSpPr/>
          <p:nvPr/>
        </p:nvSpPr>
        <p:spPr>
          <a:xfrm>
            <a:off x="0" y="655308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.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003560" y="227160"/>
            <a:ext cx="3733920" cy="1447560"/>
          </a:xfrm>
          <a:prstGeom prst="borderCallout2">
            <a:avLst>
              <a:gd name="adj1" fmla="val 18750"/>
              <a:gd name="adj2" fmla="val -8333"/>
              <a:gd name="adj3" fmla="val 7893"/>
              <a:gd name="adj4" fmla="val -37074"/>
              <a:gd name="adj5" fmla="val 146379"/>
              <a:gd name="adj6" fmla="val -73597"/>
            </a:avLst>
          </a:prstGeom>
          <a:solidFill>
            <a:srgbClr val="00cc99"/>
          </a:solidFill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with similar properties are organized in groups or families.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966960" y="2408400"/>
            <a:ext cx="533160" cy="2684160"/>
          </a:xfrm>
          <a:prstGeom prst="rect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80C6-3152-4086-BC05-6D3C43FC6E60}" type="slidenum">
              <a:t>69</a:t>
            </a:fld>
          </a:p>
        </p:txBody>
      </p:sp>
    </p:spTree>
  </p:cSld>
  <p:transition spd="slow">
    <p:blinds dir="vert"/>
  </p:transition>
  <p:timing>
    <p:tnLst>
      <p:par>
        <p:cTn id="1037" dur="indefinite" restart="never" nodeType="tmRoot">
          <p:childTnLst>
            <p:seq>
              <p:cTn id="1038" dur="indefinite" nodeType="mainSeq">
                <p:childTnLst>
                  <p:par>
                    <p:cTn id="1039" fill="hold">
                      <p:stCondLst>
                        <p:cond delay="0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43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609480" y="10666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ght from the su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x-ray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crowav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adio wav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elevision wav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adiant he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4120" y="1371600"/>
            <a:ext cx="3429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All show </a:t>
            </a:r>
            <a:r>
              <a:rPr b="0" i="1" lang="en-US" sz="3200" spc="-1" strike="noStrike">
                <a:solidFill>
                  <a:srgbClr val="ff0066"/>
                </a:solidFill>
                <a:latin typeface="Arial"/>
              </a:rPr>
              <a:t>wavelike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 behavi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5294160" y="2620800"/>
            <a:ext cx="3468960" cy="2257920"/>
            <a:chOff x="5294160" y="2620800"/>
            <a:chExt cx="3468960" cy="2257920"/>
          </a:xfrm>
        </p:grpSpPr>
        <p:sp>
          <p:nvSpPr>
            <p:cNvPr id="64" name=""/>
            <p:cNvSpPr/>
            <p:nvPr/>
          </p:nvSpPr>
          <p:spPr>
            <a:xfrm>
              <a:off x="5334120" y="2620800"/>
              <a:ext cx="342900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66ff"/>
                  </a:solidFill>
                  <a:latin typeface="Arial"/>
                </a:rPr>
                <a:t>Each travels at the same speed in a vacuum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294160" y="4297320"/>
              <a:ext cx="2971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66ff"/>
                  </a:solidFill>
                  <a:latin typeface="Arial"/>
                </a:rPr>
                <a:t>3.00 x 10</a:t>
              </a:r>
              <a:r>
                <a:rPr b="0" lang="en-US" sz="3200" spc="-1" strike="noStrike" baseline="30000">
                  <a:solidFill>
                    <a:srgbClr val="0066ff"/>
                  </a:solidFill>
                  <a:latin typeface="Arial"/>
                </a:rPr>
                <a:t>8</a:t>
              </a:r>
              <a:r>
                <a:rPr b="0" lang="en-US" sz="3200" spc="-1" strike="noStrike">
                  <a:solidFill>
                    <a:srgbClr val="0066ff"/>
                  </a:solidFill>
                  <a:latin typeface="Arial"/>
                </a:rPr>
                <a:t> m/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594A-8626-45F6-94C0-A5453575EE91}" type="slidenum">
              <a:t>7</a:t>
            </a:fld>
          </a:p>
        </p:txBody>
      </p:sp>
    </p:spTree>
  </p:cSld>
  <p:transition spd="slow">
    <p:blinds dir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75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75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125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75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75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575"/>
                            </p:stCondLst>
                            <p:childTnLst>
                              <p:par>
                                <p:cTn id="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75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75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325"/>
                            </p:stCondLst>
                            <p:childTnLst>
                              <p:par>
                                <p:cTn id="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75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075"/>
                            </p:stCondLst>
                            <p:childTnLst>
                              <p:par>
                                <p:cTn id="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75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75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4200"/>
                            </p:stCondLst>
                            <p:childTnLst>
                              <p:par>
                                <p:cTn id="3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75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75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" descr=""/>
          <p:cNvPicPr/>
          <p:nvPr/>
        </p:nvPicPr>
        <p:blipFill>
          <a:blip r:embed="rId1"/>
          <a:srcRect l="0" t="17500" r="0" b="24006"/>
          <a:stretch/>
        </p:blipFill>
        <p:spPr>
          <a:xfrm>
            <a:off x="-23760" y="1654200"/>
            <a:ext cx="9104400" cy="3549600"/>
          </a:xfrm>
          <a:prstGeom prst="rect">
            <a:avLst/>
          </a:prstGeom>
          <a:ln w="0">
            <a:noFill/>
          </a:ln>
        </p:spPr>
      </p:pic>
      <p:sp>
        <p:nvSpPr>
          <p:cNvPr id="538" name=""/>
          <p:cNvSpPr/>
          <p:nvPr/>
        </p:nvSpPr>
        <p:spPr>
          <a:xfrm>
            <a:off x="0" y="655308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.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4000680" y="231840"/>
            <a:ext cx="3728880" cy="144468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in the A group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e design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presentative element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33520" y="1996920"/>
            <a:ext cx="971280" cy="318456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6095880" y="2008080"/>
            <a:ext cx="2895840" cy="274320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AA7B-BC9E-4E4F-888F-982A75222877}" type="slidenum">
              <a:t>70</a:t>
            </a:fld>
          </a:p>
        </p:txBody>
      </p:sp>
    </p:spTree>
  </p:cSld>
  <p:transition spd="slow">
    <p:blinds dir="vert"/>
  </p:transition>
  <p:timing>
    <p:tnLst>
      <p:par>
        <p:cTn id="1044" dur="indefinite" restart="never" nodeType="tmRoot">
          <p:childTnLst>
            <p:seq>
              <p:cTn id="1045" dur="indefinite" nodeType="mainSeq">
                <p:childTnLst>
                  <p:par>
                    <p:cTn id="1046" fill="hold">
                      <p:stCondLst>
                        <p:cond delay="0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0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4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" descr=""/>
          <p:cNvPicPr/>
          <p:nvPr/>
        </p:nvPicPr>
        <p:blipFill>
          <a:blip r:embed="rId1"/>
          <a:srcRect l="0" t="17500" r="0" b="24006"/>
          <a:stretch/>
        </p:blipFill>
        <p:spPr>
          <a:xfrm>
            <a:off x="-23760" y="1654200"/>
            <a:ext cx="9104400" cy="3549600"/>
          </a:xfrm>
          <a:prstGeom prst="rect">
            <a:avLst/>
          </a:prstGeom>
          <a:ln w="0">
            <a:noFill/>
          </a:ln>
        </p:spPr>
      </p:pic>
      <p:sp>
        <p:nvSpPr>
          <p:cNvPr id="543" name=""/>
          <p:cNvSpPr/>
          <p:nvPr/>
        </p:nvSpPr>
        <p:spPr>
          <a:xfrm>
            <a:off x="0" y="655308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.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4000680" y="231840"/>
            <a:ext cx="3728880" cy="144468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in the B group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e design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 element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1447920" y="3048120"/>
            <a:ext cx="4647960" cy="213336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2BF6-BD3C-4BD1-A13C-6DCDF5140FB8}" type="slidenum">
              <a:t>71</a:t>
            </a:fld>
          </a:p>
        </p:txBody>
      </p:sp>
    </p:spTree>
  </p:cSld>
  <p:transition spd="slow">
    <p:blinds dir="vert"/>
  </p:transition>
  <p:timing>
    <p:tnLst>
      <p:par>
        <p:cTn id="1056" dur="indefinite" restart="never" nodeType="tmRoot">
          <p:childTnLst>
            <p:seq>
              <p:cTn id="1057" dur="indefinite" nodeType="mainSeq">
                <p:childTnLst>
                  <p:par>
                    <p:cTn id="1058" fill="hold">
                      <p:stCondLst>
                        <p:cond delay="0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2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" descr=""/>
          <p:cNvPicPr/>
          <p:nvPr/>
        </p:nvPicPr>
        <p:blipFill>
          <a:blip r:embed="rId1"/>
          <a:srcRect l="0" t="29006" r="30568" b="28750"/>
          <a:stretch/>
        </p:blipFill>
        <p:spPr>
          <a:xfrm>
            <a:off x="630360" y="795240"/>
            <a:ext cx="7549920" cy="3444840"/>
          </a:xfrm>
          <a:prstGeom prst="rect">
            <a:avLst/>
          </a:prstGeom>
          <a:ln w="0">
            <a:noFill/>
          </a:ln>
        </p:spPr>
      </p:pic>
      <p:sp>
        <p:nvSpPr>
          <p:cNvPr id="547" name=""/>
          <p:cNvSpPr/>
          <p:nvPr/>
        </p:nvSpPr>
        <p:spPr>
          <a:xfrm>
            <a:off x="0" y="655308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.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533520" y="495288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A family elements the valence electron configuration is the same in each column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9" name=""/>
          <p:cNvGrpSpPr/>
          <p:nvPr/>
        </p:nvGrpSpPr>
        <p:grpSpPr>
          <a:xfrm>
            <a:off x="1041480" y="1938240"/>
            <a:ext cx="5037120" cy="2100240"/>
            <a:chOff x="1041480" y="1938240"/>
            <a:chExt cx="5037120" cy="2100240"/>
          </a:xfrm>
        </p:grpSpPr>
        <p:sp>
          <p:nvSpPr>
            <p:cNvPr id="550" name=""/>
            <p:cNvSpPr/>
            <p:nvPr/>
          </p:nvSpPr>
          <p:spPr>
            <a:xfrm>
              <a:off x="1041480" y="1938240"/>
              <a:ext cx="361800" cy="25560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041480" y="2846520"/>
              <a:ext cx="361800" cy="25560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041480" y="3738600"/>
              <a:ext cx="361800" cy="25560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411880" y="2840040"/>
              <a:ext cx="666720" cy="287280"/>
            </a:xfrm>
            <a:prstGeom prst="rect">
              <a:avLst/>
            </a:prstGeom>
            <a:noFill/>
            <a:ln w="19080">
              <a:solidFill>
                <a:srgbClr val="99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411880" y="3751200"/>
              <a:ext cx="666720" cy="287280"/>
            </a:xfrm>
            <a:prstGeom prst="rect">
              <a:avLst/>
            </a:prstGeom>
            <a:noFill/>
            <a:ln w="19080">
              <a:solidFill>
                <a:srgbClr val="99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5" name=""/>
          <p:cNvSpPr/>
          <p:nvPr/>
        </p:nvSpPr>
        <p:spPr>
          <a:xfrm>
            <a:off x="533520" y="4952880"/>
            <a:ext cx="7772400" cy="137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hemical behavior and properties of elements in a family are associated with the electron configuration of its element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CD95-9850-439D-B5E5-B6E169DA2940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4" dur="indefinite" restart="never" nodeType="tmRoot">
          <p:childTnLst>
            <p:seq>
              <p:cTn id="1065" dur="indefinite" nodeType="mainSeq">
                <p:childTnLst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70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5" dur="1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6" name="" descr=""/>
          <p:cNvPicPr/>
          <p:nvPr/>
        </p:nvPicPr>
        <p:blipFill>
          <a:blip r:embed="rId1"/>
          <a:srcRect l="0" t="29006" r="30568" b="28750"/>
          <a:stretch/>
        </p:blipFill>
        <p:spPr>
          <a:xfrm>
            <a:off x="630360" y="795240"/>
            <a:ext cx="7549920" cy="3444840"/>
          </a:xfrm>
          <a:prstGeom prst="rect">
            <a:avLst/>
          </a:prstGeom>
          <a:ln w="0">
            <a:noFill/>
          </a:ln>
        </p:spPr>
      </p:pic>
      <p:sp>
        <p:nvSpPr>
          <p:cNvPr id="557" name=""/>
          <p:cNvSpPr/>
          <p:nvPr/>
        </p:nvSpPr>
        <p:spPr>
          <a:xfrm>
            <a:off x="0" y="655308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.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533520" y="495288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the exception of helium which has a filled s orbital, the nobles gases have filled p orbital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9" name=""/>
          <p:cNvGrpSpPr/>
          <p:nvPr/>
        </p:nvGrpSpPr>
        <p:grpSpPr>
          <a:xfrm>
            <a:off x="7358040" y="1938240"/>
            <a:ext cx="525600" cy="2097360"/>
            <a:chOff x="7358040" y="1938240"/>
            <a:chExt cx="525600" cy="2097360"/>
          </a:xfrm>
        </p:grpSpPr>
        <p:sp>
          <p:nvSpPr>
            <p:cNvPr id="560" name=""/>
            <p:cNvSpPr/>
            <p:nvPr/>
          </p:nvSpPr>
          <p:spPr>
            <a:xfrm>
              <a:off x="7358040" y="1938240"/>
              <a:ext cx="361800" cy="25560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521480" y="2859120"/>
              <a:ext cx="362160" cy="2714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7521480" y="3760920"/>
              <a:ext cx="362160" cy="27468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454C-E9FB-4B1A-9CD0-FF1F9A925E97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6" dur="indefinite" restart="never" nodeType="tmRoot">
          <p:childTnLst>
            <p:seq>
              <p:cTn id="1077" dur="indefinite" nodeType="mainSeq">
                <p:childTnLst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82" dur="1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electron configuration of any of the noble gas elements can be represented by the symbol of the element enclosed in square bracket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1104840" y="28195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324160" y="281952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Times New Roman"/>
              </a:rPr>
              <a:t>1s</a:t>
            </a:r>
            <a:r>
              <a:rPr b="0" lang="en-US" sz="3600" spc="-1" strike="noStrike" baseline="30000">
                <a:solidFill>
                  <a:srgbClr val="0033cc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s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p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905440" y="281952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Times New Roman"/>
              </a:rPr>
              <a:t>[He]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s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p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1104840" y="58356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2324160" y="58356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Times New Roman"/>
              </a:rPr>
              <a:t>1s</a:t>
            </a:r>
            <a:r>
              <a:rPr b="0" lang="en-US" sz="3600" spc="-1" strike="noStrike" baseline="30000">
                <a:solidFill>
                  <a:srgbClr val="0033cc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s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p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s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p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5905440" y="583560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Times New Roman"/>
              </a:rPr>
              <a:t>[Ne]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s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p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952560" y="432756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2324160" y="432756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Times New Roman"/>
              </a:rPr>
              <a:t>1s</a:t>
            </a:r>
            <a:r>
              <a:rPr b="0" lang="en-US" sz="3600" spc="-1" strike="noStrike" baseline="30000">
                <a:solidFill>
                  <a:srgbClr val="0033cc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33cc"/>
                </a:solidFill>
                <a:latin typeface="Times New Roman"/>
              </a:rPr>
              <a:t>2s</a:t>
            </a:r>
            <a:r>
              <a:rPr b="0" lang="en-US" sz="3600" spc="-1" strike="noStrike" baseline="30000">
                <a:solidFill>
                  <a:srgbClr val="0033cc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33cc"/>
                </a:solidFill>
                <a:latin typeface="Times New Roman"/>
              </a:rPr>
              <a:t>2p</a:t>
            </a:r>
            <a:r>
              <a:rPr b="0" lang="en-US" sz="3600" spc="-1" strike="noStrike" baseline="30000">
                <a:solidFill>
                  <a:srgbClr val="0033cc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s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5905440" y="432756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Times New Roman"/>
              </a:rPr>
              <a:t>[Ne]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s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978C-558F-4002-9B94-6559735C7FE4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3" dur="indefinite" restart="never" nodeType="tmRoot">
          <p:childTnLst>
            <p:seq>
              <p:cTn id="1084" dur="indefinite" nodeType="mainSeq">
                <p:childTnLst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9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0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1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2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1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1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electron configuration of argon i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104840" y="10666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286000" y="1066680"/>
            <a:ext cx="339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Times New Roman"/>
              </a:rPr>
              <a:t>1s</a:t>
            </a:r>
            <a:r>
              <a:rPr b="0" lang="en-US" sz="3600" spc="-1" strike="noStrike" baseline="30000">
                <a:solidFill>
                  <a:srgbClr val="0033cc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33cc"/>
                </a:solidFill>
                <a:latin typeface="Times New Roman"/>
              </a:rPr>
              <a:t>2s</a:t>
            </a:r>
            <a:r>
              <a:rPr b="0" lang="en-US" sz="3600" spc="-1" strike="noStrike" baseline="30000">
                <a:solidFill>
                  <a:srgbClr val="0033cc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33cc"/>
                </a:solidFill>
                <a:latin typeface="Times New Roman"/>
              </a:rPr>
              <a:t>2p</a:t>
            </a:r>
            <a:r>
              <a:rPr b="0" lang="en-US" sz="3600" spc="-1" strike="noStrike" baseline="30000">
                <a:solidFill>
                  <a:srgbClr val="0033cc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0033cc"/>
                </a:solidFill>
                <a:latin typeface="Times New Roman"/>
              </a:rPr>
              <a:t>3s</a:t>
            </a:r>
            <a:r>
              <a:rPr b="0" lang="en-US" sz="3600" spc="-1" strike="noStrike" baseline="30000">
                <a:solidFill>
                  <a:srgbClr val="0033cc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33cc"/>
                </a:solidFill>
                <a:latin typeface="Times New Roman"/>
              </a:rPr>
              <a:t>3p</a:t>
            </a:r>
            <a:r>
              <a:rPr b="0" lang="en-US" sz="3600" spc="-1" strike="noStrike" baseline="30000">
                <a:solidFill>
                  <a:srgbClr val="0033cc"/>
                </a:solidFill>
                <a:latin typeface="Times New Roman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04920" y="5410080"/>
            <a:ext cx="110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943280" y="5410080"/>
            <a:ext cx="377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Times New Roman"/>
              </a:rPr>
              <a:t>1s</a:t>
            </a:r>
            <a:r>
              <a:rPr b="0" lang="en-US" sz="3600" spc="-1" strike="noStrike" baseline="30000">
                <a:solidFill>
                  <a:srgbClr val="0033cc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33cc"/>
                </a:solidFill>
                <a:latin typeface="Times New Roman"/>
              </a:rPr>
              <a:t>2s</a:t>
            </a:r>
            <a:r>
              <a:rPr b="0" lang="en-US" sz="3600" spc="-1" strike="noStrike" baseline="30000">
                <a:solidFill>
                  <a:srgbClr val="0033cc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33cc"/>
                </a:solidFill>
                <a:latin typeface="Times New Roman"/>
              </a:rPr>
              <a:t>2p</a:t>
            </a:r>
            <a:r>
              <a:rPr b="0" lang="en-US" sz="3600" spc="-1" strike="noStrike" baseline="30000">
                <a:solidFill>
                  <a:srgbClr val="0033cc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0033cc"/>
                </a:solidFill>
                <a:latin typeface="Times New Roman"/>
              </a:rPr>
              <a:t>3s</a:t>
            </a:r>
            <a:r>
              <a:rPr b="0" lang="en-US" sz="3600" spc="-1" strike="noStrike" baseline="30000">
                <a:solidFill>
                  <a:srgbClr val="0033cc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33cc"/>
                </a:solidFill>
                <a:latin typeface="Times New Roman"/>
              </a:rPr>
              <a:t>3p</a:t>
            </a:r>
            <a:r>
              <a:rPr b="0" lang="en-US" sz="3600" spc="-1" strike="noStrike" baseline="30000">
                <a:solidFill>
                  <a:srgbClr val="0033cc"/>
                </a:solidFill>
                <a:latin typeface="Times New Roman"/>
              </a:rPr>
              <a:t>6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s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6019920" y="541008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Times New Roman"/>
              </a:rPr>
              <a:t>[Ar]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s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71680" y="432756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943280" y="4327560"/>
            <a:ext cx="377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Times New Roman"/>
              </a:rPr>
              <a:t>1s</a:t>
            </a:r>
            <a:r>
              <a:rPr b="0" lang="en-US" sz="3600" spc="-1" strike="noStrike" baseline="30000">
                <a:solidFill>
                  <a:srgbClr val="0033cc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33cc"/>
                </a:solidFill>
                <a:latin typeface="Times New Roman"/>
              </a:rPr>
              <a:t>2s</a:t>
            </a:r>
            <a:r>
              <a:rPr b="0" lang="en-US" sz="3600" spc="-1" strike="noStrike" baseline="30000">
                <a:solidFill>
                  <a:srgbClr val="0033cc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33cc"/>
                </a:solidFill>
                <a:latin typeface="Times New Roman"/>
              </a:rPr>
              <a:t>2p</a:t>
            </a:r>
            <a:r>
              <a:rPr b="0" lang="en-US" sz="3600" spc="-1" strike="noStrike" baseline="30000">
                <a:solidFill>
                  <a:srgbClr val="0033cc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0033cc"/>
                </a:solidFill>
                <a:latin typeface="Times New Roman"/>
              </a:rPr>
              <a:t>3s</a:t>
            </a:r>
            <a:r>
              <a:rPr b="0" lang="en-US" sz="3600" spc="-1" strike="noStrike" baseline="30000">
                <a:solidFill>
                  <a:srgbClr val="0033cc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33cc"/>
                </a:solidFill>
                <a:latin typeface="Times New Roman"/>
              </a:rPr>
              <a:t>3p</a:t>
            </a:r>
            <a:r>
              <a:rPr b="0" lang="en-US" sz="3600" spc="-1" strike="noStrike" baseline="30000">
                <a:solidFill>
                  <a:srgbClr val="0033cc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s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019920" y="432756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Times New Roman"/>
              </a:rPr>
              <a:t>[Ar]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s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838080" y="1905120"/>
            <a:ext cx="77724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elements after argon are potassium and calcium  Instead of entering a 3d orbital, the valence electrons of these elements enter the 4s orbital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6B3C-B6D4-4090-91F6-93D35B170F04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1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1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" descr=""/>
          <p:cNvPicPr/>
          <p:nvPr/>
        </p:nvPicPr>
        <p:blipFill>
          <a:blip r:embed="rId1"/>
          <a:srcRect l="0" t="10502" r="0" b="10502"/>
          <a:stretch/>
        </p:blipFill>
        <p:spPr>
          <a:xfrm>
            <a:off x="257040" y="851040"/>
            <a:ext cx="8574120" cy="5079960"/>
          </a:xfrm>
          <a:prstGeom prst="rect">
            <a:avLst/>
          </a:prstGeom>
          <a:ln w="0">
            <a:noFill/>
          </a:ln>
        </p:spPr>
      </p:pic>
      <p:sp>
        <p:nvSpPr>
          <p:cNvPr id="584" name=""/>
          <p:cNvSpPr/>
          <p:nvPr/>
        </p:nvSpPr>
        <p:spPr>
          <a:xfrm>
            <a:off x="0" y="655308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.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990720" y="642960"/>
            <a:ext cx="5790960" cy="3319560"/>
            <a:chOff x="990720" y="642960"/>
            <a:chExt cx="5790960" cy="3319560"/>
          </a:xfrm>
        </p:grpSpPr>
        <p:sp>
          <p:nvSpPr>
            <p:cNvPr id="586" name=""/>
            <p:cNvSpPr/>
            <p:nvPr/>
          </p:nvSpPr>
          <p:spPr>
            <a:xfrm>
              <a:off x="990720" y="642960"/>
              <a:ext cx="5790960" cy="58140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orbital filling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3879720" y="1244520"/>
              <a:ext cx="0" cy="64152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676520" y="1887480"/>
              <a:ext cx="4419360" cy="207504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9" name=""/>
          <p:cNvSpPr/>
          <p:nvPr/>
        </p:nvSpPr>
        <p:spPr>
          <a:xfrm>
            <a:off x="990720" y="152280"/>
            <a:ext cx="5790960" cy="1068840"/>
          </a:xfrm>
          <a:prstGeom prst="rect">
            <a:avLst/>
          </a:prstGeom>
          <a:solidFill>
            <a:srgbClr val="99ccff"/>
          </a:solidFill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umber of a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rbital is 1 less than its period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590400" y="2560680"/>
            <a:ext cx="1444680" cy="228600"/>
            <a:chOff x="590400" y="2560680"/>
            <a:chExt cx="1444680" cy="228600"/>
          </a:xfrm>
        </p:grpSpPr>
        <p:sp>
          <p:nvSpPr>
            <p:cNvPr id="591" name=""/>
            <p:cNvSpPr/>
            <p:nvPr/>
          </p:nvSpPr>
          <p:spPr>
            <a:xfrm>
              <a:off x="590400" y="2560680"/>
              <a:ext cx="228600" cy="22860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1806480" y="2560680"/>
              <a:ext cx="228600" cy="22860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3" name=""/>
          <p:cNvSpPr/>
          <p:nvPr/>
        </p:nvSpPr>
        <p:spPr>
          <a:xfrm>
            <a:off x="1181160" y="5715000"/>
            <a:ext cx="6781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rangement of electron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ording to sublevel being fill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2438280" y="5334120"/>
            <a:ext cx="41911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A287-D191-483C-AD36-09A00CFFD45A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3" dur="indefinite" restart="never" nodeType="tmRoot">
          <p:childTnLst>
            <p:seq>
              <p:cTn id="1184" dur="indefinite" nodeType="mainSeq">
                <p:childTnLst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9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5" dur="1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01" dur="1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" name="" descr=""/>
          <p:cNvPicPr/>
          <p:nvPr/>
        </p:nvPicPr>
        <p:blipFill>
          <a:blip r:embed="rId1"/>
          <a:srcRect l="0" t="10502" r="0" b="10502"/>
          <a:stretch/>
        </p:blipFill>
        <p:spPr>
          <a:xfrm>
            <a:off x="257040" y="851040"/>
            <a:ext cx="8574120" cy="5079960"/>
          </a:xfrm>
          <a:prstGeom prst="rect">
            <a:avLst/>
          </a:prstGeom>
          <a:ln w="0">
            <a:noFill/>
          </a:ln>
        </p:spPr>
      </p:pic>
      <p:sp>
        <p:nvSpPr>
          <p:cNvPr id="596" name=""/>
          <p:cNvSpPr/>
          <p:nvPr/>
        </p:nvSpPr>
        <p:spPr>
          <a:xfrm>
            <a:off x="0" y="655308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.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7" name=""/>
          <p:cNvGrpSpPr/>
          <p:nvPr/>
        </p:nvGrpSpPr>
        <p:grpSpPr>
          <a:xfrm>
            <a:off x="2362320" y="642960"/>
            <a:ext cx="6476760" cy="4386240"/>
            <a:chOff x="2362320" y="642960"/>
            <a:chExt cx="6476760" cy="4386240"/>
          </a:xfrm>
        </p:grpSpPr>
        <p:sp>
          <p:nvSpPr>
            <p:cNvPr id="598" name=""/>
            <p:cNvSpPr/>
            <p:nvPr/>
          </p:nvSpPr>
          <p:spPr>
            <a:xfrm>
              <a:off x="2703600" y="642960"/>
              <a:ext cx="5790960" cy="58140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orbital filling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5599080" y="1244520"/>
              <a:ext cx="0" cy="271800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2362320" y="3962520"/>
              <a:ext cx="6476760" cy="10666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1" name=""/>
          <p:cNvGrpSpPr/>
          <p:nvPr/>
        </p:nvGrpSpPr>
        <p:grpSpPr>
          <a:xfrm>
            <a:off x="593640" y="3216240"/>
            <a:ext cx="2378160" cy="1336680"/>
            <a:chOff x="593640" y="3216240"/>
            <a:chExt cx="2378160" cy="1336680"/>
          </a:xfrm>
        </p:grpSpPr>
        <p:sp>
          <p:nvSpPr>
            <p:cNvPr id="602" name=""/>
            <p:cNvSpPr/>
            <p:nvPr/>
          </p:nvSpPr>
          <p:spPr>
            <a:xfrm>
              <a:off x="593640" y="3216240"/>
              <a:ext cx="228600" cy="22860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2743200" y="4324320"/>
              <a:ext cx="228600" cy="22860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4" name=""/>
          <p:cNvGrpSpPr/>
          <p:nvPr/>
        </p:nvGrpSpPr>
        <p:grpSpPr>
          <a:xfrm>
            <a:off x="593640" y="3564000"/>
            <a:ext cx="2374920" cy="1324080"/>
            <a:chOff x="593640" y="3564000"/>
            <a:chExt cx="2374920" cy="1324080"/>
          </a:xfrm>
        </p:grpSpPr>
        <p:sp>
          <p:nvSpPr>
            <p:cNvPr id="605" name=""/>
            <p:cNvSpPr/>
            <p:nvPr/>
          </p:nvSpPr>
          <p:spPr>
            <a:xfrm>
              <a:off x="593640" y="3564000"/>
              <a:ext cx="228600" cy="228600"/>
            </a:xfrm>
            <a:prstGeom prst="rect">
              <a:avLst/>
            </a:prstGeom>
            <a:noFill/>
            <a:ln w="2844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2739960" y="4659480"/>
              <a:ext cx="228600" cy="228600"/>
            </a:xfrm>
            <a:prstGeom prst="rect">
              <a:avLst/>
            </a:prstGeom>
            <a:noFill/>
            <a:ln w="2844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7" name=""/>
          <p:cNvSpPr/>
          <p:nvPr/>
        </p:nvSpPr>
        <p:spPr>
          <a:xfrm>
            <a:off x="2703600" y="152280"/>
            <a:ext cx="5790960" cy="1068840"/>
          </a:xfrm>
          <a:prstGeom prst="rect">
            <a:avLst/>
          </a:prstGeom>
          <a:solidFill>
            <a:srgbClr val="99ccff"/>
          </a:solidFill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umber of a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rbital is 2 less than its period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1181160" y="5715000"/>
            <a:ext cx="6781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rangement of electron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ording to sublevel being fill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514600" y="5257800"/>
            <a:ext cx="41148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9AB0-7191-4A19-8D53-8999C1B86E58}" type="slidenum">
              <a:t>77</a:t>
            </a:fld>
          </a:p>
        </p:txBody>
      </p:sp>
    </p:spTree>
  </p:cSld>
  <p:transition spd="slow">
    <p:blinds dir="vert"/>
  </p:transition>
  <p:timing>
    <p:tnLst>
      <p:par>
        <p:cTn id="1202" dur="indefinite" restart="never" nodeType="tmRoot">
          <p:childTnLst>
            <p:seq>
              <p:cTn id="1203" dur="indefinite" nodeType="mainSeq">
                <p:childTnLst>
                  <p:par>
                    <p:cTn id="1204" fill="hold">
                      <p:stCondLst>
                        <p:cond delay="0"/>
                      </p:stCondLst>
                      <p:childTnLst>
                        <p:par>
                          <p:cTn id="1205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8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9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0" fill="hold">
                      <p:stCondLst>
                        <p:cond delay="indefinite"/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4" dur="1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20" dur="1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fill="hold">
                      <p:stCondLst>
                        <p:cond delay="indefinite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25" dur="1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0" name="" descr=""/>
          <p:cNvPicPr/>
          <p:nvPr/>
        </p:nvPicPr>
        <p:blipFill>
          <a:blip r:embed="rId1"/>
          <a:srcRect l="0" t="14498" r="0" b="23002"/>
          <a:stretch/>
        </p:blipFill>
        <p:spPr>
          <a:xfrm>
            <a:off x="-77760" y="-90360"/>
            <a:ext cx="9213840" cy="4314600"/>
          </a:xfrm>
          <a:prstGeom prst="rect">
            <a:avLst/>
          </a:prstGeom>
          <a:ln w="0">
            <a:noFill/>
          </a:ln>
        </p:spPr>
      </p:pic>
      <p:sp>
        <p:nvSpPr>
          <p:cNvPr id="611" name=""/>
          <p:cNvSpPr/>
          <p:nvPr/>
        </p:nvSpPr>
        <p:spPr>
          <a:xfrm>
            <a:off x="0" y="655308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.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62080" y="4572000"/>
            <a:ext cx="6819840" cy="1556280"/>
          </a:xfrm>
          <a:prstGeom prst="rect">
            <a:avLst/>
          </a:prstGeom>
          <a:solidFill>
            <a:srgbClr val="99ccff"/>
          </a:solidFill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eriod number corresponds to the highest energy level occupied by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rons in the peri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3" name=""/>
          <p:cNvGrpSpPr/>
          <p:nvPr/>
        </p:nvGrpSpPr>
        <p:grpSpPr>
          <a:xfrm>
            <a:off x="231840" y="3205080"/>
            <a:ext cx="8734320" cy="362160"/>
            <a:chOff x="231840" y="3205080"/>
            <a:chExt cx="8734320" cy="362160"/>
          </a:xfrm>
        </p:grpSpPr>
        <p:sp>
          <p:nvSpPr>
            <p:cNvPr id="614" name=""/>
            <p:cNvSpPr/>
            <p:nvPr/>
          </p:nvSpPr>
          <p:spPr>
            <a:xfrm>
              <a:off x="231840" y="3205080"/>
              <a:ext cx="228600" cy="228600"/>
            </a:xfrm>
            <a:prstGeom prst="rect">
              <a:avLst/>
            </a:prstGeom>
            <a:noFill/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8585280" y="3378240"/>
              <a:ext cx="380880" cy="189000"/>
            </a:xfrm>
            <a:prstGeom prst="rect">
              <a:avLst/>
            </a:prstGeom>
            <a:noFill/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4A9C-7303-440D-B226-2FA1943462F9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6" dur="indefinite" restart="never" nodeType="tmRoot">
          <p:childTnLst>
            <p:seq>
              <p:cTn id="1227" dur="indefinite" nodeType="mainSeq">
                <p:childTnLst>
                  <p:par>
                    <p:cTn id="1228" fill="hold">
                      <p:stCondLst>
                        <p:cond delay="0"/>
                      </p:stCondLst>
                      <p:childTnLst>
                        <p:par>
                          <p:cTn id="1229" fill="hold">
                            <p:stCondLst>
                              <p:cond delay="0"/>
                            </p:stCondLst>
                            <p:childTnLst>
                              <p:par>
                                <p:cTn id="12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2" dur="1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fill="hold">
                      <p:stCondLst>
                        <p:cond delay="indefinite"/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3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6" name="" descr=""/>
          <p:cNvPicPr/>
          <p:nvPr/>
        </p:nvPicPr>
        <p:blipFill>
          <a:blip r:embed="rId1"/>
          <a:srcRect l="0" t="14498" r="0" b="23002"/>
          <a:stretch/>
        </p:blipFill>
        <p:spPr>
          <a:xfrm>
            <a:off x="-77760" y="-68400"/>
            <a:ext cx="9213840" cy="4314960"/>
          </a:xfrm>
          <a:prstGeom prst="rect">
            <a:avLst/>
          </a:prstGeom>
          <a:ln w="0">
            <a:noFill/>
          </a:ln>
        </p:spPr>
      </p:pic>
      <p:sp>
        <p:nvSpPr>
          <p:cNvPr id="617" name=""/>
          <p:cNvSpPr/>
          <p:nvPr/>
        </p:nvSpPr>
        <p:spPr>
          <a:xfrm>
            <a:off x="0" y="655308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.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87280" y="4583520"/>
            <a:ext cx="8569440" cy="1556280"/>
          </a:xfrm>
          <a:prstGeom prst="rect">
            <a:avLst/>
          </a:prstGeom>
          <a:solidFill>
            <a:srgbClr val="99ccff"/>
          </a:solidFill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roup numbers for the representative elements are equal to the total number of  outermost electrons in the atoms of the grou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9" name=""/>
          <p:cNvGrpSpPr/>
          <p:nvPr/>
        </p:nvGrpSpPr>
        <p:grpSpPr>
          <a:xfrm>
            <a:off x="544680" y="347760"/>
            <a:ext cx="231480" cy="3725640"/>
            <a:chOff x="544680" y="347760"/>
            <a:chExt cx="231480" cy="3725640"/>
          </a:xfrm>
        </p:grpSpPr>
        <p:sp>
          <p:nvSpPr>
            <p:cNvPr id="620" name=""/>
            <p:cNvSpPr/>
            <p:nvPr/>
          </p:nvSpPr>
          <p:spPr>
            <a:xfrm>
              <a:off x="563400" y="347760"/>
              <a:ext cx="92160" cy="171360"/>
            </a:xfrm>
            <a:prstGeom prst="rect">
              <a:avLst/>
            </a:prstGeom>
            <a:noFill/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544680" y="847800"/>
              <a:ext cx="231480" cy="174600"/>
            </a:xfrm>
            <a:prstGeom prst="rect">
              <a:avLst/>
            </a:prstGeom>
            <a:noFill/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544680" y="1359000"/>
              <a:ext cx="231480" cy="174600"/>
            </a:xfrm>
            <a:prstGeom prst="rect">
              <a:avLst/>
            </a:prstGeom>
            <a:noFill/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44680" y="1870200"/>
              <a:ext cx="231480" cy="174600"/>
            </a:xfrm>
            <a:prstGeom prst="rect">
              <a:avLst/>
            </a:prstGeom>
            <a:noFill/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44680" y="2378160"/>
              <a:ext cx="231480" cy="174600"/>
            </a:xfrm>
            <a:prstGeom prst="rect">
              <a:avLst/>
            </a:prstGeom>
            <a:noFill/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544680" y="2887560"/>
              <a:ext cx="231480" cy="174600"/>
            </a:xfrm>
            <a:prstGeom prst="rect">
              <a:avLst/>
            </a:prstGeom>
            <a:noFill/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44680" y="3898800"/>
              <a:ext cx="231480" cy="174600"/>
            </a:xfrm>
            <a:prstGeom prst="rect">
              <a:avLst/>
            </a:prstGeom>
            <a:noFill/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44680" y="3400560"/>
              <a:ext cx="231480" cy="174600"/>
            </a:xfrm>
            <a:prstGeom prst="rect">
              <a:avLst/>
            </a:prstGeom>
            <a:noFill/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8" name=""/>
          <p:cNvGrpSpPr/>
          <p:nvPr/>
        </p:nvGrpSpPr>
        <p:grpSpPr>
          <a:xfrm>
            <a:off x="1028880" y="822240"/>
            <a:ext cx="231480" cy="3251160"/>
            <a:chOff x="1028880" y="822240"/>
            <a:chExt cx="231480" cy="3251160"/>
          </a:xfrm>
        </p:grpSpPr>
        <p:sp>
          <p:nvSpPr>
            <p:cNvPr id="629" name=""/>
            <p:cNvSpPr/>
            <p:nvPr/>
          </p:nvSpPr>
          <p:spPr>
            <a:xfrm>
              <a:off x="1028880" y="1870200"/>
              <a:ext cx="231480" cy="174600"/>
            </a:xfrm>
            <a:prstGeom prst="rect">
              <a:avLst/>
            </a:prstGeom>
            <a:noFill/>
            <a:ln w="28440">
              <a:solidFill>
                <a:srgbClr val="99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028880" y="2378160"/>
              <a:ext cx="231480" cy="174600"/>
            </a:xfrm>
            <a:prstGeom prst="rect">
              <a:avLst/>
            </a:prstGeom>
            <a:noFill/>
            <a:ln w="28440">
              <a:solidFill>
                <a:srgbClr val="99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028880" y="1359000"/>
              <a:ext cx="231480" cy="174600"/>
            </a:xfrm>
            <a:prstGeom prst="rect">
              <a:avLst/>
            </a:prstGeom>
            <a:noFill/>
            <a:ln w="28440">
              <a:solidFill>
                <a:srgbClr val="99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028880" y="2887560"/>
              <a:ext cx="231480" cy="174600"/>
            </a:xfrm>
            <a:prstGeom prst="rect">
              <a:avLst/>
            </a:prstGeom>
            <a:noFill/>
            <a:ln w="28440">
              <a:solidFill>
                <a:srgbClr val="99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028880" y="3400560"/>
              <a:ext cx="231480" cy="174600"/>
            </a:xfrm>
            <a:prstGeom prst="rect">
              <a:avLst/>
            </a:prstGeom>
            <a:noFill/>
            <a:ln w="28440">
              <a:solidFill>
                <a:srgbClr val="99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028880" y="3898800"/>
              <a:ext cx="231480" cy="174600"/>
            </a:xfrm>
            <a:prstGeom prst="rect">
              <a:avLst/>
            </a:prstGeom>
            <a:noFill/>
            <a:ln w="28440">
              <a:solidFill>
                <a:srgbClr val="99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030320" y="822240"/>
              <a:ext cx="119160" cy="171360"/>
            </a:xfrm>
            <a:prstGeom prst="rect">
              <a:avLst/>
            </a:prstGeom>
            <a:noFill/>
            <a:ln w="28440">
              <a:solidFill>
                <a:srgbClr val="99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6" name=""/>
          <p:cNvGrpSpPr/>
          <p:nvPr/>
        </p:nvGrpSpPr>
        <p:grpSpPr>
          <a:xfrm>
            <a:off x="6226200" y="822240"/>
            <a:ext cx="366840" cy="2752920"/>
            <a:chOff x="6226200" y="822240"/>
            <a:chExt cx="366840" cy="2752920"/>
          </a:xfrm>
        </p:grpSpPr>
        <p:sp>
          <p:nvSpPr>
            <p:cNvPr id="637" name=""/>
            <p:cNvSpPr/>
            <p:nvPr/>
          </p:nvSpPr>
          <p:spPr>
            <a:xfrm>
              <a:off x="6226200" y="1359000"/>
              <a:ext cx="366840" cy="174600"/>
            </a:xfrm>
            <a:prstGeom prst="rect">
              <a:avLst/>
            </a:prstGeom>
            <a:noFill/>
            <a:ln w="2844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6226200" y="1870200"/>
              <a:ext cx="366840" cy="174600"/>
            </a:xfrm>
            <a:prstGeom prst="rect">
              <a:avLst/>
            </a:prstGeom>
            <a:noFill/>
            <a:ln w="2844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6226200" y="2378160"/>
              <a:ext cx="366840" cy="174600"/>
            </a:xfrm>
            <a:prstGeom prst="rect">
              <a:avLst/>
            </a:prstGeom>
            <a:noFill/>
            <a:ln w="2844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6226200" y="2887560"/>
              <a:ext cx="366840" cy="174600"/>
            </a:xfrm>
            <a:prstGeom prst="rect">
              <a:avLst/>
            </a:prstGeom>
            <a:noFill/>
            <a:ln w="2844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6226200" y="3400560"/>
              <a:ext cx="366840" cy="174600"/>
            </a:xfrm>
            <a:prstGeom prst="rect">
              <a:avLst/>
            </a:prstGeom>
            <a:noFill/>
            <a:ln w="2844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256440" y="822240"/>
              <a:ext cx="185760" cy="171360"/>
            </a:xfrm>
            <a:prstGeom prst="rect">
              <a:avLst/>
            </a:prstGeom>
            <a:noFill/>
            <a:ln w="2844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3" name=""/>
          <p:cNvGrpSpPr/>
          <p:nvPr/>
        </p:nvGrpSpPr>
        <p:grpSpPr>
          <a:xfrm>
            <a:off x="6708600" y="822240"/>
            <a:ext cx="366840" cy="2752920"/>
            <a:chOff x="6708600" y="822240"/>
            <a:chExt cx="366840" cy="2752920"/>
          </a:xfrm>
        </p:grpSpPr>
        <p:grpSp>
          <p:nvGrpSpPr>
            <p:cNvPr id="644" name=""/>
            <p:cNvGrpSpPr/>
            <p:nvPr/>
          </p:nvGrpSpPr>
          <p:grpSpPr>
            <a:xfrm>
              <a:off x="6708600" y="1359000"/>
              <a:ext cx="366840" cy="2216160"/>
              <a:chOff x="6708600" y="1359000"/>
              <a:chExt cx="366840" cy="2216160"/>
            </a:xfrm>
          </p:grpSpPr>
          <p:sp>
            <p:nvSpPr>
              <p:cNvPr id="645" name=""/>
              <p:cNvSpPr/>
              <p:nvPr/>
            </p:nvSpPr>
            <p:spPr>
              <a:xfrm>
                <a:off x="6708600" y="1359000"/>
                <a:ext cx="366840" cy="174600"/>
              </a:xfrm>
              <a:prstGeom prst="rect">
                <a:avLst/>
              </a:prstGeom>
              <a:noFill/>
              <a:ln w="2844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6708600" y="1870200"/>
                <a:ext cx="366840" cy="174600"/>
              </a:xfrm>
              <a:prstGeom prst="rect">
                <a:avLst/>
              </a:prstGeom>
              <a:noFill/>
              <a:ln w="2844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6708600" y="2378160"/>
                <a:ext cx="366840" cy="174600"/>
              </a:xfrm>
              <a:prstGeom prst="rect">
                <a:avLst/>
              </a:prstGeom>
              <a:noFill/>
              <a:ln w="2844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6708600" y="2887560"/>
                <a:ext cx="366840" cy="174600"/>
              </a:xfrm>
              <a:prstGeom prst="rect">
                <a:avLst/>
              </a:prstGeom>
              <a:noFill/>
              <a:ln w="2844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6708600" y="3400560"/>
                <a:ext cx="366840" cy="174600"/>
              </a:xfrm>
              <a:prstGeom prst="rect">
                <a:avLst/>
              </a:prstGeom>
              <a:noFill/>
              <a:ln w="2844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0" name=""/>
            <p:cNvSpPr/>
            <p:nvPr/>
          </p:nvSpPr>
          <p:spPr>
            <a:xfrm>
              <a:off x="6730920" y="822240"/>
              <a:ext cx="185760" cy="171360"/>
            </a:xfrm>
            <a:prstGeom prst="rect">
              <a:avLst/>
            </a:prstGeom>
            <a:noFill/>
            <a:ln w="2844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1" name=""/>
          <p:cNvGrpSpPr/>
          <p:nvPr/>
        </p:nvGrpSpPr>
        <p:grpSpPr>
          <a:xfrm>
            <a:off x="7176960" y="822240"/>
            <a:ext cx="366840" cy="2752920"/>
            <a:chOff x="7176960" y="822240"/>
            <a:chExt cx="366840" cy="2752920"/>
          </a:xfrm>
        </p:grpSpPr>
        <p:grpSp>
          <p:nvGrpSpPr>
            <p:cNvPr id="652" name=""/>
            <p:cNvGrpSpPr/>
            <p:nvPr/>
          </p:nvGrpSpPr>
          <p:grpSpPr>
            <a:xfrm>
              <a:off x="7176960" y="1359000"/>
              <a:ext cx="366840" cy="2216160"/>
              <a:chOff x="7176960" y="1359000"/>
              <a:chExt cx="366840" cy="2216160"/>
            </a:xfrm>
          </p:grpSpPr>
          <p:sp>
            <p:nvSpPr>
              <p:cNvPr id="653" name=""/>
              <p:cNvSpPr/>
              <p:nvPr/>
            </p:nvSpPr>
            <p:spPr>
              <a:xfrm>
                <a:off x="7176960" y="1359000"/>
                <a:ext cx="366840" cy="174600"/>
              </a:xfrm>
              <a:prstGeom prst="rect">
                <a:avLst/>
              </a:prstGeom>
              <a:noFill/>
              <a:ln w="2844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7176960" y="1870200"/>
                <a:ext cx="366840" cy="174600"/>
              </a:xfrm>
              <a:prstGeom prst="rect">
                <a:avLst/>
              </a:prstGeom>
              <a:noFill/>
              <a:ln w="2844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7176960" y="2378160"/>
                <a:ext cx="366840" cy="174600"/>
              </a:xfrm>
              <a:prstGeom prst="rect">
                <a:avLst/>
              </a:prstGeom>
              <a:noFill/>
              <a:ln w="2844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7176960" y="2887560"/>
                <a:ext cx="366840" cy="174600"/>
              </a:xfrm>
              <a:prstGeom prst="rect">
                <a:avLst/>
              </a:prstGeom>
              <a:noFill/>
              <a:ln w="2844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7176960" y="3400560"/>
                <a:ext cx="366840" cy="174600"/>
              </a:xfrm>
              <a:prstGeom prst="rect">
                <a:avLst/>
              </a:prstGeom>
              <a:noFill/>
              <a:ln w="2844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8" name=""/>
            <p:cNvSpPr/>
            <p:nvPr/>
          </p:nvSpPr>
          <p:spPr>
            <a:xfrm>
              <a:off x="7238880" y="822240"/>
              <a:ext cx="135000" cy="171360"/>
            </a:xfrm>
            <a:prstGeom prst="rect">
              <a:avLst/>
            </a:prstGeom>
            <a:noFill/>
            <a:ln w="284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9" name=""/>
          <p:cNvGrpSpPr/>
          <p:nvPr/>
        </p:nvGrpSpPr>
        <p:grpSpPr>
          <a:xfrm>
            <a:off x="7658280" y="822240"/>
            <a:ext cx="366480" cy="2752920"/>
            <a:chOff x="7658280" y="822240"/>
            <a:chExt cx="366480" cy="2752920"/>
          </a:xfrm>
        </p:grpSpPr>
        <p:grpSp>
          <p:nvGrpSpPr>
            <p:cNvPr id="660" name=""/>
            <p:cNvGrpSpPr/>
            <p:nvPr/>
          </p:nvGrpSpPr>
          <p:grpSpPr>
            <a:xfrm>
              <a:off x="7658280" y="1359000"/>
              <a:ext cx="366480" cy="2216160"/>
              <a:chOff x="7658280" y="1359000"/>
              <a:chExt cx="366480" cy="2216160"/>
            </a:xfrm>
          </p:grpSpPr>
          <p:sp>
            <p:nvSpPr>
              <p:cNvPr id="661" name=""/>
              <p:cNvSpPr/>
              <p:nvPr/>
            </p:nvSpPr>
            <p:spPr>
              <a:xfrm>
                <a:off x="7658280" y="1359000"/>
                <a:ext cx="366480" cy="174600"/>
              </a:xfrm>
              <a:prstGeom prst="rect">
                <a:avLst/>
              </a:prstGeom>
              <a:noFill/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7658280" y="1870200"/>
                <a:ext cx="366480" cy="174600"/>
              </a:xfrm>
              <a:prstGeom prst="rect">
                <a:avLst/>
              </a:prstGeom>
              <a:noFill/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7658280" y="2378160"/>
                <a:ext cx="366480" cy="174600"/>
              </a:xfrm>
              <a:prstGeom prst="rect">
                <a:avLst/>
              </a:prstGeom>
              <a:noFill/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7658280" y="2887560"/>
                <a:ext cx="366480" cy="174600"/>
              </a:xfrm>
              <a:prstGeom prst="rect">
                <a:avLst/>
              </a:prstGeom>
              <a:noFill/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7658280" y="3400560"/>
                <a:ext cx="366480" cy="174600"/>
              </a:xfrm>
              <a:prstGeom prst="rect">
                <a:avLst/>
              </a:prstGeom>
              <a:noFill/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6" name=""/>
            <p:cNvSpPr/>
            <p:nvPr/>
          </p:nvSpPr>
          <p:spPr>
            <a:xfrm>
              <a:off x="7683480" y="822240"/>
              <a:ext cx="200160" cy="171360"/>
            </a:xfrm>
            <a:prstGeom prst="rect">
              <a:avLst/>
            </a:prstGeom>
            <a:noFill/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7" name=""/>
          <p:cNvGrpSpPr/>
          <p:nvPr/>
        </p:nvGrpSpPr>
        <p:grpSpPr>
          <a:xfrm>
            <a:off x="8137440" y="822240"/>
            <a:ext cx="366840" cy="2752920"/>
            <a:chOff x="8137440" y="822240"/>
            <a:chExt cx="366840" cy="2752920"/>
          </a:xfrm>
        </p:grpSpPr>
        <p:grpSp>
          <p:nvGrpSpPr>
            <p:cNvPr id="668" name=""/>
            <p:cNvGrpSpPr/>
            <p:nvPr/>
          </p:nvGrpSpPr>
          <p:grpSpPr>
            <a:xfrm>
              <a:off x="8137440" y="1359000"/>
              <a:ext cx="366840" cy="2216160"/>
              <a:chOff x="8137440" y="1359000"/>
              <a:chExt cx="366840" cy="2216160"/>
            </a:xfrm>
          </p:grpSpPr>
          <p:sp>
            <p:nvSpPr>
              <p:cNvPr id="669" name=""/>
              <p:cNvSpPr/>
              <p:nvPr/>
            </p:nvSpPr>
            <p:spPr>
              <a:xfrm>
                <a:off x="8137440" y="1359000"/>
                <a:ext cx="366840" cy="174600"/>
              </a:xfrm>
              <a:prstGeom prst="rect">
                <a:avLst/>
              </a:prstGeom>
              <a:noFill/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8137440" y="1870200"/>
                <a:ext cx="366840" cy="174600"/>
              </a:xfrm>
              <a:prstGeom prst="rect">
                <a:avLst/>
              </a:prstGeom>
              <a:noFill/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8137440" y="2378160"/>
                <a:ext cx="366840" cy="174600"/>
              </a:xfrm>
              <a:prstGeom prst="rect">
                <a:avLst/>
              </a:prstGeom>
              <a:noFill/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8137440" y="2887560"/>
                <a:ext cx="366840" cy="174600"/>
              </a:xfrm>
              <a:prstGeom prst="rect">
                <a:avLst/>
              </a:prstGeom>
              <a:noFill/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8137440" y="3400560"/>
                <a:ext cx="366840" cy="174600"/>
              </a:xfrm>
              <a:prstGeom prst="rect">
                <a:avLst/>
              </a:prstGeom>
              <a:noFill/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4" name=""/>
            <p:cNvSpPr/>
            <p:nvPr/>
          </p:nvSpPr>
          <p:spPr>
            <a:xfrm>
              <a:off x="8137440" y="822240"/>
              <a:ext cx="236520" cy="171360"/>
            </a:xfrm>
            <a:prstGeom prst="rect">
              <a:avLst/>
            </a:prstGeom>
            <a:noFill/>
            <a:ln w="284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5" name=""/>
          <p:cNvGrpSpPr/>
          <p:nvPr/>
        </p:nvGrpSpPr>
        <p:grpSpPr>
          <a:xfrm>
            <a:off x="8615520" y="847800"/>
            <a:ext cx="366480" cy="2727360"/>
            <a:chOff x="8615520" y="847800"/>
            <a:chExt cx="366480" cy="2727360"/>
          </a:xfrm>
        </p:grpSpPr>
        <p:grpSp>
          <p:nvGrpSpPr>
            <p:cNvPr id="676" name=""/>
            <p:cNvGrpSpPr/>
            <p:nvPr/>
          </p:nvGrpSpPr>
          <p:grpSpPr>
            <a:xfrm>
              <a:off x="8615520" y="1359000"/>
              <a:ext cx="366480" cy="2216160"/>
              <a:chOff x="8615520" y="1359000"/>
              <a:chExt cx="366480" cy="2216160"/>
            </a:xfrm>
          </p:grpSpPr>
          <p:sp>
            <p:nvSpPr>
              <p:cNvPr id="677" name=""/>
              <p:cNvSpPr/>
              <p:nvPr/>
            </p:nvSpPr>
            <p:spPr>
              <a:xfrm>
                <a:off x="8615520" y="1359000"/>
                <a:ext cx="366480" cy="174600"/>
              </a:xfrm>
              <a:prstGeom prst="rect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8615520" y="1870200"/>
                <a:ext cx="366480" cy="174600"/>
              </a:xfrm>
              <a:prstGeom prst="rect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8615520" y="2378160"/>
                <a:ext cx="366480" cy="174600"/>
              </a:xfrm>
              <a:prstGeom prst="rect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8615520" y="2887560"/>
                <a:ext cx="366480" cy="174600"/>
              </a:xfrm>
              <a:prstGeom prst="rect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8615520" y="3400560"/>
                <a:ext cx="366480" cy="174600"/>
              </a:xfrm>
              <a:prstGeom prst="rect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2" name=""/>
            <p:cNvSpPr/>
            <p:nvPr/>
          </p:nvSpPr>
          <p:spPr>
            <a:xfrm>
              <a:off x="8683560" y="847800"/>
              <a:ext cx="231840" cy="17460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3" name=""/>
          <p:cNvSpPr/>
          <p:nvPr/>
        </p:nvSpPr>
        <p:spPr>
          <a:xfrm>
            <a:off x="287280" y="4583520"/>
            <a:ext cx="8569440" cy="1556280"/>
          </a:xfrm>
          <a:prstGeom prst="rect">
            <a:avLst/>
          </a:prstGeom>
          <a:solidFill>
            <a:srgbClr val="99ccff"/>
          </a:solidFill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lements of a family have the same outermost electron configuration except that the electrons are in different energy level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A439-1A7F-4A8C-9217-7EA00FF95214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8" dur="indefinite" restart="never" nodeType="tmRoot">
          <p:childTnLst>
            <p:seq>
              <p:cTn id="1239" dur="indefinite" nodeType="mainSeq">
                <p:childTnLst>
                  <p:par>
                    <p:cTn id="1240" fill="hold">
                      <p:stCondLst>
                        <p:cond delay="0"/>
                      </p:stCondLst>
                      <p:childTnLst>
                        <p:par>
                          <p:cTn id="1241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4" dur="1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5" fill="hold">
                      <p:stCondLst>
                        <p:cond delay="indefinite"/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9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0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3" dur="1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4" dur="1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7" dur="1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8" dur="1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1" dur="1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2" dur="1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5" dur="1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6" dur="1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9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0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3" dur="1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4" dur="1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7" dur="1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8" dur="1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3" dur="10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008000"/>
                </a:solidFill>
                <a:uFillTx/>
                <a:latin typeface="Tahoma"/>
              </a:rPr>
              <a:t>Characteristics of a Wav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9F14-223F-4300-AF2B-D00E7317D0EF}" type="slidenum">
              <a:t>8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"/>
          <p:cNvSpPr txBox="1"/>
          <p:nvPr/>
        </p:nvSpPr>
        <p:spPr>
          <a:xfrm>
            <a:off x="1855800" y="2570040"/>
            <a:ext cx="5432400" cy="172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The End</a:t>
            </a:r>
            <a:endParaRPr b="0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F30A-01E1-44E6-A869-8DF0B27E28F4}" type="slidenum">
              <a:t>80</a:t>
            </a:fld>
          </a:p>
        </p:txBody>
      </p:sp>
    </p:spTree>
  </p:cSld>
  <p:transition spd="slow">
    <p:blinds dir="vert"/>
  </p:transition>
  <p:timing>
    <p:tnLst>
      <p:par>
        <p:cTn id="1284" dur="indefinite" restart="never" nodeType="tmRoot">
          <p:childTnLst>
            <p:seq>
              <p:cTn id="1285" dur="indefinite" nodeType="mainSeq">
                <p:childTnLst>
                  <p:par>
                    <p:cTn id="1286" fill="hold">
                      <p:stCondLst>
                        <p:cond delay="0"/>
                      </p:stCondLst>
                      <p:childTnLst>
                        <p:par>
                          <p:cTn id="1287" fill="hold">
                            <p:stCondLst>
                              <p:cond delay="0"/>
                            </p:stCondLst>
                            <p:childTnLst>
                              <p:par>
                                <p:cTn id="12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0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avelength (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1D46-BE64-4E81-874E-973E96B74FE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0T06:50:10Z</dcterms:created>
  <dc:creator>M</dc:creator>
  <dc:description/>
  <dc:language>en-US</dc:language>
  <cp:lastModifiedBy>Eugene Passer</cp:lastModifiedBy>
  <dcterms:modified xsi:type="dcterms:W3CDTF">2006-11-21T00:05:05Z</dcterms:modified>
  <cp:revision>858</cp:revision>
  <dc:subject/>
  <dc:title>Hein and Arena</dc:title>
</cp:coreProperties>
</file>