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B34-5C79-425F-B1D2-A6B3FAEB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7F4-14E3-4272-9079-0346C8B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94B-ED1A-4E81-A981-F5312E3A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91A7-64CE-43F0-BD25-50D3A41C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071-FFF8-4267-A69E-0FF853A6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559-3006-4E62-906F-074DAFA1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2F8-E55B-4364-89C4-26D5318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F35-DA23-4C1D-9EC1-DB547E98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1EF-9FA0-4196-8FB0-A83785D4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FAE-7790-48F8-B7E2-C9D5C669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5FE-A294-4905-A950-5BA66ACA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BE9-ACF5-4F24-B46E-7EEDBD75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63B0B82-0170-4DF9-9123-850C215D843E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:34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FDBD-D28A-4B65-815F-6407EB1A8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odern Atomic Theo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 Periodic Ta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0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3E2-D163-4115-ADE5-192A2A2C269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960" y="3417840"/>
            <a:ext cx="6535800" cy="1671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19640" y="1854360"/>
            <a:ext cx="2068560" cy="1041120"/>
          </a:xfrm>
          <a:prstGeom prst="borderCallout2">
            <a:avLst>
              <a:gd name="adj1" fmla="val 18750"/>
              <a:gd name="adj2" fmla="val -8333"/>
              <a:gd name="adj3" fmla="val 10976"/>
              <a:gd name="adj4" fmla="val -64157"/>
              <a:gd name="adj5" fmla="val 172407"/>
              <a:gd name="adj6" fmla="val -126939"/>
            </a:avLst>
          </a:prstGeom>
          <a:solidFill>
            <a:srgbClr val="ccffff"/>
          </a:solidFill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asured from peak to pea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60960" y="1838160"/>
            <a:ext cx="2362320" cy="1041480"/>
          </a:xfrm>
          <a:prstGeom prst="borderCallout2">
            <a:avLst>
              <a:gd name="adj1" fmla="val 18750"/>
              <a:gd name="adj2" fmla="val -8333"/>
              <a:gd name="adj3" fmla="val 10976"/>
              <a:gd name="adj4" fmla="val -50134"/>
              <a:gd name="adj5" fmla="val 279268"/>
              <a:gd name="adj6" fmla="val -98856"/>
            </a:avLst>
          </a:prstGeom>
          <a:solidFill>
            <a:srgbClr val="ccffff"/>
          </a:solidFill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easured from trough to trou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80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has the properties of a wa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110-5A1F-420C-9D61-8911996272EE}" type="slidenum">
              <a:t>10</a:t>
            </a:fld>
          </a:p>
        </p:txBody>
      </p:sp>
    </p:spTree>
  </p:cSld>
  <p:transition spd="slow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quency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5EA-C9DF-496B-B5BF-1EB4818B7B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3048120"/>
            <a:ext cx="0" cy="3200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2225520"/>
            <a:ext cx="6187680" cy="669960"/>
            <a:chOff x="0" y="2225520"/>
            <a:chExt cx="6187680" cy="66996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0" y="2225520"/>
              <a:ext cx="262188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rcRect l="7116" t="0" r="0" b="0"/>
            <a:stretch/>
          </p:blipFill>
          <p:spPr>
            <a:xfrm>
              <a:off x="19688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"/>
            <a:srcRect l="7116" t="0" r="0" b="0"/>
            <a:stretch/>
          </p:blipFill>
          <p:spPr>
            <a:xfrm>
              <a:off x="37526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685800" y="380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quency is the number of wavelengths that pass a particular point per seco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DD5-5A2A-49E1-B82E-21B39CFD9F5A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0.38663 3.7037E-007 E">
                                      <p:cBhvr>
                                        <p:cTn id="77" dur="1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ed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C47-88B2-4975-AA1E-F7C96CC803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225520"/>
            <a:ext cx="6187680" cy="669960"/>
            <a:chOff x="0" y="2225520"/>
            <a:chExt cx="6187680" cy="66996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2225520"/>
              <a:ext cx="262188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"/>
            <a:srcRect l="7116" t="0" r="0" b="0"/>
            <a:stretch/>
          </p:blipFill>
          <p:spPr>
            <a:xfrm>
              <a:off x="19688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rcRect l="7116" t="0" r="0" b="0"/>
            <a:stretch/>
          </p:blipFill>
          <p:spPr>
            <a:xfrm>
              <a:off x="3752640" y="2225520"/>
              <a:ext cx="24350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"/>
          <p:cNvGrpSpPr/>
          <p:nvPr/>
        </p:nvGrpSpPr>
        <p:grpSpPr>
          <a:xfrm>
            <a:off x="0" y="3749760"/>
            <a:ext cx="6187680" cy="669960"/>
            <a:chOff x="0" y="3749760"/>
            <a:chExt cx="6187680" cy="66996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0" y="3749760"/>
              <a:ext cx="262188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rcRect l="7116" t="0" r="0" b="0"/>
            <a:stretch/>
          </p:blipFill>
          <p:spPr>
            <a:xfrm>
              <a:off x="1968840" y="3749760"/>
              <a:ext cx="24350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rcRect l="7116" t="0" r="0" b="0"/>
            <a:stretch/>
          </p:blipFill>
          <p:spPr>
            <a:xfrm>
              <a:off x="3752640" y="3749760"/>
              <a:ext cx="2435040" cy="66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685800" y="380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ed is how fast a wave moves through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C40-8458-4F76-9D86-A18A0537866F}" type="slidenum">
              <a:t>14</a:t>
            </a:fld>
          </a:p>
        </p:txBody>
      </p:sp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3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also exhibits the properties of a particle. Light particles are called 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</a:rPr>
              <a:t>phot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the wave  model and the particle model are used to explain the properties of l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2F5-461D-446C-ADAE-A89D92D5B7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magnetic Spectru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BB9-CB41-481E-B809-E4DB82F7D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8640" y="2041560"/>
            <a:ext cx="8226720" cy="277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76320"/>
            <a:ext cx="327636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22333"/>
              <a:gd name="adj5" fmla="val 167402"/>
              <a:gd name="adj6" fmla="val -43166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ble light is part of the electromagne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76320"/>
            <a:ext cx="3276720" cy="1222200"/>
          </a:xfrm>
          <a:prstGeom prst="borderCallout2">
            <a:avLst>
              <a:gd name="adj1" fmla="val 18750"/>
              <a:gd name="adj2" fmla="val -8333"/>
              <a:gd name="adj3" fmla="val 9351"/>
              <a:gd name="adj4" fmla="val -23060"/>
              <a:gd name="adj5" fmla="val 182856"/>
              <a:gd name="adj6" fmla="val -447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re part of the electromagne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76320"/>
            <a:ext cx="2743200" cy="1676160"/>
          </a:xfrm>
          <a:prstGeom prst="borderCallout2">
            <a:avLst>
              <a:gd name="adj1" fmla="val 18750"/>
              <a:gd name="adj2" fmla="val -8333"/>
              <a:gd name="adj3" fmla="val 6819"/>
              <a:gd name="adj4" fmla="val -28356"/>
              <a:gd name="adj5" fmla="val 133902"/>
              <a:gd name="adj6" fmla="val -5503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red light is part of the electromagne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BDC-A204-4B4E-8670-E755D7899EE9}" type="slidenum">
              <a:t>17</a:t>
            </a:fld>
          </a:p>
        </p:txBody>
      </p:sp>
    </p:spTree>
  </p:cSld>
  <p:transition spd="slow"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3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Bohr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24E-1547-4409-9B0C-12AB83EA1F4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high temperatures or voltages, elements in the gaseous state emit light of different 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light is passed through a prism or diffraction grating a line spectrum resul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997-973D-4663-9837-357528DC59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82880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A Brief Histo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3875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Electromagnetic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946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Boh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8288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omic Structures of the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18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827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lectron Structures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Periodic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60" y="35053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nergy Levels of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A81-7B49-4F6E-AB74-06B6F68542E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6360" y="1935000"/>
            <a:ext cx="7989840" cy="200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85800" y="460224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ine spectrum of hydrog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Each line corresponds to the wavelength of the energy emitted when the electron of a hydrogen atom, which has absorbed energy falls back to a lower principal energy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46720" y="152280"/>
            <a:ext cx="3505320" cy="1630440"/>
          </a:xfrm>
          <a:prstGeom prst="borderCallout2">
            <a:avLst>
              <a:gd name="adj1" fmla="val 18750"/>
              <a:gd name="adj2" fmla="val -8333"/>
              <a:gd name="adj3" fmla="val 7009"/>
              <a:gd name="adj4" fmla="val -9875"/>
              <a:gd name="adj5" fmla="val 115189"/>
              <a:gd name="adj6" fmla="val -17842"/>
            </a:avLst>
          </a:prstGeom>
          <a:solidFill>
            <a:srgbClr val="ccffff"/>
          </a:solidFill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colored lines indicate that light is being emitted </a:t>
            </a:r>
            <a:r>
              <a:rPr b="0" i="1" lang="en-US" sz="2600" spc="-1" strike="noStrike">
                <a:solidFill>
                  <a:srgbClr val="ff0066"/>
                </a:solidFill>
                <a:latin typeface="Arial"/>
              </a:rPr>
              <a:t>on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certain wavelength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76320"/>
            <a:ext cx="4800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ach element has its own unique set of spectral emission lines that distinguish it from other el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301-CE7F-48D7-BB08-364B31D5386B}" type="slidenum">
              <a:t>20</a:t>
            </a:fld>
          </a:p>
        </p:txBody>
      </p:sp>
    </p:spTree>
  </p:cSld>
  <p:transition spd="slow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Niels Boh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035-396C-4A26-A379-B40F5B69266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els Bohr, a Danish physicist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12-1913 carried out researc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hydrogen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C55-3DCB-4522-80AD-1A06591545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hr A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3D6-99D1-425D-BF12-B41BB56E68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00" y="838080"/>
            <a:ext cx="4524480" cy="4575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24600" y="3638520"/>
            <a:ext cx="3962160" cy="2305080"/>
          </a:xfrm>
          <a:prstGeom prst="borderCallout1">
            <a:avLst>
              <a:gd name="adj1" fmla="val -6291"/>
              <a:gd name="adj2" fmla="val -714"/>
              <a:gd name="adj3" fmla="val 20562"/>
              <a:gd name="adj4" fmla="val -71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revolve around the nucleus in orbits that are located at fixed distances from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334476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81600" y="3552840"/>
            <a:ext cx="5105160" cy="1467000"/>
            <a:chOff x="3981600" y="3552840"/>
            <a:chExt cx="5105160" cy="1467000"/>
          </a:xfrm>
        </p:grpSpPr>
        <p:sp>
          <p:nvSpPr>
            <p:cNvPr id="117" name=""/>
            <p:cNvSpPr/>
            <p:nvPr/>
          </p:nvSpPr>
          <p:spPr>
            <a:xfrm>
              <a:off x="5124600" y="3646440"/>
              <a:ext cx="3962160" cy="137340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n electron has a discrete energy when it occupies an orbit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981600" y="355284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69A-1099-4893-9E3D-49DE4543A081}" type="slidenum">
              <a:t>24</a:t>
            </a:fld>
          </a:p>
        </p:txBody>
      </p:sp>
    </p:spTree>
  </p:cSld>
  <p:transition spd="slow"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283360" cy="5342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29200" y="1717560"/>
            <a:ext cx="4038480" cy="246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n electron falls from a higher energy level to a lower energy level a quantum of energy in the form of light is emitted by the ato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723920" y="5029200"/>
            <a:ext cx="76212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84600" y="4343400"/>
            <a:ext cx="4254480" cy="1066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4747680" y="5029200"/>
            <a:ext cx="738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1720800"/>
            <a:ext cx="4095720" cy="2679840"/>
            <a:chOff x="4952880" y="1720800"/>
            <a:chExt cx="4095720" cy="2679840"/>
          </a:xfrm>
        </p:grpSpPr>
        <p:sp>
          <p:nvSpPr>
            <p:cNvPr id="126" name=""/>
            <p:cNvSpPr/>
            <p:nvPr/>
          </p:nvSpPr>
          <p:spPr>
            <a:xfrm>
              <a:off x="5029200" y="1720800"/>
              <a:ext cx="3962520" cy="1677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The color of the light emitted corresponds to one of the lines of the hydrogen spectrum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52880" y="3433680"/>
              <a:ext cx="4095720" cy="96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481640" y="332100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962520"/>
            <a:ext cx="1752840" cy="533160"/>
          </a:xfrm>
          <a:prstGeom prst="lightningBol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D44-F1DE-4199-A66D-49E7BE43E82D}" type="slidenum">
              <a:t>25</a:t>
            </a:fld>
          </a:p>
        </p:txBody>
      </p:sp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85185E-006 L -0.06927 1.85185E-006 E">
                                      <p:cBhvr>
                                        <p:cTn id="16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125 0.11666 E">
                                      <p:cBhvr>
                                        <p:cTn id="17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220680"/>
            <a:ext cx="5283000" cy="5342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3344760"/>
            <a:ext cx="53352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523880"/>
            <a:ext cx="3962520" cy="2073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lines of the hydrogen spectrum correspond to different electron energy level shif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67360" y="5029200"/>
            <a:ext cx="7383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84600" y="4343400"/>
            <a:ext cx="4254480" cy="1066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3886200"/>
            <a:ext cx="1752480" cy="533520"/>
          </a:xfrm>
          <a:prstGeom prst="lightningBolt">
            <a:avLst/>
          </a:prstGeom>
          <a:solidFill>
            <a:srgbClr val="2aaa2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69160" y="5072040"/>
            <a:ext cx="73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861-6AF6-4891-8E2E-8CD0DA8DE655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16129 -3.7037E-007 E">
                                      <p:cBhvr>
                                        <p:cTn id="19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00138 L 0.2125 0.15 E">
                                      <p:cBhvr>
                                        <p:cTn id="196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220680"/>
            <a:ext cx="5283000" cy="53420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029200" y="1523880"/>
            <a:ext cx="3505320" cy="167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is not emitted continuously.  It is emitted in discrete packets called </a:t>
            </a:r>
            <a:r>
              <a:rPr b="0" i="1" lang="en-US" sz="2600" spc="-1" strike="noStrike">
                <a:solidFill>
                  <a:srgbClr val="ff0066"/>
                </a:solidFill>
                <a:latin typeface="Arial"/>
              </a:rPr>
              <a:t>quanta</a:t>
            </a:r>
            <a:r>
              <a:rPr b="0" lang="en-US" sz="2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4419720"/>
            <a:ext cx="1752480" cy="533160"/>
          </a:xfrm>
          <a:prstGeom prst="lightningBolt">
            <a:avLst/>
          </a:prstGeom>
          <a:solidFill>
            <a:srgbClr val="ff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016600" y="2824200"/>
            <a:ext cx="3313080" cy="2916360"/>
            <a:chOff x="5016600" y="2824200"/>
            <a:chExt cx="3313080" cy="2916360"/>
          </a:xfrm>
        </p:grpSpPr>
        <p:sp>
          <p:nvSpPr>
            <p:cNvPr id="142" name=""/>
            <p:cNvSpPr/>
            <p:nvPr/>
          </p:nvSpPr>
          <p:spPr>
            <a:xfrm>
              <a:off x="7283520" y="2824200"/>
              <a:ext cx="1046160" cy="34596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600" y="4826160"/>
              <a:ext cx="1904760" cy="91440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950080" y="3164040"/>
              <a:ext cx="1854000" cy="166680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55920" y="3344760"/>
            <a:ext cx="53352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C80-895C-4963-ABDF-81B9B6F02912}" type="slidenum">
              <a:t>27</a:t>
            </a:fld>
          </a:p>
        </p:txBody>
      </p:sp>
    </p:spTree>
  </p:cSld>
  <p:transition spd="slow">
    <p:blinds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7037E-007 L -0.07795 -3.7037E-007 E">
                                      <p:cBhvr>
                                        <p:cTn id="21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2917 0.08334 E">
                                      <p:cBhvr>
                                        <p:cTn id="21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7080" y="228600"/>
            <a:ext cx="5283000" cy="5342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0" y="4408560"/>
            <a:ext cx="4038480" cy="183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ctron can have one of several possible energies depending on its or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92440" y="3070080"/>
            <a:ext cx="53352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80040" y="307008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40120" y="3070080"/>
            <a:ext cx="533160" cy="53352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14E-6C67-4EE8-9AB6-B36534F8532B}" type="slidenum">
              <a:t>28</a:t>
            </a:fld>
          </a:p>
        </p:txBody>
      </p:sp>
    </p:spTree>
  </p:cSld>
  <p:transition spd="slow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hr’s calculations succeeded very well in correlating the experimentally observed spectral lines with electron energy levels for the hydrogen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040" y="314784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hr’s methods did not succeed for heavier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theoretical work on atomic structure wa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A04-86AC-4121-8B4E-946426E32E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1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 Brief Hist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648-79D8-4CD4-8F05-416D303126D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839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4 Louis De Broglie suggested that all objects have wave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04156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Broglie showed that the wavelength of ordinary sized objects, such as a baseball, are too small to be obser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objects the size of an electron the wavelength can be dete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784-C849-4F1D-AFBF-2961CA5A54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52280"/>
            <a:ext cx="7772400" cy="15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6 Erwin Sch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nger created a mathematical model that showed electrons as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84240"/>
            <a:ext cx="77724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nger’s work led to a new branch of physics called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wave or quantum mechan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ch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nger’s wave mechanics, the </a:t>
            </a:r>
            <a:r>
              <a:rPr b="0" i="1" lang="en-US" sz="3200" spc="-1" strike="noStrike">
                <a:solidFill>
                  <a:srgbClr val="ff0066"/>
                </a:solidFill>
                <a:latin typeface="Times New Roman"/>
              </a:rPr>
              <a:t>prob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finding an electron in a certain region around the atom can be determined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location of an electron within an atom cannot be determ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51C-6D55-4198-A3BC-0D2978CFE2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160" y="83988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wave mechanics it is clear that electrons are not revolving around the nucleus in orb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89120"/>
            <a:ext cx="80769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ead of being located in orbits, the electrons are located in 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</a:rPr>
              <a:t>orbit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</a:rPr>
              <a:t>orbi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region around the nucleus where there is a high probability of finding an electr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72A-AF8C-4651-96EC-37D322C934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4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nergy Levels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Electr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DF7-909C-438D-902C-926CCDF9CB4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cording to Bohr the energies of electrons in an atom are quantiz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286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ve-mechanical model of the atom also predicts discret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al energ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ithin the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10C-C536-4A8E-949E-5F907A1C1B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786200" y="205704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four principal energy levels of the hydrogen ato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117440"/>
            <a:ext cx="4030560" cy="4621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800600" y="228600"/>
            <a:ext cx="4191120" cy="1676520"/>
          </a:xfrm>
          <a:prstGeom prst="borderCallout2">
            <a:avLst>
              <a:gd name="adj1" fmla="val 18750"/>
              <a:gd name="adj2" fmla="val -8333"/>
              <a:gd name="adj3" fmla="val 6819"/>
              <a:gd name="adj4" fmla="val -11629"/>
              <a:gd name="adj5" fmla="val 144884"/>
              <a:gd name="adj6" fmla="val -21893"/>
            </a:avLst>
          </a:prstGeom>
          <a:solidFill>
            <a:srgbClr val="dddddd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 increases, the energy of the electron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6200" y="423720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evel is assigned a principal quantum number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1A0F-F9BA-4D18-97B2-414344227E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05520" y="1231920"/>
            <a:ext cx="3336840" cy="325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52280" y="547560"/>
            <a:ext cx="4030920" cy="4621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914400" y="571500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incipal energy level is subdivided into sub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505320" y="4038480"/>
            <a:ext cx="3200400" cy="10670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19360" y="2259000"/>
            <a:ext cx="3551400" cy="1093680"/>
            <a:chOff x="3519360" y="2259000"/>
            <a:chExt cx="3551400" cy="1093680"/>
          </a:xfrm>
        </p:grpSpPr>
        <p:sp>
          <p:nvSpPr>
            <p:cNvPr id="175" name=""/>
            <p:cNvSpPr/>
            <p:nvPr/>
          </p:nvSpPr>
          <p:spPr>
            <a:xfrm>
              <a:off x="3524400" y="2263680"/>
              <a:ext cx="2876400" cy="1089000"/>
            </a:xfrm>
            <a:prstGeom prst="line">
              <a:avLst/>
            </a:prstGeom>
            <a:ln w="28440">
              <a:solidFill>
                <a:srgbClr val="ff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19360" y="2259000"/>
              <a:ext cx="3551400" cy="101772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497400" y="1336680"/>
            <a:ext cx="3970080" cy="1197000"/>
            <a:chOff x="3497400" y="1336680"/>
            <a:chExt cx="3970080" cy="1197000"/>
          </a:xfrm>
        </p:grpSpPr>
        <p:sp>
          <p:nvSpPr>
            <p:cNvPr id="178" name=""/>
            <p:cNvSpPr/>
            <p:nvPr/>
          </p:nvSpPr>
          <p:spPr>
            <a:xfrm>
              <a:off x="3505320" y="1336680"/>
              <a:ext cx="2471760" cy="11970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97400" y="1336680"/>
              <a:ext cx="3295440" cy="11937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1160" y="1341360"/>
              <a:ext cx="3946320" cy="11732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505320" y="880920"/>
            <a:ext cx="4514760" cy="1024200"/>
            <a:chOff x="3505320" y="880920"/>
            <a:chExt cx="4514760" cy="1024200"/>
          </a:xfrm>
        </p:grpSpPr>
        <p:sp>
          <p:nvSpPr>
            <p:cNvPr id="182" name=""/>
            <p:cNvSpPr/>
            <p:nvPr/>
          </p:nvSpPr>
          <p:spPr>
            <a:xfrm>
              <a:off x="3543480" y="895320"/>
              <a:ext cx="2247840" cy="1009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19360" y="890640"/>
              <a:ext cx="2957760" cy="10144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4400" y="880920"/>
              <a:ext cx="3790800" cy="10242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906480"/>
              <a:ext cx="4514760" cy="99864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6553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7, 1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DE6-94EE-42FE-A4C7-DA240C75B8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480" y="304920"/>
            <a:ext cx="891360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in sublevels the electrons are found in orbi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836720"/>
            <a:ext cx="3094200" cy="3687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429000" y="1806480"/>
            <a:ext cx="5410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s orbital is spherical in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herical surface encloses a space where there is a 90% probability that the electron may be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80E1-73A3-4B37-BE6D-83D9933E77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429000" y="1806480"/>
            <a:ext cx="541008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ron can spin in one of  two possible directions represented b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 or ↓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wo electrons that occupy an atomic orbital must have opposite s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known as the Pauli Exclusion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480" y="301680"/>
            <a:ext cx="891360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tomic orbital can hold a maximum of two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36720"/>
            <a:ext cx="3094200" cy="3687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1463760" y="32047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16040" y="3205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95A-2B6B-4A64-8C73-26D92AFC0C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733920"/>
            <a:ext cx="8686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 orbital has two lob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p orbital can hold a maximum of two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p sublevel can hold a maximum of 6 electr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480" y="76320"/>
            <a:ext cx="89136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 sublevel is made up of three orbi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62640" cy="294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A56-3DC4-4420-AFFD-3319CE0CACB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57320" y="336600"/>
          <a:ext cx="5229360" cy="61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7320" y="336600"/>
                    <a:ext cx="522936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13C-FE6F-45C9-B4DE-A22819286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962520" y="22860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p orbitals share a common cen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76320" y="1585800"/>
            <a:ext cx="3748320" cy="36864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00400" y="382104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231840" y="39337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31800" y="14065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9280" y="35053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hree p orbitals point in different direc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5E4-9DB5-4DF1-B531-53F2043C8D7F}" type="slidenum">
              <a:t>40</a:t>
            </a:fld>
          </a:p>
        </p:txBody>
      </p:sp>
    </p:spTree>
  </p:cSld>
  <p:transition spd="slow">
    <p:blinds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565440"/>
            <a:ext cx="9142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ive d orbitals all point in different dire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ach d orbital can hold a maximum of two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d sublevel can hold a maximum of 10 elect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537760" cy="1833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4480" y="301680"/>
            <a:ext cx="89136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 sublevel is made up of five orbit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E9B-A21E-4C2A-BB00-5FBBA6B427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257800" y="2395440"/>
            <a:ext cx="3336840" cy="325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1274760" y="4251240"/>
            <a:ext cx="5506560" cy="1839960"/>
            <a:chOff x="1274760" y="4251240"/>
            <a:chExt cx="5506560" cy="183996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274760" y="4251240"/>
              <a:ext cx="154476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flipH="1">
              <a:off x="2895120" y="5170680"/>
              <a:ext cx="388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828800" y="6172200"/>
            <a:ext cx="54864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Orbitals in a Sub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044880"/>
            <a:ext cx="6324480" cy="2754360"/>
            <a:chOff x="838080" y="3044880"/>
            <a:chExt cx="6324480" cy="2754360"/>
          </a:xfrm>
        </p:grpSpPr>
        <p:sp>
          <p:nvSpPr>
            <p:cNvPr id="218" name=""/>
            <p:cNvSpPr/>
            <p:nvPr/>
          </p:nvSpPr>
          <p:spPr>
            <a:xfrm flipH="1">
              <a:off x="3200040" y="4421160"/>
              <a:ext cx="396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838080" y="3044880"/>
              <a:ext cx="2313000" cy="275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04920" y="3178080"/>
            <a:ext cx="6247800" cy="2760840"/>
            <a:chOff x="304920" y="3178080"/>
            <a:chExt cx="6247800" cy="2760840"/>
          </a:xfrm>
        </p:grpSpPr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304920" y="3178080"/>
              <a:ext cx="2806560" cy="27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flipH="1">
              <a:off x="3200040" y="455940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2880" y="2122560"/>
            <a:ext cx="7314840" cy="3124080"/>
            <a:chOff x="272880" y="2122560"/>
            <a:chExt cx="7314840" cy="3124080"/>
          </a:xfrm>
        </p:grpSpPr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272880" y="2122560"/>
              <a:ext cx="26244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 flipH="1">
              <a:off x="2787120" y="3684600"/>
              <a:ext cx="480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52280" y="2276640"/>
            <a:ext cx="6778440" cy="3128760"/>
            <a:chOff x="152280" y="2276640"/>
            <a:chExt cx="6778440" cy="3128760"/>
          </a:xfrm>
        </p:grpSpPr>
        <p:pic>
          <p:nvPicPr>
            <p:cNvPr id="227" name="" descr=""/>
            <p:cNvPicPr/>
            <p:nvPr/>
          </p:nvPicPr>
          <p:blipFill>
            <a:blip r:embed="rId6"/>
            <a:stretch/>
          </p:blipFill>
          <p:spPr>
            <a:xfrm>
              <a:off x="152280" y="2276640"/>
              <a:ext cx="3181320" cy="31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flipH="1">
              <a:off x="3276360" y="3841920"/>
              <a:ext cx="365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11240" y="228600"/>
            <a:ext cx="7121520" cy="3580920"/>
            <a:chOff x="1011240" y="228600"/>
            <a:chExt cx="7121520" cy="3580920"/>
          </a:xfrm>
        </p:grpSpPr>
        <p:pic>
          <p:nvPicPr>
            <p:cNvPr id="230" name="" descr=""/>
            <p:cNvPicPr/>
            <p:nvPr/>
          </p:nvPicPr>
          <p:blipFill>
            <a:blip r:embed="rId7"/>
            <a:stretch/>
          </p:blipFill>
          <p:spPr>
            <a:xfrm>
              <a:off x="1011240" y="228600"/>
              <a:ext cx="712152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 flipH="1" flipV="1">
              <a:off x="4114440" y="1828440"/>
              <a:ext cx="1981080" cy="198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85800" y="1190520"/>
            <a:ext cx="7286400" cy="3668760"/>
            <a:chOff x="685800" y="1190520"/>
            <a:chExt cx="7286400" cy="3668760"/>
          </a:xfrm>
        </p:grpSpPr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685800" y="1190520"/>
              <a:ext cx="308124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 flipH="1">
              <a:off x="3552480" y="2997360"/>
              <a:ext cx="4419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66760" y="1285920"/>
            <a:ext cx="7086600" cy="3686040"/>
            <a:chOff x="266760" y="1285920"/>
            <a:chExt cx="7086600" cy="3686040"/>
          </a:xfrm>
        </p:grpSpPr>
        <p:pic>
          <p:nvPicPr>
            <p:cNvPr id="236" name="" descr=""/>
            <p:cNvPicPr/>
            <p:nvPr/>
          </p:nvPicPr>
          <p:blipFill>
            <a:blip r:embed="rId9"/>
            <a:stretch/>
          </p:blipFill>
          <p:spPr>
            <a:xfrm>
              <a:off x="266760" y="1285920"/>
              <a:ext cx="3747960" cy="36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 flipH="1">
              <a:off x="3981600" y="3129120"/>
              <a:ext cx="337176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0760" y="76320"/>
            <a:ext cx="9040680" cy="2971440"/>
            <a:chOff x="50760" y="76320"/>
            <a:chExt cx="9040680" cy="2971440"/>
          </a:xfrm>
        </p:grpSpPr>
        <p:pic>
          <p:nvPicPr>
            <p:cNvPr id="239" name="" descr=""/>
            <p:cNvPicPr/>
            <p:nvPr/>
          </p:nvPicPr>
          <p:blipFill>
            <a:blip r:embed="rId10"/>
            <a:stretch/>
          </p:blipFill>
          <p:spPr>
            <a:xfrm>
              <a:off x="50760" y="76320"/>
              <a:ext cx="9040680" cy="19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H="1" flipV="1">
              <a:off x="4778280" y="1990440"/>
              <a:ext cx="177480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8  10.10 10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0EF-8909-4EC4-83A3-F1EB5E4652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28600" y="1879560"/>
          <a:ext cx="8762760" cy="4063680"/>
        </p:xfrm>
        <a:graphic>
          <a:graphicData uri="http://schemas.openxmlformats.org/drawingml/2006/table">
            <a:tbl>
              <a:tblPr/>
              <a:tblGrid>
                <a:gridCol w="1008000"/>
                <a:gridCol w="775440"/>
                <a:gridCol w="1706040"/>
                <a:gridCol w="2481480"/>
                <a:gridCol w="27918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p 2p 2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= 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p 3p 3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d 3d 3d 3d 3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= 4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s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p 4p 4p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d 4d 4d 4d 4d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f 4f 4f 4f 4f 4f 4f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1905120" y="3049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ion of Subshells by Principal Energ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CDF-AD3A-4910-9320-381208F8639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ydrogen A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ground state hydrogen’s single electron lies in the 1s orb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gen can absorb energy and the electron will move to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xc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981080"/>
            <a:ext cx="38098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meter of hydrogen’s nucleus is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meter of hydrogen’s electron cloud is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981080"/>
            <a:ext cx="38098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ameter of hydrogen’s electron cloud is about 100,000 times greater than the diameter of its nucl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F8D-8F86-457B-BC52-9D7378DF8C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4" dur="1" fill="hold"/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5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tomic Structure of the First 18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D41-A3B4-4E67-A4A1-366A653499F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etermine the electronic structures of atoms, the following guidelines are u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DE2-3111-41AC-B847-DC5F05C6AE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440" y="2276280"/>
            <a:ext cx="38098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ore than two electrons can occupy one orb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165640" y="1590840"/>
            <a:ext cx="3140280" cy="3733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6448320" y="301896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00960" y="301932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29A-6257-4506-A3D4-9C19B8E3EE6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0" t="0" r="0" b="8677"/>
          <a:stretch/>
        </p:blipFill>
        <p:spPr>
          <a:xfrm>
            <a:off x="1204920" y="609480"/>
            <a:ext cx="2386080" cy="259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6320" y="838080"/>
            <a:ext cx="1981080" cy="5205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s occupy the lowest energy orbitals available.  They enter a higher energy orbital only after the lower orbitals are fil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atoms beyond hydrogen, orbital energies vary as s&lt;p&lt;d&lt;f for a given value of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152800" y="1685880"/>
            <a:ext cx="144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05080" y="1695600"/>
            <a:ext cx="144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rcRect l="0" t="0" r="0" b="10201"/>
          <a:stretch/>
        </p:blipFill>
        <p:spPr>
          <a:xfrm>
            <a:off x="4799160" y="228600"/>
            <a:ext cx="3139920" cy="33526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229440" y="1695600"/>
            <a:ext cx="144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533520"/>
            <a:ext cx="1981440" cy="5205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095880" y="1695600"/>
            <a:ext cx="1800" cy="6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071-CAE8-4854-BD4A-09897C35DC4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066320" y="358092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orbital in a sublevel is occupied by a single electron before a second electron enters.  For example, all three p orbitals must contain one electron before a second electron enters a p orb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90000" cy="2954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143000" y="177156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95680" y="210348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77200" y="233208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514600" y="177012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10080" y="145728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477200" y="126684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C0B-6E1B-4659-8D0B-3FE8D228FD5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2</a:t>
            </a:r>
            <a:br>
              <a:rPr sz="4400"/>
            </a:br>
            <a:r>
              <a:rPr b="0" lang="en-US" sz="5400" spc="-1" strike="noStrike" u="sng">
                <a:solidFill>
                  <a:srgbClr val="cc3399"/>
                </a:solidFill>
                <a:uFillTx/>
                <a:latin typeface="Times New Roman"/>
              </a:rPr>
              <a:t>Electromagnetic Rad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E73-487C-4340-A881-265886BBD4E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1904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clear makeup and electronic structure of each principal energy level of an atom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85920" y="2971800"/>
            <a:ext cx="8372160" cy="132084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008000" y="2895480"/>
            <a:ext cx="3705120" cy="2514600"/>
            <a:chOff x="1008000" y="2895480"/>
            <a:chExt cx="3705120" cy="2514600"/>
          </a:xfrm>
        </p:grpSpPr>
        <p:sp>
          <p:nvSpPr>
            <p:cNvPr id="280" name=""/>
            <p:cNvSpPr/>
            <p:nvPr/>
          </p:nvSpPr>
          <p:spPr>
            <a:xfrm>
              <a:off x="2046240" y="4572000"/>
              <a:ext cx="26668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umber of electron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 each suble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8000" y="2895480"/>
              <a:ext cx="1571400" cy="685800"/>
            </a:xfrm>
            <a:prstGeom prst="rect">
              <a:avLst/>
            </a:prstGeom>
            <a:noFill/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50800" y="3581280"/>
              <a:ext cx="0" cy="990720"/>
            </a:xfrm>
            <a:prstGeom prst="line">
              <a:avLst/>
            </a:prstGeom>
            <a:ln w="572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04920" y="2895480"/>
            <a:ext cx="3124080" cy="2378160"/>
            <a:chOff x="304920" y="2895480"/>
            <a:chExt cx="3124080" cy="2378160"/>
          </a:xfrm>
        </p:grpSpPr>
        <p:sp>
          <p:nvSpPr>
            <p:cNvPr id="284" name=""/>
            <p:cNvSpPr/>
            <p:nvPr/>
          </p:nvSpPr>
          <p:spPr>
            <a:xfrm>
              <a:off x="457200" y="3962520"/>
              <a:ext cx="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4920" y="2895480"/>
              <a:ext cx="761760" cy="10670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4920" y="4572000"/>
              <a:ext cx="3124080" cy="7016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umber of protons an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utrons in the nucle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F55-B833-43DE-8DE6-5BC6719BD0B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 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ment of electrons within their respective sublev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129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1" lang="en-US" sz="12900" spc="-1" strike="noStrike" baseline="30000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060880"/>
            <a:ext cx="2584440" cy="1035000"/>
          </a:xfrm>
          <a:prstGeom prst="borderCallout1">
            <a:avLst>
              <a:gd name="adj1" fmla="val 18750"/>
              <a:gd name="adj2" fmla="val -8333"/>
              <a:gd name="adj3" fmla="val -78833"/>
              <a:gd name="adj4" fmla="val 191708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energy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57520" y="5054760"/>
            <a:ext cx="2774880" cy="976320"/>
          </a:xfrm>
          <a:prstGeom prst="borderCallout1">
            <a:avLst>
              <a:gd name="adj1" fmla="val 18750"/>
              <a:gd name="adj2" fmla="val -8333"/>
              <a:gd name="adj3" fmla="val -26504"/>
              <a:gd name="adj4" fmla="val 127175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66880" y="1905120"/>
            <a:ext cx="3124440" cy="1295280"/>
          </a:xfrm>
          <a:prstGeom prst="borderCallout1">
            <a:avLst>
              <a:gd name="adj1" fmla="val 18750"/>
              <a:gd name="adj2" fmla="val -8333"/>
              <a:gd name="adj3" fmla="val 112254"/>
              <a:gd name="adj4" fmla="val 153402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lectrons in sublevel orb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7E4-ACAC-4EF9-B827-704A8F38091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Book Antiqua"/>
              </a:rPr>
              <a:t>Orbital Fill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349A-8843-4EAE-87E4-D67BFA18EBC3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30500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ollowing diagrams boxes represent orbit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s are indicated by arrows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or 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row direction represents one of the two possible electron spin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B7B7-C084-41D7-BFAB-E11B986D61A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FE9-16B9-4F66-A3F3-E6005C7BC96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3880" y="34527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3505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52480" y="34527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066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38360" y="1022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1066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1828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has 1 electron.  It will occupy the orbital of lowest energy which is the 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9400" y="100656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28600" y="3444840"/>
            <a:ext cx="8686800" cy="1724040"/>
            <a:chOff x="228600" y="3444840"/>
            <a:chExt cx="8686800" cy="1724040"/>
          </a:xfrm>
        </p:grpSpPr>
        <p:grpSp>
          <p:nvGrpSpPr>
            <p:cNvPr id="307" name=""/>
            <p:cNvGrpSpPr/>
            <p:nvPr/>
          </p:nvGrpSpPr>
          <p:grpSpPr>
            <a:xfrm>
              <a:off x="228600" y="3505320"/>
              <a:ext cx="8686800" cy="1663560"/>
              <a:chOff x="228600" y="3505320"/>
              <a:chExt cx="8686800" cy="1663560"/>
            </a:xfrm>
          </p:grpSpPr>
          <p:sp>
            <p:nvSpPr>
              <p:cNvPr id="308" name=""/>
              <p:cNvSpPr/>
              <p:nvPr/>
            </p:nvSpPr>
            <p:spPr>
              <a:xfrm>
                <a:off x="457200" y="35053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28600" y="4343400"/>
                <a:ext cx="868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elium has two electrons.  Both helium electrons occupy the 1s orbital with opposite spins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73280" y="344484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F5D6-FE57-4040-A3B1-C2D3B25E5104}" type="slidenum">
              <a:t>55</a:t>
            </a:fld>
          </a:p>
        </p:txBody>
      </p:sp>
    </p:spTree>
  </p:cSld>
  <p:transition spd="slow">
    <p:blinds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B48-96E9-4728-B633-1F46099A33B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457200" y="1066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3683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" y="237816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s orbital is filled.  Lithium’s third electron will enter the 2s orb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460520" y="1033560"/>
            <a:ext cx="799560" cy="644040"/>
            <a:chOff x="1460520" y="1033560"/>
            <a:chExt cx="799560" cy="644040"/>
          </a:xfrm>
        </p:grpSpPr>
        <p:sp>
          <p:nvSpPr>
            <p:cNvPr id="316" name=""/>
            <p:cNvSpPr/>
            <p:nvPr/>
          </p:nvSpPr>
          <p:spPr>
            <a:xfrm>
              <a:off x="1460520" y="103356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50600" y="1035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711520" y="10335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364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8608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2908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19360" y="364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10857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0200" y="100656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51120" y="100656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27160" y="3613320"/>
            <a:ext cx="8229600" cy="2197080"/>
            <a:chOff x="227160" y="3613320"/>
            <a:chExt cx="8229600" cy="2197080"/>
          </a:xfrm>
        </p:grpSpPr>
        <p:grpSp>
          <p:nvGrpSpPr>
            <p:cNvPr id="327" name=""/>
            <p:cNvGrpSpPr/>
            <p:nvPr/>
          </p:nvGrpSpPr>
          <p:grpSpPr>
            <a:xfrm>
              <a:off x="227160" y="3621240"/>
              <a:ext cx="8229600" cy="2189160"/>
              <a:chOff x="227160" y="3621240"/>
              <a:chExt cx="8229600" cy="2189160"/>
            </a:xfrm>
          </p:grpSpPr>
          <p:sp>
            <p:nvSpPr>
              <p:cNvPr id="328" name=""/>
              <p:cNvSpPr/>
              <p:nvPr/>
            </p:nvSpPr>
            <p:spPr>
              <a:xfrm>
                <a:off x="457200" y="367344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B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1476360" y="3621240"/>
                <a:ext cx="809640" cy="642600"/>
                <a:chOff x="1476360" y="3621240"/>
                <a:chExt cx="809640" cy="6426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476360" y="362124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76520" y="362124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227160" y="4984920"/>
                <a:ext cx="822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he 2s orbital fills upon the addition of beryllium’s  third and fourth electrons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86080" y="43959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29080" y="439596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600200" y="361332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36720" y="361332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991-1202-4217-AB27-2BA91C1DFFA3}" type="slidenum">
              <a:t>57</a:t>
            </a:fld>
          </a:p>
        </p:txBody>
      </p:sp>
    </p:spTree>
  </p:cSld>
  <p:transition spd="slow">
    <p:blinds dir="vert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D15D-AF1D-459A-9861-7028CB76E1E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216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216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01600" y="941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82960" y="941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11680" y="941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152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71520" y="152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68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17600" y="168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79800" y="151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155520"/>
            <a:ext cx="5335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48320" y="155520"/>
            <a:ext cx="53316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155520"/>
            <a:ext cx="53316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155520"/>
            <a:ext cx="5335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155520"/>
            <a:ext cx="533520" cy="762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7160" y="1387440"/>
            <a:ext cx="89154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oron has the first p electron.  The three 2p orbitals have the same energy.  It does not matter which orbital fills firs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7160" y="2365200"/>
            <a:ext cx="8989920" cy="1965960"/>
            <a:chOff x="227160" y="2365200"/>
            <a:chExt cx="8989920" cy="1965960"/>
          </a:xfrm>
        </p:grpSpPr>
        <p:sp>
          <p:nvSpPr>
            <p:cNvPr id="356" name=""/>
            <p:cNvSpPr/>
            <p:nvPr/>
          </p:nvSpPr>
          <p:spPr>
            <a:xfrm>
              <a:off x="228600" y="24271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27160" y="2365200"/>
              <a:ext cx="8989920" cy="1965960"/>
              <a:chOff x="227160" y="2365200"/>
              <a:chExt cx="8989920" cy="196596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066680" y="2365200"/>
                <a:ext cx="4114800" cy="1309320"/>
                <a:chOff x="1066680" y="2365200"/>
                <a:chExt cx="4114800" cy="13093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101600" y="3153960"/>
                  <a:ext cx="7621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1</a:t>
                  </a:r>
                  <a:r>
                    <a:rPr b="0" i="1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082960" y="315396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2</a:t>
                  </a:r>
                  <a:r>
                    <a:rPr b="0" i="1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s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811680" y="3153960"/>
                  <a:ext cx="761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2</a:t>
                  </a:r>
                  <a:r>
                    <a:rPr b="0" i="1" lang="en-US" sz="2800" spc="-1" strike="noStrike">
                      <a:solidFill>
                        <a:srgbClr val="cc3399"/>
                      </a:solidFill>
                      <a:latin typeface="Arial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066680" y="236520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271520" y="236520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057400" y="238104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217600" y="238104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00400" y="236844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648320" y="236844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219320" y="236844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209680" y="236844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924360" y="236844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227160" y="3536640"/>
                <a:ext cx="89899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The second p electron of carbon enters a different p orbital than the first p electron so as to give carbon the lowest possible energy.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"/>
          <p:cNvSpPr/>
          <p:nvPr/>
        </p:nvSpPr>
        <p:spPr>
          <a:xfrm>
            <a:off x="6400800" y="2427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06720" y="47239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6800" y="4724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46720" y="47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4080" y="4724280"/>
            <a:ext cx="8989920" cy="1981440"/>
            <a:chOff x="154080" y="4724280"/>
            <a:chExt cx="8989920" cy="1981440"/>
          </a:xfrm>
        </p:grpSpPr>
        <p:grpSp>
          <p:nvGrpSpPr>
            <p:cNvPr id="377" name=""/>
            <p:cNvGrpSpPr/>
            <p:nvPr/>
          </p:nvGrpSpPr>
          <p:grpSpPr>
            <a:xfrm>
              <a:off x="155520" y="4724280"/>
              <a:ext cx="4952880" cy="1309680"/>
              <a:chOff x="155520" y="4724280"/>
              <a:chExt cx="4952880" cy="1309680"/>
            </a:xfrm>
          </p:grpSpPr>
          <p:sp>
            <p:nvSpPr>
              <p:cNvPr id="378" name=""/>
              <p:cNvSpPr/>
              <p:nvPr/>
            </p:nvSpPr>
            <p:spPr>
              <a:xfrm>
                <a:off x="155520" y="478620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28880" y="55134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09880" y="551340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738600" y="551340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993600" y="472428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44880" y="475596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127320" y="4727520"/>
                <a:ext cx="533520" cy="76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575240" y="4727520"/>
                <a:ext cx="533160" cy="76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146240" y="4724280"/>
                <a:ext cx="1523880" cy="765000"/>
                <a:chOff x="1146240" y="4724280"/>
                <a:chExt cx="1523880" cy="765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198440" y="4724280"/>
                  <a:ext cx="6098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984320" y="4724280"/>
                  <a:ext cx="609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↑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46240" y="472752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136600" y="4727520"/>
                  <a:ext cx="53352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3851280" y="4727520"/>
                <a:ext cx="533520" cy="7617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54080" y="5895720"/>
              <a:ext cx="89899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he third p electron of nitrogen enters a different p orbital than its first two p electrons to give nitrogen the lowest possible energ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6327720" y="4786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79800" y="2380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9440" y="2380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3B9-F29F-4136-83DD-48E3E35B8000}" type="slidenum">
              <a:t>59</a:t>
            </a:fld>
          </a:p>
        </p:txBody>
      </p:sp>
    </p:spTree>
  </p:cSld>
  <p:transition spd="slow">
    <p:blinds dir="vert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can travel through space a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electromagnetic rad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5D6-1F0F-4B05-BFCF-5C9CE031A2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79800" y="828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892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828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19440" y="828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27160" y="828720"/>
            <a:ext cx="8915400" cy="2379960"/>
            <a:chOff x="227160" y="828720"/>
            <a:chExt cx="8915400" cy="2379960"/>
          </a:xfrm>
        </p:grpSpPr>
        <p:sp>
          <p:nvSpPr>
            <p:cNvPr id="401" name=""/>
            <p:cNvSpPr/>
            <p:nvPr/>
          </p:nvSpPr>
          <p:spPr>
            <a:xfrm>
              <a:off x="1101600" y="161784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1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82960" y="1617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11680" y="16178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066680" y="8287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1520" y="8287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7400" y="8287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7600" y="860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00400" y="83196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48320" y="831960"/>
              <a:ext cx="53316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" y="89064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831960"/>
              <a:ext cx="53316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9680" y="83196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4360" y="831960"/>
              <a:ext cx="53352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7160" y="2063880"/>
              <a:ext cx="8915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here are four electrons in the 2p sublevel of oxygen.  One of the 2p orbitals is now occupied by a second electron, which has a spin opposite to that of the first electron already in the orbital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079800" y="35762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32080" y="35762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9880" y="3576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962520" y="3576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5766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27160" y="3576600"/>
            <a:ext cx="8989920" cy="2451600"/>
            <a:chOff x="227160" y="3576600"/>
            <a:chExt cx="8989920" cy="2451600"/>
          </a:xfrm>
        </p:grpSpPr>
        <p:sp>
          <p:nvSpPr>
            <p:cNvPr id="421" name=""/>
            <p:cNvSpPr/>
            <p:nvPr/>
          </p:nvSpPr>
          <p:spPr>
            <a:xfrm>
              <a:off x="3811680" y="43657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227160" y="3576600"/>
              <a:ext cx="8989920" cy="2451600"/>
              <a:chOff x="227160" y="3576600"/>
              <a:chExt cx="8989920" cy="2451600"/>
            </a:xfrm>
          </p:grpSpPr>
          <p:sp>
            <p:nvSpPr>
              <p:cNvPr id="423" name=""/>
              <p:cNvSpPr/>
              <p:nvPr/>
            </p:nvSpPr>
            <p:spPr>
              <a:xfrm>
                <a:off x="228600" y="363852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01600" y="436572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82960" y="43657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66680" y="357660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71520" y="357660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057400" y="357660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217600" y="360864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200400" y="357984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48320" y="357984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19320" y="357984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209680" y="357984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24360" y="357984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27160" y="4883400"/>
                <a:ext cx="8989920" cy="11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300" spc="-1" strike="noStrike">
                    <a:solidFill>
                      <a:srgbClr val="000000"/>
                    </a:solidFill>
                    <a:latin typeface="Arial"/>
                  </a:rPr>
                  <a:t>There are five electrons in the 2p sublevel of fluorine.  Two of the 2p orbitals are now occupied by a second electron, which has a spin opposite to that of the first electron already in the orbital.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6400800" y="36385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57640" y="828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C830-1CEE-4AFA-9597-7D2E142AD314}" type="slidenum">
              <a:t>60</a:t>
            </a:fld>
          </a:p>
        </p:txBody>
      </p:sp>
    </p:spTree>
  </p:cSld>
  <p:transition spd="slow">
    <p:blinds dir="vert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079800" y="8298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32080" y="829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8301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62520" y="8301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19440" y="8301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72080" y="8301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27160" y="830160"/>
            <a:ext cx="8989920" cy="2132280"/>
            <a:chOff x="227160" y="830160"/>
            <a:chExt cx="8989920" cy="2132280"/>
          </a:xfrm>
        </p:grpSpPr>
        <p:sp>
          <p:nvSpPr>
            <p:cNvPr id="445" name=""/>
            <p:cNvSpPr/>
            <p:nvPr/>
          </p:nvSpPr>
          <p:spPr>
            <a:xfrm>
              <a:off x="3811680" y="161928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227160" y="830160"/>
              <a:ext cx="8989920" cy="2132280"/>
              <a:chOff x="227160" y="830160"/>
              <a:chExt cx="8989920" cy="2132280"/>
            </a:xfrm>
          </p:grpSpPr>
          <p:sp>
            <p:nvSpPr>
              <p:cNvPr id="447" name=""/>
              <p:cNvSpPr/>
              <p:nvPr/>
            </p:nvSpPr>
            <p:spPr>
              <a:xfrm>
                <a:off x="228600" y="892080"/>
                <a:ext cx="83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01600" y="1619280"/>
                <a:ext cx="76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1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82960" y="161928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c3399"/>
                    </a:solidFill>
                    <a:latin typeface="Arial"/>
                  </a:rPr>
                  <a:t>2</a:t>
                </a:r>
                <a:r>
                  <a:rPr b="0" i="1" lang="en-US" sz="2800" spc="-1" strike="noStrike">
                    <a:solidFill>
                      <a:srgbClr val="cc3399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66680" y="83016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71520" y="83016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057400" y="83016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17600" y="862200"/>
                <a:ext cx="609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200400" y="83340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648320" y="83340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19320" y="833400"/>
                <a:ext cx="53316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09680" y="83340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24360" y="833400"/>
                <a:ext cx="53352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7160" y="2136960"/>
                <a:ext cx="8989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here are 6 electrons in the 2p sublevel of neon, which fills the sublevel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6400800" y="892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A0A-E228-49E4-98E4-11BEC2B8B215}" type="slidenum">
              <a:t>61</a:t>
            </a:fld>
          </a:p>
        </p:txBody>
      </p:sp>
    </p:spTree>
  </p:cSld>
  <p:transition spd="slow">
    <p:blinds dir="vert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lling the 3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ub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B9D-073D-4B58-ADF5-24A82BD941C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28600" y="977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00800" y="9777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01600" y="1703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82960" y="1703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11680" y="1703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8840" y="1701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cc33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7152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17600" y="9460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79800" y="9140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32080" y="91404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6252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19440" y="9144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67208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00400" y="91764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917640"/>
            <a:ext cx="53316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917640"/>
            <a:ext cx="53316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09680" y="91764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4000" y="914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75400" y="917640"/>
            <a:ext cx="53316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24360" y="917640"/>
            <a:ext cx="533520" cy="761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7160" y="214956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s and 2p sublevels are filled.  The next electron enters the 3s sublevel of so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27160" y="3415680"/>
            <a:ext cx="8989920" cy="1997640"/>
            <a:chOff x="227160" y="3415680"/>
            <a:chExt cx="8989920" cy="1997640"/>
          </a:xfrm>
        </p:grpSpPr>
        <p:sp>
          <p:nvSpPr>
            <p:cNvPr id="487" name=""/>
            <p:cNvSpPr/>
            <p:nvPr/>
          </p:nvSpPr>
          <p:spPr>
            <a:xfrm>
              <a:off x="228600" y="34783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01600" y="420516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1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82960" y="42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11680" y="4205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2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68840" y="42037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3399"/>
                  </a:solidFill>
                  <a:latin typeface="Arial"/>
                </a:rPr>
                <a:t>3</a:t>
              </a:r>
              <a:r>
                <a:rPr b="0" i="1" lang="en-US" sz="2800" spc="-1" strike="noStrike">
                  <a:solidFill>
                    <a:srgbClr val="cc3399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6668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7152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5740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17600" y="34480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079800" y="34156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32080" y="34156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0988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6252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19440" y="341640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67208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↓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00400" y="341964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48320" y="341964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19320" y="341964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9680" y="341964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562720" y="3416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↑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75400" y="341964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24360" y="341964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27160" y="4587840"/>
              <a:ext cx="898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3s orbital fills upon the addition of magnesium’s twelfth electr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6400800" y="3478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s</a:t>
            </a:r>
            <a:r>
              <a:rPr b="0" lang="en-US" sz="36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15000" y="34164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D8E-0B72-4C81-8238-63657D45DB12}" type="slidenum">
              <a:t>63</a:t>
            </a:fld>
          </a:p>
        </p:txBody>
      </p:sp>
    </p:spTree>
  </p:cSld>
  <p:transition spd="slow">
    <p:blinds dir="vert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162080" y="871560"/>
            <a:ext cx="6819840" cy="51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065-7857-4FD7-A219-D65A48AFEC5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rcRect l="0" t="20837" r="0" b="20837"/>
          <a:stretch/>
        </p:blipFill>
        <p:spPr>
          <a:xfrm>
            <a:off x="0" y="1066680"/>
            <a:ext cx="9144000" cy="40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EAE-8E27-4660-8FE6-EBC2DE294D3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0.6</a:t>
            </a:r>
            <a:br>
              <a:rPr sz="4400"/>
            </a:br>
            <a:r>
              <a:rPr b="0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Electron Structures and the Periodic Tabl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4FE-C144-4CA7-A10C-CAE9636C0B3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69 Dimitri Mendeleev of Russia and Lothar Meyer of Germany independently published periodic arrangement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ments based on increasing atomic m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deleev’s arrangement is the precursor to the modern periodic t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460-7678-4FED-A54F-252C9F07824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grpSp>
        <p:nvGrpSpPr>
          <p:cNvPr id="519" name=""/>
          <p:cNvGrpSpPr/>
          <p:nvPr/>
        </p:nvGrpSpPr>
        <p:grpSpPr>
          <a:xfrm>
            <a:off x="399960" y="2303640"/>
            <a:ext cx="111240" cy="2651040"/>
            <a:chOff x="399960" y="2303640"/>
            <a:chExt cx="111240" cy="2651040"/>
          </a:xfrm>
        </p:grpSpPr>
        <p:sp>
          <p:nvSpPr>
            <p:cNvPr id="520" name=""/>
            <p:cNvSpPr/>
            <p:nvPr/>
          </p:nvSpPr>
          <p:spPr>
            <a:xfrm>
              <a:off x="399960" y="395928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9960" y="4375080"/>
              <a:ext cx="111240" cy="16524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9960" y="4789440"/>
              <a:ext cx="111240" cy="16524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9960" y="3544920"/>
              <a:ext cx="111240" cy="16524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9960" y="311796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9960" y="270684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9960" y="2303640"/>
              <a:ext cx="111240" cy="164880"/>
            </a:xfrm>
            <a:prstGeom prst="rect">
              <a:avLst/>
            </a:prstGeom>
            <a:noFill/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33520" y="2573280"/>
            <a:ext cx="8458200" cy="1706760"/>
            <a:chOff x="533520" y="2573280"/>
            <a:chExt cx="8458200" cy="1706760"/>
          </a:xfrm>
        </p:grpSpPr>
        <p:sp>
          <p:nvSpPr>
            <p:cNvPr id="529" name=""/>
            <p:cNvSpPr/>
            <p:nvPr/>
          </p:nvSpPr>
          <p:spPr>
            <a:xfrm>
              <a:off x="533520" y="2573280"/>
              <a:ext cx="8458200" cy="457200"/>
            </a:xfrm>
            <a:prstGeom prst="rect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3520" y="3822840"/>
              <a:ext cx="8458200" cy="457200"/>
            </a:xfrm>
            <a:prstGeom prst="rect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30560" y="588960"/>
            <a:ext cx="3272040" cy="14446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19400" y="571680"/>
            <a:ext cx="4038840" cy="144756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44180"/>
              <a:gd name="adj5" fmla="val 204055"/>
              <a:gd name="adj6" fmla="val -88208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 numbers correspond to the highest occupied energy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E1F8-CCE8-454A-93AF-BD797E5E001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03560" y="227160"/>
            <a:ext cx="3733920" cy="1447560"/>
          </a:xfrm>
          <a:prstGeom prst="borderCallout2">
            <a:avLst>
              <a:gd name="adj1" fmla="val 18750"/>
              <a:gd name="adj2" fmla="val -8333"/>
              <a:gd name="adj3" fmla="val 7893"/>
              <a:gd name="adj4" fmla="val -37074"/>
              <a:gd name="adj5" fmla="val 146379"/>
              <a:gd name="adj6" fmla="val -7359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 similar properties are organized in groups or families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66960" y="2408400"/>
            <a:ext cx="533160" cy="268416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BCD-BFBE-4C59-88FE-1905AD8442E4}" type="slidenum">
              <a:t>69</a:t>
            </a:fld>
          </a:p>
        </p:txBody>
      </p:sp>
    </p:spTree>
  </p:cSld>
  <p:transition spd="slow">
    <p:blinds dir="ver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ght from the s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evision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ant he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3716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ll show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wavelike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294160" y="2620800"/>
            <a:ext cx="3468960" cy="2257920"/>
            <a:chOff x="5294160" y="2620800"/>
            <a:chExt cx="3468960" cy="2257920"/>
          </a:xfrm>
        </p:grpSpPr>
        <p:sp>
          <p:nvSpPr>
            <p:cNvPr id="64" name=""/>
            <p:cNvSpPr/>
            <p:nvPr/>
          </p:nvSpPr>
          <p:spPr>
            <a:xfrm>
              <a:off x="5334120" y="2620800"/>
              <a:ext cx="3429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Each travels at the same speed in a vacuum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94160" y="4297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3.00 x 10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</a:rPr>
                <a:t>8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 m/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FCA1-8161-4231-B4EF-0B467816F11A}" type="slidenum">
              <a:t>7</a:t>
            </a:fld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25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75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75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325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75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2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00680" y="231840"/>
            <a:ext cx="3728880" cy="14446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in the A grou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1996920"/>
            <a:ext cx="971280" cy="31845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95880" y="2008080"/>
            <a:ext cx="2895840" cy="27432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FC8-E964-463C-BCF6-525F19B2B66E}" type="slidenum">
              <a:t>70</a:t>
            </a:fld>
          </a:p>
        </p:txBody>
      </p:sp>
    </p:spTree>
  </p:cSld>
  <p:transition spd="slow">
    <p:blinds dir="vert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rcRect l="0" t="17500" r="0" b="24006"/>
          <a:stretch/>
        </p:blipFill>
        <p:spPr>
          <a:xfrm>
            <a:off x="-23760" y="1654200"/>
            <a:ext cx="9104400" cy="35496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00680" y="231840"/>
            <a:ext cx="3728880" cy="144468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in the B grou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esig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 ele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3048120"/>
            <a:ext cx="4647960" cy="2133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37B-6D91-4111-B91A-DA48C0D5C5C1}" type="slidenum">
              <a:t>71</a:t>
            </a:fld>
          </a:p>
        </p:txBody>
      </p:sp>
    </p:spTree>
  </p:cSld>
  <p:transition spd="slow">
    <p:blinds dir="vert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rcRect l="0" t="29006" r="30568" b="28750"/>
          <a:stretch/>
        </p:blipFill>
        <p:spPr>
          <a:xfrm>
            <a:off x="630360" y="795240"/>
            <a:ext cx="7549920" cy="3444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3520" y="4952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mily elements the valence electron configuration is the same in each colum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1041480" y="1938240"/>
            <a:ext cx="5037120" cy="2100240"/>
            <a:chOff x="1041480" y="1938240"/>
            <a:chExt cx="5037120" cy="2100240"/>
          </a:xfrm>
        </p:grpSpPr>
        <p:sp>
          <p:nvSpPr>
            <p:cNvPr id="550" name=""/>
            <p:cNvSpPr/>
            <p:nvPr/>
          </p:nvSpPr>
          <p:spPr>
            <a:xfrm>
              <a:off x="1041480" y="193824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41480" y="284652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1480" y="373860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11880" y="2840040"/>
              <a:ext cx="666720" cy="287280"/>
            </a:xfrm>
            <a:prstGeom prst="rect">
              <a:avLst/>
            </a:prstGeom>
            <a:noFill/>
            <a:ln w="19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11880" y="3751200"/>
              <a:ext cx="666720" cy="287280"/>
            </a:xfrm>
            <a:prstGeom prst="rect">
              <a:avLst/>
            </a:prstGeom>
            <a:noFill/>
            <a:ln w="19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33520" y="4952880"/>
            <a:ext cx="77724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mical behavior and properties of elements in a family are associated with the electron configuration of its ele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E752-4A1B-42C1-A9F2-C43BDBAE3E4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0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rcRect l="0" t="29006" r="30568" b="28750"/>
          <a:stretch/>
        </p:blipFill>
        <p:spPr>
          <a:xfrm>
            <a:off x="630360" y="795240"/>
            <a:ext cx="7549920" cy="3444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520" y="4952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exception of helium which has a filled s orbital, the nobles gases have filled p orbita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358040" y="1938240"/>
            <a:ext cx="525600" cy="2097360"/>
            <a:chOff x="7358040" y="1938240"/>
            <a:chExt cx="525600" cy="2097360"/>
          </a:xfrm>
        </p:grpSpPr>
        <p:sp>
          <p:nvSpPr>
            <p:cNvPr id="560" name=""/>
            <p:cNvSpPr/>
            <p:nvPr/>
          </p:nvSpPr>
          <p:spPr>
            <a:xfrm>
              <a:off x="7358040" y="1938240"/>
              <a:ext cx="361800" cy="255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21480" y="2859120"/>
              <a:ext cx="362160" cy="271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521480" y="3760920"/>
              <a:ext cx="362160" cy="274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690B-1AE7-40AA-9621-E6CA2BF2CA7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2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n configuration of any of the noble gas elements can be represented by the symbol of the element enclosed in square bracke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104840" y="2819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24160" y="2819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905440" y="2819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He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04840" y="5835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24160" y="5835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05440" y="5835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Ne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52560" y="43275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324160" y="43275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05440" y="43275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Ne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A1D-C696-4078-8B3B-334FD9F098B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ctron configuration of argon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104840" y="1066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0" y="1066680"/>
            <a:ext cx="33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5410080"/>
            <a:ext cx="11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43280" y="541008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1992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Ar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1680" y="43275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43280" y="4327560"/>
            <a:ext cx="37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s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3p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19920" y="43275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[Ar]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19051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lements after argon are potassium and calcium  Instead of entering a 3d orbital, the valence electrons of these elements enter the 4s orbit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113-3202-4EC9-B5AF-A42A97A866E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rcRect l="0" t="10502" r="0" b="10502"/>
          <a:stretch/>
        </p:blipFill>
        <p:spPr>
          <a:xfrm>
            <a:off x="257040" y="851040"/>
            <a:ext cx="8574120" cy="50799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990720" y="642960"/>
            <a:ext cx="5790960" cy="3319560"/>
            <a:chOff x="990720" y="642960"/>
            <a:chExt cx="5790960" cy="3319560"/>
          </a:xfrm>
        </p:grpSpPr>
        <p:sp>
          <p:nvSpPr>
            <p:cNvPr id="586" name=""/>
            <p:cNvSpPr/>
            <p:nvPr/>
          </p:nvSpPr>
          <p:spPr>
            <a:xfrm>
              <a:off x="990720" y="642960"/>
              <a:ext cx="5790960" cy="5814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orbital fill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79720" y="1244520"/>
              <a:ext cx="0" cy="6415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76520" y="1887480"/>
              <a:ext cx="4419360" cy="207504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990720" y="152280"/>
            <a:ext cx="5790960" cy="106884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bital is 1 less than its perio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590400" y="2560680"/>
            <a:ext cx="1444680" cy="228600"/>
            <a:chOff x="590400" y="2560680"/>
            <a:chExt cx="1444680" cy="228600"/>
          </a:xfrm>
        </p:grpSpPr>
        <p:sp>
          <p:nvSpPr>
            <p:cNvPr id="591" name=""/>
            <p:cNvSpPr/>
            <p:nvPr/>
          </p:nvSpPr>
          <p:spPr>
            <a:xfrm>
              <a:off x="590400" y="256068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06480" y="256068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181160" y="5715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ment of electr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sublevel being fi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438280" y="5334120"/>
            <a:ext cx="4191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2E2-0144-4374-A00A-DD44EDBD9EA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rcRect l="0" t="10502" r="0" b="10502"/>
          <a:stretch/>
        </p:blipFill>
        <p:spPr>
          <a:xfrm>
            <a:off x="257040" y="851040"/>
            <a:ext cx="8574120" cy="50799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362320" y="642960"/>
            <a:ext cx="6476760" cy="4386240"/>
            <a:chOff x="2362320" y="642960"/>
            <a:chExt cx="6476760" cy="4386240"/>
          </a:xfrm>
        </p:grpSpPr>
        <p:sp>
          <p:nvSpPr>
            <p:cNvPr id="598" name=""/>
            <p:cNvSpPr/>
            <p:nvPr/>
          </p:nvSpPr>
          <p:spPr>
            <a:xfrm>
              <a:off x="2703600" y="642960"/>
              <a:ext cx="5790960" cy="5814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orbital filling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9080" y="1244520"/>
              <a:ext cx="0" cy="27180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62320" y="3962520"/>
              <a:ext cx="6476760" cy="106668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593640" y="3216240"/>
            <a:ext cx="2378160" cy="1336680"/>
            <a:chOff x="593640" y="3216240"/>
            <a:chExt cx="2378160" cy="1336680"/>
          </a:xfrm>
        </p:grpSpPr>
        <p:sp>
          <p:nvSpPr>
            <p:cNvPr id="602" name=""/>
            <p:cNvSpPr/>
            <p:nvPr/>
          </p:nvSpPr>
          <p:spPr>
            <a:xfrm>
              <a:off x="593640" y="321624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43200" y="4324320"/>
              <a:ext cx="228600" cy="228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593640" y="3564000"/>
            <a:ext cx="2374920" cy="1324080"/>
            <a:chOff x="593640" y="3564000"/>
            <a:chExt cx="2374920" cy="1324080"/>
          </a:xfrm>
        </p:grpSpPr>
        <p:sp>
          <p:nvSpPr>
            <p:cNvPr id="605" name=""/>
            <p:cNvSpPr/>
            <p:nvPr/>
          </p:nvSpPr>
          <p:spPr>
            <a:xfrm>
              <a:off x="593640" y="3564000"/>
              <a:ext cx="228600" cy="228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39960" y="4659480"/>
              <a:ext cx="228600" cy="228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03600" y="152280"/>
            <a:ext cx="5790960" cy="106884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bital is 2 less than its period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181160" y="571500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ment of electr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sublevel being fi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5257800"/>
            <a:ext cx="4114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C06-6D18-48DE-9682-403014EAF0E5}" type="slidenum">
              <a:t>77</a:t>
            </a:fld>
          </a:p>
        </p:txBody>
      </p:sp>
    </p:spTree>
  </p:cSld>
  <p:transition spd="slow">
    <p:blinds dir="vert"/>
  </p:transition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0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rcRect l="0" t="14498" r="0" b="23002"/>
          <a:stretch/>
        </p:blipFill>
        <p:spPr>
          <a:xfrm>
            <a:off x="-77760" y="-90360"/>
            <a:ext cx="9213840" cy="43146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62080" y="4572000"/>
            <a:ext cx="6819840" cy="15562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iod number corresponds to the highest energy level occupied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in the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231840" y="3205080"/>
            <a:ext cx="8734320" cy="362160"/>
            <a:chOff x="231840" y="3205080"/>
            <a:chExt cx="8734320" cy="362160"/>
          </a:xfrm>
        </p:grpSpPr>
        <p:sp>
          <p:nvSpPr>
            <p:cNvPr id="614" name=""/>
            <p:cNvSpPr/>
            <p:nvPr/>
          </p:nvSpPr>
          <p:spPr>
            <a:xfrm>
              <a:off x="231840" y="3205080"/>
              <a:ext cx="228600" cy="228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585280" y="3378240"/>
              <a:ext cx="380880" cy="1890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3D00-4BCF-49D3-B53E-64841179F3C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rcRect l="0" t="14498" r="0" b="23002"/>
          <a:stretch/>
        </p:blipFill>
        <p:spPr>
          <a:xfrm>
            <a:off x="-77760" y="-68400"/>
            <a:ext cx="9213840" cy="43149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7280" y="4583520"/>
            <a:ext cx="8569440" cy="15562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numbers for the representative elements are equal to the total number of  outermost electrons in the atoms of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544680" y="347760"/>
            <a:ext cx="231480" cy="3725640"/>
            <a:chOff x="544680" y="347760"/>
            <a:chExt cx="231480" cy="3725640"/>
          </a:xfrm>
        </p:grpSpPr>
        <p:sp>
          <p:nvSpPr>
            <p:cNvPr id="620" name=""/>
            <p:cNvSpPr/>
            <p:nvPr/>
          </p:nvSpPr>
          <p:spPr>
            <a:xfrm>
              <a:off x="563400" y="347760"/>
              <a:ext cx="92160" cy="17136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4680" y="8478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4680" y="13590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4680" y="18702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4680" y="237816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4680" y="288756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4680" y="389880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44680" y="3400560"/>
              <a:ext cx="231480" cy="1746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028880" y="822240"/>
            <a:ext cx="231480" cy="3251160"/>
            <a:chOff x="1028880" y="822240"/>
            <a:chExt cx="231480" cy="3251160"/>
          </a:xfrm>
        </p:grpSpPr>
        <p:sp>
          <p:nvSpPr>
            <p:cNvPr id="629" name=""/>
            <p:cNvSpPr/>
            <p:nvPr/>
          </p:nvSpPr>
          <p:spPr>
            <a:xfrm>
              <a:off x="1028880" y="187020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28880" y="237816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28880" y="135900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28880" y="288756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28880" y="340056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028880" y="3898800"/>
              <a:ext cx="231480" cy="17460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30320" y="822240"/>
              <a:ext cx="119160" cy="1713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226200" y="822240"/>
            <a:ext cx="366840" cy="2752920"/>
            <a:chOff x="6226200" y="822240"/>
            <a:chExt cx="366840" cy="2752920"/>
          </a:xfrm>
        </p:grpSpPr>
        <p:sp>
          <p:nvSpPr>
            <p:cNvPr id="637" name=""/>
            <p:cNvSpPr/>
            <p:nvPr/>
          </p:nvSpPr>
          <p:spPr>
            <a:xfrm>
              <a:off x="6226200" y="135900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26200" y="187020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26200" y="237816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226200" y="288756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226200" y="3400560"/>
              <a:ext cx="366840" cy="17460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56440" y="822240"/>
              <a:ext cx="185760" cy="171360"/>
            </a:xfrm>
            <a:prstGeom prst="rect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6708600" y="822240"/>
            <a:ext cx="366840" cy="2752920"/>
            <a:chOff x="6708600" y="822240"/>
            <a:chExt cx="366840" cy="2752920"/>
          </a:xfrm>
        </p:grpSpPr>
        <p:grpSp>
          <p:nvGrpSpPr>
            <p:cNvPr id="644" name=""/>
            <p:cNvGrpSpPr/>
            <p:nvPr/>
          </p:nvGrpSpPr>
          <p:grpSpPr>
            <a:xfrm>
              <a:off x="6708600" y="1359000"/>
              <a:ext cx="366840" cy="2216160"/>
              <a:chOff x="6708600" y="1359000"/>
              <a:chExt cx="366840" cy="2216160"/>
            </a:xfrm>
          </p:grpSpPr>
          <p:sp>
            <p:nvSpPr>
              <p:cNvPr id="645" name=""/>
              <p:cNvSpPr/>
              <p:nvPr/>
            </p:nvSpPr>
            <p:spPr>
              <a:xfrm>
                <a:off x="6708600" y="13590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08600" y="18702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08600" y="23781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08600" y="2887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708600" y="3400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6730920" y="822240"/>
              <a:ext cx="185760" cy="171360"/>
            </a:xfrm>
            <a:prstGeom prst="rect">
              <a:avLst/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176960" y="822240"/>
            <a:ext cx="366840" cy="2752920"/>
            <a:chOff x="7176960" y="822240"/>
            <a:chExt cx="366840" cy="2752920"/>
          </a:xfrm>
        </p:grpSpPr>
        <p:grpSp>
          <p:nvGrpSpPr>
            <p:cNvPr id="652" name=""/>
            <p:cNvGrpSpPr/>
            <p:nvPr/>
          </p:nvGrpSpPr>
          <p:grpSpPr>
            <a:xfrm>
              <a:off x="7176960" y="1359000"/>
              <a:ext cx="366840" cy="2216160"/>
              <a:chOff x="7176960" y="1359000"/>
              <a:chExt cx="366840" cy="2216160"/>
            </a:xfrm>
          </p:grpSpPr>
          <p:sp>
            <p:nvSpPr>
              <p:cNvPr id="653" name=""/>
              <p:cNvSpPr/>
              <p:nvPr/>
            </p:nvSpPr>
            <p:spPr>
              <a:xfrm>
                <a:off x="7176960" y="13590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76960" y="18702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76960" y="23781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76960" y="2887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76960" y="3400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7238880" y="822240"/>
              <a:ext cx="135000" cy="171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7658280" y="822240"/>
            <a:ext cx="366480" cy="2752920"/>
            <a:chOff x="7658280" y="822240"/>
            <a:chExt cx="366480" cy="2752920"/>
          </a:xfrm>
        </p:grpSpPr>
        <p:grpSp>
          <p:nvGrpSpPr>
            <p:cNvPr id="660" name=""/>
            <p:cNvGrpSpPr/>
            <p:nvPr/>
          </p:nvGrpSpPr>
          <p:grpSpPr>
            <a:xfrm>
              <a:off x="7658280" y="1359000"/>
              <a:ext cx="366480" cy="2216160"/>
              <a:chOff x="7658280" y="1359000"/>
              <a:chExt cx="366480" cy="2216160"/>
            </a:xfrm>
          </p:grpSpPr>
          <p:sp>
            <p:nvSpPr>
              <p:cNvPr id="661" name=""/>
              <p:cNvSpPr/>
              <p:nvPr/>
            </p:nvSpPr>
            <p:spPr>
              <a:xfrm>
                <a:off x="7658280" y="13590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658280" y="18702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58280" y="23781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58280" y="2887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58280" y="3400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7683480" y="822240"/>
              <a:ext cx="200160" cy="1713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8137440" y="822240"/>
            <a:ext cx="366840" cy="2752920"/>
            <a:chOff x="8137440" y="822240"/>
            <a:chExt cx="366840" cy="2752920"/>
          </a:xfrm>
        </p:grpSpPr>
        <p:grpSp>
          <p:nvGrpSpPr>
            <p:cNvPr id="668" name=""/>
            <p:cNvGrpSpPr/>
            <p:nvPr/>
          </p:nvGrpSpPr>
          <p:grpSpPr>
            <a:xfrm>
              <a:off x="8137440" y="1359000"/>
              <a:ext cx="366840" cy="2216160"/>
              <a:chOff x="8137440" y="1359000"/>
              <a:chExt cx="366840" cy="2216160"/>
            </a:xfrm>
          </p:grpSpPr>
          <p:sp>
            <p:nvSpPr>
              <p:cNvPr id="669" name=""/>
              <p:cNvSpPr/>
              <p:nvPr/>
            </p:nvSpPr>
            <p:spPr>
              <a:xfrm>
                <a:off x="8137440" y="13590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137440" y="187020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137440" y="23781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137440" y="2887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137440" y="3400560"/>
                <a:ext cx="366840" cy="174600"/>
              </a:xfrm>
              <a:prstGeom prst="rect">
                <a:avLst/>
              </a:prstGeom>
              <a:noFill/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8137440" y="822240"/>
              <a:ext cx="236520" cy="17136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8615520" y="847800"/>
            <a:ext cx="366480" cy="2727360"/>
            <a:chOff x="8615520" y="847800"/>
            <a:chExt cx="366480" cy="2727360"/>
          </a:xfrm>
        </p:grpSpPr>
        <p:grpSp>
          <p:nvGrpSpPr>
            <p:cNvPr id="676" name=""/>
            <p:cNvGrpSpPr/>
            <p:nvPr/>
          </p:nvGrpSpPr>
          <p:grpSpPr>
            <a:xfrm>
              <a:off x="8615520" y="1359000"/>
              <a:ext cx="366480" cy="2216160"/>
              <a:chOff x="8615520" y="1359000"/>
              <a:chExt cx="366480" cy="2216160"/>
            </a:xfrm>
          </p:grpSpPr>
          <p:sp>
            <p:nvSpPr>
              <p:cNvPr id="677" name=""/>
              <p:cNvSpPr/>
              <p:nvPr/>
            </p:nvSpPr>
            <p:spPr>
              <a:xfrm>
                <a:off x="8615520" y="13590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615520" y="187020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615520" y="23781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615520" y="2887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615520" y="3400560"/>
                <a:ext cx="366480" cy="174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8683560" y="847800"/>
              <a:ext cx="231840" cy="174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287280" y="4583520"/>
            <a:ext cx="8569440" cy="155628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s of a family have the same outermost electron configuration except that the electrons are in different energy leve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1C2-A876-4DEA-9D1B-1C7D95DC92C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0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Characteristics of a W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CA1-58F4-4864-A674-9F8CD937086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C9F-0D26-452F-83AD-53849F6F1199}" type="slidenum">
              <a:t>80</a:t>
            </a:fld>
          </a:p>
        </p:txBody>
      </p:sp>
    </p:spTree>
  </p:cSld>
  <p:transition spd="slow">
    <p:blinds dir="vert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velength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EFE-5695-4E99-B7F6-5D825149E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Eugene Passer</cp:lastModifiedBy>
  <dcterms:modified xsi:type="dcterms:W3CDTF">2006-11-21T00:05:05Z</dcterms:modified>
  <cp:revision>858</cp:revision>
  <dc:subject/>
  <dc:title>Hein and Arena</dc:title>
</cp:coreProperties>
</file>