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.xlsx" ContentType="application/vnd.openxmlformats-officedocument.spreadsheetml.sheet"/>
  <Override PartName="/ppt/embeddings/oleObject9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3.jpeg" ContentType="image/jpeg"/>
  <Override PartName="/ppt/media/image46.wmf" ContentType="image/x-wmf"/>
  <Override PartName="/ppt/media/image45.wmf" ContentType="image/x-wmf"/>
  <Override PartName="/ppt/media/image4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3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74.wmf" ContentType="image/x-wmf"/>
  <Override PartName="/ppt/media/image14.wmf" ContentType="image/x-wmf"/>
  <Override PartName="/ppt/media/image2.wmf" ContentType="image/x-wmf"/>
  <Override PartName="/ppt/media/image69.wmf" ContentType="image/x-wmf"/>
  <Override PartName="/ppt/media/image32.wmf" ContentType="image/x-wmf"/>
  <Override PartName="/ppt/media/image25.wmf" ContentType="image/x-wmf"/>
  <Override PartName="/ppt/media/image62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AC5-E53A-44E1-BC98-73E80AD7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386-CC9D-4740-B678-9B62936D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B7DF-87CA-497D-9E10-2EA7A54E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734-7D5B-4A53-8630-DB8F64EC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BAA-AC23-46B9-9526-4CA471E4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B9F-C59F-474A-87C5-8A8CBA9F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FEE-E0FF-4A58-8D65-D973E0CF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40D-8E98-4939-85BB-60E6BE55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ADA-417F-454C-85C9-3953BE78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0CE-BA3C-4CC3-8552-B75402AD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00F-FF6D-49A0-82DF-A35E6F7D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466-FD2E-4520-9611-88E1127A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530FB57-66AE-4C82-982A-622A1549D2A8}" type="datetime12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4:32 P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C62F-3A4D-466E-9549-3908D2487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5.xml"/><Relationship Id="rId3" Type="http://schemas.openxmlformats.org/officeDocument/2006/relationships/slide" Target="slide56.xml"/><Relationship Id="rId4" Type="http://schemas.openxmlformats.org/officeDocument/2006/relationships/slide" Target="slide66.xml"/><Relationship Id="rId5" Type="http://schemas.openxmlformats.org/officeDocument/2006/relationships/slide" Target="slide80.xm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.wmf"/><Relationship Id="rId1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9.wmf"/><Relationship Id="rId2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3.wmf"/><Relationship Id="rId7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280" y="1143000"/>
            <a:ext cx="8001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Quantitative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mposition of Compound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pter 7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520" y="4952520"/>
            <a:ext cx="3657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in and Are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5866560"/>
            <a:ext cx="2362320" cy="824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gene Pass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Chemistry Depart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Bronx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© John Wiley and Sons, I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04080"/>
            <a:ext cx="1676520" cy="55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sion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313-C984-41F4-B0C3-BE90DC00F6A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10,000 people started to count Avogadro’s number and counted at the rate of 100 numbers per minute each minute of the day, it would take over 1 trillion years to count the total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394-6023-4811-9435-26F241D703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ole of any element cont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6.022 x 10</a:t>
            </a:r>
            <a:r>
              <a:rPr b="0" lang="en-US" sz="3600" spc="-1" strike="noStrike" baseline="30000">
                <a:solidFill>
                  <a:srgbClr val="cc0000"/>
                </a:solidFill>
                <a:latin typeface="Times New Roman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ticles of that subst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555-C9D6-4F50-9E4A-5BE0087936D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tomic mass in 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of any element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ains 1 mole of ato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276-7ADD-4F0B-9F45-AF94942125FD}" type="slidenum">
              <a:t>12</a:t>
            </a:fld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is the same number of particles</a:t>
            </a: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6.022 x 10</a:t>
            </a:r>
            <a:r>
              <a:rPr b="0" lang="en-US" sz="3600" spc="-1" strike="noStrike" baseline="30000">
                <a:solidFill>
                  <a:srgbClr val="cc0000"/>
                </a:solidFill>
                <a:latin typeface="Times New Roman"/>
              </a:rPr>
              <a:t>2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there are in exactly 12 grams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657600" y="3809880"/>
                <a:ext cx="190512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422-F920-482F-A4A1-0F32E0A305D4}" type="slidenum">
              <a:t>13</a:t>
            </a:fld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B79-D29B-4AB7-945D-CE576797573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Spec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Quantity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H ato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152280"/>
            <a:ext cx="8395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2286000"/>
            <a:ext cx="2133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 mo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4724280"/>
            <a:ext cx="35812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022 x 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9FE-50FF-4AF3-9557-B173D5B9F2C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Spec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Quantity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molec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152280"/>
            <a:ext cx="833400" cy="92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2286000"/>
            <a:ext cx="2133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 mo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4724280"/>
            <a:ext cx="35812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022 x 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565-70D1-4EF8-92BA-E92A274188D3}" type="slidenum">
              <a:t>16</a:t>
            </a:fld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Spec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Quantity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 Na ato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152280"/>
            <a:ext cx="89352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2286000"/>
            <a:ext cx="2133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 mo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8320" y="4724280"/>
            <a:ext cx="35812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022 x 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2ED-571D-44D7-93CD-4D0957FAC8CD}" type="slidenum">
              <a:t>17</a:t>
            </a:fld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Spec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Quantity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 Fe ato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52280"/>
            <a:ext cx="8157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2286000"/>
            <a:ext cx="2133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 mo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4724280"/>
            <a:ext cx="35812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022 x 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C39-3335-4142-ADF3-83073CD2B81D}" type="slidenum">
              <a:t>18</a:t>
            </a:fld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Spec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Quantity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Number of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molec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152280"/>
            <a:ext cx="1452600" cy="92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2286000"/>
            <a:ext cx="21333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 mo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4724280"/>
            <a:ext cx="35812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022 x 10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3CA-7A76-45DF-8DD2-74624F9547FD}" type="slidenum">
              <a:t>19</a:t>
            </a:fld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hapter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523880"/>
            <a:ext cx="7924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5760" y="182880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1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The M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60" y="2408400"/>
            <a:ext cx="41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olar Mass of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5760" y="2987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3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Percent Composition of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25760" y="182880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Empirical Formula versus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Molecular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25760" y="275904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5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Calculating Empirical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Form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25760" y="3689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Calculating the Molecular_x000b_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Formula from the Empirical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8B9-A9E1-4A95-9567-72171965A23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a865"/>
            </a:gs>
            <a:gs pos="100000">
              <a:srgbClr val="cc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2106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ol of atoms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2106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022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to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31194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022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olec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4110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022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1194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ol of molecules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110120"/>
            <a:ext cx="30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mol of ions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7B2-0C59-4B26-B239-87E5ED1E92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olar mass of an element is its atomic mass in gra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200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contains 6.022 x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toms (Avogadro’s number) of the ele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CD40-09C8-4BB5-A87C-7290DFD2E9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2165400"/>
          <a:ext cx="9115560" cy="2916000"/>
        </p:xfrm>
        <a:graphic>
          <a:graphicData uri="http://schemas.openxmlformats.org/drawingml/2006/table">
            <a:tbl>
              <a:tblPr/>
              <a:tblGrid>
                <a:gridCol w="2279520"/>
                <a:gridCol w="2279880"/>
                <a:gridCol w="2276280"/>
                <a:gridCol w="227988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lar mas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ato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61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8 am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8 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22 x 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61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31 am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31 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22 x 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  <a:tr h="61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99 am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99 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22 x 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43E-CC46-4A45-B161-07664558D50D}" type="slidenum">
              <a:t>22</a:t>
            </a:fld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Probl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511D-F977-4748-B4C4-42617E130B8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mass iron = 55.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moles of iron does 25.0 g of iron repres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96992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ams F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moles 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743200" y="4005360"/>
          <a:ext cx="3656160" cy="10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005360"/>
                    <a:ext cx="36561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557360" y="5159520"/>
          <a:ext cx="3976560" cy="101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7360" y="5159520"/>
                    <a:ext cx="397656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584680" y="5499000"/>
          <a:ext cx="2001960" cy="34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4680" y="5499000"/>
                    <a:ext cx="200196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85800" y="27972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the calculation using a conversion factor between moles and 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459160" y="5541840"/>
            <a:ext cx="2552400" cy="498960"/>
            <a:chOff x="2459160" y="5541840"/>
            <a:chExt cx="2552400" cy="498960"/>
          </a:xfrm>
        </p:grpSpPr>
        <p:sp>
          <p:nvSpPr>
            <p:cNvPr id="116" name=""/>
            <p:cNvSpPr/>
            <p:nvPr/>
          </p:nvSpPr>
          <p:spPr>
            <a:xfrm>
              <a:off x="2459160" y="5541840"/>
              <a:ext cx="623520" cy="213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8040" y="5827680"/>
              <a:ext cx="623520" cy="213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8A3-4F51-4BB7-BA97-4390362C56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mass iron = 55.8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9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rams F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atoms 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65160" y="4064040"/>
          <a:ext cx="5411880" cy="10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4064040"/>
                    <a:ext cx="541188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0" y="0"/>
            <a:ext cx="9144000" cy="106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iron atoms are contained in 25.0 grams of ir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11240" y="5275440"/>
          <a:ext cx="5740200" cy="104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240" y="5275440"/>
                    <a:ext cx="574020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877000" y="5595840"/>
          <a:ext cx="315432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7000" y="5595840"/>
                    <a:ext cx="31543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85800" y="28368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the calculation using a conversion factor between atoms and gr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47960" y="5671800"/>
            <a:ext cx="3430080" cy="506880"/>
            <a:chOff x="1047960" y="5671800"/>
            <a:chExt cx="3430080" cy="506880"/>
          </a:xfrm>
        </p:grpSpPr>
        <p:sp>
          <p:nvSpPr>
            <p:cNvPr id="129" name=""/>
            <p:cNvSpPr/>
            <p:nvPr/>
          </p:nvSpPr>
          <p:spPr>
            <a:xfrm>
              <a:off x="1047960" y="5671800"/>
              <a:ext cx="623520" cy="213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54520" y="5965560"/>
              <a:ext cx="623520" cy="213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741-3813-444F-A0EA-80B6FC2F36FD}" type="slidenum">
              <a:t>25</a:t>
            </a:fld>
          </a:p>
        </p:txBody>
      </p:sp>
    </p:spTree>
  </p:cSld>
  <p:transition spd="slow"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ar mass Na = 22.99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7504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toms Na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grams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816200" y="4319640"/>
          <a:ext cx="551160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4319640"/>
                    <a:ext cx="551160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0"/>
            <a:ext cx="9144000" cy="106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ass of 3.0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oms of sodium (Na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85720" y="5508720"/>
          <a:ext cx="662940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5508720"/>
                    <a:ext cx="66294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7261200" y="5824440"/>
          <a:ext cx="1295280" cy="41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61200" y="5824440"/>
                    <a:ext cx="129528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2257560" y="5923080"/>
            <a:ext cx="4524120" cy="431640"/>
            <a:chOff x="2257560" y="5923080"/>
            <a:chExt cx="4524120" cy="431640"/>
          </a:xfrm>
        </p:grpSpPr>
        <p:sp>
          <p:nvSpPr>
            <p:cNvPr id="141" name=""/>
            <p:cNvSpPr/>
            <p:nvPr/>
          </p:nvSpPr>
          <p:spPr>
            <a:xfrm>
              <a:off x="2257560" y="5923080"/>
              <a:ext cx="1263600" cy="136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18080" y="6218280"/>
              <a:ext cx="1263600" cy="136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5800" y="30067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the calculation using a conversion factor between grams and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C327-F5CB-4FC2-9AF5-EE993AEB5E8B}" type="slidenum">
              <a:t>26</a:t>
            </a:fld>
          </a:p>
        </p:txBody>
      </p:sp>
    </p:spTree>
  </p:cSld>
  <p:transition spd="slow">
    <p:blinds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omic mass tin = 118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ass of 0.365 moles of t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04480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les Sn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grams 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882800" y="4232160"/>
          <a:ext cx="45180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2800" y="4232160"/>
                    <a:ext cx="4518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319040" y="5386320"/>
          <a:ext cx="4886640" cy="9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9040" y="5386320"/>
                    <a:ext cx="488664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256440" y="5653080"/>
          <a:ext cx="1568520" cy="4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56440" y="5653080"/>
                    <a:ext cx="156852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3" name=""/>
          <p:cNvGrpSpPr/>
          <p:nvPr/>
        </p:nvGrpSpPr>
        <p:grpSpPr>
          <a:xfrm>
            <a:off x="2362320" y="5767560"/>
            <a:ext cx="3352680" cy="423720"/>
            <a:chOff x="2362320" y="5767560"/>
            <a:chExt cx="3352680" cy="423720"/>
          </a:xfrm>
        </p:grpSpPr>
        <p:sp>
          <p:nvSpPr>
            <p:cNvPr id="154" name=""/>
            <p:cNvSpPr/>
            <p:nvPr/>
          </p:nvSpPr>
          <p:spPr>
            <a:xfrm>
              <a:off x="2362320" y="5767560"/>
              <a:ext cx="1406520" cy="155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08480" y="6035760"/>
              <a:ext cx="1406520" cy="155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85800" y="294804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the calculation using a conversion factor between grams and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A97-AD5A-4E97-A73A-12CD3490240A}" type="slidenum">
              <a:t>27</a:t>
            </a:fld>
          </a:p>
        </p:txBody>
      </p:sp>
    </p:spTree>
  </p:cSld>
  <p:transition spd="slow">
    <p:blinds dir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4883040"/>
          <a:ext cx="2141640" cy="4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883040"/>
                    <a:ext cx="21416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130480" y="4591080"/>
          <a:ext cx="4433760" cy="10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0480" y="4591080"/>
                    <a:ext cx="4433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553080" y="4591080"/>
          <a:ext cx="2590920" cy="104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4591080"/>
                    <a:ext cx="25909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76320" y="3162240"/>
            <a:ext cx="90662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les O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molecules O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→ atoms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05040" y="2057400"/>
          <a:ext cx="4441680" cy="104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5040" y="2057400"/>
                    <a:ext cx="444168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0" y="0"/>
            <a:ext cx="9144000" cy="106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oxygen atoms are present in 2.00 mol of oxygen molecu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960" y="1371600"/>
            <a:ext cx="62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conversion factors are nee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254640" y="2057400"/>
          <a:ext cx="1984320" cy="1050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54640" y="2057400"/>
                    <a:ext cx="19843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457960" y="5753160"/>
          <a:ext cx="3303360" cy="420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57960" y="5753160"/>
                    <a:ext cx="33033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838080" y="4800600"/>
            <a:ext cx="8094960" cy="730080"/>
            <a:chOff x="838080" y="4800600"/>
            <a:chExt cx="8094960" cy="730080"/>
          </a:xfrm>
        </p:grpSpPr>
        <p:sp>
          <p:nvSpPr>
            <p:cNvPr id="173" name=""/>
            <p:cNvSpPr/>
            <p:nvPr/>
          </p:nvSpPr>
          <p:spPr>
            <a:xfrm>
              <a:off x="4270320" y="4800600"/>
              <a:ext cx="2043000" cy="212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81840" y="5334120"/>
              <a:ext cx="1951200" cy="196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86200" y="5334120"/>
              <a:ext cx="1123920" cy="115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5038560"/>
              <a:ext cx="1123920" cy="1159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16FB-4BBA-4C00-BF37-6B621DB5BA46}" type="slidenum">
              <a:t>28</a:t>
            </a:fld>
          </a:p>
        </p:txBody>
      </p:sp>
    </p:spTree>
  </p:cSld>
  <p:transition spd="slow">
    <p:blinds dir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7.2</a:t>
            </a:r>
            <a:br>
              <a:rPr sz="44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Molar Mass of Compou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05C-FB08-4A17-AE06-1EB84AAA928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7.1</a:t>
            </a:r>
            <a:br>
              <a:rPr sz="72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The Mo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80B-48FF-4F49-B0C7-EA0B78041FA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olar mass of a compound can be determined by adding the molar masses of all of the atoms in its formu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3E5-B390-4277-A542-5AC10824E3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033280" y="2139840"/>
            <a:ext cx="50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C = 2(12.01 g) = 24.02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21840" y="2784600"/>
            <a:ext cx="49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 H = 6(1.01 g) =    6.06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07720" y="3429000"/>
            <a:ext cx="51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O = 1(16.00 g)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16.0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14960" y="407520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6.08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molar mass of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0FB-7E00-4C43-981F-E9AACE5CF3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19680" y="2254320"/>
            <a:ext cx="472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Li = 1(6.94 g) = 6.94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36560" y="2849400"/>
            <a:ext cx="52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Cl = 1(35.45 g) = 35.45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7720" y="3444840"/>
            <a:ext cx="51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O = 4(16.00 g)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64.0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59440" y="403848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6.39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molar mass of Li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606-11B7-4869-97A9-2BAE19C3D3C9}" type="slidenum">
              <a:t>32</a:t>
            </a:fld>
          </a:p>
        </p:txBody>
      </p:sp>
    </p:spTree>
  </p:cSld>
  <p:transition spd="slow">
    <p:blinds dir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molar mass of (N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4440" y="2138400"/>
            <a:ext cx="51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N = 3(14.01 g) = 42.03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840" y="2703600"/>
            <a:ext cx="53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 H = 12(1.01 g) = 12.12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10760" y="3267000"/>
            <a:ext cx="50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P = 1(30.97 g) = 30.97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4440" y="3830760"/>
            <a:ext cx="51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 O = 4(16.00 g) =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64.0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56160" y="43941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9.12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063-8B7D-4F7F-A663-32253ADC1700}" type="slidenum">
              <a:t>33</a:t>
            </a:fld>
          </a:p>
        </p:txBody>
      </p:sp>
    </p:spTree>
  </p:cSld>
  <p:transition spd="slow">
    <p:blinds dir="ver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304920" y="76320"/>
            <a:ext cx="8534160" cy="2287440"/>
            <a:chOff x="304920" y="76320"/>
            <a:chExt cx="8534160" cy="2287440"/>
          </a:xfrm>
        </p:grpSpPr>
        <p:sp>
          <p:nvSpPr>
            <p:cNvPr id="197" name=""/>
            <p:cNvSpPr/>
            <p:nvPr/>
          </p:nvSpPr>
          <p:spPr>
            <a:xfrm>
              <a:off x="719280" y="81000"/>
              <a:ext cx="8116920" cy="2271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4920" y="76320"/>
              <a:ext cx="4495680" cy="22874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33cc"/>
                  </a:solidFill>
                  <a:latin typeface="Century Gothic"/>
                </a:rPr>
                <a:t>Avogadro’s Number of Particl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2720" y="425520"/>
              <a:ext cx="3276360" cy="15562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33cc"/>
                  </a:solidFill>
                  <a:latin typeface="Century Gothic"/>
                </a:rPr>
                <a:t>6 x 10</a:t>
              </a:r>
              <a:r>
                <a:rPr b="0" lang="en-US" sz="4800" spc="-1" strike="noStrike" baseline="30000">
                  <a:solidFill>
                    <a:srgbClr val="0033cc"/>
                  </a:solidFill>
                  <a:latin typeface="Century Gothic"/>
                </a:rPr>
                <a:t>23</a:t>
              </a:r>
              <a:r>
                <a:rPr b="0" lang="en-US" sz="4800" spc="-1" strike="noStrike">
                  <a:solidFill>
                    <a:srgbClr val="0033cc"/>
                  </a:solidFill>
                  <a:latin typeface="Century Gothic"/>
                </a:rPr>
                <a:t> Particl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286000" y="577548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f5f5f"/>
                </a:solidFill>
                <a:latin typeface="Century Gothic"/>
              </a:rPr>
              <a:t>Molar Ma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38280" y="3257640"/>
            <a:ext cx="4191120" cy="21333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 MO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378160"/>
            <a:ext cx="0" cy="850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538632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94C-8550-4C27-9763-3D117C61E278}" type="slidenum">
              <a:t>34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438280" y="3276720"/>
            <a:ext cx="4191120" cy="21333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 MOLE 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4920" y="76320"/>
            <a:ext cx="8534160" cy="2287440"/>
            <a:chOff x="304920" y="76320"/>
            <a:chExt cx="8534160" cy="2287440"/>
          </a:xfrm>
        </p:grpSpPr>
        <p:sp>
          <p:nvSpPr>
            <p:cNvPr id="206" name=""/>
            <p:cNvSpPr/>
            <p:nvPr/>
          </p:nvSpPr>
          <p:spPr>
            <a:xfrm>
              <a:off x="719280" y="81000"/>
              <a:ext cx="8116920" cy="2271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4920" y="76320"/>
              <a:ext cx="4495680" cy="22874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33cc"/>
                  </a:solidFill>
                  <a:latin typeface="Century Gothic"/>
                </a:rPr>
                <a:t>Avogadro’s Number of</a:t>
              </a:r>
              <a:br>
                <a:rPr sz="4800"/>
              </a:br>
              <a:r>
                <a:rPr b="0" lang="en-US" sz="4800" spc="-1" strike="noStrike">
                  <a:solidFill>
                    <a:srgbClr val="0033cc"/>
                  </a:solidFill>
                  <a:latin typeface="Century Gothic"/>
                </a:rPr>
                <a:t>Ca atom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62720" y="425520"/>
              <a:ext cx="3276360" cy="15562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33cc"/>
                  </a:solidFill>
                  <a:latin typeface="Century Gothic"/>
                </a:rPr>
                <a:t>6 x 10</a:t>
              </a:r>
              <a:r>
                <a:rPr b="0" lang="en-US" sz="4800" spc="-1" strike="noStrike" baseline="30000">
                  <a:solidFill>
                    <a:srgbClr val="0033cc"/>
                  </a:solidFill>
                  <a:latin typeface="Century Gothic"/>
                </a:rPr>
                <a:t>23</a:t>
              </a:r>
              <a:r>
                <a:rPr b="0" lang="en-US" sz="4800" spc="-1" strike="noStrike">
                  <a:solidFill>
                    <a:srgbClr val="0033cc"/>
                  </a:solidFill>
                  <a:latin typeface="Century Gothic"/>
                </a:rPr>
                <a:t> Ca atom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941480" y="577548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f5f5f"/>
                </a:solidFill>
                <a:latin typeface="Century Gothic"/>
              </a:rPr>
              <a:t>40.078 g C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397240"/>
            <a:ext cx="0" cy="850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54100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B6C-39C4-4A1D-B613-3BB3D30B1F42}" type="slidenum">
              <a:t>35</a:t>
            </a:fld>
          </a:p>
        </p:txBody>
      </p:sp>
    </p:spTree>
  </p:cSld>
  <p:transition spd="slow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438280" y="3276720"/>
            <a:ext cx="4191120" cy="21333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 MOLE H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4040" y="81000"/>
            <a:ext cx="8552160" cy="22827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76320"/>
            <a:ext cx="4495680" cy="2197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entury Gothic"/>
              </a:rPr>
              <a:t>Avogadro’s Number of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Century Gothic"/>
              </a:rPr>
              <a:t>H</a:t>
            </a:r>
            <a:r>
              <a:rPr b="0" lang="en-US" sz="4400" spc="-1" strike="noStrike" baseline="-25000">
                <a:solidFill>
                  <a:srgbClr val="0033cc"/>
                </a:solidFill>
                <a:latin typeface="Century Gothic"/>
              </a:rPr>
              <a:t>2</a:t>
            </a:r>
            <a:r>
              <a:rPr b="0" lang="en-US" sz="4400" spc="-1" strike="noStrike">
                <a:solidFill>
                  <a:srgbClr val="0033cc"/>
                </a:solidFill>
                <a:latin typeface="Century Gothic"/>
              </a:rPr>
              <a:t>O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25520"/>
            <a:ext cx="3276360" cy="15084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entury Gothic"/>
              </a:rPr>
              <a:t>6 x 10</a:t>
            </a:r>
            <a:r>
              <a:rPr b="0" lang="en-US" sz="4400" spc="-1" strike="noStrike" baseline="30000">
                <a:solidFill>
                  <a:srgbClr val="0033cc"/>
                </a:solidFill>
                <a:latin typeface="Century Gothic"/>
              </a:rPr>
              <a:t>23</a:t>
            </a:r>
            <a:r>
              <a:rPr b="0" lang="en-US" sz="4400" spc="-1" strike="noStrike">
                <a:solidFill>
                  <a:srgbClr val="0033cc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Century Gothic"/>
              </a:rPr>
              <a:t>H</a:t>
            </a:r>
            <a:r>
              <a:rPr b="0" lang="en-US" sz="4000" spc="-1" strike="noStrike" baseline="-25000">
                <a:solidFill>
                  <a:srgbClr val="0033cc"/>
                </a:solidFill>
                <a:latin typeface="Century Gothic"/>
              </a:rPr>
              <a:t>2</a:t>
            </a:r>
            <a:r>
              <a:rPr b="0" lang="en-US" sz="4000" spc="-1" strike="noStrike">
                <a:solidFill>
                  <a:srgbClr val="0033cc"/>
                </a:solidFill>
                <a:latin typeface="Century Gothic"/>
              </a:rPr>
              <a:t>O</a:t>
            </a:r>
            <a:r>
              <a:rPr b="0" lang="en-US" sz="4400" spc="-1" strike="noStrike">
                <a:solidFill>
                  <a:srgbClr val="0033cc"/>
                </a:solidFill>
                <a:latin typeface="Century Gothic"/>
              </a:rPr>
              <a:t> molec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5775480"/>
            <a:ext cx="518184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f5f5f"/>
                </a:solidFill>
                <a:latin typeface="Century Gothic"/>
              </a:rPr>
              <a:t>18.02 g H</a:t>
            </a:r>
            <a:r>
              <a:rPr b="0" lang="en-US" sz="6000" spc="-1" strike="noStrike" baseline="-25000">
                <a:solidFill>
                  <a:srgbClr val="5f5f5f"/>
                </a:solidFill>
                <a:latin typeface="Century Gothic"/>
              </a:rPr>
              <a:t>2</a:t>
            </a:r>
            <a:r>
              <a:rPr b="0" lang="en-US" sz="6000" spc="-1" strike="noStrike">
                <a:solidFill>
                  <a:srgbClr val="5f5f5f"/>
                </a:solidFill>
                <a:latin typeface="Century Gothic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2397240"/>
            <a:ext cx="0" cy="8506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4100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9B0-0555-4605-8FED-B99D02DF012E}" type="slidenum">
              <a:t>36</a:t>
            </a:fld>
          </a:p>
        </p:txBody>
      </p:sp>
    </p:spTree>
  </p:cSld>
  <p:transition spd="slow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143000"/>
          <a:ext cx="8763120" cy="556236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3124440"/>
              </a:tblGrid>
              <a:tr h="91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22 x 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ato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22 x 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 ato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22 x 10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l molecu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314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ol H ato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ol Cl ato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ol HCl molecu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91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8 g 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45 g C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46 g HC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olar mass H ato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olar mass Cl atom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molar mass HCl molecu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relationships are present when hydrogen combines with chlor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065-A54E-4E89-9167-D1139FDA6D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857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dealing with diatomic elements (</a:t>
            </a:r>
            <a:r>
              <a:rPr b="0" lang="en-US" sz="3600" spc="-1" strike="noStrike">
                <a:solidFill>
                  <a:srgbClr val="3009d7"/>
                </a:solidFill>
                <a:latin typeface="Times New Roman"/>
              </a:rPr>
              <a:t>H</a:t>
            </a:r>
            <a:r>
              <a:rPr b="0" lang="en-US" sz="3600" spc="-1" strike="noStrike" baseline="-25000">
                <a:solidFill>
                  <a:srgbClr val="3009d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009d7"/>
                </a:solidFill>
                <a:latin typeface="Times New Roman"/>
              </a:rPr>
              <a:t>, O</a:t>
            </a:r>
            <a:r>
              <a:rPr b="0" lang="en-US" sz="3600" spc="-1" strike="noStrike" baseline="-25000">
                <a:solidFill>
                  <a:srgbClr val="3009d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009d7"/>
                </a:solidFill>
                <a:latin typeface="Times New Roman"/>
              </a:rPr>
              <a:t>, N</a:t>
            </a:r>
            <a:r>
              <a:rPr b="0" lang="en-US" sz="3600" spc="-1" strike="noStrike" baseline="-25000">
                <a:solidFill>
                  <a:srgbClr val="3009d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009d7"/>
                </a:solidFill>
                <a:latin typeface="Times New Roman"/>
              </a:rPr>
              <a:t>, F</a:t>
            </a:r>
            <a:r>
              <a:rPr b="0" lang="en-US" sz="3600" spc="-1" strike="noStrike" baseline="-25000">
                <a:solidFill>
                  <a:srgbClr val="3009d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009d7"/>
                </a:solidFill>
                <a:latin typeface="Times New Roman"/>
              </a:rPr>
              <a:t>, Cl</a:t>
            </a:r>
            <a:r>
              <a:rPr b="0" lang="en-US" sz="3600" spc="-1" strike="noStrike" baseline="-25000">
                <a:solidFill>
                  <a:srgbClr val="3009d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009d7"/>
                </a:solidFill>
                <a:latin typeface="Times New Roman"/>
              </a:rPr>
              <a:t>, Br</a:t>
            </a:r>
            <a:r>
              <a:rPr b="0" lang="en-US" sz="3600" spc="-1" strike="noStrike" baseline="-25000">
                <a:solidFill>
                  <a:srgbClr val="3009d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009d7"/>
                </a:solidFill>
                <a:latin typeface="Times New Roman"/>
              </a:rPr>
              <a:t>, and I</a:t>
            </a:r>
            <a:r>
              <a:rPr b="0" lang="en-US" sz="3600" spc="-1" strike="noStrike" baseline="-25000">
                <a:solidFill>
                  <a:srgbClr val="3009d7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009d7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distinguish between one mole of atoms and one mole of 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B0A-1557-4FDF-A840-B296300A5E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molar mass of 1 mole of H </a:t>
            </a:r>
            <a:r>
              <a:rPr b="0" lang="en-US" sz="3200" spc="-1" strike="noStrike">
                <a:solidFill>
                  <a:srgbClr val="3009d7"/>
                </a:solidFill>
                <a:latin typeface="Times New Roman"/>
              </a:rPr>
              <a:t>ato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440" y="77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H = 1(1.01 g) = 1.01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-1440" y="3505320"/>
            <a:ext cx="9144000" cy="76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molar mass of 1 mole of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009d7"/>
                </a:solidFill>
                <a:latin typeface="Times New Roman"/>
              </a:rPr>
              <a:t>molec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16556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H = 2(1.01 g) = 2.02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055-E983-45C8-8D32-14B4A0F40F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ass of a single atom is too small to measure on a bal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520" y="4038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mass of hydrogen atom = 1.673 x 10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0" lang="en-US" sz="3600" spc="-1" strike="noStrike" baseline="30000">
                <a:solidFill>
                  <a:srgbClr val="0033cc"/>
                </a:solidFill>
                <a:latin typeface="Times New Roman"/>
              </a:rPr>
              <a:t>24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6B9B-FE1F-48F6-9FEA-7E8B7581FB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Probl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B934-ED24-4487-A820-EBC88FFAEEA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moles of benzene,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present in 390.0 grams of benze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2209680"/>
            <a:ext cx="914400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grams C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 moles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2992320"/>
          <a:ext cx="745164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92320"/>
                    <a:ext cx="74516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840040" y="4199040"/>
          <a:ext cx="2654280" cy="11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0040" y="4199040"/>
                    <a:ext cx="265428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352440" y="4518000"/>
          <a:ext cx="2508120" cy="4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440" y="4518000"/>
                    <a:ext cx="250812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1522440" y="4660920"/>
            <a:ext cx="3711600" cy="436680"/>
            <a:chOff x="1522440" y="4660920"/>
            <a:chExt cx="3711600" cy="436680"/>
          </a:xfrm>
        </p:grpSpPr>
        <p:sp>
          <p:nvSpPr>
            <p:cNvPr id="236" name=""/>
            <p:cNvSpPr/>
            <p:nvPr/>
          </p:nvSpPr>
          <p:spPr>
            <a:xfrm flipH="1" flipV="1">
              <a:off x="1522440" y="4660920"/>
              <a:ext cx="1162080" cy="13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4071960" y="4967280"/>
              <a:ext cx="1162080" cy="13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5527800" y="4518000"/>
          <a:ext cx="326376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27800" y="4518000"/>
                    <a:ext cx="32637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280" y="1295280"/>
            <a:ext cx="861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ar mass of 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78.12 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F16-48D3-4079-ACFD-412946391D4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grams of 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contained in 2.52 moles of 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217008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moles (NH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br>
              <a:rPr sz="3200"/>
            </a:b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 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 grams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(NH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52280" y="3533760"/>
          <a:ext cx="861084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33760"/>
                    <a:ext cx="86108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914400" y="5195880"/>
          <a:ext cx="3714840" cy="49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195880"/>
                    <a:ext cx="371484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613400" y="4876920"/>
          <a:ext cx="3806640" cy="113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13400" y="4876920"/>
                    <a:ext cx="380664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5164200" y="6202440"/>
          <a:ext cx="310356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4200" y="6202440"/>
                    <a:ext cx="31035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1" name=""/>
          <p:cNvGrpSpPr/>
          <p:nvPr/>
        </p:nvGrpSpPr>
        <p:grpSpPr>
          <a:xfrm>
            <a:off x="1816200" y="5393880"/>
            <a:ext cx="6164280" cy="519120"/>
            <a:chOff x="1816200" y="5393880"/>
            <a:chExt cx="6164280" cy="519120"/>
          </a:xfrm>
        </p:grpSpPr>
        <p:sp>
          <p:nvSpPr>
            <p:cNvPr id="252" name=""/>
            <p:cNvSpPr/>
            <p:nvPr/>
          </p:nvSpPr>
          <p:spPr>
            <a:xfrm flipH="1" flipV="1">
              <a:off x="1816200" y="5393880"/>
              <a:ext cx="268128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5299200" y="5714640"/>
              <a:ext cx="2681280" cy="1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52280" y="1295280"/>
            <a:ext cx="861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ar mass of 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149.12 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945-05F8-4998-80CF-64BA0F3C5509}" type="slidenum">
              <a:t>42</a:t>
            </a:fld>
          </a:p>
        </p:txBody>
      </p:sp>
    </p:spTree>
  </p:cSld>
  <p:transition spd="slow">
    <p:blinds dir="ver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0" y="5038560"/>
          <a:ext cx="210816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38560"/>
                    <a:ext cx="21081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2087640" y="4726080"/>
          <a:ext cx="2252520" cy="112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7640" y="4726080"/>
                    <a:ext cx="225252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202280" y="4724280"/>
          <a:ext cx="4941720" cy="112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02280" y="4724280"/>
                    <a:ext cx="494172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6.04 g of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ains how many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lecu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280" y="1020600"/>
            <a:ext cx="861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ar mass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28.02 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80648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g N</a:t>
            </a:r>
            <a:r>
              <a:rPr b="0" lang="en-US" sz="3000" spc="-1" strike="noStrike" baseline="-25000">
                <a:solidFill>
                  <a:srgbClr val="0033cc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 moles N</a:t>
            </a:r>
            <a:r>
              <a:rPr b="0" lang="en-US" sz="30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 molecules N</a:t>
            </a:r>
            <a:r>
              <a:rPr b="0" lang="en-US" sz="30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9920" y="2662200"/>
            <a:ext cx="45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version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53920" y="3471840"/>
          <a:ext cx="2027520" cy="104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3920" y="3471840"/>
                    <a:ext cx="202752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735360" y="3448080"/>
          <a:ext cx="4554720" cy="109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5360" y="3448080"/>
                    <a:ext cx="45547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4237200" y="6083280"/>
          <a:ext cx="4667040" cy="54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37200" y="6083280"/>
                    <a:ext cx="4667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1" name=""/>
          <p:cNvGrpSpPr/>
          <p:nvPr/>
        </p:nvGrpSpPr>
        <p:grpSpPr>
          <a:xfrm>
            <a:off x="1120680" y="4889520"/>
            <a:ext cx="6275520" cy="906480"/>
            <a:chOff x="1120680" y="4889520"/>
            <a:chExt cx="6275520" cy="906480"/>
          </a:xfrm>
        </p:grpSpPr>
        <p:sp>
          <p:nvSpPr>
            <p:cNvPr id="272" name=""/>
            <p:cNvSpPr/>
            <p:nvPr/>
          </p:nvSpPr>
          <p:spPr>
            <a:xfrm>
              <a:off x="1120680" y="5191200"/>
              <a:ext cx="833400" cy="26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86080" y="5502240"/>
              <a:ext cx="833400" cy="260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62280" y="4889520"/>
              <a:ext cx="1106280" cy="34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89560" y="5450040"/>
              <a:ext cx="1106640" cy="34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596-E2BA-45D3-8EB3-6ED54997037D}" type="slidenum">
              <a:t>43</a:t>
            </a:fld>
          </a:p>
        </p:txBody>
      </p:sp>
    </p:spTree>
  </p:cSld>
  <p:transition spd="slow">
    <p:blinds dir="vert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2087640" y="4284720"/>
          <a:ext cx="225252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4284720"/>
                    <a:ext cx="225252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0" y="4597560"/>
          <a:ext cx="2108160" cy="49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597560"/>
                    <a:ext cx="210816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202280" y="4282920"/>
          <a:ext cx="4941720" cy="112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02280" y="4282920"/>
                    <a:ext cx="494172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6.04 g of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tains how many nitrogen ato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868320"/>
            <a:ext cx="8610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ar mass of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28.02 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538280"/>
            <a:ext cx="91440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version sequence: 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</a:rPr>
              <a:t>g N</a:t>
            </a:r>
            <a:r>
              <a:rPr b="0" lang="en-US" sz="3000" spc="-1" strike="noStrike" baseline="-25000">
                <a:solidFill>
                  <a:srgbClr val="0033cc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 moles N</a:t>
            </a:r>
            <a:r>
              <a:rPr b="0" lang="en-US" sz="30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→ molecules N</a:t>
            </a:r>
            <a:r>
              <a:rPr b="0" lang="en-US" sz="3000" spc="-1" strike="noStrike" baseline="-25000">
                <a:solidFill>
                  <a:srgbClr val="0033cc"/>
                </a:solidFill>
                <a:latin typeface="Times New Roman"/>
                <a:ea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      → 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oms 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90760" y="2506680"/>
            <a:ext cx="436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version f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3121200"/>
          <a:ext cx="2027160" cy="104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3121200"/>
                    <a:ext cx="202716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2028960" y="3097080"/>
          <a:ext cx="4554360" cy="1094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28960" y="3097080"/>
                    <a:ext cx="455436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585120" y="3121200"/>
          <a:ext cx="2558880" cy="104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5120" y="3121200"/>
                    <a:ext cx="255888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4321080" y="6130800"/>
          <a:ext cx="4497480" cy="44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21080" y="6130800"/>
                    <a:ext cx="44974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143000" y="5715000"/>
          <a:ext cx="2782800" cy="1125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5715000"/>
                    <a:ext cx="278280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1143000" y="4486320"/>
            <a:ext cx="7802640" cy="2219400"/>
            <a:chOff x="1143000" y="4486320"/>
            <a:chExt cx="7802640" cy="2219400"/>
          </a:xfrm>
        </p:grpSpPr>
        <p:sp>
          <p:nvSpPr>
            <p:cNvPr id="297" name=""/>
            <p:cNvSpPr/>
            <p:nvPr/>
          </p:nvSpPr>
          <p:spPr>
            <a:xfrm>
              <a:off x="6645240" y="4486320"/>
              <a:ext cx="2300400" cy="239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33520" y="6465960"/>
              <a:ext cx="2300400" cy="239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38800" y="5094360"/>
              <a:ext cx="1243080" cy="12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19440" y="4495680"/>
              <a:ext cx="1243080" cy="13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16320" y="5127480"/>
              <a:ext cx="758880" cy="79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43000" y="4826160"/>
              <a:ext cx="758880" cy="79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1905120" y="2590920"/>
            <a:ext cx="5410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D68-6408-4988-8CEB-312A8A4026A0}" type="slidenum">
              <a:t>44</a:t>
            </a:fld>
          </a:p>
        </p:txBody>
      </p:sp>
    </p:spTree>
  </p:cSld>
  <p:transition spd="slow">
    <p:blinds dir="vert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7.3</a:t>
            </a:r>
            <a:br>
              <a:rPr sz="44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Percent Composition</a:t>
            </a:r>
            <a:br>
              <a:rPr sz="72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of Compou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D90-28AD-4FE3-AA8B-1244DD17A48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320" y="22856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cent composition of a compound is the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ass perc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each element in the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30280" y="3962520"/>
            <a:ext cx="8083440" cy="1290240"/>
            <a:chOff x="530280" y="3962520"/>
            <a:chExt cx="8083440" cy="1290240"/>
          </a:xfrm>
        </p:grpSpPr>
        <p:sp>
          <p:nvSpPr>
            <p:cNvPr id="308" name=""/>
            <p:cNvSpPr/>
            <p:nvPr/>
          </p:nvSpPr>
          <p:spPr>
            <a:xfrm>
              <a:off x="3848040" y="3962520"/>
              <a:ext cx="14479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66ff"/>
                  </a:solidFill>
                  <a:latin typeface="Times New Roman"/>
                </a:rPr>
                <a:t>H</a:t>
              </a:r>
              <a:r>
                <a:rPr b="0" lang="en-US" sz="4400" spc="-1" strike="noStrike" baseline="-25000">
                  <a:solidFill>
                    <a:srgbClr val="0066ff"/>
                  </a:solidFill>
                  <a:latin typeface="Times New Roman"/>
                </a:rPr>
                <a:t>2</a:t>
              </a:r>
              <a:r>
                <a:rPr b="0" lang="en-US" sz="4400" spc="-1" strike="noStrike">
                  <a:solidFill>
                    <a:srgbClr val="0066ff"/>
                  </a:solidFill>
                  <a:latin typeface="Times New Roman"/>
                </a:rPr>
                <a:t>O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0280" y="4610160"/>
              <a:ext cx="38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11.19% H by mas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79800" y="461016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88.79% O by mas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F1B5-7A04-44CF-9EB9-BB6074BB467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41480" y="2560680"/>
            <a:ext cx="710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Percent Composition </a:t>
            </a:r>
            <a:br>
              <a:rPr sz="5400"/>
            </a:b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From Formul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D839-2470-446C-8BC3-521C0E3F7B1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formula of a compound is known, a two-step process is needed to calculate the percent com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24382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98760" indent="-15987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1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molar mass of the formu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98760" indent="-15987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vide the total mass of each element in the formula by the molar mass and multiply by 10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FE6-E415-4735-BE14-970825542EB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120600" y="2959200"/>
          <a:ext cx="8902800" cy="8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600" y="2959200"/>
                    <a:ext cx="89028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6E4-08CD-4E4A-A179-DF99DB128590}" type="slidenum">
              <a:t>49</a:t>
            </a:fld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64764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his is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infinitesim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00600" y="354960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673 x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-2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5A3-8082-4932-ABE5-B5A1BC9FC432}" type="slidenum">
              <a:t>5</a:t>
            </a:fld>
          </a:p>
        </p:txBody>
      </p:sp>
    </p:spTree>
  </p:cSld>
  <p:transition spd="slow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87640" y="1141560"/>
            <a:ext cx="7724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1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molar mass of 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79040" y="1720800"/>
            <a:ext cx="49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H = 2 x 1.01g =   2.02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12640" y="240660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1 S = 1 x 32.07 g = 32.07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38920" y="30160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4.09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percent composition of hydrosulfuric acid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F57-4D3F-47B4-B68B-04DE0075D85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percent composition of hydrosulfuric acid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0000" y="1143000"/>
            <a:ext cx="804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1640" indent="-16016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vide the mass of each element by the molar mass and multiply by 10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048360" y="3727440"/>
            <a:ext cx="3052800" cy="2149560"/>
            <a:chOff x="6048360" y="3727440"/>
            <a:chExt cx="3052800" cy="2149560"/>
          </a:xfrm>
        </p:grpSpPr>
        <p:graphicFrame>
          <p:nvGraphicFramePr>
            <p:cNvPr id="324" name=""/>
            <p:cNvGraphicFramePr/>
            <p:nvPr/>
          </p:nvGraphicFramePr>
          <p:xfrm>
            <a:off x="6048360" y="3727440"/>
            <a:ext cx="3052800" cy="2149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48360" y="3727440"/>
                      <a:ext cx="3052800" cy="21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26" name=""/>
            <p:cNvGrpSpPr/>
            <p:nvPr/>
          </p:nvGrpSpPr>
          <p:grpSpPr>
            <a:xfrm>
              <a:off x="6477120" y="4302000"/>
              <a:ext cx="1660320" cy="926280"/>
              <a:chOff x="6477120" y="4302000"/>
              <a:chExt cx="1660320" cy="926280"/>
            </a:xfrm>
          </p:grpSpPr>
          <p:sp>
            <p:nvSpPr>
              <p:cNvPr id="327" name=""/>
              <p:cNvSpPr/>
              <p:nvPr/>
            </p:nvSpPr>
            <p:spPr>
              <a:xfrm>
                <a:off x="7242120" y="4302000"/>
                <a:ext cx="89532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H</a:t>
                </a:r>
                <a:br>
                  <a:rPr sz="2400"/>
                </a:b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5.93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77120" y="4302000"/>
                <a:ext cx="89532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S</a:t>
                </a:r>
                <a:br>
                  <a:rPr sz="2400"/>
                </a:b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94.07%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29" name=""/>
          <p:cNvGraphicFramePr/>
          <p:nvPr/>
        </p:nvGraphicFramePr>
        <p:xfrm>
          <a:off x="228600" y="4952880"/>
          <a:ext cx="5886360" cy="145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952880"/>
                    <a:ext cx="588636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228600" y="3200400"/>
          <a:ext cx="5776920" cy="14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200400"/>
                    <a:ext cx="577692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102-D381-4823-960D-8BA56679EDA0}" type="slidenum">
              <a:t>51</a:t>
            </a:fld>
          </a:p>
        </p:txBody>
      </p:sp>
    </p:spTree>
  </p:cSld>
  <p:transition spd="slow">
    <p:blinds dir="vert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82840" y="2560680"/>
            <a:ext cx="802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Percent Composition </a:t>
            </a:r>
            <a:br>
              <a:rPr sz="5400"/>
            </a:b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From Experimental Da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514-1203-4641-ABA8-FE9DC6829F1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cent composition can be calculated from experimental data without knowing the composition of the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24382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98760" indent="-15987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1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the mass of the compound form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98760" indent="-15987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vide the mass of each element by the total mass of the compound and multiply by 10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BBE-494E-45C3-BE6E-39F1E57AEF5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9760" y="2451240"/>
            <a:ext cx="91310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Step 1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alculate the total mass of the compoun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25400" y="301608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52 g 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25400" y="370188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3.47 g 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17840" y="441972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99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und containing nitrogen and oxygen is found to contain 1.52 g of nitrogen and 3.47 g of oxygen.  Determine its percent com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59040" y="4464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total mass of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80C-83C0-4509-B573-D448F7D70FC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70000" y="1523880"/>
            <a:ext cx="804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4200" indent="-1654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vide the mass of each element by the total mass of the compound form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15960" y="5334120"/>
          <a:ext cx="5160960" cy="14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5334120"/>
                    <a:ext cx="516096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33520" y="3581280"/>
          <a:ext cx="5243400" cy="144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581280"/>
                    <a:ext cx="5243400" cy="14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7" name=""/>
          <p:cNvGrpSpPr/>
          <p:nvPr/>
        </p:nvGrpSpPr>
        <p:grpSpPr>
          <a:xfrm>
            <a:off x="6049800" y="4110120"/>
            <a:ext cx="2989440" cy="2108160"/>
            <a:chOff x="6049800" y="4110120"/>
            <a:chExt cx="2989440" cy="2108160"/>
          </a:xfrm>
        </p:grpSpPr>
        <p:graphicFrame>
          <p:nvGraphicFramePr>
            <p:cNvPr id="348" name=""/>
            <p:cNvGraphicFramePr/>
            <p:nvPr/>
          </p:nvGraphicFramePr>
          <p:xfrm>
            <a:off x="6049800" y="4110120"/>
            <a:ext cx="2989440" cy="21081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3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49800" y="4110120"/>
                      <a:ext cx="2989440" cy="21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0" name=""/>
            <p:cNvSpPr/>
            <p:nvPr/>
          </p:nvSpPr>
          <p:spPr>
            <a:xfrm>
              <a:off x="7439040" y="4539960"/>
              <a:ext cx="8953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N</a:t>
              </a:r>
              <a:br>
                <a:rPr sz="2400"/>
              </a:b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0.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16800" y="4559040"/>
              <a:ext cx="8953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O</a:t>
              </a:r>
              <a:br>
                <a:rPr sz="2400"/>
              </a:br>
              <a:r>
                <a:rPr b="0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69.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pound containing nitrogen and oxygen is found to contain 1.52 g of nitrogen and 3.47 g of oxygen.  Determine its percent com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582B-B7A3-43E5-A719-0D20781B53C0}" type="slidenum">
              <a:t>55</a:t>
            </a:fld>
          </a:p>
        </p:txBody>
      </p:sp>
    </p:spTree>
  </p:cSld>
  <p:transition spd="slow">
    <p:blinds dir="vert"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7.4</a:t>
            </a:r>
            <a:br>
              <a:rPr sz="4400"/>
            </a:br>
            <a:r>
              <a:rPr b="0" lang="en-US" sz="6200" spc="-1" strike="noStrike" u="sng">
                <a:solidFill>
                  <a:srgbClr val="cc3399"/>
                </a:solidFill>
                <a:uFillTx/>
                <a:latin typeface="Times New Roman"/>
              </a:rPr>
              <a:t>Empirical Formula versus Molecular Formula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4F6-F501-4799-9BDF-FBEF0C49F4D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mpirical formul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mplest formul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s the smallest whole-number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the atoms present in a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365616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mpirical formul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s the relative number of atoms of each element present in the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9227-B68D-4C7E-9CA2-B05F9FD1479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440" y="12139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lecula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true formula of a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2585880"/>
            <a:ext cx="800100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lecula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represents the total number of atoms of each element present in one molecule of a compou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192-1610-475C-9450-74F7C59B3A4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Examp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55F-F9C8-4483-8101-905DBB045C4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4360" y="2514600"/>
            <a:ext cx="78501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mists have chosen a unit for counting ato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t unit i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4000" y="684360"/>
            <a:ext cx="784836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mists require a unit for counting which can  express large numbers of atoms using simple numb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2560" cy="6858000"/>
          </a:xfrm>
          <a:prstGeom prst="rect">
            <a:avLst/>
          </a:prstGeom>
          <a:gradFill rotWithShape="0">
            <a:gsLst>
              <a:gs pos="0">
                <a:srgbClr val="43a843"/>
              </a:gs>
              <a:gs pos="100000">
                <a:srgbClr val="66ff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5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900" spc="-1" strike="noStrike">
                <a:solidFill>
                  <a:srgbClr val="cc0000"/>
                </a:solidFill>
                <a:latin typeface="Franklin Gothic Medium"/>
              </a:rPr>
              <a:t>MOLE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5F6-3F73-4C39-A6C5-97F7006FC1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48520" y="792000"/>
            <a:ext cx="1514520" cy="92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320" y="7920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0" y="2651040"/>
            <a:ext cx="7543800" cy="926280"/>
            <a:chOff x="0" y="2651040"/>
            <a:chExt cx="7543800" cy="926280"/>
          </a:xfrm>
        </p:grpSpPr>
        <p:sp>
          <p:nvSpPr>
            <p:cNvPr id="364" name=""/>
            <p:cNvSpPr/>
            <p:nvPr/>
          </p:nvSpPr>
          <p:spPr>
            <a:xfrm>
              <a:off x="6248520" y="2651040"/>
              <a:ext cx="1295280" cy="926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0" y="2651040"/>
              <a:ext cx="5791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Empirical Formul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90360" y="4510080"/>
            <a:ext cx="8596440" cy="1556280"/>
            <a:chOff x="90360" y="4510080"/>
            <a:chExt cx="8596440" cy="1556280"/>
          </a:xfrm>
        </p:grpSpPr>
        <p:sp>
          <p:nvSpPr>
            <p:cNvPr id="367" name=""/>
            <p:cNvSpPr/>
            <p:nvPr/>
          </p:nvSpPr>
          <p:spPr>
            <a:xfrm>
              <a:off x="6248520" y="4988160"/>
              <a:ext cx="243828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C:H  1:2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0360" y="4510080"/>
              <a:ext cx="4633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Smallest Whole Number Rati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84E-30F9-4859-886B-40FC8AE9A1B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48520" y="792000"/>
            <a:ext cx="1514520" cy="92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7920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48520" y="2666880"/>
            <a:ext cx="11412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264960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90360" y="4510080"/>
            <a:ext cx="8596440" cy="1556280"/>
            <a:chOff x="90360" y="4510080"/>
            <a:chExt cx="8596440" cy="1556280"/>
          </a:xfrm>
        </p:grpSpPr>
        <p:sp>
          <p:nvSpPr>
            <p:cNvPr id="375" name=""/>
            <p:cNvSpPr/>
            <p:nvPr/>
          </p:nvSpPr>
          <p:spPr>
            <a:xfrm>
              <a:off x="6248520" y="4988160"/>
              <a:ext cx="2438280" cy="825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C:H  1: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360" y="4510080"/>
              <a:ext cx="4633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Smallest Whole Number Rati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8FE-E431-49F3-8C89-7CE5CFB74B4B}" type="slidenum">
              <a:t>61</a:t>
            </a:fld>
          </a:p>
        </p:txBody>
      </p:sp>
    </p:spTree>
  </p:cSld>
  <p:transition spd="slow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4800"/>
            </a:b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48520" y="792000"/>
            <a:ext cx="1601640" cy="92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320" y="79200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2651040"/>
            <a:ext cx="11192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265104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4987800"/>
            <a:ext cx="25416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:O  1: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0360" y="4510080"/>
            <a:ext cx="46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mallest Whole Number Rati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AF3D-8558-46DA-ABD1-A90E7F106130}" type="slidenum">
              <a:t>62</a:t>
            </a:fld>
          </a:p>
        </p:txBody>
      </p:sp>
    </p:spTree>
  </p:cSld>
  <p:transition spd="slow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0" y="1984320"/>
            <a:ext cx="9144000" cy="288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9A8-5A52-48EE-8F6A-9FCD5970D4F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compounds can have identical empirical formulas and different molecular formul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09F-2DAA-4DFE-A559-C3072901F47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254240" y="2249640"/>
            <a:ext cx="6635520" cy="235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2CC-5387-44B2-84EE-C1689BFA446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7.5</a:t>
            </a:r>
            <a:br>
              <a:rPr sz="44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Calculating</a:t>
            </a:r>
            <a:br>
              <a:rPr sz="7200"/>
            </a:br>
            <a:r>
              <a:rPr b="0" lang="en-US" sz="7200" spc="-1" strike="noStrike" u="sng">
                <a:solidFill>
                  <a:srgbClr val="cc3399"/>
                </a:solidFill>
                <a:uFillTx/>
                <a:latin typeface="Times New Roman"/>
              </a:rPr>
              <a:t>Empirical Formul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719-2C29-4D00-AB2E-A4BC407AD60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84000" y="380520"/>
            <a:ext cx="78483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54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1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ume a definite starting quantity (usually 100.0 g) of the compound, if the actual amount is not given, and express the mass of each element in gra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2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t the grams of each element into moles of each element using each element’s molar m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F46-A51B-4F55-82E8-400A8AC0596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684000" y="382320"/>
            <a:ext cx="784836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637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vide the moles of atoms of each element by the moles of atoms of the element that had the smallest val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880" y="266868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25520" indent="-3967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s obtained are whole numbers, use them as subscripts and write the empirical form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25520" indent="-3967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numbers obtained are not whole numbers, go on to step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372-904A-4446-B506-0BD707EE34F7}" type="slidenum">
              <a:t>68</a:t>
            </a:fld>
          </a:p>
        </p:txBody>
      </p:sp>
    </p:spTree>
  </p:cSld>
  <p:transition spd="slow">
    <p:blinds dir="vert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684000" y="382680"/>
            <a:ext cx="784836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587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ep 4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ply the values obtained in step 3 by the smallest numbers that will convert them to whole nu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2120" y="2814480"/>
            <a:ext cx="769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152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these whole numbers as the subscripts in the empirical formu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96560" y="4724280"/>
            <a:ext cx="1550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eO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Times New Roman"/>
              </a:rPr>
              <a:t>1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17360" y="5337000"/>
            <a:ext cx="26895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e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Times New Roman"/>
              </a:rPr>
              <a:t>1 x 2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Times New Roman"/>
              </a:rPr>
              <a:t>1.5 x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98960" y="5337000"/>
            <a:ext cx="1470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Fe</a:t>
            </a:r>
            <a:r>
              <a:rPr b="0" lang="en-US" sz="4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44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4F2-E4C7-462A-A787-AD01D590E0F2}" type="slidenum">
              <a:t>69</a:t>
            </a:fld>
          </a:p>
        </p:txBody>
      </p:sp>
    </p:spTree>
  </p:cSld>
  <p:transition spd="slow">
    <p:blinds dir="vert"/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93200" y="2971800"/>
            <a:ext cx="8157240" cy="916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1 mole = 6.022 x 10</a:t>
            </a:r>
            <a:r>
              <a:rPr b="0" lang="en-US" sz="5400" spc="-1" strike="noStrike" baseline="30000">
                <a:solidFill>
                  <a:srgbClr val="cc0000"/>
                </a:solidFill>
                <a:latin typeface="Times New Roman"/>
              </a:rPr>
              <a:t>23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0BA-3101-4806-B974-6662B55BFA62}" type="slidenum">
              <a:t>7</a:t>
            </a:fld>
          </a:p>
        </p:txBody>
      </p:sp>
    </p:spTree>
  </p:cSld>
  <p:transition spd="slow"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85800" y="611280"/>
            <a:ext cx="77724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esults of calculations may differ from a whole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y differ ±0.1, round off to the next nearest whol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57320" y="310824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2.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93440" y="310824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38098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ations greater than 0.1 unit from a whole number usually mean that the calculated ratios have to be multiplied by a whol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56E-20D5-4F9E-A895-B74CD56651C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4191120" y="5548320"/>
            <a:ext cx="3794040" cy="969840"/>
            <a:chOff x="4191120" y="5548320"/>
            <a:chExt cx="3794040" cy="969840"/>
          </a:xfrm>
        </p:grpSpPr>
        <p:sp>
          <p:nvSpPr>
            <p:cNvPr id="404" name=""/>
            <p:cNvSpPr/>
            <p:nvPr/>
          </p:nvSpPr>
          <p:spPr>
            <a:xfrm>
              <a:off x="4191120" y="5548320"/>
              <a:ext cx="3475080" cy="608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70800" y="6137280"/>
              <a:ext cx="414360" cy="3808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373640" y="5456160"/>
            <a:ext cx="971640" cy="1073160"/>
            <a:chOff x="4373640" y="5456160"/>
            <a:chExt cx="971640" cy="1073160"/>
          </a:xfrm>
        </p:grpSpPr>
        <p:sp>
          <p:nvSpPr>
            <p:cNvPr id="407" name=""/>
            <p:cNvSpPr/>
            <p:nvPr/>
          </p:nvSpPr>
          <p:spPr>
            <a:xfrm>
              <a:off x="4373640" y="5456160"/>
              <a:ext cx="655560" cy="792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48320" y="6148440"/>
              <a:ext cx="696960" cy="3808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1511280" y="5467320"/>
            <a:ext cx="939960" cy="1257480"/>
            <a:chOff x="1511280" y="5467320"/>
            <a:chExt cx="939960" cy="1257480"/>
          </a:xfrm>
        </p:grpSpPr>
        <p:sp>
          <p:nvSpPr>
            <p:cNvPr id="410" name=""/>
            <p:cNvSpPr/>
            <p:nvPr/>
          </p:nvSpPr>
          <p:spPr>
            <a:xfrm flipH="1">
              <a:off x="1809720" y="5467320"/>
              <a:ext cx="641520" cy="986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11280" y="6370560"/>
              <a:ext cx="352440" cy="3542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e Common Fractions and Their Decimal Equival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2240" y="1152360"/>
            <a:ext cx="29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mon F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155840" y="725400"/>
            <a:ext cx="184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cimal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571760" y="1752480"/>
          <a:ext cx="21564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1752480"/>
                    <a:ext cx="2156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1577880" y="2800440"/>
          <a:ext cx="20340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7880" y="2800440"/>
                    <a:ext cx="2034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1571760" y="3848040"/>
          <a:ext cx="215640" cy="7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1760" y="3848040"/>
                    <a:ext cx="2156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1571760" y="4896000"/>
          <a:ext cx="21564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71760" y="4896000"/>
                    <a:ext cx="2156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1571760" y="5943600"/>
          <a:ext cx="215640" cy="74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71760" y="5943600"/>
                    <a:ext cx="2156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4603320" y="2914560"/>
            <a:ext cx="13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333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03320" y="186696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03680" y="50101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03320" y="605808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02240" y="3962520"/>
            <a:ext cx="17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666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442200" y="725400"/>
            <a:ext cx="2700000" cy="5853240"/>
            <a:chOff x="6442200" y="725400"/>
            <a:chExt cx="2700000" cy="5853240"/>
          </a:xfrm>
        </p:grpSpPr>
        <p:sp>
          <p:nvSpPr>
            <p:cNvPr id="431" name=""/>
            <p:cNvSpPr/>
            <p:nvPr/>
          </p:nvSpPr>
          <p:spPr>
            <a:xfrm>
              <a:off x="6442200" y="725400"/>
              <a:ext cx="270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800080"/>
                  </a:solidFill>
                  <a:uFillTx/>
                  <a:latin typeface="Times New Roman"/>
                </a:rPr>
                <a:t>Resulting Whole</a:t>
              </a:r>
              <a:br>
                <a:rPr sz="2800"/>
              </a:br>
              <a:r>
                <a:rPr b="1" lang="en-US" sz="2800" spc="-1" strike="noStrike" u="sng">
                  <a:solidFill>
                    <a:srgbClr val="800080"/>
                  </a:solidFill>
                  <a:uFillTx/>
                  <a:latin typeface="Times New Roman"/>
                </a:rPr>
                <a:t>Numb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7613640" y="1866960"/>
              <a:ext cx="358920" cy="4711680"/>
              <a:chOff x="7613640" y="1866960"/>
              <a:chExt cx="358920" cy="4711680"/>
            </a:xfrm>
          </p:grpSpPr>
          <p:sp>
            <p:nvSpPr>
              <p:cNvPr id="433" name=""/>
              <p:cNvSpPr/>
              <p:nvPr/>
            </p:nvSpPr>
            <p:spPr>
              <a:xfrm>
                <a:off x="7613640" y="18669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0008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13640" y="29145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0008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13640" y="3962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0008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613640" y="50101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0008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13640" y="60580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0008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8" name=""/>
          <p:cNvSpPr/>
          <p:nvPr/>
        </p:nvSpPr>
        <p:spPr>
          <a:xfrm>
            <a:off x="2362320" y="3517920"/>
            <a:ext cx="2133360" cy="19234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y the decimal equivalent by the number in the denominator of the fraction to get a whole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794-EDDA-4BA6-B4CF-6DFDD3650D2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8000"/>
                </a:solidFill>
                <a:uFillTx/>
                <a:latin typeface="Tahoma"/>
              </a:rPr>
              <a:t>Probl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FDC-9913-454D-BAA8-8F0850392A1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alysis of a salt shows that it contains 56.58% potassium (K); 8.68% carbon (C); and 34.73% oxygen (O). Calculate the empirical formula for this sub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1981080"/>
            <a:ext cx="914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xpress each element in grams.  Assume 100 grams of comp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14880" y="3505320"/>
            <a:ext cx="2514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 = 56.58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54200" indent="-16542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 =   8.68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654200" indent="-16542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= 34.73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593800" y="30240"/>
            <a:ext cx="6518520" cy="5449680"/>
            <a:chOff x="2593800" y="30240"/>
            <a:chExt cx="6518520" cy="5449680"/>
          </a:xfrm>
        </p:grpSpPr>
        <p:sp>
          <p:nvSpPr>
            <p:cNvPr id="444" name=""/>
            <p:cNvSpPr/>
            <p:nvPr/>
          </p:nvSpPr>
          <p:spPr>
            <a:xfrm>
              <a:off x="7734240" y="30240"/>
              <a:ext cx="1378080" cy="5331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65560" y="3600360"/>
              <a:ext cx="1498680" cy="5335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65560" y="4268880"/>
              <a:ext cx="1498680" cy="533160"/>
            </a:xfrm>
            <a:prstGeom prst="rect">
              <a:avLst/>
            </a:prstGeom>
            <a:noFill/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65560" y="4946760"/>
              <a:ext cx="1498680" cy="533160"/>
            </a:xfrm>
            <a:prstGeom prst="rect">
              <a:avLst/>
            </a:prstGeom>
            <a:noFill/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31040" y="609480"/>
              <a:ext cx="1377720" cy="378000"/>
            </a:xfrm>
            <a:prstGeom prst="rect">
              <a:avLst/>
            </a:prstGeom>
            <a:noFill/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93800" y="533520"/>
              <a:ext cx="1157400" cy="533160"/>
            </a:xfrm>
            <a:prstGeom prst="rect">
              <a:avLst/>
            </a:prstGeom>
            <a:noFill/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A55-5D7B-4EEC-BBA4-B0752ABDFCF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alysis of a salt shows that it contains 56.58% potassium (K); 8.68% carbon (C); and 34.73% oxygen (O). Calculate the empirical formula for this sub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1981080"/>
            <a:ext cx="9142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ep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onvert the grams of each element to mo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0" y="0"/>
          <a:ext cx="91440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228600" y="2881440"/>
          <a:ext cx="2511360" cy="51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881440"/>
                    <a:ext cx="251136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749680" y="2590920"/>
          <a:ext cx="3090600" cy="10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9680" y="2590920"/>
                    <a:ext cx="309060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5854680" y="2913120"/>
          <a:ext cx="3057480" cy="44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4680" y="2913120"/>
                    <a:ext cx="30574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228600" y="4341960"/>
          <a:ext cx="2238480" cy="51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341960"/>
                    <a:ext cx="22384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2502000" y="4052880"/>
          <a:ext cx="3073320" cy="1093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02000" y="4052880"/>
                    <a:ext cx="307332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5591160" y="4375080"/>
          <a:ext cx="3057480" cy="44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91160" y="4375080"/>
                    <a:ext cx="30574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228600" y="5805360"/>
          <a:ext cx="2495520" cy="514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" y="5805360"/>
                    <a:ext cx="24955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2720880" y="5514840"/>
          <a:ext cx="3105360" cy="109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20880" y="5514840"/>
                    <a:ext cx="310536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867280" y="5837400"/>
          <a:ext cx="3090960" cy="449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867280" y="5837400"/>
                    <a:ext cx="30909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2" name=""/>
          <p:cNvGrpSpPr/>
          <p:nvPr/>
        </p:nvGrpSpPr>
        <p:grpSpPr>
          <a:xfrm>
            <a:off x="1660320" y="3071520"/>
            <a:ext cx="3314880" cy="3343680"/>
            <a:chOff x="1660320" y="3071520"/>
            <a:chExt cx="3314880" cy="3343680"/>
          </a:xfrm>
        </p:grpSpPr>
        <p:sp>
          <p:nvSpPr>
            <p:cNvPr id="473" name=""/>
            <p:cNvSpPr/>
            <p:nvPr/>
          </p:nvSpPr>
          <p:spPr>
            <a:xfrm>
              <a:off x="1915920" y="307152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75000" y="336996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60320" y="4503600"/>
              <a:ext cx="70056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46400" y="480852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17720" y="597996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24240" y="627516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5334120" y="4202280"/>
            <a:ext cx="3619440" cy="1545840"/>
            <a:chOff x="5334120" y="4202280"/>
            <a:chExt cx="3619440" cy="1545840"/>
          </a:xfrm>
        </p:grpSpPr>
        <p:sp>
          <p:nvSpPr>
            <p:cNvPr id="480" name=""/>
            <p:cNvSpPr/>
            <p:nvPr/>
          </p:nvSpPr>
          <p:spPr>
            <a:xfrm>
              <a:off x="5334120" y="4922640"/>
              <a:ext cx="361944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 has the smallest number of 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5334120" y="4202280"/>
              <a:ext cx="3619440" cy="793440"/>
              <a:chOff x="5334120" y="4202280"/>
              <a:chExt cx="3619440" cy="793440"/>
            </a:xfrm>
          </p:grpSpPr>
          <p:sp>
            <p:nvSpPr>
              <p:cNvPr id="482" name=""/>
              <p:cNvSpPr/>
              <p:nvPr/>
            </p:nvSpPr>
            <p:spPr>
              <a:xfrm>
                <a:off x="5334120" y="4202280"/>
                <a:ext cx="3619440" cy="793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83" name=""/>
              <p:cNvGraphicFramePr/>
              <p:nvPr/>
            </p:nvGraphicFramePr>
            <p:xfrm>
              <a:off x="5565960" y="4373280"/>
              <a:ext cx="3157560" cy="44892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484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5565960" y="4373280"/>
                        <a:ext cx="3157560" cy="448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5544-2469-4B46-92AE-C614021C0758}" type="slidenum">
              <a:t>74</a:t>
            </a:fld>
          </a:p>
        </p:txBody>
      </p:sp>
    </p:spTree>
  </p:cSld>
  <p:transition spd="slow">
    <p:blinds dir="vert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alysis of a salt shows that it contains 56.58% potassium (K); 8.68% carbon (C); and 34.73% oxygen (O). Calculate the empirical formula for this sub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1981080"/>
            <a:ext cx="9142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ep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Divide each number of moles by the smallest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0"/>
          <a:ext cx="91440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696960" y="3048120"/>
          <a:ext cx="365436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6960" y="3048120"/>
                    <a:ext cx="36543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5051520" y="3048120"/>
          <a:ext cx="339552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1520" y="3048120"/>
                    <a:ext cx="33955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696960" y="4267080"/>
          <a:ext cx="3654360" cy="94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6960" y="4267080"/>
                    <a:ext cx="365436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"/>
          <p:cNvSpPr/>
          <p:nvPr/>
        </p:nvSpPr>
        <p:spPr>
          <a:xfrm>
            <a:off x="649440" y="5562720"/>
            <a:ext cx="639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mplest ratio of K:C:O is 2:1: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54200" indent="-16542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irical formula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568680" y="3322800"/>
            <a:ext cx="1479600" cy="3473280"/>
            <a:chOff x="3568680" y="3322800"/>
            <a:chExt cx="1479600" cy="3473280"/>
          </a:xfrm>
        </p:grpSpPr>
        <p:sp>
          <p:nvSpPr>
            <p:cNvPr id="497" name=""/>
            <p:cNvSpPr/>
            <p:nvPr/>
          </p:nvSpPr>
          <p:spPr>
            <a:xfrm>
              <a:off x="3568680" y="4535640"/>
              <a:ext cx="838080" cy="377640"/>
            </a:xfrm>
            <a:prstGeom prst="rect">
              <a:avLst/>
            </a:prstGeom>
            <a:noFill/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43360" y="6415200"/>
              <a:ext cx="304920" cy="380880"/>
            </a:xfrm>
            <a:prstGeom prst="rect">
              <a:avLst/>
            </a:prstGeom>
            <a:noFill/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68680" y="3322800"/>
              <a:ext cx="841320" cy="377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62240" y="6415200"/>
              <a:ext cx="24768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915080" y="4038480"/>
            <a:ext cx="3619440" cy="1546560"/>
            <a:chOff x="4915080" y="4038480"/>
            <a:chExt cx="3619440" cy="1546560"/>
          </a:xfrm>
        </p:grpSpPr>
        <p:sp>
          <p:nvSpPr>
            <p:cNvPr id="502" name=""/>
            <p:cNvSpPr/>
            <p:nvPr/>
          </p:nvSpPr>
          <p:spPr>
            <a:xfrm>
              <a:off x="4915080" y="4759560"/>
              <a:ext cx="361944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 has the smallest number of m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915080" y="4038480"/>
              <a:ext cx="3619440" cy="793800"/>
              <a:chOff x="4915080" y="4038480"/>
              <a:chExt cx="3619440" cy="793800"/>
            </a:xfrm>
          </p:grpSpPr>
          <p:sp>
            <p:nvSpPr>
              <p:cNvPr id="504" name=""/>
              <p:cNvSpPr/>
              <p:nvPr/>
            </p:nvSpPr>
            <p:spPr>
              <a:xfrm>
                <a:off x="4915080" y="4038480"/>
                <a:ext cx="3619440" cy="793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505" name=""/>
              <p:cNvGraphicFramePr/>
              <p:nvPr/>
            </p:nvGraphicFramePr>
            <p:xfrm>
              <a:off x="5146920" y="4209840"/>
              <a:ext cx="3157560" cy="4492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06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146920" y="4209840"/>
                        <a:ext cx="3157560" cy="44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FC4-98BE-42D5-94E1-00DFEE32EFD1}" type="slidenum">
              <a:t>75</a:t>
            </a:fld>
          </a:p>
        </p:txBody>
      </p:sp>
    </p:spTree>
  </p:cSld>
  <p:transition spd="slow">
    <p:blinds dir="vert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10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1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1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cent composition of a compound is 25.94%  nitrogen (N), and  74.06% oxygen (O). Calculate the empirical formula for this substa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cent composition of a compound is 25.94%  nitrogen (N), and  74.06% oxygen (O). Calculate the empirical formula for this substa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1981080"/>
            <a:ext cx="914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xpress each element in grams.  Assume 100 grams of comp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14880" y="3505320"/>
            <a:ext cx="285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= 25.94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54200" indent="-16542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= 74.06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51000" y="82440"/>
            <a:ext cx="5402520" cy="4583160"/>
            <a:chOff x="3051000" y="82440"/>
            <a:chExt cx="5402520" cy="4583160"/>
          </a:xfrm>
        </p:grpSpPr>
        <p:sp>
          <p:nvSpPr>
            <p:cNvPr id="512" name=""/>
            <p:cNvSpPr/>
            <p:nvPr/>
          </p:nvSpPr>
          <p:spPr>
            <a:xfrm>
              <a:off x="7075440" y="82440"/>
              <a:ext cx="1378080" cy="5335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51000" y="566640"/>
              <a:ext cx="1378080" cy="533520"/>
            </a:xfrm>
            <a:prstGeom prst="rect">
              <a:avLst/>
            </a:prstGeom>
            <a:noFill/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4070520" y="3584520"/>
              <a:ext cx="1368360" cy="1081080"/>
              <a:chOff x="4070520" y="3584520"/>
              <a:chExt cx="1368360" cy="1081080"/>
            </a:xfrm>
          </p:grpSpPr>
          <p:sp>
            <p:nvSpPr>
              <p:cNvPr id="515" name=""/>
              <p:cNvSpPr/>
              <p:nvPr/>
            </p:nvSpPr>
            <p:spPr>
              <a:xfrm>
                <a:off x="4070520" y="3584520"/>
                <a:ext cx="1368360" cy="4795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70520" y="4186080"/>
                <a:ext cx="1368360" cy="479520"/>
              </a:xfrm>
              <a:prstGeom prst="rect">
                <a:avLst/>
              </a:prstGeom>
              <a:noFill/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F98-FB67-4623-81BA-C3241F639BD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1981080"/>
            <a:ext cx="9142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ep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onvert the grams of each element to mo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0" y="0"/>
          <a:ext cx="91440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12760" y="3279600"/>
          <a:ext cx="254304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760" y="3279600"/>
                    <a:ext cx="25430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741760" y="2989440"/>
          <a:ext cx="3106440" cy="10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1760" y="2989440"/>
                    <a:ext cx="310644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5854680" y="3311640"/>
          <a:ext cx="3057480" cy="44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4680" y="3311640"/>
                    <a:ext cx="30574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212760" y="4757760"/>
          <a:ext cx="2495520" cy="51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760" y="4757760"/>
                    <a:ext cx="24955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2741760" y="4468680"/>
          <a:ext cx="3105000" cy="1094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1760" y="4468680"/>
                    <a:ext cx="310500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5862600" y="4791240"/>
          <a:ext cx="3073320" cy="448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62600" y="4791240"/>
                    <a:ext cx="3073320" cy="44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2" name=""/>
          <p:cNvGrpSpPr/>
          <p:nvPr/>
        </p:nvGrpSpPr>
        <p:grpSpPr>
          <a:xfrm>
            <a:off x="1903320" y="3470040"/>
            <a:ext cx="3087720" cy="1889640"/>
            <a:chOff x="1903320" y="3470040"/>
            <a:chExt cx="3087720" cy="1889640"/>
          </a:xfrm>
        </p:grpSpPr>
        <p:sp>
          <p:nvSpPr>
            <p:cNvPr id="533" name=""/>
            <p:cNvSpPr/>
            <p:nvPr/>
          </p:nvSpPr>
          <p:spPr>
            <a:xfrm>
              <a:off x="1915920" y="347004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275000" y="376848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903320" y="492120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90840" y="5219640"/>
              <a:ext cx="700200" cy="140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cent composition of a compound is 25.94%  nitrogen (N), and  74.06% oxygen (O). Calculate the empirical formula for this substa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A77-BC43-43B6-8A10-0CEB38520F77}" type="slidenum">
              <a:t>77</a:t>
            </a:fld>
          </a:p>
        </p:txBody>
      </p:sp>
    </p:spTree>
  </p:cSld>
  <p:transition spd="slow">
    <p:blinds dir="vert"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0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1982880"/>
            <a:ext cx="9142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ep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Divide each number of moles by the smallest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0" y="0"/>
          <a:ext cx="91440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608040" y="3281400"/>
          <a:ext cx="383220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040" y="3281400"/>
                    <a:ext cx="38322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4930920" y="3281400"/>
          <a:ext cx="363672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0920" y="3281400"/>
                    <a:ext cx="3636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cent composition of a compound is 25.94%  nitrogen (N), and  74.06% oxygen (O). Calculate the empirical formula for this substa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1371600" y="3514680"/>
            <a:ext cx="7210440" cy="1895400"/>
            <a:chOff x="1371600" y="3514680"/>
            <a:chExt cx="7210440" cy="1895400"/>
          </a:xfrm>
        </p:grpSpPr>
        <p:sp>
          <p:nvSpPr>
            <p:cNvPr id="547" name=""/>
            <p:cNvSpPr/>
            <p:nvPr/>
          </p:nvSpPr>
          <p:spPr>
            <a:xfrm>
              <a:off x="1371600" y="4876920"/>
              <a:ext cx="6400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marL="1654200" indent="-1654200">
                <a:spcBef>
                  <a:spcPts val="7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his is not a ratio of whole numbers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98840" y="3514680"/>
              <a:ext cx="990720" cy="45396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91320" y="3514680"/>
              <a:ext cx="990720" cy="45396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F04-75E7-47BE-932F-E674DEE27B7F}" type="slidenum">
              <a:t>78</a:t>
            </a:fld>
          </a:p>
        </p:txBody>
      </p:sp>
    </p:spTree>
  </p:cSld>
  <p:transition spd="slow">
    <p:blinds dir="vert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2459160" y="2057400"/>
            <a:ext cx="4570200" cy="1917720"/>
            <a:chOff x="2459160" y="2057400"/>
            <a:chExt cx="4570200" cy="1917720"/>
          </a:xfrm>
        </p:grpSpPr>
        <p:sp>
          <p:nvSpPr>
            <p:cNvPr id="551" name=""/>
            <p:cNvSpPr/>
            <p:nvPr/>
          </p:nvSpPr>
          <p:spPr>
            <a:xfrm flipH="1">
              <a:off x="2514600" y="2475000"/>
              <a:ext cx="4122720" cy="1090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29400" y="2438280"/>
              <a:ext cx="339840" cy="1285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46960" y="2057400"/>
              <a:ext cx="228600" cy="4539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459160" y="3521160"/>
              <a:ext cx="228600" cy="4539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00760" y="3521160"/>
              <a:ext cx="228600" cy="45396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0" y="1982880"/>
            <a:ext cx="9142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tep 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Multiply each of the values by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cent composition of a compound is 25.94%  nitrogen (N), and  74.06% oxygen (O). Calculate the empirical formula for this substan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24160" y="4879800"/>
            <a:ext cx="4495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54200" indent="-16542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irical formula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7200" y="344484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: (1.000)2 = 2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00600" y="344664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: (2.500)2 = 5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3067200" y="3500280"/>
            <a:ext cx="5322600" cy="1962360"/>
            <a:chOff x="3067200" y="3500280"/>
            <a:chExt cx="5322600" cy="1962360"/>
          </a:xfrm>
        </p:grpSpPr>
        <p:grpSp>
          <p:nvGrpSpPr>
            <p:cNvPr id="562" name=""/>
            <p:cNvGrpSpPr/>
            <p:nvPr/>
          </p:nvGrpSpPr>
          <p:grpSpPr>
            <a:xfrm>
              <a:off x="3067200" y="3500280"/>
              <a:ext cx="5322600" cy="482760"/>
              <a:chOff x="3067200" y="3500280"/>
              <a:chExt cx="5322600" cy="482760"/>
            </a:xfrm>
          </p:grpSpPr>
          <p:sp>
            <p:nvSpPr>
              <p:cNvPr id="563" name=""/>
              <p:cNvSpPr/>
              <p:nvPr/>
            </p:nvSpPr>
            <p:spPr>
              <a:xfrm>
                <a:off x="3067200" y="3529080"/>
                <a:ext cx="990360" cy="45396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99440" y="3500280"/>
                <a:ext cx="990360" cy="454320"/>
              </a:xfrm>
              <a:prstGeom prst="rect">
                <a:avLst/>
              </a:prstGeom>
              <a:noFill/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5735520" y="5195880"/>
              <a:ext cx="671760" cy="266760"/>
              <a:chOff x="5735520" y="5195880"/>
              <a:chExt cx="671760" cy="266760"/>
            </a:xfrm>
          </p:grpSpPr>
          <p:sp>
            <p:nvSpPr>
              <p:cNvPr id="566" name=""/>
              <p:cNvSpPr/>
              <p:nvPr/>
            </p:nvSpPr>
            <p:spPr>
              <a:xfrm>
                <a:off x="5735520" y="5195880"/>
                <a:ext cx="247680" cy="26676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159600" y="5195880"/>
                <a:ext cx="247680" cy="266760"/>
              </a:xfrm>
              <a:prstGeom prst="rect">
                <a:avLst/>
              </a:prstGeom>
              <a:noFill/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C3C-EFB3-442E-A100-A7318EB72919}" type="slidenum">
              <a:t>79</a:t>
            </a:fld>
          </a:p>
        </p:txBody>
      </p:sp>
    </p:spTree>
  </p:cSld>
  <p:transition spd="slow">
    <p:blinds dir="vert"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9480" y="2208960"/>
            <a:ext cx="8286840" cy="32637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cc0000"/>
                </a:solidFill>
                <a:latin typeface="Franklin Gothic Medium"/>
              </a:rPr>
              <a:t>LARGE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1760"/>
            <a:ext cx="91425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Times New Roman"/>
              </a:rPr>
              <a:t>6.022 x 10</a:t>
            </a:r>
            <a:r>
              <a:rPr b="0" lang="en-US" sz="8000" spc="-1" strike="noStrike" baseline="30000">
                <a:solidFill>
                  <a:srgbClr val="cc0000"/>
                </a:solidFill>
                <a:latin typeface="Times New Roman"/>
              </a:rPr>
              <a:t>2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is a v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05120" y="5226120"/>
            <a:ext cx="1733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345-788F-4899-906D-6259268DBABE}" type="slidenum">
              <a:t>8</a:t>
            </a:fld>
          </a:p>
        </p:txBody>
      </p:sp>
    </p:spTree>
  </p:cSld>
  <p:transition spd="slow"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7.6</a:t>
            </a:r>
            <a:br>
              <a:rPr sz="3200"/>
            </a:br>
            <a:r>
              <a:rPr b="0" lang="en-US" sz="4600" spc="-1" strike="noStrike" u="sng">
                <a:solidFill>
                  <a:srgbClr val="cc3399"/>
                </a:solidFill>
                <a:uFillTx/>
                <a:latin typeface="Times New Roman"/>
              </a:rPr>
              <a:t>Calculating the Molecular Formula from the Empirical Formul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075520" y="5635800"/>
            <a:ext cx="384120" cy="384120"/>
          </a:xfrm>
          <a:custGeom>
            <a:avLst/>
            <a:gdLst>
              <a:gd name="textAreaLeft" fmla="*/ 24840 w 384120"/>
              <a:gd name="textAreaRight" fmla="*/ 359280 w 384120"/>
              <a:gd name="textAreaTop" fmla="*/ 24840 h 384120"/>
              <a:gd name="textAreaBottom" fmla="*/ 359280 h 3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B25-A0FE-4892-9F9C-E0390440655D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-360" y="151920"/>
            <a:ext cx="883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olecular formula can be calculated from the empirical formula if the molar mass is kn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1828800"/>
            <a:ext cx="8839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olecular formula will be equal to the empirical formula or some multiple,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of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determine the molecular formula evaluate </a:t>
            </a: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 number of units of the empirical formula contained in the molecular formu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93840" y="5562720"/>
            <a:ext cx="8354880" cy="1031760"/>
            <a:chOff x="393840" y="5562720"/>
            <a:chExt cx="8354880" cy="1031760"/>
          </a:xfrm>
        </p:grpSpPr>
        <p:graphicFrame>
          <p:nvGraphicFramePr>
            <p:cNvPr id="573" name=""/>
            <p:cNvGraphicFramePr/>
            <p:nvPr/>
          </p:nvGraphicFramePr>
          <p:xfrm>
            <a:off x="393840" y="5562720"/>
            <a:ext cx="5138640" cy="1031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3840" y="5562720"/>
                      <a:ext cx="5138640" cy="10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5" name=""/>
            <p:cNvGraphicFramePr/>
            <p:nvPr/>
          </p:nvGraphicFramePr>
          <p:xfrm>
            <a:off x="5532480" y="6070680"/>
            <a:ext cx="2175120" cy="42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32480" y="6070680"/>
                      <a:ext cx="217512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7" name=""/>
            <p:cNvGraphicFramePr/>
            <p:nvPr/>
          </p:nvGraphicFramePr>
          <p:xfrm>
            <a:off x="5532480" y="5657760"/>
            <a:ext cx="3216240" cy="48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32480" y="5657760"/>
                      <a:ext cx="3216240" cy="48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014-56DF-4F3F-9EDB-67B25ED830F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1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1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10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1000" fill="hold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10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1000" fill="hold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5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0" y="0"/>
            <a:ext cx="9144000" cy="157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olecular formula of a compound which has an empirical formula of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 molar mass of 126.2 g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5715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lecular formula is (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5800" y="150336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7360" indent="-182736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n = the number of formula units of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5800" y="2133720"/>
            <a:ext cx="6172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 the mass of each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C = 1(12.01 g) = 12.01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H = 2(1.01 g) =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.02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.03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685800" y="4419720"/>
          <a:ext cx="712944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19720"/>
                    <a:ext cx="712944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5" name=""/>
          <p:cNvGrpSpPr/>
          <p:nvPr/>
        </p:nvGrpSpPr>
        <p:grpSpPr>
          <a:xfrm>
            <a:off x="3156120" y="4734000"/>
            <a:ext cx="3008160" cy="1568520"/>
            <a:chOff x="3156120" y="4734000"/>
            <a:chExt cx="3008160" cy="1568520"/>
          </a:xfrm>
        </p:grpSpPr>
        <p:sp>
          <p:nvSpPr>
            <p:cNvPr id="586" name=""/>
            <p:cNvSpPr/>
            <p:nvPr/>
          </p:nvSpPr>
          <p:spPr>
            <a:xfrm>
              <a:off x="5880240" y="6018120"/>
              <a:ext cx="284040" cy="28440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56120" y="4734000"/>
              <a:ext cx="393480" cy="3934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95400" y="1046160"/>
            <a:ext cx="2663640" cy="3889440"/>
            <a:chOff x="95400" y="1046160"/>
            <a:chExt cx="2663640" cy="3889440"/>
          </a:xfrm>
        </p:grpSpPr>
        <p:sp>
          <p:nvSpPr>
            <p:cNvPr id="589" name=""/>
            <p:cNvSpPr/>
            <p:nvPr/>
          </p:nvSpPr>
          <p:spPr>
            <a:xfrm>
              <a:off x="95400" y="1046160"/>
              <a:ext cx="1223640" cy="495360"/>
            </a:xfrm>
            <a:prstGeom prst="rect">
              <a:avLst/>
            </a:pr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87520" y="4440240"/>
              <a:ext cx="1271520" cy="495360"/>
            </a:xfrm>
            <a:prstGeom prst="rect">
              <a:avLst/>
            </a:pr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1486080" y="3952800"/>
            <a:ext cx="4081320" cy="1571760"/>
            <a:chOff x="1486080" y="3952800"/>
            <a:chExt cx="4081320" cy="1571760"/>
          </a:xfrm>
        </p:grpSpPr>
        <p:sp>
          <p:nvSpPr>
            <p:cNvPr id="592" name=""/>
            <p:cNvSpPr/>
            <p:nvPr/>
          </p:nvSpPr>
          <p:spPr>
            <a:xfrm>
              <a:off x="4343400" y="3952800"/>
              <a:ext cx="1224000" cy="49536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86080" y="5029200"/>
              <a:ext cx="1271520" cy="49536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282-CAB3-4B9B-96E8-1A9EA64C72A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1000" fill="hold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10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1000" fill="hold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1855800" y="2570040"/>
            <a:ext cx="54324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BF4-5D7B-4B78-9D50-159250E116F8}" type="slidenum">
              <a:t>83</a:t>
            </a:fld>
          </a:p>
        </p:txBody>
      </p:sp>
    </p:spTree>
  </p:cSld>
  <p:transition spd="slow">
    <p:blinds dir="vert"/>
  </p:transition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0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1760"/>
            <a:ext cx="91425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Times New Roman"/>
              </a:rPr>
              <a:t>6.022 x 10</a:t>
            </a:r>
            <a:r>
              <a:rPr b="0" lang="en-US" sz="8000" spc="-1" strike="noStrike" baseline="30000">
                <a:solidFill>
                  <a:srgbClr val="cc0000"/>
                </a:solidFill>
                <a:latin typeface="Times New Roman"/>
              </a:rPr>
              <a:t>2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05120" y="5226120"/>
            <a:ext cx="1733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285480" y="2772720"/>
            <a:ext cx="9713520" cy="1312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Franklin Gothic Medium"/>
              </a:rPr>
              <a:t>Avogadro’s Numb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CCE-280C-443E-859D-E2997A63D472}" type="slidenum">
              <a:t>9</a:t>
            </a:fld>
          </a:p>
        </p:txBody>
      </p:sp>
    </p:spTree>
  </p:cSld>
  <p:transition spd="slow"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6:50:10Z</dcterms:created>
  <dc:creator>M</dc:creator>
  <dc:description/>
  <dc:language>en-US</dc:language>
  <cp:lastModifiedBy>wininst</cp:lastModifiedBy>
  <dcterms:modified xsi:type="dcterms:W3CDTF">2000-01-01T08:51:47Z</dcterms:modified>
  <cp:revision>708</cp:revision>
  <dc:subject/>
  <dc:title>Hein and Arena</dc:title>
</cp:coreProperties>
</file>