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.xlsx" ContentType="application/vnd.openxmlformats-officedocument.spreadsheetml.shee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3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4BF-C225-4F8F-AA79-0B15FD55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2C7-A435-4419-ADE5-440CEDB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0F8-2512-4943-A655-207509EF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306-B4B8-476F-A8FA-ADA6D988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5FF-F359-416B-92E6-E6638DBB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77E-75C5-476F-87B6-D575AA6E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0CA-3A71-4239-BC40-5D9C681E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9CE-621F-4909-BB67-D35E7CBB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FCA-31B0-4B9A-993C-B2BF0F4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CD3-0F2A-4FEE-9DF8-E6CADA9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A40-766C-4C57-A9E2-F3E76D93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7BD-DCA3-42B3-A009-A2B4BBC7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05A7589-CF49-43C6-877B-C8ED5E672E03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:07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DA4-C74C-4BB2-89F5-6018CB4AB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5.xml"/><Relationship Id="rId3" Type="http://schemas.openxmlformats.org/officeDocument/2006/relationships/slide" Target="slide56.xml"/><Relationship Id="rId4" Type="http://schemas.openxmlformats.org/officeDocument/2006/relationships/slide" Target="slide66.xml"/><Relationship Id="rId5" Type="http://schemas.openxmlformats.org/officeDocument/2006/relationships/slide" Target="slide80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Quantitativ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position of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7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2DD-A201-4F60-B931-6525BE35C2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10,000 people started to count Avogadro’s number and counted at the rate of 100 numbers per minute each minute of the day, it would take over 1 trillion years to count the total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9C3-DD2C-45B3-8975-2EF55DA78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 of any element cont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cles of that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BC9-C188-49DA-99C1-D7DAE35118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tomic mass in 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of any element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1 mole of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FFF-0D57-4483-8CC9-9E5660E7A950}" type="slidenum">
              <a:t>12</a:t>
            </a:fld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the same number of particles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 are in exactly 12 grams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57600" y="3809880"/>
                <a:ext cx="190512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DEF-9B87-4829-AAE8-0FD160B80842}" type="slidenum">
              <a:t>13</a:t>
            </a:fld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126-A75C-474D-A0AF-26F05FA742D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H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52280"/>
            <a:ext cx="8395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60D-C4F3-4FE2-A3E4-50D8EF9F8B8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molec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152280"/>
            <a:ext cx="83340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E0E-3E61-4DD2-8141-EE0F4E76897B}" type="slidenum">
              <a:t>16</a:t>
            </a:fld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 Na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52280"/>
            <a:ext cx="8935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39A-DB38-4053-8F53-DC1D9BB0C139}" type="slidenum">
              <a:t>17</a:t>
            </a:fld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 Fe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2280"/>
            <a:ext cx="8157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D4A-451A-494A-BF0F-17B830B98DB1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molec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52280"/>
            <a:ext cx="145260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06D-99D7-46CB-A1B7-A57EEE55FC33}" type="slidenum">
              <a:t>19</a:t>
            </a:fld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82880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The M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408400"/>
            <a:ext cx="41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lar Mass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987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ercent Composition of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18288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Empirical Formula versus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Molecular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5760" y="27590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5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Calculating Empirical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5760" y="3689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Calculating the Molecular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Formula from the Empirical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481-42E7-4968-97E0-5A84D6E49B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865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210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of atoms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106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119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10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1194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of molecules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11012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of ions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335-A366-4E29-9195-090752A183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ar mass of an element is its atomic mass in gr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contains 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toms (Avogadro’s number) of the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A71-C1B2-45D8-BB1B-AC1101CDFE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2165400"/>
          <a:ext cx="9115560" cy="2916000"/>
        </p:xfrm>
        <a:graphic>
          <a:graphicData uri="http://schemas.openxmlformats.org/drawingml/2006/table">
            <a:tbl>
              <a:tblPr/>
              <a:tblGrid>
                <a:gridCol w="2279520"/>
                <a:gridCol w="2279880"/>
                <a:gridCol w="2276280"/>
                <a:gridCol w="22798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ar m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 am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 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31 am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31 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99 am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99 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026-9CF9-4B76-B73F-9034C899215F}" type="slidenum">
              <a:t>22</a:t>
            </a:fld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022-82A5-4DBE-AC9C-1D4C8F40043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mass iron = 55.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oles of iron does 25.0 g of iron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699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ms F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moles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743200" y="4005360"/>
          <a:ext cx="36561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05360"/>
                    <a:ext cx="36561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57360" y="5159520"/>
          <a:ext cx="397656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7360" y="5159520"/>
                    <a:ext cx="39765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84680" y="5499000"/>
          <a:ext cx="2001960" cy="34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4680" y="5499000"/>
                    <a:ext cx="20019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85800" y="2797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moles and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59160" y="5541840"/>
            <a:ext cx="2552400" cy="498960"/>
            <a:chOff x="2459160" y="5541840"/>
            <a:chExt cx="2552400" cy="498960"/>
          </a:xfrm>
        </p:grpSpPr>
        <p:sp>
          <p:nvSpPr>
            <p:cNvPr id="116" name=""/>
            <p:cNvSpPr/>
            <p:nvPr/>
          </p:nvSpPr>
          <p:spPr>
            <a:xfrm>
              <a:off x="2459160" y="554184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8040" y="582768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986-DC3A-4EFB-9E73-7C900862AF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mass iron = 55.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ms F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atoms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65160" y="4064040"/>
          <a:ext cx="541188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064040"/>
                    <a:ext cx="54118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iron atoms are contained in 25.0 grams of ir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1240" y="5275440"/>
          <a:ext cx="574020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240" y="5275440"/>
                    <a:ext cx="574020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877000" y="5595840"/>
          <a:ext cx="315432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7000" y="5595840"/>
                    <a:ext cx="31543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85800" y="2836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atoms and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47960" y="5671800"/>
            <a:ext cx="3430080" cy="506880"/>
            <a:chOff x="1047960" y="5671800"/>
            <a:chExt cx="3430080" cy="506880"/>
          </a:xfrm>
        </p:grpSpPr>
        <p:sp>
          <p:nvSpPr>
            <p:cNvPr id="129" name=""/>
            <p:cNvSpPr/>
            <p:nvPr/>
          </p:nvSpPr>
          <p:spPr>
            <a:xfrm>
              <a:off x="1047960" y="567180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54520" y="596556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FC0-6581-41B7-A724-B99A5F1C684E}" type="slidenum">
              <a:t>25</a:t>
            </a:fld>
          </a:p>
        </p:txBody>
      </p:sp>
    </p:spTree>
  </p:cSld>
  <p:transition spd="slow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mass Na = 22.99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7504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oms N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grams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16200" y="4319640"/>
          <a:ext cx="55116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4319640"/>
                    <a:ext cx="5511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ss of 3.0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oms of sodium (Na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85720" y="5508720"/>
          <a:ext cx="66294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5508720"/>
                    <a:ext cx="66294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261200" y="5824440"/>
          <a:ext cx="129528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61200" y="5824440"/>
                    <a:ext cx="12952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2257560" y="5923080"/>
            <a:ext cx="4524120" cy="431640"/>
            <a:chOff x="2257560" y="5923080"/>
            <a:chExt cx="4524120" cy="431640"/>
          </a:xfrm>
        </p:grpSpPr>
        <p:sp>
          <p:nvSpPr>
            <p:cNvPr id="141" name=""/>
            <p:cNvSpPr/>
            <p:nvPr/>
          </p:nvSpPr>
          <p:spPr>
            <a:xfrm>
              <a:off x="2257560" y="5923080"/>
              <a:ext cx="1263600" cy="136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18080" y="6218280"/>
              <a:ext cx="1263600" cy="136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" y="30067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grams an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280-2F93-4E20-A6B0-C94B7A1053D6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mass tin = 11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ss of 0.365 moles of t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0448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les S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grams 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82800" y="4232160"/>
          <a:ext cx="45180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4232160"/>
                    <a:ext cx="451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319040" y="5386320"/>
          <a:ext cx="488664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5386320"/>
                    <a:ext cx="48866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256440" y="5653080"/>
          <a:ext cx="156852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56440" y="5653080"/>
                    <a:ext cx="15685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2362320" y="5767560"/>
            <a:ext cx="3352680" cy="423720"/>
            <a:chOff x="2362320" y="5767560"/>
            <a:chExt cx="3352680" cy="423720"/>
          </a:xfrm>
        </p:grpSpPr>
        <p:sp>
          <p:nvSpPr>
            <p:cNvPr id="154" name=""/>
            <p:cNvSpPr/>
            <p:nvPr/>
          </p:nvSpPr>
          <p:spPr>
            <a:xfrm>
              <a:off x="2362320" y="5767560"/>
              <a:ext cx="1406520" cy="155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08480" y="6035760"/>
              <a:ext cx="1406520" cy="155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5800" y="29480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grams an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7B7-C345-447C-8908-FD98BE2F500F}" type="slidenum">
              <a:t>27</a:t>
            </a:fld>
          </a:p>
        </p:txBody>
      </p:sp>
    </p:spTree>
  </p:cSld>
  <p:transition spd="slow"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4883040"/>
          <a:ext cx="214164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83040"/>
                    <a:ext cx="21416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30480" y="4591080"/>
          <a:ext cx="443376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0480" y="4591080"/>
                    <a:ext cx="4433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553080" y="4591080"/>
          <a:ext cx="25909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591080"/>
                    <a:ext cx="2590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6320" y="3162240"/>
            <a:ext cx="90662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les O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molecules O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atoms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5040" y="2057400"/>
          <a:ext cx="444168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5040" y="2057400"/>
                    <a:ext cx="44416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xygen atoms are present in 2.00 mol of oxygen molec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960" y="1371600"/>
            <a:ext cx="62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version factors are nee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254640" y="2057400"/>
          <a:ext cx="1984320" cy="105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54640" y="2057400"/>
                    <a:ext cx="19843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457960" y="5753160"/>
          <a:ext cx="330336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57960" y="5753160"/>
                    <a:ext cx="33033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4800600"/>
            <a:ext cx="8094960" cy="730080"/>
            <a:chOff x="838080" y="4800600"/>
            <a:chExt cx="8094960" cy="730080"/>
          </a:xfrm>
        </p:grpSpPr>
        <p:sp>
          <p:nvSpPr>
            <p:cNvPr id="173" name=""/>
            <p:cNvSpPr/>
            <p:nvPr/>
          </p:nvSpPr>
          <p:spPr>
            <a:xfrm>
              <a:off x="4270320" y="4800600"/>
              <a:ext cx="2043000" cy="212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81840" y="5334120"/>
              <a:ext cx="195120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5334120"/>
              <a:ext cx="1123920" cy="11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5038560"/>
              <a:ext cx="1123920" cy="11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4A4-5B7C-4F94-B9FD-6403611A097C}" type="slidenum">
              <a:t>28</a:t>
            </a:fld>
          </a:p>
        </p:txBody>
      </p:sp>
    </p:spTree>
  </p:cSld>
  <p:transition spd="slow"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2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Molar Mass of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3B7-3748-4ABD-93E5-46282E7EC14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1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Mo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5A9-72E9-43A7-A91C-A44749804C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ar mass of a compound can be determined by adding the molar masses of all of the atoms in its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C8D-4433-4C69-9826-E73030E95E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33280" y="213984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C = 2(12.01 g) = 24.0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1840" y="278460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H = 6(1.01 g) =    6.06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7720" y="342900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O = 1(16.00 g)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6.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14960" y="407520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6.08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AD6-051D-4DF4-AEA3-5B1C0C0F78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19680" y="2254320"/>
            <a:ext cx="47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Li = 1(6.94 g) = 6.94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6560" y="284940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Cl = 1(35.45 g) = 35.45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7720" y="344484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O = 4(16.00 g)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64.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9440" y="40384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6.39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Li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79B-FFBA-4148-8CE4-0950E0B8C515}" type="slidenum">
              <a:t>32</a:t>
            </a:fld>
          </a:p>
        </p:txBody>
      </p:sp>
    </p:spTree>
  </p:cSld>
  <p:transition spd="slow"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olar mass of (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4440" y="213840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N = 3(14.01 g) = 42.03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840" y="2703600"/>
            <a:ext cx="53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H = 12(1.01 g) = 12.1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10760" y="3267000"/>
            <a:ext cx="50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P = 1(30.97 g) = 30.97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4440" y="383076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O = 4(16.00 g)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64.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56160" y="43941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9.1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C94-AA87-4965-AFE5-7DF4BF95253F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04920" y="76320"/>
            <a:ext cx="8534160" cy="2287440"/>
            <a:chOff x="304920" y="76320"/>
            <a:chExt cx="8534160" cy="2287440"/>
          </a:xfrm>
        </p:grpSpPr>
        <p:sp>
          <p:nvSpPr>
            <p:cNvPr id="197" name=""/>
            <p:cNvSpPr/>
            <p:nvPr/>
          </p:nvSpPr>
          <p:spPr>
            <a:xfrm>
              <a:off x="719280" y="81000"/>
              <a:ext cx="8116920" cy="22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920" y="76320"/>
              <a:ext cx="4495680" cy="22874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Avogadro’s Number of Particl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425520"/>
              <a:ext cx="3276360" cy="1556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6 x 10</a:t>
              </a:r>
              <a:r>
                <a:rPr b="0" lang="en-US" sz="4800" spc="-1" strike="noStrike" baseline="30000">
                  <a:solidFill>
                    <a:srgbClr val="0033cc"/>
                  </a:solidFill>
                  <a:latin typeface="Century Gothic"/>
                </a:rPr>
                <a:t>23</a:t>
              </a: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 Particl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86000" y="57754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Molar Ma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3257640"/>
            <a:ext cx="4191120" cy="213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MO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378160"/>
            <a:ext cx="0" cy="850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53863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C6A-F6F1-4432-A5E7-19B8BD0D3407}" type="slidenum">
              <a:t>34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38280" y="3276720"/>
            <a:ext cx="4191120" cy="213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MOLE 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76320"/>
            <a:ext cx="8534160" cy="2287440"/>
            <a:chOff x="304920" y="76320"/>
            <a:chExt cx="8534160" cy="2287440"/>
          </a:xfrm>
        </p:grpSpPr>
        <p:sp>
          <p:nvSpPr>
            <p:cNvPr id="206" name=""/>
            <p:cNvSpPr/>
            <p:nvPr/>
          </p:nvSpPr>
          <p:spPr>
            <a:xfrm>
              <a:off x="719280" y="81000"/>
              <a:ext cx="8116920" cy="22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20" y="76320"/>
              <a:ext cx="4495680" cy="22874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Avogadro’s Number of</a:t>
              </a:r>
              <a:br>
                <a:rPr sz="4800"/>
              </a:b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Ca atom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425520"/>
              <a:ext cx="3276360" cy="1556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6 x 10</a:t>
              </a:r>
              <a:r>
                <a:rPr b="0" lang="en-US" sz="4800" spc="-1" strike="noStrike" baseline="30000">
                  <a:solidFill>
                    <a:srgbClr val="0033cc"/>
                  </a:solidFill>
                  <a:latin typeface="Century Gothic"/>
                </a:rPr>
                <a:t>23</a:t>
              </a: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 Ca atom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41480" y="57754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40.078 g 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397240"/>
            <a:ext cx="0" cy="850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410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75D-E54D-4BE4-B744-BD75DDDBECCD}" type="slidenum">
              <a:t>35</a:t>
            </a:fld>
          </a:p>
        </p:txBody>
      </p:sp>
    </p:spTree>
  </p:cSld>
  <p:transition spd="slow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438280" y="3276720"/>
            <a:ext cx="4191120" cy="213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MOLE 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4040" y="81000"/>
            <a:ext cx="8552160" cy="22827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76320"/>
            <a:ext cx="4495680" cy="2197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Avogadro’s Number of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H</a:t>
            </a:r>
            <a:r>
              <a:rPr b="0" lang="en-US" sz="4400" spc="-1" strike="noStrike" baseline="-25000">
                <a:solidFill>
                  <a:srgbClr val="0033cc"/>
                </a:solidFill>
                <a:latin typeface="Century Gothic"/>
              </a:rPr>
              <a:t>2</a:t>
            </a: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O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25520"/>
            <a:ext cx="3276360" cy="1508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6 x 10</a:t>
            </a:r>
            <a:r>
              <a:rPr b="0" lang="en-US" sz="4400" spc="-1" strike="noStrike" baseline="30000">
                <a:solidFill>
                  <a:srgbClr val="0033cc"/>
                </a:solidFill>
                <a:latin typeface="Century Gothic"/>
              </a:rPr>
              <a:t>23</a:t>
            </a: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entury Gothic"/>
              </a:rPr>
              <a:t>H</a:t>
            </a:r>
            <a:r>
              <a:rPr b="0" lang="en-US" sz="4000" spc="-1" strike="noStrike" baseline="-25000">
                <a:solidFill>
                  <a:srgbClr val="0033cc"/>
                </a:solidFill>
                <a:latin typeface="Century Gothic"/>
              </a:rPr>
              <a:t>2</a:t>
            </a:r>
            <a:r>
              <a:rPr b="0" lang="en-US" sz="4000" spc="-1" strike="noStrike">
                <a:solidFill>
                  <a:srgbClr val="0033cc"/>
                </a:solidFill>
                <a:latin typeface="Century Gothic"/>
              </a:rPr>
              <a:t>O</a:t>
            </a: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5775480"/>
            <a:ext cx="51818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18.02 g H</a:t>
            </a:r>
            <a:r>
              <a:rPr b="0" lang="en-US" sz="6000" spc="-1" strike="noStrike" baseline="-25000">
                <a:solidFill>
                  <a:srgbClr val="5f5f5f"/>
                </a:solidFill>
                <a:latin typeface="Century Gothic"/>
              </a:rPr>
              <a:t>2</a:t>
            </a: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2397240"/>
            <a:ext cx="0" cy="850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410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527-6368-4046-AA2B-64298EBCECBE}" type="slidenum">
              <a:t>36</a:t>
            </a:fld>
          </a:p>
        </p:txBody>
      </p: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143000"/>
          <a:ext cx="8763120" cy="55623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3124440"/>
              </a:tblGrid>
              <a:tr h="91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 molec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 H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 Cl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 HCl molec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 g 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45 g 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6 g H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ar mass H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ar mass Cl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ar mass HCl molec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relationships are present when hydrogen combines with chlor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C0D-D9EC-4FD2-93DA-4445C65919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857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dealing with diatomic elements (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O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N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F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Cl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Br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and I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distinguish between one mole of atoms and one mole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14F-E565-438A-90CC-9162A0800F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1 mole of H </a:t>
            </a:r>
            <a:r>
              <a:rPr b="0" lang="en-US" sz="3200" spc="-1" strike="noStrike">
                <a:solidFill>
                  <a:srgbClr val="3009d7"/>
                </a:solidFill>
                <a:latin typeface="Times New Roman"/>
              </a:rPr>
              <a:t>ato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77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H = 1(1.01 g) = 1.01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1440" y="3505320"/>
            <a:ext cx="91440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1 mo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009d7"/>
                </a:solidFill>
                <a:latin typeface="Times New Roman"/>
              </a:rPr>
              <a:t>molec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16556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H = 2(1.01 g) = 2.0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B2D-CC19-4919-B5A9-CFA324980D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ss of a single atom is too small to measure on a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4038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mass of hydrogen atom = 1.673 x 10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983-5E1C-4471-9403-DC1C61AA0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27B-79E2-4359-B06E-5FC1AFC9428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oles of benzene,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resent in 390.0 grams of benze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209680"/>
            <a:ext cx="91440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grams C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s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2992320"/>
          <a:ext cx="74516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92320"/>
                    <a:ext cx="7451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40040" y="4199040"/>
          <a:ext cx="265428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040" y="4199040"/>
                    <a:ext cx="265428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52440" y="4518000"/>
          <a:ext cx="250812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440" y="4518000"/>
                    <a:ext cx="25081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522440" y="4660920"/>
            <a:ext cx="3711600" cy="436680"/>
            <a:chOff x="1522440" y="4660920"/>
            <a:chExt cx="3711600" cy="436680"/>
          </a:xfrm>
        </p:grpSpPr>
        <p:sp>
          <p:nvSpPr>
            <p:cNvPr id="236" name=""/>
            <p:cNvSpPr/>
            <p:nvPr/>
          </p:nvSpPr>
          <p:spPr>
            <a:xfrm flipH="1" flipV="1">
              <a:off x="1522440" y="4660920"/>
              <a:ext cx="1162080" cy="13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071960" y="4967280"/>
              <a:ext cx="1162080" cy="13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5527800" y="4518000"/>
          <a:ext cx="32637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27800" y="4518000"/>
                    <a:ext cx="3263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280" y="129528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78.1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F1E-F0C7-4A13-B6BD-A712860A46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grams of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tained in 2.52 moles of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1700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oles (N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br>
              <a:rPr sz="3200"/>
            </a:b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grams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N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3533760"/>
          <a:ext cx="86108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33760"/>
                    <a:ext cx="8610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914400" y="5195880"/>
          <a:ext cx="371484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95880"/>
                    <a:ext cx="37148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613400" y="4876920"/>
          <a:ext cx="3806640" cy="11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3400" y="4876920"/>
                    <a:ext cx="38066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164200" y="6202440"/>
          <a:ext cx="31035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4200" y="6202440"/>
                    <a:ext cx="3103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1816200" y="5393880"/>
            <a:ext cx="6164280" cy="519120"/>
            <a:chOff x="1816200" y="5393880"/>
            <a:chExt cx="6164280" cy="519120"/>
          </a:xfrm>
        </p:grpSpPr>
        <p:sp>
          <p:nvSpPr>
            <p:cNvPr id="252" name=""/>
            <p:cNvSpPr/>
            <p:nvPr/>
          </p:nvSpPr>
          <p:spPr>
            <a:xfrm flipH="1" flipV="1">
              <a:off x="1816200" y="5393880"/>
              <a:ext cx="268128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9200" y="5714640"/>
              <a:ext cx="268128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52280" y="129528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149.1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ABC-0D49-4BD6-BAF7-928A91575C4B}" type="slidenum">
              <a:t>42</a:t>
            </a:fld>
          </a:p>
        </p:txBody>
      </p:sp>
    </p:spTree>
  </p:cSld>
  <p:transition spd="slow"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5038560"/>
          <a:ext cx="210816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38560"/>
                    <a:ext cx="2108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087640" y="4726080"/>
          <a:ext cx="225252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7640" y="4726080"/>
                    <a:ext cx="2252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202280" y="4724280"/>
          <a:ext cx="494172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2280" y="4724280"/>
                    <a:ext cx="49417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.04 g of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how many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102060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28.0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8064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g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cu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920" y="2662200"/>
            <a:ext cx="45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version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53920" y="3471840"/>
          <a:ext cx="202752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3920" y="3471840"/>
                    <a:ext cx="20275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735360" y="3448080"/>
          <a:ext cx="455472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5360" y="3448080"/>
                    <a:ext cx="4554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237200" y="6083280"/>
          <a:ext cx="466704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37200" y="6083280"/>
                    <a:ext cx="4667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1120680" y="4889520"/>
            <a:ext cx="6275520" cy="906480"/>
            <a:chOff x="1120680" y="4889520"/>
            <a:chExt cx="6275520" cy="906480"/>
          </a:xfrm>
        </p:grpSpPr>
        <p:sp>
          <p:nvSpPr>
            <p:cNvPr id="272" name=""/>
            <p:cNvSpPr/>
            <p:nvPr/>
          </p:nvSpPr>
          <p:spPr>
            <a:xfrm>
              <a:off x="1120680" y="5191200"/>
              <a:ext cx="83340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86080" y="5502240"/>
              <a:ext cx="83340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2280" y="4889520"/>
              <a:ext cx="110628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89560" y="5450040"/>
              <a:ext cx="110664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877-3466-4360-A8B3-C8B5381075DA}" type="slidenum">
              <a:t>43</a:t>
            </a:fld>
          </a:p>
        </p:txBody>
      </p:sp>
    </p:spTree>
  </p:cSld>
  <p:transition spd="slow">
    <p:blinds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087640" y="4284720"/>
          <a:ext cx="22525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4284720"/>
                    <a:ext cx="2252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4597560"/>
          <a:ext cx="210816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97560"/>
                    <a:ext cx="21081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202280" y="4282920"/>
          <a:ext cx="494172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2280" y="4282920"/>
                    <a:ext cx="49417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.04 g of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how many nitrogen ato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86832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28.0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53828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g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cu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→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oms 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90760" y="250668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versi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3121200"/>
          <a:ext cx="20271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121200"/>
                    <a:ext cx="20271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028960" y="3097080"/>
          <a:ext cx="4554360" cy="109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3097080"/>
                    <a:ext cx="455436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585120" y="3121200"/>
          <a:ext cx="255888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5120" y="3121200"/>
                    <a:ext cx="25588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321080" y="6130800"/>
          <a:ext cx="4497480" cy="44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21080" y="6130800"/>
                    <a:ext cx="449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43000" y="5715000"/>
          <a:ext cx="2782800" cy="112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715000"/>
                    <a:ext cx="27828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1143000" y="4486320"/>
            <a:ext cx="7802640" cy="2219400"/>
            <a:chOff x="1143000" y="4486320"/>
            <a:chExt cx="7802640" cy="2219400"/>
          </a:xfrm>
        </p:grpSpPr>
        <p:sp>
          <p:nvSpPr>
            <p:cNvPr id="297" name=""/>
            <p:cNvSpPr/>
            <p:nvPr/>
          </p:nvSpPr>
          <p:spPr>
            <a:xfrm>
              <a:off x="6645240" y="4486320"/>
              <a:ext cx="2300400" cy="239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33520" y="6465960"/>
              <a:ext cx="2300400" cy="239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8800" y="5094360"/>
              <a:ext cx="1243080" cy="12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19440" y="4495680"/>
              <a:ext cx="1243080" cy="13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6320" y="5127480"/>
              <a:ext cx="758880" cy="7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3000" y="4826160"/>
              <a:ext cx="758880" cy="7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905120" y="2590920"/>
            <a:ext cx="541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D65-01ED-4406-8F25-650F76C9B3FF}" type="slidenum">
              <a:t>44</a:t>
            </a:fld>
          </a:p>
        </p:txBody>
      </p:sp>
    </p:spTree>
  </p:cSld>
  <p:transition spd="slow">
    <p:blinds dir="vert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3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ercent Composition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AB7-2F3C-49FF-BC60-01533F23BC6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320" y="2285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composition of a compound is th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ss perc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ach element in th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0280" y="3962520"/>
            <a:ext cx="8083440" cy="1290240"/>
            <a:chOff x="530280" y="3962520"/>
            <a:chExt cx="8083440" cy="1290240"/>
          </a:xfrm>
        </p:grpSpPr>
        <p:sp>
          <p:nvSpPr>
            <p:cNvPr id="308" name=""/>
            <p:cNvSpPr/>
            <p:nvPr/>
          </p:nvSpPr>
          <p:spPr>
            <a:xfrm>
              <a:off x="3848040" y="3962520"/>
              <a:ext cx="14479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Times New Roman"/>
                </a:rPr>
                <a:t>H</a:t>
              </a:r>
              <a:r>
                <a:rPr b="0" lang="en-US" sz="44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r>
                <a:rPr b="0" lang="en-US" sz="4400" spc="-1" strike="noStrike">
                  <a:solidFill>
                    <a:srgbClr val="0066ff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0280" y="461016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11.19% H by ma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9800" y="461016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88.79% O by ma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39C-3D77-4F76-A2C0-24BB561D46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41480" y="2560680"/>
            <a:ext cx="710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ercent Composition 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From Formu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0A3-E3DA-4027-A101-3C7B22AC10B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formula of a compound is known, a two-step process is needed to calculate the percent com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4382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98760" indent="-15987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olar mass of the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760" indent="-15987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total mass of each element in the formula by the molar mass and multiply by 1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2E6-322D-4C87-A4CC-42CB6333D2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20600" y="2959200"/>
          <a:ext cx="89028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00" y="2959200"/>
                    <a:ext cx="89028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D0A-1AFE-4CA5-A1B3-C5DD78A09B79}" type="slidenum">
              <a:t>49</a:t>
            </a:fld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476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his i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nfinitesi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00600" y="35496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673 x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D20-F254-4F92-AC1D-C3DC67D12F1B}" type="slidenum">
              <a:t>5</a:t>
            </a:fld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87640" y="1141560"/>
            <a:ext cx="772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olar mass of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79040" y="172080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H = 2 x 1.01g =   2.0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12640" y="2406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 S = 1 x 32.07 g = 32.07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8920" y="3016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4.09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composition of hydrosulfuric acid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710-600C-40F0-B2AA-5A57BD29220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composition of hydrosulfuric acid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0000" y="1143000"/>
            <a:ext cx="804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1640" indent="-16016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ass of each element by the molar mass and multiply by 1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48360" y="3727440"/>
            <a:ext cx="3052800" cy="2149560"/>
            <a:chOff x="6048360" y="3727440"/>
            <a:chExt cx="3052800" cy="2149560"/>
          </a:xfrm>
        </p:grpSpPr>
        <p:graphicFrame>
          <p:nvGraphicFramePr>
            <p:cNvPr id="324" name=""/>
            <p:cNvGraphicFramePr/>
            <p:nvPr/>
          </p:nvGraphicFramePr>
          <p:xfrm>
            <a:off x="6048360" y="3727440"/>
            <a:ext cx="3052800" cy="2149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360" y="3727440"/>
                      <a:ext cx="3052800" cy="21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6477120" y="4302000"/>
              <a:ext cx="1660320" cy="926280"/>
              <a:chOff x="6477120" y="4302000"/>
              <a:chExt cx="1660320" cy="926280"/>
            </a:xfrm>
          </p:grpSpPr>
          <p:sp>
            <p:nvSpPr>
              <p:cNvPr id="327" name=""/>
              <p:cNvSpPr/>
              <p:nvPr/>
            </p:nvSpPr>
            <p:spPr>
              <a:xfrm>
                <a:off x="7242120" y="4302000"/>
                <a:ext cx="89532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H</a:t>
                </a:r>
                <a:br>
                  <a:rPr sz="2400"/>
                </a:b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5.9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77120" y="4302000"/>
                <a:ext cx="89532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br>
                  <a:rPr sz="2400"/>
                </a:b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94.07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9" name=""/>
          <p:cNvGraphicFramePr/>
          <p:nvPr/>
        </p:nvGraphicFramePr>
        <p:xfrm>
          <a:off x="228600" y="4952880"/>
          <a:ext cx="5886360" cy="14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952880"/>
                    <a:ext cx="58863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28600" y="3200400"/>
          <a:ext cx="577692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200400"/>
                    <a:ext cx="5776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658-8C1F-4C00-B00D-303872226DAF}" type="slidenum">
              <a:t>51</a:t>
            </a:fld>
          </a:p>
        </p:txBody>
      </p:sp>
    </p:spTree>
  </p:cSld>
  <p:transition spd="slow">
    <p:blinds dir="vert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82840" y="2560680"/>
            <a:ext cx="802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ercent Composition 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From Experimental Da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3D2-53F7-4F2E-A4B0-18A03C63C8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composition can be calculated from experimental data without knowing the composition of th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24382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98760" indent="-1598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ass of the compound form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760" indent="-1598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ass of each element by the total mass of the compound and multiply by 1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359-AA53-414F-A1D3-44F4846C32F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9760" y="2451240"/>
            <a:ext cx="9131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alculate the total mass of the compoun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25400" y="301608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52 g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25400" y="370188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3.47 g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17840" y="44197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99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 containing nitrogen and oxygen is found to contain 1.52 g of nitrogen and 3.47 g of oxygen.  Determine its percent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59040" y="4464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total mass of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6BF-F87D-4E08-A2D4-6C8612B9AB7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70000" y="1523880"/>
            <a:ext cx="804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ass of each element by the total mass of the compound form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5960" y="5334120"/>
          <a:ext cx="516096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5334120"/>
                    <a:ext cx="51609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33520" y="3581280"/>
          <a:ext cx="5243400" cy="144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81280"/>
                    <a:ext cx="524340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6049800" y="4110120"/>
            <a:ext cx="2989440" cy="2108160"/>
            <a:chOff x="6049800" y="4110120"/>
            <a:chExt cx="2989440" cy="2108160"/>
          </a:xfrm>
        </p:grpSpPr>
        <p:graphicFrame>
          <p:nvGraphicFramePr>
            <p:cNvPr id="348" name=""/>
            <p:cNvGraphicFramePr/>
            <p:nvPr/>
          </p:nvGraphicFramePr>
          <p:xfrm>
            <a:off x="6049800" y="4110120"/>
            <a:ext cx="2989440" cy="21081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49800" y="4110120"/>
                      <a:ext cx="298944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"/>
            <p:cNvSpPr/>
            <p:nvPr/>
          </p:nvSpPr>
          <p:spPr>
            <a:xfrm>
              <a:off x="7439040" y="4539960"/>
              <a:ext cx="895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N</a:t>
              </a:r>
              <a:br>
                <a:rPr sz="2400"/>
              </a:b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0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16800" y="4559040"/>
              <a:ext cx="895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O</a:t>
              </a:r>
              <a:br>
                <a:rPr sz="2400"/>
              </a:b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69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 containing nitrogen and oxygen is found to contain 1.52 g of nitrogen and 3.47 g of oxygen.  Determine its percent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3D3-5BCA-4409-AE54-014EF331D156}" type="slidenum">
              <a:t>55</a:t>
            </a:fld>
          </a:p>
        </p:txBody>
      </p:sp>
    </p:spTree>
  </p:cSld>
  <p:transition spd="slow">
    <p:blinds dir="vert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4</a:t>
            </a:r>
            <a:br>
              <a:rPr sz="4400"/>
            </a:br>
            <a:r>
              <a:rPr b="0" lang="en-US" sz="6200" spc="-1" strike="noStrike" u="sng">
                <a:solidFill>
                  <a:srgbClr val="cc3399"/>
                </a:solidFill>
                <a:uFillTx/>
                <a:latin typeface="Times New Roman"/>
              </a:rPr>
              <a:t>Empirical Formula versus Molecular Formula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6DC-72B9-4C04-B2A6-C979B5940DD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pirical formul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mplest formul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s the smallest whole-numbe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atoms present in a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65616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pirical formul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s the relative number of atoms of each element present in th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16C-CB85-4B57-A555-4917E1DBAE0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440" y="1213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true formula of a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2585880"/>
            <a:ext cx="80010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represents the total number of atoms of each element present in one molecule of a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A1F-FF8D-4429-B94A-F1DBF7D447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07B-17BD-4435-93FF-3CA90E79854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514600"/>
            <a:ext cx="785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sts have chosen a unit for counting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uni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4000" y="684360"/>
            <a:ext cx="784836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sts require a unit for counting which can  express large numbers of atoms using simp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43a843"/>
              </a:gs>
              <a:gs pos="100000">
                <a:srgbClr val="66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5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cc0000"/>
                </a:solidFill>
                <a:latin typeface="Franklin Gothic Medium"/>
              </a:rPr>
              <a:t>MOLE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F10-9979-42E8-8AE4-C7C5718BBA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792000"/>
            <a:ext cx="151452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320" y="792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0" y="2651040"/>
            <a:ext cx="7543800" cy="926280"/>
            <a:chOff x="0" y="2651040"/>
            <a:chExt cx="7543800" cy="926280"/>
          </a:xfrm>
        </p:grpSpPr>
        <p:sp>
          <p:nvSpPr>
            <p:cNvPr id="364" name=""/>
            <p:cNvSpPr/>
            <p:nvPr/>
          </p:nvSpPr>
          <p:spPr>
            <a:xfrm>
              <a:off x="6248520" y="2651040"/>
              <a:ext cx="1295280" cy="92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2651040"/>
              <a:ext cx="579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Empirical Formul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90360" y="4510080"/>
            <a:ext cx="8596440" cy="1556280"/>
            <a:chOff x="90360" y="4510080"/>
            <a:chExt cx="8596440" cy="1556280"/>
          </a:xfrm>
        </p:grpSpPr>
        <p:sp>
          <p:nvSpPr>
            <p:cNvPr id="367" name=""/>
            <p:cNvSpPr/>
            <p:nvPr/>
          </p:nvSpPr>
          <p:spPr>
            <a:xfrm>
              <a:off x="6248520" y="4988160"/>
              <a:ext cx="24382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C:H  1: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0360" y="4510080"/>
              <a:ext cx="463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Smallest Whole Number Rat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9B8-2C8D-40DA-B154-25BC01C41CE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792000"/>
            <a:ext cx="151452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792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48520" y="2666880"/>
            <a:ext cx="11412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6496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0360" y="4510080"/>
            <a:ext cx="8596440" cy="1556280"/>
            <a:chOff x="90360" y="4510080"/>
            <a:chExt cx="8596440" cy="1556280"/>
          </a:xfrm>
        </p:grpSpPr>
        <p:sp>
          <p:nvSpPr>
            <p:cNvPr id="375" name=""/>
            <p:cNvSpPr/>
            <p:nvPr/>
          </p:nvSpPr>
          <p:spPr>
            <a:xfrm>
              <a:off x="6248520" y="4988160"/>
              <a:ext cx="24382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C:H  1: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360" y="4510080"/>
              <a:ext cx="463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Smallest Whole Number Rat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D9A-299C-48F8-A845-BE6BD614F950}" type="slidenum">
              <a:t>61</a:t>
            </a:fld>
          </a:p>
        </p:txBody>
      </p:sp>
    </p:spTree>
  </p:cSld>
  <p:transition spd="slow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792000"/>
            <a:ext cx="160164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792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51040"/>
            <a:ext cx="11192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65104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4987800"/>
            <a:ext cx="2541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:O  1: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0360" y="4510080"/>
            <a:ext cx="46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allest Whole Number Rat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0AE-B5CF-4E65-A062-EEA1892C29DB}" type="slidenum">
              <a:t>62</a:t>
            </a:fld>
          </a:p>
        </p:txBody>
      </p:sp>
    </p:spTree>
  </p:cSld>
  <p:transition spd="slow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1984320"/>
            <a:ext cx="9144000" cy="28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79F-A0F8-42E0-BFDB-DE26B105C7F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compounds can have identical empirical formulas and different molecular formul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FBE-14DE-4333-9B6E-2E8AF7F973A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254240" y="2249640"/>
            <a:ext cx="6635520" cy="235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A47-AF87-4E92-9488-024DA91CCD3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5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alculating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mpirical Formul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1DF-1932-46E0-B62D-1BC6FB303F2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4000" y="380520"/>
            <a:ext cx="7848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54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ume a definite starting quantity (usually 100.0 g) of the compound, if the actual amount is not given, and express the mass of each element in gr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he grams of each element into moles of each element using each element’s molar m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FA6-A839-4A07-BA68-61295E57114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4000" y="382320"/>
            <a:ext cx="784836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637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oles of atoms of each element by the moles of atoms of the element that had the smallest va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26686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25520" indent="-396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s obtained are whole numbers, use them as subscripts and write the empirical form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25520" indent="-396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s obtained are not whole numbers, go on to step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F44-BA03-48BB-8593-77586CC8680D}" type="slidenum">
              <a:t>68</a:t>
            </a:fld>
          </a:p>
        </p:txBody>
      </p:sp>
    </p:spTree>
  </p:cSld>
  <p:transition spd="slow"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4000" y="382680"/>
            <a:ext cx="78483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587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the values obtained in step 3 by the smallest numbers that will convert them to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281448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152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se whole numbers as the subscripts in the empirical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96560" y="4724280"/>
            <a:ext cx="1550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1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17360" y="5337000"/>
            <a:ext cx="2689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1 x 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1.5 x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8960" y="5337000"/>
            <a:ext cx="1470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31D-DC88-4ED2-9C3B-119084C89AC9}" type="slidenum">
              <a:t>69</a:t>
            </a:fld>
          </a:p>
        </p:txBody>
      </p:sp>
    </p:spTree>
  </p:cSld>
  <p:transition spd="slow">
    <p:blinds dir="vert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93200" y="2971800"/>
            <a:ext cx="8157240" cy="916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1 mole = 6.022 x 10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</a:rPr>
              <a:t>23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A6B-5ADA-415A-A0FC-99319ED63CFC}" type="slidenum">
              <a:t>7</a:t>
            </a:fld>
          </a:p>
        </p:txBody>
      </p:sp>
    </p:spTree>
  </p:cSld>
  <p:transition spd="slow"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sults of calculations may differ from a whole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y differ ±0.1, round off to the next nearest whol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57320" y="31082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.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93440" y="31082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38098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ations greater than 0.1 unit from a whole number usually mean that the calculated ratios have to be multiplied by a whol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24A-4473-4B41-8BE5-8F7A2B0F4D9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4191120" y="5548320"/>
            <a:ext cx="3794040" cy="969840"/>
            <a:chOff x="4191120" y="5548320"/>
            <a:chExt cx="3794040" cy="969840"/>
          </a:xfrm>
        </p:grpSpPr>
        <p:sp>
          <p:nvSpPr>
            <p:cNvPr id="404" name=""/>
            <p:cNvSpPr/>
            <p:nvPr/>
          </p:nvSpPr>
          <p:spPr>
            <a:xfrm>
              <a:off x="4191120" y="5548320"/>
              <a:ext cx="3475080" cy="60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0800" y="6137280"/>
              <a:ext cx="414360" cy="3808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373640" y="5456160"/>
            <a:ext cx="971640" cy="1073160"/>
            <a:chOff x="4373640" y="5456160"/>
            <a:chExt cx="971640" cy="1073160"/>
          </a:xfrm>
        </p:grpSpPr>
        <p:sp>
          <p:nvSpPr>
            <p:cNvPr id="407" name=""/>
            <p:cNvSpPr/>
            <p:nvPr/>
          </p:nvSpPr>
          <p:spPr>
            <a:xfrm>
              <a:off x="4373640" y="5456160"/>
              <a:ext cx="655560" cy="792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8320" y="6148440"/>
              <a:ext cx="696960" cy="3808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511280" y="5467320"/>
            <a:ext cx="939960" cy="1257480"/>
            <a:chOff x="1511280" y="5467320"/>
            <a:chExt cx="939960" cy="1257480"/>
          </a:xfrm>
        </p:grpSpPr>
        <p:sp>
          <p:nvSpPr>
            <p:cNvPr id="410" name=""/>
            <p:cNvSpPr/>
            <p:nvPr/>
          </p:nvSpPr>
          <p:spPr>
            <a:xfrm flipH="1">
              <a:off x="1809720" y="5467320"/>
              <a:ext cx="641520" cy="986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1280" y="6370560"/>
              <a:ext cx="352440" cy="3542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ommon Fractions and Their Decimal Equiva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2240" y="115236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55840" y="725400"/>
            <a:ext cx="184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imal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71760" y="1752480"/>
          <a:ext cx="21564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752480"/>
                    <a:ext cx="2156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577880" y="2800440"/>
          <a:ext cx="20340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7880" y="2800440"/>
                    <a:ext cx="203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1571760" y="3848040"/>
          <a:ext cx="21564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3848040"/>
                    <a:ext cx="2156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571760" y="4896000"/>
          <a:ext cx="21564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4896000"/>
                    <a:ext cx="215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71760" y="5943600"/>
          <a:ext cx="21564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71760" y="5943600"/>
                    <a:ext cx="215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4603320" y="29145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33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03320" y="1866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03680" y="5010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03320" y="605808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2240" y="396252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66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442200" y="725400"/>
            <a:ext cx="2700000" cy="5853240"/>
            <a:chOff x="6442200" y="725400"/>
            <a:chExt cx="2700000" cy="5853240"/>
          </a:xfrm>
        </p:grpSpPr>
        <p:sp>
          <p:nvSpPr>
            <p:cNvPr id="431" name=""/>
            <p:cNvSpPr/>
            <p:nvPr/>
          </p:nvSpPr>
          <p:spPr>
            <a:xfrm>
              <a:off x="6442200" y="725400"/>
              <a:ext cx="270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Resulting Whole</a:t>
              </a:r>
              <a:br>
                <a:rPr sz="2800"/>
              </a:br>
              <a:r>
                <a:rPr b="1" lang="en-US" sz="2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7613640" y="1866960"/>
              <a:ext cx="358920" cy="4711680"/>
              <a:chOff x="7613640" y="1866960"/>
              <a:chExt cx="358920" cy="471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613640" y="1866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13640" y="2914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3640" y="396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13640" y="5010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13640" y="6058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2362320" y="3517920"/>
            <a:ext cx="2133360" cy="19234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y the decimal equivalent by the number in the denominator of the fraction to get a whol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CAE-1A92-4FCB-BDD9-169C906ECD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1E7-18A7-4BF2-BE8C-ACF2D769D7F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alysis of a salt shows that it contains 56.58% potassium (K); 8.68% carbon (C); and 34.73% oxygen (O). Calculate the empirical formula for this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981080"/>
            <a:ext cx="914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xpress each element in grams.  Assume 100 grams of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14880" y="3505320"/>
            <a:ext cx="2514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= 56.58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=   8.68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34.73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93800" y="30240"/>
            <a:ext cx="6518520" cy="5449680"/>
            <a:chOff x="2593800" y="30240"/>
            <a:chExt cx="6518520" cy="5449680"/>
          </a:xfrm>
        </p:grpSpPr>
        <p:sp>
          <p:nvSpPr>
            <p:cNvPr id="444" name=""/>
            <p:cNvSpPr/>
            <p:nvPr/>
          </p:nvSpPr>
          <p:spPr>
            <a:xfrm>
              <a:off x="7734240" y="30240"/>
              <a:ext cx="1378080" cy="533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65560" y="3600360"/>
              <a:ext cx="1498680" cy="533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65560" y="4268880"/>
              <a:ext cx="1498680" cy="533160"/>
            </a:xfrm>
            <a:prstGeom prst="rect">
              <a:avLst/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65560" y="4946760"/>
              <a:ext cx="1498680" cy="53316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31040" y="609480"/>
              <a:ext cx="1377720" cy="37800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93800" y="533520"/>
              <a:ext cx="1157400" cy="533160"/>
            </a:xfrm>
            <a:prstGeom prst="rect">
              <a:avLst/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68A-4837-455E-82CF-257E60B002C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alysis of a salt shows that it contains 56.58% potassium (K); 8.68% carbon (C); and 34.73% oxygen (O). Calculate the empirical formula for this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981080"/>
            <a:ext cx="914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nvert the grams of each element to mo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228600" y="2881440"/>
          <a:ext cx="2511360" cy="51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81440"/>
                    <a:ext cx="2511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749680" y="2590920"/>
          <a:ext cx="3090600" cy="10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9680" y="2590920"/>
                    <a:ext cx="309060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5854680" y="2913120"/>
          <a:ext cx="305748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4680" y="2913120"/>
                    <a:ext cx="305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228600" y="4341960"/>
          <a:ext cx="2238480" cy="51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1960"/>
                    <a:ext cx="22384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2502000" y="4052880"/>
          <a:ext cx="3073320" cy="1093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2000" y="4052880"/>
                    <a:ext cx="30733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5591160" y="4375080"/>
          <a:ext cx="3057480" cy="44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91160" y="4375080"/>
                    <a:ext cx="305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228600" y="5805360"/>
          <a:ext cx="2495520" cy="514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5805360"/>
                    <a:ext cx="24955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2720880" y="5514840"/>
          <a:ext cx="3105360" cy="109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20880" y="5514840"/>
                    <a:ext cx="310536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867280" y="5837400"/>
          <a:ext cx="3090960" cy="449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5837400"/>
                    <a:ext cx="309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2" name=""/>
          <p:cNvGrpSpPr/>
          <p:nvPr/>
        </p:nvGrpSpPr>
        <p:grpSpPr>
          <a:xfrm>
            <a:off x="1660320" y="3071520"/>
            <a:ext cx="3314880" cy="3343680"/>
            <a:chOff x="1660320" y="3071520"/>
            <a:chExt cx="3314880" cy="3343680"/>
          </a:xfrm>
        </p:grpSpPr>
        <p:sp>
          <p:nvSpPr>
            <p:cNvPr id="473" name=""/>
            <p:cNvSpPr/>
            <p:nvPr/>
          </p:nvSpPr>
          <p:spPr>
            <a:xfrm>
              <a:off x="1915920" y="307152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75000" y="336996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60320" y="4503600"/>
              <a:ext cx="70056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480852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7720" y="597996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24240" y="627516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334120" y="4202280"/>
            <a:ext cx="3619440" cy="1545840"/>
            <a:chOff x="5334120" y="4202280"/>
            <a:chExt cx="3619440" cy="1545840"/>
          </a:xfrm>
        </p:grpSpPr>
        <p:sp>
          <p:nvSpPr>
            <p:cNvPr id="480" name=""/>
            <p:cNvSpPr/>
            <p:nvPr/>
          </p:nvSpPr>
          <p:spPr>
            <a:xfrm>
              <a:off x="5334120" y="4922640"/>
              <a:ext cx="361944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 has the smallest number of 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334120" y="4202280"/>
              <a:ext cx="3619440" cy="793440"/>
              <a:chOff x="5334120" y="4202280"/>
              <a:chExt cx="3619440" cy="793440"/>
            </a:xfrm>
          </p:grpSpPr>
          <p:sp>
            <p:nvSpPr>
              <p:cNvPr id="482" name=""/>
              <p:cNvSpPr/>
              <p:nvPr/>
            </p:nvSpPr>
            <p:spPr>
              <a:xfrm>
                <a:off x="5334120" y="4202280"/>
                <a:ext cx="3619440" cy="793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83" name=""/>
              <p:cNvGraphicFramePr/>
              <p:nvPr/>
            </p:nvGraphicFramePr>
            <p:xfrm>
              <a:off x="5565960" y="4373280"/>
              <a:ext cx="3157560" cy="44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84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565960" y="4373280"/>
                        <a:ext cx="3157560" cy="44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7DA-6237-474E-8831-28C1C4F78BEE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alysis of a salt shows that it contains 56.58% potassium (K); 8.68% carbon (C); and 34.73% oxygen (O). Calculate the empirical formula for this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1981080"/>
            <a:ext cx="9142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e each number of moles by the smalles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696960" y="3048120"/>
          <a:ext cx="36543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960" y="3048120"/>
                    <a:ext cx="3654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5051520" y="3048120"/>
          <a:ext cx="339552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1520" y="3048120"/>
                    <a:ext cx="33955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96960" y="4267080"/>
          <a:ext cx="365436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6960" y="4267080"/>
                    <a:ext cx="36543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649440" y="5562720"/>
            <a:ext cx="639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st ratio of K:C:O is 2:1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rical formula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568680" y="3322800"/>
            <a:ext cx="1479600" cy="3473280"/>
            <a:chOff x="3568680" y="3322800"/>
            <a:chExt cx="1479600" cy="3473280"/>
          </a:xfrm>
        </p:grpSpPr>
        <p:sp>
          <p:nvSpPr>
            <p:cNvPr id="497" name=""/>
            <p:cNvSpPr/>
            <p:nvPr/>
          </p:nvSpPr>
          <p:spPr>
            <a:xfrm>
              <a:off x="3568680" y="4535640"/>
              <a:ext cx="838080" cy="37764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43360" y="6415200"/>
              <a:ext cx="304920" cy="38088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68680" y="3322800"/>
              <a:ext cx="841320" cy="377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62240" y="6415200"/>
              <a:ext cx="24768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915080" y="4038480"/>
            <a:ext cx="3619440" cy="1546560"/>
            <a:chOff x="4915080" y="4038480"/>
            <a:chExt cx="3619440" cy="1546560"/>
          </a:xfrm>
        </p:grpSpPr>
        <p:sp>
          <p:nvSpPr>
            <p:cNvPr id="502" name=""/>
            <p:cNvSpPr/>
            <p:nvPr/>
          </p:nvSpPr>
          <p:spPr>
            <a:xfrm>
              <a:off x="4915080" y="4759560"/>
              <a:ext cx="361944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 has the smallest number of 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915080" y="4038480"/>
              <a:ext cx="3619440" cy="793800"/>
              <a:chOff x="4915080" y="4038480"/>
              <a:chExt cx="3619440" cy="793800"/>
            </a:xfrm>
          </p:grpSpPr>
          <p:sp>
            <p:nvSpPr>
              <p:cNvPr id="504" name=""/>
              <p:cNvSpPr/>
              <p:nvPr/>
            </p:nvSpPr>
            <p:spPr>
              <a:xfrm>
                <a:off x="4915080" y="4038480"/>
                <a:ext cx="3619440" cy="793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05" name=""/>
              <p:cNvGraphicFramePr/>
              <p:nvPr/>
            </p:nvGraphicFramePr>
            <p:xfrm>
              <a:off x="5146920" y="4209840"/>
              <a:ext cx="3157560" cy="449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0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146920" y="4209840"/>
                        <a:ext cx="3157560" cy="44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966-B35B-439B-AF12-78ACB1B535C0}" type="slidenum">
              <a:t>75</a:t>
            </a:fld>
          </a:p>
        </p:txBody>
      </p:sp>
    </p:spTree>
  </p:cSld>
  <p:transition spd="slow">
    <p:blinds dir="ver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981080"/>
            <a:ext cx="914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xpress each element in grams.  Assume 100 grams of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14880" y="3505320"/>
            <a:ext cx="285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25.94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74.06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51000" y="82440"/>
            <a:ext cx="5402520" cy="4583160"/>
            <a:chOff x="3051000" y="82440"/>
            <a:chExt cx="5402520" cy="4583160"/>
          </a:xfrm>
        </p:grpSpPr>
        <p:sp>
          <p:nvSpPr>
            <p:cNvPr id="512" name=""/>
            <p:cNvSpPr/>
            <p:nvPr/>
          </p:nvSpPr>
          <p:spPr>
            <a:xfrm>
              <a:off x="7075440" y="82440"/>
              <a:ext cx="1378080" cy="533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51000" y="566640"/>
              <a:ext cx="1378080" cy="53352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0520" y="3584520"/>
              <a:ext cx="1368360" cy="1081080"/>
              <a:chOff x="4070520" y="3584520"/>
              <a:chExt cx="1368360" cy="108108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0520" y="3584520"/>
                <a:ext cx="1368360" cy="4795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0520" y="4186080"/>
                <a:ext cx="1368360" cy="479520"/>
              </a:xfrm>
              <a:prstGeom prst="rect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4D3-5205-4245-97A2-BD8FEFBCAA9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1981080"/>
            <a:ext cx="914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nvert the grams of each element to mo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12760" y="3279600"/>
          <a:ext cx="25430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3279600"/>
                    <a:ext cx="25430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741760" y="2989440"/>
          <a:ext cx="3106440" cy="10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1760" y="2989440"/>
                    <a:ext cx="310644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5854680" y="3311640"/>
          <a:ext cx="305748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4680" y="3311640"/>
                    <a:ext cx="305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12760" y="4757760"/>
          <a:ext cx="2495520" cy="51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760" y="4757760"/>
                    <a:ext cx="24955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741760" y="4468680"/>
          <a:ext cx="3105000" cy="109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1760" y="4468680"/>
                    <a:ext cx="31050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5862600" y="4791240"/>
          <a:ext cx="30733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2600" y="4791240"/>
                    <a:ext cx="30733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1903320" y="3470040"/>
            <a:ext cx="3087720" cy="1889640"/>
            <a:chOff x="1903320" y="3470040"/>
            <a:chExt cx="3087720" cy="1889640"/>
          </a:xfrm>
        </p:grpSpPr>
        <p:sp>
          <p:nvSpPr>
            <p:cNvPr id="533" name=""/>
            <p:cNvSpPr/>
            <p:nvPr/>
          </p:nvSpPr>
          <p:spPr>
            <a:xfrm>
              <a:off x="1915920" y="347004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75000" y="376848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903320" y="492120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90840" y="521964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E7C-D9ED-41D7-8B82-F76474251E8E}" type="slidenum">
              <a:t>77</a:t>
            </a:fld>
          </a:p>
        </p:txBody>
      </p:sp>
    </p:spTree>
  </p:cSld>
  <p:transition spd="slow">
    <p:blinds dir="vert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982880"/>
            <a:ext cx="914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e each number of moles by the smalles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608040" y="3281400"/>
          <a:ext cx="383220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040" y="3281400"/>
                    <a:ext cx="38322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4930920" y="3281400"/>
          <a:ext cx="363672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0920" y="3281400"/>
                    <a:ext cx="363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371600" y="3514680"/>
            <a:ext cx="7210440" cy="1895400"/>
            <a:chOff x="1371600" y="3514680"/>
            <a:chExt cx="7210440" cy="1895400"/>
          </a:xfrm>
        </p:grpSpPr>
        <p:sp>
          <p:nvSpPr>
            <p:cNvPr id="547" name=""/>
            <p:cNvSpPr/>
            <p:nvPr/>
          </p:nvSpPr>
          <p:spPr>
            <a:xfrm>
              <a:off x="1371600" y="4876920"/>
              <a:ext cx="6400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1654200" indent="-1654200">
                <a:spcBef>
                  <a:spcPts val="7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is is not a ratio of whole numbe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98840" y="3514680"/>
              <a:ext cx="990720" cy="4539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91320" y="3514680"/>
              <a:ext cx="990720" cy="4539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C4E-D6FC-4B7C-8137-CA5731FB29DF}" type="slidenum">
              <a:t>78</a:t>
            </a:fld>
          </a:p>
        </p:txBody>
      </p:sp>
    </p:spTree>
  </p:cSld>
  <p:transition spd="slow">
    <p:blinds dir="vert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459160" y="2057400"/>
            <a:ext cx="4570200" cy="1917720"/>
            <a:chOff x="2459160" y="2057400"/>
            <a:chExt cx="4570200" cy="1917720"/>
          </a:xfrm>
        </p:grpSpPr>
        <p:sp>
          <p:nvSpPr>
            <p:cNvPr id="551" name=""/>
            <p:cNvSpPr/>
            <p:nvPr/>
          </p:nvSpPr>
          <p:spPr>
            <a:xfrm flipH="1">
              <a:off x="2514600" y="2475000"/>
              <a:ext cx="4122720" cy="109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9400" y="2438280"/>
              <a:ext cx="339840" cy="128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46960" y="2057400"/>
              <a:ext cx="228600" cy="4539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59160" y="3521160"/>
              <a:ext cx="228600" cy="4539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00760" y="3521160"/>
              <a:ext cx="228600" cy="4539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1982880"/>
            <a:ext cx="914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ultiply each of the values by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24160" y="487980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rical formula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34448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: (1.000)2 = 2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0600" y="34466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: (2.500)2 = 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067200" y="3500280"/>
            <a:ext cx="5322600" cy="1962360"/>
            <a:chOff x="3067200" y="3500280"/>
            <a:chExt cx="5322600" cy="1962360"/>
          </a:xfrm>
        </p:grpSpPr>
        <p:grpSp>
          <p:nvGrpSpPr>
            <p:cNvPr id="562" name=""/>
            <p:cNvGrpSpPr/>
            <p:nvPr/>
          </p:nvGrpSpPr>
          <p:grpSpPr>
            <a:xfrm>
              <a:off x="3067200" y="3500280"/>
              <a:ext cx="5322600" cy="482760"/>
              <a:chOff x="3067200" y="3500280"/>
              <a:chExt cx="5322600" cy="482760"/>
            </a:xfrm>
          </p:grpSpPr>
          <p:sp>
            <p:nvSpPr>
              <p:cNvPr id="563" name=""/>
              <p:cNvSpPr/>
              <p:nvPr/>
            </p:nvSpPr>
            <p:spPr>
              <a:xfrm>
                <a:off x="3067200" y="3529080"/>
                <a:ext cx="990360" cy="4539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99440" y="3500280"/>
                <a:ext cx="990360" cy="454320"/>
              </a:xfrm>
              <a:prstGeom prst="rect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735520" y="5195880"/>
              <a:ext cx="671760" cy="266760"/>
              <a:chOff x="5735520" y="5195880"/>
              <a:chExt cx="671760" cy="266760"/>
            </a:xfrm>
          </p:grpSpPr>
          <p:sp>
            <p:nvSpPr>
              <p:cNvPr id="566" name=""/>
              <p:cNvSpPr/>
              <p:nvPr/>
            </p:nvSpPr>
            <p:spPr>
              <a:xfrm>
                <a:off x="5735520" y="5195880"/>
                <a:ext cx="247680" cy="2667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59600" y="5195880"/>
                <a:ext cx="247680" cy="266760"/>
              </a:xfrm>
              <a:prstGeom prst="rect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232-5F7E-40C4-AB53-BF923913E35C}" type="slidenum">
              <a:t>79</a:t>
            </a:fld>
          </a:p>
        </p:txBody>
      </p:sp>
    </p:spTree>
  </p:cSld>
  <p:transition spd="slow">
    <p:blinds dir="vert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480" y="2208960"/>
            <a:ext cx="8286840" cy="32637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cc0000"/>
                </a:solidFill>
                <a:latin typeface="Franklin Gothic Medium"/>
              </a:rPr>
              <a:t>LARGE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1760"/>
            <a:ext cx="91425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80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is a v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5120" y="5226120"/>
            <a:ext cx="1733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96E-75A9-407C-8F22-E1D94681FD20}" type="slidenum">
              <a:t>8</a:t>
            </a:fld>
          </a:p>
        </p:txBody>
      </p:sp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7.6</a:t>
            </a:r>
            <a:br>
              <a:rPr sz="3200"/>
            </a:br>
            <a:r>
              <a:rPr b="0" lang="en-US" sz="4600" spc="-1" strike="noStrike" u="sng">
                <a:solidFill>
                  <a:srgbClr val="cc3399"/>
                </a:solidFill>
                <a:uFillTx/>
                <a:latin typeface="Times New Roman"/>
              </a:rPr>
              <a:t>Calculating the Molecular Formula from the Empirical Formu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AE3-9A5E-44DF-A95C-D7186F3F0092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ecular formula can be calculated from the empirical formula if the molar mass is kn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828800"/>
            <a:ext cx="8839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ecular formula will be equal to the empirical formula or some multiple,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of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etermine the molecular formula evaluat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number of units of the empirical formula contained in the molecular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93840" y="5562720"/>
            <a:ext cx="8354880" cy="1031760"/>
            <a:chOff x="393840" y="5562720"/>
            <a:chExt cx="8354880" cy="1031760"/>
          </a:xfrm>
        </p:grpSpPr>
        <p:graphicFrame>
          <p:nvGraphicFramePr>
            <p:cNvPr id="573" name=""/>
            <p:cNvGraphicFramePr/>
            <p:nvPr/>
          </p:nvGraphicFramePr>
          <p:xfrm>
            <a:off x="393840" y="5562720"/>
            <a:ext cx="5138640" cy="103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5562720"/>
                      <a:ext cx="513864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5" name=""/>
            <p:cNvGraphicFramePr/>
            <p:nvPr/>
          </p:nvGraphicFramePr>
          <p:xfrm>
            <a:off x="5532480" y="6070680"/>
            <a:ext cx="2175120" cy="42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6070680"/>
                      <a:ext cx="21751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7" name=""/>
            <p:cNvGraphicFramePr/>
            <p:nvPr/>
          </p:nvGraphicFramePr>
          <p:xfrm>
            <a:off x="5532480" y="5657760"/>
            <a:ext cx="3216240" cy="48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32480" y="5657760"/>
                      <a:ext cx="321624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FAD-B8E6-417D-9234-CBABF3E0B25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10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157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lecular formula of a compound which has an empirical formula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molar mass of 126.2 g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ecular formula is 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503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7360" indent="-1827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n = the number of formula units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2133720"/>
            <a:ext cx="6172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ass of each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 = 1(12.01 g) = 12.01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 = 2(1.01 g) =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02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03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5800" y="4419720"/>
          <a:ext cx="71294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1294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5" name=""/>
          <p:cNvGrpSpPr/>
          <p:nvPr/>
        </p:nvGrpSpPr>
        <p:grpSpPr>
          <a:xfrm>
            <a:off x="3156120" y="4734000"/>
            <a:ext cx="3008160" cy="1568520"/>
            <a:chOff x="3156120" y="4734000"/>
            <a:chExt cx="3008160" cy="1568520"/>
          </a:xfrm>
        </p:grpSpPr>
        <p:sp>
          <p:nvSpPr>
            <p:cNvPr id="586" name=""/>
            <p:cNvSpPr/>
            <p:nvPr/>
          </p:nvSpPr>
          <p:spPr>
            <a:xfrm>
              <a:off x="5880240" y="6018120"/>
              <a:ext cx="284040" cy="2844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56120" y="4734000"/>
              <a:ext cx="393480" cy="3934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5400" y="1046160"/>
            <a:ext cx="2663640" cy="3889440"/>
            <a:chOff x="95400" y="1046160"/>
            <a:chExt cx="2663640" cy="3889440"/>
          </a:xfrm>
        </p:grpSpPr>
        <p:sp>
          <p:nvSpPr>
            <p:cNvPr id="589" name=""/>
            <p:cNvSpPr/>
            <p:nvPr/>
          </p:nvSpPr>
          <p:spPr>
            <a:xfrm>
              <a:off x="95400" y="1046160"/>
              <a:ext cx="1223640" cy="495360"/>
            </a:xfrm>
            <a:prstGeom prst="rect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87520" y="4440240"/>
              <a:ext cx="1271520" cy="495360"/>
            </a:xfrm>
            <a:prstGeom prst="rect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486080" y="3952800"/>
            <a:ext cx="4081320" cy="1571760"/>
            <a:chOff x="1486080" y="3952800"/>
            <a:chExt cx="4081320" cy="1571760"/>
          </a:xfrm>
        </p:grpSpPr>
        <p:sp>
          <p:nvSpPr>
            <p:cNvPr id="592" name=""/>
            <p:cNvSpPr/>
            <p:nvPr/>
          </p:nvSpPr>
          <p:spPr>
            <a:xfrm>
              <a:off x="4343400" y="3952800"/>
              <a:ext cx="1224000" cy="495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86080" y="5029200"/>
              <a:ext cx="1271520" cy="495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9D5-133B-43C0-A8F5-4093176A18A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F2E-8D5E-41CD-8F76-0628A361E469}" type="slidenum">
              <a:t>83</a:t>
            </a:fld>
          </a:p>
        </p:txBody>
      </p:sp>
    </p:spTree>
  </p:cSld>
  <p:transition spd="slow">
    <p:blinds dir="vert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1760"/>
            <a:ext cx="91425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80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05120" y="5226120"/>
            <a:ext cx="1733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285480" y="2772720"/>
            <a:ext cx="9713520" cy="131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Franklin Gothic Medium"/>
              </a:rPr>
              <a:t>Avogadro’s Numb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605-2F30-4556-BC8B-9A80DC0AE7AB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8:51:47Z</dcterms:modified>
  <cp:revision>708</cp:revision>
  <dc:subject/>
  <dc:title>Hein and Arena</dc:title>
</cp:coreProperties>
</file>