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41.jpeg" ContentType="image/jpeg"/>
  <Override PartName="/ppt/media/image1.jpeg" ContentType="image/jpeg"/>
  <Override PartName="/ppt/media/image50.wmf" ContentType="image/x-wmf"/>
  <Override PartName="/ppt/media/image2.png" ContentType="image/png"/>
  <Override PartName="/ppt/media/image23.wmf" ContentType="image/x-wmf"/>
  <Override PartName="/ppt/media/image51.jpeg" ContentType="image/jpeg"/>
  <Override PartName="/ppt/media/image9.jpeg" ContentType="image/jpeg"/>
  <Override PartName="/ppt/media/image11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.png" ContentType="image/png"/>
  <Override PartName="/ppt/media/image35.wmf" ContentType="image/x-wmf"/>
  <Override PartName="/ppt/media/image47.wmf" ContentType="image/x-wmf"/>
  <Override PartName="/ppt/media/image4.png" ContentType="image/png"/>
  <Override PartName="/ppt/media/image36.wmf" ContentType="image/x-wmf"/>
  <Override PartName="/ppt/media/image48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52.jpeg" ContentType="image/jpeg"/>
  <Override PartName="/ppt/media/image33.wmf" ContentType="image/x-wmf"/>
  <Override PartName="/ppt/media/image30.wmf" ContentType="image/x-wmf"/>
  <Override PartName="/ppt/media/image28.wmf" ContentType="image/x-wmf"/>
  <Override PartName="/ppt/media/image29.wmf" ContentType="image/x-wmf"/>
  <Override PartName="/ppt/media/image7.jpeg" ContentType="image/jpeg"/>
  <Override PartName="/ppt/media/image31.wmf" ContentType="image/x-wmf"/>
  <Override PartName="/ppt/media/image12.wmf" ContentType="image/x-wmf"/>
  <Override PartName="/ppt/media/image49.wmf" ContentType="image/x-wmf"/>
  <Override PartName="/ppt/media/image13.jpeg" ContentType="image/jpeg"/>
  <Override PartName="/ppt/media/image4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214-CF4F-4623-9BC7-83ED4437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451-AD3F-4FFE-803D-E1390220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844-5E35-497E-BA24-DD0D780E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BAD-FF7A-4233-A8A5-E2C60701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D5C-E96A-4A8D-8FB4-1E783B5E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BCE-7058-43B8-831C-F2AD382C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4D2-4CB3-4CA6-B3A2-1978448F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F9FC-69DB-4B39-B778-D2429231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3E29-AE5C-456A-8658-FF8DD032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DE7-FAAE-4048-BEA0-29A9120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C85-991D-4E34-81D9-529DCA9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50D-6D82-4325-AB67-F02B383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2937B0F-F9CC-4CC6-8887-84D74059CD60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:34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9962-2A71-4D14-9E74-788DCC3B4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" Target="slide12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" Target="slide12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34.xml"/><Relationship Id="rId5" Type="http://schemas.openxmlformats.org/officeDocument/2006/relationships/slide" Target="slide34.xml"/><Relationship Id="rId6" Type="http://schemas.openxmlformats.org/officeDocument/2006/relationships/slide" Target="slide40.xml"/><Relationship Id="rId7" Type="http://schemas.openxmlformats.org/officeDocument/2006/relationships/slide" Target="slide110.xml"/><Relationship Id="rId8" Type="http://schemas.openxmlformats.org/officeDocument/2006/relationships/slide" Target="slide110.xml"/><Relationship Id="rId9" Type="http://schemas.openxmlformats.org/officeDocument/2006/relationships/slide" Target="slide129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menclature of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organic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6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7CD-5E05-40CC-8A5C-BB0451E8A8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52532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ulfur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Phosphorous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716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elements are commonly polyatom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630-F54A-4DD2-8CB8-68B5F051DBEB}" type="slidenum">
              <a:t>10</a:t>
            </a:fld>
          </a:p>
        </p:txBody>
      </p:sp>
    </p:spTree>
  </p:cSld>
  <p:transition spd="slow"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96D-EF0C-4C05-9626-CCED6FC1B0F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chlor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D52-BCE0-4998-AD74-887ABC15F623}" type="slidenum">
              <a:t>101</a:t>
            </a:fld>
          </a:p>
        </p:txBody>
      </p:sp>
    </p:spTree>
  </p:cSld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chlor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E53-867F-4DD1-9B1A-48BC5484AA52}" type="slidenum">
              <a:t>102</a:t>
            </a:fld>
          </a:p>
        </p:txBody>
      </p:sp>
    </p:spTree>
  </p:cSld>
  <p:transition spd="slow">
    <p:blinds dir="vert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iod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87B0-3DA8-4301-8965-90C483B64247}" type="slidenum">
              <a:t>103</a:t>
            </a:fld>
          </a:p>
        </p:txBody>
      </p:sp>
    </p:spTree>
  </p:cSld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0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iod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8E2-FEB7-4E9D-A3E6-852EBC473DCB}" type="slidenum">
              <a:t>104</a:t>
            </a:fld>
          </a:p>
        </p:txBody>
      </p:sp>
    </p:spTree>
  </p:cSld>
  <p:transition spd="slow">
    <p:blinds dir="vert"/>
  </p:transition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0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sulf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2B2-89A2-4B5B-8B34-17D031FAB9B9}" type="slidenum">
              <a:t>105</a:t>
            </a:fld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0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sulfur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7C9-4A7F-4DFD-8A2B-454A5E66441C}" type="slidenum">
              <a:t>106</a:t>
            </a:fld>
          </a:p>
        </p:txBody>
      </p:sp>
    </p:spTree>
  </p:cSld>
  <p:transition spd="slow">
    <p:blinds dir="vert"/>
  </p:transition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3cc33"/>
                </a:solidFill>
                <a:latin typeface="Arial"/>
              </a:rPr>
              <a:t>hydrogen selen</a:t>
            </a:r>
            <a:r>
              <a:rPr b="0" lang="en-US" sz="6400" spc="-1" strike="noStrike" u="sng">
                <a:solidFill>
                  <a:srgbClr val="33cc33"/>
                </a:solidFill>
                <a:uFillTx/>
                <a:latin typeface="Arial"/>
              </a:rPr>
              <a:t>id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ff"/>
                </a:solidFill>
                <a:uFillTx/>
                <a:latin typeface="Times New Roman"/>
              </a:rPr>
              <a:t>Pure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CC6-0DA1-42F7-986A-B3B498602B00}" type="slidenum">
              <a:t>107</a:t>
            </a:fld>
          </a:p>
        </p:txBody>
      </p:sp>
    </p:spTree>
  </p:cSld>
  <p:transition spd="slow">
    <p:blinds dir="vert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hydro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selen</a:t>
            </a:r>
            <a:r>
              <a:rPr b="0" lang="en-US" sz="6400" spc="-1" strike="noStrike" u="sng">
                <a:solidFill>
                  <a:srgbClr val="0033cc"/>
                </a:solidFill>
                <a:uFillTx/>
                <a:latin typeface="Arial"/>
              </a:rPr>
              <a:t>ic</a:t>
            </a:r>
            <a:r>
              <a:rPr b="0" lang="en-US" sz="6400" spc="-1" strike="noStrike">
                <a:solidFill>
                  <a:srgbClr val="0033cc"/>
                </a:solidFill>
                <a:latin typeface="Arial"/>
              </a:rPr>
              <a:t> acid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8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Dissolved in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919-FF79-4AEE-95B4-F706F6E0CC55}" type="slidenum">
              <a:t>108</a:t>
            </a:fld>
          </a:p>
        </p:txBody>
      </p:sp>
    </p:spTree>
  </p:cSld>
  <p:transition spd="slow">
    <p:blinds dir="vert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531720" y="776160"/>
            <a:ext cx="8080560" cy="530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9BB-4788-431D-9DB3-1C07098F8EE9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D9E-1408-4B1C-A56C-EBCC79DD4190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6.5</a:t>
            </a:r>
            <a:br>
              <a:rPr sz="4000"/>
            </a:br>
            <a:r>
              <a:rPr b="1" lang="en-US" sz="5300" spc="-1" strike="noStrike" u="sng">
                <a:solidFill>
                  <a:srgbClr val="cc3399"/>
                </a:solidFill>
                <a:uFillTx/>
                <a:latin typeface="Times New Roman"/>
              </a:rPr>
              <a:t>Naming Compounds Containing Polyatomic Ions</a:t>
            </a: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5C7-884D-4A88-80A5-BF2FE46D1658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lyatomic ion is an ion tha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s two or more element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813120" y="3657600"/>
          <a:ext cx="151776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3120" y="3657600"/>
                    <a:ext cx="15177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D00-8A4F-4B4F-89CE-472983D6A359}" type="slidenum">
              <a:t>111</a:t>
            </a:fld>
          </a:p>
        </p:txBody>
      </p:sp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3836880" y="3178080"/>
            <a:ext cx="3792600" cy="2592360"/>
            <a:chOff x="3836880" y="3178080"/>
            <a:chExt cx="3792600" cy="2592360"/>
          </a:xfrm>
        </p:grpSpPr>
        <p:sp>
          <p:nvSpPr>
            <p:cNvPr id="607" name=""/>
            <p:cNvSpPr/>
            <p:nvPr/>
          </p:nvSpPr>
          <p:spPr>
            <a:xfrm>
              <a:off x="3836880" y="3178080"/>
              <a:ext cx="3792600" cy="5270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514760" y="4824360"/>
              <a:ext cx="1378080" cy="9460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255840" y="2646360"/>
            <a:ext cx="5586480" cy="3129120"/>
            <a:chOff x="3255840" y="2646360"/>
            <a:chExt cx="5586480" cy="3129120"/>
          </a:xfrm>
        </p:grpSpPr>
        <p:sp>
          <p:nvSpPr>
            <p:cNvPr id="610" name=""/>
            <p:cNvSpPr/>
            <p:nvPr/>
          </p:nvSpPr>
          <p:spPr>
            <a:xfrm>
              <a:off x="7451640" y="2646360"/>
              <a:ext cx="1390680" cy="46836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55840" y="4824360"/>
              <a:ext cx="1011240" cy="95112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12" name=""/>
          <p:cNvGraphicFramePr/>
          <p:nvPr/>
        </p:nvGraphicFramePr>
        <p:xfrm>
          <a:off x="3228840" y="4838760"/>
          <a:ext cx="268632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4838760"/>
                    <a:ext cx="2686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" name=""/>
          <p:cNvSpPr/>
          <p:nvPr/>
        </p:nvSpPr>
        <p:spPr>
          <a:xfrm>
            <a:off x="266760" y="25146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usually consist of one or more cations combined with a negative polyatomic 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266760" y="1062000"/>
            <a:ext cx="857232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s containing polyatomic ions are composed of three or more el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E42-B4EE-477F-AE88-4CBED36AAF05}" type="slidenum">
              <a:t>112</a:t>
            </a:fld>
          </a:p>
        </p:txBody>
      </p:sp>
    </p:spTree>
  </p:cSld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9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4495680" y="2278080"/>
            <a:ext cx="1397160" cy="2608200"/>
            <a:chOff x="4495680" y="2278080"/>
            <a:chExt cx="1397160" cy="2608200"/>
          </a:xfrm>
        </p:grpSpPr>
        <p:sp>
          <p:nvSpPr>
            <p:cNvPr id="617" name=""/>
            <p:cNvSpPr/>
            <p:nvPr/>
          </p:nvSpPr>
          <p:spPr>
            <a:xfrm>
              <a:off x="4495680" y="2278080"/>
              <a:ext cx="1106640" cy="52704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14760" y="3940200"/>
              <a:ext cx="1378080" cy="9460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255840" y="1741320"/>
            <a:ext cx="4105440" cy="3149640"/>
            <a:chOff x="3255840" y="1741320"/>
            <a:chExt cx="4105440" cy="3149640"/>
          </a:xfrm>
        </p:grpSpPr>
        <p:sp>
          <p:nvSpPr>
            <p:cNvPr id="620" name=""/>
            <p:cNvSpPr/>
            <p:nvPr/>
          </p:nvSpPr>
          <p:spPr>
            <a:xfrm>
              <a:off x="6165720" y="1741320"/>
              <a:ext cx="1195560" cy="5270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55840" y="3939840"/>
              <a:ext cx="1011240" cy="95112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2" name=""/>
          <p:cNvGraphicFramePr/>
          <p:nvPr/>
        </p:nvGraphicFramePr>
        <p:xfrm>
          <a:off x="3228840" y="3954600"/>
          <a:ext cx="268632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8840" y="3954600"/>
                    <a:ext cx="26863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"/>
          <p:cNvSpPr/>
          <p:nvPr/>
        </p:nvSpPr>
        <p:spPr>
          <a:xfrm>
            <a:off x="2590920" y="528804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d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85800" y="1096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naming a compound containing a polyatomic ion, name the cation first and then name the a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8FAF-9D11-47B0-8444-276F02415013}" type="slidenum">
              <a:t>113</a:t>
            </a:fld>
          </a:p>
        </p:txBody>
      </p:sp>
    </p:spTree>
  </p:cSld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1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3152880" y="1757520"/>
          <a:ext cx="26226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2880" y="1757520"/>
                    <a:ext cx="26226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8" name=""/>
          <p:cNvGrpSpPr/>
          <p:nvPr/>
        </p:nvGrpSpPr>
        <p:grpSpPr>
          <a:xfrm>
            <a:off x="2538360" y="2514600"/>
            <a:ext cx="4314960" cy="3187440"/>
            <a:chOff x="2538360" y="2514600"/>
            <a:chExt cx="4314960" cy="3187440"/>
          </a:xfrm>
        </p:grpSpPr>
        <p:graphicFrame>
          <p:nvGraphicFramePr>
            <p:cNvPr id="629" name=""/>
            <p:cNvGraphicFramePr/>
            <p:nvPr/>
          </p:nvGraphicFramePr>
          <p:xfrm>
            <a:off x="2538360" y="3713040"/>
            <a:ext cx="101124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38360" y="3713040"/>
                      <a:ext cx="101124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4800600" y="3713040"/>
            <a:ext cx="2052720" cy="107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800600" y="3713040"/>
                      <a:ext cx="205272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3" name=""/>
            <p:cNvSpPr/>
            <p:nvPr/>
          </p:nvSpPr>
          <p:spPr>
            <a:xfrm flipH="1">
              <a:off x="2939760" y="2514600"/>
              <a:ext cx="60948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073480" y="2514600"/>
              <a:ext cx="609840" cy="1371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933640" y="4876560"/>
              <a:ext cx="30481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ions are what i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ly pres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908440" y="698400"/>
            <a:ext cx="304776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wa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is 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622-EDC8-4CBB-A28D-F81A68097771}" type="slidenum">
              <a:t>114</a:t>
            </a:fld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0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011400" y="698400"/>
            <a:ext cx="3048120" cy="82548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wa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is 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3219480" y="1754280"/>
          <a:ext cx="268596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9480" y="1754280"/>
                    <a:ext cx="26859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0" name=""/>
          <p:cNvGrpSpPr/>
          <p:nvPr/>
        </p:nvGrpSpPr>
        <p:grpSpPr>
          <a:xfrm>
            <a:off x="1922400" y="2506680"/>
            <a:ext cx="4935600" cy="3195360"/>
            <a:chOff x="1922400" y="2506680"/>
            <a:chExt cx="4935600" cy="3195360"/>
          </a:xfrm>
        </p:grpSpPr>
        <p:sp>
          <p:nvSpPr>
            <p:cNvPr id="641" name=""/>
            <p:cNvSpPr/>
            <p:nvPr/>
          </p:nvSpPr>
          <p:spPr>
            <a:xfrm>
              <a:off x="2933640" y="4876560"/>
              <a:ext cx="3048120" cy="8254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ions are what i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ually presen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2" name=""/>
            <p:cNvGraphicFramePr/>
            <p:nvPr/>
          </p:nvGraphicFramePr>
          <p:xfrm>
            <a:off x="1922400" y="3649680"/>
            <a:ext cx="1736640" cy="88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2400" y="3649680"/>
                      <a:ext cx="173664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4" name=""/>
            <p:cNvGraphicFramePr/>
            <p:nvPr/>
          </p:nvGraphicFramePr>
          <p:xfrm>
            <a:off x="5248440" y="3649680"/>
            <a:ext cx="1609560" cy="1076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48440" y="3649680"/>
                      <a:ext cx="160956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6" name=""/>
            <p:cNvSpPr/>
            <p:nvPr/>
          </p:nvSpPr>
          <p:spPr>
            <a:xfrm flipH="1">
              <a:off x="3038400" y="2506680"/>
              <a:ext cx="60984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72120" y="2506680"/>
              <a:ext cx="609480" cy="1371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DB5E-115F-4F90-A726-B20D12C7E1B6}" type="slidenum">
              <a:t>115</a:t>
            </a:fld>
          </a:p>
        </p:txBody>
      </p:sp>
    </p:spTree>
  </p:cSld>
  <p:transition spd="slow">
    <p:blinds dir="vert"/>
  </p:transition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fill="hold">
                      <p:stCondLst>
                        <p:cond delay="0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efixes and Suffixes</a:t>
            </a:r>
            <a:br>
              <a:rPr sz="5400"/>
            </a:br>
            <a:br>
              <a:rPr sz="5400"/>
            </a:br>
            <a:r>
              <a:rPr b="0" lang="en-US" sz="4400" spc="-1" strike="noStrike" u="sng">
                <a:solidFill>
                  <a:srgbClr val="008000"/>
                </a:solidFill>
                <a:uFillTx/>
                <a:latin typeface="Palatino Linotype"/>
              </a:rPr>
              <a:t>Elements that Form More than One Polyatomic Ion with 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CF8-A520-41FF-9BCE-D9D7F74A702A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1031760" y="611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549760" y="2585880"/>
            <a:ext cx="1593720" cy="1689120"/>
            <a:chOff x="5549760" y="2585880"/>
            <a:chExt cx="1593720" cy="1689120"/>
          </a:xfrm>
        </p:grpSpPr>
        <p:sp>
          <p:nvSpPr>
            <p:cNvPr id="651" name=""/>
            <p:cNvSpPr/>
            <p:nvPr/>
          </p:nvSpPr>
          <p:spPr>
            <a:xfrm>
              <a:off x="5549760" y="2585880"/>
              <a:ext cx="159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nit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2" name=""/>
            <p:cNvGraphicFramePr/>
            <p:nvPr/>
          </p:nvGraphicFramePr>
          <p:xfrm>
            <a:off x="5587920" y="3198600"/>
            <a:ext cx="151740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7920" y="3198600"/>
                      <a:ext cx="151740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4" name=""/>
          <p:cNvGrpSpPr/>
          <p:nvPr/>
        </p:nvGrpSpPr>
        <p:grpSpPr>
          <a:xfrm>
            <a:off x="2000160" y="2585880"/>
            <a:ext cx="1549440" cy="1689120"/>
            <a:chOff x="2000160" y="2585880"/>
            <a:chExt cx="1549440" cy="1689120"/>
          </a:xfrm>
        </p:grpSpPr>
        <p:sp>
          <p:nvSpPr>
            <p:cNvPr id="655" name=""/>
            <p:cNvSpPr/>
            <p:nvPr/>
          </p:nvSpPr>
          <p:spPr>
            <a:xfrm>
              <a:off x="2101680" y="2585880"/>
              <a:ext cx="13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nitr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6" name=""/>
            <p:cNvGraphicFramePr/>
            <p:nvPr/>
          </p:nvGraphicFramePr>
          <p:xfrm>
            <a:off x="2000160" y="3198600"/>
            <a:ext cx="1549440" cy="107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0160" y="3198600"/>
                      <a:ext cx="154944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891-1AD9-4018-A7A1-D014293C0155}" type="slidenum">
              <a:t>117</a:t>
            </a:fld>
          </a:p>
        </p:txBody>
      </p:sp>
    </p:spTree>
  </p:cSld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1028520" y="610920"/>
            <a:ext cx="70866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181480" y="2585880"/>
            <a:ext cx="2330640" cy="1689120"/>
            <a:chOff x="5181480" y="2585880"/>
            <a:chExt cx="2330640" cy="1689120"/>
          </a:xfrm>
        </p:grpSpPr>
        <p:sp>
          <p:nvSpPr>
            <p:cNvPr id="660" name=""/>
            <p:cNvSpPr/>
            <p:nvPr/>
          </p:nvSpPr>
          <p:spPr>
            <a:xfrm>
              <a:off x="5181480" y="258588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hosph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1" name=""/>
            <p:cNvGraphicFramePr/>
            <p:nvPr/>
          </p:nvGraphicFramePr>
          <p:xfrm>
            <a:off x="5572080" y="3198960"/>
            <a:ext cx="1549440" cy="107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2080" y="3198960"/>
                      <a:ext cx="154944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3" name=""/>
          <p:cNvGrpSpPr/>
          <p:nvPr/>
        </p:nvGrpSpPr>
        <p:grpSpPr>
          <a:xfrm>
            <a:off x="1752480" y="2585880"/>
            <a:ext cx="2044800" cy="1689120"/>
            <a:chOff x="1752480" y="2585880"/>
            <a:chExt cx="2044800" cy="1689120"/>
          </a:xfrm>
        </p:grpSpPr>
        <p:sp>
          <p:nvSpPr>
            <p:cNvPr id="664" name=""/>
            <p:cNvSpPr/>
            <p:nvPr/>
          </p:nvSpPr>
          <p:spPr>
            <a:xfrm>
              <a:off x="1752480" y="2585880"/>
              <a:ext cx="20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phosph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5" name=""/>
            <p:cNvGraphicFramePr/>
            <p:nvPr/>
          </p:nvGraphicFramePr>
          <p:xfrm>
            <a:off x="2016000" y="3198960"/>
            <a:ext cx="151776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16000" y="3198960"/>
                      <a:ext cx="151776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02E-1422-46BC-9BB0-92D82D9BF019}" type="slidenum">
              <a:t>118</a:t>
            </a:fld>
          </a:p>
        </p:txBody>
      </p:sp>
    </p:spTree>
  </p:cSld>
  <p:transition spd="slow">
    <p:blinds dir="vert"/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0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1031400" y="611280"/>
            <a:ext cx="716292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83160" y="2584440"/>
            <a:ext cx="1594080" cy="1689120"/>
            <a:chOff x="5483160" y="2584440"/>
            <a:chExt cx="1594080" cy="1689120"/>
          </a:xfrm>
        </p:grpSpPr>
        <p:sp>
          <p:nvSpPr>
            <p:cNvPr id="669" name=""/>
            <p:cNvSpPr/>
            <p:nvPr/>
          </p:nvSpPr>
          <p:spPr>
            <a:xfrm>
              <a:off x="5483160" y="2584440"/>
              <a:ext cx="159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sulf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0" name=""/>
            <p:cNvGraphicFramePr/>
            <p:nvPr/>
          </p:nvGraphicFramePr>
          <p:xfrm>
            <a:off x="5537160" y="3197160"/>
            <a:ext cx="148608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37160" y="3197160"/>
                      <a:ext cx="14860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72" name=""/>
          <p:cNvGrpSpPr/>
          <p:nvPr/>
        </p:nvGrpSpPr>
        <p:grpSpPr>
          <a:xfrm>
            <a:off x="1981080" y="2584440"/>
            <a:ext cx="1517760" cy="1689120"/>
            <a:chOff x="1981080" y="2584440"/>
            <a:chExt cx="1517760" cy="1689120"/>
          </a:xfrm>
        </p:grpSpPr>
        <p:sp>
          <p:nvSpPr>
            <p:cNvPr id="673" name=""/>
            <p:cNvSpPr/>
            <p:nvPr/>
          </p:nvSpPr>
          <p:spPr>
            <a:xfrm>
              <a:off x="2066760" y="2584440"/>
              <a:ext cx="13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sulf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1981080" y="3197160"/>
            <a:ext cx="1517760" cy="107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3197160"/>
                      <a:ext cx="151776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6" name=""/>
          <p:cNvSpPr/>
          <p:nvPr/>
        </p:nvSpPr>
        <p:spPr>
          <a:xfrm>
            <a:off x="685800" y="4724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–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not ind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oxygen atom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3AA-004D-416C-8165-0C20E5A3F6ED}" type="slidenum">
              <a:t>119</a:t>
            </a:fld>
          </a:p>
        </p:txBody>
      </p:sp>
    </p:spTree>
  </p:cSld>
  <p:transition spd="slow">
    <p:blinds dir="vert"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25360" y="3246480"/>
            <a:ext cx="2803680" cy="2468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00400" y="50094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54760" y="3246480"/>
            <a:ext cx="2963880" cy="246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581280" y="4191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mov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3332160"/>
            <a:ext cx="685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473280"/>
            <a:ext cx="685800" cy="609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utral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0280" y="22860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 York"/>
              </a:rPr>
              <a:t>A charged particle known as an ion can be produced by adding or removing one or more electrons from a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867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80880"/>
            <a:ext cx="815364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ne or more electrons are removed from a neutral atom a positive ion is formed. A positive ion is called a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c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888A-E500-4D19-8FA7-3B1627377179}" type="slidenum">
              <a:t>12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952560" y="611280"/>
            <a:ext cx="723888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per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notes anions with more oxygen than the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-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224320" y="2584440"/>
            <a:ext cx="2330640" cy="1689120"/>
            <a:chOff x="5224320" y="2584440"/>
            <a:chExt cx="2330640" cy="1689120"/>
          </a:xfrm>
        </p:grpSpPr>
        <p:sp>
          <p:nvSpPr>
            <p:cNvPr id="679" name=""/>
            <p:cNvSpPr/>
            <p:nvPr/>
          </p:nvSpPr>
          <p:spPr>
            <a:xfrm>
              <a:off x="5224320" y="258444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erchlo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0" name=""/>
            <p:cNvGraphicFramePr/>
            <p:nvPr/>
          </p:nvGraphicFramePr>
          <p:xfrm>
            <a:off x="5553000" y="3197160"/>
            <a:ext cx="1674720" cy="107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53000" y="3197160"/>
                      <a:ext cx="167472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2" name=""/>
          <p:cNvGrpSpPr/>
          <p:nvPr/>
        </p:nvGrpSpPr>
        <p:grpSpPr>
          <a:xfrm>
            <a:off x="1589040" y="2584440"/>
            <a:ext cx="2044800" cy="1689120"/>
            <a:chOff x="1589040" y="2584440"/>
            <a:chExt cx="2044800" cy="1689120"/>
          </a:xfrm>
        </p:grpSpPr>
        <p:sp>
          <p:nvSpPr>
            <p:cNvPr id="683" name=""/>
            <p:cNvSpPr/>
            <p:nvPr/>
          </p:nvSpPr>
          <p:spPr>
            <a:xfrm>
              <a:off x="1589040" y="2584440"/>
              <a:ext cx="20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chlor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4" name=""/>
            <p:cNvGraphicFramePr/>
            <p:nvPr/>
          </p:nvGraphicFramePr>
          <p:xfrm>
            <a:off x="1789200" y="3197160"/>
            <a:ext cx="1644480" cy="107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89200" y="3197160"/>
                      <a:ext cx="16444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4E3-1FBD-4AA6-B826-C38112EA9416}" type="slidenum">
              <a:t>120</a:t>
            </a:fld>
          </a:p>
        </p:txBody>
      </p:sp>
    </p:spTree>
  </p:cSld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399960" y="3048120"/>
            <a:ext cx="83440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-p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a short form of hyper, meaning m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457-BABE-4840-8E7D-D0B39D660B2F}" type="slidenum">
              <a:t>121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hypo</a:t>
            </a:r>
            <a:r>
              <a:rPr b="0" lang="en-US" sz="3600" spc="-1" strike="noStrike" u="sng">
                <a:solidFill>
                  <a:srgbClr val="0033cc"/>
                </a:solidFill>
                <a:uFillTx/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notes anions with less oxygen than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224320" y="2584440"/>
            <a:ext cx="2330640" cy="1689120"/>
            <a:chOff x="5224320" y="2584440"/>
            <a:chExt cx="2330640" cy="1689120"/>
          </a:xfrm>
        </p:grpSpPr>
        <p:sp>
          <p:nvSpPr>
            <p:cNvPr id="690" name=""/>
            <p:cNvSpPr/>
            <p:nvPr/>
          </p:nvSpPr>
          <p:spPr>
            <a:xfrm>
              <a:off x="5224320" y="258444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chlor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1" name=""/>
            <p:cNvGraphicFramePr/>
            <p:nvPr/>
          </p:nvGraphicFramePr>
          <p:xfrm>
            <a:off x="5553000" y="3197160"/>
            <a:ext cx="1674720" cy="1076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53000" y="3197160"/>
                      <a:ext cx="167472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3" name=""/>
          <p:cNvGrpSpPr/>
          <p:nvPr/>
        </p:nvGrpSpPr>
        <p:grpSpPr>
          <a:xfrm>
            <a:off x="1219320" y="2584440"/>
            <a:ext cx="2784240" cy="1689120"/>
            <a:chOff x="1219320" y="2584440"/>
            <a:chExt cx="2784240" cy="1689120"/>
          </a:xfrm>
        </p:grpSpPr>
        <p:sp>
          <p:nvSpPr>
            <p:cNvPr id="694" name=""/>
            <p:cNvSpPr/>
            <p:nvPr/>
          </p:nvSpPr>
          <p:spPr>
            <a:xfrm>
              <a:off x="1219320" y="2584440"/>
              <a:ext cx="278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hypochlor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5" name=""/>
            <p:cNvGraphicFramePr/>
            <p:nvPr/>
          </p:nvGraphicFramePr>
          <p:xfrm>
            <a:off x="1789200" y="3197160"/>
            <a:ext cx="1644480" cy="1076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9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789200" y="3197160"/>
                      <a:ext cx="16444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DBA-CD39-4ED4-A32D-BC5A6E028D7B}" type="slidenum">
              <a:t>122</a:t>
            </a:fld>
          </a:p>
        </p:txBody>
      </p:sp>
    </p:spTree>
  </p:cSld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-hyp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ans l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3F2-C306-4455-8212-6FC834E6A017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E23E-8C7A-4B0C-92CD-3DDDAA2DCFA5}" type="slidenum">
              <a:t>124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1523880" y="611280"/>
            <a:ext cx="609624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olyatomic ions do not us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–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143000" y="2117880"/>
            <a:ext cx="2784240" cy="1616040"/>
            <a:chOff x="1143000" y="2117880"/>
            <a:chExt cx="2784240" cy="1616040"/>
          </a:xfrm>
        </p:grpSpPr>
        <p:sp>
          <p:nvSpPr>
            <p:cNvPr id="702" name=""/>
            <p:cNvSpPr/>
            <p:nvPr/>
          </p:nvSpPr>
          <p:spPr>
            <a:xfrm>
              <a:off x="1143000" y="2117880"/>
              <a:ext cx="278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x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3" name=""/>
            <p:cNvGraphicFramePr/>
            <p:nvPr/>
          </p:nvGraphicFramePr>
          <p:xfrm>
            <a:off x="1774800" y="2657520"/>
            <a:ext cx="151920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74800" y="2657520"/>
                      <a:ext cx="151920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5" name=""/>
          <p:cNvGrpSpPr/>
          <p:nvPr/>
        </p:nvGrpSpPr>
        <p:grpSpPr>
          <a:xfrm>
            <a:off x="609480" y="3940200"/>
            <a:ext cx="3851280" cy="1698120"/>
            <a:chOff x="609480" y="3940200"/>
            <a:chExt cx="3851280" cy="1698120"/>
          </a:xfrm>
        </p:grpSpPr>
        <p:sp>
          <p:nvSpPr>
            <p:cNvPr id="706" name=""/>
            <p:cNvSpPr/>
            <p:nvPr/>
          </p:nvSpPr>
          <p:spPr>
            <a:xfrm>
              <a:off x="609480" y="3940200"/>
              <a:ext cx="385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gen sulf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07" name=""/>
            <p:cNvGraphicFramePr/>
            <p:nvPr/>
          </p:nvGraphicFramePr>
          <p:xfrm>
            <a:off x="1854360" y="4562280"/>
            <a:ext cx="136044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4360" y="4562280"/>
                      <a:ext cx="136044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9" name=""/>
          <p:cNvGrpSpPr/>
          <p:nvPr/>
        </p:nvGrpSpPr>
        <p:grpSpPr>
          <a:xfrm>
            <a:off x="5826240" y="2117880"/>
            <a:ext cx="2330280" cy="1425600"/>
            <a:chOff x="5826240" y="2117880"/>
            <a:chExt cx="2330280" cy="1425600"/>
          </a:xfrm>
        </p:grpSpPr>
        <p:sp>
          <p:nvSpPr>
            <p:cNvPr id="710" name=""/>
            <p:cNvSpPr/>
            <p:nvPr/>
          </p:nvSpPr>
          <p:spPr>
            <a:xfrm>
              <a:off x="5826240" y="2117880"/>
              <a:ext cx="233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yan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6296040" y="2657520"/>
            <a:ext cx="1390320" cy="885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96040" y="2657520"/>
                      <a:ext cx="139032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13" name=""/>
          <p:cNvGrpSpPr/>
          <p:nvPr/>
        </p:nvGrpSpPr>
        <p:grpSpPr>
          <a:xfrm>
            <a:off x="5945040" y="3940200"/>
            <a:ext cx="2092320" cy="1698120"/>
            <a:chOff x="5945040" y="3940200"/>
            <a:chExt cx="2092320" cy="1698120"/>
          </a:xfrm>
        </p:grpSpPr>
        <p:sp>
          <p:nvSpPr>
            <p:cNvPr id="714" name=""/>
            <p:cNvSpPr/>
            <p:nvPr/>
          </p:nvSpPr>
          <p:spPr>
            <a:xfrm>
              <a:off x="5945040" y="394020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erox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5" name=""/>
            <p:cNvGraphicFramePr/>
            <p:nvPr/>
          </p:nvGraphicFramePr>
          <p:xfrm>
            <a:off x="6453000" y="4562280"/>
            <a:ext cx="1074600" cy="1076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53000" y="4562280"/>
                      <a:ext cx="107460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C4D-A584-49C2-B578-3EB6B141F070}" type="slidenum">
              <a:t>125</a:t>
            </a:fld>
          </a:p>
        </p:txBody>
      </p:sp>
    </p:spTree>
  </p:cSld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are three common positively charged polyatomic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5372280" y="3940200"/>
            <a:ext cx="2784240" cy="1616040"/>
            <a:chOff x="5372280" y="3940200"/>
            <a:chExt cx="2784240" cy="1616040"/>
          </a:xfrm>
        </p:grpSpPr>
        <p:sp>
          <p:nvSpPr>
            <p:cNvPr id="719" name=""/>
            <p:cNvSpPr/>
            <p:nvPr/>
          </p:nvSpPr>
          <p:spPr>
            <a:xfrm>
              <a:off x="5372280" y="3940200"/>
              <a:ext cx="278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mmon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0" name=""/>
            <p:cNvGraphicFramePr/>
            <p:nvPr/>
          </p:nvGraphicFramePr>
          <p:xfrm>
            <a:off x="5956200" y="4479840"/>
            <a:ext cx="1613880" cy="1076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6200" y="4479840"/>
                      <a:ext cx="1613880" cy="10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2" name=""/>
          <p:cNvGrpSpPr/>
          <p:nvPr/>
        </p:nvGrpSpPr>
        <p:grpSpPr>
          <a:xfrm>
            <a:off x="609480" y="3940200"/>
            <a:ext cx="3851280" cy="1698480"/>
            <a:chOff x="609480" y="3940200"/>
            <a:chExt cx="3851280" cy="1698480"/>
          </a:xfrm>
        </p:grpSpPr>
        <p:sp>
          <p:nvSpPr>
            <p:cNvPr id="723" name=""/>
            <p:cNvSpPr/>
            <p:nvPr/>
          </p:nvSpPr>
          <p:spPr>
            <a:xfrm>
              <a:off x="609480" y="3940200"/>
              <a:ext cx="385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n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1619280" y="4562640"/>
            <a:ext cx="183348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19280" y="4562640"/>
                      <a:ext cx="183348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6" name=""/>
          <p:cNvGrpSpPr/>
          <p:nvPr/>
        </p:nvGrpSpPr>
        <p:grpSpPr>
          <a:xfrm>
            <a:off x="3406680" y="2000160"/>
            <a:ext cx="2330640" cy="1733400"/>
            <a:chOff x="3406680" y="2000160"/>
            <a:chExt cx="2330640" cy="1733400"/>
          </a:xfrm>
        </p:grpSpPr>
        <p:sp>
          <p:nvSpPr>
            <p:cNvPr id="727" name=""/>
            <p:cNvSpPr/>
            <p:nvPr/>
          </p:nvSpPr>
          <p:spPr>
            <a:xfrm>
              <a:off x="3406680" y="200016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ercury(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8" name=""/>
            <p:cNvGraphicFramePr/>
            <p:nvPr/>
          </p:nvGraphicFramePr>
          <p:xfrm>
            <a:off x="3751200" y="2658960"/>
            <a:ext cx="1643040" cy="1074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51200" y="2658960"/>
                      <a:ext cx="1643040" cy="107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53C-730A-401D-A9B7-1246FDE40B36}" type="slidenum">
              <a:t>126</a:t>
            </a:fld>
          </a:p>
        </p:txBody>
      </p:sp>
    </p:spTree>
  </p:cSld>
  <p:transition spd="slow">
    <p:blinds dir="vert"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0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7C3-C164-42EB-89E5-3CEA2124EDA7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5D0-F67F-4E70-BCE0-629C4BFB68E2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A04-453E-4BA8-8EBF-0B3F17A530A6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N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C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+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A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+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0" y="-3240"/>
            <a:ext cx="9141120" cy="119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Positive Ion Formation: </a:t>
            </a:r>
            <a:br>
              <a:rPr sz="3600"/>
            </a:b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Loss of Electrons From a Neutral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AB6A-FE84-45DC-BD99-7285B4695D36}" type="slidenum">
              <a:t>13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990720" y="2762280"/>
            <a:ext cx="71625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Oxy-aci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tain hydrogen, oxygen and one other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145A-9819-4683-8E8F-6C006B73144C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329760" y="2266920"/>
            <a:ext cx="34038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 in a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-acid is not expressed in the acid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749480" y="2209680"/>
            <a:ext cx="4064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864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d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i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name indicates the presence of hydroge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A5E-B2F9-4A9C-98A0-13323DF3CE29}" type="slidenum">
              <a:t>131</a:t>
            </a:fld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1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10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6937200" y="1523880"/>
            <a:ext cx="1676520" cy="2152800"/>
            <a:chOff x="6937200" y="1523880"/>
            <a:chExt cx="1676520" cy="2152800"/>
          </a:xfrm>
        </p:grpSpPr>
        <p:sp>
          <p:nvSpPr>
            <p:cNvPr id="738" name=""/>
            <p:cNvSpPr/>
            <p:nvPr/>
          </p:nvSpPr>
          <p:spPr>
            <a:xfrm>
              <a:off x="7470720" y="3022560"/>
              <a:ext cx="609480" cy="654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37200" y="1523880"/>
              <a:ext cx="167652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s oxy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6394320" y="1523880"/>
            <a:ext cx="1676520" cy="2152800"/>
            <a:chOff x="6394320" y="1523880"/>
            <a:chExt cx="1676520" cy="2152800"/>
          </a:xfrm>
        </p:grpSpPr>
        <p:sp>
          <p:nvSpPr>
            <p:cNvPr id="741" name=""/>
            <p:cNvSpPr/>
            <p:nvPr/>
          </p:nvSpPr>
          <p:spPr>
            <a:xfrm>
              <a:off x="6986520" y="3022560"/>
              <a:ext cx="492120" cy="654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94320" y="1523880"/>
              <a:ext cx="167652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s sulfu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491080" y="1523880"/>
            <a:ext cx="1676520" cy="2152800"/>
            <a:chOff x="5491080" y="1523880"/>
            <a:chExt cx="1676520" cy="2152800"/>
          </a:xfrm>
        </p:grpSpPr>
        <p:sp>
          <p:nvSpPr>
            <p:cNvPr id="745" name=""/>
            <p:cNvSpPr/>
            <p:nvPr/>
          </p:nvSpPr>
          <p:spPr>
            <a:xfrm>
              <a:off x="6002280" y="3022560"/>
              <a:ext cx="685800" cy="6541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91080" y="152388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tains hydro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527280" y="1143000"/>
            <a:ext cx="1676520" cy="2602080"/>
            <a:chOff x="3527280" y="1143000"/>
            <a:chExt cx="1676520" cy="2602080"/>
          </a:xfrm>
        </p:grpSpPr>
        <p:sp>
          <p:nvSpPr>
            <p:cNvPr id="748" name=""/>
            <p:cNvSpPr/>
            <p:nvPr/>
          </p:nvSpPr>
          <p:spPr>
            <a:xfrm>
              <a:off x="3603600" y="3022560"/>
              <a:ext cx="1523880" cy="7225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27280" y="1143000"/>
              <a:ext cx="1676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dicates hydro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98400" y="2779560"/>
            <a:ext cx="7756560" cy="1154160"/>
            <a:chOff x="698400" y="2779560"/>
            <a:chExt cx="7756560" cy="1154160"/>
          </a:xfrm>
        </p:grpSpPr>
        <p:sp>
          <p:nvSpPr>
            <p:cNvPr id="751" name=""/>
            <p:cNvSpPr/>
            <p:nvPr/>
          </p:nvSpPr>
          <p:spPr>
            <a:xfrm>
              <a:off x="698400" y="2806560"/>
              <a:ext cx="4579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cc6600"/>
                  </a:solidFill>
                  <a:latin typeface="Times New Roman"/>
                </a:rPr>
                <a:t>sulfur</a:t>
              </a:r>
              <a:r>
                <a:rPr b="0" lang="en-US" sz="6600" spc="-1" strike="noStrike">
                  <a:solidFill>
                    <a:srgbClr val="008000"/>
                  </a:solidFill>
                  <a:latin typeface="Times New Roman"/>
                </a:rPr>
                <a:t>ic</a:t>
              </a:r>
              <a:r>
                <a:rPr b="0" lang="en-US" sz="6600" spc="-1" strike="noStrike">
                  <a:solidFill>
                    <a:srgbClr val="cc6600"/>
                  </a:solidFill>
                  <a:latin typeface="Times New Roman"/>
                </a:rPr>
                <a:t> acid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2" name=""/>
                <p:cNvSpPr txBox="1"/>
                <p:nvPr/>
              </p:nvSpPr>
              <p:spPr>
                <a:xfrm>
                  <a:off x="5975280" y="2779560"/>
                  <a:ext cx="2479680" cy="11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SO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C0A-0F98-4A7A-8340-64AC686B820C}" type="slidenum">
              <a:t>132</a:t>
            </a:fld>
          </a:p>
        </p:txBody>
      </p:sp>
    </p:spTree>
  </p:cSld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ons ending in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contain more oxygen than ions ending in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0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181480" y="2585880"/>
            <a:ext cx="2330640" cy="1689120"/>
            <a:chOff x="5181480" y="2585880"/>
            <a:chExt cx="2330640" cy="1689120"/>
          </a:xfrm>
        </p:grpSpPr>
        <p:sp>
          <p:nvSpPr>
            <p:cNvPr id="755" name=""/>
            <p:cNvSpPr/>
            <p:nvPr/>
          </p:nvSpPr>
          <p:spPr>
            <a:xfrm>
              <a:off x="5181480" y="2585880"/>
              <a:ext cx="233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phospha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6" name=""/>
            <p:cNvGraphicFramePr/>
            <p:nvPr/>
          </p:nvGraphicFramePr>
          <p:xfrm>
            <a:off x="5572080" y="3198960"/>
            <a:ext cx="1549440" cy="107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2080" y="3198960"/>
                      <a:ext cx="154944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8" name=""/>
          <p:cNvGrpSpPr/>
          <p:nvPr/>
        </p:nvGrpSpPr>
        <p:grpSpPr>
          <a:xfrm>
            <a:off x="1752480" y="2585880"/>
            <a:ext cx="2044800" cy="1689120"/>
            <a:chOff x="1752480" y="2585880"/>
            <a:chExt cx="2044800" cy="1689120"/>
          </a:xfrm>
        </p:grpSpPr>
        <p:sp>
          <p:nvSpPr>
            <p:cNvPr id="759" name=""/>
            <p:cNvSpPr/>
            <p:nvPr/>
          </p:nvSpPr>
          <p:spPr>
            <a:xfrm>
              <a:off x="1752480" y="2585880"/>
              <a:ext cx="204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phosphit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0" name=""/>
            <p:cNvGraphicFramePr/>
            <p:nvPr/>
          </p:nvGraphicFramePr>
          <p:xfrm>
            <a:off x="2016000" y="3198960"/>
            <a:ext cx="1517760" cy="1076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16000" y="3198960"/>
                      <a:ext cx="151776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8F9-6146-4EA4-865D-5317344566B6}" type="slidenum">
              <a:t>133</a:t>
            </a:fld>
          </a:p>
        </p:txBody>
      </p:sp>
    </p:spTree>
  </p:cSld>
  <p:transition spd="slow">
    <p:blinds dir="vert"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0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1440" y="-228600"/>
            <a:ext cx="9144000" cy="1447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Naming the Acid Based </a:t>
            </a:r>
            <a:br>
              <a:rPr sz="3600"/>
            </a:br>
            <a:r>
              <a:rPr b="1" lang="en-US" sz="3600" spc="-1" strike="noStrike" u="sng">
                <a:solidFill>
                  <a:srgbClr val="dddddd"/>
                </a:solidFill>
                <a:uFillTx/>
                <a:latin typeface="Times New Roman"/>
              </a:rPr>
              <a:t>on the Name of the Polyatomic 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33720" y="16002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ding  of Polyatomic 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311120" y="4670280"/>
            <a:ext cx="25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12640" y="2867040"/>
            <a:ext cx="23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81240" y="22478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1200" y="397656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98440" y="160020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nding  of Ac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739920" y="2247840"/>
            <a:ext cx="102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943680" y="397656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Times New Roman"/>
              </a:rPr>
              <a:t>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D7C-2000-44BD-BBBA-DC75964B15B7}" type="slidenum">
              <a:t>134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0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8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5F1-3F97-4730-9FC8-FD7764C618AE}" type="slidenum">
              <a:t>135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6149880" y="1380960"/>
          <a:ext cx="191448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9880" y="1380960"/>
                    <a:ext cx="19144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u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ous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791320" y="4111560"/>
          <a:ext cx="2590560" cy="136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11560"/>
                    <a:ext cx="25905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327672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49D-F9EA-43AE-9DC0-88E292A5411D}" type="slidenum">
              <a:t>136</a:t>
            </a:fld>
          </a:p>
        </p:txBody>
      </p:sp>
    </p:spTree>
  </p:cSld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0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5683320" y="1380960"/>
          <a:ext cx="191448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3320" y="1380960"/>
                    <a:ext cx="19144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4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sulfu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c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28464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5486400" y="4129200"/>
          <a:ext cx="255276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129200"/>
                    <a:ext cx="255276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E94-834B-40B7-9BCE-F01C549E9A69}" type="slidenum">
              <a:t>137</a:t>
            </a:fld>
          </a:p>
        </p:txBody>
      </p:sp>
    </p:spTree>
  </p:cSld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0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5853240" y="1380960"/>
          <a:ext cx="18446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380960"/>
                    <a:ext cx="18446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ous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5556240" y="4129200"/>
          <a:ext cx="241128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6240" y="4129200"/>
                    <a:ext cx="24112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1DB-5917-4217-B455-4F2E43411480}" type="slidenum">
              <a:t>138</a:t>
            </a:fld>
          </a:p>
        </p:txBody>
      </p:sp>
    </p:spTree>
  </p:cSld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0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46200" y="1504800"/>
            <a:ext cx="25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5853240" y="1380960"/>
          <a:ext cx="184464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3240" y="1380960"/>
                    <a:ext cx="184464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495360" y="4246560"/>
            <a:ext cx="506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nitr</a:t>
            </a: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ic</a:t>
            </a:r>
            <a:r>
              <a:rPr b="0" lang="en-US" sz="6600" spc="-1" strike="noStrike">
                <a:solidFill>
                  <a:srgbClr val="cc6600"/>
                </a:solidFill>
                <a:latin typeface="Times New Roman"/>
              </a:rPr>
              <a:t> aci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71800" y="2438280"/>
            <a:ext cx="0" cy="221004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5556240" y="4129200"/>
          <a:ext cx="2411280" cy="13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6240" y="4129200"/>
                    <a:ext cx="241128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650-B2E1-4C87-A7D8-B7A4E2853A2C}" type="slidenum">
              <a:t>139</a:t>
            </a:fld>
          </a:p>
        </p:txBody>
      </p:sp>
    </p:spTree>
  </p:cSld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fill="hold">
                      <p:stCondLst>
                        <p:cond delay="0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Naming 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083-B519-4F3E-A176-90D333770A36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7D5-57AC-44EC-BE00-F48686B75A14}" type="slidenum">
              <a:t>140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1481040" y="187200"/>
            <a:ext cx="6180120" cy="648360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4D8-FDFA-4D78-A287-15BE0271908A}" type="slidenum">
              <a:t>141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F196-0A75-4C67-9241-C0E818A99322}" type="slidenum">
              <a:t>142</a:t>
            </a:fld>
          </a:p>
        </p:txBody>
      </p:sp>
    </p:spTree>
  </p:cSld>
  <p:transition spd="slow">
    <p:blinds dir="vert"/>
  </p:transition>
  <p:timing>
    <p:tnLst>
      <p:par>
        <p:cTn id="1761" dur="indefinite" restart="never" nodeType="tmRoot">
          <p:childTnLst>
            <p:seq>
              <p:cTn id="1762" dur="indefinite" nodeType="mainSeq">
                <p:childTnLst>
                  <p:par>
                    <p:cTn id="1763" fill="hold">
                      <p:stCondLst>
                        <p:cond delay="0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ions are named the sam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ir parent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B7D-86B5-48B0-BE41-53FAE4F260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84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odium (Na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2743200"/>
              <a:ext cx="12193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od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4E1-3208-4031-B230-CDB5AE0759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89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alcium (Ca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2680" y="2743200"/>
              <a:ext cx="13716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a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alc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446-17C4-42D9-9DC5-DBB6074345EE}" type="slidenum">
              <a:t>17</a:t>
            </a:fld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94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thium (Li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2743200"/>
              <a:ext cx="12193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lith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20B-B372-44A8-B35F-78A3E6DBB571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352680" y="609480"/>
            <a:ext cx="4496040" cy="5473440"/>
            <a:chOff x="3352680" y="609480"/>
            <a:chExt cx="4496040" cy="5473440"/>
          </a:xfrm>
        </p:grpSpPr>
        <p:sp>
          <p:nvSpPr>
            <p:cNvPr id="99" name=""/>
            <p:cNvSpPr/>
            <p:nvPr/>
          </p:nvSpPr>
          <p:spPr>
            <a:xfrm>
              <a:off x="3352680" y="609480"/>
              <a:ext cx="44960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magnesium (Mg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2743200"/>
              <a:ext cx="15242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2680" y="5257800"/>
              <a:ext cx="40388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magnes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8B7-DC7B-4E57-88F7-918000EFBEB1}" type="slidenum">
              <a:t>19</a:t>
            </a:fld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828800"/>
            <a:ext cx="40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Common and Systematic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Na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743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Elements and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3292560"/>
            <a:ext cx="41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Writing Formulas from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Names of Ionic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5760" y="1828800"/>
            <a:ext cx="43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Naming Binary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5760" y="23781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Naming Compounds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Containing Polyatomic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5760" y="32925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4F5-D1C0-4926-B249-644BE802E37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C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352680" y="609480"/>
            <a:ext cx="3962520" cy="5473440"/>
            <a:chOff x="3352680" y="609480"/>
            <a:chExt cx="3962520" cy="5473440"/>
          </a:xfrm>
        </p:grpSpPr>
        <p:sp>
          <p:nvSpPr>
            <p:cNvPr id="104" name=""/>
            <p:cNvSpPr/>
            <p:nvPr/>
          </p:nvSpPr>
          <p:spPr>
            <a:xfrm>
              <a:off x="3352680" y="609480"/>
              <a:ext cx="39625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rontium (Sr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2680" y="2743200"/>
              <a:ext cx="12193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r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5257800"/>
              <a:ext cx="358164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rontium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7B4-94B0-4CC6-8D2D-08093A47BF40}" type="slidenum">
              <a:t>20</a:t>
            </a:fld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00280" y="228600"/>
            <a:ext cx="754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New York"/>
              </a:rPr>
              <a:t>A charged particle known as an ion can be produced by adding or removing one or more electrons from a neutral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280" y="228600"/>
            <a:ext cx="7543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ne or more electrons are added to a neutral atom a negative ion is formed. A negative ion is called an </a:t>
            </a:r>
            <a:r>
              <a:rPr b="0" i="1" lang="en-US" sz="3600" spc="-1" strike="noStrike">
                <a:solidFill>
                  <a:srgbClr val="3366ff"/>
                </a:solidFill>
                <a:latin typeface="Times New Roman"/>
              </a:rPr>
              <a:t>an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00400" y="51498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308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utral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47840" y="3244680"/>
            <a:ext cx="2225520" cy="2575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14560" y="3417840"/>
            <a:ext cx="685800" cy="609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232240" y="3244680"/>
            <a:ext cx="2781360" cy="2621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391520" y="3390840"/>
            <a:ext cx="685800" cy="6098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4191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8080" y="5867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23C-0A7E-437D-B7E9-448C3223DB06}" type="slidenum">
              <a:t>21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Naming An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52E-B193-486D-A6B4-6DE5EEC6AD7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nion consisting of one element has the stem of the parent element and a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de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3E0D-87C3-4E55-A4B7-252FDB6B1C2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52680" y="609480"/>
            <a:ext cx="3049560" cy="5473440"/>
            <a:chOff x="3352680" y="609480"/>
            <a:chExt cx="3049560" cy="5473440"/>
          </a:xfrm>
        </p:grpSpPr>
        <p:sp>
          <p:nvSpPr>
            <p:cNvPr id="121" name=""/>
            <p:cNvSpPr/>
            <p:nvPr/>
          </p:nvSpPr>
          <p:spPr>
            <a:xfrm>
              <a:off x="3352680" y="609480"/>
              <a:ext cx="304956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fluorine (F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2680" y="2743200"/>
              <a:ext cx="73368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52680" y="5257800"/>
              <a:ext cx="3048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fluor</a:t>
              </a:r>
              <a:r>
                <a:rPr b="0" lang="en-US" sz="4800" spc="-1" strike="noStrike">
                  <a:solidFill>
                    <a:srgbClr val="0000ff"/>
                  </a:solidFill>
                  <a:latin typeface="Times New Roman"/>
                </a:rPr>
                <a:t>ide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52960" y="4267080"/>
            <a:ext cx="1471320" cy="1992600"/>
            <a:chOff x="3252960" y="4267080"/>
            <a:chExt cx="1471320" cy="1992600"/>
          </a:xfrm>
        </p:grpSpPr>
        <p:sp>
          <p:nvSpPr>
            <p:cNvPr id="126" name=""/>
            <p:cNvSpPr/>
            <p:nvPr/>
          </p:nvSpPr>
          <p:spPr>
            <a:xfrm>
              <a:off x="335268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52960" y="4354560"/>
              <a:ext cx="139536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27C-3608-4E6C-8AFF-78858C49A384}" type="slidenum">
              <a:t>24</a:t>
            </a:fld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609480"/>
            <a:ext cx="3429000" cy="5473440"/>
            <a:chOff x="3352680" y="609480"/>
            <a:chExt cx="3429000" cy="5473440"/>
          </a:xfrm>
        </p:grpSpPr>
        <p:sp>
          <p:nvSpPr>
            <p:cNvPr id="130" name=""/>
            <p:cNvSpPr/>
            <p:nvPr/>
          </p:nvSpPr>
          <p:spPr>
            <a:xfrm>
              <a:off x="3352680" y="609480"/>
              <a:ext cx="34290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hlorine (Cl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2743200"/>
              <a:ext cx="95112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5257800"/>
              <a:ext cx="320040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chlor</a:t>
              </a:r>
              <a:r>
                <a:rPr b="0" lang="en-US" sz="4800" spc="-1" strike="noStrike">
                  <a:solidFill>
                    <a:srgbClr val="0000ff"/>
                  </a:solidFill>
                  <a:latin typeface="Times New Roman"/>
                </a:rPr>
                <a:t>ide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io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08320" y="4267080"/>
            <a:ext cx="1591920" cy="1992600"/>
            <a:chOff x="3208320" y="4267080"/>
            <a:chExt cx="1591920" cy="1992600"/>
          </a:xfrm>
        </p:grpSpPr>
        <p:sp>
          <p:nvSpPr>
            <p:cNvPr id="134" name=""/>
            <p:cNvSpPr/>
            <p:nvPr/>
          </p:nvSpPr>
          <p:spPr>
            <a:xfrm>
              <a:off x="3359880" y="4267080"/>
              <a:ext cx="144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8320" y="4354560"/>
              <a:ext cx="152064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E202-969F-453D-8465-628FB62B7E34}" type="slidenum">
              <a:t>25</a:t>
            </a:fld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609480"/>
            <a:ext cx="3429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mine (Br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2743200"/>
            <a:ext cx="10288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5257800"/>
            <a:ext cx="3254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m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6240" y="4267080"/>
            <a:ext cx="1508040" cy="1992600"/>
            <a:chOff x="3216240" y="4267080"/>
            <a:chExt cx="1508040" cy="1992600"/>
          </a:xfrm>
        </p:grpSpPr>
        <p:sp>
          <p:nvSpPr>
            <p:cNvPr id="141" name=""/>
            <p:cNvSpPr/>
            <p:nvPr/>
          </p:nvSpPr>
          <p:spPr>
            <a:xfrm>
              <a:off x="335268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6240" y="4354560"/>
              <a:ext cx="150804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3A2-3D40-4053-8497-018896E54054}" type="slidenum">
              <a:t>26</a:t>
            </a:fld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609480"/>
            <a:ext cx="3240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trogen (N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743200"/>
            <a:ext cx="9781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5257800"/>
            <a:ext cx="2754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8120" y="4267080"/>
            <a:ext cx="1371600" cy="1981440"/>
            <a:chOff x="3048120" y="4267080"/>
            <a:chExt cx="1371600" cy="1981440"/>
          </a:xfrm>
        </p:grpSpPr>
        <p:sp>
          <p:nvSpPr>
            <p:cNvPr id="148" name=""/>
            <p:cNvSpPr/>
            <p:nvPr/>
          </p:nvSpPr>
          <p:spPr>
            <a:xfrm>
              <a:off x="304812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48120" y="4343400"/>
              <a:ext cx="125892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29D-A38A-4F08-A34A-218571926808}" type="slidenum">
              <a:t>27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609480"/>
            <a:ext cx="42674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sphorous (P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2743200"/>
            <a:ext cx="874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5257800"/>
            <a:ext cx="37339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hosph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276720" y="4267080"/>
            <a:ext cx="1935000" cy="1981440"/>
            <a:chOff x="3276720" y="4267080"/>
            <a:chExt cx="1935000" cy="1981440"/>
          </a:xfrm>
        </p:grpSpPr>
        <p:sp>
          <p:nvSpPr>
            <p:cNvPr id="156" name=""/>
            <p:cNvSpPr/>
            <p:nvPr/>
          </p:nvSpPr>
          <p:spPr>
            <a:xfrm>
              <a:off x="335268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76720" y="4343400"/>
              <a:ext cx="193500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BDC-6457-46CC-B2A7-CD7630A22CE3}" type="slidenum">
              <a:t>2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66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tom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An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 of An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609480"/>
            <a:ext cx="34290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xygen (O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2743200"/>
            <a:ext cx="9684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5257800"/>
            <a:ext cx="25052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743200" y="4267080"/>
            <a:ext cx="1371600" cy="1981440"/>
            <a:chOff x="2743200" y="4267080"/>
            <a:chExt cx="1371600" cy="1981440"/>
          </a:xfrm>
        </p:grpSpPr>
        <p:sp>
          <p:nvSpPr>
            <p:cNvPr id="164" name=""/>
            <p:cNvSpPr/>
            <p:nvPr/>
          </p:nvSpPr>
          <p:spPr>
            <a:xfrm>
              <a:off x="2743200" y="426708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te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4343400"/>
              <a:ext cx="1295280" cy="1905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029-DADD-4328-BA6A-53A597FAFB5B}" type="slidenum">
              <a:t>29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ommon and Systematic Na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525-3DA5-447E-8C06-D140BED130D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ons are always formed by adding or removing electrons from an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FEF-9BA7-4B03-95BD-EDE2BEBBD5F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often ions are formed when metals combine with nonmet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FA8-B256-485D-9F98-77DABE1BD085}" type="slidenum">
              <a:t>31</a:t>
            </a:fld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arge on an ion can be predicted from its position in the periodic t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8F6-6588-40E1-B1AC-8C3C7ADE7DF8}" type="slidenum">
              <a:t>32</a:t>
            </a:fld>
          </a:p>
        </p:txBody>
      </p:sp>
    </p:spTree>
  </p:cSld>
  <p:transition spd="slow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753" t="21998" r="-768" b="29252"/>
          <a:stretch/>
        </p:blipFill>
        <p:spPr>
          <a:xfrm>
            <a:off x="120600" y="1724040"/>
            <a:ext cx="9023400" cy="3297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856" t="22589" r="93135" b="30600"/>
          <a:stretch/>
        </p:blipFill>
        <p:spPr>
          <a:xfrm>
            <a:off x="47520" y="309600"/>
            <a:ext cx="878040" cy="512424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457200" y="649440"/>
            <a:ext cx="4071960" cy="4858560"/>
            <a:chOff x="457200" y="649440"/>
            <a:chExt cx="4071960" cy="4858560"/>
          </a:xfrm>
        </p:grpSpPr>
        <p:sp>
          <p:nvSpPr>
            <p:cNvPr id="172" name=""/>
            <p:cNvSpPr/>
            <p:nvPr/>
          </p:nvSpPr>
          <p:spPr>
            <a:xfrm>
              <a:off x="1557360" y="649440"/>
              <a:ext cx="2971800" cy="152388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2A hav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2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57200" y="990720"/>
              <a:ext cx="878040" cy="4517280"/>
              <a:chOff x="457200" y="990720"/>
              <a:chExt cx="878040" cy="45172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3"/>
              <a:srcRect l="6754" t="29498" r="87754" b="30000"/>
              <a:stretch/>
            </p:blipFill>
            <p:spPr>
              <a:xfrm>
                <a:off x="533520" y="1066680"/>
                <a:ext cx="801720" cy="44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457200" y="990720"/>
                <a:ext cx="130320" cy="44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657240" y="660240"/>
            <a:ext cx="4021560" cy="4807080"/>
            <a:chOff x="3657240" y="660240"/>
            <a:chExt cx="4021560" cy="4807080"/>
          </a:xfrm>
        </p:grpSpPr>
        <p:sp>
          <p:nvSpPr>
            <p:cNvPr id="177" name=""/>
            <p:cNvSpPr/>
            <p:nvPr/>
          </p:nvSpPr>
          <p:spPr>
            <a:xfrm flipH="1">
              <a:off x="3656880" y="660240"/>
              <a:ext cx="2971800" cy="152424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5A hav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4"/>
            <a:srcRect l="77021" t="29252" r="17369" b="30502"/>
            <a:stretch/>
          </p:blipFill>
          <p:spPr>
            <a:xfrm>
              <a:off x="6842160" y="969840"/>
              <a:ext cx="836640" cy="449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262040" y="511200"/>
            <a:ext cx="3967560" cy="4935600"/>
            <a:chOff x="4262040" y="511200"/>
            <a:chExt cx="3967560" cy="4935600"/>
          </a:xfrm>
        </p:grpSpPr>
        <p:sp>
          <p:nvSpPr>
            <p:cNvPr id="180" name=""/>
            <p:cNvSpPr/>
            <p:nvPr/>
          </p:nvSpPr>
          <p:spPr>
            <a:xfrm flipH="1">
              <a:off x="4261680" y="511200"/>
              <a:ext cx="2971800" cy="152424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6A have a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5"/>
            <a:srcRect l="82505" t="29754" r="12003" b="30748"/>
            <a:stretch/>
          </p:blipFill>
          <p:spPr>
            <a:xfrm>
              <a:off x="7407360" y="1016280"/>
              <a:ext cx="822240" cy="443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4959000" y="676440"/>
            <a:ext cx="4146480" cy="4758840"/>
            <a:chOff x="4959000" y="676440"/>
            <a:chExt cx="4146480" cy="4758840"/>
          </a:xfrm>
        </p:grpSpPr>
        <p:sp>
          <p:nvSpPr>
            <p:cNvPr id="183" name=""/>
            <p:cNvSpPr/>
            <p:nvPr/>
          </p:nvSpPr>
          <p:spPr>
            <a:xfrm flipH="1">
              <a:off x="4958640" y="676440"/>
              <a:ext cx="2971800" cy="1523880"/>
            </a:xfrm>
            <a:prstGeom prst="wedgeRectCallout">
              <a:avLst>
                <a:gd name="adj1" fmla="val -45194"/>
                <a:gd name="adj2" fmla="val 61041"/>
              </a:avLst>
            </a:prstGeom>
            <a:solidFill>
              <a:srgbClr val="e1c3ff"/>
            </a:solidFill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ements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 7A have a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 char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8115120" y="846000"/>
              <a:ext cx="990360" cy="4589280"/>
              <a:chOff x="8115120" y="846000"/>
              <a:chExt cx="990360" cy="4589280"/>
            </a:xfrm>
          </p:grpSpPr>
          <p:pic>
            <p:nvPicPr>
              <p:cNvPr id="185" name="" descr=""/>
              <p:cNvPicPr/>
              <p:nvPr/>
            </p:nvPicPr>
            <p:blipFill>
              <a:blip r:embed="rId6"/>
              <a:srcRect l="87754" t="29754" r="6562" b="31004"/>
              <a:stretch/>
            </p:blipFill>
            <p:spPr>
              <a:xfrm>
                <a:off x="8115120" y="1033200"/>
                <a:ext cx="850680" cy="440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8724600" y="846000"/>
                <a:ext cx="380880" cy="53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D13-A3E8-4592-A653-E32C371CAE32}" type="slidenum">
              <a:t>33</a:t>
            </a:fld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6.3</a:t>
            </a:r>
            <a:br>
              <a:rPr sz="4000"/>
            </a:br>
            <a:r>
              <a:rPr b="1" lang="en-US" sz="5300" spc="-1" strike="noStrike" u="sng">
                <a:solidFill>
                  <a:srgbClr val="cc3399"/>
                </a:solidFill>
                <a:uFillTx/>
                <a:latin typeface="Times New Roman"/>
              </a:rPr>
              <a:t>Writing Formulas From</a:t>
            </a:r>
            <a:br>
              <a:rPr sz="5300"/>
            </a:br>
            <a:r>
              <a:rPr b="1" lang="en-US" sz="5300" spc="-1" strike="noStrike" u="sng">
                <a:solidFill>
                  <a:srgbClr val="cc3399"/>
                </a:solidFill>
                <a:uFillTx/>
                <a:latin typeface="Times New Roman"/>
              </a:rPr>
              <a:t>Names of Ionic Compound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F7F-C0DD-494D-8039-A30660AC6E7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mical compound must have 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 charge of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16A-4544-4CB7-98A2-F1BCF318415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8573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compound contains ion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the charges on all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ons must add to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453-1A98-498E-BC0D-D4B9CF8453ED}" type="slidenum">
              <a:t>36</a:t>
            </a:fld>
          </a:p>
        </p:txBody>
      </p:sp>
    </p:spTree>
  </p:cSld>
  <p:transition spd="slow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594320" y="4570560"/>
            <a:ext cx="2665440" cy="1796760"/>
            <a:chOff x="4594320" y="4570560"/>
            <a:chExt cx="2665440" cy="1796760"/>
          </a:xfrm>
        </p:grpSpPr>
        <p:sp>
          <p:nvSpPr>
            <p:cNvPr id="193" name=""/>
            <p:cNvSpPr/>
            <p:nvPr/>
          </p:nvSpPr>
          <p:spPr>
            <a:xfrm>
              <a:off x="4705200" y="4878360"/>
              <a:ext cx="2401920" cy="14065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94320" y="4570560"/>
              <a:ext cx="244440" cy="3902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89840" y="6119640"/>
              <a:ext cx="169920" cy="24768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formula of calcium chlor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80" y="1219320"/>
            <a:ext cx="891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rite down the formulas of th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144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8960" indent="-1488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bine the smallest numbers of C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o that the sum of the charges equals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5073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+)  +   2(1-)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13680" y="5740560"/>
            <a:ext cx="5516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rrect formula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08480" y="4529160"/>
            <a:ext cx="5659200" cy="2252520"/>
            <a:chOff x="3408480" y="4529160"/>
            <a:chExt cx="5659200" cy="2252520"/>
          </a:xfrm>
        </p:grpSpPr>
        <p:sp>
          <p:nvSpPr>
            <p:cNvPr id="202" name=""/>
            <p:cNvSpPr/>
            <p:nvPr/>
          </p:nvSpPr>
          <p:spPr>
            <a:xfrm>
              <a:off x="5877000" y="5054760"/>
              <a:ext cx="3190680" cy="17269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lowest common multiple of +2 and –1 is 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408480" y="4529160"/>
              <a:ext cx="3570120" cy="2000160"/>
              <a:chOff x="3408480" y="4529160"/>
              <a:chExt cx="3570120" cy="2000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408480" y="4529160"/>
                <a:ext cx="336600" cy="2919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521400" y="6148440"/>
                <a:ext cx="457200" cy="38088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5403960" y="4654440"/>
              <a:ext cx="2774880" cy="1898640"/>
              <a:chOff x="5403960" y="4654440"/>
              <a:chExt cx="2774880" cy="1898640"/>
            </a:xfrm>
          </p:grpSpPr>
          <p:sp>
            <p:nvSpPr>
              <p:cNvPr id="207" name=""/>
              <p:cNvSpPr/>
              <p:nvPr/>
            </p:nvSpPr>
            <p:spPr>
              <a:xfrm>
                <a:off x="5403960" y="4654440"/>
                <a:ext cx="145800" cy="10188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721640" y="6172200"/>
                <a:ext cx="457200" cy="380880"/>
              </a:xfrm>
              <a:prstGeom prst="rect">
                <a:avLst/>
              </a:prstGeom>
              <a:noFill/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9" name=""/>
          <p:cNvSpPr/>
          <p:nvPr/>
        </p:nvSpPr>
        <p:spPr>
          <a:xfrm>
            <a:off x="122400" y="3228840"/>
            <a:ext cx="319068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tion is written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6680" y="3228840"/>
            <a:ext cx="319104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ion is written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4419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C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(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432-0C6A-451D-9507-FFDBFAC11E5F}" type="slidenum">
              <a:t>37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2624040" y="4533840"/>
            <a:ext cx="4602240" cy="1833480"/>
            <a:chOff x="2624040" y="4533840"/>
            <a:chExt cx="4602240" cy="1833480"/>
          </a:xfrm>
        </p:grpSpPr>
        <p:grpSp>
          <p:nvGrpSpPr>
            <p:cNvPr id="213" name=""/>
            <p:cNvGrpSpPr/>
            <p:nvPr/>
          </p:nvGrpSpPr>
          <p:grpSpPr>
            <a:xfrm>
              <a:off x="2624040" y="4548240"/>
              <a:ext cx="4146480" cy="1819080"/>
              <a:chOff x="2624040" y="4548240"/>
              <a:chExt cx="4146480" cy="1819080"/>
            </a:xfrm>
          </p:grpSpPr>
          <p:sp>
            <p:nvSpPr>
              <p:cNvPr id="214" name=""/>
              <p:cNvSpPr/>
              <p:nvPr/>
            </p:nvSpPr>
            <p:spPr>
              <a:xfrm>
                <a:off x="2757600" y="4921200"/>
                <a:ext cx="3943080" cy="123048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2624040" y="4548240"/>
                <a:ext cx="4146480" cy="1819080"/>
                <a:chOff x="2624040" y="4548240"/>
                <a:chExt cx="4146480" cy="1819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624040" y="4548240"/>
                  <a:ext cx="239760" cy="406440"/>
                </a:xfrm>
                <a:prstGeom prst="rect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611760" y="6119640"/>
                  <a:ext cx="158760" cy="247680"/>
                </a:xfrm>
                <a:prstGeom prst="rect">
                  <a:avLst/>
                </a:prstGeom>
                <a:solidFill>
                  <a:srgbClr val="99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" name=""/>
            <p:cNvGrpSpPr/>
            <p:nvPr/>
          </p:nvGrpSpPr>
          <p:grpSpPr>
            <a:xfrm>
              <a:off x="4722840" y="4533840"/>
              <a:ext cx="2503440" cy="1833480"/>
              <a:chOff x="4722840" y="4533840"/>
              <a:chExt cx="2503440" cy="1833480"/>
            </a:xfrm>
          </p:grpSpPr>
          <p:sp>
            <p:nvSpPr>
              <p:cNvPr id="219" name=""/>
              <p:cNvSpPr/>
              <p:nvPr/>
            </p:nvSpPr>
            <p:spPr>
              <a:xfrm>
                <a:off x="4789440" y="4840200"/>
                <a:ext cx="2317680" cy="1328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22840" y="4533840"/>
                <a:ext cx="239760" cy="4111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16760" y="6119640"/>
                <a:ext cx="209520" cy="2476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formula of barium phosph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480" y="1219320"/>
            <a:ext cx="891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rite down the formulas of th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144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8960" indent="-1488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bine the smallest numbers of B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o that the sum of the charges equals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05040" y="5084640"/>
            <a:ext cx="52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(2+)   +   2(3-)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49680" y="5740560"/>
            <a:ext cx="5444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rrect formula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22600" y="4518000"/>
            <a:ext cx="5545080" cy="2263680"/>
            <a:chOff x="3522600" y="4518000"/>
            <a:chExt cx="5545080" cy="2263680"/>
          </a:xfrm>
        </p:grpSpPr>
        <p:grpSp>
          <p:nvGrpSpPr>
            <p:cNvPr id="228" name=""/>
            <p:cNvGrpSpPr/>
            <p:nvPr/>
          </p:nvGrpSpPr>
          <p:grpSpPr>
            <a:xfrm>
              <a:off x="3522600" y="4518000"/>
              <a:ext cx="5545080" cy="2263680"/>
              <a:chOff x="3522600" y="4518000"/>
              <a:chExt cx="5545080" cy="226368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5321160" y="4518000"/>
                <a:ext cx="3746520" cy="2263680"/>
                <a:chOff x="5321160" y="4518000"/>
                <a:chExt cx="3746520" cy="22636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321160" y="4518000"/>
                  <a:ext cx="308160" cy="29196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877000" y="5054760"/>
                  <a:ext cx="3190680" cy="17269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The lowest common multiple of +2 and –3 is </a:t>
                  </a:r>
                  <a:r>
                    <a:rPr b="0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6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3522600" y="4518000"/>
                <a:ext cx="3456000" cy="2011320"/>
                <a:chOff x="3522600" y="4518000"/>
                <a:chExt cx="3456000" cy="20113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522600" y="4518000"/>
                  <a:ext cx="351000" cy="291960"/>
                </a:xfrm>
                <a:prstGeom prst="rect">
                  <a:avLst/>
                </a:prstGeom>
                <a:solidFill>
                  <a:srgbClr val="ffcc0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521400" y="6148440"/>
                  <a:ext cx="45720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5" name=""/>
            <p:cNvSpPr/>
            <p:nvPr/>
          </p:nvSpPr>
          <p:spPr>
            <a:xfrm>
              <a:off x="7721640" y="6172200"/>
              <a:ext cx="457200" cy="38088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771560" y="4409640"/>
            <a:ext cx="56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(B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(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2400" y="3228840"/>
            <a:ext cx="319068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tion is written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8840" y="3228840"/>
            <a:ext cx="3191040" cy="1724040"/>
          </a:xfrm>
          <a:prstGeom prst="borderCallout2">
            <a:avLst>
              <a:gd name="adj1" fmla="val 18750"/>
              <a:gd name="adj2" fmla="val -8333"/>
              <a:gd name="adj3" fmla="val 6629"/>
              <a:gd name="adj4" fmla="val 111791"/>
              <a:gd name="adj5" fmla="val -47328"/>
              <a:gd name="adj6" fmla="val 121245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nion is written sec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05E-1BE7-46B8-82ED-C695393F549C}" type="slidenum">
              <a:t>38</a:t>
            </a:fld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the formula of magnesium ox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480" y="1219320"/>
            <a:ext cx="8913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rite down the formulas of th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27432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8960" indent="-1488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mbine the smallest numbers of M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o that the sum of the charges equals ze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3200" y="5029200"/>
            <a:ext cx="407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+)   +     (2-) 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81000" y="5740560"/>
            <a:ext cx="53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rrect formula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786120" y="4570560"/>
            <a:ext cx="5281560" cy="2211120"/>
            <a:chOff x="3786120" y="4570560"/>
            <a:chExt cx="5281560" cy="2211120"/>
          </a:xfrm>
        </p:grpSpPr>
        <p:sp>
          <p:nvSpPr>
            <p:cNvPr id="245" name=""/>
            <p:cNvSpPr/>
            <p:nvPr/>
          </p:nvSpPr>
          <p:spPr>
            <a:xfrm>
              <a:off x="7721640" y="6172200"/>
              <a:ext cx="457200" cy="38088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786120" y="4570560"/>
              <a:ext cx="5281560" cy="2211120"/>
              <a:chOff x="3786120" y="4570560"/>
              <a:chExt cx="5281560" cy="22111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437080" y="4570560"/>
                <a:ext cx="3630600" cy="2211120"/>
                <a:chOff x="5437080" y="4570560"/>
                <a:chExt cx="3630600" cy="2211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437080" y="4570560"/>
                  <a:ext cx="308160" cy="291960"/>
                </a:xfrm>
                <a:prstGeom prst="rect">
                  <a:avLst/>
                </a:prstGeom>
                <a:solidFill>
                  <a:srgbClr val="00cc99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877000" y="5054760"/>
                  <a:ext cx="3190680" cy="172692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The lowest common multiple of +2 and –2 is </a:t>
                  </a:r>
                  <a:r>
                    <a:rPr b="0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2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786120" y="4570560"/>
                <a:ext cx="3192480" cy="1958760"/>
                <a:chOff x="3786120" y="4570560"/>
                <a:chExt cx="3192480" cy="19587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786120" y="4570560"/>
                  <a:ext cx="351000" cy="291960"/>
                </a:xfrm>
                <a:prstGeom prst="rect">
                  <a:avLst/>
                </a:prstGeom>
                <a:solidFill>
                  <a:srgbClr val="ffcc00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521400" y="6148440"/>
                  <a:ext cx="457200" cy="380880"/>
                </a:xfrm>
                <a:prstGeom prst="rect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3" name=""/>
          <p:cNvSpPr/>
          <p:nvPr/>
        </p:nvSpPr>
        <p:spPr>
          <a:xfrm>
            <a:off x="2762280" y="4465080"/>
            <a:ext cx="40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 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E6C-2463-49D1-97D2-0CD53DD7435C}" type="slidenum">
              <a:t>39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nomenclature is the system of names that chemists use to identify compounds.  Two classes of names exist: common names and systematic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7D2-0BC1-470E-A165-D3F84E090F8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Naming Binary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1294-A454-427B-A392-12EFC91C310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9320" y="28573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nary compounds contain on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different el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336-FD0C-4C98-8267-039B6AF92E0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nary ionic compounds consist of a metal combined with a non-me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447-A78B-4F90-A03D-3B4731814823}" type="slidenum">
              <a:t>42</a:t>
            </a:fld>
          </a:p>
        </p:txBody>
      </p:sp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8000"/>
                </a:solidFill>
                <a:uFillTx/>
                <a:latin typeface="Tahoma"/>
              </a:rPr>
              <a:t>A. Binary Ionic Compounds Containing a Metal Forming Only One Type of 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0C0-5937-4D33-B00F-D2656AA2740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hemical name is composed of the name of the metal followed by the name of the nonmetal which has been modified to an identifying stem plus the suffix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–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3962520"/>
            <a:ext cx="8077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is system the number of atoms of each element present is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ed in the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99F-AD37-475F-95D1-8715437A5BC8}" type="slidenum">
              <a:t>44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224784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Name of 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95560" y="31161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+ Stem of Non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7800" y="39085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plus </a:t>
            </a:r>
            <a:r>
              <a:rPr b="0" i="1" lang="en-US" sz="4000" spc="-1" strike="noStrike">
                <a:solidFill>
                  <a:srgbClr val="00cc99"/>
                </a:solidFill>
                <a:latin typeface="Arial"/>
              </a:rPr>
              <a:t>-ide</a:t>
            </a: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 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BD3-A874-424F-B7ED-77734F6CC065}" type="slidenum">
              <a:t>45</a:t>
            </a:fld>
          </a:p>
        </p:txBody>
      </p:sp>
    </p:spTree>
  </p:cSld>
  <p:transition spd="slow">
    <p:blinds dir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796-08FC-4E17-ABDD-E117449B92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formula it is a two-element compound and follows the rules for binary compou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879800" y="218268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C2A-7B31-45F1-873A-D45C913BFF4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876920" y="2182680"/>
            <a:ext cx="3809880" cy="37116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 compound is composed of Ca,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, and F, a nonmetal.  Ca forms only a +2 cation.  Thus, call the positive part of the compoun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lc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732-F08A-4187-B338-DF6DFF462997}" type="slidenum">
              <a:t>48</a:t>
            </a:fld>
          </a:p>
        </p:txBody>
      </p:sp>
    </p:spTree>
  </p:cSld>
  <p:transition spd="slow"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3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 the name of the second element to the stem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luor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dd the binary ending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–id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 form the name of the negative part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fluorid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879800" y="218268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142-D9E0-4D5A-AC75-6FB498930E7B}" type="slidenum">
              <a:t>49</a:t>
            </a:fld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792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not based on the composition of the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based on an outstanding chemical or physical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sts prefer systematic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atic names precisely identify the chemical composition of the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sent system of inorganic chemical nomenclature was devised by the International Union of Pure and Applied Chemistry (IUPA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80880"/>
            <a:ext cx="77752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 names are arbitrary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235-6BD8-4C49-913B-3B71DBB2C4E0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The name of the compound is therefor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lcium fluor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CaF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879800" y="218268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0CB-59B4-4F75-9DA9-378D4DDAB1CC}" type="slidenum">
              <a:t>50</a:t>
            </a:fld>
          </a:p>
        </p:txBody>
      </p:sp>
    </p:spTree>
  </p:cSld>
  <p:transition spd="slow"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EC7-D0BA-4CBB-9C50-3EA933E67EB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chlor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762120"/>
            <a:ext cx="31240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09880" y="4199040"/>
            <a:ext cx="2971800" cy="1581120"/>
            <a:chOff x="3809880" y="4199040"/>
            <a:chExt cx="2971800" cy="1581120"/>
          </a:xfrm>
        </p:grpSpPr>
        <p:sp>
          <p:nvSpPr>
            <p:cNvPr id="284" name=""/>
            <p:cNvSpPr/>
            <p:nvPr/>
          </p:nvSpPr>
          <p:spPr>
            <a:xfrm>
              <a:off x="3809880" y="4199040"/>
              <a:ext cx="1855800" cy="914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9880" y="519876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57600" y="2362320"/>
            <a:ext cx="2971800" cy="1752480"/>
            <a:chOff x="3657600" y="2362320"/>
            <a:chExt cx="2971800" cy="1752480"/>
          </a:xfrm>
        </p:grpSpPr>
        <p:sp>
          <p:nvSpPr>
            <p:cNvPr id="287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09880" y="3200400"/>
              <a:ext cx="267840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8DC-C557-4F47-97E2-3A78F9BC182F}" type="slidenum">
              <a:t>52</a:t>
            </a:fld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magnesiumchlor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62520" y="762120"/>
            <a:ext cx="3124080" cy="155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MgCl</a:t>
            </a:r>
            <a:r>
              <a:rPr b="0" lang="en-US" sz="8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809880" y="4195800"/>
            <a:ext cx="2971800" cy="1643400"/>
            <a:chOff x="3809880" y="4195800"/>
            <a:chExt cx="2971800" cy="1643400"/>
          </a:xfrm>
        </p:grpSpPr>
        <p:sp>
          <p:nvSpPr>
            <p:cNvPr id="293" name=""/>
            <p:cNvSpPr/>
            <p:nvPr/>
          </p:nvSpPr>
          <p:spPr>
            <a:xfrm>
              <a:off x="3809880" y="4195800"/>
              <a:ext cx="185580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52578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657600" y="2362320"/>
            <a:ext cx="4294080" cy="1752480"/>
            <a:chOff x="3657600" y="2362320"/>
            <a:chExt cx="4294080" cy="1752480"/>
          </a:xfrm>
        </p:grpSpPr>
        <p:sp>
          <p:nvSpPr>
            <p:cNvPr id="296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09880" y="3200400"/>
              <a:ext cx="414180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223-6353-48EE-A297-FB5A6743A02D}" type="slidenum">
              <a:t>53</a:t>
            </a:fld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otassium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ox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762120"/>
            <a:ext cx="3124080" cy="155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8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809880" y="4195800"/>
            <a:ext cx="2971800" cy="1643400"/>
            <a:chOff x="3809880" y="4195800"/>
            <a:chExt cx="2971800" cy="1643400"/>
          </a:xfrm>
        </p:grpSpPr>
        <p:sp>
          <p:nvSpPr>
            <p:cNvPr id="303" name=""/>
            <p:cNvSpPr/>
            <p:nvPr/>
          </p:nvSpPr>
          <p:spPr>
            <a:xfrm>
              <a:off x="3809880" y="4195800"/>
              <a:ext cx="91764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9880" y="52578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657600" y="2362320"/>
            <a:ext cx="3801960" cy="1752480"/>
            <a:chOff x="3657600" y="2362320"/>
            <a:chExt cx="3801960" cy="1752480"/>
          </a:xfrm>
        </p:grpSpPr>
        <p:sp>
          <p:nvSpPr>
            <p:cNvPr id="306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82880" y="3200400"/>
              <a:ext cx="367668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3C7-9842-4C50-BC82-44ADB46318CD}" type="slidenum">
              <a:t>54</a:t>
            </a:fld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24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mpound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33920" y="2971800"/>
            <a:ext cx="4572000" cy="22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br>
              <a:rPr sz="7000"/>
            </a:br>
            <a:r>
              <a:rPr b="0" lang="en-US" sz="7000" spc="-1" strike="noStrike">
                <a:solidFill>
                  <a:srgbClr val="000000"/>
                </a:solidFill>
                <a:latin typeface="Times New Roman"/>
              </a:rPr>
              <a:t>phosphid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3268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762120"/>
            <a:ext cx="3124080" cy="155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8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772080" y="4195800"/>
            <a:ext cx="3009600" cy="1643400"/>
            <a:chOff x="3772080" y="4195800"/>
            <a:chExt cx="3009600" cy="1643400"/>
          </a:xfrm>
        </p:grpSpPr>
        <p:sp>
          <p:nvSpPr>
            <p:cNvPr id="313" name=""/>
            <p:cNvSpPr/>
            <p:nvPr/>
          </p:nvSpPr>
          <p:spPr>
            <a:xfrm>
              <a:off x="3772080" y="4195800"/>
              <a:ext cx="2638080" cy="971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09880" y="525780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nonmetal 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657600" y="2362320"/>
            <a:ext cx="2971800" cy="1752480"/>
            <a:chOff x="3657600" y="2362320"/>
            <a:chExt cx="2971800" cy="1752480"/>
          </a:xfrm>
        </p:grpSpPr>
        <p:sp>
          <p:nvSpPr>
            <p:cNvPr id="316" name=""/>
            <p:cNvSpPr/>
            <p:nvPr/>
          </p:nvSpPr>
          <p:spPr>
            <a:xfrm>
              <a:off x="3657600" y="23623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Arial"/>
                </a:rPr>
                <a:t>name of met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82880" y="3200400"/>
              <a:ext cx="2673360" cy="91440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D48-0277-489D-8983-A29B1DB7CE1D}" type="slidenum">
              <a:t>55</a:t>
            </a:fld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8000"/>
                </a:solidFill>
                <a:uFillTx/>
                <a:latin typeface="Tahoma"/>
              </a:rPr>
              <a:t>B. Binary Ionic Compounds Containing a Metal</a:t>
            </a:r>
            <a:br>
              <a:rPr sz="3200"/>
            </a:br>
            <a:r>
              <a:rPr b="0" lang="en-US" sz="3200" spc="-1" strike="noStrike" u="sng">
                <a:solidFill>
                  <a:srgbClr val="008000"/>
                </a:solidFill>
                <a:uFillTx/>
                <a:latin typeface="Tahoma"/>
              </a:rPr>
              <a:t>That Can Form Two or More Types of 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F53-B1B3-499B-99F6-5B67DACCC30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compound follows the rules for a binary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FF3-8BEB-4BE4-B4EF-91C9616738B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t is a compound of Fe, a metal, and S, a nonmetal.  Fe is a transition metal that has more than one type of cat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1600200"/>
            <a:ext cx="495324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lfides, the charge on S is –2.  Therefore the charge on Fe must be +2, and the name of the positiv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part of the compou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iron(II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25A-1E28-463C-A428-299EFCC690D3}" type="slidenum">
              <a:t>58</a:t>
            </a:fld>
          </a:p>
        </p:txBody>
      </p:sp>
    </p:spTree>
  </p:cSld>
  <p:transition spd="slow">
    <p:blinds dir="ver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have already determined that the name of the negative part of the compound will b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ulfi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C86-F0EE-4115-879C-3C1A8208C16B}" type="slidenum">
              <a:t>59</a:t>
            </a:fld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C53-CFD5-478B-A16F-5C68F90B3ADF}" type="slidenum">
              <a:t>6</a:t>
            </a:fld>
          </a:p>
        </p:txBody>
      </p:sp>
    </p:spTree>
  </p:cSld>
  <p:transition spd="slow"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name of FeS is 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iron(II) sulf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Name the Compound F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48320" y="2128680"/>
            <a:ext cx="3809880" cy="381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84F-7ECF-437C-A507-7B4C4AA8BC71}" type="slidenum">
              <a:t>60</a:t>
            </a:fld>
          </a:p>
        </p:txBody>
      </p:sp>
    </p:spTree>
  </p:cSld>
  <p:transition spd="slow"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The Stock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50C-1DC2-482F-AE14-842D124B7A0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rcRect l="753" t="21998" r="-768" b="29252"/>
          <a:stretch/>
        </p:blipFill>
        <p:spPr>
          <a:xfrm>
            <a:off x="206280" y="3308400"/>
            <a:ext cx="9023400" cy="3297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etals in the center of the periodic table  (including the transition metals) often form more than one type of 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505320" y="4311720"/>
            <a:ext cx="822240" cy="2394000"/>
            <a:chOff x="3505320" y="4311720"/>
            <a:chExt cx="822240" cy="23940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8019" t="8063" r="13742" b="0"/>
            <a:stretch/>
          </p:blipFill>
          <p:spPr>
            <a:xfrm>
              <a:off x="3505320" y="4311720"/>
              <a:ext cx="82224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flipH="1">
              <a:off x="3505320" y="6705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505320" y="4311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EC9-4E89-4F95-B4B0-8B4E408E49BE}" type="slidenum">
              <a:t>62</a:t>
            </a:fld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753" t="21998" r="-768" b="29252"/>
          <a:stretch/>
        </p:blipFill>
        <p:spPr>
          <a:xfrm>
            <a:off x="206280" y="3308400"/>
            <a:ext cx="9023400" cy="3297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04840" y="22860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ion of iron forms a different compound with the same a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05320" y="4311720"/>
            <a:ext cx="822240" cy="2394000"/>
            <a:chOff x="3505320" y="4311720"/>
            <a:chExt cx="822240" cy="2394000"/>
          </a:xfrm>
        </p:grpSpPr>
        <p:pic>
          <p:nvPicPr>
            <p:cNvPr id="343" name="" descr=""/>
            <p:cNvPicPr/>
            <p:nvPr/>
          </p:nvPicPr>
          <p:blipFill>
            <a:blip r:embed="rId2"/>
            <a:srcRect l="8019" t="8063" r="13742" b="0"/>
            <a:stretch/>
          </p:blipFill>
          <p:spPr>
            <a:xfrm>
              <a:off x="3505320" y="4311720"/>
              <a:ext cx="82224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>
              <a:off x="3505320" y="6705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505320" y="4311720"/>
              <a:ext cx="82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57680" y="2451600"/>
            <a:ext cx="103500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137400"/>
            <a:ext cx="993960" cy="58140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76640" y="2451600"/>
            <a:ext cx="129708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76640" y="3103920"/>
            <a:ext cx="1295640" cy="64872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D3C-6552-47A0-8321-48A7766E4850}" type="slidenum">
              <a:t>63</a:t>
            </a:fld>
          </a:p>
        </p:txBody>
      </p:sp>
    </p:spTree>
  </p:cSld>
  <p:transition spd="slow">
    <p:blinds dir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84360" y="611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UPAC devised the Stock System of nomenclature to name compounds of metals that have more than one type of 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611280"/>
            <a:ext cx="8680320" cy="23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tock System the charge on the cation is designated by a Roman numeral placed in parentheses immediately following the name of the me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14440" y="3200400"/>
          <a:ext cx="8076960" cy="2178000"/>
        </p:xfrm>
        <a:graphic>
          <a:graphicData uri="http://schemas.openxmlformats.org/drawingml/2006/table">
            <a:tbl>
              <a:tblPr/>
              <a:tblGrid>
                <a:gridCol w="1652400"/>
                <a:gridCol w="1285920"/>
                <a:gridCol w="1284480"/>
                <a:gridCol w="1285560"/>
                <a:gridCol w="1283040"/>
                <a:gridCol w="1285560"/>
              </a:tblGrid>
              <a:tr h="122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ion Ch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95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man Num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I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V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684360" y="5867280"/>
            <a:ext cx="640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nmetal name ends in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id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F0D-787B-4511-B4CE-D75467B8AFA9}" type="slidenum">
              <a:t>64</a:t>
            </a:fld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tock Syste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har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igher  Charge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1990800"/>
            <a:ext cx="9144000" cy="4876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per                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per 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u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+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pper 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F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(I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e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ron(I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(I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b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4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ad(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ury(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g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ercury(I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n(II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n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4+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in (IV)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9360"/>
            <a:ext cx="914400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tock Syste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Higher  Charge</a:t>
            </a: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Formul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114640" y="5133960"/>
          <a:ext cx="67608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4640" y="5133960"/>
                    <a:ext cx="676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A86-B186-449A-8D6A-9464771AEB89}" type="slidenum">
              <a:t>65</a:t>
            </a:fld>
          </a:p>
        </p:txBody>
      </p:sp>
    </p:spTree>
  </p:cSld>
  <p:transition spd="slow">
    <p:blinds dir="ver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79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6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57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1A9-B544-46D7-8849-2A8AE6E5286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752480" y="310824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310824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2920" y="3333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(II)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367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632480" y="2619360"/>
            <a:ext cx="3689280" cy="642600"/>
            <a:chOff x="4632480" y="2619360"/>
            <a:chExt cx="3689280" cy="642600"/>
          </a:xfrm>
        </p:grpSpPr>
        <p:sp>
          <p:nvSpPr>
            <p:cNvPr id="372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2480" y="2619360"/>
              <a:ext cx="155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ron(I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(III)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377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382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ron(II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1209600" y="3108240"/>
            <a:ext cx="32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479-F2AE-4C82-9CA9-A033C0AE919F}" type="slidenum">
              <a:t>67</a:t>
            </a:fld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752480" y="310824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10824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22920" y="3333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n(II)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390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4632480" y="2619360"/>
            <a:ext cx="3689280" cy="642600"/>
            <a:chOff x="4632480" y="2619360"/>
            <a:chExt cx="3689280" cy="642600"/>
          </a:xfrm>
        </p:grpSpPr>
        <p:sp>
          <p:nvSpPr>
            <p:cNvPr id="395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2480" y="2619360"/>
              <a:ext cx="155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tin(II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n(IV)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400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405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tin(IV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209600" y="3108240"/>
            <a:ext cx="32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03A-7D39-4407-AEB4-D81264401EBD}" type="slidenum">
              <a:t>68</a:t>
            </a:fld>
          </a:p>
        </p:txBody>
      </p:sp>
    </p:spTree>
  </p:cSld>
  <p:transition spd="slow">
    <p:blinds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The Classical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462-E164-4507-8B88-0078B10FE18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6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ments and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E90-EB82-482C-BED3-E3FF677B25E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5760" y="2666880"/>
            <a:ext cx="82310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lassical Syste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me of the metal (usually the Latin name)  is modified with the suffix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06F-49E5-44F7-94C9-4506748D52D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9047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-ou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160" y="25909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cc"/>
                </a:solidFill>
                <a:latin typeface="Times New Roman"/>
              </a:rPr>
              <a:t>-</a:t>
            </a: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ic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er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22076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l name end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33720" y="38095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metal name ends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76640" y="4419720"/>
            <a:ext cx="99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cc"/>
                </a:solidFill>
                <a:latin typeface="Times New Roman"/>
              </a:rPr>
              <a:t>-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463-FB17-4872-A966-E217CF00F349}" type="slidenum">
              <a:t>71</a:t>
            </a:fld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9FB-C79F-4B39-97C6-620EAC2F5AB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839880" y="3108240"/>
            <a:ext cx="2133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9880" y="310824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22920" y="333360"/>
            <a:ext cx="31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rrous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421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632480" y="2619360"/>
            <a:ext cx="3689280" cy="642600"/>
            <a:chOff x="4632480" y="2619360"/>
            <a:chExt cx="3689280" cy="642600"/>
          </a:xfrm>
        </p:grpSpPr>
        <p:sp>
          <p:nvSpPr>
            <p:cNvPr id="426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32480" y="2619360"/>
              <a:ext cx="155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ferro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rric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431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436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ferri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839880" y="3108240"/>
            <a:ext cx="327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020-D84D-4926-83D7-CA585E1E7378}" type="slidenum">
              <a:t>73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80960" y="310824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ion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80960" y="3108240"/>
            <a:ext cx="221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ion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65760" y="101916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43400" y="333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nous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318280" y="1552680"/>
            <a:ext cx="1957320" cy="1220400"/>
            <a:chOff x="5318280" y="1552680"/>
            <a:chExt cx="1957320" cy="1220400"/>
          </a:xfrm>
        </p:grpSpPr>
        <p:sp>
          <p:nvSpPr>
            <p:cNvPr id="444" name=""/>
            <p:cNvSpPr/>
            <p:nvPr/>
          </p:nvSpPr>
          <p:spPr>
            <a:xfrm>
              <a:off x="5318280" y="2130480"/>
              <a:ext cx="7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43720" y="213048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81940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57840" y="155268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114800" y="2619360"/>
            <a:ext cx="4206960" cy="642600"/>
            <a:chOff x="4114800" y="2619360"/>
            <a:chExt cx="4206960" cy="642600"/>
          </a:xfrm>
        </p:grpSpPr>
        <p:sp>
          <p:nvSpPr>
            <p:cNvPr id="449" name=""/>
            <p:cNvSpPr/>
            <p:nvPr/>
          </p:nvSpPr>
          <p:spPr>
            <a:xfrm>
              <a:off x="6613560" y="261936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14800" y="2619360"/>
              <a:ext cx="207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stanno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870520" y="4282920"/>
            <a:ext cx="1295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nB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35971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nic brom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440320" y="4816440"/>
            <a:ext cx="1908360" cy="1220400"/>
            <a:chOff x="5440320" y="4816440"/>
            <a:chExt cx="1908360" cy="1220400"/>
          </a:xfrm>
        </p:grpSpPr>
        <p:sp>
          <p:nvSpPr>
            <p:cNvPr id="454" name=""/>
            <p:cNvSpPr/>
            <p:nvPr/>
          </p:nvSpPr>
          <p:spPr>
            <a:xfrm>
              <a:off x="661680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40320" y="5394240"/>
              <a:ext cx="73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+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911920" y="4816440"/>
              <a:ext cx="30456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0920" y="4816440"/>
              <a:ext cx="30492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572000" y="5883120"/>
            <a:ext cx="3809880" cy="642600"/>
            <a:chOff x="4572000" y="5883120"/>
            <a:chExt cx="3809880" cy="642600"/>
          </a:xfrm>
        </p:grpSpPr>
        <p:sp>
          <p:nvSpPr>
            <p:cNvPr id="459" name=""/>
            <p:cNvSpPr/>
            <p:nvPr/>
          </p:nvSpPr>
          <p:spPr>
            <a:xfrm>
              <a:off x="4572000" y="5883120"/>
              <a:ext cx="179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stanni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3680" y="5883120"/>
              <a:ext cx="170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brom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838080" y="3108240"/>
            <a:ext cx="327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 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AFA-B2D9-4AD7-B75F-C594B8A875C1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Higher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600200"/>
          <a:ext cx="9144000" cy="3892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905120"/>
                <a:gridCol w="1752480"/>
                <a:gridCol w="18288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eme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cc"/>
                          </a:solidFill>
                          <a:uFillTx/>
                          <a:latin typeface="Times New Roman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cc"/>
                          </a:solidFill>
                          <a:uFillTx/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p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Cu</a:t>
                      </a:r>
                      <a:r>
                        <a:rPr b="0" lang="en-US" sz="2800" spc="-1" strike="noStrike" baseline="30000">
                          <a:solidFill>
                            <a:srgbClr val="cc00cc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cup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r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2800" spc="-1" strike="noStrike" baseline="30000">
                          <a:solidFill>
                            <a:srgbClr val="cc00cc"/>
                          </a:solidFill>
                          <a:latin typeface="Times New Roman"/>
                        </a:rPr>
                        <a:t>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ferric</a:t>
                      </a:r>
                      <a:r>
                        <a:rPr b="0" lang="en-US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m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Pb</a:t>
                      </a:r>
                      <a:r>
                        <a:rPr b="0" lang="en-US" sz="2800" spc="-1" strike="noStrike" baseline="30000">
                          <a:solidFill>
                            <a:srgbClr val="cc0099"/>
                          </a:solidFill>
                          <a:latin typeface="Times New Roman"/>
                        </a:rPr>
                        <a:t>4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plumb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u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rcu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Hg</a:t>
                      </a:r>
                      <a:r>
                        <a:rPr b="0" lang="en-US" sz="2800" spc="-1" strike="noStrike" baseline="30000">
                          <a:solidFill>
                            <a:srgbClr val="cc0099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mercu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Sn</a:t>
                      </a:r>
                      <a:r>
                        <a:rPr b="0" lang="en-US" sz="2800" spc="-1" strike="noStrike" baseline="30000">
                          <a:solidFill>
                            <a:srgbClr val="cc0099"/>
                          </a:solidFill>
                          <a:latin typeface="Times New Roman"/>
                        </a:rPr>
                        <a:t>4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99"/>
                          </a:solidFill>
                          <a:latin typeface="Times New Roman"/>
                        </a:rPr>
                        <a:t>stan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64" name=""/>
          <p:cNvSpPr/>
          <p:nvPr/>
        </p:nvSpPr>
        <p:spPr>
          <a:xfrm>
            <a:off x="1440" y="0"/>
            <a:ext cx="9141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Ion Names: Classical Syste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266920" y="4169160"/>
            <a:ext cx="685800" cy="786960"/>
            <a:chOff x="2266920" y="4169160"/>
            <a:chExt cx="685800" cy="786960"/>
          </a:xfrm>
        </p:grpSpPr>
        <p:sp>
          <p:nvSpPr>
            <p:cNvPr id="466" name=""/>
            <p:cNvSpPr/>
            <p:nvPr/>
          </p:nvSpPr>
          <p:spPr>
            <a:xfrm>
              <a:off x="2266920" y="41691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66920" y="44355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AA3-9850-4D1E-9F6A-9BC30FEE8F28}" type="slidenum">
              <a:t>75</a:t>
            </a:fld>
          </a:p>
        </p:txBody>
      </p:sp>
    </p:spTree>
  </p:cSld>
  <p:transition spd="slow"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Binary Compounds Containing Two Nonmeta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76B-44AD-4712-B2DD-57447AC6D3BB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285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unds between nonmetals are molecular, not ion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23D-B357-4B86-8EC3-4B93EDA69868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compound formed between two nonmetals, the element that occurs first in this series is named fir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387520" y="2209680"/>
            <a:ext cx="91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689440" y="2209680"/>
            <a:ext cx="106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B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99A-84E7-4BB6-98C6-B5D49B339D34}" type="slidenum">
              <a:t>78</a:t>
            </a:fld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3000"/>
                            </p:stCondLst>
                            <p:childTnLst>
                              <p:par>
                                <p:cTn id="8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500"/>
                            </p:stCondLst>
                            <p:childTnLst>
                              <p:par>
                                <p:cTn id="8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4000"/>
                            </p:stCondLst>
                            <p:childTnLst>
                              <p:par>
                                <p:cTn id="8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500"/>
                            </p:stCondLst>
                            <p:childTnLst>
                              <p:par>
                                <p:cTn id="8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efi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D435-F2C0-42B8-A28C-09574EA24809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ula for most ele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symbol of the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5680"/>
            <a:ext cx="9144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Sodium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Potassium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Zinc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Argon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Mercury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H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Lead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P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060800"/>
                <a:tab algn="l" pos="5030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alcium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254-D225-42C1-9195-2C9A54E131B0}" type="slidenum">
              <a:t>8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reek prefix is placed before the name of each element to indicate the number of atoms of the element that are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5C64-5FF5-421F-B700-6DF5F41DF595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1422000" y="2895120"/>
            <a:ext cx="24382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di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tri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 =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tetr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pent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5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283000" y="2285640"/>
            <a:ext cx="2438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hex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hepta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=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octa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 = 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nona =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deca =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424160" y="2286000"/>
            <a:ext cx="235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Times New Roman"/>
              </a:rPr>
              <a:t>mono = 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106668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o is rarely used when naming the first e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FFA-EC27-4F20-9EC6-C32D9B008083}" type="slidenum">
              <a:t>81</a:t>
            </a:fld>
          </a:p>
        </p:txBody>
      </p:sp>
    </p:spTree>
  </p:cSld>
  <p:transition spd="slow">
    <p:blinds dir="vert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391-1412-46D2-8FD9-3AB2F2DA595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352680" y="2441520"/>
            <a:ext cx="232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58960" y="1755720"/>
            <a:ext cx="551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nitrogen tri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990720" y="3186000"/>
            <a:ext cx="3441600" cy="1815120"/>
            <a:chOff x="990720" y="3186000"/>
            <a:chExt cx="3441600" cy="1815120"/>
          </a:xfrm>
        </p:grpSpPr>
        <p:sp>
          <p:nvSpPr>
            <p:cNvPr id="483" name=""/>
            <p:cNvSpPr/>
            <p:nvPr/>
          </p:nvSpPr>
          <p:spPr>
            <a:xfrm>
              <a:off x="990720" y="3809880"/>
              <a:ext cx="34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indicates two</a:t>
              </a:r>
              <a:br>
                <a:rPr sz="3600"/>
              </a:b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nitrogen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944800" y="3186000"/>
              <a:ext cx="129384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395960" y="3186000"/>
            <a:ext cx="3673440" cy="1815120"/>
            <a:chOff x="4395960" y="3186000"/>
            <a:chExt cx="3673440" cy="1815120"/>
          </a:xfrm>
        </p:grpSpPr>
        <p:sp>
          <p:nvSpPr>
            <p:cNvPr id="486" name=""/>
            <p:cNvSpPr/>
            <p:nvPr/>
          </p:nvSpPr>
          <p:spPr>
            <a:xfrm>
              <a:off x="5181480" y="3186000"/>
              <a:ext cx="129384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95960" y="380988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ndicates three</a:t>
              </a:r>
              <a:br>
                <a:rPr sz="3600"/>
              </a:b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oxygen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6A4-4044-443B-A0E6-451FDD6BD6ED}" type="slidenum">
              <a:t>83</a:t>
            </a:fld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3409920" y="2441520"/>
            <a:ext cx="232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81120" y="1755720"/>
            <a:ext cx="59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orous pentachlor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85800" y="3144960"/>
            <a:ext cx="4051440" cy="1870560"/>
            <a:chOff x="685800" y="3144960"/>
            <a:chExt cx="4051440" cy="1870560"/>
          </a:xfrm>
        </p:grpSpPr>
        <p:sp>
          <p:nvSpPr>
            <p:cNvPr id="491" name=""/>
            <p:cNvSpPr/>
            <p:nvPr/>
          </p:nvSpPr>
          <p:spPr>
            <a:xfrm>
              <a:off x="685800" y="3824280"/>
              <a:ext cx="405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indicates one</a:t>
              </a:r>
              <a:br>
                <a:rPr sz="3600"/>
              </a:b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phosphorous ato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742840" y="3144960"/>
              <a:ext cx="1400040" cy="817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800600" y="3200400"/>
            <a:ext cx="3673440" cy="1814760"/>
            <a:chOff x="4800600" y="3200400"/>
            <a:chExt cx="3673440" cy="1814760"/>
          </a:xfrm>
        </p:grpSpPr>
        <p:sp>
          <p:nvSpPr>
            <p:cNvPr id="494" name=""/>
            <p:cNvSpPr/>
            <p:nvPr/>
          </p:nvSpPr>
          <p:spPr>
            <a:xfrm>
              <a:off x="5121000" y="3200400"/>
              <a:ext cx="1293840" cy="677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00600" y="382392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ndicates five</a:t>
              </a:r>
              <a:br>
                <a:rPr sz="3600"/>
              </a:b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chlorine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D0FF-E7A0-4262-9906-F5980805E728}" type="slidenum">
              <a:t>84</a:t>
            </a:fld>
          </a:p>
        </p:txBody>
      </p:sp>
    </p:spTree>
  </p:cSld>
  <p:transition spd="slow">
    <p:blinds dir="vert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409920" y="2441520"/>
            <a:ext cx="232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81120" y="1755720"/>
            <a:ext cx="59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hlorine heptaox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901800" y="3186000"/>
            <a:ext cx="4051080" cy="1815120"/>
            <a:chOff x="901800" y="3186000"/>
            <a:chExt cx="4051080" cy="1815120"/>
          </a:xfrm>
        </p:grpSpPr>
        <p:sp>
          <p:nvSpPr>
            <p:cNvPr id="499" name=""/>
            <p:cNvSpPr/>
            <p:nvPr/>
          </p:nvSpPr>
          <p:spPr>
            <a:xfrm>
              <a:off x="901800" y="3809880"/>
              <a:ext cx="405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indicates two</a:t>
              </a:r>
              <a:br>
                <a:rPr sz="3600"/>
              </a:b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chlorine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064680" y="3186000"/>
              <a:ext cx="129348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952880" y="3186000"/>
            <a:ext cx="3673440" cy="1815120"/>
            <a:chOff x="4952880" y="3186000"/>
            <a:chExt cx="3673440" cy="1815120"/>
          </a:xfrm>
        </p:grpSpPr>
        <p:sp>
          <p:nvSpPr>
            <p:cNvPr id="502" name=""/>
            <p:cNvSpPr/>
            <p:nvPr/>
          </p:nvSpPr>
          <p:spPr>
            <a:xfrm>
              <a:off x="5273280" y="3186000"/>
              <a:ext cx="1293840" cy="677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52880" y="3809880"/>
              <a:ext cx="367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indicates seven</a:t>
              </a:r>
              <a:br>
                <a:rPr sz="3600"/>
              </a:br>
              <a:r>
                <a:rPr b="0" lang="en-US" sz="3600" spc="-1" strike="noStrike">
                  <a:solidFill>
                    <a:srgbClr val="33cc33"/>
                  </a:solidFill>
                  <a:latin typeface="Times New Roman"/>
                </a:rPr>
                <a:t>oxygen atom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431-AA3D-4ABE-A224-733020D0AD9C}" type="slidenum">
              <a:t>85</a:t>
            </a:fld>
          </a:p>
        </p:txBody>
      </p:sp>
    </p:spTree>
  </p:cSld>
  <p:transition spd="slow">
    <p:blinds dir="vert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427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2 elements presen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 is bina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ous and chlorine are nonmetals so the rules for naming binary compounds of 2 nonmetals app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82263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rous is named first. Therefore the compound is a chlor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Determine the Name of PCl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8B2-A496-4B97-93FB-9FEE57C8E918}" type="slidenum">
              <a:t>86</a:t>
            </a:fld>
          </a:p>
        </p:txBody>
      </p:sp>
    </p:spTree>
  </p:cSld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1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1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45960" y="9907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refix is needed for phosphorous because each molecule of PC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only one phosphorous atom.  The prefix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enta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with chloride because there are 5 chlorine atoms present in one molec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 i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hosphorous pentachlor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Determine the Name of PCl</a:t>
            </a:r>
            <a:r>
              <a:rPr b="1" lang="en-US" sz="3600" spc="-1" strike="noStrike" baseline="-25000">
                <a:solidFill>
                  <a:srgbClr val="9966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60B-C426-4D9B-8870-CF1FA93EBF4E}" type="slidenum">
              <a:t>87</a:t>
            </a:fld>
          </a:p>
        </p:txBody>
      </p:sp>
    </p:spTree>
  </p:cSld>
  <p:transition spd="slow">
    <p:blinds dir="vert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0F1-5E3F-47BB-A335-31411F8F090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dichlorine trioxide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79600" y="838080"/>
            <a:ext cx="4224240" cy="3886200"/>
            <a:chOff x="579600" y="838080"/>
            <a:chExt cx="4224240" cy="3886200"/>
          </a:xfrm>
        </p:grpSpPr>
        <p:sp>
          <p:nvSpPr>
            <p:cNvPr id="512" name=""/>
            <p:cNvSpPr/>
            <p:nvPr/>
          </p:nvSpPr>
          <p:spPr>
            <a:xfrm>
              <a:off x="579600" y="3809880"/>
              <a:ext cx="830160" cy="91440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05240" y="838080"/>
              <a:ext cx="498600" cy="609840"/>
            </a:xfrm>
            <a:prstGeom prst="rect">
              <a:avLst/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210280" y="838080"/>
            <a:ext cx="914400" cy="3919680"/>
            <a:chOff x="5210280" y="838080"/>
            <a:chExt cx="914400" cy="3919680"/>
          </a:xfrm>
        </p:grpSpPr>
        <p:sp>
          <p:nvSpPr>
            <p:cNvPr id="515" name=""/>
            <p:cNvSpPr/>
            <p:nvPr/>
          </p:nvSpPr>
          <p:spPr>
            <a:xfrm>
              <a:off x="5254560" y="838080"/>
              <a:ext cx="498600" cy="609840"/>
            </a:xfrm>
            <a:prstGeom prst="rect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10280" y="3843360"/>
              <a:ext cx="914400" cy="914400"/>
            </a:xfrm>
            <a:prstGeom prst="rect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CFA-3403-44B8-8BD8-AFB7E41EBE5A}" type="slidenum">
              <a:t>89</a:t>
            </a:fld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8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Hydrogen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Nitrogen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xygen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Fluor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hlor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l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rom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r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4060800"/>
                <a:tab algn="l" pos="502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Iodine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I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8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7 elements are fou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nature as diatomic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BF2-EA80-42CF-ACE3-6C286AEDFF7C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dinitrogen trioxide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31720" y="838080"/>
            <a:ext cx="4110120" cy="3915000"/>
            <a:chOff x="531720" y="838080"/>
            <a:chExt cx="4110120" cy="3915000"/>
          </a:xfrm>
        </p:grpSpPr>
        <p:sp>
          <p:nvSpPr>
            <p:cNvPr id="520" name=""/>
            <p:cNvSpPr/>
            <p:nvPr/>
          </p:nvSpPr>
          <p:spPr>
            <a:xfrm>
              <a:off x="531720" y="3838680"/>
              <a:ext cx="858960" cy="91440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43240" y="838080"/>
              <a:ext cx="498600" cy="60984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172120" y="838080"/>
            <a:ext cx="976320" cy="3900600"/>
            <a:chOff x="5172120" y="838080"/>
            <a:chExt cx="976320" cy="3900600"/>
          </a:xfrm>
        </p:grpSpPr>
        <p:sp>
          <p:nvSpPr>
            <p:cNvPr id="523" name=""/>
            <p:cNvSpPr/>
            <p:nvPr/>
          </p:nvSpPr>
          <p:spPr>
            <a:xfrm>
              <a:off x="5172120" y="838080"/>
              <a:ext cx="4986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75440" y="3824280"/>
              <a:ext cx="87300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B7D-08DA-4522-9F47-1C12417A6B4A}" type="slidenum">
              <a:t>90</a:t>
            </a:fld>
          </a:p>
        </p:txBody>
      </p:sp>
    </p:spTree>
  </p:cSld>
  <p:transition spd="slow">
    <p:blinds dir="vert"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7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tetrachloride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CCl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562200" y="838080"/>
            <a:ext cx="1943280" cy="3967200"/>
            <a:chOff x="3562200" y="838080"/>
            <a:chExt cx="1943280" cy="3967200"/>
          </a:xfrm>
        </p:grpSpPr>
        <p:sp>
          <p:nvSpPr>
            <p:cNvPr id="528" name=""/>
            <p:cNvSpPr/>
            <p:nvPr/>
          </p:nvSpPr>
          <p:spPr>
            <a:xfrm>
              <a:off x="5102280" y="838080"/>
              <a:ext cx="4032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62200" y="3890880"/>
              <a:ext cx="186372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BB4-6FDA-482B-B972-87C6AEE62370}" type="slidenum">
              <a:t>91</a:t>
            </a:fld>
          </a:p>
        </p:txBody>
      </p:sp>
    </p:spTree>
  </p:cSld>
  <p:transition spd="slow">
    <p:blinds dir="vert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6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monoxide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95720" y="838080"/>
            <a:ext cx="1805040" cy="4003920"/>
            <a:chOff x="4095720" y="838080"/>
            <a:chExt cx="1805040" cy="4003920"/>
          </a:xfrm>
        </p:grpSpPr>
        <p:sp>
          <p:nvSpPr>
            <p:cNvPr id="533" name=""/>
            <p:cNvSpPr/>
            <p:nvPr/>
          </p:nvSpPr>
          <p:spPr>
            <a:xfrm>
              <a:off x="4095720" y="3927600"/>
              <a:ext cx="180504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81480" y="838080"/>
              <a:ext cx="4032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6F1-1AFE-4813-96AA-78F5AEF820B9}" type="slidenum">
              <a:t>92</a:t>
            </a:fld>
          </a:p>
        </p:txBody>
      </p:sp>
    </p:spTree>
  </p:cSld>
  <p:transition spd="slow">
    <p:blinds dir="vert"/>
  </p:transition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9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dioxid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Name CO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641840" y="825480"/>
            <a:ext cx="2063880" cy="3898800"/>
            <a:chOff x="4641840" y="825480"/>
            <a:chExt cx="2063880" cy="3898800"/>
          </a:xfrm>
        </p:grpSpPr>
        <p:sp>
          <p:nvSpPr>
            <p:cNvPr id="538" name=""/>
            <p:cNvSpPr/>
            <p:nvPr/>
          </p:nvSpPr>
          <p:spPr>
            <a:xfrm>
              <a:off x="6324480" y="825480"/>
              <a:ext cx="381240" cy="60948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41840" y="3809880"/>
              <a:ext cx="71136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A23-D4D3-4BF1-A981-D049F8448650}" type="slidenum">
              <a:t>93</a:t>
            </a:fld>
          </a:p>
        </p:txBody>
      </p:sp>
    </p:spTree>
  </p:cSld>
  <p:transition spd="slow">
    <p:blinds dir="vert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2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960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289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Times New Roman"/>
              </a:rPr>
              <a:t>phosphorous triiodid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Arial"/>
                <a:ea typeface="Times New Roman"/>
              </a:rPr>
              <a:t>Name PI</a:t>
            </a:r>
            <a:r>
              <a:rPr b="0" lang="en-US" sz="69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562720" y="838080"/>
            <a:ext cx="990360" cy="3919680"/>
            <a:chOff x="5562720" y="838080"/>
            <a:chExt cx="990360" cy="3919680"/>
          </a:xfrm>
        </p:grpSpPr>
        <p:sp>
          <p:nvSpPr>
            <p:cNvPr id="543" name=""/>
            <p:cNvSpPr/>
            <p:nvPr/>
          </p:nvSpPr>
          <p:spPr>
            <a:xfrm>
              <a:off x="5943600" y="838080"/>
              <a:ext cx="498600" cy="60984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62720" y="3843360"/>
              <a:ext cx="990360" cy="91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5BE-1CE3-4058-A611-EDE10524DFBE}" type="slidenum">
              <a:t>94</a:t>
            </a:fld>
          </a:p>
        </p:txBody>
      </p:sp>
    </p:spTree>
  </p:cSld>
  <p:transition spd="slow">
    <p:blinds dir="vert"/>
  </p:transition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D. Acids Derived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from Binary Compoun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080-113B-4F25-94C7-E28A704FC378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rtain binary hydrogen compounds, when dissolved in water, form solutions that have acid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14600"/>
            <a:ext cx="7848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queous solutions of these compounds are given acid 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 names are in addition to their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–id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 is typically the first element of a binary acid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C40-7884-4816-B576-18AE8C57185B}" type="slidenum">
              <a:t>96</a:t>
            </a:fld>
          </a:p>
        </p:txBody>
      </p:sp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1000" fill="hold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10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630600" y="3600360"/>
            <a:ext cx="1878120" cy="205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162240" y="2629080"/>
            <a:ext cx="2819520" cy="3047760"/>
            <a:chOff x="3162240" y="2629080"/>
            <a:chExt cx="2819520" cy="3047760"/>
          </a:xfrm>
        </p:grpSpPr>
        <p:sp>
          <p:nvSpPr>
            <p:cNvPr id="550" name=""/>
            <p:cNvSpPr/>
            <p:nvPr/>
          </p:nvSpPr>
          <p:spPr>
            <a:xfrm flipH="1">
              <a:off x="3162240" y="56718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616200" y="26290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516640" y="2629080"/>
              <a:ext cx="0" cy="304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267080" y="1181160"/>
            <a:ext cx="609480" cy="388800"/>
            <a:chOff x="4267080" y="1181160"/>
            <a:chExt cx="609480" cy="388800"/>
          </a:xfrm>
        </p:grpSpPr>
        <p:sp>
          <p:nvSpPr>
            <p:cNvPr id="554" name=""/>
            <p:cNvSpPr/>
            <p:nvPr/>
          </p:nvSpPr>
          <p:spPr>
            <a:xfrm>
              <a:off x="4267080" y="140976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47960" y="141768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57520" y="1181160"/>
              <a:ext cx="228600" cy="152280"/>
            </a:xfrm>
            <a:prstGeom prst="triangle">
              <a:avLst>
                <a:gd name="adj" fmla="val 50000"/>
              </a:avLst>
            </a:prstGeom>
            <a:solidFill>
              <a:srgbClr val="ff66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752480" y="304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638320" y="4191120"/>
            <a:ext cx="2743560" cy="520560"/>
            <a:chOff x="5638320" y="4191120"/>
            <a:chExt cx="2743560" cy="520560"/>
          </a:xfrm>
        </p:grpSpPr>
        <p:sp>
          <p:nvSpPr>
            <p:cNvPr id="559" name=""/>
            <p:cNvSpPr/>
            <p:nvPr/>
          </p:nvSpPr>
          <p:spPr>
            <a:xfrm>
              <a:off x="6781680" y="41911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638320" y="4449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632040" y="3600360"/>
            <a:ext cx="4988160" cy="2060640"/>
            <a:chOff x="3632040" y="3600360"/>
            <a:chExt cx="4988160" cy="2060640"/>
          </a:xfrm>
        </p:grpSpPr>
        <p:grpSp>
          <p:nvGrpSpPr>
            <p:cNvPr id="562" name=""/>
            <p:cNvGrpSpPr/>
            <p:nvPr/>
          </p:nvGrpSpPr>
          <p:grpSpPr>
            <a:xfrm>
              <a:off x="5572080" y="4191120"/>
              <a:ext cx="3048120" cy="990360"/>
              <a:chOff x="5572080" y="4191120"/>
              <a:chExt cx="3048120" cy="990360"/>
            </a:xfrm>
          </p:grpSpPr>
          <p:sp>
            <p:nvSpPr>
              <p:cNvPr id="563" name=""/>
              <p:cNvSpPr/>
              <p:nvPr/>
            </p:nvSpPr>
            <p:spPr>
              <a:xfrm>
                <a:off x="6791400" y="4191120"/>
                <a:ext cx="16002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648040" y="445140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572080" y="4724280"/>
                <a:ext cx="3048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3632040" y="3600360"/>
              <a:ext cx="1876680" cy="206064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267080" y="790560"/>
            <a:ext cx="4489560" cy="1373760"/>
            <a:chOff x="4267080" y="790560"/>
            <a:chExt cx="4489560" cy="1373760"/>
          </a:xfrm>
        </p:grpSpPr>
        <p:grpSp>
          <p:nvGrpSpPr>
            <p:cNvPr id="568" name=""/>
            <p:cNvGrpSpPr/>
            <p:nvPr/>
          </p:nvGrpSpPr>
          <p:grpSpPr>
            <a:xfrm>
              <a:off x="4267080" y="1181160"/>
              <a:ext cx="606600" cy="388800"/>
              <a:chOff x="4267080" y="1181160"/>
              <a:chExt cx="606600" cy="388800"/>
            </a:xfrm>
          </p:grpSpPr>
          <p:sp>
            <p:nvSpPr>
              <p:cNvPr id="569" name=""/>
              <p:cNvSpPr/>
              <p:nvPr/>
            </p:nvSpPr>
            <p:spPr>
              <a:xfrm>
                <a:off x="4267080" y="1409760"/>
                <a:ext cx="2275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66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646160" y="1417680"/>
                <a:ext cx="2275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66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56440" y="1181160"/>
                <a:ext cx="22752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66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867280" y="790560"/>
              <a:ext cx="2889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inary hydrogen compound (not an acid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E42-ADDD-41C8-AD25-070D085DE2A9}" type="slidenum">
              <a:t>97</a:t>
            </a:fld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46 L 0 0.4551 E">
                                      <p:cBhvr>
                                        <p:cTn id="1207" dur="5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-152280" y="3816360"/>
            <a:ext cx="8305200" cy="1160280"/>
            <a:chOff x="-152280" y="3816360"/>
            <a:chExt cx="8305200" cy="1160280"/>
          </a:xfrm>
        </p:grpSpPr>
        <p:sp>
          <p:nvSpPr>
            <p:cNvPr id="574" name=""/>
            <p:cNvSpPr/>
            <p:nvPr/>
          </p:nvSpPr>
          <p:spPr>
            <a:xfrm>
              <a:off x="-152280" y="3984840"/>
              <a:ext cx="5028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Dissolved in wat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81680" y="3984120"/>
              <a:ext cx="137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acid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29560" y="3816360"/>
              <a:ext cx="16621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0" spc="-1" strike="noStrike">
                  <a:solidFill>
                    <a:srgbClr val="3333cc"/>
                  </a:solidFill>
                  <a:latin typeface="Arial"/>
                </a:rPr>
                <a:t>HCl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1881360"/>
            <a:ext cx="7467480" cy="1160280"/>
            <a:chOff x="838080" y="1881360"/>
            <a:chExt cx="7467480" cy="1160280"/>
          </a:xfrm>
        </p:grpSpPr>
        <p:sp>
          <p:nvSpPr>
            <p:cNvPr id="578" name=""/>
            <p:cNvSpPr/>
            <p:nvPr/>
          </p:nvSpPr>
          <p:spPr>
            <a:xfrm>
              <a:off x="838080" y="2017800"/>
              <a:ext cx="4190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Pure compound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029560" y="1881360"/>
              <a:ext cx="16621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33960" y="2047320"/>
              <a:ext cx="137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-id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104-5E44-4761-843C-77577151E5F6}" type="slidenum">
              <a:t>98</a:t>
            </a:fld>
          </a:p>
        </p:txBody>
      </p:sp>
    </p:spTree>
  </p:cSld>
  <p:transition spd="slow">
    <p:blinds dir="vert"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647640" y="9853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ame binary acids write the symbol of hydrogen fir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7640" y="2133720"/>
            <a:ext cx="78487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ydrogen write the symbol of the second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prefix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ydro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front of the stem of the nonmetal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suffix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the stem of the nonmetal n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C05-6A7F-4452-9DB7-FDCB2982D95B}" type="slidenum">
              <a:t>99</a:t>
            </a:fld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jyee</cp:lastModifiedBy>
  <dcterms:modified xsi:type="dcterms:W3CDTF">2006-11-13T16:35:23Z</dcterms:modified>
  <cp:revision>624</cp:revision>
  <dc:subject/>
  <dc:title>Hein and Arena</dc:title>
</cp:coreProperties>
</file>