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32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41.jpeg" ContentType="image/jpeg"/>
  <Override PartName="/ppt/media/image1.jpeg" ContentType="image/jpeg"/>
  <Override PartName="/ppt/media/image50.wmf" ContentType="image/x-wmf"/>
  <Override PartName="/ppt/media/image2.png" ContentType="image/png"/>
  <Override PartName="/ppt/media/image23.wmf" ContentType="image/x-wmf"/>
  <Override PartName="/ppt/media/image51.jpeg" ContentType="image/jpeg"/>
  <Override PartName="/ppt/media/image9.jpeg" ContentType="image/jpeg"/>
  <Override PartName="/ppt/media/image11.png" ContentType="image/png"/>
  <Override PartName="/ppt/media/image37.wmf" ContentType="image/x-wmf"/>
  <Override PartName="/ppt/media/image38.wmf" ContentType="image/x-wmf"/>
  <Override PartName="/ppt/media/image39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34.wmf" ContentType="image/x-wmf"/>
  <Override PartName="/ppt/media/image46.wmf" ContentType="image/x-wmf"/>
  <Override PartName="/ppt/media/image3.png" ContentType="image/png"/>
  <Override PartName="/ppt/media/image35.wmf" ContentType="image/x-wmf"/>
  <Override PartName="/ppt/media/image47.wmf" ContentType="image/x-wmf"/>
  <Override PartName="/ppt/media/image4.png" ContentType="image/png"/>
  <Override PartName="/ppt/media/image36.wmf" ContentType="image/x-wmf"/>
  <Override PartName="/ppt/media/image48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52.jpeg" ContentType="image/jpeg"/>
  <Override PartName="/ppt/media/image33.wmf" ContentType="image/x-wmf"/>
  <Override PartName="/ppt/media/image30.wmf" ContentType="image/x-wmf"/>
  <Override PartName="/ppt/media/image28.wmf" ContentType="image/x-wmf"/>
  <Override PartName="/ppt/media/image29.wmf" ContentType="image/x-wmf"/>
  <Override PartName="/ppt/media/image7.jpeg" ContentType="image/jpeg"/>
  <Override PartName="/ppt/media/image31.wmf" ContentType="image/x-wmf"/>
  <Override PartName="/ppt/media/image12.wmf" ContentType="image/x-wmf"/>
  <Override PartName="/ppt/media/image49.wmf" ContentType="image/x-wmf"/>
  <Override PartName="/ppt/media/image13.jpeg" ContentType="image/jpeg"/>
  <Override PartName="/ppt/media/image4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BA00-5389-4184-A076-11500C97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0ABF-1B69-4B9C-B028-D4912B33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F6AC-3D76-4978-A8D1-9E59D7ACC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D4A4-5C50-42FB-BA82-737484D10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F265-0EFA-44C4-AA51-D578437C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3C4F-9DD3-4C77-BF1A-AA0B6728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6828-84D1-4D73-8C7E-8ACA9FBB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E632-B4CB-4DA9-BAEB-C622D9ED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2B51-62C5-4688-843A-BF012BAB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1D53-A606-402E-84BE-4E4E89B1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946E-7DE8-4EBC-9855-772B8027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701A-CD48-487A-8627-0CFD6505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2AA0116-3008-4466-891D-96B3B632A670}" type="datetime12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1:09 PM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36C9-CA4A-4345-8A7C-0071B1536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" Target="slide12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" Target="slide12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34.xml"/><Relationship Id="rId5" Type="http://schemas.openxmlformats.org/officeDocument/2006/relationships/slide" Target="slide34.xml"/><Relationship Id="rId6" Type="http://schemas.openxmlformats.org/officeDocument/2006/relationships/slide" Target="slide40.xml"/><Relationship Id="rId7" Type="http://schemas.openxmlformats.org/officeDocument/2006/relationships/slide" Target="slide110.xml"/><Relationship Id="rId8" Type="http://schemas.openxmlformats.org/officeDocument/2006/relationships/slide" Target="slide110.xml"/><Relationship Id="rId9" Type="http://schemas.openxmlformats.org/officeDocument/2006/relationships/slide" Target="slide129.xml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280" y="1143000"/>
            <a:ext cx="8001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Nomenclature of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organic Compound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pter 6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19520" y="4952520"/>
            <a:ext cx="3657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in and Are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5866560"/>
            <a:ext cx="236232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gene Pass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Chemistry Departm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Bronx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© John Wiley and Sons, I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04080"/>
            <a:ext cx="1676520" cy="55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sion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CFED-080E-42B8-92E6-4918640BCEB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1525320"/>
            <a:ext cx="9144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r" pos="4060800"/>
                <a:tab algn="l" pos="5030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Sulfur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4060800"/>
                <a:tab algn="l" pos="5030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Phosphorous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r" pos="4060800"/>
                <a:tab algn="l" pos="5030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2716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wo elements are commonly polyatomi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0E0A-9A82-4782-A319-CCAEEE722CE4}" type="slidenum">
              <a:t>10</a:t>
            </a:fld>
          </a:p>
        </p:txBody>
      </p:sp>
    </p:spTree>
  </p:cSld>
  <p:transition spd="slow">
    <p:blinds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Examp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E9BE-F310-4FB5-8971-84C027FE3C17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3cc33"/>
                </a:solidFill>
                <a:latin typeface="Arial"/>
              </a:rPr>
              <a:t>hydrogen chlor</a:t>
            </a:r>
            <a:r>
              <a:rPr b="0" lang="en-US" sz="6400" spc="-1" strike="noStrike" u="sng">
                <a:solidFill>
                  <a:srgbClr val="33cc33"/>
                </a:solidFill>
                <a:uFillTx/>
                <a:latin typeface="Arial"/>
              </a:rPr>
              <a:t>ide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ff"/>
                </a:solidFill>
                <a:uFillTx/>
                <a:latin typeface="Times New Roman"/>
              </a:rPr>
              <a:t>Pure Comp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CD8A-9CD9-4FB1-8C04-BB93B0901174}" type="slidenum">
              <a:t>101</a:t>
            </a:fld>
          </a:p>
        </p:txBody>
      </p:sp>
    </p:spTree>
  </p:cSld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0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 u="sng">
                <a:solidFill>
                  <a:srgbClr val="0033cc"/>
                </a:solidFill>
                <a:uFillTx/>
                <a:latin typeface="Arial"/>
              </a:rPr>
              <a:t>hydro</a:t>
            </a:r>
            <a:r>
              <a:rPr b="0" lang="en-US" sz="6400" spc="-1" strike="noStrike">
                <a:solidFill>
                  <a:srgbClr val="0033cc"/>
                </a:solidFill>
                <a:latin typeface="Arial"/>
              </a:rPr>
              <a:t>chlor</a:t>
            </a:r>
            <a:r>
              <a:rPr b="0" lang="en-US" sz="6400" spc="-1" strike="noStrike" u="sng">
                <a:solidFill>
                  <a:srgbClr val="0033cc"/>
                </a:solidFill>
                <a:uFillTx/>
                <a:latin typeface="Arial"/>
              </a:rPr>
              <a:t>ic</a:t>
            </a:r>
            <a:r>
              <a:rPr b="0" lang="en-US" sz="6400" spc="-1" strike="noStrike">
                <a:solidFill>
                  <a:srgbClr val="0033cc"/>
                </a:solidFill>
                <a:latin typeface="Arial"/>
              </a:rPr>
              <a:t> acid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58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Dissolved in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2ED5-54B6-40DF-9FA3-C2DD006D4980}" type="slidenum">
              <a:t>102</a:t>
            </a:fld>
          </a:p>
        </p:txBody>
      </p:sp>
    </p:spTree>
  </p:cSld>
  <p:transition spd="slow">
    <p:blinds dir="vert"/>
  </p:transition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0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3cc33"/>
                </a:solidFill>
                <a:latin typeface="Arial"/>
              </a:rPr>
              <a:t>hydrogen iod</a:t>
            </a:r>
            <a:r>
              <a:rPr b="0" lang="en-US" sz="6400" spc="-1" strike="noStrike" u="sng">
                <a:solidFill>
                  <a:srgbClr val="33cc33"/>
                </a:solidFill>
                <a:uFillTx/>
                <a:latin typeface="Arial"/>
              </a:rPr>
              <a:t>ide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ff"/>
                </a:solidFill>
                <a:uFillTx/>
                <a:latin typeface="Times New Roman"/>
              </a:rPr>
              <a:t>Pure Comp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44F1-E006-40F8-9E2B-5BF4554279A5}" type="slidenum">
              <a:t>103</a:t>
            </a:fld>
          </a:p>
        </p:txBody>
      </p:sp>
    </p:spTree>
  </p:cSld>
  <p:timing>
    <p:tnLst>
      <p:par>
        <p:cTn id="1272" dur="indefinite" restart="never" nodeType="tmRoot">
          <p:childTnLst>
            <p:seq>
              <p:cTn id="1273" dur="indefinite" nodeType="mainSeq">
                <p:childTnLst>
                  <p:par>
                    <p:cTn id="1274" fill="hold">
                      <p:stCondLst>
                        <p:cond delay="0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 u="sng">
                <a:solidFill>
                  <a:srgbClr val="0033cc"/>
                </a:solidFill>
                <a:uFillTx/>
                <a:latin typeface="Arial"/>
              </a:rPr>
              <a:t>hydro</a:t>
            </a:r>
            <a:r>
              <a:rPr b="0" lang="en-US" sz="6400" spc="-1" strike="noStrike">
                <a:solidFill>
                  <a:srgbClr val="0033cc"/>
                </a:solidFill>
                <a:latin typeface="Arial"/>
              </a:rPr>
              <a:t>iod</a:t>
            </a:r>
            <a:r>
              <a:rPr b="0" lang="en-US" sz="6400" spc="-1" strike="noStrike" u="sng">
                <a:solidFill>
                  <a:srgbClr val="0033cc"/>
                </a:solidFill>
                <a:uFillTx/>
                <a:latin typeface="Arial"/>
              </a:rPr>
              <a:t>ic</a:t>
            </a:r>
            <a:r>
              <a:rPr b="0" lang="en-US" sz="6400" spc="-1" strike="noStrike">
                <a:solidFill>
                  <a:srgbClr val="0033cc"/>
                </a:solidFill>
                <a:latin typeface="Arial"/>
              </a:rPr>
              <a:t> acid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58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Dissolved in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3A52-2876-4E28-BCC6-C110D75B84AA}" type="slidenum">
              <a:t>104</a:t>
            </a:fld>
          </a:p>
        </p:txBody>
      </p:sp>
    </p:spTree>
  </p:cSld>
  <p:transition spd="slow">
    <p:blinds dir="vert"/>
  </p:transition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fill="hold">
                      <p:stCondLst>
                        <p:cond delay="0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6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3cc33"/>
                </a:solidFill>
                <a:latin typeface="Arial"/>
              </a:rPr>
              <a:t>hydrogen sulf</a:t>
            </a:r>
            <a:r>
              <a:rPr b="0" lang="en-US" sz="6400" spc="-1" strike="noStrike" u="sng">
                <a:solidFill>
                  <a:srgbClr val="33cc33"/>
                </a:solidFill>
                <a:uFillTx/>
                <a:latin typeface="Arial"/>
              </a:rPr>
              <a:t>ide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ff"/>
                </a:solidFill>
                <a:uFillTx/>
                <a:latin typeface="Times New Roman"/>
              </a:rPr>
              <a:t>Pure Comp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2C68-286E-424B-9F89-7406B64D28E2}" type="slidenum">
              <a:t>105</a:t>
            </a:fld>
          </a:p>
        </p:txBody>
      </p:sp>
    </p:spTree>
  </p:cSld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fill="hold">
                      <p:stCondLst>
                        <p:cond delay="0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6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 u="sng">
                <a:solidFill>
                  <a:srgbClr val="0033cc"/>
                </a:solidFill>
                <a:uFillTx/>
                <a:latin typeface="Arial"/>
              </a:rPr>
              <a:t>hydro</a:t>
            </a:r>
            <a:r>
              <a:rPr b="0" lang="en-US" sz="6400" spc="-1" strike="noStrike">
                <a:solidFill>
                  <a:srgbClr val="0033cc"/>
                </a:solidFill>
                <a:latin typeface="Arial"/>
              </a:rPr>
              <a:t>sulfur</a:t>
            </a:r>
            <a:r>
              <a:rPr b="0" lang="en-US" sz="6400" spc="-1" strike="noStrike" u="sng">
                <a:solidFill>
                  <a:srgbClr val="0033cc"/>
                </a:solidFill>
                <a:uFillTx/>
                <a:latin typeface="Arial"/>
              </a:rPr>
              <a:t>ic</a:t>
            </a:r>
            <a:r>
              <a:rPr b="0" lang="en-US" sz="6400" spc="-1" strike="noStrike">
                <a:solidFill>
                  <a:srgbClr val="0033cc"/>
                </a:solidFill>
                <a:latin typeface="Arial"/>
              </a:rPr>
              <a:t> acid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58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Dissolved in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E524-8DEE-4176-8660-41D21DB62092}" type="slidenum">
              <a:t>106</a:t>
            </a:fld>
          </a:p>
        </p:txBody>
      </p:sp>
    </p:spTree>
  </p:cSld>
  <p:transition spd="slow">
    <p:blinds dir="vert"/>
  </p:transition>
  <p:timing>
    <p:tnLst>
      <p:par>
        <p:cTn id="1311" dur="indefinite" restart="never" nodeType="tmRoot">
          <p:childTnLst>
            <p:seq>
              <p:cTn id="1312" dur="indefinite" nodeType="mainSeq">
                <p:childTnLst>
                  <p:par>
                    <p:cTn id="1313" fill="hold">
                      <p:stCondLst>
                        <p:cond delay="0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6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3cc33"/>
                </a:solidFill>
                <a:latin typeface="Arial"/>
              </a:rPr>
              <a:t>hydrogen selen</a:t>
            </a:r>
            <a:r>
              <a:rPr b="0" lang="en-US" sz="6400" spc="-1" strike="noStrike" u="sng">
                <a:solidFill>
                  <a:srgbClr val="33cc33"/>
                </a:solidFill>
                <a:uFillTx/>
                <a:latin typeface="Arial"/>
              </a:rPr>
              <a:t>ide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ff"/>
                </a:solidFill>
                <a:uFillTx/>
                <a:latin typeface="Times New Roman"/>
              </a:rPr>
              <a:t>Pure Comp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0AF0-C284-44C9-BD5D-A06B9CEAE7B3}" type="slidenum">
              <a:t>107</a:t>
            </a:fld>
          </a:p>
        </p:txBody>
      </p:sp>
    </p:spTree>
  </p:cSld>
  <p:transition spd="slow">
    <p:blinds dir="vert"/>
  </p:transition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0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6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 u="sng">
                <a:solidFill>
                  <a:srgbClr val="0033cc"/>
                </a:solidFill>
                <a:uFillTx/>
                <a:latin typeface="Arial"/>
              </a:rPr>
              <a:t>hydro</a:t>
            </a:r>
            <a:r>
              <a:rPr b="0" lang="en-US" sz="6400" spc="-1" strike="noStrike">
                <a:solidFill>
                  <a:srgbClr val="0033cc"/>
                </a:solidFill>
                <a:latin typeface="Arial"/>
              </a:rPr>
              <a:t>selen</a:t>
            </a:r>
            <a:r>
              <a:rPr b="0" lang="en-US" sz="6400" spc="-1" strike="noStrike" u="sng">
                <a:solidFill>
                  <a:srgbClr val="0033cc"/>
                </a:solidFill>
                <a:uFillTx/>
                <a:latin typeface="Arial"/>
              </a:rPr>
              <a:t>ic</a:t>
            </a:r>
            <a:r>
              <a:rPr b="0" lang="en-US" sz="6400" spc="-1" strike="noStrike">
                <a:solidFill>
                  <a:srgbClr val="0033cc"/>
                </a:solidFill>
                <a:latin typeface="Arial"/>
              </a:rPr>
              <a:t> acid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58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Dissolved in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DD82-C4AB-4D9C-A2D5-DAFB31113305}" type="slidenum">
              <a:t>108</a:t>
            </a:fld>
          </a:p>
        </p:txBody>
      </p:sp>
    </p:spTree>
  </p:cSld>
  <p:transition spd="slow">
    <p:blinds dir="vert"/>
  </p:transition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0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531720" y="776160"/>
            <a:ext cx="8080560" cy="5303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CD06-E508-463B-900A-54A07AA48D57}" type="slidenum">
              <a:t>109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67C7-80EC-414D-9451-0F08F307E34F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6.5</a:t>
            </a:r>
            <a:br>
              <a:rPr sz="4000"/>
            </a:br>
            <a:r>
              <a:rPr b="1" lang="en-US" sz="5300" spc="-1" strike="noStrike" u="sng">
                <a:solidFill>
                  <a:srgbClr val="cc3399"/>
                </a:solidFill>
                <a:uFillTx/>
                <a:latin typeface="Times New Roman"/>
              </a:rPr>
              <a:t>Naming Compounds Containing Polyatomic Ions</a:t>
            </a: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43A7-251A-4938-8251-A7D66B999B32}" type="slidenum">
              <a:t>110</a:t>
            </a:fld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lyatomic ion is an ion tha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ains two or more element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3813120" y="3657600"/>
          <a:ext cx="151776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3120" y="3657600"/>
                    <a:ext cx="151776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1A1B-CF36-493B-927D-1FB66755CD72}" type="slidenum">
              <a:t>111</a:t>
            </a:fld>
          </a:p>
        </p:txBody>
      </p:sp>
    </p:spTree>
  </p:cSld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6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"/>
          <p:cNvGrpSpPr/>
          <p:nvPr/>
        </p:nvGrpSpPr>
        <p:grpSpPr>
          <a:xfrm>
            <a:off x="3836880" y="3178080"/>
            <a:ext cx="3792600" cy="2592360"/>
            <a:chOff x="3836880" y="3178080"/>
            <a:chExt cx="3792600" cy="2592360"/>
          </a:xfrm>
        </p:grpSpPr>
        <p:sp>
          <p:nvSpPr>
            <p:cNvPr id="607" name=""/>
            <p:cNvSpPr/>
            <p:nvPr/>
          </p:nvSpPr>
          <p:spPr>
            <a:xfrm>
              <a:off x="3836880" y="3178080"/>
              <a:ext cx="3792600" cy="52704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514760" y="4824360"/>
              <a:ext cx="1378080" cy="9460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3255840" y="2646360"/>
            <a:ext cx="5586480" cy="3129120"/>
            <a:chOff x="3255840" y="2646360"/>
            <a:chExt cx="5586480" cy="3129120"/>
          </a:xfrm>
        </p:grpSpPr>
        <p:sp>
          <p:nvSpPr>
            <p:cNvPr id="610" name=""/>
            <p:cNvSpPr/>
            <p:nvPr/>
          </p:nvSpPr>
          <p:spPr>
            <a:xfrm>
              <a:off x="7451640" y="2646360"/>
              <a:ext cx="1390680" cy="46836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255840" y="4824360"/>
              <a:ext cx="1011240" cy="95112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12" name=""/>
          <p:cNvGraphicFramePr/>
          <p:nvPr/>
        </p:nvGraphicFramePr>
        <p:xfrm>
          <a:off x="3228840" y="4838760"/>
          <a:ext cx="268632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8840" y="4838760"/>
                    <a:ext cx="268632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4" name=""/>
          <p:cNvSpPr/>
          <p:nvPr/>
        </p:nvSpPr>
        <p:spPr>
          <a:xfrm>
            <a:off x="266760" y="2514600"/>
            <a:ext cx="8610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usually consist of one or more cations combined with a negative polyatomic 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266760" y="1062000"/>
            <a:ext cx="857232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unds containing polyatomic ions are composed of three or more elem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A1B7-A14F-42F0-B257-A05299DB563E}" type="slidenum">
              <a:t>112</a:t>
            </a:fld>
          </a:p>
        </p:txBody>
      </p:sp>
    </p:spTree>
  </p:cSld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9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4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9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"/>
          <p:cNvGrpSpPr/>
          <p:nvPr/>
        </p:nvGrpSpPr>
        <p:grpSpPr>
          <a:xfrm>
            <a:off x="4495680" y="2278080"/>
            <a:ext cx="1397160" cy="2608200"/>
            <a:chOff x="4495680" y="2278080"/>
            <a:chExt cx="1397160" cy="2608200"/>
          </a:xfrm>
        </p:grpSpPr>
        <p:sp>
          <p:nvSpPr>
            <p:cNvPr id="617" name=""/>
            <p:cNvSpPr/>
            <p:nvPr/>
          </p:nvSpPr>
          <p:spPr>
            <a:xfrm>
              <a:off x="4495680" y="2278080"/>
              <a:ext cx="1106640" cy="52704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514760" y="3940200"/>
              <a:ext cx="1378080" cy="9460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3255840" y="1741320"/>
            <a:ext cx="4105440" cy="3149640"/>
            <a:chOff x="3255840" y="1741320"/>
            <a:chExt cx="4105440" cy="3149640"/>
          </a:xfrm>
        </p:grpSpPr>
        <p:sp>
          <p:nvSpPr>
            <p:cNvPr id="620" name=""/>
            <p:cNvSpPr/>
            <p:nvPr/>
          </p:nvSpPr>
          <p:spPr>
            <a:xfrm>
              <a:off x="6165720" y="1741320"/>
              <a:ext cx="1195560" cy="5270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255840" y="3939840"/>
              <a:ext cx="1011240" cy="95112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22" name=""/>
          <p:cNvGraphicFramePr/>
          <p:nvPr/>
        </p:nvGraphicFramePr>
        <p:xfrm>
          <a:off x="3228840" y="3954600"/>
          <a:ext cx="268632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8840" y="3954600"/>
                    <a:ext cx="268632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4" name=""/>
          <p:cNvSpPr/>
          <p:nvPr/>
        </p:nvSpPr>
        <p:spPr>
          <a:xfrm>
            <a:off x="2590920" y="528804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dium carbo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685800" y="1096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naming a compound containing a polyatomic ion, name the cation first and then name the an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3496-4B68-435E-9F57-9990698FA453}" type="slidenum">
              <a:t>113</a:t>
            </a:fld>
          </a:p>
        </p:txBody>
      </p:sp>
    </p:spTree>
  </p:cSld>
  <p:timing>
    <p:tnLst>
      <p:par>
        <p:cTn id="1380" dur="indefinite" restart="never" nodeType="tmRoot">
          <p:childTnLst>
            <p:seq>
              <p:cTn id="1381" dur="indefinite" nodeType="mainSeq">
                <p:childTnLst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6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1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3152880" y="1757520"/>
          <a:ext cx="262260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2880" y="1757520"/>
                    <a:ext cx="262260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8" name=""/>
          <p:cNvGrpSpPr/>
          <p:nvPr/>
        </p:nvGrpSpPr>
        <p:grpSpPr>
          <a:xfrm>
            <a:off x="2538360" y="2514600"/>
            <a:ext cx="4314960" cy="3187440"/>
            <a:chOff x="2538360" y="2514600"/>
            <a:chExt cx="4314960" cy="3187440"/>
          </a:xfrm>
        </p:grpSpPr>
        <p:graphicFrame>
          <p:nvGraphicFramePr>
            <p:cNvPr id="629" name=""/>
            <p:cNvGraphicFramePr/>
            <p:nvPr/>
          </p:nvGraphicFramePr>
          <p:xfrm>
            <a:off x="2538360" y="3713040"/>
            <a:ext cx="1011240" cy="85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3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38360" y="3713040"/>
                      <a:ext cx="1011240" cy="85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1" name=""/>
            <p:cNvGraphicFramePr/>
            <p:nvPr/>
          </p:nvGraphicFramePr>
          <p:xfrm>
            <a:off x="4800600" y="3713040"/>
            <a:ext cx="2052720" cy="1076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3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800600" y="3713040"/>
                      <a:ext cx="2052720" cy="10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3" name=""/>
            <p:cNvSpPr/>
            <p:nvPr/>
          </p:nvSpPr>
          <p:spPr>
            <a:xfrm flipH="1">
              <a:off x="2939760" y="2514600"/>
              <a:ext cx="609480" cy="1371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073480" y="2514600"/>
              <a:ext cx="609840" cy="1371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933640" y="4876560"/>
              <a:ext cx="3048120" cy="8254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ions are what is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ctually presen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2908440" y="698400"/>
            <a:ext cx="304776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way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 is 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9FCA-5237-4E85-9A95-90D74D60CCDC}" type="slidenum">
              <a:t>114</a:t>
            </a:fld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fill="hold">
                      <p:stCondLst>
                        <p:cond delay="0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3011400" y="698400"/>
            <a:ext cx="304812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way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 is 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3219480" y="1754280"/>
          <a:ext cx="268596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19480" y="1754280"/>
                    <a:ext cx="268596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0" name=""/>
          <p:cNvGrpSpPr/>
          <p:nvPr/>
        </p:nvGrpSpPr>
        <p:grpSpPr>
          <a:xfrm>
            <a:off x="1922400" y="2506680"/>
            <a:ext cx="4935600" cy="3195360"/>
            <a:chOff x="1922400" y="2506680"/>
            <a:chExt cx="4935600" cy="3195360"/>
          </a:xfrm>
        </p:grpSpPr>
        <p:sp>
          <p:nvSpPr>
            <p:cNvPr id="641" name=""/>
            <p:cNvSpPr/>
            <p:nvPr/>
          </p:nvSpPr>
          <p:spPr>
            <a:xfrm>
              <a:off x="2933640" y="4876560"/>
              <a:ext cx="3048120" cy="8254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ions are what is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ctually presen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2" name=""/>
            <p:cNvGraphicFramePr/>
            <p:nvPr/>
          </p:nvGraphicFramePr>
          <p:xfrm>
            <a:off x="1922400" y="3649680"/>
            <a:ext cx="1736640" cy="885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22400" y="3649680"/>
                      <a:ext cx="173664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4" name=""/>
            <p:cNvGraphicFramePr/>
            <p:nvPr/>
          </p:nvGraphicFramePr>
          <p:xfrm>
            <a:off x="5248440" y="3649680"/>
            <a:ext cx="1609560" cy="1076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4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48440" y="3649680"/>
                      <a:ext cx="1609560" cy="10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6" name=""/>
            <p:cNvSpPr/>
            <p:nvPr/>
          </p:nvSpPr>
          <p:spPr>
            <a:xfrm flipH="1">
              <a:off x="3038400" y="2506680"/>
              <a:ext cx="609840" cy="1371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172120" y="2506680"/>
              <a:ext cx="609480" cy="1371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69EB-565E-4C0B-A4A7-C91CB252899B}" type="slidenum">
              <a:t>115</a:t>
            </a:fld>
          </a:p>
        </p:txBody>
      </p:sp>
    </p:spTree>
  </p:cSld>
  <p:transition spd="slow">
    <p:blinds dir="vert"/>
  </p:transition>
  <p:timing>
    <p:tnLst>
      <p:par>
        <p:cTn id="1412" dur="indefinite" restart="never" nodeType="tmRoot">
          <p:childTnLst>
            <p:seq>
              <p:cTn id="1413" dur="indefinite" nodeType="mainSeq">
                <p:childTnLst>
                  <p:par>
                    <p:cTn id="1414" fill="hold">
                      <p:stCondLst>
                        <p:cond delay="0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8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0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Prefixes and Suffixes</a:t>
            </a:r>
            <a:br>
              <a:rPr sz="5400"/>
            </a:br>
            <a:br>
              <a:rPr sz="5400"/>
            </a:br>
            <a:r>
              <a:rPr b="0" lang="en-US" sz="4400" spc="-1" strike="noStrike" u="sng">
                <a:solidFill>
                  <a:srgbClr val="008000"/>
                </a:solidFill>
                <a:uFillTx/>
                <a:latin typeface="Palatino Linotype"/>
              </a:rPr>
              <a:t>Elements that Form More than One Polyatomic Ion with Oxy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0092-D1A9-48E1-B99E-9F0AAFD89139}" type="slidenum">
              <a:t>116</a:t>
            </a:fld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/>
          </p:nvPr>
        </p:nvSpPr>
        <p:spPr>
          <a:xfrm>
            <a:off x="1031760" y="61128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ons ending in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-</a:t>
            </a:r>
            <a:r>
              <a:rPr b="0" i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te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 contain more oxygen than ions ending in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0" i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5549760" y="2585880"/>
            <a:ext cx="1593720" cy="1689120"/>
            <a:chOff x="5549760" y="2585880"/>
            <a:chExt cx="1593720" cy="1689120"/>
          </a:xfrm>
        </p:grpSpPr>
        <p:sp>
          <p:nvSpPr>
            <p:cNvPr id="651" name=""/>
            <p:cNvSpPr/>
            <p:nvPr/>
          </p:nvSpPr>
          <p:spPr>
            <a:xfrm>
              <a:off x="5549760" y="2585880"/>
              <a:ext cx="159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nitrat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52" name=""/>
            <p:cNvGraphicFramePr/>
            <p:nvPr/>
          </p:nvGraphicFramePr>
          <p:xfrm>
            <a:off x="5587920" y="3198600"/>
            <a:ext cx="1517400" cy="1076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87920" y="3198600"/>
                      <a:ext cx="1517400" cy="10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54" name=""/>
          <p:cNvGrpSpPr/>
          <p:nvPr/>
        </p:nvGrpSpPr>
        <p:grpSpPr>
          <a:xfrm>
            <a:off x="2000160" y="2585880"/>
            <a:ext cx="1549440" cy="1689120"/>
            <a:chOff x="2000160" y="2585880"/>
            <a:chExt cx="1549440" cy="1689120"/>
          </a:xfrm>
        </p:grpSpPr>
        <p:sp>
          <p:nvSpPr>
            <p:cNvPr id="655" name=""/>
            <p:cNvSpPr/>
            <p:nvPr/>
          </p:nvSpPr>
          <p:spPr>
            <a:xfrm>
              <a:off x="2101680" y="2585880"/>
              <a:ext cx="134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Times New Roman"/>
                </a:rPr>
                <a:t>nitrit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56" name=""/>
            <p:cNvGraphicFramePr/>
            <p:nvPr/>
          </p:nvGraphicFramePr>
          <p:xfrm>
            <a:off x="2000160" y="3198600"/>
            <a:ext cx="1549440" cy="107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0160" y="3198600"/>
                      <a:ext cx="1549440" cy="10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55DE-6B8D-4132-93FF-3360F0F9E57F}" type="slidenum">
              <a:t>117</a:t>
            </a:fld>
          </a:p>
        </p:txBody>
      </p:sp>
    </p:spTree>
  </p:cSld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/>
          </p:nvPr>
        </p:nvSpPr>
        <p:spPr>
          <a:xfrm>
            <a:off x="1028520" y="610920"/>
            <a:ext cx="70866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ons ending in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-</a:t>
            </a:r>
            <a:r>
              <a:rPr b="0" i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te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 contain more oxygen than ions ending in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0" i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5181480" y="2585880"/>
            <a:ext cx="2330640" cy="1689120"/>
            <a:chOff x="5181480" y="2585880"/>
            <a:chExt cx="2330640" cy="1689120"/>
          </a:xfrm>
        </p:grpSpPr>
        <p:sp>
          <p:nvSpPr>
            <p:cNvPr id="660" name=""/>
            <p:cNvSpPr/>
            <p:nvPr/>
          </p:nvSpPr>
          <p:spPr>
            <a:xfrm>
              <a:off x="5181480" y="2585880"/>
              <a:ext cx="233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phosphat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1" name=""/>
            <p:cNvGraphicFramePr/>
            <p:nvPr/>
          </p:nvGraphicFramePr>
          <p:xfrm>
            <a:off x="5572080" y="3198960"/>
            <a:ext cx="1549440" cy="1076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72080" y="3198960"/>
                      <a:ext cx="1549440" cy="107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63" name=""/>
          <p:cNvGrpSpPr/>
          <p:nvPr/>
        </p:nvGrpSpPr>
        <p:grpSpPr>
          <a:xfrm>
            <a:off x="1752480" y="2585880"/>
            <a:ext cx="2044800" cy="1689120"/>
            <a:chOff x="1752480" y="2585880"/>
            <a:chExt cx="2044800" cy="1689120"/>
          </a:xfrm>
        </p:grpSpPr>
        <p:sp>
          <p:nvSpPr>
            <p:cNvPr id="664" name=""/>
            <p:cNvSpPr/>
            <p:nvPr/>
          </p:nvSpPr>
          <p:spPr>
            <a:xfrm>
              <a:off x="1752480" y="2585880"/>
              <a:ext cx="204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Times New Roman"/>
                </a:rPr>
                <a:t>phosphit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5" name=""/>
            <p:cNvGraphicFramePr/>
            <p:nvPr/>
          </p:nvGraphicFramePr>
          <p:xfrm>
            <a:off x="2016000" y="3198960"/>
            <a:ext cx="1517760" cy="1076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6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16000" y="3198960"/>
                      <a:ext cx="1517760" cy="107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995D-D5C0-437C-8576-DBD614835A08}" type="slidenum">
              <a:t>118</a:t>
            </a:fld>
          </a:p>
        </p:txBody>
      </p:sp>
    </p:spTree>
  </p:cSld>
  <p:transition spd="slow">
    <p:blinds dir="vert"/>
  </p:transition>
  <p:timing>
    <p:tnLst>
      <p:par>
        <p:cTn id="1440" dur="indefinite" restart="never" nodeType="tmRoot">
          <p:childTnLst>
            <p:seq>
              <p:cTn id="1441" dur="indefinite" nodeType="mainSeq">
                <p:childTnLst>
                  <p:par>
                    <p:cTn id="1442" fill="hold">
                      <p:stCondLst>
                        <p:cond delay="0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/>
          </p:nvPr>
        </p:nvSpPr>
        <p:spPr>
          <a:xfrm>
            <a:off x="1031400" y="611280"/>
            <a:ext cx="716292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ons ending in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-</a:t>
            </a:r>
            <a:r>
              <a:rPr b="0" i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te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 contain more oxygen than ions ending in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0" i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5483160" y="2584440"/>
            <a:ext cx="1594080" cy="1689120"/>
            <a:chOff x="5483160" y="2584440"/>
            <a:chExt cx="1594080" cy="1689120"/>
          </a:xfrm>
        </p:grpSpPr>
        <p:sp>
          <p:nvSpPr>
            <p:cNvPr id="669" name=""/>
            <p:cNvSpPr/>
            <p:nvPr/>
          </p:nvSpPr>
          <p:spPr>
            <a:xfrm>
              <a:off x="5483160" y="2584440"/>
              <a:ext cx="159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sulfat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70" name=""/>
            <p:cNvGraphicFramePr/>
            <p:nvPr/>
          </p:nvGraphicFramePr>
          <p:xfrm>
            <a:off x="5537160" y="3197160"/>
            <a:ext cx="1486080" cy="1076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37160" y="3197160"/>
                      <a:ext cx="1486080" cy="10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72" name=""/>
          <p:cNvGrpSpPr/>
          <p:nvPr/>
        </p:nvGrpSpPr>
        <p:grpSpPr>
          <a:xfrm>
            <a:off x="1981080" y="2584440"/>
            <a:ext cx="1517760" cy="1689120"/>
            <a:chOff x="1981080" y="2584440"/>
            <a:chExt cx="1517760" cy="1689120"/>
          </a:xfrm>
        </p:grpSpPr>
        <p:sp>
          <p:nvSpPr>
            <p:cNvPr id="673" name=""/>
            <p:cNvSpPr/>
            <p:nvPr/>
          </p:nvSpPr>
          <p:spPr>
            <a:xfrm>
              <a:off x="2066760" y="2584440"/>
              <a:ext cx="134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Times New Roman"/>
                </a:rPr>
                <a:t>sulfit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74" name=""/>
            <p:cNvGraphicFramePr/>
            <p:nvPr/>
          </p:nvGraphicFramePr>
          <p:xfrm>
            <a:off x="1981080" y="3197160"/>
            <a:ext cx="1517760" cy="107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7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81080" y="3197160"/>
                      <a:ext cx="1517760" cy="10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76" name=""/>
          <p:cNvSpPr/>
          <p:nvPr/>
        </p:nvSpPr>
        <p:spPr>
          <a:xfrm>
            <a:off x="685800" y="47242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-</a:t>
            </a:r>
            <a:r>
              <a:rPr b="0" i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te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–</a:t>
            </a:r>
            <a:r>
              <a:rPr b="0" i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 not ind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mber of oxygen atom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C511-3962-4FE3-AC49-F946426CCC19}" type="slidenum">
              <a:t>119</a:t>
            </a:fld>
          </a:p>
        </p:txBody>
      </p:sp>
    </p:spTree>
  </p:cSld>
  <p:transition spd="slow">
    <p:blinds dir="vert"/>
  </p:transition>
  <p:timing>
    <p:tnLst>
      <p:par>
        <p:cTn id="1454" dur="indefinite" restart="never" nodeType="tmRoot">
          <p:childTnLst>
            <p:seq>
              <p:cTn id="1455" dur="indefinite" nodeType="mainSeq">
                <p:childTnLst>
                  <p:par>
                    <p:cTn id="1456" fill="hold">
                      <p:stCondLst>
                        <p:cond delay="0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2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25360" y="3246480"/>
            <a:ext cx="2803680" cy="2468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100400" y="500940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→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054760" y="3246480"/>
            <a:ext cx="2963880" cy="246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581280" y="4191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move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3332160"/>
            <a:ext cx="6858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473280"/>
            <a:ext cx="68580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5867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utral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0280" y="228600"/>
            <a:ext cx="7543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ew York"/>
              </a:rPr>
              <a:t>A charged particle known as an ion can be produced by adding or removing one or more electrons from a neutral at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5867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80880"/>
            <a:ext cx="815364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one or more electrons are removed from a neutral atom a positive ion is formed. A positive ion is called a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c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0105-4AD5-456E-AF25-419C10C3ED7E}" type="slidenum">
              <a:t>12</a:t>
            </a:fld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/>
          </p:nvPr>
        </p:nvSpPr>
        <p:spPr>
          <a:xfrm>
            <a:off x="952560" y="611280"/>
            <a:ext cx="723888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per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enotes anions with more oxygen than the </a:t>
            </a: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-a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5224320" y="2584440"/>
            <a:ext cx="2330640" cy="1689120"/>
            <a:chOff x="5224320" y="2584440"/>
            <a:chExt cx="2330640" cy="1689120"/>
          </a:xfrm>
        </p:grpSpPr>
        <p:sp>
          <p:nvSpPr>
            <p:cNvPr id="679" name=""/>
            <p:cNvSpPr/>
            <p:nvPr/>
          </p:nvSpPr>
          <p:spPr>
            <a:xfrm>
              <a:off x="5224320" y="2584440"/>
              <a:ext cx="233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perchlorat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0" name=""/>
            <p:cNvGraphicFramePr/>
            <p:nvPr/>
          </p:nvGraphicFramePr>
          <p:xfrm>
            <a:off x="5553000" y="3197160"/>
            <a:ext cx="1674720" cy="1076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8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553000" y="3197160"/>
                      <a:ext cx="1674720" cy="10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82" name=""/>
          <p:cNvGrpSpPr/>
          <p:nvPr/>
        </p:nvGrpSpPr>
        <p:grpSpPr>
          <a:xfrm>
            <a:off x="1589040" y="2584440"/>
            <a:ext cx="2044800" cy="1689120"/>
            <a:chOff x="1589040" y="2584440"/>
            <a:chExt cx="2044800" cy="1689120"/>
          </a:xfrm>
        </p:grpSpPr>
        <p:sp>
          <p:nvSpPr>
            <p:cNvPr id="683" name=""/>
            <p:cNvSpPr/>
            <p:nvPr/>
          </p:nvSpPr>
          <p:spPr>
            <a:xfrm>
              <a:off x="1589040" y="2584440"/>
              <a:ext cx="204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Times New Roman"/>
                </a:rPr>
                <a:t>chlorat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4" name=""/>
            <p:cNvGraphicFramePr/>
            <p:nvPr/>
          </p:nvGraphicFramePr>
          <p:xfrm>
            <a:off x="1789200" y="3197160"/>
            <a:ext cx="1644480" cy="1076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8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789200" y="3197160"/>
                      <a:ext cx="1644480" cy="10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BC20-8B77-484E-B65B-60B4FF52082F}" type="slidenum">
              <a:t>120</a:t>
            </a:fld>
          </a:p>
        </p:txBody>
      </p:sp>
    </p:spTree>
  </p:cSld>
  <p:timing>
    <p:tnLst>
      <p:par>
        <p:cTn id="1473" dur="indefinite" restart="never" nodeType="tmRoot">
          <p:childTnLst>
            <p:seq>
              <p:cTn id="1474" dur="indefinite" nodeType="mainSeq">
                <p:childTnLst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/>
          </p:nvPr>
        </p:nvSpPr>
        <p:spPr>
          <a:xfrm>
            <a:off x="399960" y="3048120"/>
            <a:ext cx="834408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-p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a short form of hyper, meaning mo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>
            <a:hlinkClick r:id="" action="ppaction://hlinkshowjump?jump=previousslide"/>
          </p:cNvPr>
          <p:cNvSpPr/>
          <p:nvPr/>
        </p:nvSpPr>
        <p:spPr>
          <a:xfrm>
            <a:off x="8074080" y="5634000"/>
            <a:ext cx="384120" cy="3859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5920"/>
              <a:gd name="textAreaBottom" fmla="*/ 361080 h 385920"/>
            </a:gdLst>
            <a:ahLst/>
            <a:rect l="textAreaLeft" t="textAreaTop" r="textAreaRight" b="textAreaBottom"/>
            <a:pathLst>
              <a:path w="21600" h="21701">
                <a:moveTo>
                  <a:pt x="0" y="0"/>
                </a:moveTo>
                <a:lnTo>
                  <a:pt x="21600" y="0"/>
                </a:lnTo>
                <a:lnTo>
                  <a:pt x="21600" y="21701"/>
                </a:lnTo>
                <a:lnTo>
                  <a:pt x="0" y="21701"/>
                </a:lnTo>
                <a:close/>
              </a:path>
              <a:path fill="lightenLess" w="21600" h="217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1">
                <a:moveTo>
                  <a:pt x="21600" y="0"/>
                </a:moveTo>
                <a:lnTo>
                  <a:pt x="21600" y="21701"/>
                </a:lnTo>
                <a:lnTo>
                  <a:pt x="20200" y="20301"/>
                </a:lnTo>
                <a:lnTo>
                  <a:pt x="20200" y="1400"/>
                </a:lnTo>
                <a:close/>
              </a:path>
              <a:path fill="darkenLess" w="21600" h="21701">
                <a:moveTo>
                  <a:pt x="21600" y="21701"/>
                </a:moveTo>
                <a:lnTo>
                  <a:pt x="0" y="21701"/>
                </a:lnTo>
                <a:lnTo>
                  <a:pt x="1400" y="20301"/>
                </a:lnTo>
                <a:lnTo>
                  <a:pt x="20200" y="20301"/>
                </a:lnTo>
                <a:close/>
              </a:path>
              <a:path fill="lighten" w="21600" h="21701">
                <a:moveTo>
                  <a:pt x="0" y="217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1"/>
                </a:lnTo>
                <a:close/>
              </a:path>
              <a:path fill="darken" w="21600" h="21701">
                <a:moveTo>
                  <a:pt x="3794" y="10851"/>
                </a:moveTo>
                <a:lnTo>
                  <a:pt x="17806" y="3844"/>
                </a:lnTo>
                <a:lnTo>
                  <a:pt x="17806" y="17857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4DEE-C143-48E1-A39D-54811CC16FFC}" type="slidenum">
              <a:t>121</a:t>
            </a:fld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hypo</a:t>
            </a:r>
            <a:r>
              <a:rPr b="0" lang="en-US" sz="3600" spc="-1" strike="noStrike" u="sng">
                <a:solidFill>
                  <a:srgbClr val="0033cc"/>
                </a:solidFill>
                <a:uFillTx/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enotes anions with less oxygen than th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-i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5224320" y="2584440"/>
            <a:ext cx="2330640" cy="1689120"/>
            <a:chOff x="5224320" y="2584440"/>
            <a:chExt cx="2330640" cy="1689120"/>
          </a:xfrm>
        </p:grpSpPr>
        <p:sp>
          <p:nvSpPr>
            <p:cNvPr id="690" name=""/>
            <p:cNvSpPr/>
            <p:nvPr/>
          </p:nvSpPr>
          <p:spPr>
            <a:xfrm>
              <a:off x="5224320" y="2584440"/>
              <a:ext cx="233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chlorit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91" name=""/>
            <p:cNvGraphicFramePr/>
            <p:nvPr/>
          </p:nvGraphicFramePr>
          <p:xfrm>
            <a:off x="5553000" y="3197160"/>
            <a:ext cx="1674720" cy="1076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9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553000" y="3197160"/>
                      <a:ext cx="1674720" cy="10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93" name=""/>
          <p:cNvGrpSpPr/>
          <p:nvPr/>
        </p:nvGrpSpPr>
        <p:grpSpPr>
          <a:xfrm>
            <a:off x="1219320" y="2584440"/>
            <a:ext cx="2784240" cy="1689120"/>
            <a:chOff x="1219320" y="2584440"/>
            <a:chExt cx="2784240" cy="1689120"/>
          </a:xfrm>
        </p:grpSpPr>
        <p:sp>
          <p:nvSpPr>
            <p:cNvPr id="694" name=""/>
            <p:cNvSpPr/>
            <p:nvPr/>
          </p:nvSpPr>
          <p:spPr>
            <a:xfrm>
              <a:off x="1219320" y="2584440"/>
              <a:ext cx="278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Times New Roman"/>
                </a:rPr>
                <a:t>hypochlorit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95" name=""/>
            <p:cNvGraphicFramePr/>
            <p:nvPr/>
          </p:nvGraphicFramePr>
          <p:xfrm>
            <a:off x="1789200" y="3197160"/>
            <a:ext cx="1644480" cy="1076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9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789200" y="3197160"/>
                      <a:ext cx="1644480" cy="10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1256-BE64-41CB-9963-3CCE0CC316D9}" type="slidenum">
              <a:t>122</a:t>
            </a:fld>
          </a:p>
        </p:txBody>
      </p:sp>
    </p:spTree>
  </p:cSld>
  <p:timing>
    <p:tnLst>
      <p:par>
        <p:cTn id="1487" dur="indefinite" restart="never" nodeType="tmRoot">
          <p:childTnLst>
            <p:seq>
              <p:cTn id="1488" dur="indefinite" nodeType="mainSeq">
                <p:childTnLst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685800" y="611280"/>
            <a:ext cx="77724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-hyp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eans le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>
            <a:hlinkClick r:id="" action="ppaction://hlinkshowjump?jump=previousslide"/>
          </p:cNvPr>
          <p:cNvSpPr/>
          <p:nvPr/>
        </p:nvSpPr>
        <p:spPr>
          <a:xfrm>
            <a:off x="8074080" y="5634000"/>
            <a:ext cx="384120" cy="3859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5920"/>
              <a:gd name="textAreaBottom" fmla="*/ 361080 h 385920"/>
            </a:gdLst>
            <a:ahLst/>
            <a:rect l="textAreaLeft" t="textAreaTop" r="textAreaRight" b="textAreaBottom"/>
            <a:pathLst>
              <a:path w="21600" h="21701">
                <a:moveTo>
                  <a:pt x="0" y="0"/>
                </a:moveTo>
                <a:lnTo>
                  <a:pt x="21600" y="0"/>
                </a:lnTo>
                <a:lnTo>
                  <a:pt x="21600" y="21701"/>
                </a:lnTo>
                <a:lnTo>
                  <a:pt x="0" y="21701"/>
                </a:lnTo>
                <a:close/>
              </a:path>
              <a:path fill="lightenLess" w="21600" h="217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1">
                <a:moveTo>
                  <a:pt x="21600" y="0"/>
                </a:moveTo>
                <a:lnTo>
                  <a:pt x="21600" y="21701"/>
                </a:lnTo>
                <a:lnTo>
                  <a:pt x="20200" y="20301"/>
                </a:lnTo>
                <a:lnTo>
                  <a:pt x="20200" y="1400"/>
                </a:lnTo>
                <a:close/>
              </a:path>
              <a:path fill="darkenLess" w="21600" h="21701">
                <a:moveTo>
                  <a:pt x="21600" y="21701"/>
                </a:moveTo>
                <a:lnTo>
                  <a:pt x="0" y="21701"/>
                </a:lnTo>
                <a:lnTo>
                  <a:pt x="1400" y="20301"/>
                </a:lnTo>
                <a:lnTo>
                  <a:pt x="20200" y="20301"/>
                </a:lnTo>
                <a:close/>
              </a:path>
              <a:path fill="lighten" w="21600" h="21701">
                <a:moveTo>
                  <a:pt x="0" y="217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1"/>
                </a:lnTo>
                <a:close/>
              </a:path>
              <a:path fill="darken" w="21600" h="21701">
                <a:moveTo>
                  <a:pt x="3794" y="10851"/>
                </a:moveTo>
                <a:lnTo>
                  <a:pt x="17806" y="3844"/>
                </a:lnTo>
                <a:lnTo>
                  <a:pt x="17806" y="17857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0E3F-36E0-49D5-A992-CE823A1C632F}" type="slidenum">
              <a:t>123</a:t>
            </a:fld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3BAD-AA4F-4CF8-93E8-B8AE8FAE173B}" type="slidenum">
              <a:t>124</a:t>
            </a:fld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/>
          </p:nvPr>
        </p:nvSpPr>
        <p:spPr>
          <a:xfrm>
            <a:off x="1523880" y="611280"/>
            <a:ext cx="609624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olyatomic ions do not us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–ate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i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yst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143000" y="2117880"/>
            <a:ext cx="2784240" cy="1616040"/>
            <a:chOff x="1143000" y="2117880"/>
            <a:chExt cx="2784240" cy="1616040"/>
          </a:xfrm>
        </p:grpSpPr>
        <p:sp>
          <p:nvSpPr>
            <p:cNvPr id="702" name=""/>
            <p:cNvSpPr/>
            <p:nvPr/>
          </p:nvSpPr>
          <p:spPr>
            <a:xfrm>
              <a:off x="1143000" y="2117880"/>
              <a:ext cx="278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hydroxid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03" name=""/>
            <p:cNvGraphicFramePr/>
            <p:nvPr/>
          </p:nvGraphicFramePr>
          <p:xfrm>
            <a:off x="1774800" y="2657520"/>
            <a:ext cx="1519200" cy="1076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74800" y="2657520"/>
                      <a:ext cx="1519200" cy="10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05" name=""/>
          <p:cNvGrpSpPr/>
          <p:nvPr/>
        </p:nvGrpSpPr>
        <p:grpSpPr>
          <a:xfrm>
            <a:off x="609480" y="3940200"/>
            <a:ext cx="3851280" cy="1698120"/>
            <a:chOff x="609480" y="3940200"/>
            <a:chExt cx="3851280" cy="1698120"/>
          </a:xfrm>
        </p:grpSpPr>
        <p:sp>
          <p:nvSpPr>
            <p:cNvPr id="706" name=""/>
            <p:cNvSpPr/>
            <p:nvPr/>
          </p:nvSpPr>
          <p:spPr>
            <a:xfrm>
              <a:off x="609480" y="3940200"/>
              <a:ext cx="385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hydrogen sulfid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07" name=""/>
            <p:cNvGraphicFramePr/>
            <p:nvPr/>
          </p:nvGraphicFramePr>
          <p:xfrm>
            <a:off x="1854360" y="4562280"/>
            <a:ext cx="1360440" cy="1076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4360" y="4562280"/>
                      <a:ext cx="1360440" cy="107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09" name=""/>
          <p:cNvGrpSpPr/>
          <p:nvPr/>
        </p:nvGrpSpPr>
        <p:grpSpPr>
          <a:xfrm>
            <a:off x="5826240" y="2117880"/>
            <a:ext cx="2330280" cy="1425600"/>
            <a:chOff x="5826240" y="2117880"/>
            <a:chExt cx="2330280" cy="1425600"/>
          </a:xfrm>
        </p:grpSpPr>
        <p:sp>
          <p:nvSpPr>
            <p:cNvPr id="710" name=""/>
            <p:cNvSpPr/>
            <p:nvPr/>
          </p:nvSpPr>
          <p:spPr>
            <a:xfrm>
              <a:off x="5826240" y="2117880"/>
              <a:ext cx="233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yanid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1" name=""/>
            <p:cNvGraphicFramePr/>
            <p:nvPr/>
          </p:nvGraphicFramePr>
          <p:xfrm>
            <a:off x="6296040" y="2657520"/>
            <a:ext cx="1390320" cy="885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1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96040" y="2657520"/>
                      <a:ext cx="139032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13" name=""/>
          <p:cNvGrpSpPr/>
          <p:nvPr/>
        </p:nvGrpSpPr>
        <p:grpSpPr>
          <a:xfrm>
            <a:off x="5945040" y="3940200"/>
            <a:ext cx="2092320" cy="1698120"/>
            <a:chOff x="5945040" y="3940200"/>
            <a:chExt cx="2092320" cy="1698120"/>
          </a:xfrm>
        </p:grpSpPr>
        <p:sp>
          <p:nvSpPr>
            <p:cNvPr id="714" name=""/>
            <p:cNvSpPr/>
            <p:nvPr/>
          </p:nvSpPr>
          <p:spPr>
            <a:xfrm>
              <a:off x="5945040" y="394020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peroxid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5" name=""/>
            <p:cNvGraphicFramePr/>
            <p:nvPr/>
          </p:nvGraphicFramePr>
          <p:xfrm>
            <a:off x="6453000" y="4562280"/>
            <a:ext cx="1074600" cy="1076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1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453000" y="4562280"/>
                      <a:ext cx="1074600" cy="107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852F-615E-40C1-BBE0-1AF9AA17BAB8}" type="slidenum">
              <a:t>125</a:t>
            </a:fld>
          </a:p>
        </p:txBody>
      </p:sp>
    </p:spTree>
  </p:cSld>
  <p:timing>
    <p:tnLst>
      <p:par>
        <p:cTn id="1501" dur="indefinite" restart="never" nodeType="tmRoot">
          <p:childTnLst>
            <p:seq>
              <p:cTn id="1502" dur="indefinite" nodeType="mainSeq">
                <p:childTnLst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685800" y="611280"/>
            <a:ext cx="777240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re are three common positively charged polyatomic 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5372280" y="3940200"/>
            <a:ext cx="2784240" cy="1616040"/>
            <a:chOff x="5372280" y="3940200"/>
            <a:chExt cx="2784240" cy="1616040"/>
          </a:xfrm>
        </p:grpSpPr>
        <p:sp>
          <p:nvSpPr>
            <p:cNvPr id="719" name=""/>
            <p:cNvSpPr/>
            <p:nvPr/>
          </p:nvSpPr>
          <p:spPr>
            <a:xfrm>
              <a:off x="5372280" y="3940200"/>
              <a:ext cx="278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ammoniu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20" name=""/>
            <p:cNvGraphicFramePr/>
            <p:nvPr/>
          </p:nvGraphicFramePr>
          <p:xfrm>
            <a:off x="5956200" y="4479840"/>
            <a:ext cx="1613880" cy="1076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56200" y="4479840"/>
                      <a:ext cx="1613880" cy="10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22" name=""/>
          <p:cNvGrpSpPr/>
          <p:nvPr/>
        </p:nvGrpSpPr>
        <p:grpSpPr>
          <a:xfrm>
            <a:off x="609480" y="3940200"/>
            <a:ext cx="3851280" cy="1698480"/>
            <a:chOff x="609480" y="3940200"/>
            <a:chExt cx="3851280" cy="1698480"/>
          </a:xfrm>
        </p:grpSpPr>
        <p:sp>
          <p:nvSpPr>
            <p:cNvPr id="723" name=""/>
            <p:cNvSpPr/>
            <p:nvPr/>
          </p:nvSpPr>
          <p:spPr>
            <a:xfrm>
              <a:off x="609480" y="3940200"/>
              <a:ext cx="385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hydroniu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24" name=""/>
            <p:cNvGraphicFramePr/>
            <p:nvPr/>
          </p:nvGraphicFramePr>
          <p:xfrm>
            <a:off x="1619280" y="4562640"/>
            <a:ext cx="1833480" cy="1076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19280" y="4562640"/>
                      <a:ext cx="1833480" cy="107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26" name=""/>
          <p:cNvGrpSpPr/>
          <p:nvPr/>
        </p:nvGrpSpPr>
        <p:grpSpPr>
          <a:xfrm>
            <a:off x="3406680" y="2000160"/>
            <a:ext cx="2330640" cy="1733400"/>
            <a:chOff x="3406680" y="2000160"/>
            <a:chExt cx="2330640" cy="1733400"/>
          </a:xfrm>
        </p:grpSpPr>
        <p:sp>
          <p:nvSpPr>
            <p:cNvPr id="727" name=""/>
            <p:cNvSpPr/>
            <p:nvPr/>
          </p:nvSpPr>
          <p:spPr>
            <a:xfrm>
              <a:off x="3406680" y="2000160"/>
              <a:ext cx="233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mercury(I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28" name=""/>
            <p:cNvGraphicFramePr/>
            <p:nvPr/>
          </p:nvGraphicFramePr>
          <p:xfrm>
            <a:off x="3751200" y="2658960"/>
            <a:ext cx="1643040" cy="1074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2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751200" y="2658960"/>
                      <a:ext cx="1643040" cy="107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5BEC-16F3-4661-BCB1-A0F3EC1008AE}" type="slidenum">
              <a:t>126</a:t>
            </a:fld>
          </a:p>
        </p:txBody>
      </p:sp>
    </p:spTree>
  </p:cSld>
  <p:transition spd="slow">
    <p:blinds dir="vert"/>
  </p:transition>
  <p:timing>
    <p:tnLst>
      <p:par>
        <p:cTn id="1527" dur="indefinite" restart="never" nodeType="tmRoot">
          <p:childTnLst>
            <p:seq>
              <p:cTn id="1528" dur="indefinite" nodeType="mainSeq">
                <p:childTnLst>
                  <p:par>
                    <p:cTn id="1529" fill="hold">
                      <p:stCondLst>
                        <p:cond delay="0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91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1345-6AF8-4954-895A-C4635DDBF0A0}" type="slidenum">
              <a:t>127</a:t>
            </a:fld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392E-9219-4A99-B063-0B5D9F0103FC}" type="slidenum">
              <a:t>128</a:t>
            </a:fld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6.6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Aci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437C-1088-44B6-824F-A6E35E7F9C21}" type="slidenum">
              <a:t>129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 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N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 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C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+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 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Al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3+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0" y="-3240"/>
            <a:ext cx="9141120" cy="1190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Positive Ion Formation: </a:t>
            </a:r>
            <a:br>
              <a:rPr sz="3600"/>
            </a:b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Loss of Electrons From a Neutral At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5CFD-EF08-4273-83E4-6785328062E8}" type="slidenum">
              <a:t>13</a:t>
            </a:fld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/>
          </p:nvPr>
        </p:nvSpPr>
        <p:spPr>
          <a:xfrm>
            <a:off x="990720" y="2762280"/>
            <a:ext cx="716256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Oxy-acid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tain hydrogen, oxygen and one other ele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A86E-9416-43D0-8B0D-E1839E2490BA}" type="slidenum">
              <a:t>130</a:t>
            </a:fld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329760" y="2266920"/>
            <a:ext cx="3403800" cy="23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gen in a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y-acid is not expressed in the acid na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749480" y="2209680"/>
            <a:ext cx="40640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86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ord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i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name indicates the presence of hydrog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DFA4-6B15-4781-9DC6-B682A76865E1}" type="slidenum">
              <a:t>131</a:t>
            </a:fld>
          </a:p>
        </p:txBody>
      </p:sp>
    </p:spTree>
  </p:cSld>
  <p:timing>
    <p:tnLst>
      <p:par>
        <p:cTn id="1547" dur="indefinite" restart="never" nodeType="tmRoot">
          <p:childTnLst>
            <p:seq>
              <p:cTn id="1548" dur="indefinite" nodeType="mainSeq">
                <p:childTnLst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10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10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7" name=""/>
          <p:cNvGrpSpPr/>
          <p:nvPr/>
        </p:nvGrpSpPr>
        <p:grpSpPr>
          <a:xfrm>
            <a:off x="6937200" y="1523880"/>
            <a:ext cx="1676520" cy="2152800"/>
            <a:chOff x="6937200" y="1523880"/>
            <a:chExt cx="1676520" cy="2152800"/>
          </a:xfrm>
        </p:grpSpPr>
        <p:sp>
          <p:nvSpPr>
            <p:cNvPr id="738" name=""/>
            <p:cNvSpPr/>
            <p:nvPr/>
          </p:nvSpPr>
          <p:spPr>
            <a:xfrm>
              <a:off x="7470720" y="3022560"/>
              <a:ext cx="609480" cy="65412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937200" y="1523880"/>
              <a:ext cx="167652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ntains oxyg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6394320" y="1523880"/>
            <a:ext cx="1676520" cy="2152800"/>
            <a:chOff x="6394320" y="1523880"/>
            <a:chExt cx="1676520" cy="2152800"/>
          </a:xfrm>
        </p:grpSpPr>
        <p:sp>
          <p:nvSpPr>
            <p:cNvPr id="741" name=""/>
            <p:cNvSpPr/>
            <p:nvPr/>
          </p:nvSpPr>
          <p:spPr>
            <a:xfrm>
              <a:off x="6986520" y="3022560"/>
              <a:ext cx="492120" cy="65412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394320" y="1523880"/>
              <a:ext cx="167652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ntains sulfu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5491080" y="1523880"/>
            <a:ext cx="1676520" cy="2152800"/>
            <a:chOff x="5491080" y="1523880"/>
            <a:chExt cx="1676520" cy="2152800"/>
          </a:xfrm>
        </p:grpSpPr>
        <p:sp>
          <p:nvSpPr>
            <p:cNvPr id="745" name=""/>
            <p:cNvSpPr/>
            <p:nvPr/>
          </p:nvSpPr>
          <p:spPr>
            <a:xfrm>
              <a:off x="6002280" y="3022560"/>
              <a:ext cx="685800" cy="65412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491080" y="1523880"/>
              <a:ext cx="1676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ntains hydrog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3527280" y="1143000"/>
            <a:ext cx="1676520" cy="2602080"/>
            <a:chOff x="3527280" y="1143000"/>
            <a:chExt cx="1676520" cy="2602080"/>
          </a:xfrm>
        </p:grpSpPr>
        <p:sp>
          <p:nvSpPr>
            <p:cNvPr id="748" name=""/>
            <p:cNvSpPr/>
            <p:nvPr/>
          </p:nvSpPr>
          <p:spPr>
            <a:xfrm>
              <a:off x="3603600" y="3022560"/>
              <a:ext cx="1523880" cy="7225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527280" y="1143000"/>
              <a:ext cx="1676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ndicates hydrog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698400" y="2779560"/>
            <a:ext cx="7756560" cy="1154160"/>
            <a:chOff x="698400" y="2779560"/>
            <a:chExt cx="7756560" cy="1154160"/>
          </a:xfrm>
        </p:grpSpPr>
        <p:sp>
          <p:nvSpPr>
            <p:cNvPr id="751" name=""/>
            <p:cNvSpPr/>
            <p:nvPr/>
          </p:nvSpPr>
          <p:spPr>
            <a:xfrm>
              <a:off x="698400" y="2806560"/>
              <a:ext cx="45799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cc6600"/>
                  </a:solidFill>
                  <a:latin typeface="Times New Roman"/>
                </a:rPr>
                <a:t>sulfur</a:t>
              </a:r>
              <a:r>
                <a:rPr b="0" lang="en-US" sz="6600" spc="-1" strike="noStrike">
                  <a:solidFill>
                    <a:srgbClr val="008000"/>
                  </a:solidFill>
                  <a:latin typeface="Times New Roman"/>
                </a:rPr>
                <a:t>ic</a:t>
              </a:r>
              <a:r>
                <a:rPr b="0" lang="en-US" sz="6600" spc="-1" strike="noStrike">
                  <a:solidFill>
                    <a:srgbClr val="cc6600"/>
                  </a:solidFill>
                  <a:latin typeface="Times New Roman"/>
                </a:rPr>
                <a:t> acid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2" name=""/>
                <p:cNvSpPr txBox="1"/>
                <p:nvPr/>
              </p:nvSpPr>
              <p:spPr>
                <a:xfrm>
                  <a:off x="5975280" y="2779560"/>
                  <a:ext cx="2479680" cy="11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SO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6792-05DE-4754-9E6B-5FEA4DFAE5C0}" type="slidenum">
              <a:t>132</a:t>
            </a:fld>
          </a:p>
        </p:txBody>
      </p:sp>
    </p:spTree>
  </p:cSld>
  <p:timing>
    <p:tnLst>
      <p:par>
        <p:cTn id="1555" dur="indefinite" restart="never" nodeType="tmRoot">
          <p:childTnLst>
            <p:seq>
              <p:cTn id="1556" dur="indefinite" nodeType="mainSeq">
                <p:childTnLst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1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2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/>
          </p:nvPr>
        </p:nvSpPr>
        <p:spPr>
          <a:xfrm>
            <a:off x="685800" y="61128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ons ending in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-</a:t>
            </a:r>
            <a:r>
              <a:rPr b="0" i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te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 contain more oxygen than ions ending in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0" i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5181480" y="2585880"/>
            <a:ext cx="2330640" cy="1689120"/>
            <a:chOff x="5181480" y="2585880"/>
            <a:chExt cx="2330640" cy="1689120"/>
          </a:xfrm>
        </p:grpSpPr>
        <p:sp>
          <p:nvSpPr>
            <p:cNvPr id="755" name=""/>
            <p:cNvSpPr/>
            <p:nvPr/>
          </p:nvSpPr>
          <p:spPr>
            <a:xfrm>
              <a:off x="5181480" y="2585880"/>
              <a:ext cx="233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phosphat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56" name=""/>
            <p:cNvGraphicFramePr/>
            <p:nvPr/>
          </p:nvGraphicFramePr>
          <p:xfrm>
            <a:off x="5572080" y="3198960"/>
            <a:ext cx="1549440" cy="1076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72080" y="3198960"/>
                      <a:ext cx="1549440" cy="107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58" name=""/>
          <p:cNvGrpSpPr/>
          <p:nvPr/>
        </p:nvGrpSpPr>
        <p:grpSpPr>
          <a:xfrm>
            <a:off x="1752480" y="2585880"/>
            <a:ext cx="2044800" cy="1689120"/>
            <a:chOff x="1752480" y="2585880"/>
            <a:chExt cx="2044800" cy="1689120"/>
          </a:xfrm>
        </p:grpSpPr>
        <p:sp>
          <p:nvSpPr>
            <p:cNvPr id="759" name=""/>
            <p:cNvSpPr/>
            <p:nvPr/>
          </p:nvSpPr>
          <p:spPr>
            <a:xfrm>
              <a:off x="1752480" y="2585880"/>
              <a:ext cx="204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Times New Roman"/>
                </a:rPr>
                <a:t>phosphit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60" name=""/>
            <p:cNvGraphicFramePr/>
            <p:nvPr/>
          </p:nvGraphicFramePr>
          <p:xfrm>
            <a:off x="2016000" y="3198960"/>
            <a:ext cx="1517760" cy="1076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16000" y="3198960"/>
                      <a:ext cx="1517760" cy="107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CADF-1276-4879-87EF-B1D8F8C053F6}" type="slidenum">
              <a:t>133</a:t>
            </a:fld>
          </a:p>
        </p:txBody>
      </p:sp>
    </p:spTree>
  </p:cSld>
  <p:transition spd="slow">
    <p:blinds dir="vert"/>
  </p:transition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fill="hold">
                      <p:stCondLst>
                        <p:cond delay="0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-1440" y="-228600"/>
            <a:ext cx="9144000" cy="14479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Naming the Acid Based </a:t>
            </a:r>
            <a:br>
              <a:rPr sz="3600"/>
            </a:br>
            <a:r>
              <a:rPr b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on the Name of the Polyatomic 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33720" y="1600200"/>
            <a:ext cx="50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nding  of Polyatomic 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311120" y="4670280"/>
            <a:ext cx="25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oxy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12640" y="2867040"/>
            <a:ext cx="23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oxy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181240" y="224784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i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131200" y="3976560"/>
            <a:ext cx="89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698440" y="1600200"/>
            <a:ext cx="31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nding  of Ac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739920" y="2247840"/>
            <a:ext cx="102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Times New Roman"/>
              </a:rPr>
              <a:t>o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943680" y="397656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Times New Roman"/>
              </a:rPr>
              <a:t>i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6505-EA44-4F3F-8116-53E96974E686}" type="slidenum">
              <a:t>134</a:t>
            </a:fld>
          </a:p>
        </p:txBody>
      </p:sp>
    </p:spTree>
  </p:cSld>
  <p:timing>
    <p:tnLst>
      <p:par>
        <p:cTn id="1598" dur="indefinite" restart="never" nodeType="tmRoot">
          <p:childTnLst>
            <p:seq>
              <p:cTn id="1599" dur="indefinite" nodeType="mainSeq">
                <p:childTnLst>
                  <p:par>
                    <p:cTn id="1600" fill="hold">
                      <p:stCondLst>
                        <p:cond delay="0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4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8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9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8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Examp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0517-906D-42CB-8AAB-E4E7DCDD7A21}" type="slidenum">
              <a:t>135</a:t>
            </a:fld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546200" y="1504800"/>
            <a:ext cx="259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6600"/>
                </a:solidFill>
                <a:latin typeface="Times New Roman"/>
              </a:rPr>
              <a:t>sulf</a:t>
            </a:r>
            <a:r>
              <a:rPr b="0" lang="en-US" sz="6600" spc="-1" strike="noStrike">
                <a:solidFill>
                  <a:srgbClr val="008000"/>
                </a:solidFill>
                <a:latin typeface="Times New Roman"/>
              </a:rPr>
              <a:t>it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6149880" y="1380960"/>
          <a:ext cx="1914480" cy="13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9880" y="1380960"/>
                    <a:ext cx="191448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6" name=""/>
          <p:cNvSpPr/>
          <p:nvPr/>
        </p:nvSpPr>
        <p:spPr>
          <a:xfrm>
            <a:off x="495360" y="4246560"/>
            <a:ext cx="5064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6600"/>
                </a:solidFill>
                <a:latin typeface="Times New Roman"/>
              </a:rPr>
              <a:t>sulfur</a:t>
            </a:r>
            <a:r>
              <a:rPr b="0" lang="en-US" sz="6600" spc="-1" strike="noStrike">
                <a:solidFill>
                  <a:srgbClr val="008000"/>
                </a:solidFill>
                <a:latin typeface="Times New Roman"/>
              </a:rPr>
              <a:t>ous</a:t>
            </a:r>
            <a:r>
              <a:rPr b="0" lang="en-US" sz="6600" spc="-1" strike="noStrike">
                <a:solidFill>
                  <a:srgbClr val="cc6600"/>
                </a:solidFill>
                <a:latin typeface="Times New Roman"/>
              </a:rPr>
              <a:t> aci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5791320" y="4111560"/>
          <a:ext cx="2590560" cy="136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4111560"/>
                    <a:ext cx="259056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9" name=""/>
          <p:cNvSpPr/>
          <p:nvPr/>
        </p:nvSpPr>
        <p:spPr>
          <a:xfrm>
            <a:off x="3276720" y="2438280"/>
            <a:ext cx="0" cy="221004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760A-8D7F-4463-9311-EF6FB0DD8229}" type="slidenum">
              <a:t>136</a:t>
            </a:fld>
          </a:p>
        </p:txBody>
      </p:sp>
    </p:spTree>
  </p:cSld>
  <p:timing>
    <p:tnLst>
      <p:par>
        <p:cTn id="1629" dur="indefinite" restart="never" nodeType="tmRoot">
          <p:childTnLst>
            <p:seq>
              <p:cTn id="1630" dur="indefinite" nodeType="mainSeq">
                <p:childTnLst>
                  <p:par>
                    <p:cTn id="1631" fill="hold">
                      <p:stCondLst>
                        <p:cond delay="0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546200" y="1504800"/>
            <a:ext cx="259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6600"/>
                </a:solidFill>
                <a:latin typeface="Times New Roman"/>
              </a:rPr>
              <a:t>sulf</a:t>
            </a:r>
            <a:r>
              <a:rPr b="0" lang="en-US" sz="6600" spc="-1" strike="noStrike">
                <a:solidFill>
                  <a:srgbClr val="008000"/>
                </a:solidFill>
                <a:latin typeface="Times New Roman"/>
              </a:rPr>
              <a:t>at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2" name=""/>
          <p:cNvGraphicFramePr/>
          <p:nvPr/>
        </p:nvGraphicFramePr>
        <p:xfrm>
          <a:off x="5683320" y="1380960"/>
          <a:ext cx="1914480" cy="13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3320" y="1380960"/>
                    <a:ext cx="191448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4" name=""/>
          <p:cNvSpPr/>
          <p:nvPr/>
        </p:nvSpPr>
        <p:spPr>
          <a:xfrm>
            <a:off x="495360" y="4246560"/>
            <a:ext cx="5064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6600"/>
                </a:solidFill>
                <a:latin typeface="Times New Roman"/>
              </a:rPr>
              <a:t>sulfur</a:t>
            </a:r>
            <a:r>
              <a:rPr b="0" lang="en-US" sz="6600" spc="-1" strike="noStrike">
                <a:solidFill>
                  <a:srgbClr val="008000"/>
                </a:solidFill>
                <a:latin typeface="Times New Roman"/>
              </a:rPr>
              <a:t>ic</a:t>
            </a:r>
            <a:r>
              <a:rPr b="0" lang="en-US" sz="6600" spc="-1" strike="noStrike">
                <a:solidFill>
                  <a:srgbClr val="cc6600"/>
                </a:solidFill>
                <a:latin typeface="Times New Roman"/>
              </a:rPr>
              <a:t> aci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284640" y="2438280"/>
            <a:ext cx="0" cy="221004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5486400" y="4129200"/>
          <a:ext cx="2552760" cy="13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4129200"/>
                    <a:ext cx="255276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2F3A-71AA-4E04-94FD-E843AB60BBFB}" type="slidenum">
              <a:t>137</a:t>
            </a:fld>
          </a:p>
        </p:txBody>
      </p:sp>
    </p:spTree>
  </p:cSld>
  <p:timing>
    <p:tnLst>
      <p:par>
        <p:cTn id="1662" dur="indefinite" restart="never" nodeType="tmRoot">
          <p:childTnLst>
            <p:seq>
              <p:cTn id="1663" dur="indefinite" nodeType="mainSeq">
                <p:childTnLst>
                  <p:par>
                    <p:cTn id="1664" fill="hold">
                      <p:stCondLst>
                        <p:cond delay="0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8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9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0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1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6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7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546200" y="1504800"/>
            <a:ext cx="259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6600"/>
                </a:solidFill>
                <a:latin typeface="Times New Roman"/>
              </a:rPr>
              <a:t>nitr</a:t>
            </a:r>
            <a:r>
              <a:rPr b="0" lang="en-US" sz="6600" spc="-1" strike="noStrike">
                <a:solidFill>
                  <a:srgbClr val="008000"/>
                </a:solidFill>
                <a:latin typeface="Times New Roman"/>
              </a:rPr>
              <a:t>it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0" name=""/>
          <p:cNvGraphicFramePr/>
          <p:nvPr/>
        </p:nvGraphicFramePr>
        <p:xfrm>
          <a:off x="5853240" y="1380960"/>
          <a:ext cx="1844640" cy="13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3240" y="1380960"/>
                    <a:ext cx="184464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"/>
          <p:cNvSpPr/>
          <p:nvPr/>
        </p:nvSpPr>
        <p:spPr>
          <a:xfrm>
            <a:off x="495360" y="4246560"/>
            <a:ext cx="5064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6600"/>
                </a:solidFill>
                <a:latin typeface="Times New Roman"/>
              </a:rPr>
              <a:t>nitr</a:t>
            </a:r>
            <a:r>
              <a:rPr b="0" lang="en-US" sz="6600" spc="-1" strike="noStrike">
                <a:solidFill>
                  <a:srgbClr val="008000"/>
                </a:solidFill>
                <a:latin typeface="Times New Roman"/>
              </a:rPr>
              <a:t>ous</a:t>
            </a:r>
            <a:r>
              <a:rPr b="0" lang="en-US" sz="6600" spc="-1" strike="noStrike">
                <a:solidFill>
                  <a:srgbClr val="cc6600"/>
                </a:solidFill>
                <a:latin typeface="Times New Roman"/>
              </a:rPr>
              <a:t> aci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124080" y="2438280"/>
            <a:ext cx="0" cy="221004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4" name=""/>
          <p:cNvGraphicFramePr/>
          <p:nvPr/>
        </p:nvGraphicFramePr>
        <p:xfrm>
          <a:off x="5556240" y="4129200"/>
          <a:ext cx="2411280" cy="13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56240" y="4129200"/>
                    <a:ext cx="241128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856F-1AAD-4F60-A023-15AC00AC9C7F}" type="slidenum">
              <a:t>138</a:t>
            </a:fld>
          </a:p>
        </p:txBody>
      </p:sp>
    </p:spTree>
  </p:cSld>
  <p:timing>
    <p:tnLst>
      <p:par>
        <p:cTn id="1695" dur="indefinite" restart="never" nodeType="tmRoot">
          <p:childTnLst>
            <p:seq>
              <p:cTn id="1696" dur="indefinite" nodeType="mainSeq">
                <p:childTnLst>
                  <p:par>
                    <p:cTn id="1697" fill="hold">
                      <p:stCondLst>
                        <p:cond delay="0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3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4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2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546200" y="1504800"/>
            <a:ext cx="259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6600"/>
                </a:solidFill>
                <a:latin typeface="Times New Roman"/>
              </a:rPr>
              <a:t>nitr</a:t>
            </a:r>
            <a:r>
              <a:rPr b="0" lang="en-US" sz="6600" spc="-1" strike="noStrike">
                <a:solidFill>
                  <a:srgbClr val="008000"/>
                </a:solidFill>
                <a:latin typeface="Times New Roman"/>
              </a:rPr>
              <a:t>at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5853240" y="1380960"/>
          <a:ext cx="1844640" cy="13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3240" y="1380960"/>
                    <a:ext cx="184464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0" name=""/>
          <p:cNvSpPr/>
          <p:nvPr/>
        </p:nvSpPr>
        <p:spPr>
          <a:xfrm>
            <a:off x="495360" y="4246560"/>
            <a:ext cx="5064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6600"/>
                </a:solidFill>
                <a:latin typeface="Times New Roman"/>
              </a:rPr>
              <a:t>nitr</a:t>
            </a:r>
            <a:r>
              <a:rPr b="0" lang="en-US" sz="6600" spc="-1" strike="noStrike">
                <a:solidFill>
                  <a:srgbClr val="008000"/>
                </a:solidFill>
                <a:latin typeface="Times New Roman"/>
              </a:rPr>
              <a:t>ic</a:t>
            </a:r>
            <a:r>
              <a:rPr b="0" lang="en-US" sz="6600" spc="-1" strike="noStrike">
                <a:solidFill>
                  <a:srgbClr val="cc6600"/>
                </a:solidFill>
                <a:latin typeface="Times New Roman"/>
              </a:rPr>
              <a:t> aci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971800" y="2438280"/>
            <a:ext cx="0" cy="221004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5556240" y="4129200"/>
          <a:ext cx="2411280" cy="13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56240" y="4129200"/>
                    <a:ext cx="241128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9168-6B7C-4E9C-A04F-55122D1F3600}" type="slidenum">
              <a:t>139</a:t>
            </a:fld>
          </a:p>
        </p:txBody>
      </p:sp>
    </p:spTree>
  </p:cSld>
  <p:timing>
    <p:tnLst>
      <p:par>
        <p:cTn id="1728" dur="indefinite" restart="never" nodeType="tmRoot">
          <p:childTnLst>
            <p:seq>
              <p:cTn id="1729" dur="indefinite" nodeType="mainSeq">
                <p:childTnLst>
                  <p:par>
                    <p:cTn id="1730" fill="hold">
                      <p:stCondLst>
                        <p:cond delay="0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4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5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0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1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6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7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2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3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Naming C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DE9D-CF0C-4820-805C-D8DFE4C23188}" type="slidenum">
              <a:t>14</a:t>
            </a:fld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CB6D-B553-4A6C-AE8F-0EB1FBB62D3C}" type="slidenum">
              <a:t>140</a:t>
            </a:fld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" descr=""/>
          <p:cNvPicPr/>
          <p:nvPr/>
        </p:nvPicPr>
        <p:blipFill>
          <a:blip r:embed="rId1"/>
          <a:stretch/>
        </p:blipFill>
        <p:spPr>
          <a:xfrm>
            <a:off x="1481040" y="187200"/>
            <a:ext cx="6180120" cy="6483600"/>
          </a:xfrm>
          <a:prstGeom prst="rect">
            <a:avLst/>
          </a:prstGeom>
          <a:ln w="0">
            <a:noFill/>
          </a:ln>
        </p:spPr>
      </p:pic>
      <p:sp>
        <p:nvSpPr>
          <p:cNvPr id="806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5E94-5F1B-4664-8063-05BFD014305D}" type="slidenum">
              <a:t>141</a:t>
            </a:fld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 txBox="1"/>
          <p:nvPr/>
        </p:nvSpPr>
        <p:spPr>
          <a:xfrm>
            <a:off x="1855800" y="2570040"/>
            <a:ext cx="543240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 End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0A4E-F412-431B-8BF3-2187A748D578}" type="slidenum">
              <a:t>142</a:t>
            </a:fld>
          </a:p>
        </p:txBody>
      </p:sp>
    </p:spTree>
  </p:cSld>
  <p:transition spd="slow">
    <p:blinds dir="vert"/>
  </p:transition>
  <p:timing>
    <p:tnLst>
      <p:par>
        <p:cTn id="1761" dur="indefinite" restart="never" nodeType="tmRoot">
          <p:childTnLst>
            <p:seq>
              <p:cTn id="1762" dur="indefinite" nodeType="mainSeq">
                <p:childTnLst>
                  <p:par>
                    <p:cTn id="1763" fill="hold">
                      <p:stCondLst>
                        <p:cond delay="0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7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600" y="2857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tions are named the sam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 their parent ato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DCEC-E330-4D6D-A2B5-14ABD8738C8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666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t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ation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Name of C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352680" y="609480"/>
            <a:ext cx="3429000" cy="5473440"/>
            <a:chOff x="3352680" y="609480"/>
            <a:chExt cx="3429000" cy="5473440"/>
          </a:xfrm>
        </p:grpSpPr>
        <p:sp>
          <p:nvSpPr>
            <p:cNvPr id="84" name=""/>
            <p:cNvSpPr/>
            <p:nvPr/>
          </p:nvSpPr>
          <p:spPr>
            <a:xfrm>
              <a:off x="3352680" y="609480"/>
              <a:ext cx="342900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sodium (Na)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52680" y="2743200"/>
              <a:ext cx="121932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52680" y="5257800"/>
              <a:ext cx="304812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sodium ion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1EBC-B680-40FB-8AAF-4E11E31E37D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666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t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ation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Name of C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352680" y="609480"/>
            <a:ext cx="3429000" cy="5473440"/>
            <a:chOff x="3352680" y="609480"/>
            <a:chExt cx="3429000" cy="5473440"/>
          </a:xfrm>
        </p:grpSpPr>
        <p:sp>
          <p:nvSpPr>
            <p:cNvPr id="89" name=""/>
            <p:cNvSpPr/>
            <p:nvPr/>
          </p:nvSpPr>
          <p:spPr>
            <a:xfrm>
              <a:off x="3352680" y="609480"/>
              <a:ext cx="342900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calcium (Ca)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52680" y="2743200"/>
              <a:ext cx="137160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Ca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52680" y="5257800"/>
              <a:ext cx="304812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calcium ion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8A25-0A73-4FC4-9673-F5415ACEB94E}" type="slidenum">
              <a:t>17</a:t>
            </a:fld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666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t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ation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Name of C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352680" y="609480"/>
            <a:ext cx="3429000" cy="5473440"/>
            <a:chOff x="3352680" y="609480"/>
            <a:chExt cx="3429000" cy="5473440"/>
          </a:xfrm>
        </p:grpSpPr>
        <p:sp>
          <p:nvSpPr>
            <p:cNvPr id="94" name=""/>
            <p:cNvSpPr/>
            <p:nvPr/>
          </p:nvSpPr>
          <p:spPr>
            <a:xfrm>
              <a:off x="3352680" y="609480"/>
              <a:ext cx="342900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lithium (Li)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52680" y="2743200"/>
              <a:ext cx="121932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Li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52680" y="5257800"/>
              <a:ext cx="304812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lithium ion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F243-9CE6-4843-9978-580E55B90936}" type="slidenum">
              <a:t>18</a:t>
            </a:fld>
          </a:p>
        </p:txBody>
      </p:sp>
    </p:spTree>
  </p:cSld>
  <p:transition spd="slow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666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t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ation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Name of C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352680" y="609480"/>
            <a:ext cx="4496040" cy="5473440"/>
            <a:chOff x="3352680" y="609480"/>
            <a:chExt cx="4496040" cy="5473440"/>
          </a:xfrm>
        </p:grpSpPr>
        <p:sp>
          <p:nvSpPr>
            <p:cNvPr id="99" name=""/>
            <p:cNvSpPr/>
            <p:nvPr/>
          </p:nvSpPr>
          <p:spPr>
            <a:xfrm>
              <a:off x="3352680" y="609480"/>
              <a:ext cx="449604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magnesium (Mg)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352680" y="2743200"/>
              <a:ext cx="152424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52680" y="5257800"/>
              <a:ext cx="403884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magnesium ion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2440-087B-4DF0-98DE-076B8B1D71F2}" type="slidenum">
              <a:t>19</a:t>
            </a:fld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hapter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523880"/>
            <a:ext cx="7924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5760" y="1828800"/>
            <a:ext cx="40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1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Common and Systematic_x000b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Nam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5760" y="2743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Elements and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5760" y="3292560"/>
            <a:ext cx="415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Writing Formulas from_x000b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Names of Ionic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25760" y="1828800"/>
            <a:ext cx="43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Naming Binary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25760" y="237816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Naming Compounds_x000b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8" action="ppaction://hlinksldjump"/>
              </a:rPr>
              <a:t>Containing Polyatomic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25760" y="329256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9" action="ppaction://hlinksldjump"/>
              </a:rPr>
              <a:t>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F644-C84B-4F22-A626-3AE716D8E26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666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t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ation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Name of C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352680" y="609480"/>
            <a:ext cx="3962520" cy="5473440"/>
            <a:chOff x="3352680" y="609480"/>
            <a:chExt cx="3962520" cy="5473440"/>
          </a:xfrm>
        </p:grpSpPr>
        <p:sp>
          <p:nvSpPr>
            <p:cNvPr id="104" name=""/>
            <p:cNvSpPr/>
            <p:nvPr/>
          </p:nvSpPr>
          <p:spPr>
            <a:xfrm>
              <a:off x="3352680" y="609480"/>
              <a:ext cx="396252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strontium (Sr)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52680" y="2743200"/>
              <a:ext cx="121932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Sr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52680" y="5257800"/>
              <a:ext cx="358164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strontium ion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DC88-13E3-4170-A278-D3067DD7C236}" type="slidenum">
              <a:t>20</a:t>
            </a:fld>
          </a:p>
        </p:txBody>
      </p:sp>
    </p:spTree>
  </p:cSld>
  <p:transition spd="slow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00280" y="228600"/>
            <a:ext cx="7543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ew York"/>
              </a:rPr>
              <a:t>A charged particle known as an ion can be produced by adding or removing one or more electrons from a neutral at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0280" y="228600"/>
            <a:ext cx="754380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one or more electrons are added to a neutral atom a negative ion is formed. A negative ion is called an </a:t>
            </a:r>
            <a:r>
              <a:rPr b="0" i="1" lang="en-US" sz="3600" spc="-1" strike="noStrike">
                <a:solidFill>
                  <a:srgbClr val="3366ff"/>
                </a:solidFill>
                <a:latin typeface="Times New Roman"/>
              </a:rPr>
              <a:t>an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00400" y="514980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→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3080" y="5867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eutral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47840" y="3244680"/>
            <a:ext cx="2225520" cy="2575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914560" y="3417840"/>
            <a:ext cx="685800" cy="6094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232240" y="3244680"/>
            <a:ext cx="2781360" cy="2621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391520" y="3390840"/>
            <a:ext cx="685800" cy="6098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41911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dd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18080" y="5867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F43F-DF65-4BAE-95A6-71D39477ABE4}" type="slidenum">
              <a:t>21</a:t>
            </a:fld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Naming An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1534-5C68-416C-9A8D-2913DFCB2AB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anion consisting of one element has the stem of the parent element and an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ide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A738-2927-43A4-ADD6-B6E051FC08F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666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t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nion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Name of An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352680" y="609480"/>
            <a:ext cx="3049560" cy="5473440"/>
            <a:chOff x="3352680" y="609480"/>
            <a:chExt cx="3049560" cy="5473440"/>
          </a:xfrm>
        </p:grpSpPr>
        <p:sp>
          <p:nvSpPr>
            <p:cNvPr id="121" name=""/>
            <p:cNvSpPr/>
            <p:nvPr/>
          </p:nvSpPr>
          <p:spPr>
            <a:xfrm>
              <a:off x="3352680" y="609480"/>
              <a:ext cx="304956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fluorine (F)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52680" y="2743200"/>
              <a:ext cx="73368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52680" y="5257800"/>
              <a:ext cx="304812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fluor</a:t>
              </a:r>
              <a:r>
                <a:rPr b="0" lang="en-US" sz="4800" spc="-1" strike="noStrike">
                  <a:solidFill>
                    <a:srgbClr val="0000ff"/>
                  </a:solidFill>
                  <a:latin typeface="Times New Roman"/>
                </a:rPr>
                <a:t>ide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 ion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23268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252960" y="4267080"/>
            <a:ext cx="1471320" cy="1992600"/>
            <a:chOff x="3252960" y="4267080"/>
            <a:chExt cx="1471320" cy="1992600"/>
          </a:xfrm>
        </p:grpSpPr>
        <p:sp>
          <p:nvSpPr>
            <p:cNvPr id="126" name=""/>
            <p:cNvSpPr/>
            <p:nvPr/>
          </p:nvSpPr>
          <p:spPr>
            <a:xfrm>
              <a:off x="3352680" y="4267080"/>
              <a:ext cx="1371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ste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52960" y="4354560"/>
              <a:ext cx="1395360" cy="19051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29FD-EECB-4A14-B2E8-9B060BFBF170}" type="slidenum">
              <a:t>24</a:t>
            </a:fld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666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t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nion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Name of An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352680" y="609480"/>
            <a:ext cx="3429000" cy="5473440"/>
            <a:chOff x="3352680" y="609480"/>
            <a:chExt cx="3429000" cy="5473440"/>
          </a:xfrm>
        </p:grpSpPr>
        <p:sp>
          <p:nvSpPr>
            <p:cNvPr id="130" name=""/>
            <p:cNvSpPr/>
            <p:nvPr/>
          </p:nvSpPr>
          <p:spPr>
            <a:xfrm>
              <a:off x="3352680" y="609480"/>
              <a:ext cx="342900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chlorine (Cl)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2743200"/>
              <a:ext cx="95112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52680" y="5257800"/>
              <a:ext cx="320040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chlor</a:t>
              </a:r>
              <a:r>
                <a:rPr b="0" lang="en-US" sz="4800" spc="-1" strike="noStrike">
                  <a:solidFill>
                    <a:srgbClr val="0000ff"/>
                  </a:solidFill>
                  <a:latin typeface="Times New Roman"/>
                </a:rPr>
                <a:t>ide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 ion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208320" y="4267080"/>
            <a:ext cx="1591920" cy="1992600"/>
            <a:chOff x="3208320" y="4267080"/>
            <a:chExt cx="1591920" cy="1992600"/>
          </a:xfrm>
        </p:grpSpPr>
        <p:sp>
          <p:nvSpPr>
            <p:cNvPr id="134" name=""/>
            <p:cNvSpPr/>
            <p:nvPr/>
          </p:nvSpPr>
          <p:spPr>
            <a:xfrm>
              <a:off x="3359880" y="4267080"/>
              <a:ext cx="1440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ste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08320" y="4354560"/>
              <a:ext cx="1520640" cy="19051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D6B1-20CE-453D-9CD2-E93354C93016}" type="slidenum">
              <a:t>25</a:t>
            </a:fld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666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t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nion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Name of An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609480"/>
            <a:ext cx="342900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romine (Br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2743200"/>
            <a:ext cx="102888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52680" y="5257800"/>
            <a:ext cx="325440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rom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id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16240" y="4267080"/>
            <a:ext cx="1508040" cy="1992600"/>
            <a:chOff x="3216240" y="4267080"/>
            <a:chExt cx="1508040" cy="1992600"/>
          </a:xfrm>
        </p:grpSpPr>
        <p:sp>
          <p:nvSpPr>
            <p:cNvPr id="141" name=""/>
            <p:cNvSpPr/>
            <p:nvPr/>
          </p:nvSpPr>
          <p:spPr>
            <a:xfrm>
              <a:off x="3352680" y="4267080"/>
              <a:ext cx="1371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ste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16240" y="4354560"/>
              <a:ext cx="1508040" cy="19051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D3BA-3A0A-44F3-AAE3-CF5A103397E9}" type="slidenum">
              <a:t>26</a:t>
            </a:fld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666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t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nion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Name of An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2680" y="609480"/>
            <a:ext cx="324036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itrogen (N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52680" y="2743200"/>
            <a:ext cx="97812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3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5257800"/>
            <a:ext cx="275436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itr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id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8120" y="4267080"/>
            <a:ext cx="1371600" cy="1981440"/>
            <a:chOff x="3048120" y="4267080"/>
            <a:chExt cx="1371600" cy="1981440"/>
          </a:xfrm>
        </p:grpSpPr>
        <p:sp>
          <p:nvSpPr>
            <p:cNvPr id="148" name=""/>
            <p:cNvSpPr/>
            <p:nvPr/>
          </p:nvSpPr>
          <p:spPr>
            <a:xfrm>
              <a:off x="3048120" y="4267080"/>
              <a:ext cx="1371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ste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48120" y="4343400"/>
              <a:ext cx="1258920" cy="19051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78F8-DA21-406D-BCE3-E00BEA7B9139}" type="slidenum">
              <a:t>27</a:t>
            </a:fld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666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t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nion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Name of An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609480"/>
            <a:ext cx="426744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hosphorous (P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52680" y="2743200"/>
            <a:ext cx="87480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3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52680" y="5257800"/>
            <a:ext cx="373392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hosph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id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23268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276720" y="4267080"/>
            <a:ext cx="1935000" cy="1981440"/>
            <a:chOff x="3276720" y="4267080"/>
            <a:chExt cx="1935000" cy="1981440"/>
          </a:xfrm>
        </p:grpSpPr>
        <p:sp>
          <p:nvSpPr>
            <p:cNvPr id="156" name=""/>
            <p:cNvSpPr/>
            <p:nvPr/>
          </p:nvSpPr>
          <p:spPr>
            <a:xfrm>
              <a:off x="3352680" y="4267080"/>
              <a:ext cx="1371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ste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76720" y="4343400"/>
              <a:ext cx="1935000" cy="19051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8E2A-8B12-4143-9489-AB20B50EAD95}" type="slidenum">
              <a:t>28</a:t>
            </a:fld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666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t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nion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Name of An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52680" y="609480"/>
            <a:ext cx="342900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xygen (O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52680" y="2743200"/>
            <a:ext cx="96840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52680" y="5257800"/>
            <a:ext cx="250524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x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id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3268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743200" y="4267080"/>
            <a:ext cx="1371600" cy="1981440"/>
            <a:chOff x="2743200" y="4267080"/>
            <a:chExt cx="1371600" cy="1981440"/>
          </a:xfrm>
        </p:grpSpPr>
        <p:sp>
          <p:nvSpPr>
            <p:cNvPr id="164" name=""/>
            <p:cNvSpPr/>
            <p:nvPr/>
          </p:nvSpPr>
          <p:spPr>
            <a:xfrm>
              <a:off x="2743200" y="4267080"/>
              <a:ext cx="1371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ste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43200" y="4343400"/>
              <a:ext cx="1295280" cy="19051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E580-5398-43DC-8D19-F7F7FC7DCD21}" type="slidenum">
              <a:t>29</a:t>
            </a:fld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6.1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Common and Systematic Nam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ECB0-6A80-4E47-8E15-5C2CEB1E216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ons are always formed by adding or removing electrons from an at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C27A-1F74-4A83-93B3-131886B937E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often ions are formed when metals combine with nonmetal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0989-829E-43A7-AB83-5F3946399AA1}" type="slidenum">
              <a:t>31</a:t>
            </a:fld>
          </a:p>
        </p:txBody>
      </p:sp>
    </p:spTree>
  </p:cSld>
  <p:transition spd="slow"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harge on an ion can be predicted from its position in the periodic t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249B-3331-4117-B90C-0A32878EF964}" type="slidenum">
              <a:t>32</a:t>
            </a:fld>
          </a:p>
        </p:txBody>
      </p:sp>
    </p:spTree>
  </p:cSld>
  <p:transition spd="slow"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rcRect l="753" t="21998" r="-768" b="29252"/>
          <a:stretch/>
        </p:blipFill>
        <p:spPr>
          <a:xfrm>
            <a:off x="120600" y="1724040"/>
            <a:ext cx="9023400" cy="32972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rcRect l="856" t="22589" r="93135" b="30600"/>
          <a:stretch/>
        </p:blipFill>
        <p:spPr>
          <a:xfrm>
            <a:off x="47520" y="309600"/>
            <a:ext cx="878040" cy="512424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457200" y="649440"/>
            <a:ext cx="4071960" cy="4858560"/>
            <a:chOff x="457200" y="649440"/>
            <a:chExt cx="4071960" cy="4858560"/>
          </a:xfrm>
        </p:grpSpPr>
        <p:sp>
          <p:nvSpPr>
            <p:cNvPr id="172" name=""/>
            <p:cNvSpPr/>
            <p:nvPr/>
          </p:nvSpPr>
          <p:spPr>
            <a:xfrm>
              <a:off x="1557360" y="649440"/>
              <a:ext cx="2971800" cy="1523880"/>
            </a:xfrm>
            <a:prstGeom prst="wedgeRectCallout">
              <a:avLst>
                <a:gd name="adj1" fmla="val -45194"/>
                <a:gd name="adj2" fmla="val 61041"/>
              </a:avLst>
            </a:prstGeom>
            <a:solidFill>
              <a:srgbClr val="e1c3ff"/>
            </a:solidFill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lements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oup 2A have a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2 char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457200" y="990720"/>
              <a:ext cx="878040" cy="4517280"/>
              <a:chOff x="457200" y="990720"/>
              <a:chExt cx="878040" cy="4517280"/>
            </a:xfrm>
          </p:grpSpPr>
          <p:pic>
            <p:nvPicPr>
              <p:cNvPr id="174" name="" descr=""/>
              <p:cNvPicPr/>
              <p:nvPr/>
            </p:nvPicPr>
            <p:blipFill>
              <a:blip r:embed="rId3"/>
              <a:srcRect l="6754" t="29498" r="87754" b="30000"/>
              <a:stretch/>
            </p:blipFill>
            <p:spPr>
              <a:xfrm>
                <a:off x="533520" y="1066680"/>
                <a:ext cx="801720" cy="444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>
                <a:off x="457200" y="990720"/>
                <a:ext cx="130320" cy="447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3657240" y="660240"/>
            <a:ext cx="4021560" cy="4807080"/>
            <a:chOff x="3657240" y="660240"/>
            <a:chExt cx="4021560" cy="4807080"/>
          </a:xfrm>
        </p:grpSpPr>
        <p:sp>
          <p:nvSpPr>
            <p:cNvPr id="177" name=""/>
            <p:cNvSpPr/>
            <p:nvPr/>
          </p:nvSpPr>
          <p:spPr>
            <a:xfrm flipH="1">
              <a:off x="3656880" y="660240"/>
              <a:ext cx="2971800" cy="1524240"/>
            </a:xfrm>
            <a:prstGeom prst="wedgeRectCallout">
              <a:avLst>
                <a:gd name="adj1" fmla="val -45194"/>
                <a:gd name="adj2" fmla="val 61041"/>
              </a:avLst>
            </a:prstGeom>
            <a:solidFill>
              <a:srgbClr val="e1c3ff"/>
            </a:solidFill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lements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oup 5A have a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3 char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4"/>
            <a:srcRect l="77021" t="29252" r="17369" b="30502"/>
            <a:stretch/>
          </p:blipFill>
          <p:spPr>
            <a:xfrm>
              <a:off x="6842160" y="969840"/>
              <a:ext cx="836640" cy="449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"/>
          <p:cNvGrpSpPr/>
          <p:nvPr/>
        </p:nvGrpSpPr>
        <p:grpSpPr>
          <a:xfrm>
            <a:off x="4262040" y="511200"/>
            <a:ext cx="3967560" cy="4935600"/>
            <a:chOff x="4262040" y="511200"/>
            <a:chExt cx="3967560" cy="4935600"/>
          </a:xfrm>
        </p:grpSpPr>
        <p:sp>
          <p:nvSpPr>
            <p:cNvPr id="180" name=""/>
            <p:cNvSpPr/>
            <p:nvPr/>
          </p:nvSpPr>
          <p:spPr>
            <a:xfrm flipH="1">
              <a:off x="4261680" y="511200"/>
              <a:ext cx="2971800" cy="1524240"/>
            </a:xfrm>
            <a:prstGeom prst="wedgeRectCallout">
              <a:avLst>
                <a:gd name="adj1" fmla="val -45194"/>
                <a:gd name="adj2" fmla="val 61041"/>
              </a:avLst>
            </a:prstGeom>
            <a:solidFill>
              <a:srgbClr val="e1c3ff"/>
            </a:solidFill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lements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oup 6A have a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 char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5"/>
            <a:srcRect l="82505" t="29754" r="12003" b="30748"/>
            <a:stretch/>
          </p:blipFill>
          <p:spPr>
            <a:xfrm>
              <a:off x="7407360" y="1016280"/>
              <a:ext cx="822240" cy="443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"/>
          <p:cNvGrpSpPr/>
          <p:nvPr/>
        </p:nvGrpSpPr>
        <p:grpSpPr>
          <a:xfrm>
            <a:off x="4959000" y="676440"/>
            <a:ext cx="4146480" cy="4758840"/>
            <a:chOff x="4959000" y="676440"/>
            <a:chExt cx="4146480" cy="4758840"/>
          </a:xfrm>
        </p:grpSpPr>
        <p:sp>
          <p:nvSpPr>
            <p:cNvPr id="183" name=""/>
            <p:cNvSpPr/>
            <p:nvPr/>
          </p:nvSpPr>
          <p:spPr>
            <a:xfrm flipH="1">
              <a:off x="4958640" y="676440"/>
              <a:ext cx="2971800" cy="1523880"/>
            </a:xfrm>
            <a:prstGeom prst="wedgeRectCallout">
              <a:avLst>
                <a:gd name="adj1" fmla="val -45194"/>
                <a:gd name="adj2" fmla="val 61041"/>
              </a:avLst>
            </a:prstGeom>
            <a:solidFill>
              <a:srgbClr val="e1c3ff"/>
            </a:solidFill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lements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oup 7A have a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 char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8115120" y="846000"/>
              <a:ext cx="990360" cy="4589280"/>
              <a:chOff x="8115120" y="846000"/>
              <a:chExt cx="990360" cy="4589280"/>
            </a:xfrm>
          </p:grpSpPr>
          <p:pic>
            <p:nvPicPr>
              <p:cNvPr id="185" name="" descr=""/>
              <p:cNvPicPr/>
              <p:nvPr/>
            </p:nvPicPr>
            <p:blipFill>
              <a:blip r:embed="rId6"/>
              <a:srcRect l="87754" t="29754" r="6562" b="31004"/>
              <a:stretch/>
            </p:blipFill>
            <p:spPr>
              <a:xfrm>
                <a:off x="8115120" y="1033200"/>
                <a:ext cx="850680" cy="440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"/>
              <p:cNvSpPr/>
              <p:nvPr/>
            </p:nvSpPr>
            <p:spPr>
              <a:xfrm>
                <a:off x="8724600" y="846000"/>
                <a:ext cx="380880" cy="53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7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7BD0-FF40-48D5-B94F-1B807B7FC08F}" type="slidenum">
              <a:t>33</a:t>
            </a:fld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6.3</a:t>
            </a:r>
            <a:br>
              <a:rPr sz="4000"/>
            </a:br>
            <a:r>
              <a:rPr b="1" lang="en-US" sz="5300" spc="-1" strike="noStrike" u="sng">
                <a:solidFill>
                  <a:srgbClr val="cc3399"/>
                </a:solidFill>
                <a:uFillTx/>
                <a:latin typeface="Times New Roman"/>
              </a:rPr>
              <a:t>Writing Formulas From</a:t>
            </a:r>
            <a:br>
              <a:rPr sz="5300"/>
            </a:br>
            <a:r>
              <a:rPr b="1" lang="en-US" sz="5300" spc="-1" strike="noStrike" u="sng">
                <a:solidFill>
                  <a:srgbClr val="cc3399"/>
                </a:solidFill>
                <a:uFillTx/>
                <a:latin typeface="Times New Roman"/>
              </a:rPr>
              <a:t>Names of Ionic Compounds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7ED4-771E-4D79-A3F4-F4CA7559551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chemical compound must have 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t charge of zer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B622-7688-4B04-B7D4-CF98D5FBE27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47920" y="28573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the compound contains ions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n the charges on all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ions must add to zer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48C9-7F9F-4D23-9C1E-8A1C78E6DD49}" type="slidenum">
              <a:t>36</a:t>
            </a:fld>
          </a:p>
        </p:txBody>
      </p:sp>
    </p:spTree>
  </p:cSld>
  <p:transition spd="slow"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4594320" y="4570560"/>
            <a:ext cx="2665440" cy="1796760"/>
            <a:chOff x="4594320" y="4570560"/>
            <a:chExt cx="2665440" cy="1796760"/>
          </a:xfrm>
        </p:grpSpPr>
        <p:sp>
          <p:nvSpPr>
            <p:cNvPr id="193" name=""/>
            <p:cNvSpPr/>
            <p:nvPr/>
          </p:nvSpPr>
          <p:spPr>
            <a:xfrm>
              <a:off x="4705200" y="4878360"/>
              <a:ext cx="2401920" cy="14065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94320" y="4570560"/>
              <a:ext cx="244440" cy="39024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89840" y="6119640"/>
              <a:ext cx="169920" cy="24768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rite the formula of calcium chlor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4480" y="1219320"/>
            <a:ext cx="89136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1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rite down the formulas of the 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-1440" y="27432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88960" indent="-1488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2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mbine the smallest numbers of C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Cl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o that the sum of the charges equals zer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43200" y="50734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2+)  +   2(1-)  =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13680" y="5740560"/>
            <a:ext cx="5516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orrect formula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Cl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408480" y="4529160"/>
            <a:ext cx="5659200" cy="2252520"/>
            <a:chOff x="3408480" y="4529160"/>
            <a:chExt cx="5659200" cy="2252520"/>
          </a:xfrm>
        </p:grpSpPr>
        <p:sp>
          <p:nvSpPr>
            <p:cNvPr id="202" name=""/>
            <p:cNvSpPr/>
            <p:nvPr/>
          </p:nvSpPr>
          <p:spPr>
            <a:xfrm>
              <a:off x="5877000" y="5054760"/>
              <a:ext cx="3190680" cy="172692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he lowest common multiple of +2 and –1 is </a:t>
              </a: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3408480" y="4529160"/>
              <a:ext cx="3570120" cy="2000160"/>
              <a:chOff x="3408480" y="4529160"/>
              <a:chExt cx="3570120" cy="2000160"/>
            </a:xfrm>
          </p:grpSpPr>
          <p:sp>
            <p:nvSpPr>
              <p:cNvPr id="204" name=""/>
              <p:cNvSpPr/>
              <p:nvPr/>
            </p:nvSpPr>
            <p:spPr>
              <a:xfrm>
                <a:off x="3408480" y="4529160"/>
                <a:ext cx="336600" cy="29196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521400" y="6148440"/>
                <a:ext cx="457200" cy="3808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5403960" y="4654440"/>
              <a:ext cx="2774880" cy="1898640"/>
              <a:chOff x="5403960" y="4654440"/>
              <a:chExt cx="2774880" cy="1898640"/>
            </a:xfrm>
          </p:grpSpPr>
          <p:sp>
            <p:nvSpPr>
              <p:cNvPr id="207" name=""/>
              <p:cNvSpPr/>
              <p:nvPr/>
            </p:nvSpPr>
            <p:spPr>
              <a:xfrm>
                <a:off x="5403960" y="4654440"/>
                <a:ext cx="145800" cy="10188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721640" y="6172200"/>
                <a:ext cx="457200" cy="38088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" name=""/>
          <p:cNvSpPr/>
          <p:nvPr/>
        </p:nvSpPr>
        <p:spPr>
          <a:xfrm>
            <a:off x="122400" y="3228840"/>
            <a:ext cx="3190680" cy="1724040"/>
          </a:xfrm>
          <a:prstGeom prst="borderCallout2">
            <a:avLst>
              <a:gd name="adj1" fmla="val 18750"/>
              <a:gd name="adj2" fmla="val -8333"/>
              <a:gd name="adj3" fmla="val 6629"/>
              <a:gd name="adj4" fmla="val 111791"/>
              <a:gd name="adj5" fmla="val -47328"/>
              <a:gd name="adj6" fmla="val 121245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tion is written fir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36680" y="3228840"/>
            <a:ext cx="3191040" cy="1724040"/>
          </a:xfrm>
          <a:prstGeom prst="borderCallout2">
            <a:avLst>
              <a:gd name="adj1" fmla="val 18750"/>
              <a:gd name="adj2" fmla="val -8333"/>
              <a:gd name="adj3" fmla="val 6629"/>
              <a:gd name="adj4" fmla="val 111791"/>
              <a:gd name="adj5" fmla="val -47328"/>
              <a:gd name="adj6" fmla="val 121245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ion is written sec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14600" y="44190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C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 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(Cl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ADE0-1A89-4970-B469-672B233AA594}" type="slidenum">
              <a:t>37</a:t>
            </a:fld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2624040" y="4533840"/>
            <a:ext cx="4602240" cy="1833480"/>
            <a:chOff x="2624040" y="4533840"/>
            <a:chExt cx="4602240" cy="1833480"/>
          </a:xfrm>
        </p:grpSpPr>
        <p:grpSp>
          <p:nvGrpSpPr>
            <p:cNvPr id="213" name=""/>
            <p:cNvGrpSpPr/>
            <p:nvPr/>
          </p:nvGrpSpPr>
          <p:grpSpPr>
            <a:xfrm>
              <a:off x="2624040" y="4548240"/>
              <a:ext cx="4146480" cy="1819080"/>
              <a:chOff x="2624040" y="4548240"/>
              <a:chExt cx="4146480" cy="1819080"/>
            </a:xfrm>
          </p:grpSpPr>
          <p:sp>
            <p:nvSpPr>
              <p:cNvPr id="214" name=""/>
              <p:cNvSpPr/>
              <p:nvPr/>
            </p:nvSpPr>
            <p:spPr>
              <a:xfrm>
                <a:off x="2757600" y="4921200"/>
                <a:ext cx="3943080" cy="1230480"/>
              </a:xfrm>
              <a:prstGeom prst="line">
                <a:avLst/>
              </a:prstGeom>
              <a:ln w="1908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2624040" y="4548240"/>
                <a:ext cx="4146480" cy="1819080"/>
                <a:chOff x="2624040" y="4548240"/>
                <a:chExt cx="4146480" cy="18190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2624040" y="4548240"/>
                  <a:ext cx="239760" cy="406440"/>
                </a:xfrm>
                <a:prstGeom prst="rect">
                  <a:avLst/>
                </a:prstGeom>
                <a:solidFill>
                  <a:srgbClr val="99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611760" y="6119640"/>
                  <a:ext cx="158760" cy="247680"/>
                </a:xfrm>
                <a:prstGeom prst="rect">
                  <a:avLst/>
                </a:prstGeom>
                <a:solidFill>
                  <a:srgbClr val="99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8" name=""/>
            <p:cNvGrpSpPr/>
            <p:nvPr/>
          </p:nvGrpSpPr>
          <p:grpSpPr>
            <a:xfrm>
              <a:off x="4722840" y="4533840"/>
              <a:ext cx="2503440" cy="1833480"/>
              <a:chOff x="4722840" y="4533840"/>
              <a:chExt cx="2503440" cy="1833480"/>
            </a:xfrm>
          </p:grpSpPr>
          <p:sp>
            <p:nvSpPr>
              <p:cNvPr id="219" name=""/>
              <p:cNvSpPr/>
              <p:nvPr/>
            </p:nvSpPr>
            <p:spPr>
              <a:xfrm>
                <a:off x="4789440" y="4840200"/>
                <a:ext cx="2317680" cy="13287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722840" y="4533840"/>
                <a:ext cx="239760" cy="4111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016760" y="6119640"/>
                <a:ext cx="209520" cy="24768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2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rite the formula of barium phosph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4480" y="1219320"/>
            <a:ext cx="89136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1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rite down the formulas of the 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-1440" y="27432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88960" indent="-1488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2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mbine the smallest numbers of B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o that the sum of the charges equals zer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05040" y="5084640"/>
            <a:ext cx="522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(2+)   +   2(3-)  =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49680" y="5740560"/>
            <a:ext cx="5444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orrect formula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522600" y="4518000"/>
            <a:ext cx="5545080" cy="2263680"/>
            <a:chOff x="3522600" y="4518000"/>
            <a:chExt cx="5545080" cy="2263680"/>
          </a:xfrm>
        </p:grpSpPr>
        <p:grpSp>
          <p:nvGrpSpPr>
            <p:cNvPr id="228" name=""/>
            <p:cNvGrpSpPr/>
            <p:nvPr/>
          </p:nvGrpSpPr>
          <p:grpSpPr>
            <a:xfrm>
              <a:off x="3522600" y="4518000"/>
              <a:ext cx="5545080" cy="2263680"/>
              <a:chOff x="3522600" y="4518000"/>
              <a:chExt cx="5545080" cy="226368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5321160" y="4518000"/>
                <a:ext cx="3746520" cy="2263680"/>
                <a:chOff x="5321160" y="4518000"/>
                <a:chExt cx="3746520" cy="226368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5321160" y="4518000"/>
                  <a:ext cx="308160" cy="291960"/>
                </a:xfrm>
                <a:prstGeom prst="rect">
                  <a:avLst/>
                </a:prstGeom>
                <a:solidFill>
                  <a:srgbClr val="00cc99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877000" y="5054760"/>
                  <a:ext cx="3190680" cy="1726920"/>
                </a:xfrm>
                <a:prstGeom prst="rect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ffff"/>
                      </a:solidFill>
                      <a:latin typeface="Times New Roman"/>
                    </a:rPr>
                    <a:t>The lowest common multiple of +2 and –3 is </a:t>
                  </a:r>
                  <a:r>
                    <a:rPr b="0" lang="en-US" sz="3200" spc="-1" strike="noStrike">
                      <a:solidFill>
                        <a:srgbClr val="ffff00"/>
                      </a:solidFill>
                      <a:latin typeface="Times New Roman"/>
                    </a:rPr>
                    <a:t>6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3522600" y="4518000"/>
                <a:ext cx="3456000" cy="2011320"/>
                <a:chOff x="3522600" y="4518000"/>
                <a:chExt cx="3456000" cy="20113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3522600" y="4518000"/>
                  <a:ext cx="351000" cy="291960"/>
                </a:xfrm>
                <a:prstGeom prst="rect">
                  <a:avLst/>
                </a:prstGeom>
                <a:solidFill>
                  <a:srgbClr val="ffcc0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521400" y="6148440"/>
                  <a:ext cx="457200" cy="380880"/>
                </a:xfrm>
                <a:prstGeom prst="rect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5" name=""/>
            <p:cNvSpPr/>
            <p:nvPr/>
          </p:nvSpPr>
          <p:spPr>
            <a:xfrm>
              <a:off x="7721640" y="6172200"/>
              <a:ext cx="457200" cy="380880"/>
            </a:xfrm>
            <a:prstGeom prst="rect">
              <a:avLst/>
            </a:prstGeom>
            <a:noFill/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771560" y="4409640"/>
            <a:ext cx="56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(B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 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(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2400" y="3228840"/>
            <a:ext cx="3190680" cy="1724040"/>
          </a:xfrm>
          <a:prstGeom prst="borderCallout2">
            <a:avLst>
              <a:gd name="adj1" fmla="val 18750"/>
              <a:gd name="adj2" fmla="val -8333"/>
              <a:gd name="adj3" fmla="val 6629"/>
              <a:gd name="adj4" fmla="val 111791"/>
              <a:gd name="adj5" fmla="val -47328"/>
              <a:gd name="adj6" fmla="val 121245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tion is written fir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58840" y="3228840"/>
            <a:ext cx="3191040" cy="1724040"/>
          </a:xfrm>
          <a:prstGeom prst="borderCallout2">
            <a:avLst>
              <a:gd name="adj1" fmla="val 18750"/>
              <a:gd name="adj2" fmla="val -8333"/>
              <a:gd name="adj3" fmla="val 6629"/>
              <a:gd name="adj4" fmla="val 111791"/>
              <a:gd name="adj5" fmla="val -47328"/>
              <a:gd name="adj6" fmla="val 121245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ion is written sec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A3C2-BA58-4BB3-AE5F-A81154301E8F}" type="slidenum">
              <a:t>38</a:t>
            </a:fld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rite the formula of magnesium ox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4480" y="1219320"/>
            <a:ext cx="89136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1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rite down the formulas of the 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-1440" y="27432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88960" indent="-1488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2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mbine the smallest numbers of Mg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O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o that the sum of the charges equals zer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13200" y="5029200"/>
            <a:ext cx="40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2+)   +     (2-)  =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81000" y="5740560"/>
            <a:ext cx="538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orrect formula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786120" y="4570560"/>
            <a:ext cx="5281560" cy="2211120"/>
            <a:chOff x="3786120" y="4570560"/>
            <a:chExt cx="5281560" cy="2211120"/>
          </a:xfrm>
        </p:grpSpPr>
        <p:sp>
          <p:nvSpPr>
            <p:cNvPr id="245" name=""/>
            <p:cNvSpPr/>
            <p:nvPr/>
          </p:nvSpPr>
          <p:spPr>
            <a:xfrm>
              <a:off x="7721640" y="6172200"/>
              <a:ext cx="457200" cy="380880"/>
            </a:xfrm>
            <a:prstGeom prst="rect">
              <a:avLst/>
            </a:prstGeom>
            <a:noFill/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3786120" y="4570560"/>
              <a:ext cx="5281560" cy="2211120"/>
              <a:chOff x="3786120" y="4570560"/>
              <a:chExt cx="5281560" cy="221112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5437080" y="4570560"/>
                <a:ext cx="3630600" cy="2211120"/>
                <a:chOff x="5437080" y="4570560"/>
                <a:chExt cx="3630600" cy="221112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5437080" y="4570560"/>
                  <a:ext cx="308160" cy="291960"/>
                </a:xfrm>
                <a:prstGeom prst="rect">
                  <a:avLst/>
                </a:prstGeom>
                <a:solidFill>
                  <a:srgbClr val="00cc99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5877000" y="5054760"/>
                  <a:ext cx="3190680" cy="1726920"/>
                </a:xfrm>
                <a:prstGeom prst="rect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ffff"/>
                      </a:solidFill>
                      <a:latin typeface="Times New Roman"/>
                    </a:rPr>
                    <a:t>The lowest common multiple of +2 and –2 is </a:t>
                  </a:r>
                  <a:r>
                    <a:rPr b="0" lang="en-US" sz="3200" spc="-1" strike="noStrike">
                      <a:solidFill>
                        <a:srgbClr val="ffff00"/>
                      </a:solidFill>
                      <a:latin typeface="Times New Roman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3786120" y="4570560"/>
                <a:ext cx="3192480" cy="1958760"/>
                <a:chOff x="3786120" y="4570560"/>
                <a:chExt cx="3192480" cy="195876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3786120" y="4570560"/>
                  <a:ext cx="351000" cy="291960"/>
                </a:xfrm>
                <a:prstGeom prst="rect">
                  <a:avLst/>
                </a:prstGeom>
                <a:solidFill>
                  <a:srgbClr val="ffcc0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6521400" y="6148440"/>
                  <a:ext cx="457200" cy="380880"/>
                </a:xfrm>
                <a:prstGeom prst="rect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3" name=""/>
          <p:cNvSpPr/>
          <p:nvPr/>
        </p:nvSpPr>
        <p:spPr>
          <a:xfrm>
            <a:off x="2762280" y="4465080"/>
            <a:ext cx="40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 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F89D-8D60-465A-B434-1E056DED8507}" type="slidenum">
              <a:t>39</a:t>
            </a:fld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2860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mical nomenclature is the system of names that chemists use to identify compounds.  Two classes of names exist: common names and systematic nam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7634-20E0-49A6-963F-D92445465C36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6.4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Naming Binary Compoun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5BD2-3CCD-471F-AD0F-5D0C5707FB84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9320" y="28573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inary compounds contain onl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wo different elem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9E61-1598-434D-BBFD-6DD7067CE3B5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inary ionic compounds consist of a metal combined with a non-met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76FC-4F33-4B84-BB2A-09DDA78478D8}" type="slidenum">
              <a:t>42</a:t>
            </a:fld>
          </a:p>
        </p:txBody>
      </p:sp>
    </p:spTree>
  </p:cSld>
  <p:transition spd="slow"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8000"/>
                </a:solidFill>
                <a:uFillTx/>
                <a:latin typeface="Tahoma"/>
              </a:rPr>
              <a:t>A. Binary Ionic Compounds Containing a Metal Forming Only One Type of 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74FB-177E-4EBC-A50A-007E485B73CD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hemical name is composed of the name of the metal followed by the name of the nonmetal which has been modified to an identifying stem plus the suffix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–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3962520"/>
            <a:ext cx="8077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this system the number of atoms of each element present is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ressed in the na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6FBB-44F8-4D02-A677-EC21F871D782}" type="slidenum">
              <a:t>44</a:t>
            </a:fld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224784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Arial"/>
              </a:rPr>
              <a:t>Name of Me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95560" y="311616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Arial"/>
              </a:rPr>
              <a:t>+ Stem of Nonme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257800" y="3908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Arial"/>
              </a:rPr>
              <a:t>plus </a:t>
            </a:r>
            <a:r>
              <a:rPr b="0" i="1" lang="en-US" sz="4000" spc="-1" strike="noStrike">
                <a:solidFill>
                  <a:srgbClr val="00cc99"/>
                </a:solidFill>
                <a:latin typeface="Arial"/>
              </a:rPr>
              <a:t>-ide</a:t>
            </a:r>
            <a:r>
              <a:rPr b="0" lang="en-US" sz="4000" spc="-1" strike="noStrike">
                <a:solidFill>
                  <a:srgbClr val="00cc99"/>
                </a:solidFill>
                <a:latin typeface="Arial"/>
              </a:rPr>
              <a:t> e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1A7D-4DEF-4226-8E84-5E0586CF8FC1}" type="slidenum">
              <a:t>45</a:t>
            </a:fld>
          </a:p>
        </p:txBody>
      </p:sp>
    </p:spTree>
  </p:cSld>
  <p:transition spd="slow">
    <p:blinds dir="vert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726B-9154-461E-91C7-4050CD6A6D4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49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1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formula it is a two-element compound and follows the rules for binary compou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879800" y="2182680"/>
            <a:ext cx="3810240" cy="371160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Name the Compound CaF</a:t>
            </a:r>
            <a:r>
              <a:rPr b="1" lang="en-US" sz="3600" spc="-1" strike="noStrike" baseline="-25000">
                <a:solidFill>
                  <a:srgbClr val="9966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FB3A-DF9C-4FF1-8438-C88D87CD99C5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876920" y="2182680"/>
            <a:ext cx="3809880" cy="37116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Name the Compound CaF</a:t>
            </a:r>
            <a:r>
              <a:rPr b="1" lang="en-US" sz="3600" spc="-1" strike="noStrike" baseline="-25000">
                <a:solidFill>
                  <a:srgbClr val="9966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9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e compound is composed of Ca, 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l, and F, a nonmetal.  Ca forms only a +2 cation.  Thus, call the positive part of the compound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alc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3F20-B018-47AC-8E80-A746262669B3}" type="slidenum">
              <a:t>48</a:t>
            </a:fld>
          </a:p>
        </p:txBody>
      </p:sp>
    </p:spTree>
  </p:cSld>
  <p:transition spd="slow">
    <p:blinds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49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3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y the name of the second element to the stem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luor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dd the binary ending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–id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 form the name of the negative part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luorid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Name the Compound CaF</a:t>
            </a:r>
            <a:r>
              <a:rPr b="1" lang="en-US" sz="3600" spc="-1" strike="noStrike" baseline="-25000">
                <a:solidFill>
                  <a:srgbClr val="9966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879800" y="2182680"/>
            <a:ext cx="3810240" cy="37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5B0C-E4A1-4F0B-9B43-6344B3E91277}" type="slidenum">
              <a:t>49</a:t>
            </a:fld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7926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are not based on the composition of the comp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are based on an outstanding chemical or physical proper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mists prefer systematic nam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atic names precisely identify the chemical composition of the comp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esent system of inorganic chemical nomenclature was devised by the International Union of Pure and Applied Chemistry (IUPAC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80880"/>
            <a:ext cx="777528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 names are arbitrary nam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ED1C-68DC-4271-B9CB-8A572A98E29B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49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e name of the compound is therefor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alcium fluor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Name the Compound CaF</a:t>
            </a:r>
            <a:r>
              <a:rPr b="1" lang="en-US" sz="3600" spc="-1" strike="noStrike" baseline="-25000">
                <a:solidFill>
                  <a:srgbClr val="9966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879800" y="2182680"/>
            <a:ext cx="3810240" cy="37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3497-9127-4B05-800B-872859511BF5}" type="slidenum">
              <a:t>50</a:t>
            </a:fld>
          </a:p>
        </p:txBody>
      </p:sp>
    </p:spTree>
  </p:cSld>
  <p:transition spd="slow">
    <p:blinds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Examp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EEA3-F19E-4F58-8B23-5E77D3FC0F08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124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ompound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33920" y="2971800"/>
            <a:ext cx="4572000" cy="2226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br>
              <a:rPr sz="7000"/>
            </a:b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chloride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3268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62520" y="762120"/>
            <a:ext cx="312408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Times New Roman"/>
              </a:rPr>
              <a:t>NaCl</a:t>
            </a:r>
            <a:endParaRPr b="0" lang="en-US" sz="8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809880" y="4199040"/>
            <a:ext cx="2971800" cy="1581120"/>
            <a:chOff x="3809880" y="4199040"/>
            <a:chExt cx="2971800" cy="1581120"/>
          </a:xfrm>
        </p:grpSpPr>
        <p:sp>
          <p:nvSpPr>
            <p:cNvPr id="284" name=""/>
            <p:cNvSpPr/>
            <p:nvPr/>
          </p:nvSpPr>
          <p:spPr>
            <a:xfrm>
              <a:off x="3809880" y="4199040"/>
              <a:ext cx="1855800" cy="914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09880" y="519876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nonmetal ste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657600" y="2362320"/>
            <a:ext cx="2971800" cy="1752480"/>
            <a:chOff x="3657600" y="2362320"/>
            <a:chExt cx="2971800" cy="1752480"/>
          </a:xfrm>
        </p:grpSpPr>
        <p:sp>
          <p:nvSpPr>
            <p:cNvPr id="287" name=""/>
            <p:cNvSpPr/>
            <p:nvPr/>
          </p:nvSpPr>
          <p:spPr>
            <a:xfrm>
              <a:off x="3657600" y="236232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name of met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809880" y="3200400"/>
              <a:ext cx="2678400" cy="9144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644E-ECDC-402E-A55D-C4B122C57213}" type="slidenum">
              <a:t>52</a:t>
            </a:fld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124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ompound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33920" y="2971800"/>
            <a:ext cx="4572000" cy="2226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magnesiumchloride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62520" y="762120"/>
            <a:ext cx="3124080" cy="1550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Times New Roman"/>
              </a:rPr>
              <a:t>MgCl</a:t>
            </a:r>
            <a:r>
              <a:rPr b="0" lang="en-US" sz="8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809880" y="4195800"/>
            <a:ext cx="2971800" cy="1643400"/>
            <a:chOff x="3809880" y="4195800"/>
            <a:chExt cx="2971800" cy="1643400"/>
          </a:xfrm>
        </p:grpSpPr>
        <p:sp>
          <p:nvSpPr>
            <p:cNvPr id="293" name=""/>
            <p:cNvSpPr/>
            <p:nvPr/>
          </p:nvSpPr>
          <p:spPr>
            <a:xfrm>
              <a:off x="3809880" y="4195800"/>
              <a:ext cx="1855800" cy="9144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09880" y="525780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nonmetal ste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657600" y="2362320"/>
            <a:ext cx="4294080" cy="1752480"/>
            <a:chOff x="3657600" y="2362320"/>
            <a:chExt cx="4294080" cy="1752480"/>
          </a:xfrm>
        </p:grpSpPr>
        <p:sp>
          <p:nvSpPr>
            <p:cNvPr id="296" name=""/>
            <p:cNvSpPr/>
            <p:nvPr/>
          </p:nvSpPr>
          <p:spPr>
            <a:xfrm>
              <a:off x="3657600" y="236232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name of met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09880" y="3200400"/>
              <a:ext cx="4141800" cy="9144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831C-067F-49E2-82A7-51C0834913B8}" type="slidenum">
              <a:t>53</a:t>
            </a:fld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124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ompound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33920" y="2971800"/>
            <a:ext cx="4572000" cy="2226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potassium</a:t>
            </a:r>
            <a:br>
              <a:rPr sz="7000"/>
            </a:b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oxide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23268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62520" y="762120"/>
            <a:ext cx="3124080" cy="1550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8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8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809880" y="4195800"/>
            <a:ext cx="2971800" cy="1643400"/>
            <a:chOff x="3809880" y="4195800"/>
            <a:chExt cx="2971800" cy="1643400"/>
          </a:xfrm>
        </p:grpSpPr>
        <p:sp>
          <p:nvSpPr>
            <p:cNvPr id="303" name=""/>
            <p:cNvSpPr/>
            <p:nvPr/>
          </p:nvSpPr>
          <p:spPr>
            <a:xfrm>
              <a:off x="3809880" y="4195800"/>
              <a:ext cx="917640" cy="9144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09880" y="525780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nonmetal ste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657600" y="2362320"/>
            <a:ext cx="3801960" cy="1752480"/>
            <a:chOff x="3657600" y="2362320"/>
            <a:chExt cx="3801960" cy="1752480"/>
          </a:xfrm>
        </p:grpSpPr>
        <p:sp>
          <p:nvSpPr>
            <p:cNvPr id="306" name=""/>
            <p:cNvSpPr/>
            <p:nvPr/>
          </p:nvSpPr>
          <p:spPr>
            <a:xfrm>
              <a:off x="3657600" y="236232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name of met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782880" y="3200400"/>
              <a:ext cx="3676680" cy="9144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8E78-9B18-4D4F-9224-CF69E19EB741}" type="slidenum">
              <a:t>54</a:t>
            </a:fld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124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ompound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33920" y="2971800"/>
            <a:ext cx="4572000" cy="2226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br>
              <a:rPr sz="7000"/>
            </a:b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phosphide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3268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62520" y="762120"/>
            <a:ext cx="3124080" cy="1550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n-US" sz="8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8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8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772080" y="4195800"/>
            <a:ext cx="3009600" cy="1643400"/>
            <a:chOff x="3772080" y="4195800"/>
            <a:chExt cx="3009600" cy="1643400"/>
          </a:xfrm>
        </p:grpSpPr>
        <p:sp>
          <p:nvSpPr>
            <p:cNvPr id="313" name=""/>
            <p:cNvSpPr/>
            <p:nvPr/>
          </p:nvSpPr>
          <p:spPr>
            <a:xfrm>
              <a:off x="3772080" y="4195800"/>
              <a:ext cx="2638080" cy="971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09880" y="525780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nonmetal ste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3657600" y="2362320"/>
            <a:ext cx="2971800" cy="1752480"/>
            <a:chOff x="3657600" y="2362320"/>
            <a:chExt cx="2971800" cy="1752480"/>
          </a:xfrm>
        </p:grpSpPr>
        <p:sp>
          <p:nvSpPr>
            <p:cNvPr id="316" name=""/>
            <p:cNvSpPr/>
            <p:nvPr/>
          </p:nvSpPr>
          <p:spPr>
            <a:xfrm>
              <a:off x="3657600" y="236232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name of met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82880" y="3200400"/>
              <a:ext cx="2673360" cy="9144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22CC-052F-4A5A-BF70-9B8C77F015DF}" type="slidenum">
              <a:t>55</a:t>
            </a:fld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00"/>
                </a:solidFill>
                <a:uFillTx/>
                <a:latin typeface="Tahoma"/>
              </a:rPr>
              <a:t>B. Binary Ionic Compounds Containing a Metal</a:t>
            </a:r>
            <a:br>
              <a:rPr sz="3200"/>
            </a:br>
            <a:r>
              <a:rPr b="0" lang="en-US" sz="3200" spc="-1" strike="noStrike" u="sng">
                <a:solidFill>
                  <a:srgbClr val="008000"/>
                </a:solidFill>
                <a:uFillTx/>
                <a:latin typeface="Tahoma"/>
              </a:rPr>
              <a:t>That Can Form Two or More Types of 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1273-B3C9-4B87-A421-5D57656F5C09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Name the Compound F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4648320" y="2128680"/>
            <a:ext cx="3809880" cy="38181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9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1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compound follows the rules for a binary compou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F9C4-5806-4926-BA6D-BD61F6662950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49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It is a compound of Fe, a metal, and S, a nonmetal.  Fe is a transition metal that has more than one type of catio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Name the Compound F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2280" y="1600200"/>
            <a:ext cx="495324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2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sulfides, the charge on S is –2.  Therefore the charge on Fe must be +2, and the name of the positiv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part of the compou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iron(II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648320" y="2128680"/>
            <a:ext cx="3809880" cy="381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AD48-F6CB-4ADF-B24E-94A1735FDE91}" type="slidenum">
              <a:t>58</a:t>
            </a:fld>
          </a:p>
        </p:txBody>
      </p:sp>
    </p:spTree>
  </p:cSld>
  <p:transition spd="slow">
    <p:blinds dir="vert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648320" y="2128680"/>
            <a:ext cx="3809880" cy="38181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49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3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have already determined that the name of the negative part of the compound will b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ulfid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Name the Compound F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327B-3665-4787-881E-C94EFB5A67EE}" type="slidenum">
              <a:t>59</a:t>
            </a:fld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7E89-AE41-4A9F-82E9-1EC1D4197A8B}" type="slidenum">
              <a:t>6</a:t>
            </a:fld>
          </a:p>
        </p:txBody>
      </p:sp>
    </p:spTree>
  </p:cSld>
  <p:transition spd="slow">
    <p:blinds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49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The name of FeS is 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iron(II) sulf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Name the Compound F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4648320" y="2128680"/>
            <a:ext cx="3809880" cy="381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C40F-9665-4C9F-A85C-C112FAC88340}" type="slidenum">
              <a:t>60</a:t>
            </a:fld>
          </a:p>
        </p:txBody>
      </p:sp>
    </p:spTree>
  </p:cSld>
  <p:transition spd="slow">
    <p:blinds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2438280"/>
            <a:ext cx="9144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The Stock Syst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2AA9-CCF4-4D01-BC22-46F4D8606ECD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rcRect l="753" t="21998" r="-768" b="29252"/>
          <a:stretch/>
        </p:blipFill>
        <p:spPr>
          <a:xfrm>
            <a:off x="206280" y="3308400"/>
            <a:ext cx="9023400" cy="329724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838080" y="228600"/>
            <a:ext cx="746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metals in the center of the periodic table  (including the transition metals) often form more than one type of c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505320" y="4311720"/>
            <a:ext cx="822240" cy="2394000"/>
            <a:chOff x="3505320" y="4311720"/>
            <a:chExt cx="822240" cy="2394000"/>
          </a:xfrm>
        </p:grpSpPr>
        <p:pic>
          <p:nvPicPr>
            <p:cNvPr id="336" name="" descr=""/>
            <p:cNvPicPr/>
            <p:nvPr/>
          </p:nvPicPr>
          <p:blipFill>
            <a:blip r:embed="rId2"/>
            <a:srcRect l="8019" t="8063" r="13742" b="0"/>
            <a:stretch/>
          </p:blipFill>
          <p:spPr>
            <a:xfrm>
              <a:off x="3505320" y="4311720"/>
              <a:ext cx="822240" cy="23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 flipH="1">
              <a:off x="3505320" y="6705720"/>
              <a:ext cx="82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3505320" y="4311720"/>
              <a:ext cx="82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21E1-2363-460C-BC8E-328513F2C8F0}" type="slidenum">
              <a:t>62</a:t>
            </a:fld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rcRect l="753" t="21998" r="-768" b="29252"/>
          <a:stretch/>
        </p:blipFill>
        <p:spPr>
          <a:xfrm>
            <a:off x="206280" y="3308400"/>
            <a:ext cx="9023400" cy="3297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104840" y="22860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ach ion of iron forms a different compound with the same an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3505320" y="4311720"/>
            <a:ext cx="822240" cy="2394000"/>
            <a:chOff x="3505320" y="4311720"/>
            <a:chExt cx="822240" cy="2394000"/>
          </a:xfrm>
        </p:grpSpPr>
        <p:pic>
          <p:nvPicPr>
            <p:cNvPr id="343" name="" descr=""/>
            <p:cNvPicPr/>
            <p:nvPr/>
          </p:nvPicPr>
          <p:blipFill>
            <a:blip r:embed="rId2"/>
            <a:srcRect l="8019" t="8063" r="13742" b="0"/>
            <a:stretch/>
          </p:blipFill>
          <p:spPr>
            <a:xfrm>
              <a:off x="3505320" y="4311720"/>
              <a:ext cx="822240" cy="23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 flipH="1">
              <a:off x="3505320" y="6705720"/>
              <a:ext cx="82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505320" y="4311720"/>
              <a:ext cx="82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857680" y="2451600"/>
            <a:ext cx="1035000" cy="58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895480" y="3137400"/>
            <a:ext cx="993960" cy="581400"/>
          </a:xfrm>
          <a:prstGeom prst="rect">
            <a:avLst/>
          </a:prstGeom>
          <a:noFill/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076640" y="2451600"/>
            <a:ext cx="1297080" cy="58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076640" y="3103920"/>
            <a:ext cx="1295640" cy="648720"/>
          </a:xfrm>
          <a:prstGeom prst="rect">
            <a:avLst/>
          </a:prstGeom>
          <a:noFill/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1B43-439E-4CCD-B8E4-36A308626A5A}" type="slidenum">
              <a:t>63</a:t>
            </a:fld>
          </a:p>
        </p:txBody>
      </p:sp>
    </p:spTree>
  </p:cSld>
  <p:transition spd="slow">
    <p:blinds dir="vert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684360" y="6112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440" indent="-5544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UPAC devised the Stock System of nomenclature to name compounds of metals that have more than one type of c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" y="611280"/>
            <a:ext cx="8680320" cy="235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Stock System the charge on the cation is designated by a Roman numeral placed in parentheses immediately following the name of the met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14440" y="3200400"/>
          <a:ext cx="8076960" cy="2178000"/>
        </p:xfrm>
        <a:graphic>
          <a:graphicData uri="http://schemas.openxmlformats.org/drawingml/2006/table">
            <a:tbl>
              <a:tblPr/>
              <a:tblGrid>
                <a:gridCol w="1652400"/>
                <a:gridCol w="1285920"/>
                <a:gridCol w="1284480"/>
                <a:gridCol w="1285560"/>
                <a:gridCol w="1283040"/>
                <a:gridCol w="1285560"/>
              </a:tblGrid>
              <a:tr h="122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tion Char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957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an Nume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V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V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354" name=""/>
          <p:cNvSpPr/>
          <p:nvPr/>
        </p:nvSpPr>
        <p:spPr>
          <a:xfrm>
            <a:off x="684360" y="5867280"/>
            <a:ext cx="640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onmetal name ends in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ide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EB71-A2F3-423D-B7DA-CD78D9A9F205}" type="slidenum">
              <a:t>64</a:t>
            </a:fld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tock System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igher  Charge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l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mu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Formula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1990800"/>
            <a:ext cx="9144000" cy="4876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per                Cu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per (I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u</a:t>
            </a:r>
            <a:r>
              <a:rPr b="1" lang="en-US" sz="2400" spc="-1" strike="noStrike" baseline="30000">
                <a:solidFill>
                  <a:srgbClr val="ff3300"/>
                </a:solidFill>
                <a:latin typeface="Times New Roman"/>
              </a:rPr>
              <a:t>2+</a:t>
            </a:r>
            <a:r>
              <a:rPr b="1" lang="en-US" sz="2400" spc="-1" strike="noStrike" baseline="30000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opper (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(II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e</a:t>
            </a:r>
            <a:r>
              <a:rPr b="1" lang="en-US" sz="2400" spc="-1" strike="noStrike" baseline="30000">
                <a:solidFill>
                  <a:srgbClr val="ff3300"/>
                </a:solidFill>
                <a:latin typeface="Times New Roman"/>
              </a:rPr>
              <a:t>3+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ron(I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 (II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b</a:t>
            </a:r>
            <a:r>
              <a:rPr b="1" lang="en-US" sz="2400" spc="-1" strike="noStrike" baseline="30000">
                <a:solidFill>
                  <a:srgbClr val="ff3300"/>
                </a:solidFill>
                <a:latin typeface="Times New Roman"/>
              </a:rPr>
              <a:t>4+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ad(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cu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cury(I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g</a:t>
            </a:r>
            <a:r>
              <a:rPr b="1" lang="en-US" sz="2400" spc="-1" strike="noStrike" baseline="30000">
                <a:solidFill>
                  <a:srgbClr val="ff3300"/>
                </a:solidFill>
                <a:latin typeface="Times New Roman"/>
              </a:rPr>
              <a:t>2+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ercury(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n(II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n</a:t>
            </a:r>
            <a:r>
              <a:rPr b="1" lang="en-US" sz="2400" spc="-1" strike="noStrike" baseline="30000">
                <a:solidFill>
                  <a:srgbClr val="ff3300"/>
                </a:solidFill>
                <a:latin typeface="Times New Roman"/>
              </a:rPr>
              <a:t>4+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in (IV)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9360"/>
            <a:ext cx="9144000" cy="1981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tock System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igher  Charge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l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mu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Formula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38080" y="609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2114640" y="5133960"/>
          <a:ext cx="67608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4640" y="5133960"/>
                    <a:ext cx="6760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1388-B539-46F0-A481-9671F88D5B43}" type="slidenum">
              <a:t>65</a:t>
            </a:fld>
          </a:p>
        </p:txBody>
      </p:sp>
    </p:spTree>
  </p:cSld>
  <p:transition spd="slow">
    <p:blinds dir="vert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1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4100"/>
                            </p:stCondLst>
                            <p:childTnLst>
                              <p:par>
                                <p:cTn id="574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1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79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1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16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1000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5700"/>
                            </p:stCondLst>
                            <p:childTnLst>
                              <p:par>
                                <p:cTn id="58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1000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Examp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55B4-6463-421C-A0A5-D9537633CBB0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752480" y="3108240"/>
            <a:ext cx="2133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ion char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52480" y="3108240"/>
            <a:ext cx="2210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Times New Roman"/>
              </a:rPr>
              <a:t>ion n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765760" y="1019160"/>
            <a:ext cx="1295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822920" y="333360"/>
            <a:ext cx="31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ron(II) chlor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5318280" y="1552680"/>
            <a:ext cx="1957320" cy="1220400"/>
            <a:chOff x="5318280" y="1552680"/>
            <a:chExt cx="1957320" cy="1220400"/>
          </a:xfrm>
        </p:grpSpPr>
        <p:sp>
          <p:nvSpPr>
            <p:cNvPr id="367" name=""/>
            <p:cNvSpPr/>
            <p:nvPr/>
          </p:nvSpPr>
          <p:spPr>
            <a:xfrm>
              <a:off x="5318280" y="2130480"/>
              <a:ext cx="73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+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543720" y="2130480"/>
              <a:ext cx="73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-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5819400" y="1552680"/>
              <a:ext cx="30492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657840" y="1552680"/>
              <a:ext cx="30492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4632480" y="2619360"/>
            <a:ext cx="3689280" cy="642600"/>
            <a:chOff x="4632480" y="2619360"/>
            <a:chExt cx="3689280" cy="642600"/>
          </a:xfrm>
        </p:grpSpPr>
        <p:sp>
          <p:nvSpPr>
            <p:cNvPr id="372" name=""/>
            <p:cNvSpPr/>
            <p:nvPr/>
          </p:nvSpPr>
          <p:spPr>
            <a:xfrm>
              <a:off x="6613560" y="2619360"/>
              <a:ext cx="170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cc33"/>
                  </a:solidFill>
                  <a:latin typeface="Times New Roman"/>
                </a:rPr>
                <a:t>chlorid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632480" y="2619360"/>
              <a:ext cx="155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cc33"/>
                  </a:solidFill>
                  <a:latin typeface="Times New Roman"/>
                </a:rPr>
                <a:t>iron(II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5870520" y="4282920"/>
            <a:ext cx="1295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00600" y="359712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ron(III) chlor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5440320" y="4816440"/>
            <a:ext cx="1908360" cy="1220400"/>
            <a:chOff x="5440320" y="4816440"/>
            <a:chExt cx="1908360" cy="1220400"/>
          </a:xfrm>
        </p:grpSpPr>
        <p:sp>
          <p:nvSpPr>
            <p:cNvPr id="377" name=""/>
            <p:cNvSpPr/>
            <p:nvPr/>
          </p:nvSpPr>
          <p:spPr>
            <a:xfrm>
              <a:off x="6616800" y="5394240"/>
              <a:ext cx="73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-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440320" y="5394240"/>
              <a:ext cx="73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+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5911920" y="4816440"/>
              <a:ext cx="30456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30920" y="4816440"/>
              <a:ext cx="30492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4572000" y="5883120"/>
            <a:ext cx="3809880" cy="642600"/>
            <a:chOff x="4572000" y="5883120"/>
            <a:chExt cx="3809880" cy="642600"/>
          </a:xfrm>
        </p:grpSpPr>
        <p:sp>
          <p:nvSpPr>
            <p:cNvPr id="382" name=""/>
            <p:cNvSpPr/>
            <p:nvPr/>
          </p:nvSpPr>
          <p:spPr>
            <a:xfrm>
              <a:off x="4572000" y="5883120"/>
              <a:ext cx="179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cc33"/>
                  </a:solidFill>
                  <a:latin typeface="Times New Roman"/>
                </a:rPr>
                <a:t>iron(III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673680" y="5883120"/>
              <a:ext cx="170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cc33"/>
                  </a:solidFill>
                  <a:latin typeface="Times New Roman"/>
                </a:rPr>
                <a:t>chlorid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1209600" y="3108240"/>
            <a:ext cx="327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und n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F630-01E8-4CFC-A4D9-454632EEEA2D}" type="slidenum">
              <a:t>67</a:t>
            </a:fld>
          </a:p>
        </p:txBody>
      </p: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9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752480" y="3108240"/>
            <a:ext cx="2133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ion char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752480" y="3108240"/>
            <a:ext cx="2210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Times New Roman"/>
              </a:rPr>
              <a:t>ion n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65760" y="1019160"/>
            <a:ext cx="1295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nB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22920" y="333360"/>
            <a:ext cx="31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in(II) brom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5318280" y="1552680"/>
            <a:ext cx="1957320" cy="1220400"/>
            <a:chOff x="5318280" y="1552680"/>
            <a:chExt cx="1957320" cy="1220400"/>
          </a:xfrm>
        </p:grpSpPr>
        <p:sp>
          <p:nvSpPr>
            <p:cNvPr id="390" name=""/>
            <p:cNvSpPr/>
            <p:nvPr/>
          </p:nvSpPr>
          <p:spPr>
            <a:xfrm>
              <a:off x="5318280" y="2130480"/>
              <a:ext cx="73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+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543720" y="2130480"/>
              <a:ext cx="73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-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5819400" y="1552680"/>
              <a:ext cx="30492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57840" y="1552680"/>
              <a:ext cx="30492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4632480" y="2619360"/>
            <a:ext cx="3689280" cy="642600"/>
            <a:chOff x="4632480" y="2619360"/>
            <a:chExt cx="3689280" cy="642600"/>
          </a:xfrm>
        </p:grpSpPr>
        <p:sp>
          <p:nvSpPr>
            <p:cNvPr id="395" name=""/>
            <p:cNvSpPr/>
            <p:nvPr/>
          </p:nvSpPr>
          <p:spPr>
            <a:xfrm>
              <a:off x="6613560" y="2619360"/>
              <a:ext cx="170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cc33"/>
                  </a:solidFill>
                  <a:latin typeface="Times New Roman"/>
                </a:rPr>
                <a:t>bromid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32480" y="2619360"/>
              <a:ext cx="155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cc33"/>
                  </a:solidFill>
                  <a:latin typeface="Times New Roman"/>
                </a:rPr>
                <a:t>tin(II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5870520" y="4282920"/>
            <a:ext cx="1295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nB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00600" y="359712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in(IV) brom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440320" y="4816440"/>
            <a:ext cx="1908360" cy="1220400"/>
            <a:chOff x="5440320" y="4816440"/>
            <a:chExt cx="1908360" cy="1220400"/>
          </a:xfrm>
        </p:grpSpPr>
        <p:sp>
          <p:nvSpPr>
            <p:cNvPr id="400" name=""/>
            <p:cNvSpPr/>
            <p:nvPr/>
          </p:nvSpPr>
          <p:spPr>
            <a:xfrm>
              <a:off x="6616800" y="5394240"/>
              <a:ext cx="73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-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440320" y="5394240"/>
              <a:ext cx="73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+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5911920" y="4816440"/>
              <a:ext cx="30456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730920" y="4816440"/>
              <a:ext cx="30492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4572000" y="5883120"/>
            <a:ext cx="3809880" cy="642600"/>
            <a:chOff x="4572000" y="5883120"/>
            <a:chExt cx="3809880" cy="642600"/>
          </a:xfrm>
        </p:grpSpPr>
        <p:sp>
          <p:nvSpPr>
            <p:cNvPr id="405" name=""/>
            <p:cNvSpPr/>
            <p:nvPr/>
          </p:nvSpPr>
          <p:spPr>
            <a:xfrm>
              <a:off x="4572000" y="5883120"/>
              <a:ext cx="179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cc33"/>
                  </a:solidFill>
                  <a:latin typeface="Times New Roman"/>
                </a:rPr>
                <a:t>tin(IV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673680" y="5883120"/>
              <a:ext cx="170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cc33"/>
                  </a:solidFill>
                  <a:latin typeface="Times New Roman"/>
                </a:rPr>
                <a:t>bromid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1209600" y="3108240"/>
            <a:ext cx="327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und n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53ED-F92B-455E-9369-73A23BB6296E}" type="slidenum">
              <a:t>68</a:t>
            </a:fld>
          </a:p>
        </p:txBody>
      </p:sp>
    </p:spTree>
  </p:cSld>
  <p:transition spd="slow">
    <p:blinds dir="vert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2438280"/>
            <a:ext cx="9144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The Classical Syst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1062-DAEF-4557-9124-9AE6507AD332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6.2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Elements and I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BBD5-B1D0-42AA-804C-1021823F2FD3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55760" y="2666880"/>
            <a:ext cx="82310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Classical Syste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me of the metal (usually the Latin name)  is modified with the suffix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-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9F0E-BF7A-4BB2-808A-8DBC1337FEDB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0" y="19047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-ous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160" y="2590920"/>
            <a:ext cx="906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cc"/>
                </a:solidFill>
                <a:latin typeface="Times New Roman"/>
              </a:rPr>
              <a:t>-</a:t>
            </a:r>
            <a:r>
              <a:rPr b="1" i="1" lang="en-US" sz="3600" spc="-1" strike="noStrike">
                <a:solidFill>
                  <a:srgbClr val="cc00cc"/>
                </a:solidFill>
                <a:latin typeface="Times New Roman"/>
              </a:rPr>
              <a:t>ic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gher char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1220760"/>
            <a:ext cx="9144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tal name ends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33720" y="380952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metal name ends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76640" y="4419720"/>
            <a:ext cx="990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cc"/>
                </a:solidFill>
                <a:latin typeface="Times New Roman"/>
              </a:rPr>
              <a:t>-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01B9-0BBB-4264-B3DB-6E82391B774B}" type="slidenum">
              <a:t>71</a:t>
            </a:fld>
          </a:p>
        </p:txBody>
      </p:sp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9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Examp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6DE2-FF33-4B2E-9FC6-FEECDA48F59B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839880" y="3108240"/>
            <a:ext cx="2133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ion char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39880" y="3108240"/>
            <a:ext cx="2209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Times New Roman"/>
              </a:rPr>
              <a:t>ion n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65760" y="1019160"/>
            <a:ext cx="1295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822920" y="333360"/>
            <a:ext cx="31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rrous chlor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318280" y="1552680"/>
            <a:ext cx="1957320" cy="1220400"/>
            <a:chOff x="5318280" y="1552680"/>
            <a:chExt cx="1957320" cy="1220400"/>
          </a:xfrm>
        </p:grpSpPr>
        <p:sp>
          <p:nvSpPr>
            <p:cNvPr id="421" name=""/>
            <p:cNvSpPr/>
            <p:nvPr/>
          </p:nvSpPr>
          <p:spPr>
            <a:xfrm>
              <a:off x="5318280" y="2130480"/>
              <a:ext cx="73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+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543720" y="2130480"/>
              <a:ext cx="73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-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5819400" y="1552680"/>
              <a:ext cx="30492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657840" y="1552680"/>
              <a:ext cx="30492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4632480" y="2619360"/>
            <a:ext cx="3689280" cy="642600"/>
            <a:chOff x="4632480" y="2619360"/>
            <a:chExt cx="3689280" cy="642600"/>
          </a:xfrm>
        </p:grpSpPr>
        <p:sp>
          <p:nvSpPr>
            <p:cNvPr id="426" name=""/>
            <p:cNvSpPr/>
            <p:nvPr/>
          </p:nvSpPr>
          <p:spPr>
            <a:xfrm>
              <a:off x="6613560" y="2619360"/>
              <a:ext cx="170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cc33"/>
                  </a:solidFill>
                  <a:latin typeface="Times New Roman"/>
                </a:rPr>
                <a:t>chlorid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632480" y="2619360"/>
              <a:ext cx="155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cc33"/>
                  </a:solidFill>
                  <a:latin typeface="Times New Roman"/>
                </a:rPr>
                <a:t>ferrou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5870520" y="4282920"/>
            <a:ext cx="1295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800600" y="359712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rric chlor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5440320" y="4816440"/>
            <a:ext cx="1908360" cy="1220400"/>
            <a:chOff x="5440320" y="4816440"/>
            <a:chExt cx="1908360" cy="1220400"/>
          </a:xfrm>
        </p:grpSpPr>
        <p:sp>
          <p:nvSpPr>
            <p:cNvPr id="431" name=""/>
            <p:cNvSpPr/>
            <p:nvPr/>
          </p:nvSpPr>
          <p:spPr>
            <a:xfrm>
              <a:off x="6616800" y="5394240"/>
              <a:ext cx="73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-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440320" y="5394240"/>
              <a:ext cx="73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+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5911920" y="4816440"/>
              <a:ext cx="30456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30920" y="4816440"/>
              <a:ext cx="30492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572000" y="5883120"/>
            <a:ext cx="3809880" cy="642600"/>
            <a:chOff x="4572000" y="5883120"/>
            <a:chExt cx="3809880" cy="642600"/>
          </a:xfrm>
        </p:grpSpPr>
        <p:sp>
          <p:nvSpPr>
            <p:cNvPr id="436" name=""/>
            <p:cNvSpPr/>
            <p:nvPr/>
          </p:nvSpPr>
          <p:spPr>
            <a:xfrm>
              <a:off x="4572000" y="5883120"/>
              <a:ext cx="179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cc33"/>
                  </a:solidFill>
                  <a:latin typeface="Times New Roman"/>
                </a:rPr>
                <a:t>ferri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73680" y="5883120"/>
              <a:ext cx="170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cc33"/>
                  </a:solidFill>
                  <a:latin typeface="Times New Roman"/>
                </a:rPr>
                <a:t>chlorid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839880" y="3108240"/>
            <a:ext cx="3276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und n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BCD1-EB4F-46BB-B331-AF18CAF9971D}" type="slidenum">
              <a:t>73</a:t>
            </a:fld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2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1380960" y="3108240"/>
            <a:ext cx="2133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ion char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80960" y="3108240"/>
            <a:ext cx="2210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Times New Roman"/>
              </a:rPr>
              <a:t>ion n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765760" y="1019160"/>
            <a:ext cx="1295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nB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343400" y="333360"/>
            <a:ext cx="41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nnous brom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5318280" y="1552680"/>
            <a:ext cx="1957320" cy="1220400"/>
            <a:chOff x="5318280" y="1552680"/>
            <a:chExt cx="1957320" cy="1220400"/>
          </a:xfrm>
        </p:grpSpPr>
        <p:sp>
          <p:nvSpPr>
            <p:cNvPr id="444" name=""/>
            <p:cNvSpPr/>
            <p:nvPr/>
          </p:nvSpPr>
          <p:spPr>
            <a:xfrm>
              <a:off x="5318280" y="2130480"/>
              <a:ext cx="73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+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543720" y="2130480"/>
              <a:ext cx="73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-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5819400" y="1552680"/>
              <a:ext cx="30492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57840" y="1552680"/>
              <a:ext cx="30492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114800" y="2619360"/>
            <a:ext cx="4206960" cy="642600"/>
            <a:chOff x="4114800" y="2619360"/>
            <a:chExt cx="4206960" cy="642600"/>
          </a:xfrm>
        </p:grpSpPr>
        <p:sp>
          <p:nvSpPr>
            <p:cNvPr id="449" name=""/>
            <p:cNvSpPr/>
            <p:nvPr/>
          </p:nvSpPr>
          <p:spPr>
            <a:xfrm>
              <a:off x="6613560" y="2619360"/>
              <a:ext cx="170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cc33"/>
                  </a:solidFill>
                  <a:latin typeface="Times New Roman"/>
                </a:rPr>
                <a:t>bromid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14800" y="2619360"/>
              <a:ext cx="207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cc33"/>
                  </a:solidFill>
                  <a:latin typeface="Times New Roman"/>
                </a:rPr>
                <a:t>stannou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5870520" y="4282920"/>
            <a:ext cx="1295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nB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800600" y="359712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nnic brom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5440320" y="4816440"/>
            <a:ext cx="1908360" cy="1220400"/>
            <a:chOff x="5440320" y="4816440"/>
            <a:chExt cx="1908360" cy="1220400"/>
          </a:xfrm>
        </p:grpSpPr>
        <p:sp>
          <p:nvSpPr>
            <p:cNvPr id="454" name=""/>
            <p:cNvSpPr/>
            <p:nvPr/>
          </p:nvSpPr>
          <p:spPr>
            <a:xfrm>
              <a:off x="6616800" y="5394240"/>
              <a:ext cx="73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-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440320" y="5394240"/>
              <a:ext cx="73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+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5911920" y="4816440"/>
              <a:ext cx="30456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30920" y="4816440"/>
              <a:ext cx="30492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4572000" y="5883120"/>
            <a:ext cx="3809880" cy="642600"/>
            <a:chOff x="4572000" y="5883120"/>
            <a:chExt cx="3809880" cy="642600"/>
          </a:xfrm>
        </p:grpSpPr>
        <p:sp>
          <p:nvSpPr>
            <p:cNvPr id="459" name=""/>
            <p:cNvSpPr/>
            <p:nvPr/>
          </p:nvSpPr>
          <p:spPr>
            <a:xfrm>
              <a:off x="4572000" y="5883120"/>
              <a:ext cx="179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cc33"/>
                  </a:solidFill>
                  <a:latin typeface="Times New Roman"/>
                </a:rPr>
                <a:t>stanni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673680" y="5883120"/>
              <a:ext cx="170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cc33"/>
                  </a:solidFill>
                  <a:latin typeface="Times New Roman"/>
                </a:rPr>
                <a:t>bromid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838080" y="3108240"/>
            <a:ext cx="327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und n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936C-F1F4-41C4-B798-DDF270B8246B}" type="slidenum">
              <a:t>74</a:t>
            </a:fld>
          </a:p>
        </p:txBody>
      </p:sp>
    </p:spTree>
  </p:cSld>
  <p:transition spd="slow">
    <p:blinds dir="vert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2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7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0" y="763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Char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Higher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600200"/>
          <a:ext cx="9144000" cy="389268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905120"/>
                <a:gridCol w="1752480"/>
                <a:gridCol w="182880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Elemen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Formu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cc00cc"/>
                          </a:solidFill>
                          <a:uFillTx/>
                          <a:latin typeface="Times New Roman"/>
                        </a:rPr>
                        <a:t>Formu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cc00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p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pr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Cu</a:t>
                      </a:r>
                      <a:r>
                        <a:rPr b="0" lang="en-US" sz="2800" spc="-1" strike="noStrike" baseline="30000">
                          <a:solidFill>
                            <a:srgbClr val="cc00cc"/>
                          </a:solidFill>
                          <a:latin typeface="Times New Roman"/>
                        </a:rPr>
                        <a:t>2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cupr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r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rr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Fe</a:t>
                      </a:r>
                      <a:r>
                        <a:rPr b="0" lang="en-US" sz="2800" spc="-1" strike="noStrike" baseline="30000">
                          <a:solidFill>
                            <a:srgbClr val="cc00cc"/>
                          </a:solidFill>
                          <a:latin typeface="Times New Roman"/>
                        </a:rPr>
                        <a:t>3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ferric</a:t>
                      </a:r>
                      <a:r>
                        <a:rPr b="0" lang="en-US" sz="28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b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mb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99"/>
                          </a:solidFill>
                          <a:latin typeface="Times New Roman"/>
                        </a:rPr>
                        <a:t>Pb</a:t>
                      </a:r>
                      <a:r>
                        <a:rPr b="0" lang="en-US" sz="2800" spc="-1" strike="noStrike" baseline="30000">
                          <a:solidFill>
                            <a:srgbClr val="cc0099"/>
                          </a:solidFill>
                          <a:latin typeface="Times New Roman"/>
                        </a:rPr>
                        <a:t>4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99"/>
                          </a:solidFill>
                          <a:latin typeface="Times New Roman"/>
                        </a:rPr>
                        <a:t>plumb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rcu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rcur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99"/>
                          </a:solidFill>
                          <a:latin typeface="Times New Roman"/>
                        </a:rPr>
                        <a:t>Hg</a:t>
                      </a:r>
                      <a:r>
                        <a:rPr b="0" lang="en-US" sz="2800" spc="-1" strike="noStrike" baseline="30000">
                          <a:solidFill>
                            <a:srgbClr val="cc0099"/>
                          </a:solidFill>
                          <a:latin typeface="Times New Roman"/>
                        </a:rPr>
                        <a:t>2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99"/>
                          </a:solidFill>
                          <a:latin typeface="Times New Roman"/>
                        </a:rPr>
                        <a:t>mercur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99"/>
                          </a:solidFill>
                          <a:latin typeface="Times New Roman"/>
                        </a:rPr>
                        <a:t>Sn</a:t>
                      </a:r>
                      <a:r>
                        <a:rPr b="0" lang="en-US" sz="2800" spc="-1" strike="noStrike" baseline="30000">
                          <a:solidFill>
                            <a:srgbClr val="cc0099"/>
                          </a:solidFill>
                          <a:latin typeface="Times New Roman"/>
                        </a:rPr>
                        <a:t>4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99"/>
                          </a:solidFill>
                          <a:latin typeface="Times New Roman"/>
                        </a:rPr>
                        <a:t>stan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464" name=""/>
          <p:cNvSpPr/>
          <p:nvPr/>
        </p:nvSpPr>
        <p:spPr>
          <a:xfrm>
            <a:off x="1440" y="0"/>
            <a:ext cx="914112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Ion Names: Classical Syste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2266920" y="4169160"/>
            <a:ext cx="685800" cy="786960"/>
            <a:chOff x="2266920" y="4169160"/>
            <a:chExt cx="685800" cy="786960"/>
          </a:xfrm>
        </p:grpSpPr>
        <p:sp>
          <p:nvSpPr>
            <p:cNvPr id="466" name=""/>
            <p:cNvSpPr/>
            <p:nvPr/>
          </p:nvSpPr>
          <p:spPr>
            <a:xfrm>
              <a:off x="2266920" y="416916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266920" y="443556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2654-B52A-49BF-A6E5-EB301A44104A}" type="slidenum">
              <a:t>75</a:t>
            </a:fld>
          </a:p>
        </p:txBody>
      </p:sp>
    </p:spTree>
  </p:cSld>
  <p:transition spd="slow">
    <p:blinds dir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Binary Compounds Containing Two Nonmetal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5DFC-8DCD-4C55-ABD4-B6E930378978}" type="slidenum">
              <a:t>7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720" y="2857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unds between nonmetals are molecular, not ioni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0E69-A74B-42CC-868D-01505BDAC35D}" type="slidenum">
              <a:t>77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 compound formed between two nonmetals, the element that occurs first in this series is named fir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387520" y="2209680"/>
            <a:ext cx="91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689440" y="2209680"/>
            <a:ext cx="106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B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FD28-C42B-4220-B661-A636B73AADBA}" type="slidenum">
              <a:t>78</a:t>
            </a:fld>
          </a:p>
        </p:txBody>
      </p:sp>
    </p:spTree>
  </p:cSld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2500"/>
                            </p:stCondLst>
                            <p:childTnLst>
                              <p:par>
                                <p:cTn id="8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3000"/>
                            </p:stCondLst>
                            <p:childTnLst>
                              <p:par>
                                <p:cTn id="8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3500"/>
                            </p:stCondLst>
                            <p:childTnLst>
                              <p:par>
                                <p:cTn id="8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4000"/>
                            </p:stCondLst>
                            <p:childTnLst>
                              <p:par>
                                <p:cTn id="8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4500"/>
                            </p:stCondLst>
                            <p:childTnLst>
                              <p:par>
                                <p:cTn id="8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5500"/>
                            </p:stCondLst>
                            <p:childTnLst>
                              <p:par>
                                <p:cTn id="8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Prefix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271E-EE60-47DB-9345-0CE4F802DAA7}" type="slidenum">
              <a:t>79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formula for most element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the symbol of the ele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525680"/>
            <a:ext cx="9144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r" pos="4060800"/>
                <a:tab algn="l" pos="5030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Sodium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r" pos="4060800"/>
                <a:tab algn="l" pos="5030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Potassium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r" pos="4060800"/>
                <a:tab algn="l" pos="5030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Zinc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Z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r" pos="4060800"/>
                <a:tab algn="l" pos="5030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Argon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r" pos="4060800"/>
                <a:tab algn="l" pos="5030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Mercury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H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r" pos="4060800"/>
                <a:tab algn="l" pos="5030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Lead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P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r" pos="4060800"/>
                <a:tab algn="l" pos="5030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Calcium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4672-7D2A-4FA9-85E2-7EE918D745A9}" type="slidenum">
              <a:t>8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7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7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Greek prefix is placed before the name of each element to indicate the number of atoms of the element that are pres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2F14-33D2-4176-B047-E24CCDA210E3}" type="slidenum">
              <a:t>80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1422000" y="2895120"/>
            <a:ext cx="24382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1" i="1" lang="en-US" sz="3600" spc="-1" strike="noStrike">
                <a:solidFill>
                  <a:srgbClr val="00ff00"/>
                </a:solidFill>
                <a:latin typeface="Times New Roman"/>
              </a:rPr>
              <a:t>di 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=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i="1" lang="en-US" sz="3600" spc="-1" strike="noStrike">
                <a:solidFill>
                  <a:srgbClr val="00ff00"/>
                </a:solidFill>
                <a:latin typeface="Times New Roman"/>
              </a:rPr>
              <a:t>tri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 =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00ff00"/>
                </a:solidFill>
                <a:latin typeface="Times New Roman"/>
              </a:rPr>
              <a:t>tetra 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=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ff00"/>
                </a:solidFill>
                <a:latin typeface="Times New Roman"/>
              </a:rPr>
              <a:t>penta 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= 5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283000" y="2285640"/>
            <a:ext cx="2438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Times New Roman"/>
              </a:rPr>
              <a:t>hexa 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=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Times New Roman"/>
              </a:rPr>
              <a:t>hepta 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=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00ff00"/>
                </a:solidFill>
                <a:latin typeface="Times New Roman"/>
              </a:rPr>
              <a:t>octa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 =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ff00"/>
                </a:solidFill>
                <a:latin typeface="Times New Roman"/>
              </a:rPr>
              <a:t>nona = 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Times New Roman"/>
              </a:rPr>
              <a:t>deca = 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424160" y="2286000"/>
            <a:ext cx="235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00ff00"/>
                </a:solidFill>
                <a:latin typeface="Times New Roman"/>
              </a:rPr>
              <a:t>mono = 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52280" y="1066680"/>
            <a:ext cx="6096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no is rarely used when naming the first 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95A6-150D-409F-A52E-4668D5312B34}" type="slidenum">
              <a:t>81</a:t>
            </a:fld>
          </a:p>
        </p:txBody>
      </p:sp>
    </p:spTree>
  </p:cSld>
  <p:transition spd="slow">
    <p:blinds dir="vert"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500"/>
                            </p:stCondLst>
                            <p:childTnLst>
                              <p:par>
                                <p:cTn id="9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Examp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257F-AEA2-4F1A-9C08-E9C4CC6BBC53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3352680" y="2441520"/>
            <a:ext cx="2324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758960" y="1755720"/>
            <a:ext cx="551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nitrogen triox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990720" y="3186000"/>
            <a:ext cx="3441600" cy="1815120"/>
            <a:chOff x="990720" y="3186000"/>
            <a:chExt cx="3441600" cy="1815120"/>
          </a:xfrm>
        </p:grpSpPr>
        <p:sp>
          <p:nvSpPr>
            <p:cNvPr id="483" name=""/>
            <p:cNvSpPr/>
            <p:nvPr/>
          </p:nvSpPr>
          <p:spPr>
            <a:xfrm>
              <a:off x="990720" y="3809880"/>
              <a:ext cx="3441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indicates two</a:t>
              </a:r>
              <a:br>
                <a:rPr sz="3600"/>
              </a:b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nitrogen atom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2944800" y="3186000"/>
              <a:ext cx="1293840" cy="67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4395960" y="3186000"/>
            <a:ext cx="3673440" cy="1815120"/>
            <a:chOff x="4395960" y="3186000"/>
            <a:chExt cx="3673440" cy="1815120"/>
          </a:xfrm>
        </p:grpSpPr>
        <p:sp>
          <p:nvSpPr>
            <p:cNvPr id="486" name=""/>
            <p:cNvSpPr/>
            <p:nvPr/>
          </p:nvSpPr>
          <p:spPr>
            <a:xfrm>
              <a:off x="5181480" y="3186000"/>
              <a:ext cx="1293840" cy="67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395960" y="3809880"/>
              <a:ext cx="3673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cc33"/>
                  </a:solidFill>
                  <a:latin typeface="Times New Roman"/>
                </a:rPr>
                <a:t>indicates three</a:t>
              </a:r>
              <a:br>
                <a:rPr sz="3600"/>
              </a:br>
              <a:r>
                <a:rPr b="0" lang="en-US" sz="3600" spc="-1" strike="noStrike">
                  <a:solidFill>
                    <a:srgbClr val="33cc33"/>
                  </a:solidFill>
                  <a:latin typeface="Times New Roman"/>
                </a:rPr>
                <a:t>oxygen atom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3557-DA3D-4154-AEEC-6466185FFB42}" type="slidenum">
              <a:t>83</a:t>
            </a:fld>
          </a:p>
        </p:txBody>
      </p:sp>
    </p:spTree>
  </p:cSld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6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3409920" y="2441520"/>
            <a:ext cx="2324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C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581120" y="1755720"/>
            <a:ext cx="59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osphorous pentachlor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685800" y="3144960"/>
            <a:ext cx="4051440" cy="1870560"/>
            <a:chOff x="685800" y="3144960"/>
            <a:chExt cx="4051440" cy="1870560"/>
          </a:xfrm>
        </p:grpSpPr>
        <p:sp>
          <p:nvSpPr>
            <p:cNvPr id="491" name=""/>
            <p:cNvSpPr/>
            <p:nvPr/>
          </p:nvSpPr>
          <p:spPr>
            <a:xfrm>
              <a:off x="685800" y="3824280"/>
              <a:ext cx="4051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indicates one</a:t>
              </a:r>
              <a:br>
                <a:rPr sz="3600"/>
              </a:b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phosphorous ato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2742840" y="3144960"/>
              <a:ext cx="1400040" cy="817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4800600" y="3200400"/>
            <a:ext cx="3673440" cy="1814760"/>
            <a:chOff x="4800600" y="3200400"/>
            <a:chExt cx="3673440" cy="1814760"/>
          </a:xfrm>
        </p:grpSpPr>
        <p:sp>
          <p:nvSpPr>
            <p:cNvPr id="494" name=""/>
            <p:cNvSpPr/>
            <p:nvPr/>
          </p:nvSpPr>
          <p:spPr>
            <a:xfrm>
              <a:off x="5121000" y="3200400"/>
              <a:ext cx="1293840" cy="677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800600" y="3823920"/>
              <a:ext cx="3673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cc33"/>
                  </a:solidFill>
                  <a:latin typeface="Times New Roman"/>
                </a:rPr>
                <a:t>indicates five</a:t>
              </a:r>
              <a:br>
                <a:rPr sz="3600"/>
              </a:br>
              <a:r>
                <a:rPr b="0" lang="en-US" sz="3600" spc="-1" strike="noStrike">
                  <a:solidFill>
                    <a:srgbClr val="33cc33"/>
                  </a:solidFill>
                  <a:latin typeface="Times New Roman"/>
                </a:rPr>
                <a:t>chlorine atom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8E10-D99C-4570-85AA-49B3E409273C}" type="slidenum">
              <a:t>84</a:t>
            </a:fld>
          </a:p>
        </p:txBody>
      </p:sp>
    </p:spTree>
  </p:cSld>
  <p:transition spd="slow">
    <p:blinds dir="vert"/>
  </p:transition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3409920" y="2441520"/>
            <a:ext cx="2324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581120" y="1755720"/>
            <a:ext cx="59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chlorine heptaox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901800" y="3186000"/>
            <a:ext cx="4051080" cy="1815120"/>
            <a:chOff x="901800" y="3186000"/>
            <a:chExt cx="4051080" cy="1815120"/>
          </a:xfrm>
        </p:grpSpPr>
        <p:sp>
          <p:nvSpPr>
            <p:cNvPr id="499" name=""/>
            <p:cNvSpPr/>
            <p:nvPr/>
          </p:nvSpPr>
          <p:spPr>
            <a:xfrm>
              <a:off x="901800" y="3809880"/>
              <a:ext cx="405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indicates two</a:t>
              </a:r>
              <a:br>
                <a:rPr sz="3600"/>
              </a:b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chlorine atom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3064680" y="3186000"/>
              <a:ext cx="1293480" cy="67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952880" y="3186000"/>
            <a:ext cx="3673440" cy="1815120"/>
            <a:chOff x="4952880" y="3186000"/>
            <a:chExt cx="3673440" cy="1815120"/>
          </a:xfrm>
        </p:grpSpPr>
        <p:sp>
          <p:nvSpPr>
            <p:cNvPr id="502" name=""/>
            <p:cNvSpPr/>
            <p:nvPr/>
          </p:nvSpPr>
          <p:spPr>
            <a:xfrm>
              <a:off x="5273280" y="3186000"/>
              <a:ext cx="1293840" cy="67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52880" y="3809880"/>
              <a:ext cx="3673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cc33"/>
                  </a:solidFill>
                  <a:latin typeface="Times New Roman"/>
                </a:rPr>
                <a:t>indicates seven</a:t>
              </a:r>
              <a:br>
                <a:rPr sz="3600"/>
              </a:br>
              <a:r>
                <a:rPr b="0" lang="en-US" sz="3600" spc="-1" strike="noStrike">
                  <a:solidFill>
                    <a:srgbClr val="33cc33"/>
                  </a:solidFill>
                  <a:latin typeface="Times New Roman"/>
                </a:rPr>
                <a:t>oxygen atom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8AE7-0391-4BB2-BDB8-ABB824F4AAC2}" type="slidenum">
              <a:t>85</a:t>
            </a:fld>
          </a:p>
        </p:txBody>
      </p:sp>
    </p:spTree>
  </p:cSld>
  <p:transition spd="slow">
    <p:blinds dir="vert"/>
  </p:transition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3427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2263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82263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2 elements presen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82263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ound is binary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82263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sphorous and chlorine are nonmetals so the rules for naming binary compounds of 2 nonmetals appl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82263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sphorous is named first. Therefore the compound is a chlor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Determine the Name of PCl</a:t>
            </a:r>
            <a:r>
              <a:rPr b="1" lang="en-US" sz="3600" spc="-1" strike="noStrike" baseline="-25000">
                <a:solidFill>
                  <a:srgbClr val="9966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643F-4907-4207-8C27-2460C74BE672}" type="slidenum">
              <a:t>86</a:t>
            </a:fld>
          </a:p>
        </p:txBody>
      </p:sp>
    </p:spTree>
  </p:cSld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9" dur="1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4" dur="10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9" dur="10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10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9" dur="10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345960" y="9907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refix is needed for phosphorous because each molecule of P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only one phosphorous atom.  The prefix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penta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ed with chloride because there are 5 chlorine atoms present in one molec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ame is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phosphorous pentachlor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Determine the Name of PCl</a:t>
            </a:r>
            <a:r>
              <a:rPr b="1" lang="en-US" sz="3600" spc="-1" strike="noStrike" baseline="-25000">
                <a:solidFill>
                  <a:srgbClr val="9966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BA62-118B-4F66-8806-CDF41451016E}" type="slidenum">
              <a:t>87</a:t>
            </a:fld>
          </a:p>
        </p:txBody>
      </p:sp>
    </p:spTree>
  </p:cSld>
  <p:transition spd="slow">
    <p:blinds dir="vert"/>
  </p:transition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6" dur="10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1" dur="10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6" dur="10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1" dur="10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Examp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DE28-867D-4ED6-898B-F34566EF6F99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289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  <a:ea typeface="Times New Roman"/>
              </a:rPr>
              <a:t>dichlorine trioxide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Arial"/>
                <a:ea typeface="Times New Roman"/>
              </a:rPr>
              <a:t>Cl</a:t>
            </a:r>
            <a:r>
              <a:rPr b="0" lang="en-US" sz="69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69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n-US" sz="69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79600" y="838080"/>
            <a:ext cx="4224240" cy="3886200"/>
            <a:chOff x="579600" y="838080"/>
            <a:chExt cx="4224240" cy="3886200"/>
          </a:xfrm>
        </p:grpSpPr>
        <p:sp>
          <p:nvSpPr>
            <p:cNvPr id="512" name=""/>
            <p:cNvSpPr/>
            <p:nvPr/>
          </p:nvSpPr>
          <p:spPr>
            <a:xfrm>
              <a:off x="579600" y="3809880"/>
              <a:ext cx="830160" cy="914400"/>
            </a:xfrm>
            <a:prstGeom prst="rect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05240" y="838080"/>
              <a:ext cx="498600" cy="609840"/>
            </a:xfrm>
            <a:prstGeom prst="rect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210280" y="838080"/>
            <a:ext cx="914400" cy="3919680"/>
            <a:chOff x="5210280" y="838080"/>
            <a:chExt cx="914400" cy="3919680"/>
          </a:xfrm>
        </p:grpSpPr>
        <p:sp>
          <p:nvSpPr>
            <p:cNvPr id="515" name=""/>
            <p:cNvSpPr/>
            <p:nvPr/>
          </p:nvSpPr>
          <p:spPr>
            <a:xfrm>
              <a:off x="5254560" y="838080"/>
              <a:ext cx="498600" cy="609840"/>
            </a:xfrm>
            <a:prstGeom prst="rect">
              <a:avLst/>
            </a:prstGeom>
            <a:noFill/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210280" y="3843360"/>
              <a:ext cx="914400" cy="914400"/>
            </a:xfrm>
            <a:prstGeom prst="rect">
              <a:avLst/>
            </a:prstGeom>
            <a:noFill/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B3B7-6B69-4DD8-9195-D3057553437F}" type="slidenum">
              <a:t>89</a:t>
            </a:fld>
          </a:p>
        </p:txBody>
      </p:sp>
    </p:spTree>
  </p:cSld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8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r" pos="4060800"/>
                <a:tab algn="l" pos="502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Hydrogen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4060800"/>
                <a:tab algn="l" pos="502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Nitrogen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4060800"/>
                <a:tab algn="l" pos="502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Oxygen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4060800"/>
                <a:tab algn="l" pos="502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Fluorine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4060800"/>
                <a:tab algn="l" pos="502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Chlorine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Cl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4060800"/>
                <a:tab algn="l" pos="502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Bromine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Br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4060800"/>
                <a:tab algn="l" pos="502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Iodine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  I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286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 7 elements are fou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nature as diatomic molecu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C0C5-5723-4E26-ACC2-3F3F5C58C564}" type="slidenum">
              <a:t>9</a:t>
            </a:fld>
          </a:p>
        </p:txBody>
      </p:sp>
    </p:spTree>
  </p:cSld>
  <p:transition spd="slow">
    <p:blinds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75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75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289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  <a:ea typeface="Times New Roman"/>
              </a:rPr>
              <a:t>dinitrogen trioxide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US" sz="69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69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n-US" sz="69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531720" y="838080"/>
            <a:ext cx="4110120" cy="3915000"/>
            <a:chOff x="531720" y="838080"/>
            <a:chExt cx="4110120" cy="3915000"/>
          </a:xfrm>
        </p:grpSpPr>
        <p:sp>
          <p:nvSpPr>
            <p:cNvPr id="520" name=""/>
            <p:cNvSpPr/>
            <p:nvPr/>
          </p:nvSpPr>
          <p:spPr>
            <a:xfrm>
              <a:off x="531720" y="3838680"/>
              <a:ext cx="858960" cy="91440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143240" y="838080"/>
              <a:ext cx="498600" cy="60984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5172120" y="838080"/>
            <a:ext cx="976320" cy="3900600"/>
            <a:chOff x="5172120" y="838080"/>
            <a:chExt cx="976320" cy="3900600"/>
          </a:xfrm>
        </p:grpSpPr>
        <p:sp>
          <p:nvSpPr>
            <p:cNvPr id="523" name=""/>
            <p:cNvSpPr/>
            <p:nvPr/>
          </p:nvSpPr>
          <p:spPr>
            <a:xfrm>
              <a:off x="5172120" y="838080"/>
              <a:ext cx="498600" cy="609840"/>
            </a:xfrm>
            <a:prstGeom prst="rect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275440" y="3824280"/>
              <a:ext cx="873000" cy="914400"/>
            </a:xfrm>
            <a:prstGeom prst="rect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3388-8D15-45C4-BD1F-DC837BCE0680}" type="slidenum">
              <a:t>90</a:t>
            </a:fld>
          </a:p>
        </p:txBody>
      </p:sp>
    </p:spTree>
  </p:cSld>
  <p:transition spd="slow">
    <p:blinds dir="vert"/>
  </p:transition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7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289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Times New Roman"/>
              </a:rPr>
              <a:t>carbon tetrachloride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Arial"/>
                <a:ea typeface="Times New Roman"/>
              </a:rPr>
              <a:t>CCl</a:t>
            </a:r>
            <a:r>
              <a:rPr b="0" lang="en-US" sz="69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3562200" y="838080"/>
            <a:ext cx="1943280" cy="3967200"/>
            <a:chOff x="3562200" y="838080"/>
            <a:chExt cx="1943280" cy="3967200"/>
          </a:xfrm>
        </p:grpSpPr>
        <p:sp>
          <p:nvSpPr>
            <p:cNvPr id="528" name=""/>
            <p:cNvSpPr/>
            <p:nvPr/>
          </p:nvSpPr>
          <p:spPr>
            <a:xfrm>
              <a:off x="5102280" y="838080"/>
              <a:ext cx="403200" cy="609840"/>
            </a:xfrm>
            <a:prstGeom prst="rect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562200" y="3890880"/>
              <a:ext cx="1863720" cy="914400"/>
            </a:xfrm>
            <a:prstGeom prst="rect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B24C-2228-4AE4-A844-B2F5EDD60671}" type="slidenum">
              <a:t>91</a:t>
            </a:fld>
          </a:p>
        </p:txBody>
      </p:sp>
    </p:spTree>
  </p:cSld>
  <p:transition spd="slow">
    <p:blinds dir="vert"/>
  </p:transition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6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289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Times New Roman"/>
              </a:rPr>
              <a:t>carbon monoxide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Arial"/>
                <a:ea typeface="Times New Roman"/>
              </a:rPr>
              <a:t>CO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4095720" y="838080"/>
            <a:ext cx="1805040" cy="4003920"/>
            <a:chOff x="4095720" y="838080"/>
            <a:chExt cx="1805040" cy="4003920"/>
          </a:xfrm>
        </p:grpSpPr>
        <p:sp>
          <p:nvSpPr>
            <p:cNvPr id="533" name=""/>
            <p:cNvSpPr/>
            <p:nvPr/>
          </p:nvSpPr>
          <p:spPr>
            <a:xfrm>
              <a:off x="4095720" y="3927600"/>
              <a:ext cx="1805040" cy="914400"/>
            </a:xfrm>
            <a:prstGeom prst="rect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181480" y="838080"/>
              <a:ext cx="403200" cy="609840"/>
            </a:xfrm>
            <a:prstGeom prst="rect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15F9-22C4-4E8C-8386-661CA7E07409}" type="slidenum">
              <a:t>92</a:t>
            </a:fld>
          </a:p>
        </p:txBody>
      </p:sp>
    </p:spTree>
  </p:cSld>
  <p:transition spd="slow">
    <p:blinds dir="vert"/>
  </p:transition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9" dur="1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289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Times New Roman"/>
              </a:rPr>
              <a:t>carbon dioxid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Arial"/>
                <a:ea typeface="Times New Roman"/>
              </a:rPr>
              <a:t>Name CO</a:t>
            </a:r>
            <a:r>
              <a:rPr b="0" lang="en-US" sz="69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4641840" y="825480"/>
            <a:ext cx="2063880" cy="3898800"/>
            <a:chOff x="4641840" y="825480"/>
            <a:chExt cx="2063880" cy="3898800"/>
          </a:xfrm>
        </p:grpSpPr>
        <p:sp>
          <p:nvSpPr>
            <p:cNvPr id="538" name=""/>
            <p:cNvSpPr/>
            <p:nvPr/>
          </p:nvSpPr>
          <p:spPr>
            <a:xfrm>
              <a:off x="6324480" y="825480"/>
              <a:ext cx="381240" cy="609480"/>
            </a:xfrm>
            <a:prstGeom prst="rect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641840" y="3809880"/>
              <a:ext cx="711360" cy="914400"/>
            </a:xfrm>
            <a:prstGeom prst="rect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952B-E5C4-4015-A167-39CC673D3B83}" type="slidenum">
              <a:t>93</a:t>
            </a:fld>
          </a:p>
        </p:txBody>
      </p:sp>
    </p:spTree>
  </p:cSld>
  <p:transition spd="slow">
    <p:blinds dir="vert"/>
  </p:transition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2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3960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289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Times New Roman"/>
              </a:rPr>
              <a:t>phosphorous triiodid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Arial"/>
                <a:ea typeface="Times New Roman"/>
              </a:rPr>
              <a:t>Name PI</a:t>
            </a:r>
            <a:r>
              <a:rPr b="0" lang="en-US" sz="69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5562720" y="838080"/>
            <a:ext cx="990360" cy="3919680"/>
            <a:chOff x="5562720" y="838080"/>
            <a:chExt cx="990360" cy="3919680"/>
          </a:xfrm>
        </p:grpSpPr>
        <p:sp>
          <p:nvSpPr>
            <p:cNvPr id="543" name=""/>
            <p:cNvSpPr/>
            <p:nvPr/>
          </p:nvSpPr>
          <p:spPr>
            <a:xfrm>
              <a:off x="5943600" y="838080"/>
              <a:ext cx="498600" cy="609840"/>
            </a:xfrm>
            <a:prstGeom prst="rect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562720" y="3843360"/>
              <a:ext cx="990360" cy="914400"/>
            </a:xfrm>
            <a:prstGeom prst="rect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EBFC-A4F9-48C3-9C13-F37479FE8F25}" type="slidenum">
              <a:t>94</a:t>
            </a:fld>
          </a:p>
        </p:txBody>
      </p:sp>
    </p:spTree>
  </p:cSld>
  <p:transition spd="slow">
    <p:blinds dir="vert"/>
  </p:transition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5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D. Acids Derived</a:t>
            </a:r>
            <a:br>
              <a:rPr sz="5400"/>
            </a:b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from Binary Compou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D800-87B2-4D19-ADC2-DD1BE50C3F8D}" type="slidenum">
              <a:t>95</a:t>
            </a:fld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534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ertain binary hydrogen compounds, when dissolved in water, form solutions that have acid propert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4360" y="2514600"/>
            <a:ext cx="7848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queous solutions of these compounds are given acid nam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cid names are in addition to their </a:t>
            </a:r>
            <a:r>
              <a:rPr b="0" i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–ide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gen is typically the first element of a binary acid formul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9B7A-9AA2-4617-B2F6-653E8326842F}" type="slidenum">
              <a:t>96</a:t>
            </a:fld>
          </a:p>
        </p:txBody>
      </p:sp>
    </p:spTree>
  </p:cSld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1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1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10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10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10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10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3630600" y="3600360"/>
            <a:ext cx="1878120" cy="2057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3162240" y="2629080"/>
            <a:ext cx="2819520" cy="3047760"/>
            <a:chOff x="3162240" y="2629080"/>
            <a:chExt cx="2819520" cy="3047760"/>
          </a:xfrm>
        </p:grpSpPr>
        <p:sp>
          <p:nvSpPr>
            <p:cNvPr id="550" name=""/>
            <p:cNvSpPr/>
            <p:nvPr/>
          </p:nvSpPr>
          <p:spPr>
            <a:xfrm flipH="1">
              <a:off x="3162240" y="5671800"/>
              <a:ext cx="281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3616200" y="2629080"/>
              <a:ext cx="0" cy="304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516640" y="2629080"/>
              <a:ext cx="0" cy="304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4267080" y="1181160"/>
            <a:ext cx="609480" cy="388800"/>
            <a:chOff x="4267080" y="1181160"/>
            <a:chExt cx="609480" cy="388800"/>
          </a:xfrm>
        </p:grpSpPr>
        <p:sp>
          <p:nvSpPr>
            <p:cNvPr id="554" name=""/>
            <p:cNvSpPr/>
            <p:nvPr/>
          </p:nvSpPr>
          <p:spPr>
            <a:xfrm>
              <a:off x="4267080" y="140976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ff66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647960" y="141768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ff66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457520" y="118116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ff66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1752480" y="3049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 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5638320" y="4191120"/>
            <a:ext cx="2743560" cy="520560"/>
            <a:chOff x="5638320" y="4191120"/>
            <a:chExt cx="2743560" cy="520560"/>
          </a:xfrm>
        </p:grpSpPr>
        <p:sp>
          <p:nvSpPr>
            <p:cNvPr id="559" name=""/>
            <p:cNvSpPr/>
            <p:nvPr/>
          </p:nvSpPr>
          <p:spPr>
            <a:xfrm>
              <a:off x="6781680" y="419112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5638320" y="444960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632040" y="3600360"/>
            <a:ext cx="4988160" cy="2060640"/>
            <a:chOff x="3632040" y="3600360"/>
            <a:chExt cx="4988160" cy="2060640"/>
          </a:xfrm>
        </p:grpSpPr>
        <p:grpSp>
          <p:nvGrpSpPr>
            <p:cNvPr id="562" name=""/>
            <p:cNvGrpSpPr/>
            <p:nvPr/>
          </p:nvGrpSpPr>
          <p:grpSpPr>
            <a:xfrm>
              <a:off x="5572080" y="4191120"/>
              <a:ext cx="3048120" cy="990360"/>
              <a:chOff x="5572080" y="4191120"/>
              <a:chExt cx="3048120" cy="990360"/>
            </a:xfrm>
          </p:grpSpPr>
          <p:sp>
            <p:nvSpPr>
              <p:cNvPr id="563" name=""/>
              <p:cNvSpPr/>
              <p:nvPr/>
            </p:nvSpPr>
            <p:spPr>
              <a:xfrm>
                <a:off x="6791400" y="4191120"/>
                <a:ext cx="1600200" cy="52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aci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5648040" y="445140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572080" y="4724280"/>
                <a:ext cx="30481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3632040" y="3600360"/>
              <a:ext cx="1876680" cy="2060640"/>
            </a:xfrm>
            <a:prstGeom prst="rect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4267080" y="790560"/>
            <a:ext cx="4489560" cy="1373760"/>
            <a:chOff x="4267080" y="790560"/>
            <a:chExt cx="4489560" cy="1373760"/>
          </a:xfrm>
        </p:grpSpPr>
        <p:grpSp>
          <p:nvGrpSpPr>
            <p:cNvPr id="568" name=""/>
            <p:cNvGrpSpPr/>
            <p:nvPr/>
          </p:nvGrpSpPr>
          <p:grpSpPr>
            <a:xfrm>
              <a:off x="4267080" y="1181160"/>
              <a:ext cx="606600" cy="388800"/>
              <a:chOff x="4267080" y="1181160"/>
              <a:chExt cx="606600" cy="388800"/>
            </a:xfrm>
          </p:grpSpPr>
          <p:sp>
            <p:nvSpPr>
              <p:cNvPr id="569" name=""/>
              <p:cNvSpPr/>
              <p:nvPr/>
            </p:nvSpPr>
            <p:spPr>
              <a:xfrm>
                <a:off x="4267080" y="1409760"/>
                <a:ext cx="22752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66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646160" y="1417680"/>
                <a:ext cx="22752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66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456440" y="1181160"/>
                <a:ext cx="22752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66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5867280" y="790560"/>
              <a:ext cx="28893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inary hydrogen compound (not an acid)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2951-D5A2-4529-BE08-CF9DDC39ECD5}" type="slidenum">
              <a:t>97</a:t>
            </a:fld>
          </a:p>
        </p:txBody>
      </p:sp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046 L 0 0.4551 E">
                                      <p:cBhvr>
                                        <p:cTn id="1207" dur="5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-152280" y="3816360"/>
            <a:ext cx="8305200" cy="1160280"/>
            <a:chOff x="-152280" y="3816360"/>
            <a:chExt cx="8305200" cy="1160280"/>
          </a:xfrm>
        </p:grpSpPr>
        <p:sp>
          <p:nvSpPr>
            <p:cNvPr id="574" name=""/>
            <p:cNvSpPr/>
            <p:nvPr/>
          </p:nvSpPr>
          <p:spPr>
            <a:xfrm>
              <a:off x="-152280" y="3984840"/>
              <a:ext cx="5028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Dissolved in water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781680" y="3984120"/>
              <a:ext cx="1371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4800" spc="-1" strike="noStrike">
                  <a:solidFill>
                    <a:srgbClr val="ff0000"/>
                  </a:solidFill>
                  <a:latin typeface="Times New Roman"/>
                </a:rPr>
                <a:t>acid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029560" y="3816360"/>
              <a:ext cx="166212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0" spc="-1" strike="noStrike">
                  <a:solidFill>
                    <a:srgbClr val="3333cc"/>
                  </a:solidFill>
                  <a:latin typeface="Arial"/>
                </a:rPr>
                <a:t>HCl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838080" y="1881360"/>
            <a:ext cx="7467480" cy="1160280"/>
            <a:chOff x="838080" y="1881360"/>
            <a:chExt cx="7467480" cy="1160280"/>
          </a:xfrm>
        </p:grpSpPr>
        <p:sp>
          <p:nvSpPr>
            <p:cNvPr id="578" name=""/>
            <p:cNvSpPr/>
            <p:nvPr/>
          </p:nvSpPr>
          <p:spPr>
            <a:xfrm>
              <a:off x="838080" y="2017800"/>
              <a:ext cx="4190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Pure compound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029560" y="1881360"/>
              <a:ext cx="166212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0" spc="-1" strike="noStrike">
                  <a:solidFill>
                    <a:srgbClr val="000000"/>
                  </a:solidFill>
                  <a:latin typeface="Arial"/>
                </a:rPr>
                <a:t>HCl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933960" y="2047320"/>
              <a:ext cx="1371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-ide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AE35-E063-4230-B1AB-219AAFFAD81F}" type="slidenum">
              <a:t>98</a:t>
            </a:fld>
          </a:p>
        </p:txBody>
      </p:sp>
    </p:spTree>
  </p:cSld>
  <p:transition spd="slow">
    <p:blinds dir="vert"/>
  </p:transition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0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647640" y="9853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name binary acids write the symbol of hydrogen fir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47640" y="2133720"/>
            <a:ext cx="784872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hydrogen write the symbol of the second ele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e the prefix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ydro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front of the stem of the nonmetal na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e the suffix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fter the stem of the nonmetal na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88D1-F04B-4E50-8045-BDF118C6050E}" type="slidenum">
              <a:t>99</a:t>
            </a:fld>
          </a:p>
        </p:txBody>
      </p:sp>
    </p:spTree>
  </p:cSld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1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1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1000" fill="hold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1000" fill="hold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1000" fill="hold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1000" fill="hold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06:50:10Z</dcterms:created>
  <dc:creator>M</dc:creator>
  <dc:description/>
  <dc:language>en-US</dc:language>
  <cp:lastModifiedBy>jyee</cp:lastModifiedBy>
  <dcterms:modified xsi:type="dcterms:W3CDTF">2006-11-13T16:35:23Z</dcterms:modified>
  <cp:revision>624</cp:revision>
  <dc:subject/>
  <dc:title>Hein and Arena</dc:title>
</cp:coreProperties>
</file>